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EED-4CE3-4B00-AAE6-1244DF0E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F3C-EA5F-4179-A182-F224552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691-54B7-4023-9B1C-725F39D6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DB1-93FE-494E-9B45-A1EE6041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D83-DD87-4EFC-B801-4A3B3A01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9E6-A7DD-4C82-9B7B-37E1BCE9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524-02C7-4F1A-8838-F71EAC66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CFE-B7B7-4F5F-B1A7-6E43E24D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A86-28F9-4356-A4E0-893ABC37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C52-A772-427D-A661-D628A4F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D31-A950-483F-829F-162C022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95D-FBAB-4B14-B8E9-A04A3BB5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803C-DE41-4B04-8A1F-71C8FF614C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100" descr="828f7c67ha6e5ada62ca7&amp;690"/>
          <p:cNvPicPr/>
          <p:nvPr/>
        </p:nvPicPr>
        <p:blipFill>
          <a:blip r:embed="rId1"/>
          <a:srcRect l="0" t="0" r="0" b="54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101"/>
          <p:cNvSpPr txBox="1"/>
          <p:nvPr/>
        </p:nvSpPr>
        <p:spPr>
          <a:xfrm>
            <a:off x="1447920" y="2895480"/>
            <a:ext cx="579096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7265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80"/>
                </a:solidFill>
                <a:latin typeface="宋体"/>
              </a:rPr>
              <a:t>圆柱的表面积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8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46" descr="200892111162981258"/>
          <p:cNvPicPr/>
          <p:nvPr/>
        </p:nvPicPr>
        <p:blipFill>
          <a:blip r:embed="rId1"/>
          <a:srcRect l="0" t="0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6149"/>
          <p:cNvSpPr/>
          <p:nvPr/>
        </p:nvSpPr>
        <p:spPr>
          <a:xfrm>
            <a:off x="1523880" y="1217880"/>
            <a:ext cx="64771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知识衔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能快速解答下面的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一个圆形花坛，直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，这个花坛的周长和面积分别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周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答：这个花坛的周长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面积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方形的面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150"/>
          <p:cNvSpPr/>
          <p:nvPr/>
        </p:nvSpPr>
        <p:spPr>
          <a:xfrm>
            <a:off x="4675320" y="4722840"/>
            <a:ext cx="1095120" cy="82548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习流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对子交流、互批知识衔接，班级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3315" descr="0c10399466757b72f557c9506ebec906"/>
          <p:cNvPicPr/>
          <p:nvPr/>
        </p:nvPicPr>
        <p:blipFill>
          <a:blip r:embed="rId1"/>
          <a:stretch/>
        </p:blipFill>
        <p:spPr>
          <a:xfrm>
            <a:off x="0" y="0"/>
            <a:ext cx="9144000" cy="42829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13316"/>
          <p:cNvSpPr/>
          <p:nvPr/>
        </p:nvSpPr>
        <p:spPr>
          <a:xfrm>
            <a:off x="228600" y="4343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观察课本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页情境图，你能找到哪些信息？提出什么问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3317"/>
          <p:cNvSpPr/>
          <p:nvPr/>
        </p:nvSpPr>
        <p:spPr>
          <a:xfrm>
            <a:off x="152280" y="4814280"/>
            <a:ext cx="8077320" cy="916920"/>
          </a:xfrm>
          <a:prstGeom prst="rect">
            <a:avLst/>
          </a:prstGeom>
          <a:noFill/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找到的信息是：圆柱形纸筒的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是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是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提出的问题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318"/>
          <p:cNvSpPr/>
          <p:nvPr/>
        </p:nvSpPr>
        <p:spPr>
          <a:xfrm>
            <a:off x="152280" y="5850360"/>
            <a:ext cx="8077320" cy="70380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习流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对子交流情境图的信息、提出的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5124" descr="ea5cd522815a048175498bbcf751a888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3486240"/>
          </a:xfrm>
          <a:prstGeom prst="rect">
            <a:avLst/>
          </a:prstGeom>
          <a:ln w="19080">
            <a:solidFill>
              <a:srgbClr val="3366ff"/>
            </a:solidFill>
            <a:miter/>
          </a:ln>
        </p:spPr>
      </p:pic>
      <p:sp>
        <p:nvSpPr>
          <p:cNvPr id="51" name="矩形 5125"/>
          <p:cNvSpPr/>
          <p:nvPr/>
        </p:nvSpPr>
        <p:spPr>
          <a:xfrm>
            <a:off x="380880" y="4585320"/>
            <a:ext cx="8229600" cy="70380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习流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对子合作完成探究一，动手操作，然后组学交流探究一，板书、展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0244" descr="20110628112313_new"/>
          <p:cNvPicPr/>
          <p:nvPr/>
        </p:nvPicPr>
        <p:blipFill>
          <a:blip r:embed="rId1"/>
          <a:stretch/>
        </p:blipFill>
        <p:spPr>
          <a:xfrm>
            <a:off x="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53" name="矩形 10245"/>
          <p:cNvSpPr/>
          <p:nvPr/>
        </p:nvSpPr>
        <p:spPr>
          <a:xfrm>
            <a:off x="3657600" y="601992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0246" descr="130111e1f1f0e463e3f2f78c84648533"/>
          <p:cNvPicPr/>
          <p:nvPr/>
        </p:nvPicPr>
        <p:blipFill>
          <a:blip r:embed="rId2"/>
          <a:stretch/>
        </p:blipFill>
        <p:spPr>
          <a:xfrm>
            <a:off x="76320" y="69840"/>
            <a:ext cx="8991360" cy="3487680"/>
          </a:xfrm>
          <a:prstGeom prst="rect">
            <a:avLst/>
          </a:prstGeom>
          <a:ln w="0">
            <a:noFill/>
          </a:ln>
        </p:spPr>
      </p:pic>
      <p:sp>
        <p:nvSpPr>
          <p:cNvPr id="55" name="矩形 10247"/>
          <p:cNvSpPr/>
          <p:nvPr/>
        </p:nvSpPr>
        <p:spPr>
          <a:xfrm>
            <a:off x="2895480" y="3823200"/>
            <a:ext cx="6096240" cy="70380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习流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独立完成探究二，小对子交流，板书、展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4339" descr="2012062509343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4340" descr="b03a7a38b22f1c0a1675bc05e9b1f2fa"/>
          <p:cNvPicPr/>
          <p:nvPr/>
        </p:nvPicPr>
        <p:blipFill>
          <a:blip r:embed="rId2"/>
          <a:srcRect l="0" t="0" r="14168" b="0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矩形 14341"/>
          <p:cNvSpPr/>
          <p:nvPr/>
        </p:nvSpPr>
        <p:spPr>
          <a:xfrm>
            <a:off x="2438280" y="5379120"/>
            <a:ext cx="6553440" cy="703800"/>
          </a:xfrm>
          <a:prstGeom prst="rect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学习流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.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独立完成当堂检测。组内纠正答案，解决不了的板书全班交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7170" descr="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7171"/>
          <p:cNvSpPr txBox="1"/>
          <p:nvPr/>
        </p:nvSpPr>
        <p:spPr>
          <a:xfrm>
            <a:off x="609480" y="838080"/>
            <a:ext cx="38862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收获与不足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9:25:43Z</dcterms:created>
  <dc:creator/>
  <dc:description/>
  <dc:language>en-US</dc:language>
  <cp:lastModifiedBy>user</cp:lastModifiedBy>
  <dcterms:modified xsi:type="dcterms:W3CDTF">2016-03-26T09:25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Version">
    <vt:r8>1</vt:r8>
  </property>
</Properties>
</file>