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2.jpeg" ContentType="image/jpeg"/>
  <Override PartName="/ppt/media/image5.wmf" ContentType="image/x-wmf"/>
  <Override PartName="/ppt/media/image10.png" ContentType="image/png"/>
  <Override PartName="/ppt/media/image4.jpeg" ContentType="image/jpeg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7.wmf" ContentType="image/x-wmf"/>
  <Override PartName="/ppt/media/image16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308-D069-414D-9A46-E3A4546E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A72-E351-4C90-9EE1-6E763EC5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79E-7D35-4489-8E50-400A8F47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BE1-B96A-45C4-811D-C90C2906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889-DDD9-4C85-9A55-EC9CF157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40D-458B-4327-AC7D-4A8D79FF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C84-F4DE-4DAF-BCB3-017F21EF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677-5488-423B-973A-1F2107C1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B15-5E81-4B11-9F65-7048C020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437-B61A-487A-A7DB-D50DD967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452-614C-4DED-9598-C8E46E57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847-43B0-4E37-B184-83F35B74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6A35-FC1B-42BC-9023-6889CB9E623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520560" y="1808280"/>
            <a:ext cx="90028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唱队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男生人数是女生人数的   ，女生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845320" y="1808280"/>
            <a:ext cx="285480" cy="900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1"/>
          <p:cNvSpPr/>
          <p:nvPr/>
        </p:nvSpPr>
        <p:spPr>
          <a:xfrm>
            <a:off x="509760" y="1371600"/>
            <a:ext cx="77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解决问题过程中，也会用到转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2320920" y="2529000"/>
            <a:ext cx="31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: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590920" y="2708280"/>
            <a:ext cx="285480" cy="8096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0"/>
          <p:cNvSpPr/>
          <p:nvPr/>
        </p:nvSpPr>
        <p:spPr>
          <a:xfrm>
            <a:off x="5236920" y="3159000"/>
            <a:ext cx="546480" cy="4597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1"/>
          <p:cNvSpPr/>
          <p:nvPr/>
        </p:nvSpPr>
        <p:spPr>
          <a:xfrm>
            <a:off x="7451640" y="3147840"/>
            <a:ext cx="811440" cy="4597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2"/>
          <p:cNvSpPr/>
          <p:nvPr/>
        </p:nvSpPr>
        <p:spPr>
          <a:xfrm>
            <a:off x="6283440" y="3338640"/>
            <a:ext cx="809640" cy="90360"/>
          </a:xfrm>
          <a:prstGeom prst="rightArrow">
            <a:avLst>
              <a:gd name="adj1" fmla="val 50000"/>
              <a:gd name="adj2" fmla="val 224004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4"/>
          <p:cNvSpPr/>
          <p:nvPr/>
        </p:nvSpPr>
        <p:spPr>
          <a:xfrm>
            <a:off x="6370560" y="2978280"/>
            <a:ext cx="8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转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66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sp>
          <p:nvSpPr>
            <p:cNvPr id="255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TextBox 13"/>
          <p:cNvSpPr/>
          <p:nvPr/>
        </p:nvSpPr>
        <p:spPr>
          <a:xfrm>
            <a:off x="2050920" y="3699000"/>
            <a:ext cx="31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+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1871640" y="423864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÷8×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3"/>
          <p:cNvSpPr/>
          <p:nvPr/>
        </p:nvSpPr>
        <p:spPr>
          <a:xfrm>
            <a:off x="1871640" y="468936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×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1871640" y="519120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4121280" y="568008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女生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20560" y="1808280"/>
            <a:ext cx="8012160" cy="20556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2077920" y="405936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 × 10 ×(12-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431640" y="1268280"/>
            <a:ext cx="62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求不规则物体的体积时，用到了转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5534280" y="4238640"/>
            <a:ext cx="729360" cy="4597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8042040" y="4227480"/>
            <a:ext cx="546480" cy="4597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92"/>
          <p:cNvSpPr/>
          <p:nvPr/>
        </p:nvSpPr>
        <p:spPr>
          <a:xfrm>
            <a:off x="6748560" y="4417920"/>
            <a:ext cx="809640" cy="90720"/>
          </a:xfrm>
          <a:prstGeom prst="rightArrow">
            <a:avLst>
              <a:gd name="adj1" fmla="val 50000"/>
              <a:gd name="adj2" fmla="val 22311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4"/>
          <p:cNvSpPr/>
          <p:nvPr/>
        </p:nvSpPr>
        <p:spPr>
          <a:xfrm>
            <a:off x="6837480" y="405936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转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1781280" y="450864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50 ×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3027240" y="5680080"/>
            <a:ext cx="29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西红柿的体积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1781280" y="504972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00(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讨论与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"/>
          <p:cNvSpPr/>
          <p:nvPr/>
        </p:nvSpPr>
        <p:spPr>
          <a:xfrm>
            <a:off x="1241280" y="1268280"/>
            <a:ext cx="74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12"/>
          <p:cNvSpPr/>
          <p:nvPr/>
        </p:nvSpPr>
        <p:spPr>
          <a:xfrm>
            <a:off x="776160" y="2498760"/>
            <a:ext cx="7666200" cy="3449520"/>
          </a:xfrm>
          <a:prstGeom prst="roundRect">
            <a:avLst>
              <a:gd name="adj" fmla="val 16667"/>
            </a:avLst>
          </a:prstGeom>
          <a:solidFill>
            <a:srgbClr val="99cc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3"/>
          <p:cNvSpPr/>
          <p:nvPr/>
        </p:nvSpPr>
        <p:spPr>
          <a:xfrm>
            <a:off x="1062000" y="2771640"/>
            <a:ext cx="73548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学习数学时，运用转化思想可以将未知问题转化为已知问题，从而充分调动已有的数学知识经验解决新问题；也可以将复杂的问题转化成比较简单的问题，使问题更加容易解决。转化是一种广泛适用的解决问题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14" descr=""/>
          <p:cNvPicPr/>
          <p:nvPr/>
        </p:nvPicPr>
        <p:blipFill>
          <a:blip r:embed="rId2"/>
          <a:stretch/>
        </p:blipFill>
        <p:spPr>
          <a:xfrm>
            <a:off x="611280" y="2438280"/>
            <a:ext cx="2560680" cy="5446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431640" y="1449360"/>
            <a:ext cx="87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转化的思想方法在小学数学学习中的意义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42800" y="126828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分数表示涂色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83" name="Line 5"/>
          <p:cNvSpPr/>
          <p:nvPr/>
        </p:nvSpPr>
        <p:spPr>
          <a:xfrm flipH="1">
            <a:off x="1427040" y="2981160"/>
            <a:ext cx="2284560" cy="3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2">
            <a:alphaModFix amt="14000"/>
          </a:blip>
          <a:stretch/>
        </p:blipFill>
        <p:spPr>
          <a:xfrm>
            <a:off x="507960" y="2349360"/>
            <a:ext cx="5400720" cy="2708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Rectangle 7"/>
          <p:cNvSpPr/>
          <p:nvPr/>
        </p:nvSpPr>
        <p:spPr>
          <a:xfrm>
            <a:off x="5942160" y="2324160"/>
            <a:ext cx="2757240" cy="273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430200" y="2349360"/>
            <a:ext cx="2757600" cy="273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24"/>
          <p:cNvGrpSpPr/>
          <p:nvPr/>
        </p:nvGrpSpPr>
        <p:grpSpPr>
          <a:xfrm>
            <a:off x="404640" y="2349360"/>
            <a:ext cx="2788560" cy="2700000"/>
            <a:chOff x="404640" y="2349360"/>
            <a:chExt cx="2788560" cy="2700000"/>
          </a:xfrm>
        </p:grpSpPr>
        <p:grpSp>
          <p:nvGrpSpPr>
            <p:cNvPr id="288" name="Group 25"/>
            <p:cNvGrpSpPr/>
            <p:nvPr/>
          </p:nvGrpSpPr>
          <p:grpSpPr>
            <a:xfrm>
              <a:off x="404640" y="2349360"/>
              <a:ext cx="2788560" cy="2699640"/>
              <a:chOff x="404640" y="2349360"/>
              <a:chExt cx="2788560" cy="2699640"/>
            </a:xfrm>
          </p:grpSpPr>
          <p:sp>
            <p:nvSpPr>
              <p:cNvPr id="289" name="Arc 8"/>
              <p:cNvSpPr/>
              <p:nvPr/>
            </p:nvSpPr>
            <p:spPr>
              <a:xfrm flipH="1">
                <a:off x="404640" y="2349360"/>
                <a:ext cx="2779920" cy="2699640"/>
              </a:xfrm>
              <a:custGeom>
                <a:avLst/>
                <a:gdLst>
                  <a:gd name="textAreaLeft" fmla="*/ 360 w 2779920"/>
                  <a:gd name="textAreaRight" fmla="*/ 2780640 w 2779920"/>
                  <a:gd name="textAreaTop" fmla="*/ 0 h 2699640"/>
                  <a:gd name="textAreaBottom" fmla="*/ 2700000 h 2699640"/>
                </a:gdLst>
                <a:ahLst/>
                <a:rect l="textAreaLeft" t="textAreaTop" r="textAreaRight" b="textAreaBottom"/>
                <a:pathLst>
                  <a:path fill="none" w="21643" h="21600">
                    <a:moveTo>
                      <a:pt x="0" y="0"/>
                    </a:moveTo>
                    <a:cubicBezTo>
                      <a:pt x="14" y="0"/>
                      <a:pt x="28" y="-1"/>
                      <a:pt x="43" y="0"/>
                    </a:cubicBezTo>
                    <a:cubicBezTo>
                      <a:pt x="11970" y="0"/>
                      <a:pt x="21640" y="9668"/>
                      <a:pt x="21642" y="21596"/>
                    </a:cubicBezTo>
                  </a:path>
                  <a:path stroke="0" w="21643" h="21600">
                    <a:moveTo>
                      <a:pt x="0" y="0"/>
                    </a:moveTo>
                    <a:cubicBezTo>
                      <a:pt x="14" y="0"/>
                      <a:pt x="28" y="-1"/>
                      <a:pt x="43" y="0"/>
                    </a:cubicBezTo>
                    <a:cubicBezTo>
                      <a:pt x="11970" y="0"/>
                      <a:pt x="21640" y="9668"/>
                      <a:pt x="21642" y="21596"/>
                    </a:cubicBezTo>
                    <a:lnTo>
                      <a:pt x="43" y="216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0"/>
              <p:cNvSpPr/>
              <p:nvPr/>
            </p:nvSpPr>
            <p:spPr>
              <a:xfrm>
                <a:off x="3193200" y="2349360"/>
                <a:ext cx="0" cy="2699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Line 25"/>
            <p:cNvSpPr/>
            <p:nvPr/>
          </p:nvSpPr>
          <p:spPr>
            <a:xfrm flipH="1">
              <a:off x="404640" y="5049360"/>
              <a:ext cx="2787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16"/>
          <p:cNvSpPr/>
          <p:nvPr/>
        </p:nvSpPr>
        <p:spPr>
          <a:xfrm>
            <a:off x="2290680" y="3629160"/>
            <a:ext cx="244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37"/>
          <p:cNvGrpSpPr/>
          <p:nvPr/>
        </p:nvGrpSpPr>
        <p:grpSpPr>
          <a:xfrm>
            <a:off x="4000320" y="5132520"/>
            <a:ext cx="1314720" cy="1068840"/>
            <a:chOff x="4000320" y="5132520"/>
            <a:chExt cx="1314720" cy="1068840"/>
          </a:xfrm>
        </p:grpSpPr>
        <p:sp>
          <p:nvSpPr>
            <p:cNvPr id="294" name="Text Box 18"/>
            <p:cNvSpPr/>
            <p:nvPr/>
          </p:nvSpPr>
          <p:spPr>
            <a:xfrm>
              <a:off x="4066920" y="5132520"/>
              <a:ext cx="997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(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4000320" y="55609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(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0"/>
            <p:cNvSpPr/>
            <p:nvPr/>
          </p:nvSpPr>
          <p:spPr>
            <a:xfrm>
              <a:off x="4057560" y="5718240"/>
              <a:ext cx="1257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1"/>
          <p:cNvGrpSpPr/>
          <p:nvPr/>
        </p:nvGrpSpPr>
        <p:grpSpPr>
          <a:xfrm>
            <a:off x="4375080" y="5075280"/>
            <a:ext cx="424440" cy="1099080"/>
            <a:chOff x="4375080" y="5075280"/>
            <a:chExt cx="424440" cy="1099080"/>
          </a:xfrm>
        </p:grpSpPr>
        <p:sp>
          <p:nvSpPr>
            <p:cNvPr id="298" name="Text Box 22"/>
            <p:cNvSpPr/>
            <p:nvPr/>
          </p:nvSpPr>
          <p:spPr>
            <a:xfrm>
              <a:off x="4375080" y="5075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4392720" y="5592960"/>
              <a:ext cx="38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22"/>
          <p:cNvSpPr/>
          <p:nvPr/>
        </p:nvSpPr>
        <p:spPr>
          <a:xfrm>
            <a:off x="739800" y="17575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3033 0.00255 E">
                                      <p:cBhvr>
                                        <p:cTn id="585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4"/>
          <p:cNvSpPr/>
          <p:nvPr/>
        </p:nvSpPr>
        <p:spPr>
          <a:xfrm>
            <a:off x="719280" y="1438200"/>
            <a:ext cx="40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2"/>
          <a:stretch/>
        </p:blipFill>
        <p:spPr>
          <a:xfrm>
            <a:off x="2241720" y="2089080"/>
            <a:ext cx="2552400" cy="255276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9"/>
          <p:cNvSpPr/>
          <p:nvPr/>
        </p:nvSpPr>
        <p:spPr>
          <a:xfrm flipH="1" flipV="1" rot="10800000">
            <a:off x="2888280" y="2101680"/>
            <a:ext cx="1917720" cy="6350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0" descr=""/>
          <p:cNvPicPr/>
          <p:nvPr/>
        </p:nvPicPr>
        <p:blipFill>
          <a:blip r:embed="rId3"/>
          <a:stretch/>
        </p:blipFill>
        <p:spPr>
          <a:xfrm>
            <a:off x="2246400" y="2089080"/>
            <a:ext cx="2543040" cy="25527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1" descr=""/>
          <p:cNvPicPr/>
          <p:nvPr/>
        </p:nvPicPr>
        <p:blipFill>
          <a:blip r:embed="rId4"/>
          <a:stretch/>
        </p:blipFill>
        <p:spPr>
          <a:xfrm>
            <a:off x="2241720" y="2089080"/>
            <a:ext cx="2761920" cy="276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308" name="Group 31"/>
          <p:cNvGrpSpPr/>
          <p:nvPr/>
        </p:nvGrpSpPr>
        <p:grpSpPr>
          <a:xfrm>
            <a:off x="2268360" y="2060640"/>
            <a:ext cx="739800" cy="2062080"/>
            <a:chOff x="2268360" y="2060640"/>
            <a:chExt cx="739800" cy="2062080"/>
          </a:xfrm>
        </p:grpSpPr>
        <p:sp>
          <p:nvSpPr>
            <p:cNvPr id="309" name="AutoShape 21"/>
            <p:cNvSpPr/>
            <p:nvPr/>
          </p:nvSpPr>
          <p:spPr>
            <a:xfrm rot="16200000">
              <a:off x="1571400" y="2757600"/>
              <a:ext cx="2062080" cy="6681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2"/>
            <p:cNvSpPr/>
            <p:nvPr/>
          </p:nvSpPr>
          <p:spPr>
            <a:xfrm>
              <a:off x="2431800" y="3479760"/>
              <a:ext cx="5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3"/>
            <p:cNvSpPr/>
            <p:nvPr/>
          </p:nvSpPr>
          <p:spPr>
            <a:xfrm>
              <a:off x="2339640" y="2781360"/>
              <a:ext cx="5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35"/>
          <p:cNvGrpSpPr/>
          <p:nvPr/>
        </p:nvGrpSpPr>
        <p:grpSpPr>
          <a:xfrm>
            <a:off x="4335480" y="2781360"/>
            <a:ext cx="668160" cy="2066400"/>
            <a:chOff x="4335480" y="2781360"/>
            <a:chExt cx="668160" cy="2066400"/>
          </a:xfrm>
        </p:grpSpPr>
        <p:sp>
          <p:nvSpPr>
            <p:cNvPr id="313" name="AutoShape 18"/>
            <p:cNvSpPr/>
            <p:nvPr/>
          </p:nvSpPr>
          <p:spPr>
            <a:xfrm rot="16200000">
              <a:off x="3636360" y="3480480"/>
              <a:ext cx="2066400" cy="668160"/>
            </a:xfrm>
            <a:prstGeom prst="rtTriangl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5"/>
            <p:cNvSpPr/>
            <p:nvPr/>
          </p:nvSpPr>
          <p:spPr>
            <a:xfrm>
              <a:off x="4572000" y="41245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7"/>
            <p:cNvSpPr/>
            <p:nvPr/>
          </p:nvSpPr>
          <p:spPr>
            <a:xfrm>
              <a:off x="4788000" y="34207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9"/>
          <p:cNvGrpSpPr/>
          <p:nvPr/>
        </p:nvGrpSpPr>
        <p:grpSpPr>
          <a:xfrm>
            <a:off x="2268360" y="2133720"/>
            <a:ext cx="647640" cy="1993320"/>
            <a:chOff x="2268360" y="2133720"/>
            <a:chExt cx="647640" cy="1993320"/>
          </a:xfrm>
        </p:grpSpPr>
        <p:sp>
          <p:nvSpPr>
            <p:cNvPr id="317" name="Rectangle 30"/>
            <p:cNvSpPr/>
            <p:nvPr/>
          </p:nvSpPr>
          <p:spPr>
            <a:xfrm>
              <a:off x="2268360" y="3500280"/>
              <a:ext cx="647640" cy="62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1"/>
            <p:cNvSpPr/>
            <p:nvPr/>
          </p:nvSpPr>
          <p:spPr>
            <a:xfrm>
              <a:off x="2268360" y="2822400"/>
              <a:ext cx="647640" cy="62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32"/>
            <p:cNvSpPr/>
            <p:nvPr/>
          </p:nvSpPr>
          <p:spPr>
            <a:xfrm>
              <a:off x="2268360" y="2133720"/>
              <a:ext cx="647640" cy="62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43"/>
          <p:cNvGrpSpPr/>
          <p:nvPr/>
        </p:nvGrpSpPr>
        <p:grpSpPr>
          <a:xfrm>
            <a:off x="2987640" y="2122200"/>
            <a:ext cx="1994040" cy="647640"/>
            <a:chOff x="2987640" y="2122200"/>
            <a:chExt cx="1994040" cy="647640"/>
          </a:xfrm>
        </p:grpSpPr>
        <p:sp>
          <p:nvSpPr>
            <p:cNvPr id="321" name="Rectangle 37"/>
            <p:cNvSpPr/>
            <p:nvPr/>
          </p:nvSpPr>
          <p:spPr>
            <a:xfrm rot="16200000">
              <a:off x="4344120" y="2132280"/>
              <a:ext cx="647640" cy="6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38"/>
            <p:cNvSpPr/>
            <p:nvPr/>
          </p:nvSpPr>
          <p:spPr>
            <a:xfrm rot="16200000">
              <a:off x="3666240" y="2132280"/>
              <a:ext cx="647640" cy="6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39"/>
            <p:cNvSpPr/>
            <p:nvPr/>
          </p:nvSpPr>
          <p:spPr>
            <a:xfrm rot="16200000">
              <a:off x="2977200" y="2132280"/>
              <a:ext cx="647640" cy="6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47"/>
          <p:cNvGrpSpPr/>
          <p:nvPr/>
        </p:nvGrpSpPr>
        <p:grpSpPr>
          <a:xfrm>
            <a:off x="5508720" y="4221000"/>
            <a:ext cx="1295280" cy="1298880"/>
            <a:chOff x="5508720" y="4221000"/>
            <a:chExt cx="1295280" cy="1298880"/>
          </a:xfrm>
        </p:grpSpPr>
        <p:sp>
          <p:nvSpPr>
            <p:cNvPr id="325" name="Text Box 42"/>
            <p:cNvSpPr/>
            <p:nvPr/>
          </p:nvSpPr>
          <p:spPr>
            <a:xfrm>
              <a:off x="5749920" y="422100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  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43"/>
            <p:cNvSpPr/>
            <p:nvPr/>
          </p:nvSpPr>
          <p:spPr>
            <a:xfrm>
              <a:off x="5761080" y="474012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  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4"/>
            <p:cNvSpPr/>
            <p:nvPr/>
          </p:nvSpPr>
          <p:spPr>
            <a:xfrm>
              <a:off x="5508720" y="4889160"/>
              <a:ext cx="12952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51"/>
          <p:cNvGrpSpPr/>
          <p:nvPr/>
        </p:nvGrpSpPr>
        <p:grpSpPr>
          <a:xfrm>
            <a:off x="2195640" y="2060640"/>
            <a:ext cx="2808000" cy="2808360"/>
            <a:chOff x="2195640" y="2060640"/>
            <a:chExt cx="2808000" cy="2808360"/>
          </a:xfrm>
        </p:grpSpPr>
        <p:sp>
          <p:nvSpPr>
            <p:cNvPr id="329" name="Line 51"/>
            <p:cNvSpPr/>
            <p:nvPr/>
          </p:nvSpPr>
          <p:spPr>
            <a:xfrm>
              <a:off x="2195640" y="4149720"/>
              <a:ext cx="28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52"/>
            <p:cNvSpPr/>
            <p:nvPr/>
          </p:nvSpPr>
          <p:spPr>
            <a:xfrm>
              <a:off x="2195640" y="3470400"/>
              <a:ext cx="28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3"/>
            <p:cNvSpPr/>
            <p:nvPr/>
          </p:nvSpPr>
          <p:spPr>
            <a:xfrm>
              <a:off x="2268360" y="2781360"/>
              <a:ext cx="27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4"/>
            <p:cNvSpPr/>
            <p:nvPr/>
          </p:nvSpPr>
          <p:spPr>
            <a:xfrm>
              <a:off x="3635280" y="2060640"/>
              <a:ext cx="0" cy="28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6"/>
            <p:cNvSpPr/>
            <p:nvPr/>
          </p:nvSpPr>
          <p:spPr>
            <a:xfrm flipH="1">
              <a:off x="2916000" y="2060640"/>
              <a:ext cx="20160" cy="28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57"/>
            <p:cNvSpPr/>
            <p:nvPr/>
          </p:nvSpPr>
          <p:spPr>
            <a:xfrm>
              <a:off x="4335120" y="2060640"/>
              <a:ext cx="0" cy="28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60"/>
          <p:cNvSpPr/>
          <p:nvPr/>
        </p:nvSpPr>
        <p:spPr>
          <a:xfrm flipV="1">
            <a:off x="4838760" y="3336840"/>
            <a:ext cx="144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9"/>
          <p:cNvGrpSpPr/>
          <p:nvPr/>
        </p:nvGrpSpPr>
        <p:grpSpPr>
          <a:xfrm>
            <a:off x="2957400" y="2111400"/>
            <a:ext cx="4114440" cy="1368000"/>
            <a:chOff x="2957400" y="2111400"/>
            <a:chExt cx="4114440" cy="1368000"/>
          </a:xfrm>
        </p:grpSpPr>
        <p:sp>
          <p:nvSpPr>
            <p:cNvPr id="337" name="AutoShape 12"/>
            <p:cNvSpPr/>
            <p:nvPr/>
          </p:nvSpPr>
          <p:spPr>
            <a:xfrm>
              <a:off x="2957400" y="2111400"/>
              <a:ext cx="2057400" cy="684000"/>
            </a:xfrm>
            <a:prstGeom prst="rtTriangle">
              <a:avLst/>
            </a:prstGeom>
            <a:solidFill>
              <a:srgbClr val="00ffff">
                <a:alpha val="66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4"/>
            <p:cNvSpPr/>
            <p:nvPr/>
          </p:nvSpPr>
          <p:spPr>
            <a:xfrm rot="10800000">
              <a:off x="5014440" y="2795400"/>
              <a:ext cx="2057400" cy="68400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62"/>
          <p:cNvGrpSpPr/>
          <p:nvPr/>
        </p:nvGrpSpPr>
        <p:grpSpPr>
          <a:xfrm>
            <a:off x="1568520" y="2101320"/>
            <a:ext cx="1368000" cy="4114800"/>
            <a:chOff x="1568520" y="2101320"/>
            <a:chExt cx="1368000" cy="4114800"/>
          </a:xfrm>
        </p:grpSpPr>
        <p:sp>
          <p:nvSpPr>
            <p:cNvPr id="340" name="AutoShape 17"/>
            <p:cNvSpPr/>
            <p:nvPr/>
          </p:nvSpPr>
          <p:spPr>
            <a:xfrm rot="16200000">
              <a:off x="1585080" y="2790720"/>
              <a:ext cx="2040840" cy="661680"/>
            </a:xfrm>
            <a:prstGeom prst="rtTriangle">
              <a:avLst/>
            </a:prstGeom>
            <a:solidFill>
              <a:srgbClr val="00ffff">
                <a:alpha val="67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9"/>
            <p:cNvSpPr/>
            <p:nvPr/>
          </p:nvSpPr>
          <p:spPr>
            <a:xfrm rot="5400000">
              <a:off x="878400" y="4864680"/>
              <a:ext cx="2041200" cy="66168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43"/>
          <p:cNvSpPr/>
          <p:nvPr/>
        </p:nvSpPr>
        <p:spPr>
          <a:xfrm>
            <a:off x="756360" y="176040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442800" y="126828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分数表示涂色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719280" y="1438200"/>
            <a:ext cx="40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8" descr=""/>
          <p:cNvPicPr/>
          <p:nvPr/>
        </p:nvPicPr>
        <p:blipFill>
          <a:blip r:embed="rId2"/>
          <a:stretch/>
        </p:blipFill>
        <p:spPr>
          <a:xfrm>
            <a:off x="2241720" y="2089080"/>
            <a:ext cx="2552400" cy="255276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9"/>
          <p:cNvSpPr/>
          <p:nvPr/>
        </p:nvSpPr>
        <p:spPr>
          <a:xfrm flipH="1" flipV="1" rot="10800000">
            <a:off x="2888280" y="2101680"/>
            <a:ext cx="1917720" cy="6350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0" descr=""/>
          <p:cNvPicPr/>
          <p:nvPr/>
        </p:nvPicPr>
        <p:blipFill>
          <a:blip r:embed="rId3"/>
          <a:stretch/>
        </p:blipFill>
        <p:spPr>
          <a:xfrm>
            <a:off x="2246400" y="2089080"/>
            <a:ext cx="2543040" cy="2552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"/>
          <p:cNvPicPr/>
          <p:nvPr/>
        </p:nvPicPr>
        <p:blipFill>
          <a:blip r:embed="rId4"/>
          <a:stretch/>
        </p:blipFill>
        <p:spPr>
          <a:xfrm>
            <a:off x="2241720" y="2089080"/>
            <a:ext cx="2761920" cy="276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351" name="Group 88"/>
          <p:cNvGrpSpPr/>
          <p:nvPr/>
        </p:nvGrpSpPr>
        <p:grpSpPr>
          <a:xfrm>
            <a:off x="2268360" y="2060640"/>
            <a:ext cx="739800" cy="2062080"/>
            <a:chOff x="2268360" y="2060640"/>
            <a:chExt cx="739800" cy="2062080"/>
          </a:xfrm>
        </p:grpSpPr>
        <p:sp>
          <p:nvSpPr>
            <p:cNvPr id="352" name="AutoShape 21"/>
            <p:cNvSpPr/>
            <p:nvPr/>
          </p:nvSpPr>
          <p:spPr>
            <a:xfrm rot="16200000">
              <a:off x="1571400" y="2757600"/>
              <a:ext cx="2062080" cy="66816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2"/>
            <p:cNvSpPr/>
            <p:nvPr/>
          </p:nvSpPr>
          <p:spPr>
            <a:xfrm>
              <a:off x="2431800" y="3479760"/>
              <a:ext cx="5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3"/>
            <p:cNvSpPr/>
            <p:nvPr/>
          </p:nvSpPr>
          <p:spPr>
            <a:xfrm>
              <a:off x="2339640" y="2781360"/>
              <a:ext cx="5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92"/>
          <p:cNvGrpSpPr/>
          <p:nvPr/>
        </p:nvGrpSpPr>
        <p:grpSpPr>
          <a:xfrm>
            <a:off x="4335480" y="2781360"/>
            <a:ext cx="668160" cy="2066400"/>
            <a:chOff x="4335480" y="2781360"/>
            <a:chExt cx="668160" cy="2066400"/>
          </a:xfrm>
        </p:grpSpPr>
        <p:sp>
          <p:nvSpPr>
            <p:cNvPr id="356" name="AutoShape 18"/>
            <p:cNvSpPr/>
            <p:nvPr/>
          </p:nvSpPr>
          <p:spPr>
            <a:xfrm rot="16200000">
              <a:off x="3636360" y="3480480"/>
              <a:ext cx="2066400" cy="668160"/>
            </a:xfrm>
            <a:prstGeom prst="rtTriangl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5"/>
            <p:cNvSpPr/>
            <p:nvPr/>
          </p:nvSpPr>
          <p:spPr>
            <a:xfrm>
              <a:off x="4572000" y="41245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4788000" y="34207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96"/>
          <p:cNvGrpSpPr/>
          <p:nvPr/>
        </p:nvGrpSpPr>
        <p:grpSpPr>
          <a:xfrm>
            <a:off x="2268360" y="2133720"/>
            <a:ext cx="647640" cy="1993320"/>
            <a:chOff x="2268360" y="2133720"/>
            <a:chExt cx="647640" cy="1993320"/>
          </a:xfrm>
        </p:grpSpPr>
        <p:sp>
          <p:nvSpPr>
            <p:cNvPr id="360" name="Rectangle 30"/>
            <p:cNvSpPr/>
            <p:nvPr/>
          </p:nvSpPr>
          <p:spPr>
            <a:xfrm>
              <a:off x="2268360" y="3500280"/>
              <a:ext cx="647640" cy="62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1"/>
            <p:cNvSpPr/>
            <p:nvPr/>
          </p:nvSpPr>
          <p:spPr>
            <a:xfrm>
              <a:off x="2268360" y="2822400"/>
              <a:ext cx="647640" cy="62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32"/>
            <p:cNvSpPr/>
            <p:nvPr/>
          </p:nvSpPr>
          <p:spPr>
            <a:xfrm>
              <a:off x="2268360" y="2133720"/>
              <a:ext cx="647640" cy="62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00"/>
          <p:cNvGrpSpPr/>
          <p:nvPr/>
        </p:nvGrpSpPr>
        <p:grpSpPr>
          <a:xfrm>
            <a:off x="2987640" y="2122200"/>
            <a:ext cx="1994040" cy="647640"/>
            <a:chOff x="2987640" y="2122200"/>
            <a:chExt cx="1994040" cy="647640"/>
          </a:xfrm>
        </p:grpSpPr>
        <p:sp>
          <p:nvSpPr>
            <p:cNvPr id="364" name="Rectangle 37"/>
            <p:cNvSpPr/>
            <p:nvPr/>
          </p:nvSpPr>
          <p:spPr>
            <a:xfrm rot="16200000">
              <a:off x="4344120" y="2132280"/>
              <a:ext cx="647640" cy="6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8"/>
            <p:cNvSpPr/>
            <p:nvPr/>
          </p:nvSpPr>
          <p:spPr>
            <a:xfrm rot="16200000">
              <a:off x="3666240" y="2132280"/>
              <a:ext cx="647640" cy="6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9"/>
            <p:cNvSpPr/>
            <p:nvPr/>
          </p:nvSpPr>
          <p:spPr>
            <a:xfrm rot="16200000">
              <a:off x="2977200" y="2132280"/>
              <a:ext cx="647640" cy="6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04"/>
          <p:cNvGrpSpPr/>
          <p:nvPr/>
        </p:nvGrpSpPr>
        <p:grpSpPr>
          <a:xfrm>
            <a:off x="5707080" y="4309920"/>
            <a:ext cx="1295280" cy="1100520"/>
            <a:chOff x="5707080" y="4309920"/>
            <a:chExt cx="1295280" cy="1100520"/>
          </a:xfrm>
        </p:grpSpPr>
        <p:sp>
          <p:nvSpPr>
            <p:cNvPr id="368" name="Text Box 42"/>
            <p:cNvSpPr/>
            <p:nvPr/>
          </p:nvSpPr>
          <p:spPr>
            <a:xfrm>
              <a:off x="5882400" y="43099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43"/>
            <p:cNvSpPr/>
            <p:nvPr/>
          </p:nvSpPr>
          <p:spPr>
            <a:xfrm>
              <a:off x="5893560" y="48290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4"/>
            <p:cNvSpPr/>
            <p:nvPr/>
          </p:nvSpPr>
          <p:spPr>
            <a:xfrm>
              <a:off x="5707080" y="4978080"/>
              <a:ext cx="12952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08"/>
          <p:cNvGrpSpPr/>
          <p:nvPr/>
        </p:nvGrpSpPr>
        <p:grpSpPr>
          <a:xfrm>
            <a:off x="5986080" y="4336920"/>
            <a:ext cx="437040" cy="1072800"/>
            <a:chOff x="5986080" y="4336920"/>
            <a:chExt cx="437040" cy="1072800"/>
          </a:xfrm>
        </p:grpSpPr>
        <p:sp>
          <p:nvSpPr>
            <p:cNvPr id="372" name="Text Box 40"/>
            <p:cNvSpPr/>
            <p:nvPr/>
          </p:nvSpPr>
          <p:spPr>
            <a:xfrm>
              <a:off x="5986080" y="48283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45"/>
            <p:cNvSpPr/>
            <p:nvPr/>
          </p:nvSpPr>
          <p:spPr>
            <a:xfrm>
              <a:off x="5998680" y="43369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11"/>
          <p:cNvGrpSpPr/>
          <p:nvPr/>
        </p:nvGrpSpPr>
        <p:grpSpPr>
          <a:xfrm>
            <a:off x="2195640" y="2060640"/>
            <a:ext cx="2808000" cy="2808360"/>
            <a:chOff x="2195640" y="2060640"/>
            <a:chExt cx="2808000" cy="2808360"/>
          </a:xfrm>
        </p:grpSpPr>
        <p:sp>
          <p:nvSpPr>
            <p:cNvPr id="375" name="Line 51"/>
            <p:cNvSpPr/>
            <p:nvPr/>
          </p:nvSpPr>
          <p:spPr>
            <a:xfrm>
              <a:off x="2195640" y="4149720"/>
              <a:ext cx="28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2"/>
            <p:cNvSpPr/>
            <p:nvPr/>
          </p:nvSpPr>
          <p:spPr>
            <a:xfrm>
              <a:off x="2195640" y="3470400"/>
              <a:ext cx="28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3"/>
            <p:cNvSpPr/>
            <p:nvPr/>
          </p:nvSpPr>
          <p:spPr>
            <a:xfrm>
              <a:off x="2268360" y="2781360"/>
              <a:ext cx="27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54"/>
            <p:cNvSpPr/>
            <p:nvPr/>
          </p:nvSpPr>
          <p:spPr>
            <a:xfrm>
              <a:off x="3635280" y="2060640"/>
              <a:ext cx="0" cy="28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6"/>
            <p:cNvSpPr/>
            <p:nvPr/>
          </p:nvSpPr>
          <p:spPr>
            <a:xfrm flipH="1">
              <a:off x="2916000" y="2060640"/>
              <a:ext cx="20160" cy="28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57"/>
            <p:cNvSpPr/>
            <p:nvPr/>
          </p:nvSpPr>
          <p:spPr>
            <a:xfrm>
              <a:off x="4335120" y="2060640"/>
              <a:ext cx="0" cy="28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60"/>
          <p:cNvSpPr/>
          <p:nvPr/>
        </p:nvSpPr>
        <p:spPr>
          <a:xfrm flipV="1">
            <a:off x="4838760" y="3336840"/>
            <a:ext cx="144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19"/>
          <p:cNvGrpSpPr/>
          <p:nvPr/>
        </p:nvGrpSpPr>
        <p:grpSpPr>
          <a:xfrm>
            <a:off x="2957400" y="2111400"/>
            <a:ext cx="4114440" cy="1368000"/>
            <a:chOff x="2957400" y="2111400"/>
            <a:chExt cx="4114440" cy="1368000"/>
          </a:xfrm>
        </p:grpSpPr>
        <p:sp>
          <p:nvSpPr>
            <p:cNvPr id="383" name="AutoShape 12"/>
            <p:cNvSpPr/>
            <p:nvPr/>
          </p:nvSpPr>
          <p:spPr>
            <a:xfrm>
              <a:off x="2957400" y="2111400"/>
              <a:ext cx="2057400" cy="684000"/>
            </a:xfrm>
            <a:prstGeom prst="rtTriangle">
              <a:avLst/>
            </a:prstGeom>
            <a:solidFill>
              <a:srgbClr val="0000ff">
                <a:alpha val="66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14"/>
            <p:cNvSpPr/>
            <p:nvPr/>
          </p:nvSpPr>
          <p:spPr>
            <a:xfrm rot="10800000">
              <a:off x="5014440" y="2795400"/>
              <a:ext cx="2057400" cy="68400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22"/>
          <p:cNvGrpSpPr/>
          <p:nvPr/>
        </p:nvGrpSpPr>
        <p:grpSpPr>
          <a:xfrm>
            <a:off x="1542960" y="2114280"/>
            <a:ext cx="1368000" cy="4114800"/>
            <a:chOff x="1542960" y="2114280"/>
            <a:chExt cx="1368000" cy="4114800"/>
          </a:xfrm>
        </p:grpSpPr>
        <p:sp>
          <p:nvSpPr>
            <p:cNvPr id="386" name="AutoShape 17"/>
            <p:cNvSpPr/>
            <p:nvPr/>
          </p:nvSpPr>
          <p:spPr>
            <a:xfrm rot="16200000">
              <a:off x="1559520" y="2803680"/>
              <a:ext cx="2040840" cy="661680"/>
            </a:xfrm>
            <a:prstGeom prst="rtTriangle">
              <a:avLst/>
            </a:prstGeom>
            <a:solidFill>
              <a:srgbClr val="0000ff">
                <a:alpha val="67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9"/>
            <p:cNvSpPr/>
            <p:nvPr/>
          </p:nvSpPr>
          <p:spPr>
            <a:xfrm rot="5400000">
              <a:off x="852840" y="4877640"/>
              <a:ext cx="2041200" cy="66168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Picture 125" descr="图片1"/>
          <p:cNvPicPr/>
          <p:nvPr/>
        </p:nvPicPr>
        <p:blipFill>
          <a:blip r:embed="rId5"/>
          <a:stretch/>
        </p:blipFill>
        <p:spPr>
          <a:xfrm rot="5400000">
            <a:off x="2225880" y="4180680"/>
            <a:ext cx="4152960" cy="14014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6" descr="图片1"/>
          <p:cNvPicPr/>
          <p:nvPr/>
        </p:nvPicPr>
        <p:blipFill>
          <a:blip r:embed="rId6"/>
          <a:stretch/>
        </p:blipFill>
        <p:spPr>
          <a:xfrm rot="10800000">
            <a:off x="161640" y="3429000"/>
            <a:ext cx="4128840" cy="13939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8"/>
          <p:cNvSpPr/>
          <p:nvPr/>
        </p:nvSpPr>
        <p:spPr>
          <a:xfrm>
            <a:off x="756360" y="176040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442800" y="126828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分数表示涂色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20">
                                      <p:cBhvr>
                                        <p:cTn id="60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0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469800" y="1293840"/>
            <a:ext cx="50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阴影部分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5"/>
          <p:cNvSpPr/>
          <p:nvPr/>
        </p:nvSpPr>
        <p:spPr>
          <a:xfrm>
            <a:off x="4302000" y="3249720"/>
            <a:ext cx="540000" cy="269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611280" y="2619360"/>
            <a:ext cx="3422160" cy="1890720"/>
            <a:chOff x="611280" y="2619360"/>
            <a:chExt cx="3422160" cy="1890720"/>
          </a:xfrm>
        </p:grpSpPr>
        <p:grpSp>
          <p:nvGrpSpPr>
            <p:cNvPr id="397" name="Group 7"/>
            <p:cNvGrpSpPr/>
            <p:nvPr/>
          </p:nvGrpSpPr>
          <p:grpSpPr>
            <a:xfrm>
              <a:off x="1241640" y="2620800"/>
              <a:ext cx="2790720" cy="1440000"/>
              <a:chOff x="1241640" y="2620800"/>
              <a:chExt cx="2790720" cy="144000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1241640" y="2620800"/>
                <a:ext cx="1871640" cy="1440000"/>
              </a:xfrm>
              <a:prstGeom prst="triangle">
                <a:avLst>
                  <a:gd name="adj" fmla="val 50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utoShape 9"/>
              <p:cNvSpPr/>
              <p:nvPr/>
            </p:nvSpPr>
            <p:spPr>
              <a:xfrm>
                <a:off x="3132360" y="2620800"/>
                <a:ext cx="900000" cy="1440000"/>
              </a:xfrm>
              <a:prstGeom prst="rtTriangl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0"/>
            <p:cNvGrpSpPr/>
            <p:nvPr/>
          </p:nvGrpSpPr>
          <p:grpSpPr>
            <a:xfrm>
              <a:off x="1241640" y="4060800"/>
              <a:ext cx="2791800" cy="449280"/>
              <a:chOff x="1241640" y="4060800"/>
              <a:chExt cx="2791800" cy="449280"/>
            </a:xfrm>
          </p:grpSpPr>
          <p:sp>
            <p:nvSpPr>
              <p:cNvPr id="401" name="Line 11"/>
              <p:cNvSpPr/>
              <p:nvPr/>
            </p:nvSpPr>
            <p:spPr>
              <a:xfrm>
                <a:off x="2952720" y="4317840"/>
                <a:ext cx="108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H="1">
                <a:off x="1253880" y="4316400"/>
                <a:ext cx="90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 Box 13"/>
              <p:cNvSpPr/>
              <p:nvPr/>
            </p:nvSpPr>
            <p:spPr>
              <a:xfrm>
                <a:off x="2244600" y="4164120"/>
                <a:ext cx="89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0c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14"/>
              <p:cNvSpPr/>
              <p:nvPr/>
            </p:nvSpPr>
            <p:spPr>
              <a:xfrm>
                <a:off x="1241640" y="4060800"/>
                <a:ext cx="0" cy="44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15"/>
              <p:cNvSpPr/>
              <p:nvPr/>
            </p:nvSpPr>
            <p:spPr>
              <a:xfrm>
                <a:off x="4032000" y="4060800"/>
                <a:ext cx="0" cy="44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6"/>
            <p:cNvGrpSpPr/>
            <p:nvPr/>
          </p:nvGrpSpPr>
          <p:grpSpPr>
            <a:xfrm>
              <a:off x="611280" y="2619360"/>
              <a:ext cx="1563840" cy="1441440"/>
              <a:chOff x="611280" y="2619360"/>
              <a:chExt cx="1563840" cy="1441440"/>
            </a:xfrm>
          </p:grpSpPr>
          <p:sp>
            <p:nvSpPr>
              <p:cNvPr id="407" name="Line 17"/>
              <p:cNvSpPr/>
              <p:nvPr/>
            </p:nvSpPr>
            <p:spPr>
              <a:xfrm>
                <a:off x="644760" y="2620800"/>
                <a:ext cx="15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18"/>
              <p:cNvSpPr/>
              <p:nvPr/>
            </p:nvSpPr>
            <p:spPr>
              <a:xfrm>
                <a:off x="611280" y="4060800"/>
                <a:ext cx="6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19"/>
              <p:cNvSpPr/>
              <p:nvPr/>
            </p:nvSpPr>
            <p:spPr>
              <a:xfrm>
                <a:off x="882720" y="3521160"/>
                <a:ext cx="0" cy="5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20"/>
              <p:cNvSpPr/>
              <p:nvPr/>
            </p:nvSpPr>
            <p:spPr>
              <a:xfrm flipV="1">
                <a:off x="882720" y="2619360"/>
                <a:ext cx="0" cy="54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21"/>
              <p:cNvSpPr/>
              <p:nvPr/>
            </p:nvSpPr>
            <p:spPr>
              <a:xfrm>
                <a:off x="611280" y="316080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0c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22"/>
          <p:cNvGrpSpPr/>
          <p:nvPr/>
        </p:nvGrpSpPr>
        <p:grpSpPr>
          <a:xfrm>
            <a:off x="5202360" y="2619360"/>
            <a:ext cx="3444840" cy="1876320"/>
            <a:chOff x="5202360" y="2619360"/>
            <a:chExt cx="3444840" cy="1876320"/>
          </a:xfrm>
        </p:grpSpPr>
        <p:grpSp>
          <p:nvGrpSpPr>
            <p:cNvPr id="413" name="Group 23"/>
            <p:cNvGrpSpPr/>
            <p:nvPr/>
          </p:nvGrpSpPr>
          <p:grpSpPr>
            <a:xfrm>
              <a:off x="5832720" y="2619360"/>
              <a:ext cx="2814480" cy="1440000"/>
              <a:chOff x="5832720" y="2619360"/>
              <a:chExt cx="2814480" cy="1440000"/>
            </a:xfrm>
          </p:grpSpPr>
          <p:sp>
            <p:nvSpPr>
              <p:cNvPr id="414" name="AutoShape 24"/>
              <p:cNvSpPr/>
              <p:nvPr/>
            </p:nvSpPr>
            <p:spPr>
              <a:xfrm>
                <a:off x="6758280" y="2619360"/>
                <a:ext cx="1888920" cy="1440000"/>
              </a:xfrm>
              <a:prstGeom prst="rtTriangl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25"/>
              <p:cNvSpPr/>
              <p:nvPr/>
            </p:nvSpPr>
            <p:spPr>
              <a:xfrm>
                <a:off x="5832720" y="2619360"/>
                <a:ext cx="1871640" cy="1440000"/>
              </a:xfrm>
              <a:prstGeom prst="triangle">
                <a:avLst>
                  <a:gd name="adj" fmla="val 50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26"/>
            <p:cNvGrpSpPr/>
            <p:nvPr/>
          </p:nvGrpSpPr>
          <p:grpSpPr>
            <a:xfrm>
              <a:off x="5845320" y="4046400"/>
              <a:ext cx="2792520" cy="449280"/>
              <a:chOff x="5845320" y="4046400"/>
              <a:chExt cx="2792520" cy="449280"/>
            </a:xfrm>
          </p:grpSpPr>
          <p:sp>
            <p:nvSpPr>
              <p:cNvPr id="417" name="Line 27"/>
              <p:cNvSpPr/>
              <p:nvPr/>
            </p:nvSpPr>
            <p:spPr>
              <a:xfrm>
                <a:off x="7556760" y="430344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28"/>
              <p:cNvSpPr/>
              <p:nvPr/>
            </p:nvSpPr>
            <p:spPr>
              <a:xfrm flipH="1">
                <a:off x="5857560" y="4302000"/>
                <a:ext cx="90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29"/>
              <p:cNvSpPr/>
              <p:nvPr/>
            </p:nvSpPr>
            <p:spPr>
              <a:xfrm>
                <a:off x="6848640" y="4149720"/>
                <a:ext cx="90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0c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0"/>
              <p:cNvSpPr/>
              <p:nvPr/>
            </p:nvSpPr>
            <p:spPr>
              <a:xfrm>
                <a:off x="5845320" y="4046400"/>
                <a:ext cx="0" cy="44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31"/>
              <p:cNvSpPr/>
              <p:nvPr/>
            </p:nvSpPr>
            <p:spPr>
              <a:xfrm>
                <a:off x="8636040" y="4046400"/>
                <a:ext cx="0" cy="44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2"/>
            <p:cNvGrpSpPr/>
            <p:nvPr/>
          </p:nvGrpSpPr>
          <p:grpSpPr>
            <a:xfrm>
              <a:off x="5202360" y="2619360"/>
              <a:ext cx="1563840" cy="1441440"/>
              <a:chOff x="5202360" y="2619360"/>
              <a:chExt cx="1563840" cy="1441440"/>
            </a:xfrm>
          </p:grpSpPr>
          <p:sp>
            <p:nvSpPr>
              <p:cNvPr id="423" name="Line 33"/>
              <p:cNvSpPr/>
              <p:nvPr/>
            </p:nvSpPr>
            <p:spPr>
              <a:xfrm>
                <a:off x="5235840" y="2620800"/>
                <a:ext cx="15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34"/>
              <p:cNvSpPr/>
              <p:nvPr/>
            </p:nvSpPr>
            <p:spPr>
              <a:xfrm>
                <a:off x="5202360" y="4060800"/>
                <a:ext cx="6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35"/>
              <p:cNvSpPr/>
              <p:nvPr/>
            </p:nvSpPr>
            <p:spPr>
              <a:xfrm>
                <a:off x="5473800" y="3521160"/>
                <a:ext cx="0" cy="5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36"/>
              <p:cNvSpPr/>
              <p:nvPr/>
            </p:nvSpPr>
            <p:spPr>
              <a:xfrm flipV="1">
                <a:off x="5473800" y="2619360"/>
                <a:ext cx="0" cy="54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37"/>
              <p:cNvSpPr/>
              <p:nvPr/>
            </p:nvSpPr>
            <p:spPr>
              <a:xfrm>
                <a:off x="5202360" y="316080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0c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Group 38"/>
          <p:cNvGrpSpPr/>
          <p:nvPr/>
        </p:nvGrpSpPr>
        <p:grpSpPr>
          <a:xfrm>
            <a:off x="3132000" y="4780080"/>
            <a:ext cx="4141800" cy="1244160"/>
            <a:chOff x="3132000" y="4780080"/>
            <a:chExt cx="4141800" cy="1244160"/>
          </a:xfrm>
        </p:grpSpPr>
        <p:sp>
          <p:nvSpPr>
            <p:cNvPr id="429" name="Text Box 39"/>
            <p:cNvSpPr/>
            <p:nvPr/>
          </p:nvSpPr>
          <p:spPr>
            <a:xfrm>
              <a:off x="3132000" y="5055840"/>
              <a:ext cx="41418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0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0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=300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平方厘米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40"/>
            <p:cNvGrpSpPr/>
            <p:nvPr/>
          </p:nvGrpSpPr>
          <p:grpSpPr>
            <a:xfrm>
              <a:off x="4569480" y="4780080"/>
              <a:ext cx="380880" cy="883080"/>
              <a:chOff x="4569480" y="4780080"/>
              <a:chExt cx="380880" cy="883080"/>
            </a:xfrm>
          </p:grpSpPr>
          <p:sp>
            <p:nvSpPr>
              <p:cNvPr id="431" name="Text Box 41"/>
              <p:cNvSpPr/>
              <p:nvPr/>
            </p:nvSpPr>
            <p:spPr>
              <a:xfrm>
                <a:off x="4569480" y="478008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2"/>
              <p:cNvSpPr/>
              <p:nvPr/>
            </p:nvSpPr>
            <p:spPr>
              <a:xfrm>
                <a:off x="4586760" y="5203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43"/>
              <p:cNvSpPr/>
              <p:nvPr/>
            </p:nvSpPr>
            <p:spPr>
              <a:xfrm>
                <a:off x="4628880" y="5249520"/>
                <a:ext cx="26496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Rectangle 44"/>
          <p:cNvSpPr/>
          <p:nvPr/>
        </p:nvSpPr>
        <p:spPr>
          <a:xfrm>
            <a:off x="1041480" y="41911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ubChord"/>
          <p:cNvSpPr/>
          <p:nvPr/>
        </p:nvSpPr>
        <p:spPr>
          <a:xfrm rot="8067600">
            <a:off x="2106000" y="1950480"/>
            <a:ext cx="5167440" cy="5218200"/>
          </a:xfrm>
          <a:custGeom>
            <a:avLst/>
            <a:gdLst>
              <a:gd name="textAreaLeft" fmla="*/ 756720 w 5167440"/>
              <a:gd name="textAreaRight" fmla="*/ 4410720 w 5167440"/>
              <a:gd name="textAreaTop" fmla="*/ 763920 h 5218200"/>
              <a:gd name="textAreaBottom" fmla="*/ 4454280 h 521820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rcRect l="0" t="0" r="0" b="34048"/>
          <a:stretch/>
        </p:blipFill>
        <p:spPr>
          <a:xfrm>
            <a:off x="2050920" y="1898640"/>
            <a:ext cx="5276880" cy="2657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"/>
          <p:cNvSpPr/>
          <p:nvPr/>
        </p:nvSpPr>
        <p:spPr>
          <a:xfrm>
            <a:off x="444600" y="1268280"/>
            <a:ext cx="60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下面图形的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520560" y="549360"/>
            <a:ext cx="3238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5068800" y="45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ｒ＝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7"/>
          <p:cNvSpPr/>
          <p:nvPr/>
        </p:nvSpPr>
        <p:spPr>
          <a:xfrm flipV="1">
            <a:off x="2173320" y="4541400"/>
            <a:ext cx="2513160" cy="1260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ubChord"/>
          <p:cNvSpPr/>
          <p:nvPr/>
        </p:nvSpPr>
        <p:spPr>
          <a:xfrm rot="8050200">
            <a:off x="4722120" y="3278160"/>
            <a:ext cx="2495520" cy="2514600"/>
          </a:xfrm>
          <a:custGeom>
            <a:avLst/>
            <a:gdLst>
              <a:gd name="textAreaLeft" fmla="*/ 365400 w 2495520"/>
              <a:gd name="textAreaRight" fmla="*/ 2130120 w 2495520"/>
              <a:gd name="textAreaTop" fmla="*/ 367920 h 2514600"/>
              <a:gd name="textAreaBottom" fmla="*/ 2146680 h 251460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43" name="PubChord"/>
          <p:cNvSpPr/>
          <p:nvPr/>
        </p:nvSpPr>
        <p:spPr>
          <a:xfrm flipV="1" rot="13532400">
            <a:off x="2139480" y="3300840"/>
            <a:ext cx="2508120" cy="2530800"/>
          </a:xfrm>
          <a:custGeom>
            <a:avLst/>
            <a:gdLst>
              <a:gd name="textAreaLeft" fmla="*/ 367200 w 2508120"/>
              <a:gd name="textAreaRight" fmla="*/ 2140920 w 2508120"/>
              <a:gd name="textAreaTop" fmla="*/ 370440 h 2530800"/>
              <a:gd name="textAreaBottom" fmla="*/ 2160360 h 253080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4199040" y="425772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  <a:ea typeface="宋体"/>
              </a:rPr>
              <a:t>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2"/>
          <p:cNvSpPr/>
          <p:nvPr/>
        </p:nvSpPr>
        <p:spPr>
          <a:xfrm>
            <a:off x="2246400" y="5640480"/>
            <a:ext cx="2865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2300400" y="5691240"/>
            <a:ext cx="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4"/>
          <p:cNvGrpSpPr/>
          <p:nvPr/>
        </p:nvGrpSpPr>
        <p:grpSpPr>
          <a:xfrm>
            <a:off x="1692360" y="4689360"/>
            <a:ext cx="3241080" cy="1471320"/>
            <a:chOff x="1692360" y="4689360"/>
            <a:chExt cx="3241080" cy="1471320"/>
          </a:xfrm>
        </p:grpSpPr>
        <p:sp>
          <p:nvSpPr>
            <p:cNvPr id="448" name="Rectangle 15"/>
            <p:cNvSpPr/>
            <p:nvPr/>
          </p:nvSpPr>
          <p:spPr>
            <a:xfrm>
              <a:off x="2641320" y="5667120"/>
              <a:ext cx="374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6"/>
            <p:cNvGrpSpPr/>
            <p:nvPr/>
          </p:nvGrpSpPr>
          <p:grpSpPr>
            <a:xfrm>
              <a:off x="1692360" y="4689360"/>
              <a:ext cx="3241080" cy="1471320"/>
              <a:chOff x="1692360" y="4689360"/>
              <a:chExt cx="3241080" cy="1471320"/>
            </a:xfrm>
          </p:grpSpPr>
          <p:sp>
            <p:nvSpPr>
              <p:cNvPr id="450" name="Rectangle 17"/>
              <p:cNvSpPr/>
              <p:nvPr/>
            </p:nvSpPr>
            <p:spPr>
              <a:xfrm>
                <a:off x="2667960" y="5676840"/>
                <a:ext cx="397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Group 18"/>
              <p:cNvGrpSpPr/>
              <p:nvPr/>
            </p:nvGrpSpPr>
            <p:grpSpPr>
              <a:xfrm>
                <a:off x="1692360" y="4689360"/>
                <a:ext cx="3241080" cy="1471320"/>
                <a:chOff x="1692360" y="4689360"/>
                <a:chExt cx="3241080" cy="1471320"/>
              </a:xfrm>
            </p:grpSpPr>
            <p:pic>
              <p:nvPicPr>
                <p:cNvPr id="45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73080" y="4689360"/>
                  <a:ext cx="1923480" cy="96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3" name="Rectangle 20"/>
                <p:cNvSpPr/>
                <p:nvPr/>
              </p:nvSpPr>
              <p:spPr>
                <a:xfrm>
                  <a:off x="4673160" y="5676840"/>
                  <a:ext cx="2602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21"/>
                <p:cNvSpPr/>
                <p:nvPr/>
              </p:nvSpPr>
              <p:spPr>
                <a:xfrm>
                  <a:off x="3193560" y="5676840"/>
                  <a:ext cx="1195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(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Rectangle 22"/>
                <p:cNvSpPr/>
                <p:nvPr/>
              </p:nvSpPr>
              <p:spPr>
                <a:xfrm>
                  <a:off x="2220480" y="5676840"/>
                  <a:ext cx="4316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2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23"/>
                <p:cNvSpPr/>
                <p:nvPr/>
              </p:nvSpPr>
              <p:spPr>
                <a:xfrm>
                  <a:off x="3596400" y="5680080"/>
                  <a:ext cx="8542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平方厘米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Text Box 24"/>
                <p:cNvSpPr/>
                <p:nvPr/>
              </p:nvSpPr>
              <p:spPr>
                <a:xfrm>
                  <a:off x="1692360" y="5640120"/>
                  <a:ext cx="490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2.22222E-006 L 0.28073 -0.00092 E">
                                      <p:cBhvr>
                                        <p:cTn id="672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212 -0.00254 L 0.27934 -0.18703 E">
                                      <p:cBhvr>
                                        <p:cTn id="675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77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449280" y="121140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下面图形的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520560" y="549360"/>
            <a:ext cx="3238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4"/>
          <p:cNvGrpSpPr/>
          <p:nvPr/>
        </p:nvGrpSpPr>
        <p:grpSpPr>
          <a:xfrm>
            <a:off x="844560" y="772920"/>
            <a:ext cx="7344360" cy="7343640"/>
            <a:chOff x="844560" y="772920"/>
            <a:chExt cx="7344360" cy="7343640"/>
          </a:xfrm>
        </p:grpSpPr>
        <p:sp>
          <p:nvSpPr>
            <p:cNvPr id="461" name="PubChord"/>
            <p:cNvSpPr/>
            <p:nvPr/>
          </p:nvSpPr>
          <p:spPr>
            <a:xfrm rot="8067600">
              <a:off x="1932120" y="1835280"/>
              <a:ext cx="5168520" cy="5218200"/>
            </a:xfrm>
            <a:custGeom>
              <a:avLst/>
              <a:gdLst>
                <a:gd name="textAreaLeft" fmla="*/ 757080 w 5168520"/>
                <a:gd name="textAreaRight" fmla="*/ 4411440 w 5168520"/>
                <a:gd name="textAreaTop" fmla="*/ 763560 h 5218200"/>
                <a:gd name="textAreaBottom" fmla="*/ 4454640 h 5218200"/>
              </a:gdLst>
              <a:ahLst/>
              <a:rect l="textAreaLeft" t="textAreaTop" r="textAreaRight" b="textAreaBottom"/>
              <a:pathLst>
                <a:path w="18436" h="21600">
                  <a:moveTo>
                    <a:pt x="3163" y="3163"/>
                  </a:moveTo>
                  <a:cubicBezTo>
                    <a:pt x="1137" y="5188"/>
                    <a:pt x="0" y="7935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664" y="21600"/>
                    <a:pt x="16411" y="20462"/>
                    <a:pt x="18436" y="18436"/>
                  </a:cubicBezTo>
                  <a:lnTo>
                    <a:pt x="3163" y="316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PubChord"/>
            <p:cNvSpPr/>
            <p:nvPr/>
          </p:nvSpPr>
          <p:spPr>
            <a:xfrm rot="8068200">
              <a:off x="4560840" y="3168000"/>
              <a:ext cx="2472120" cy="2482920"/>
            </a:xfrm>
            <a:custGeom>
              <a:avLst/>
              <a:gdLst>
                <a:gd name="textAreaLeft" fmla="*/ 361800 w 2472120"/>
                <a:gd name="textAreaRight" fmla="*/ 2110320 w 2472120"/>
                <a:gd name="textAreaTop" fmla="*/ 363600 h 2482920"/>
                <a:gd name="textAreaBottom" fmla="*/ 2119320 h 2482920"/>
              </a:gdLst>
              <a:ahLst/>
              <a:rect l="textAreaLeft" t="textAreaTop" r="textAreaRight" b="textAreaBottom"/>
              <a:pathLst>
                <a:path w="18436" h="21600">
                  <a:moveTo>
                    <a:pt x="3163" y="3163"/>
                  </a:moveTo>
                  <a:cubicBezTo>
                    <a:pt x="1137" y="5188"/>
                    <a:pt x="0" y="7935"/>
                    <a:pt x="0" y="10799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3664" y="21600"/>
                    <a:pt x="16411" y="20462"/>
                    <a:pt x="18436" y="18436"/>
                  </a:cubicBezTo>
                  <a:lnTo>
                    <a:pt x="3163" y="3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Picture 7" descr=""/>
            <p:cNvPicPr/>
            <p:nvPr/>
          </p:nvPicPr>
          <p:blipFill>
            <a:blip r:embed="rId1"/>
            <a:srcRect l="0" t="0" r="0" b="34048"/>
            <a:stretch/>
          </p:blipFill>
          <p:spPr>
            <a:xfrm>
              <a:off x="1871640" y="1785960"/>
              <a:ext cx="5276880" cy="26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Line 8"/>
            <p:cNvSpPr/>
            <p:nvPr/>
          </p:nvSpPr>
          <p:spPr>
            <a:xfrm flipV="1">
              <a:off x="1947960" y="4424760"/>
              <a:ext cx="2512800" cy="1260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66" name="PubChord"/>
          <p:cNvSpPr/>
          <p:nvPr/>
        </p:nvSpPr>
        <p:spPr>
          <a:xfrm flipV="1" rot="13514400">
            <a:off x="1958760" y="3188880"/>
            <a:ext cx="2508120" cy="2530440"/>
          </a:xfrm>
          <a:custGeom>
            <a:avLst/>
            <a:gdLst>
              <a:gd name="textAreaLeft" fmla="*/ 367200 w 2508120"/>
              <a:gd name="textAreaRight" fmla="*/ 2140920 w 2508120"/>
              <a:gd name="textAreaTop" fmla="*/ 370440 h 2530440"/>
              <a:gd name="textAreaBottom" fmla="*/ 2160000 h 25304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ubChord"/>
          <p:cNvSpPr/>
          <p:nvPr/>
        </p:nvSpPr>
        <p:spPr>
          <a:xfrm flipV="1" rot="12909600">
            <a:off x="1961640" y="3427920"/>
            <a:ext cx="2508480" cy="2530440"/>
          </a:xfrm>
          <a:custGeom>
            <a:avLst/>
            <a:gdLst>
              <a:gd name="textAreaLeft" fmla="*/ 367200 w 2508480"/>
              <a:gd name="textAreaRight" fmla="*/ 2141280 w 2508480"/>
              <a:gd name="textAreaTop" fmla="*/ 370440 h 2530440"/>
              <a:gd name="textAreaBottom" fmla="*/ 2160000 h 25304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ubChord"/>
          <p:cNvSpPr/>
          <p:nvPr/>
        </p:nvSpPr>
        <p:spPr>
          <a:xfrm flipV="1" rot="12094200">
            <a:off x="2101320" y="3697560"/>
            <a:ext cx="2508480" cy="2530440"/>
          </a:xfrm>
          <a:custGeom>
            <a:avLst/>
            <a:gdLst>
              <a:gd name="textAreaLeft" fmla="*/ 367200 w 2508480"/>
              <a:gd name="textAreaRight" fmla="*/ 2141280 w 2508480"/>
              <a:gd name="textAreaTop" fmla="*/ 370440 h 2530440"/>
              <a:gd name="textAreaBottom" fmla="*/ 2160000 h 25304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ubChord"/>
          <p:cNvSpPr/>
          <p:nvPr/>
        </p:nvSpPr>
        <p:spPr>
          <a:xfrm flipV="1" rot="11124000">
            <a:off x="2295000" y="3993840"/>
            <a:ext cx="2508480" cy="2530440"/>
          </a:xfrm>
          <a:custGeom>
            <a:avLst/>
            <a:gdLst>
              <a:gd name="textAreaLeft" fmla="*/ 367200 w 2508480"/>
              <a:gd name="textAreaRight" fmla="*/ 2141280 w 2508480"/>
              <a:gd name="textAreaTop" fmla="*/ 370440 h 2530440"/>
              <a:gd name="textAreaBottom" fmla="*/ 2160000 h 25304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ubChord"/>
          <p:cNvSpPr/>
          <p:nvPr/>
        </p:nvSpPr>
        <p:spPr>
          <a:xfrm flipV="1" rot="10468800">
            <a:off x="2474640" y="4172040"/>
            <a:ext cx="2508120" cy="2530800"/>
          </a:xfrm>
          <a:custGeom>
            <a:avLst/>
            <a:gdLst>
              <a:gd name="textAreaLeft" fmla="*/ 367200 w 2508120"/>
              <a:gd name="textAreaRight" fmla="*/ 2140920 w 2508120"/>
              <a:gd name="textAreaTop" fmla="*/ 370440 h 2530800"/>
              <a:gd name="textAreaBottom" fmla="*/ 2160360 h 253080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ubChord"/>
          <p:cNvSpPr/>
          <p:nvPr/>
        </p:nvSpPr>
        <p:spPr>
          <a:xfrm flipV="1" rot="9805800">
            <a:off x="2653560" y="4301280"/>
            <a:ext cx="2508120" cy="2530440"/>
          </a:xfrm>
          <a:custGeom>
            <a:avLst/>
            <a:gdLst>
              <a:gd name="textAreaLeft" fmla="*/ 367200 w 2508120"/>
              <a:gd name="textAreaRight" fmla="*/ 2140920 w 2508120"/>
              <a:gd name="textAreaTop" fmla="*/ 370440 h 2530440"/>
              <a:gd name="textAreaBottom" fmla="*/ 2160000 h 25304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ubChord"/>
          <p:cNvSpPr/>
          <p:nvPr/>
        </p:nvSpPr>
        <p:spPr>
          <a:xfrm flipV="1" rot="9264600">
            <a:off x="2833200" y="4379760"/>
            <a:ext cx="2508480" cy="2530440"/>
          </a:xfrm>
          <a:custGeom>
            <a:avLst/>
            <a:gdLst>
              <a:gd name="textAreaLeft" fmla="*/ 367200 w 2508480"/>
              <a:gd name="textAreaRight" fmla="*/ 2141280 w 2508480"/>
              <a:gd name="textAreaTop" fmla="*/ 370440 h 2530440"/>
              <a:gd name="textAreaBottom" fmla="*/ 2160000 h 25304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ubChord"/>
          <p:cNvSpPr/>
          <p:nvPr/>
        </p:nvSpPr>
        <p:spPr>
          <a:xfrm flipV="1" rot="8641200">
            <a:off x="3066840" y="4416480"/>
            <a:ext cx="2508120" cy="2530440"/>
          </a:xfrm>
          <a:custGeom>
            <a:avLst/>
            <a:gdLst>
              <a:gd name="textAreaLeft" fmla="*/ 367200 w 2508120"/>
              <a:gd name="textAreaRight" fmla="*/ 2140920 w 2508120"/>
              <a:gd name="textAreaTop" fmla="*/ 370440 h 2530440"/>
              <a:gd name="textAreaBottom" fmla="*/ 2160000 h 25304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ubChord"/>
          <p:cNvSpPr/>
          <p:nvPr/>
        </p:nvSpPr>
        <p:spPr>
          <a:xfrm flipV="1" rot="8044200">
            <a:off x="3300120" y="4418640"/>
            <a:ext cx="2508120" cy="2530440"/>
          </a:xfrm>
          <a:custGeom>
            <a:avLst/>
            <a:gdLst>
              <a:gd name="textAreaLeft" fmla="*/ 367200 w 2508120"/>
              <a:gd name="textAreaRight" fmla="*/ 2140920 w 2508120"/>
              <a:gd name="textAreaTop" fmla="*/ 370440 h 2530440"/>
              <a:gd name="textAreaBottom" fmla="*/ 2160000 h 25304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ubChord"/>
          <p:cNvSpPr/>
          <p:nvPr/>
        </p:nvSpPr>
        <p:spPr>
          <a:xfrm flipV="1" rot="7489800">
            <a:off x="3503160" y="4406760"/>
            <a:ext cx="2508480" cy="2530440"/>
          </a:xfrm>
          <a:custGeom>
            <a:avLst/>
            <a:gdLst>
              <a:gd name="textAreaLeft" fmla="*/ 367200 w 2508480"/>
              <a:gd name="textAreaRight" fmla="*/ 2141280 w 2508480"/>
              <a:gd name="textAreaTop" fmla="*/ 370440 h 2530440"/>
              <a:gd name="textAreaBottom" fmla="*/ 2160000 h 25304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ubChord"/>
          <p:cNvSpPr/>
          <p:nvPr/>
        </p:nvSpPr>
        <p:spPr>
          <a:xfrm flipV="1" rot="6722400">
            <a:off x="3773160" y="4329000"/>
            <a:ext cx="2508480" cy="2530440"/>
          </a:xfrm>
          <a:custGeom>
            <a:avLst/>
            <a:gdLst>
              <a:gd name="textAreaLeft" fmla="*/ 367200 w 2508480"/>
              <a:gd name="textAreaRight" fmla="*/ 2141280 w 2508480"/>
              <a:gd name="textAreaTop" fmla="*/ 370440 h 2530440"/>
              <a:gd name="textAreaBottom" fmla="*/ 2160000 h 25304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ubChord"/>
          <p:cNvSpPr/>
          <p:nvPr/>
        </p:nvSpPr>
        <p:spPr>
          <a:xfrm flipV="1" rot="5943000">
            <a:off x="4017600" y="4161600"/>
            <a:ext cx="2508480" cy="2530440"/>
          </a:xfrm>
          <a:custGeom>
            <a:avLst/>
            <a:gdLst>
              <a:gd name="textAreaLeft" fmla="*/ 367200 w 2508480"/>
              <a:gd name="textAreaRight" fmla="*/ 2141280 w 2508480"/>
              <a:gd name="textAreaTop" fmla="*/ 370440 h 2530440"/>
              <a:gd name="textAreaBottom" fmla="*/ 2160000 h 25304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ubChord"/>
          <p:cNvSpPr/>
          <p:nvPr/>
        </p:nvSpPr>
        <p:spPr>
          <a:xfrm flipV="1" rot="5240400">
            <a:off x="4222800" y="3981240"/>
            <a:ext cx="2507760" cy="2530800"/>
          </a:xfrm>
          <a:custGeom>
            <a:avLst/>
            <a:gdLst>
              <a:gd name="textAreaLeft" fmla="*/ 367200 w 2507760"/>
              <a:gd name="textAreaRight" fmla="*/ 2140560 w 2507760"/>
              <a:gd name="textAreaTop" fmla="*/ 370440 h 2530800"/>
              <a:gd name="textAreaBottom" fmla="*/ 2160360 h 253080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ubChord"/>
          <p:cNvSpPr/>
          <p:nvPr/>
        </p:nvSpPr>
        <p:spPr>
          <a:xfrm flipV="1" rot="4212000">
            <a:off x="4403880" y="3634920"/>
            <a:ext cx="2508120" cy="2530440"/>
          </a:xfrm>
          <a:custGeom>
            <a:avLst/>
            <a:gdLst>
              <a:gd name="textAreaLeft" fmla="*/ 367200 w 2508120"/>
              <a:gd name="textAreaRight" fmla="*/ 2140920 w 2508120"/>
              <a:gd name="textAreaTop" fmla="*/ 370440 h 2530440"/>
              <a:gd name="textAreaBottom" fmla="*/ 2160000 h 253044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ubChord"/>
          <p:cNvSpPr/>
          <p:nvPr/>
        </p:nvSpPr>
        <p:spPr>
          <a:xfrm flipV="1" rot="3237600">
            <a:off x="4492800" y="3327120"/>
            <a:ext cx="2508120" cy="2530800"/>
          </a:xfrm>
          <a:custGeom>
            <a:avLst/>
            <a:gdLst>
              <a:gd name="textAreaLeft" fmla="*/ 367200 w 2508120"/>
              <a:gd name="textAreaRight" fmla="*/ 2140920 w 2508120"/>
              <a:gd name="textAreaTop" fmla="*/ 370440 h 2530800"/>
              <a:gd name="textAreaBottom" fmla="*/ 2160360 h 253080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ubChord"/>
          <p:cNvSpPr/>
          <p:nvPr/>
        </p:nvSpPr>
        <p:spPr>
          <a:xfrm flipV="1" rot="2746200">
            <a:off x="4530600" y="3147120"/>
            <a:ext cx="2508480" cy="2531160"/>
          </a:xfrm>
          <a:custGeom>
            <a:avLst/>
            <a:gdLst>
              <a:gd name="textAreaLeft" fmla="*/ 367200 w 2508480"/>
              <a:gd name="textAreaRight" fmla="*/ 2141280 w 2508480"/>
              <a:gd name="textAreaTop" fmla="*/ 370440 h 2531160"/>
              <a:gd name="textAreaBottom" fmla="*/ 2160720 h 2531160"/>
            </a:gdLst>
            <a:ahLst/>
            <a:rect l="textAreaLeft" t="textAreaTop" r="textAreaRight" b="textAreaBottom"/>
            <a:pathLst>
              <a:path w="18436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lnTo>
                  <a:pt x="3163" y="316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6"/>
          <p:cNvSpPr/>
          <p:nvPr/>
        </p:nvSpPr>
        <p:spPr>
          <a:xfrm>
            <a:off x="4932360" y="4417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ｒ＝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7"/>
          <p:cNvSpPr/>
          <p:nvPr/>
        </p:nvSpPr>
        <p:spPr>
          <a:xfrm>
            <a:off x="4032360" y="396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  <a:ea typeface="宋体"/>
              </a:rPr>
              <a:t>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8"/>
          <p:cNvGrpSpPr/>
          <p:nvPr/>
        </p:nvGrpSpPr>
        <p:grpSpPr>
          <a:xfrm>
            <a:off x="1692360" y="4689360"/>
            <a:ext cx="3241080" cy="1471320"/>
            <a:chOff x="1692360" y="4689360"/>
            <a:chExt cx="3241080" cy="1471320"/>
          </a:xfrm>
        </p:grpSpPr>
        <p:sp>
          <p:nvSpPr>
            <p:cNvPr id="485" name="Rectangle 29"/>
            <p:cNvSpPr/>
            <p:nvPr/>
          </p:nvSpPr>
          <p:spPr>
            <a:xfrm>
              <a:off x="2641320" y="5667120"/>
              <a:ext cx="374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Group 30"/>
            <p:cNvGrpSpPr/>
            <p:nvPr/>
          </p:nvGrpSpPr>
          <p:grpSpPr>
            <a:xfrm>
              <a:off x="1692360" y="4689360"/>
              <a:ext cx="3241080" cy="1471320"/>
              <a:chOff x="1692360" y="4689360"/>
              <a:chExt cx="3241080" cy="1471320"/>
            </a:xfrm>
          </p:grpSpPr>
          <p:sp>
            <p:nvSpPr>
              <p:cNvPr id="487" name="Rectangle 31"/>
              <p:cNvSpPr/>
              <p:nvPr/>
            </p:nvSpPr>
            <p:spPr>
              <a:xfrm>
                <a:off x="2667960" y="5676840"/>
                <a:ext cx="397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Group 32"/>
              <p:cNvGrpSpPr/>
              <p:nvPr/>
            </p:nvGrpSpPr>
            <p:grpSpPr>
              <a:xfrm>
                <a:off x="1692360" y="4689360"/>
                <a:ext cx="3241080" cy="1471320"/>
                <a:chOff x="1692360" y="4689360"/>
                <a:chExt cx="3241080" cy="1471320"/>
              </a:xfrm>
            </p:grpSpPr>
            <p:pic>
              <p:nvPicPr>
                <p:cNvPr id="48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73080" y="4689360"/>
                  <a:ext cx="1923480" cy="96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0" name="Rectangle 34"/>
                <p:cNvSpPr/>
                <p:nvPr/>
              </p:nvSpPr>
              <p:spPr>
                <a:xfrm>
                  <a:off x="4673160" y="5676840"/>
                  <a:ext cx="2602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Rectangle 35"/>
                <p:cNvSpPr/>
                <p:nvPr/>
              </p:nvSpPr>
              <p:spPr>
                <a:xfrm>
                  <a:off x="3193560" y="5676840"/>
                  <a:ext cx="1195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(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Rectangle 36"/>
                <p:cNvSpPr/>
                <p:nvPr/>
              </p:nvSpPr>
              <p:spPr>
                <a:xfrm>
                  <a:off x="2220480" y="5676840"/>
                  <a:ext cx="4316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2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Rectangle 37"/>
                <p:cNvSpPr/>
                <p:nvPr/>
              </p:nvSpPr>
              <p:spPr>
                <a:xfrm>
                  <a:off x="3596400" y="5680080"/>
                  <a:ext cx="8542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平方厘米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Text Box 38"/>
                <p:cNvSpPr/>
                <p:nvPr/>
              </p:nvSpPr>
              <p:spPr>
                <a:xfrm>
                  <a:off x="1692360" y="5640120"/>
                  <a:ext cx="490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Arial"/>
                      <a:ea typeface="楷体_GB2312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3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4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05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6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7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608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809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81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1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12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213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214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415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416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617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618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819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82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21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21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223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224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425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426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627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628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829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83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9"/>
          <p:cNvSpPr/>
          <p:nvPr/>
        </p:nvSpPr>
        <p:spPr>
          <a:xfrm>
            <a:off x="792000" y="1359000"/>
            <a:ext cx="810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学校舞蹈队男生人数是女生的   ，新加入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女生后，男生人数是女生的   。该学校舞蹈队有男生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520560" y="549360"/>
            <a:ext cx="3238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20560" y="1395360"/>
            <a:ext cx="3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5219640" y="1292400"/>
            <a:ext cx="223920" cy="630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3352680" y="1790640"/>
            <a:ext cx="306360" cy="633600"/>
          </a:xfrm>
          <a:prstGeom prst="rect">
            <a:avLst/>
          </a:prstGeom>
          <a:ln w="0">
            <a:noFill/>
          </a:ln>
        </p:spPr>
      </p:pic>
      <p:grpSp>
        <p:nvGrpSpPr>
          <p:cNvPr id="500" name="Group 7"/>
          <p:cNvGrpSpPr/>
          <p:nvPr/>
        </p:nvGrpSpPr>
        <p:grpSpPr>
          <a:xfrm>
            <a:off x="1062000" y="3429000"/>
            <a:ext cx="1401840" cy="689040"/>
            <a:chOff x="1062000" y="3429000"/>
            <a:chExt cx="1401840" cy="689040"/>
          </a:xfrm>
        </p:grpSpPr>
        <p:sp>
          <p:nvSpPr>
            <p:cNvPr id="501" name="Text Box 8"/>
            <p:cNvSpPr/>
            <p:nvPr/>
          </p:nvSpPr>
          <p:spPr>
            <a:xfrm>
              <a:off x="2030400" y="37497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9"/>
            <p:cNvSpPr/>
            <p:nvPr/>
          </p:nvSpPr>
          <p:spPr>
            <a:xfrm>
              <a:off x="1062000" y="35370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 3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962000" y="3429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1"/>
            <p:cNvSpPr/>
            <p:nvPr/>
          </p:nvSpPr>
          <p:spPr>
            <a:xfrm>
              <a:off x="1962000" y="380196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1420920" y="2798640"/>
            <a:ext cx="2868480" cy="703080"/>
            <a:chOff x="1420920" y="2798640"/>
            <a:chExt cx="2868480" cy="703080"/>
          </a:xfrm>
        </p:grpSpPr>
        <p:sp>
          <p:nvSpPr>
            <p:cNvPr id="506" name="Text Box 13"/>
            <p:cNvSpPr/>
            <p:nvPr/>
          </p:nvSpPr>
          <p:spPr>
            <a:xfrm>
              <a:off x="2320920" y="2798640"/>
              <a:ext cx="4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2320920" y="3171600"/>
              <a:ext cx="4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5"/>
            <p:cNvSpPr/>
            <p:nvPr/>
          </p:nvSpPr>
          <p:spPr>
            <a:xfrm>
              <a:off x="3221280" y="2798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6"/>
            <p:cNvSpPr/>
            <p:nvPr/>
          </p:nvSpPr>
          <p:spPr>
            <a:xfrm>
              <a:off x="3221280" y="3171600"/>
              <a:ext cx="43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7"/>
            <p:cNvSpPr/>
            <p:nvPr/>
          </p:nvSpPr>
          <p:spPr>
            <a:xfrm>
              <a:off x="3289320" y="31208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949400" y="2914560"/>
              <a:ext cx="23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2772000" y="28890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20"/>
            <p:cNvSpPr/>
            <p:nvPr/>
          </p:nvSpPr>
          <p:spPr>
            <a:xfrm>
              <a:off x="1420920" y="288900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 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21"/>
            <p:cNvSpPr/>
            <p:nvPr/>
          </p:nvSpPr>
          <p:spPr>
            <a:xfrm>
              <a:off x="2384640" y="3133440"/>
              <a:ext cx="99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22"/>
          <p:cNvSpPr/>
          <p:nvPr/>
        </p:nvSpPr>
        <p:spPr>
          <a:xfrm>
            <a:off x="1062000" y="414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2050920" y="4689360"/>
            <a:ext cx="459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该学校舞蹈队有男生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520560" y="1413000"/>
            <a:ext cx="378000" cy="369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717480" y="1359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仔细观察，你有什么发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8"/>
          <p:cNvSpPr/>
          <p:nvPr/>
        </p:nvSpPr>
        <p:spPr>
          <a:xfrm>
            <a:off x="0" y="241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7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5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49"/>
          <p:cNvGrpSpPr/>
          <p:nvPr/>
        </p:nvGrpSpPr>
        <p:grpSpPr>
          <a:xfrm>
            <a:off x="5381640" y="2978280"/>
            <a:ext cx="3241440" cy="811080"/>
            <a:chOff x="5381640" y="2978280"/>
            <a:chExt cx="3241440" cy="811080"/>
          </a:xfrm>
        </p:grpSpPr>
        <p:sp>
          <p:nvSpPr>
            <p:cNvPr id="50" name="AutoShape 103"/>
            <p:cNvSpPr/>
            <p:nvPr/>
          </p:nvSpPr>
          <p:spPr>
            <a:xfrm>
              <a:off x="5390280" y="2978280"/>
              <a:ext cx="2946960" cy="811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4"/>
            <p:cNvSpPr/>
            <p:nvPr/>
          </p:nvSpPr>
          <p:spPr>
            <a:xfrm>
              <a:off x="5381640" y="2995920"/>
              <a:ext cx="324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数除法可以转化成除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整数的除法来计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59"/>
          <p:cNvSpPr/>
          <p:nvPr/>
        </p:nvSpPr>
        <p:spPr>
          <a:xfrm>
            <a:off x="3311640" y="3157920"/>
            <a:ext cx="21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5÷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57280" y="3879720"/>
                <a:ext cx="735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97240" y="3905280"/>
            <a:ext cx="901800" cy="7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57280" y="4856040"/>
            <a:ext cx="735120" cy="760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402000" y="4803840"/>
            <a:ext cx="757080" cy="809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1"/>
          <p:cNvSpPr/>
          <p:nvPr/>
        </p:nvSpPr>
        <p:spPr>
          <a:xfrm>
            <a:off x="684360" y="314640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4"/>
          <p:cNvSpPr/>
          <p:nvPr/>
        </p:nvSpPr>
        <p:spPr>
          <a:xfrm>
            <a:off x="819000" y="21621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×1.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5"/>
          <p:cNvSpPr/>
          <p:nvPr/>
        </p:nvSpPr>
        <p:spPr>
          <a:xfrm>
            <a:off x="2592360" y="2349360"/>
            <a:ext cx="539640" cy="115920"/>
          </a:xfrm>
          <a:prstGeom prst="rightArrow">
            <a:avLst>
              <a:gd name="adj1" fmla="val 50000"/>
              <a:gd name="adj2" fmla="val 116382"/>
            </a:avLst>
          </a:prstGeom>
          <a:solidFill>
            <a:srgbClr val="4f81bd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6"/>
          <p:cNvSpPr/>
          <p:nvPr/>
        </p:nvSpPr>
        <p:spPr>
          <a:xfrm>
            <a:off x="2862360" y="2168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×15÷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7"/>
          <p:cNvSpPr/>
          <p:nvPr/>
        </p:nvSpPr>
        <p:spPr>
          <a:xfrm>
            <a:off x="647640" y="585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未知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3220920" y="585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已知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2"/>
          <p:cNvSpPr/>
          <p:nvPr/>
        </p:nvSpPr>
        <p:spPr>
          <a:xfrm>
            <a:off x="2502000" y="6129360"/>
            <a:ext cx="809640" cy="90360"/>
          </a:xfrm>
          <a:prstGeom prst="rightArrow">
            <a:avLst>
              <a:gd name="adj1" fmla="val 50000"/>
              <a:gd name="adj2" fmla="val 224004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4"/>
          <p:cNvSpPr/>
          <p:nvPr/>
        </p:nvSpPr>
        <p:spPr>
          <a:xfrm>
            <a:off x="2502000" y="568008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转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1"/>
          <p:cNvSpPr/>
          <p:nvPr/>
        </p:nvSpPr>
        <p:spPr>
          <a:xfrm>
            <a:off x="2643120" y="3338640"/>
            <a:ext cx="539640" cy="115920"/>
          </a:xfrm>
          <a:prstGeom prst="rightArrow">
            <a:avLst>
              <a:gd name="adj1" fmla="val 50000"/>
              <a:gd name="adj2" fmla="val 116382"/>
            </a:avLst>
          </a:prstGeom>
          <a:solidFill>
            <a:srgbClr val="4f81bd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07"/>
          <p:cNvGrpSpPr/>
          <p:nvPr/>
        </p:nvGrpSpPr>
        <p:grpSpPr>
          <a:xfrm>
            <a:off x="5381640" y="2000160"/>
            <a:ext cx="3146040" cy="809640"/>
            <a:chOff x="5381640" y="2000160"/>
            <a:chExt cx="3146040" cy="809640"/>
          </a:xfrm>
        </p:grpSpPr>
        <p:sp>
          <p:nvSpPr>
            <p:cNvPr id="67" name="AutoShape 105"/>
            <p:cNvSpPr/>
            <p:nvPr/>
          </p:nvSpPr>
          <p:spPr>
            <a:xfrm>
              <a:off x="5381640" y="2000160"/>
              <a:ext cx="2938680" cy="80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06"/>
            <p:cNvSpPr/>
            <p:nvPr/>
          </p:nvSpPr>
          <p:spPr>
            <a:xfrm>
              <a:off x="5381640" y="2086920"/>
              <a:ext cx="31460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数乘法可以转化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整数乘法来计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AutoShape 117"/>
          <p:cNvSpPr/>
          <p:nvPr/>
        </p:nvSpPr>
        <p:spPr>
          <a:xfrm>
            <a:off x="2592360" y="4238640"/>
            <a:ext cx="539640" cy="115920"/>
          </a:xfrm>
          <a:prstGeom prst="rightArrow">
            <a:avLst>
              <a:gd name="adj1" fmla="val 50000"/>
              <a:gd name="adj2" fmla="val 116382"/>
            </a:avLst>
          </a:prstGeom>
          <a:solidFill>
            <a:srgbClr val="4f81bd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8"/>
          <p:cNvSpPr/>
          <p:nvPr/>
        </p:nvSpPr>
        <p:spPr>
          <a:xfrm>
            <a:off x="2577960" y="5178600"/>
            <a:ext cx="540000" cy="115560"/>
          </a:xfrm>
          <a:prstGeom prst="rightArrow">
            <a:avLst>
              <a:gd name="adj1" fmla="val 50000"/>
              <a:gd name="adj2" fmla="val 116822"/>
            </a:avLst>
          </a:prstGeom>
          <a:solidFill>
            <a:srgbClr val="4f81bd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1"/>
          <p:cNvGrpSpPr/>
          <p:nvPr/>
        </p:nvGrpSpPr>
        <p:grpSpPr>
          <a:xfrm>
            <a:off x="5381640" y="3952800"/>
            <a:ext cx="2881440" cy="826920"/>
            <a:chOff x="5381640" y="3952800"/>
            <a:chExt cx="2881440" cy="826920"/>
          </a:xfrm>
        </p:grpSpPr>
        <p:sp>
          <p:nvSpPr>
            <p:cNvPr id="72" name="AutoShape 119"/>
            <p:cNvSpPr/>
            <p:nvPr/>
          </p:nvSpPr>
          <p:spPr>
            <a:xfrm>
              <a:off x="5383080" y="3970440"/>
              <a:ext cx="2880000" cy="809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20"/>
            <p:cNvSpPr/>
            <p:nvPr/>
          </p:nvSpPr>
          <p:spPr>
            <a:xfrm>
              <a:off x="5381640" y="3952800"/>
              <a:ext cx="259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异分母分数加法可以转化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44"/>
          <p:cNvGrpSpPr/>
          <p:nvPr/>
        </p:nvGrpSpPr>
        <p:grpSpPr>
          <a:xfrm>
            <a:off x="5381640" y="4959360"/>
            <a:ext cx="3150720" cy="630360"/>
            <a:chOff x="5381640" y="4959360"/>
            <a:chExt cx="3150720" cy="630360"/>
          </a:xfrm>
        </p:grpSpPr>
        <p:grpSp>
          <p:nvGrpSpPr>
            <p:cNvPr id="75" name="Group 114"/>
            <p:cNvGrpSpPr/>
            <p:nvPr/>
          </p:nvGrpSpPr>
          <p:grpSpPr>
            <a:xfrm>
              <a:off x="5381640" y="4959360"/>
              <a:ext cx="3150720" cy="630360"/>
              <a:chOff x="5381640" y="4959360"/>
              <a:chExt cx="3150720" cy="630360"/>
            </a:xfrm>
          </p:grpSpPr>
          <p:sp>
            <p:nvSpPr>
              <p:cNvPr id="76" name="AutoShape 115"/>
              <p:cNvSpPr/>
              <p:nvPr/>
            </p:nvSpPr>
            <p:spPr>
              <a:xfrm>
                <a:off x="5381640" y="4959360"/>
                <a:ext cx="2856960" cy="63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116"/>
              <p:cNvSpPr/>
              <p:nvPr/>
            </p:nvSpPr>
            <p:spPr>
              <a:xfrm>
                <a:off x="5473800" y="5011920"/>
                <a:ext cx="3058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 Box 122"/>
            <p:cNvSpPr/>
            <p:nvPr/>
          </p:nvSpPr>
          <p:spPr>
            <a:xfrm>
              <a:off x="5613480" y="5070600"/>
              <a:ext cx="23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395280" y="1247760"/>
            <a:ext cx="162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应用与反思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1596600" y="360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知道爱迪生是怎样做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880920" y="4329000"/>
            <a:ext cx="765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把灯泡浸没在装有水的规则的容器里，把求灯泡的体积转化成求水的体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701640" y="1247760"/>
            <a:ext cx="801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，爱迪生请他的助手阿普顿帮忙测一只灯泡的容积。阿普顿看着梨形的灯泡，想了好久。画出了一条条复杂的曲线，测量了一个个数据，列了许多道算式，算来算去还没有个结果。爱迪生见他算得满头大汗，于是走上前去帮忙。不到一分钟的时间，爱迪生就解决了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520560" y="1413000"/>
            <a:ext cx="360360" cy="369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258920" y="1268280"/>
            <a:ext cx="74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880920" y="1139760"/>
            <a:ext cx="765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学习哪些知识时还用到了转化的方法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919080" y="2438280"/>
            <a:ext cx="431640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推导平面图形的面积计算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19080" y="3186000"/>
            <a:ext cx="431640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推导立体图形的体积计算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919080" y="3933720"/>
            <a:ext cx="431640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919080" y="4681440"/>
            <a:ext cx="431640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求不规则物体的体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3203640" y="2017800"/>
            <a:ext cx="2697120" cy="1258920"/>
            <a:chOff x="3203640" y="2017800"/>
            <a:chExt cx="2697120" cy="1258920"/>
          </a:xfrm>
        </p:grpSpPr>
        <p:sp>
          <p:nvSpPr>
            <p:cNvPr id="89" name="AutoShape 3"/>
            <p:cNvSpPr/>
            <p:nvPr/>
          </p:nvSpPr>
          <p:spPr>
            <a:xfrm>
              <a:off x="3203640" y="2017800"/>
              <a:ext cx="2697120" cy="1258920"/>
            </a:xfrm>
            <a:prstGeom prst="parallelogram">
              <a:avLst>
                <a:gd name="adj" fmla="val 53560"/>
              </a:avLst>
            </a:prstGeom>
            <a:solidFill>
              <a:srgbClr val="9ce5f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 flipH="1">
              <a:off x="3203640" y="2017800"/>
              <a:ext cx="674640" cy="12567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4"/>
          <p:cNvSpPr/>
          <p:nvPr/>
        </p:nvSpPr>
        <p:spPr>
          <a:xfrm>
            <a:off x="539640" y="539640"/>
            <a:ext cx="669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3222360" y="2014560"/>
            <a:ext cx="679320" cy="126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3203640" y="3273480"/>
            <a:ext cx="690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 flipH="1">
            <a:off x="3225960" y="2033640"/>
            <a:ext cx="669600" cy="1241280"/>
          </a:xfrm>
          <a:prstGeom prst="rtTriangle">
            <a:avLst/>
          </a:prstGeom>
          <a:solidFill>
            <a:srgbClr val="9ce5f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034880" y="311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3902040" y="2030400"/>
            <a:ext cx="0" cy="1235160"/>
          </a:xfrm>
          <a:prstGeom prst="line">
            <a:avLst/>
          </a:prstGeom>
          <a:ln w="38160">
            <a:solidFill>
              <a:srgbClr val="9ce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3230640" y="2014560"/>
            <a:ext cx="673200" cy="1244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917520" y="2390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895560" y="2017800"/>
            <a:ext cx="0" cy="125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31640" y="1262160"/>
            <a:ext cx="93618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推导平行四边形面积公式时，用到了转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3203640" y="2021040"/>
            <a:ext cx="2697120" cy="1258560"/>
            <a:chOff x="3203640" y="2021040"/>
            <a:chExt cx="2697120" cy="1258560"/>
          </a:xfrm>
        </p:grpSpPr>
        <p:sp>
          <p:nvSpPr>
            <p:cNvPr id="103" name="AutoShape 3"/>
            <p:cNvSpPr/>
            <p:nvPr/>
          </p:nvSpPr>
          <p:spPr>
            <a:xfrm>
              <a:off x="3203640" y="2021040"/>
              <a:ext cx="2697120" cy="1258560"/>
            </a:xfrm>
            <a:prstGeom prst="parallelogram">
              <a:avLst>
                <a:gd name="adj" fmla="val 53576"/>
              </a:avLst>
            </a:prstGeom>
            <a:solidFill>
              <a:srgbClr val="9ce5f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4"/>
            <p:cNvSpPr/>
            <p:nvPr/>
          </p:nvSpPr>
          <p:spPr>
            <a:xfrm flipH="1">
              <a:off x="3203640" y="2021040"/>
              <a:ext cx="674640" cy="125640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4"/>
          <p:cNvSpPr/>
          <p:nvPr/>
        </p:nvSpPr>
        <p:spPr>
          <a:xfrm>
            <a:off x="539640" y="539640"/>
            <a:ext cx="669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749920" y="562140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S=ɑ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3225600" y="2017800"/>
            <a:ext cx="679320" cy="126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 flipH="1">
            <a:off x="3203640" y="3276720"/>
            <a:ext cx="690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 flipH="1">
            <a:off x="3218760" y="2036880"/>
            <a:ext cx="669960" cy="1241280"/>
          </a:xfrm>
          <a:prstGeom prst="rtTriangle">
            <a:avLst/>
          </a:prstGeom>
          <a:solidFill>
            <a:srgbClr val="9ce5f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034880" y="312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917520" y="2394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4281480" y="439416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4"/>
          <p:cNvGrpSpPr/>
          <p:nvPr/>
        </p:nvGrpSpPr>
        <p:grpSpPr>
          <a:xfrm>
            <a:off x="5289480" y="3817800"/>
            <a:ext cx="2359440" cy="1632960"/>
            <a:chOff x="5289480" y="3817800"/>
            <a:chExt cx="2359440" cy="1632960"/>
          </a:xfrm>
        </p:grpSpPr>
        <p:sp>
          <p:nvSpPr>
            <p:cNvPr id="115" name="Text Box 15"/>
            <p:cNvSpPr/>
            <p:nvPr/>
          </p:nvSpPr>
          <p:spPr>
            <a:xfrm>
              <a:off x="6090480" y="4991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5289480" y="3817800"/>
              <a:ext cx="2001960" cy="1265400"/>
            </a:xfrm>
            <a:prstGeom prst="rect">
              <a:avLst/>
            </a:prstGeom>
            <a:solidFill>
              <a:srgbClr val="9ce5f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7315920" y="4251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18"/>
          <p:cNvSpPr/>
          <p:nvPr/>
        </p:nvSpPr>
        <p:spPr>
          <a:xfrm flipH="1">
            <a:off x="4284720" y="568008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1817640" y="5646600"/>
            <a:ext cx="1584360" cy="423000"/>
          </a:xfrm>
          <a:prstGeom prst="rect">
            <a:avLst/>
          </a:prstGeom>
          <a:solidFill>
            <a:srgbClr val="ff66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3895560" y="2033640"/>
            <a:ext cx="0" cy="1235160"/>
          </a:xfrm>
          <a:prstGeom prst="line">
            <a:avLst/>
          </a:prstGeom>
          <a:ln w="38160">
            <a:solidFill>
              <a:srgbClr val="9ce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3884760" y="2021040"/>
            <a:ext cx="0" cy="1258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2"/>
          <p:cNvGrpSpPr/>
          <p:nvPr/>
        </p:nvGrpSpPr>
        <p:grpSpPr>
          <a:xfrm>
            <a:off x="1258920" y="3817800"/>
            <a:ext cx="2695680" cy="1631160"/>
            <a:chOff x="1258920" y="3817800"/>
            <a:chExt cx="2695680" cy="1631160"/>
          </a:xfrm>
        </p:grpSpPr>
        <p:sp>
          <p:nvSpPr>
            <p:cNvPr id="123" name="AutoShape 23"/>
            <p:cNvSpPr/>
            <p:nvPr/>
          </p:nvSpPr>
          <p:spPr>
            <a:xfrm>
              <a:off x="1258920" y="3817800"/>
              <a:ext cx="2695680" cy="1258920"/>
            </a:xfrm>
            <a:prstGeom prst="parallelogram">
              <a:avLst>
                <a:gd name="adj" fmla="val 53532"/>
              </a:avLst>
            </a:prstGeom>
            <a:solidFill>
              <a:srgbClr val="9ce5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1935360" y="3817800"/>
              <a:ext cx="0" cy="1258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2059920" y="4989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6"/>
            <p:cNvSpPr/>
            <p:nvPr/>
          </p:nvSpPr>
          <p:spPr>
            <a:xfrm>
              <a:off x="1972800" y="417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27"/>
          <p:cNvSpPr/>
          <p:nvPr/>
        </p:nvSpPr>
        <p:spPr>
          <a:xfrm>
            <a:off x="4263840" y="389088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转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0093 L -0.04619 0.00093 E">
                                      <p:cBhvr>
                                        <p:cTn id="14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9 0.00046 L 0.22013 0.00046 E">
                                      <p:cBhvr>
                                        <p:cTn id="14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503360" y="1935000"/>
            <a:ext cx="3247920" cy="2516040"/>
            <a:chOff x="1503360" y="1935000"/>
            <a:chExt cx="3247920" cy="2516040"/>
          </a:xfrm>
        </p:grpSpPr>
        <p:sp>
          <p:nvSpPr>
            <p:cNvPr id="131" name="AutoShape 5"/>
            <p:cNvSpPr/>
            <p:nvPr/>
          </p:nvSpPr>
          <p:spPr>
            <a:xfrm>
              <a:off x="3132000" y="1935000"/>
              <a:ext cx="1619280" cy="1258920"/>
            </a:xfrm>
            <a:prstGeom prst="triangle">
              <a:avLst>
                <a:gd name="adj" fmla="val 32500"/>
              </a:avLst>
            </a:prstGeom>
            <a:solidFill>
              <a:srgbClr val="cef3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 flipH="1" flipV="1">
              <a:off x="1503360" y="3192480"/>
              <a:ext cx="1619280" cy="1258560"/>
            </a:xfrm>
            <a:prstGeom prst="triangle">
              <a:avLst>
                <a:gd name="adj" fmla="val 3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AutoShape 7"/>
          <p:cNvSpPr/>
          <p:nvPr/>
        </p:nvSpPr>
        <p:spPr>
          <a:xfrm>
            <a:off x="3132000" y="1935000"/>
            <a:ext cx="1619280" cy="1258920"/>
          </a:xfrm>
          <a:prstGeom prst="triangle">
            <a:avLst>
              <a:gd name="adj" fmla="val 32500"/>
            </a:avLst>
          </a:prstGeom>
          <a:solidFill>
            <a:srgbClr val="9ce5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618000" y="303228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3660840" y="1935000"/>
            <a:ext cx="0" cy="1258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62880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2058840" y="3998880"/>
            <a:ext cx="1619280" cy="1650240"/>
            <a:chOff x="2058840" y="3998880"/>
            <a:chExt cx="1619280" cy="1650240"/>
          </a:xfrm>
        </p:grpSpPr>
        <p:sp>
          <p:nvSpPr>
            <p:cNvPr id="138" name="AutoShape 12"/>
            <p:cNvSpPr/>
            <p:nvPr/>
          </p:nvSpPr>
          <p:spPr>
            <a:xfrm>
              <a:off x="2058840" y="3998880"/>
              <a:ext cx="1619280" cy="1258920"/>
            </a:xfrm>
            <a:prstGeom prst="triangle">
              <a:avLst>
                <a:gd name="adj" fmla="val 32500"/>
              </a:avLst>
            </a:prstGeom>
            <a:solidFill>
              <a:srgbClr val="9ce5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3"/>
            <p:cNvSpPr/>
            <p:nvPr/>
          </p:nvSpPr>
          <p:spPr>
            <a:xfrm>
              <a:off x="2493000" y="518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2628360" y="450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2585880" y="401328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6"/>
          <p:cNvGrpSpPr/>
          <p:nvPr/>
        </p:nvGrpSpPr>
        <p:grpSpPr>
          <a:xfrm>
            <a:off x="5386320" y="3998520"/>
            <a:ext cx="2138400" cy="1650600"/>
            <a:chOff x="5386320" y="3998520"/>
            <a:chExt cx="2138400" cy="1650600"/>
          </a:xfrm>
        </p:grpSpPr>
        <p:sp>
          <p:nvSpPr>
            <p:cNvPr id="143" name="AutoShape 17"/>
            <p:cNvSpPr/>
            <p:nvPr/>
          </p:nvSpPr>
          <p:spPr>
            <a:xfrm rot="10800000">
              <a:off x="5905440" y="3998520"/>
              <a:ext cx="1619280" cy="1258920"/>
            </a:xfrm>
            <a:prstGeom prst="triangle">
              <a:avLst>
                <a:gd name="adj" fmla="val 3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8"/>
            <p:cNvSpPr/>
            <p:nvPr/>
          </p:nvSpPr>
          <p:spPr>
            <a:xfrm>
              <a:off x="5386320" y="3998880"/>
              <a:ext cx="1619280" cy="1258920"/>
            </a:xfrm>
            <a:prstGeom prst="triangle">
              <a:avLst>
                <a:gd name="adj" fmla="val 32500"/>
              </a:avLst>
            </a:prstGeom>
            <a:solidFill>
              <a:srgbClr val="9ce5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5916600" y="4011480"/>
              <a:ext cx="0" cy="124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0"/>
            <p:cNvSpPr/>
            <p:nvPr/>
          </p:nvSpPr>
          <p:spPr>
            <a:xfrm>
              <a:off x="5733360" y="518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1"/>
            <p:cNvSpPr/>
            <p:nvPr/>
          </p:nvSpPr>
          <p:spPr>
            <a:xfrm>
              <a:off x="5868720" y="450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22"/>
          <p:cNvSpPr/>
          <p:nvPr/>
        </p:nvSpPr>
        <p:spPr>
          <a:xfrm>
            <a:off x="4281480" y="467028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5896080" y="582624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S=ɑ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4"/>
          <p:cNvSpPr/>
          <p:nvPr/>
        </p:nvSpPr>
        <p:spPr>
          <a:xfrm flipH="1">
            <a:off x="4284720" y="596736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1962000" y="5845320"/>
            <a:ext cx="1800360" cy="459720"/>
          </a:xfrm>
          <a:prstGeom prst="rect">
            <a:avLst/>
          </a:prstGeom>
          <a:solidFill>
            <a:srgbClr val="ff66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S=ɑ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4263840" y="416736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转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431640" y="1268280"/>
            <a:ext cx="87123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推导三角形面积公式时，用到了转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046 L 0.17796 0.00046 E">
                                      <p:cBhvr>
                                        <p:cTn id="20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96 0.00138 L 0.35487 0.00138 E">
                                      <p:cBhvr>
                                        <p:cTn id="20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09 0.00231 L 0.23386 -0.18149 E">
                                      <p:cBhvr>
                                        <p:cTn id="20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1692360" y="2022120"/>
            <a:ext cx="3236760" cy="2519640"/>
            <a:chOff x="1692360" y="2022120"/>
            <a:chExt cx="3236760" cy="2519640"/>
          </a:xfrm>
        </p:grpSpPr>
        <p:sp>
          <p:nvSpPr>
            <p:cNvPr id="155" name="AutoShape 3"/>
            <p:cNvSpPr/>
            <p:nvPr/>
          </p:nvSpPr>
          <p:spPr>
            <a:xfrm flipV="1">
              <a:off x="3310200" y="2021760"/>
              <a:ext cx="1618920" cy="1258920"/>
            </a:xfrm>
            <a:custGeom>
              <a:avLst/>
              <a:gdLst>
                <a:gd name="textAreaLeft" fmla="*/ 303120 w 1618920"/>
                <a:gd name="textAreaRight" fmla="*/ 1315800 w 1618920"/>
                <a:gd name="textAreaTop" fmla="*/ 236520 h 1258920"/>
                <a:gd name="textAreaBottom" fmla="*/ 102240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510" y="21600"/>
                  </a:lnTo>
                  <a:lnTo>
                    <a:pt x="170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f3f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"/>
            <p:cNvSpPr/>
            <p:nvPr/>
          </p:nvSpPr>
          <p:spPr>
            <a:xfrm flipH="1">
              <a:off x="1692360" y="3282840"/>
              <a:ext cx="1619280" cy="1258920"/>
            </a:xfrm>
            <a:custGeom>
              <a:avLst/>
              <a:gdLst>
                <a:gd name="textAreaLeft" fmla="*/ 303120 w 1619280"/>
                <a:gd name="textAreaRight" fmla="*/ 1316160 w 1619280"/>
                <a:gd name="textAreaTop" fmla="*/ 236520 h 1258920"/>
                <a:gd name="textAreaBottom" fmla="*/ 102240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510" y="21600"/>
                  </a:lnTo>
                  <a:lnTo>
                    <a:pt x="170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AutoShape 5"/>
          <p:cNvSpPr/>
          <p:nvPr/>
        </p:nvSpPr>
        <p:spPr>
          <a:xfrm flipV="1">
            <a:off x="3313080" y="2021760"/>
            <a:ext cx="1619280" cy="1258920"/>
          </a:xfrm>
          <a:custGeom>
            <a:avLst/>
            <a:gdLst>
              <a:gd name="textAreaLeft" fmla="*/ 303840 w 1619280"/>
              <a:gd name="textAreaRight" fmla="*/ 1315440 w 1619280"/>
              <a:gd name="textAreaTop" fmla="*/ 236160 h 1258920"/>
              <a:gd name="textAreaBottom" fmla="*/ 10227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510" y="21600"/>
                </a:lnTo>
                <a:lnTo>
                  <a:pt x="1709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ce5f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853800" y="159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660840" y="2035080"/>
            <a:ext cx="0" cy="1258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628800" y="261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998160" y="340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1258920" y="3543480"/>
            <a:ext cx="1619280" cy="2142000"/>
            <a:chOff x="1258920" y="3543480"/>
            <a:chExt cx="1619280" cy="2142000"/>
          </a:xfrm>
        </p:grpSpPr>
        <p:sp>
          <p:nvSpPr>
            <p:cNvPr id="163" name="AutoShape 11"/>
            <p:cNvSpPr/>
            <p:nvPr/>
          </p:nvSpPr>
          <p:spPr>
            <a:xfrm flipV="1">
              <a:off x="1258920" y="3966840"/>
              <a:ext cx="1619280" cy="1258560"/>
            </a:xfrm>
            <a:custGeom>
              <a:avLst/>
              <a:gdLst>
                <a:gd name="textAreaLeft" fmla="*/ 303120 w 1619280"/>
                <a:gd name="textAreaRight" fmla="*/ 1316160 w 1619280"/>
                <a:gd name="textAreaTop" fmla="*/ 236520 h 1258560"/>
                <a:gd name="textAreaBottom" fmla="*/ 1022040 h 12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510" y="21600"/>
                  </a:lnTo>
                  <a:lnTo>
                    <a:pt x="170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e5f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2"/>
            <p:cNvSpPr/>
            <p:nvPr/>
          </p:nvSpPr>
          <p:spPr>
            <a:xfrm>
              <a:off x="1797840" y="3543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1606680" y="3979800"/>
              <a:ext cx="0" cy="1258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1574280" y="455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5"/>
            <p:cNvSpPr/>
            <p:nvPr/>
          </p:nvSpPr>
          <p:spPr>
            <a:xfrm>
              <a:off x="1797840" y="522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6"/>
          <p:cNvGrpSpPr/>
          <p:nvPr/>
        </p:nvGrpSpPr>
        <p:grpSpPr>
          <a:xfrm>
            <a:off x="5148360" y="3543480"/>
            <a:ext cx="2899440" cy="2237760"/>
            <a:chOff x="5148360" y="3543480"/>
            <a:chExt cx="2899440" cy="2237760"/>
          </a:xfrm>
        </p:grpSpPr>
        <p:sp>
          <p:nvSpPr>
            <p:cNvPr id="169" name="AutoShape 17"/>
            <p:cNvSpPr/>
            <p:nvPr/>
          </p:nvSpPr>
          <p:spPr>
            <a:xfrm flipV="1" rot="10800000">
              <a:off x="6428880" y="3936240"/>
              <a:ext cx="1618920" cy="1258920"/>
            </a:xfrm>
            <a:custGeom>
              <a:avLst/>
              <a:gdLst>
                <a:gd name="textAreaLeft" fmla="*/ 303120 w 1618920"/>
                <a:gd name="textAreaRight" fmla="*/ 1315800 w 1618920"/>
                <a:gd name="textAreaTop" fmla="*/ 236520 h 1258920"/>
                <a:gd name="textAreaBottom" fmla="*/ 102240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510" y="21600"/>
                  </a:lnTo>
                  <a:lnTo>
                    <a:pt x="170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8"/>
            <p:cNvGrpSpPr/>
            <p:nvPr/>
          </p:nvGrpSpPr>
          <p:grpSpPr>
            <a:xfrm>
              <a:off x="5148360" y="3543480"/>
              <a:ext cx="1618920" cy="2237760"/>
              <a:chOff x="5148360" y="3543480"/>
              <a:chExt cx="1618920" cy="2237760"/>
            </a:xfrm>
          </p:grpSpPr>
          <p:sp>
            <p:nvSpPr>
              <p:cNvPr id="171" name="AutoShape 19"/>
              <p:cNvSpPr/>
              <p:nvPr/>
            </p:nvSpPr>
            <p:spPr>
              <a:xfrm flipV="1">
                <a:off x="5148360" y="3939480"/>
                <a:ext cx="1618920" cy="1258920"/>
              </a:xfrm>
              <a:custGeom>
                <a:avLst/>
                <a:gdLst>
                  <a:gd name="textAreaLeft" fmla="*/ 303120 w 1618920"/>
                  <a:gd name="textAreaRight" fmla="*/ 1315800 w 1618920"/>
                  <a:gd name="textAreaTop" fmla="*/ 236520 h 1258920"/>
                  <a:gd name="textAreaBottom" fmla="*/ 1022400 h 125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510" y="21600"/>
                    </a:lnTo>
                    <a:lnTo>
                      <a:pt x="1709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e5f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20"/>
              <p:cNvSpPr/>
              <p:nvPr/>
            </p:nvSpPr>
            <p:spPr>
              <a:xfrm>
                <a:off x="5686920" y="3543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21"/>
              <p:cNvSpPr/>
              <p:nvPr/>
            </p:nvSpPr>
            <p:spPr>
              <a:xfrm>
                <a:off x="5495760" y="3953160"/>
                <a:ext cx="0" cy="12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22"/>
              <p:cNvSpPr/>
              <p:nvPr/>
            </p:nvSpPr>
            <p:spPr>
              <a:xfrm>
                <a:off x="5463360" y="4529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5831280" y="532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AutoShape 24"/>
          <p:cNvSpPr/>
          <p:nvPr/>
        </p:nvSpPr>
        <p:spPr>
          <a:xfrm>
            <a:off x="3776760" y="4554360"/>
            <a:ext cx="503280" cy="360720"/>
          </a:xfrm>
          <a:prstGeom prst="rightArrow">
            <a:avLst>
              <a:gd name="adj1" fmla="val 50000"/>
              <a:gd name="adj2" fmla="val 348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3758760" y="405144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转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5896440" y="5710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=ɑ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7"/>
          <p:cNvSpPr/>
          <p:nvPr/>
        </p:nvSpPr>
        <p:spPr>
          <a:xfrm flipH="1">
            <a:off x="3779280" y="5851440"/>
            <a:ext cx="502920" cy="360360"/>
          </a:xfrm>
          <a:prstGeom prst="rightArrow">
            <a:avLst>
              <a:gd name="adj1" fmla="val 50000"/>
              <a:gd name="adj2" fmla="val 348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1266480" y="5735520"/>
            <a:ext cx="1771920" cy="459720"/>
          </a:xfrm>
          <a:prstGeom prst="rect">
            <a:avLst/>
          </a:prstGeom>
          <a:solidFill>
            <a:srgbClr val="ff66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÷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31640" y="1255680"/>
            <a:ext cx="63010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推导梯形面积公式时，用到了转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17743 -2.22222E-006 E">
                                      <p:cBhvr>
                                        <p:cTn id="26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6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43 -2.22222E-006 L 0.35573 -2.22222E-006 E">
                                      <p:cBhvr>
                                        <p:cTn id="26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73 3.7037E-006 L 0.31823 -0.18334 E">
                                      <p:cBhvr>
                                        <p:cTn id="27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59320" y="2332080"/>
            <a:ext cx="1990440" cy="861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3564000" y="3193920"/>
            <a:ext cx="1836720" cy="898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7" descr="df"/>
          <p:cNvPicPr/>
          <p:nvPr/>
        </p:nvPicPr>
        <p:blipFill>
          <a:blip r:embed="rId3"/>
          <a:stretch/>
        </p:blipFill>
        <p:spPr>
          <a:xfrm>
            <a:off x="3348000" y="1593720"/>
            <a:ext cx="2806560" cy="10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8" descr="rgf"/>
          <p:cNvPicPr/>
          <p:nvPr/>
        </p:nvPicPr>
        <p:blipFill>
          <a:blip r:embed="rId4"/>
          <a:stretch/>
        </p:blipFill>
        <p:spPr>
          <a:xfrm>
            <a:off x="3263760" y="3876840"/>
            <a:ext cx="280692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91"/>
          <p:cNvGrpSpPr/>
          <p:nvPr/>
        </p:nvGrpSpPr>
        <p:grpSpPr>
          <a:xfrm>
            <a:off x="1403280" y="4113360"/>
            <a:ext cx="1642680" cy="1655280"/>
            <a:chOff x="1403280" y="4113360"/>
            <a:chExt cx="1642680" cy="1655280"/>
          </a:xfrm>
        </p:grpSpPr>
        <p:sp>
          <p:nvSpPr>
            <p:cNvPr id="188" name="Oval 92"/>
            <p:cNvSpPr/>
            <p:nvPr/>
          </p:nvSpPr>
          <p:spPr>
            <a:xfrm>
              <a:off x="1403280" y="4113360"/>
              <a:ext cx="1642680" cy="1655280"/>
            </a:xfrm>
            <a:prstGeom prst="ellipse">
              <a:avLst/>
            </a:prstGeom>
            <a:solidFill>
              <a:srgbClr val="9ce5f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93"/>
            <p:cNvSpPr/>
            <p:nvPr/>
          </p:nvSpPr>
          <p:spPr>
            <a:xfrm>
              <a:off x="2189520" y="4900320"/>
              <a:ext cx="7560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 flipV="1">
              <a:off x="2265120" y="4505760"/>
              <a:ext cx="625680" cy="3942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5"/>
            <p:cNvSpPr/>
            <p:nvPr/>
          </p:nvSpPr>
          <p:spPr>
            <a:xfrm>
              <a:off x="2197800" y="433908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楷体_GB2312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11"/>
          <p:cNvSpPr/>
          <p:nvPr/>
        </p:nvSpPr>
        <p:spPr>
          <a:xfrm>
            <a:off x="4064040" y="483408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4046040" y="433080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转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3"/>
          <p:cNvGrpSpPr/>
          <p:nvPr/>
        </p:nvGrpSpPr>
        <p:grpSpPr>
          <a:xfrm>
            <a:off x="5286600" y="4522320"/>
            <a:ext cx="3115440" cy="935640"/>
            <a:chOff x="5286600" y="4522320"/>
            <a:chExt cx="3115440" cy="935640"/>
          </a:xfrm>
        </p:grpSpPr>
        <p:sp>
          <p:nvSpPr>
            <p:cNvPr id="195" name="Text Box 14"/>
            <p:cNvSpPr/>
            <p:nvPr/>
          </p:nvSpPr>
          <p:spPr>
            <a:xfrm>
              <a:off x="8102520" y="4737240"/>
              <a:ext cx="299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5"/>
            <p:cNvGrpSpPr/>
            <p:nvPr/>
          </p:nvGrpSpPr>
          <p:grpSpPr>
            <a:xfrm>
              <a:off x="5286600" y="4522320"/>
              <a:ext cx="2924640" cy="935640"/>
              <a:chOff x="5286600" y="4522320"/>
              <a:chExt cx="2924640" cy="935640"/>
            </a:xfrm>
          </p:grpSpPr>
          <p:sp>
            <p:nvSpPr>
              <p:cNvPr id="197" name="Arc 16"/>
              <p:cNvSpPr/>
              <p:nvPr/>
            </p:nvSpPr>
            <p:spPr>
              <a:xfrm rot="20940000">
                <a:off x="6983280" y="4551120"/>
                <a:ext cx="317520" cy="81756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fill="none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</a:path>
                  <a:path stroke="0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  <a:lnTo>
                      <a:pt x="0" y="2160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66"/>
              </a:solidFill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rc 17"/>
              <p:cNvSpPr/>
              <p:nvPr/>
            </p:nvSpPr>
            <p:spPr>
              <a:xfrm rot="20940000">
                <a:off x="6660720" y="4544640"/>
                <a:ext cx="317520" cy="81900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819000"/>
                  <a:gd name="textAreaBottom" fmla="*/ 819360 h 819000"/>
                </a:gdLst>
                <a:ahLst/>
                <a:rect l="textAreaLeft" t="textAreaTop" r="textAreaRight" b="textAreaBottom"/>
                <a:pathLst>
                  <a:path fill="none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</a:path>
                  <a:path stroke="0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  <a:lnTo>
                      <a:pt x="0" y="2160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66"/>
              </a:solidFill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rc 18"/>
              <p:cNvSpPr/>
              <p:nvPr/>
            </p:nvSpPr>
            <p:spPr>
              <a:xfrm rot="20940000">
                <a:off x="7308720" y="4554000"/>
                <a:ext cx="318960" cy="819360"/>
              </a:xfrm>
              <a:custGeom>
                <a:avLst/>
                <a:gdLst>
                  <a:gd name="textAreaLeft" fmla="*/ 0 w 318960"/>
                  <a:gd name="textAreaRight" fmla="*/ 319320 w 318960"/>
                  <a:gd name="textAreaTop" fmla="*/ 0 h 819360"/>
                  <a:gd name="textAreaBottom" fmla="*/ 819720 h 819360"/>
                </a:gdLst>
                <a:ahLst/>
                <a:rect l="textAreaLeft" t="textAreaTop" r="textAreaRight" b="textAreaBottom"/>
                <a:pathLst>
                  <a:path fill="none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</a:path>
                  <a:path stroke="0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  <a:lnTo>
                      <a:pt x="0" y="2160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66"/>
              </a:solidFill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rc 19"/>
              <p:cNvSpPr/>
              <p:nvPr/>
            </p:nvSpPr>
            <p:spPr>
              <a:xfrm rot="20940000">
                <a:off x="7637400" y="4557240"/>
                <a:ext cx="317520" cy="81936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819360"/>
                  <a:gd name="textAreaBottom" fmla="*/ 819720 h 819360"/>
                </a:gdLst>
                <a:ahLst/>
                <a:rect l="textAreaLeft" t="textAreaTop" r="textAreaRight" b="textAreaBottom"/>
                <a:pathLst>
                  <a:path fill="none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</a:path>
                  <a:path stroke="0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  <a:lnTo>
                      <a:pt x="0" y="2160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66"/>
              </a:solidFill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20"/>
              <p:cNvSpPr/>
              <p:nvPr/>
            </p:nvSpPr>
            <p:spPr>
              <a:xfrm flipH="1" rot="660000">
                <a:off x="5870160" y="4546440"/>
                <a:ext cx="317520" cy="819360"/>
              </a:xfrm>
              <a:custGeom>
                <a:avLst/>
                <a:gdLst>
                  <a:gd name="textAreaLeft" fmla="*/ 360 w 317520"/>
                  <a:gd name="textAreaRight" fmla="*/ 318240 w 317520"/>
                  <a:gd name="textAreaTop" fmla="*/ 0 h 819360"/>
                  <a:gd name="textAreaBottom" fmla="*/ 819720 h 819360"/>
                </a:gdLst>
                <a:ahLst/>
                <a:rect l="textAreaLeft" t="textAreaTop" r="textAreaRight" b="textAreaBottom"/>
                <a:pathLst>
                  <a:path fill="none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</a:path>
                  <a:path stroke="0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  <a:lnTo>
                      <a:pt x="0" y="2160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66"/>
              </a:solidFill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rc 21"/>
              <p:cNvSpPr/>
              <p:nvPr/>
            </p:nvSpPr>
            <p:spPr>
              <a:xfrm flipH="1" rot="660000">
                <a:off x="6193440" y="4546440"/>
                <a:ext cx="317520" cy="817560"/>
              </a:xfrm>
              <a:custGeom>
                <a:avLst/>
                <a:gdLst>
                  <a:gd name="textAreaLeft" fmla="*/ 360 w 317520"/>
                  <a:gd name="textAreaRight" fmla="*/ 318240 w 31752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fill="none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</a:path>
                  <a:path stroke="0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  <a:lnTo>
                      <a:pt x="0" y="2160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66"/>
              </a:solidFill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rc 22"/>
              <p:cNvSpPr/>
              <p:nvPr/>
            </p:nvSpPr>
            <p:spPr>
              <a:xfrm flipH="1" rot="660000">
                <a:off x="5544360" y="4551480"/>
                <a:ext cx="317520" cy="817560"/>
              </a:xfrm>
              <a:custGeom>
                <a:avLst/>
                <a:gdLst>
                  <a:gd name="textAreaLeft" fmla="*/ 360 w 317520"/>
                  <a:gd name="textAreaRight" fmla="*/ 318240 w 31752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fill="none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</a:path>
                  <a:path stroke="0" w="8551" h="21600">
                    <a:moveTo>
                      <a:pt x="27" y="0"/>
                    </a:moveTo>
                    <a:cubicBezTo>
                      <a:pt x="2959" y="3"/>
                      <a:pt x="5859" y="604"/>
                      <a:pt x="8551" y="1764"/>
                    </a:cubicBezTo>
                    <a:lnTo>
                      <a:pt x="0" y="2160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66"/>
              </a:solidFill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rc 23"/>
              <p:cNvSpPr/>
              <p:nvPr/>
            </p:nvSpPr>
            <p:spPr>
              <a:xfrm flipH="1" rot="660000">
                <a:off x="5363280" y="4570200"/>
                <a:ext cx="171360" cy="819000"/>
              </a:xfrm>
              <a:custGeom>
                <a:avLst/>
                <a:gdLst>
                  <a:gd name="textAreaLeft" fmla="*/ 360 w 171360"/>
                  <a:gd name="textAreaRight" fmla="*/ 172080 w 171360"/>
                  <a:gd name="textAreaTop" fmla="*/ 0 h 819000"/>
                  <a:gd name="textAreaBottom" fmla="*/ 819360 h 819000"/>
                </a:gdLst>
                <a:ahLst/>
                <a:rect l="textAreaLeft" t="textAreaTop" r="textAreaRight" b="textAreaBottom"/>
                <a:pathLst>
                  <a:path fill="none" w="4614" h="21600">
                    <a:moveTo>
                      <a:pt x="27" y="0"/>
                    </a:moveTo>
                    <a:cubicBezTo>
                      <a:pt x="1570" y="2"/>
                      <a:pt x="3107" y="169"/>
                      <a:pt x="4614" y="498"/>
                    </a:cubicBezTo>
                  </a:path>
                  <a:path stroke="0" w="4614" h="21600">
                    <a:moveTo>
                      <a:pt x="27" y="0"/>
                    </a:moveTo>
                    <a:cubicBezTo>
                      <a:pt x="1570" y="2"/>
                      <a:pt x="3107" y="169"/>
                      <a:pt x="4614" y="498"/>
                    </a:cubicBezTo>
                    <a:lnTo>
                      <a:pt x="0" y="2160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66"/>
              </a:solidFill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Group 24"/>
              <p:cNvGrpSpPr/>
              <p:nvPr/>
            </p:nvGrpSpPr>
            <p:grpSpPr>
              <a:xfrm>
                <a:off x="5308200" y="4581000"/>
                <a:ext cx="2885040" cy="876960"/>
                <a:chOff x="5308200" y="4581000"/>
                <a:chExt cx="2885040" cy="876960"/>
              </a:xfrm>
            </p:grpSpPr>
            <p:sp>
              <p:nvSpPr>
                <p:cNvPr id="206" name="Arc 25"/>
                <p:cNvSpPr/>
                <p:nvPr/>
              </p:nvSpPr>
              <p:spPr>
                <a:xfrm flipV="1" rot="660000">
                  <a:off x="7146720" y="4611240"/>
                  <a:ext cx="317880" cy="81864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360 h 818640"/>
                    <a:gd name="textAreaBottom" fmla="*/ 819360 h 818640"/>
                  </a:gdLst>
                  <a:ahLst/>
                  <a:rect l="textAreaLeft" t="textAreaTop" r="textAreaRight" b="textAreaBottom"/>
                  <a:pathLst>
                    <a:path fill="none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</a:path>
                    <a:path stroke="0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  <a:lnTo>
                        <a:pt x="0" y="2160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ce5fc"/>
                </a:solidFill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Arc 26"/>
                <p:cNvSpPr/>
                <p:nvPr/>
              </p:nvSpPr>
              <p:spPr>
                <a:xfrm flipV="1" rot="660000">
                  <a:off x="6823800" y="4616640"/>
                  <a:ext cx="317880" cy="81828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-360 h 818280"/>
                    <a:gd name="textAreaBottom" fmla="*/ 818280 h 818280"/>
                  </a:gdLst>
                  <a:ahLst/>
                  <a:rect l="textAreaLeft" t="textAreaTop" r="textAreaRight" b="textAreaBottom"/>
                  <a:pathLst>
                    <a:path fill="none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</a:path>
                    <a:path stroke="0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  <a:lnTo>
                        <a:pt x="0" y="2160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ce5fc"/>
                </a:solidFill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rc 27"/>
                <p:cNvSpPr/>
                <p:nvPr/>
              </p:nvSpPr>
              <p:spPr>
                <a:xfrm flipV="1" rot="660000">
                  <a:off x="7472520" y="4607280"/>
                  <a:ext cx="317880" cy="81828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-360 h 818280"/>
                    <a:gd name="textAreaBottom" fmla="*/ 818280 h 818280"/>
                  </a:gdLst>
                  <a:ahLst/>
                  <a:rect l="textAreaLeft" t="textAreaTop" r="textAreaRight" b="textAreaBottom"/>
                  <a:pathLst>
                    <a:path fill="none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</a:path>
                    <a:path stroke="0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  <a:lnTo>
                        <a:pt x="0" y="2160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ce5fc"/>
                </a:solidFill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rc 28"/>
                <p:cNvSpPr/>
                <p:nvPr/>
              </p:nvSpPr>
              <p:spPr>
                <a:xfrm flipV="1" rot="660000">
                  <a:off x="7800120" y="4603320"/>
                  <a:ext cx="317880" cy="818280"/>
                </a:xfrm>
                <a:custGeom>
                  <a:avLst/>
                  <a:gdLst>
                    <a:gd name="textAreaLeft" fmla="*/ 0 w 317880"/>
                    <a:gd name="textAreaRight" fmla="*/ 318240 w 317880"/>
                    <a:gd name="textAreaTop" fmla="*/ -360 h 818280"/>
                    <a:gd name="textAreaBottom" fmla="*/ 818280 h 818280"/>
                  </a:gdLst>
                  <a:ahLst/>
                  <a:rect l="textAreaLeft" t="textAreaTop" r="textAreaRight" b="textAreaBottom"/>
                  <a:pathLst>
                    <a:path fill="none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</a:path>
                    <a:path stroke="0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  <a:lnTo>
                        <a:pt x="0" y="2160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ce5fc"/>
                </a:solidFill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Arc 29"/>
                <p:cNvSpPr/>
                <p:nvPr/>
              </p:nvSpPr>
              <p:spPr>
                <a:xfrm flipH="1" flipV="1" rot="20940000">
                  <a:off x="6032880" y="4614840"/>
                  <a:ext cx="317880" cy="818280"/>
                </a:xfrm>
                <a:custGeom>
                  <a:avLst/>
                  <a:gdLst>
                    <a:gd name="textAreaLeft" fmla="*/ -360 w 317880"/>
                    <a:gd name="textAreaRight" fmla="*/ 317880 w 317880"/>
                    <a:gd name="textAreaTop" fmla="*/ -360 h 818280"/>
                    <a:gd name="textAreaBottom" fmla="*/ 818280 h 818280"/>
                  </a:gdLst>
                  <a:ahLst/>
                  <a:rect l="textAreaLeft" t="textAreaTop" r="textAreaRight" b="textAreaBottom"/>
                  <a:pathLst>
                    <a:path fill="none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</a:path>
                    <a:path stroke="0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  <a:lnTo>
                        <a:pt x="0" y="2160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ce5fc"/>
                </a:solidFill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Arc 30"/>
                <p:cNvSpPr/>
                <p:nvPr/>
              </p:nvSpPr>
              <p:spPr>
                <a:xfrm flipH="1" flipV="1" rot="20940000">
                  <a:off x="6356880" y="4615920"/>
                  <a:ext cx="317880" cy="818280"/>
                </a:xfrm>
                <a:custGeom>
                  <a:avLst/>
                  <a:gdLst>
                    <a:gd name="textAreaLeft" fmla="*/ -360 w 317880"/>
                    <a:gd name="textAreaRight" fmla="*/ 317880 w 317880"/>
                    <a:gd name="textAreaTop" fmla="*/ -360 h 818280"/>
                    <a:gd name="textAreaBottom" fmla="*/ 818280 h 818280"/>
                  </a:gdLst>
                  <a:ahLst/>
                  <a:rect l="textAreaLeft" t="textAreaTop" r="textAreaRight" b="textAreaBottom"/>
                  <a:pathLst>
                    <a:path fill="none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</a:path>
                    <a:path stroke="0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  <a:lnTo>
                        <a:pt x="0" y="2160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ce5fc"/>
                </a:solidFill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Arc 31"/>
                <p:cNvSpPr/>
                <p:nvPr/>
              </p:nvSpPr>
              <p:spPr>
                <a:xfrm flipH="1" flipV="1" rot="20940000">
                  <a:off x="5707080" y="4611240"/>
                  <a:ext cx="317880" cy="818640"/>
                </a:xfrm>
                <a:custGeom>
                  <a:avLst/>
                  <a:gdLst>
                    <a:gd name="textAreaLeft" fmla="*/ -360 w 317880"/>
                    <a:gd name="textAreaRight" fmla="*/ 317880 w 317880"/>
                    <a:gd name="textAreaTop" fmla="*/ 360 h 818640"/>
                    <a:gd name="textAreaBottom" fmla="*/ 819360 h 818640"/>
                  </a:gdLst>
                  <a:ahLst/>
                  <a:rect l="textAreaLeft" t="textAreaTop" r="textAreaRight" b="textAreaBottom"/>
                  <a:pathLst>
                    <a:path fill="none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</a:path>
                    <a:path stroke="0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  <a:lnTo>
                        <a:pt x="0" y="2160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ce5fc"/>
                </a:solidFill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rc 32"/>
                <p:cNvSpPr/>
                <p:nvPr/>
              </p:nvSpPr>
              <p:spPr>
                <a:xfrm flipH="1" flipV="1" rot="20940000">
                  <a:off x="5382720" y="4605120"/>
                  <a:ext cx="317880" cy="818280"/>
                </a:xfrm>
                <a:custGeom>
                  <a:avLst/>
                  <a:gdLst>
                    <a:gd name="textAreaLeft" fmla="*/ -360 w 317880"/>
                    <a:gd name="textAreaRight" fmla="*/ 317880 w 317880"/>
                    <a:gd name="textAreaTop" fmla="*/ -360 h 818280"/>
                    <a:gd name="textAreaBottom" fmla="*/ 818280 h 818280"/>
                  </a:gdLst>
                  <a:ahLst/>
                  <a:rect l="textAreaLeft" t="textAreaTop" r="textAreaRight" b="textAreaBottom"/>
                  <a:pathLst>
                    <a:path fill="none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</a:path>
                    <a:path stroke="0" w="8551" h="21600">
                      <a:moveTo>
                        <a:pt x="27" y="0"/>
                      </a:moveTo>
                      <a:cubicBezTo>
                        <a:pt x="2959" y="3"/>
                        <a:pt x="5859" y="604"/>
                        <a:pt x="8551" y="1764"/>
                      </a:cubicBezTo>
                      <a:lnTo>
                        <a:pt x="0" y="2160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ce5fc"/>
                </a:solidFill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Arc 33"/>
              <p:cNvSpPr/>
              <p:nvPr/>
            </p:nvSpPr>
            <p:spPr>
              <a:xfrm flipH="1" rot="691200">
                <a:off x="7816320" y="4567320"/>
                <a:ext cx="317520" cy="803160"/>
              </a:xfrm>
              <a:custGeom>
                <a:avLst/>
                <a:gdLst>
                  <a:gd name="textAreaLeft" fmla="*/ 360 w 317520"/>
                  <a:gd name="textAreaRight" fmla="*/ 318240 w 317520"/>
                  <a:gd name="textAreaTop" fmla="*/ 0 h 803160"/>
                  <a:gd name="textAreaBottom" fmla="*/ 803520 h 803160"/>
                </a:gdLst>
                <a:ahLst/>
                <a:rect l="textAreaLeft" t="textAreaTop" r="textAreaRight" b="textAreaBottom"/>
                <a:pathLst>
                  <a:path fill="none" w="8551" h="21173">
                    <a:moveTo>
                      <a:pt x="4275" y="0"/>
                    </a:moveTo>
                    <a:cubicBezTo>
                      <a:pt x="5743" y="296"/>
                      <a:pt x="7176" y="745"/>
                      <a:pt x="8551" y="1337"/>
                    </a:cubicBezTo>
                  </a:path>
                  <a:path stroke="0" w="8551" h="21173">
                    <a:moveTo>
                      <a:pt x="4275" y="0"/>
                    </a:moveTo>
                    <a:cubicBezTo>
                      <a:pt x="5743" y="296"/>
                      <a:pt x="7176" y="745"/>
                      <a:pt x="8551" y="1337"/>
                    </a:cubicBezTo>
                    <a:lnTo>
                      <a:pt x="0" y="21173"/>
                    </a:lnTo>
                    <a:lnTo>
                      <a:pt x="4275" y="0"/>
                    </a:lnTo>
                    <a:close/>
                  </a:path>
                </a:pathLst>
              </a:custGeom>
              <a:solidFill>
                <a:srgbClr val="ffff66"/>
              </a:solidFill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34"/>
              <p:cNvSpPr/>
              <p:nvPr/>
            </p:nvSpPr>
            <p:spPr>
              <a:xfrm>
                <a:off x="5443200" y="4584600"/>
                <a:ext cx="0" cy="792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35"/>
              <p:cNvSpPr/>
              <p:nvPr/>
            </p:nvSpPr>
            <p:spPr>
              <a:xfrm>
                <a:off x="8053200" y="4583160"/>
                <a:ext cx="0" cy="79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Text Box 36"/>
          <p:cNvSpPr/>
          <p:nvPr/>
        </p:nvSpPr>
        <p:spPr>
          <a:xfrm>
            <a:off x="6387480" y="591012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=ɑ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7"/>
          <p:cNvSpPr/>
          <p:nvPr/>
        </p:nvSpPr>
        <p:spPr>
          <a:xfrm flipH="1">
            <a:off x="4086360" y="605160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601640" y="5969160"/>
            <a:ext cx="1710000" cy="459720"/>
          </a:xfrm>
          <a:prstGeom prst="rect">
            <a:avLst/>
          </a:prstGeom>
          <a:solidFill>
            <a:srgbClr val="ff66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 =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6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221" name="Picture 36" descr="蓝色按钮"/>
            <p:cNvPicPr/>
            <p:nvPr/>
          </p:nvPicPr>
          <p:blipFill>
            <a:blip r:embed="rId5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31640" y="1249200"/>
            <a:ext cx="9901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推导圆面积公式时，用到了转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-2.77778E-007 -0.09699 E">
                                      <p:cBhvr>
                                        <p:cTn id="317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4.16667E-006 0.11065 E">
                                      <p:cBhvr>
                                        <p:cTn id="319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-0.00116 L 0.00156 0.15532 E">
                                      <p:cBhvr>
                                        <p:cTn id="33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1.11111E-006 L -0.00469 -0.16366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1258920" y="1268280"/>
            <a:ext cx="74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回顾与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66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229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5"/>
          <p:cNvSpPr/>
          <p:nvPr/>
        </p:nvSpPr>
        <p:spPr>
          <a:xfrm>
            <a:off x="3797280" y="527364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796000" y="5273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20560" y="1268280"/>
            <a:ext cx="65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推导圆柱体体积公式时，用到了转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887560" y="5830920"/>
            <a:ext cx="2249640" cy="569160"/>
          </a:xfrm>
          <a:prstGeom prst="rect">
            <a:avLst/>
          </a:prstGeom>
          <a:solidFill>
            <a:srgbClr val="ff66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 = S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4498920" y="4951440"/>
            <a:ext cx="108000" cy="36036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2914560" y="4956120"/>
            <a:ext cx="108000" cy="36036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835280" y="52880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的体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6"/>
          <p:cNvGrpSpPr/>
          <p:nvPr/>
        </p:nvGrpSpPr>
        <p:grpSpPr>
          <a:xfrm>
            <a:off x="3780000" y="5275440"/>
            <a:ext cx="1726560" cy="525240"/>
            <a:chOff x="3780000" y="5275440"/>
            <a:chExt cx="1726560" cy="525240"/>
          </a:xfrm>
        </p:grpSpPr>
        <p:sp>
          <p:nvSpPr>
            <p:cNvPr id="239" name="Text Box 11"/>
            <p:cNvSpPr/>
            <p:nvPr/>
          </p:nvSpPr>
          <p:spPr>
            <a:xfrm>
              <a:off x="3780000" y="5280120"/>
              <a:ext cx="31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2"/>
            <p:cNvSpPr/>
            <p:nvPr/>
          </p:nvSpPr>
          <p:spPr>
            <a:xfrm>
              <a:off x="5190480" y="527544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1042920" y="4456080"/>
            <a:ext cx="62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体的体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6024600" y="4970520"/>
            <a:ext cx="108000" cy="36036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62000" y="1719360"/>
            <a:ext cx="69120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22:33Z</dcterms:created>
  <dc:creator>Administrator</dc:creator>
  <dc:description/>
  <cp:keywords>青岛版数学</cp:keywords>
  <dc:language>en-US</dc:language>
  <cp:lastModifiedBy>微软用户</cp:lastModifiedBy>
  <dcterms:modified xsi:type="dcterms:W3CDTF">2015-11-17T07:23:41Z</dcterms:modified>
  <cp:revision>429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