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3.wmf" ContentType="image/x-wmf"/>
  <Override PartName="/ppt/media/image11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A7F-4C47-4621-BAB0-D09A2134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711-8408-4EFF-9598-640182AF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6B5-9C86-47DE-95F9-B94F3956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AA8-BBF4-4EDF-B8B6-878D379B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54A-A132-4339-844D-107E1732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53D-64E1-4CF1-8FF1-9689C26A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E00-1DDA-4BE0-84FC-E4E2CAAF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9C6-B021-40F9-97EB-8AB1FEFE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6BB-B786-44B0-924D-F7819DF6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3C5-00C6-4B83-81D7-54998F44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30A-663A-4691-8AC6-F24392F9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488-1CBC-4909-A02F-590DE630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1337-AB30-4AC3-A993-B509D0F278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0" descr="存款存期、年利率、应得利息表"/>
          <p:cNvPicPr/>
          <p:nvPr/>
        </p:nvPicPr>
        <p:blipFill>
          <a:blip r:embed="rId1"/>
          <a:stretch/>
        </p:blipFill>
        <p:spPr>
          <a:xfrm>
            <a:off x="1835280" y="1630440"/>
            <a:ext cx="4895640" cy="5111640"/>
          </a:xfrm>
          <a:prstGeom prst="rect">
            <a:avLst/>
          </a:prstGeom>
          <a:ln w="0">
            <a:noFill/>
          </a:ln>
        </p:spPr>
      </p:pic>
      <p:sp>
        <p:nvSpPr>
          <p:cNvPr id="125" name="Oval 51"/>
          <p:cNvSpPr/>
          <p:nvPr/>
        </p:nvSpPr>
        <p:spPr>
          <a:xfrm>
            <a:off x="5867280" y="2494080"/>
            <a:ext cx="720720" cy="1944720"/>
          </a:xfrm>
          <a:prstGeom prst="ellipse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2"/>
          <p:cNvSpPr/>
          <p:nvPr/>
        </p:nvSpPr>
        <p:spPr>
          <a:xfrm>
            <a:off x="3706920" y="2565360"/>
            <a:ext cx="720720" cy="187344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2914560" y="2565360"/>
            <a:ext cx="720720" cy="180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3059280" y="4438800"/>
            <a:ext cx="504720" cy="863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3780000" y="4438800"/>
            <a:ext cx="576000" cy="86328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5940360" y="4438800"/>
            <a:ext cx="647640" cy="934920"/>
          </a:xfrm>
          <a:prstGeom prst="ellipse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71"/>
          <p:cNvSpPr/>
          <p:nvPr/>
        </p:nvSpPr>
        <p:spPr>
          <a:xfrm>
            <a:off x="395280" y="1197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见过储蓄存款利率表吗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539640" y="1368360"/>
            <a:ext cx="432000" cy="368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71640" y="1208160"/>
            <a:ext cx="763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纯朴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存入银行，年利率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，存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到期时可以取回多少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763640" y="29908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0×4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016080" y="556416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到期后可以取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1763640" y="342252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2771640" y="342252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4427640" y="342252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995640" y="3422520"/>
            <a:ext cx="217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856880" y="342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本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864880" y="342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利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728520" y="342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665240" y="342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利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1948320" y="2492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利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1604880" y="397656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到期后可以取回的钱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1547640" y="45464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0+1020=90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>
            <a:off x="1835280" y="497844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2627280" y="497844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1928160" y="4978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本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706120" y="4998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利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68360" y="1254240"/>
            <a:ext cx="129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82840" y="3429000"/>
            <a:ext cx="65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×3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1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11280" y="4437000"/>
            <a:ext cx="56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到期后应得利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1947240" y="1254240"/>
            <a:ext cx="5410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起，工商银行整存整取一年期的年利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调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果按调整前的年利率计算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存一年，到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应得利息多少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43120" y="1333440"/>
            <a:ext cx="8135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起，工商银行整存整取一年期的年利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调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果按调整前的年利率计算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存一年，到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应得利息多少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同样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存一年，调整后比调整前少得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258920" y="3933720"/>
            <a:ext cx="53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×3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1 = 162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484360" y="5445000"/>
            <a:ext cx="52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调整后比调整前少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258920" y="458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2.5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9640" y="1268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42"/>
          <p:cNvSpPr/>
          <p:nvPr/>
        </p:nvSpPr>
        <p:spPr>
          <a:xfrm>
            <a:off x="108000" y="2316240"/>
            <a:ext cx="4389480" cy="2465280"/>
          </a:xfrm>
          <a:custGeom>
            <a:avLst/>
            <a:gdLst>
              <a:gd name="textAreaLeft" fmla="*/ 0 w 4389480"/>
              <a:gd name="textAreaRight" fmla="*/ 4389840 w 438948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2765" h="1553">
                <a:moveTo>
                  <a:pt x="87" y="8"/>
                </a:moveTo>
                <a:cubicBezTo>
                  <a:pt x="150" y="16"/>
                  <a:pt x="193" y="26"/>
                  <a:pt x="252" y="45"/>
                </a:cubicBezTo>
                <a:cubicBezTo>
                  <a:pt x="270" y="51"/>
                  <a:pt x="307" y="63"/>
                  <a:pt x="307" y="63"/>
                </a:cubicBezTo>
                <a:cubicBezTo>
                  <a:pt x="673" y="45"/>
                  <a:pt x="1064" y="123"/>
                  <a:pt x="1413" y="36"/>
                </a:cubicBezTo>
                <a:cubicBezTo>
                  <a:pt x="1815" y="39"/>
                  <a:pt x="2218" y="40"/>
                  <a:pt x="2620" y="45"/>
                </a:cubicBezTo>
                <a:cubicBezTo>
                  <a:pt x="2663" y="46"/>
                  <a:pt x="2711" y="32"/>
                  <a:pt x="2748" y="54"/>
                </a:cubicBezTo>
                <a:cubicBezTo>
                  <a:pt x="2765" y="64"/>
                  <a:pt x="2730" y="109"/>
                  <a:pt x="2730" y="109"/>
                </a:cubicBezTo>
                <a:cubicBezTo>
                  <a:pt x="2717" y="229"/>
                  <a:pt x="2716" y="197"/>
                  <a:pt x="2730" y="356"/>
                </a:cubicBezTo>
                <a:cubicBezTo>
                  <a:pt x="2733" y="388"/>
                  <a:pt x="2757" y="447"/>
                  <a:pt x="2757" y="447"/>
                </a:cubicBezTo>
                <a:cubicBezTo>
                  <a:pt x="2754" y="548"/>
                  <a:pt x="2756" y="649"/>
                  <a:pt x="2748" y="749"/>
                </a:cubicBezTo>
                <a:cubicBezTo>
                  <a:pt x="2747" y="768"/>
                  <a:pt x="2730" y="785"/>
                  <a:pt x="2730" y="804"/>
                </a:cubicBezTo>
                <a:cubicBezTo>
                  <a:pt x="2730" y="828"/>
                  <a:pt x="2730" y="853"/>
                  <a:pt x="2730" y="877"/>
                </a:cubicBezTo>
                <a:lnTo>
                  <a:pt x="1950" y="907"/>
                </a:lnTo>
                <a:cubicBezTo>
                  <a:pt x="1954" y="1004"/>
                  <a:pt x="1964" y="1100"/>
                  <a:pt x="1962" y="1197"/>
                </a:cubicBezTo>
                <a:cubicBezTo>
                  <a:pt x="1962" y="1217"/>
                  <a:pt x="1933" y="1301"/>
                  <a:pt x="1925" y="1325"/>
                </a:cubicBezTo>
                <a:cubicBezTo>
                  <a:pt x="1919" y="1343"/>
                  <a:pt x="1907" y="1380"/>
                  <a:pt x="1907" y="1380"/>
                </a:cubicBezTo>
                <a:cubicBezTo>
                  <a:pt x="1910" y="1429"/>
                  <a:pt x="1906" y="1478"/>
                  <a:pt x="1916" y="1526"/>
                </a:cubicBezTo>
                <a:cubicBezTo>
                  <a:pt x="1918" y="1537"/>
                  <a:pt x="1935" y="1536"/>
                  <a:pt x="1943" y="1544"/>
                </a:cubicBezTo>
                <a:cubicBezTo>
                  <a:pt x="1945" y="1546"/>
                  <a:pt x="1943" y="1550"/>
                  <a:pt x="1943" y="1553"/>
                </a:cubicBezTo>
                <a:lnTo>
                  <a:pt x="0" y="154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3"/>
          <p:cNvSpPr/>
          <p:nvPr/>
        </p:nvSpPr>
        <p:spPr>
          <a:xfrm>
            <a:off x="1440" y="1798560"/>
            <a:ext cx="4381560" cy="3311640"/>
          </a:xfrm>
          <a:custGeom>
            <a:avLst/>
            <a:gdLst>
              <a:gd name="textAreaLeft" fmla="*/ 0 w 4381560"/>
              <a:gd name="textAreaRight" fmla="*/ 4381920 w 4381560"/>
              <a:gd name="textAreaTop" fmla="*/ 0 h 3311640"/>
              <a:gd name="textAreaBottom" fmla="*/ 3312000 h 3311640"/>
            </a:gdLst>
            <a:ahLst/>
            <a:rect l="textAreaLeft" t="textAreaTop" r="textAreaRight" b="textAreaBottom"/>
            <a:pathLst>
              <a:path w="2760" h="2086">
                <a:moveTo>
                  <a:pt x="164" y="37"/>
                </a:moveTo>
                <a:cubicBezTo>
                  <a:pt x="714" y="42"/>
                  <a:pt x="1147" y="60"/>
                  <a:pt x="1663" y="46"/>
                </a:cubicBezTo>
                <a:cubicBezTo>
                  <a:pt x="1665" y="45"/>
                  <a:pt x="1714" y="33"/>
                  <a:pt x="1709" y="19"/>
                </a:cubicBezTo>
                <a:cubicBezTo>
                  <a:pt x="1706" y="10"/>
                  <a:pt x="1681" y="0"/>
                  <a:pt x="1681" y="10"/>
                </a:cubicBezTo>
                <a:cubicBezTo>
                  <a:pt x="1681" y="24"/>
                  <a:pt x="1813" y="69"/>
                  <a:pt x="1828" y="74"/>
                </a:cubicBezTo>
                <a:cubicBezTo>
                  <a:pt x="2124" y="169"/>
                  <a:pt x="2449" y="74"/>
                  <a:pt x="2760" y="74"/>
                </a:cubicBezTo>
                <a:cubicBezTo>
                  <a:pt x="2742" y="100"/>
                  <a:pt x="2725" y="117"/>
                  <a:pt x="2714" y="147"/>
                </a:cubicBezTo>
                <a:cubicBezTo>
                  <a:pt x="2717" y="159"/>
                  <a:pt x="2720" y="172"/>
                  <a:pt x="2724" y="184"/>
                </a:cubicBezTo>
                <a:cubicBezTo>
                  <a:pt x="2730" y="202"/>
                  <a:pt x="2742" y="238"/>
                  <a:pt x="2742" y="238"/>
                </a:cubicBezTo>
                <a:cubicBezTo>
                  <a:pt x="2752" y="726"/>
                  <a:pt x="2751" y="519"/>
                  <a:pt x="2751" y="860"/>
                </a:cubicBezTo>
                <a:cubicBezTo>
                  <a:pt x="2495" y="860"/>
                  <a:pt x="2239" y="860"/>
                  <a:pt x="1983" y="860"/>
                </a:cubicBezTo>
                <a:cubicBezTo>
                  <a:pt x="1978" y="965"/>
                  <a:pt x="1983" y="1013"/>
                  <a:pt x="1956" y="1098"/>
                </a:cubicBezTo>
                <a:cubicBezTo>
                  <a:pt x="1953" y="1284"/>
                  <a:pt x="1937" y="1507"/>
                  <a:pt x="1937" y="1701"/>
                </a:cubicBezTo>
                <a:cubicBezTo>
                  <a:pt x="1443" y="2086"/>
                  <a:pt x="678" y="1747"/>
                  <a:pt x="63" y="1747"/>
                </a:cubicBezTo>
                <a:cubicBezTo>
                  <a:pt x="64" y="1734"/>
                  <a:pt x="61" y="1719"/>
                  <a:pt x="67" y="1707"/>
                </a:cubicBezTo>
                <a:cubicBezTo>
                  <a:pt x="69" y="1703"/>
                  <a:pt x="131" y="1660"/>
                  <a:pt x="136" y="1656"/>
                </a:cubicBezTo>
                <a:cubicBezTo>
                  <a:pt x="168" y="1557"/>
                  <a:pt x="117" y="1704"/>
                  <a:pt x="164" y="1601"/>
                </a:cubicBezTo>
                <a:cubicBezTo>
                  <a:pt x="188" y="1547"/>
                  <a:pt x="177" y="1552"/>
                  <a:pt x="191" y="1500"/>
                </a:cubicBezTo>
                <a:cubicBezTo>
                  <a:pt x="196" y="1481"/>
                  <a:pt x="209" y="1445"/>
                  <a:pt x="209" y="1445"/>
                </a:cubicBezTo>
                <a:cubicBezTo>
                  <a:pt x="202" y="1332"/>
                  <a:pt x="232" y="1330"/>
                  <a:pt x="173" y="1281"/>
                </a:cubicBezTo>
                <a:cubicBezTo>
                  <a:pt x="148" y="1260"/>
                  <a:pt x="110" y="1246"/>
                  <a:pt x="81" y="1235"/>
                </a:cubicBezTo>
                <a:cubicBezTo>
                  <a:pt x="63" y="1228"/>
                  <a:pt x="26" y="1217"/>
                  <a:pt x="26" y="1217"/>
                </a:cubicBezTo>
                <a:cubicBezTo>
                  <a:pt x="8" y="1161"/>
                  <a:pt x="0" y="1095"/>
                  <a:pt x="45" y="1052"/>
                </a:cubicBezTo>
                <a:cubicBezTo>
                  <a:pt x="61" y="1019"/>
                  <a:pt x="74" y="1004"/>
                  <a:pt x="100" y="979"/>
                </a:cubicBezTo>
                <a:cubicBezTo>
                  <a:pt x="134" y="876"/>
                  <a:pt x="99" y="990"/>
                  <a:pt x="118" y="723"/>
                </a:cubicBezTo>
                <a:cubicBezTo>
                  <a:pt x="120" y="698"/>
                  <a:pt x="131" y="675"/>
                  <a:pt x="136" y="650"/>
                </a:cubicBezTo>
                <a:cubicBezTo>
                  <a:pt x="139" y="616"/>
                  <a:pt x="139" y="582"/>
                  <a:pt x="145" y="549"/>
                </a:cubicBezTo>
                <a:cubicBezTo>
                  <a:pt x="148" y="530"/>
                  <a:pt x="164" y="494"/>
                  <a:pt x="164" y="494"/>
                </a:cubicBezTo>
                <a:cubicBezTo>
                  <a:pt x="182" y="263"/>
                  <a:pt x="174" y="415"/>
                  <a:pt x="164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76360" y="1916280"/>
          <a:ext cx="6095880" cy="1199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期 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三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五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收益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4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.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 Box 23"/>
          <p:cNvSpPr/>
          <p:nvPr/>
        </p:nvSpPr>
        <p:spPr>
          <a:xfrm>
            <a:off x="539640" y="1268280"/>
            <a:ext cx="4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3425760" y="137304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国债利率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11280" y="314172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果小王家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买三年期的国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到期后可以得到多少利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5"/>
          <p:cNvSpPr/>
          <p:nvPr/>
        </p:nvSpPr>
        <p:spPr>
          <a:xfrm>
            <a:off x="668160" y="42498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同样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国债，到期后五年期的比三年期的利息多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682560" y="5445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还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43"/>
          <p:cNvSpPr/>
          <p:nvPr/>
        </p:nvSpPr>
        <p:spPr>
          <a:xfrm>
            <a:off x="0" y="1773360"/>
            <a:ext cx="4381560" cy="3311280"/>
          </a:xfrm>
          <a:custGeom>
            <a:avLst/>
            <a:gdLst>
              <a:gd name="textAreaLeft" fmla="*/ 0 w 4381560"/>
              <a:gd name="textAreaRight" fmla="*/ 4381920 w 438156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w="2760" h="2086">
                <a:moveTo>
                  <a:pt x="164" y="37"/>
                </a:moveTo>
                <a:cubicBezTo>
                  <a:pt x="714" y="42"/>
                  <a:pt x="1147" y="60"/>
                  <a:pt x="1663" y="46"/>
                </a:cubicBezTo>
                <a:cubicBezTo>
                  <a:pt x="1665" y="45"/>
                  <a:pt x="1714" y="33"/>
                  <a:pt x="1709" y="19"/>
                </a:cubicBezTo>
                <a:cubicBezTo>
                  <a:pt x="1706" y="10"/>
                  <a:pt x="1681" y="0"/>
                  <a:pt x="1681" y="10"/>
                </a:cubicBezTo>
                <a:cubicBezTo>
                  <a:pt x="1681" y="24"/>
                  <a:pt x="1813" y="69"/>
                  <a:pt x="1828" y="74"/>
                </a:cubicBezTo>
                <a:cubicBezTo>
                  <a:pt x="2124" y="169"/>
                  <a:pt x="2449" y="74"/>
                  <a:pt x="2760" y="74"/>
                </a:cubicBezTo>
                <a:cubicBezTo>
                  <a:pt x="2742" y="100"/>
                  <a:pt x="2725" y="117"/>
                  <a:pt x="2714" y="147"/>
                </a:cubicBezTo>
                <a:cubicBezTo>
                  <a:pt x="2717" y="159"/>
                  <a:pt x="2720" y="172"/>
                  <a:pt x="2724" y="184"/>
                </a:cubicBezTo>
                <a:cubicBezTo>
                  <a:pt x="2730" y="202"/>
                  <a:pt x="2742" y="238"/>
                  <a:pt x="2742" y="238"/>
                </a:cubicBezTo>
                <a:cubicBezTo>
                  <a:pt x="2752" y="726"/>
                  <a:pt x="2751" y="519"/>
                  <a:pt x="2751" y="860"/>
                </a:cubicBezTo>
                <a:cubicBezTo>
                  <a:pt x="2495" y="860"/>
                  <a:pt x="2239" y="860"/>
                  <a:pt x="1983" y="860"/>
                </a:cubicBezTo>
                <a:cubicBezTo>
                  <a:pt x="1978" y="965"/>
                  <a:pt x="1983" y="1013"/>
                  <a:pt x="1956" y="1098"/>
                </a:cubicBezTo>
                <a:cubicBezTo>
                  <a:pt x="1953" y="1284"/>
                  <a:pt x="1937" y="1507"/>
                  <a:pt x="1937" y="1701"/>
                </a:cubicBezTo>
                <a:cubicBezTo>
                  <a:pt x="1443" y="2086"/>
                  <a:pt x="678" y="1747"/>
                  <a:pt x="63" y="1747"/>
                </a:cubicBezTo>
                <a:cubicBezTo>
                  <a:pt x="64" y="1734"/>
                  <a:pt x="61" y="1719"/>
                  <a:pt x="67" y="1707"/>
                </a:cubicBezTo>
                <a:cubicBezTo>
                  <a:pt x="69" y="1703"/>
                  <a:pt x="131" y="1660"/>
                  <a:pt x="136" y="1656"/>
                </a:cubicBezTo>
                <a:cubicBezTo>
                  <a:pt x="168" y="1557"/>
                  <a:pt x="117" y="1704"/>
                  <a:pt x="164" y="1601"/>
                </a:cubicBezTo>
                <a:cubicBezTo>
                  <a:pt x="188" y="1547"/>
                  <a:pt x="177" y="1552"/>
                  <a:pt x="191" y="1500"/>
                </a:cubicBezTo>
                <a:cubicBezTo>
                  <a:pt x="196" y="1481"/>
                  <a:pt x="209" y="1445"/>
                  <a:pt x="209" y="1445"/>
                </a:cubicBezTo>
                <a:cubicBezTo>
                  <a:pt x="202" y="1332"/>
                  <a:pt x="232" y="1330"/>
                  <a:pt x="173" y="1281"/>
                </a:cubicBezTo>
                <a:cubicBezTo>
                  <a:pt x="148" y="1260"/>
                  <a:pt x="110" y="1246"/>
                  <a:pt x="81" y="1235"/>
                </a:cubicBezTo>
                <a:cubicBezTo>
                  <a:pt x="63" y="1228"/>
                  <a:pt x="26" y="1217"/>
                  <a:pt x="26" y="1217"/>
                </a:cubicBezTo>
                <a:cubicBezTo>
                  <a:pt x="8" y="1161"/>
                  <a:pt x="0" y="1095"/>
                  <a:pt x="45" y="1052"/>
                </a:cubicBezTo>
                <a:cubicBezTo>
                  <a:pt x="61" y="1019"/>
                  <a:pt x="74" y="1004"/>
                  <a:pt x="100" y="979"/>
                </a:cubicBezTo>
                <a:cubicBezTo>
                  <a:pt x="134" y="876"/>
                  <a:pt x="99" y="990"/>
                  <a:pt x="118" y="723"/>
                </a:cubicBezTo>
                <a:cubicBezTo>
                  <a:pt x="120" y="698"/>
                  <a:pt x="131" y="675"/>
                  <a:pt x="136" y="650"/>
                </a:cubicBezTo>
                <a:cubicBezTo>
                  <a:pt x="139" y="616"/>
                  <a:pt x="139" y="582"/>
                  <a:pt x="145" y="549"/>
                </a:cubicBezTo>
                <a:cubicBezTo>
                  <a:pt x="148" y="530"/>
                  <a:pt x="164" y="494"/>
                  <a:pt x="164" y="494"/>
                </a:cubicBezTo>
                <a:cubicBezTo>
                  <a:pt x="182" y="263"/>
                  <a:pt x="174" y="415"/>
                  <a:pt x="164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76360" y="1916280"/>
          <a:ext cx="6095880" cy="1199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期 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三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五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收益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4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.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23"/>
          <p:cNvSpPr/>
          <p:nvPr/>
        </p:nvSpPr>
        <p:spPr>
          <a:xfrm>
            <a:off x="539640" y="1268280"/>
            <a:ext cx="4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3425760" y="137304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国债利率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611280" y="314172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果小王家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买三年期的国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到期后可以得到多少利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1692360" y="4292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0×5.43% 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1042920" y="47671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43 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1419120" y="5257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2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2556000" y="587700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到期后可以得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2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利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9"/>
          <p:cNvSpPr/>
          <p:nvPr/>
        </p:nvSpPr>
        <p:spPr>
          <a:xfrm>
            <a:off x="179280" y="4508640"/>
            <a:ext cx="1513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43"/>
          <p:cNvSpPr/>
          <p:nvPr/>
        </p:nvSpPr>
        <p:spPr>
          <a:xfrm>
            <a:off x="0" y="1773360"/>
            <a:ext cx="4381560" cy="3311280"/>
          </a:xfrm>
          <a:custGeom>
            <a:avLst/>
            <a:gdLst>
              <a:gd name="textAreaLeft" fmla="*/ 0 w 4381560"/>
              <a:gd name="textAreaRight" fmla="*/ 4381920 w 438156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w="2760" h="2086">
                <a:moveTo>
                  <a:pt x="164" y="37"/>
                </a:moveTo>
                <a:cubicBezTo>
                  <a:pt x="714" y="42"/>
                  <a:pt x="1147" y="60"/>
                  <a:pt x="1663" y="46"/>
                </a:cubicBezTo>
                <a:cubicBezTo>
                  <a:pt x="1665" y="45"/>
                  <a:pt x="1714" y="33"/>
                  <a:pt x="1709" y="19"/>
                </a:cubicBezTo>
                <a:cubicBezTo>
                  <a:pt x="1706" y="10"/>
                  <a:pt x="1681" y="0"/>
                  <a:pt x="1681" y="10"/>
                </a:cubicBezTo>
                <a:cubicBezTo>
                  <a:pt x="1681" y="24"/>
                  <a:pt x="1813" y="69"/>
                  <a:pt x="1828" y="74"/>
                </a:cubicBezTo>
                <a:cubicBezTo>
                  <a:pt x="2124" y="169"/>
                  <a:pt x="2449" y="74"/>
                  <a:pt x="2760" y="74"/>
                </a:cubicBezTo>
                <a:cubicBezTo>
                  <a:pt x="2742" y="100"/>
                  <a:pt x="2725" y="117"/>
                  <a:pt x="2714" y="147"/>
                </a:cubicBezTo>
                <a:cubicBezTo>
                  <a:pt x="2717" y="159"/>
                  <a:pt x="2720" y="172"/>
                  <a:pt x="2724" y="184"/>
                </a:cubicBezTo>
                <a:cubicBezTo>
                  <a:pt x="2730" y="202"/>
                  <a:pt x="2742" y="238"/>
                  <a:pt x="2742" y="238"/>
                </a:cubicBezTo>
                <a:cubicBezTo>
                  <a:pt x="2752" y="726"/>
                  <a:pt x="2751" y="519"/>
                  <a:pt x="2751" y="860"/>
                </a:cubicBezTo>
                <a:cubicBezTo>
                  <a:pt x="2495" y="860"/>
                  <a:pt x="2239" y="860"/>
                  <a:pt x="1983" y="860"/>
                </a:cubicBezTo>
                <a:cubicBezTo>
                  <a:pt x="1978" y="965"/>
                  <a:pt x="1983" y="1013"/>
                  <a:pt x="1956" y="1098"/>
                </a:cubicBezTo>
                <a:cubicBezTo>
                  <a:pt x="1953" y="1284"/>
                  <a:pt x="1937" y="1507"/>
                  <a:pt x="1937" y="1701"/>
                </a:cubicBezTo>
                <a:cubicBezTo>
                  <a:pt x="1443" y="2086"/>
                  <a:pt x="678" y="1747"/>
                  <a:pt x="63" y="1747"/>
                </a:cubicBezTo>
                <a:cubicBezTo>
                  <a:pt x="64" y="1734"/>
                  <a:pt x="61" y="1719"/>
                  <a:pt x="67" y="1707"/>
                </a:cubicBezTo>
                <a:cubicBezTo>
                  <a:pt x="69" y="1703"/>
                  <a:pt x="131" y="1660"/>
                  <a:pt x="136" y="1656"/>
                </a:cubicBezTo>
                <a:cubicBezTo>
                  <a:pt x="168" y="1557"/>
                  <a:pt x="117" y="1704"/>
                  <a:pt x="164" y="1601"/>
                </a:cubicBezTo>
                <a:cubicBezTo>
                  <a:pt x="188" y="1547"/>
                  <a:pt x="177" y="1552"/>
                  <a:pt x="191" y="1500"/>
                </a:cubicBezTo>
                <a:cubicBezTo>
                  <a:pt x="196" y="1481"/>
                  <a:pt x="209" y="1445"/>
                  <a:pt x="209" y="1445"/>
                </a:cubicBezTo>
                <a:cubicBezTo>
                  <a:pt x="202" y="1332"/>
                  <a:pt x="232" y="1330"/>
                  <a:pt x="173" y="1281"/>
                </a:cubicBezTo>
                <a:cubicBezTo>
                  <a:pt x="148" y="1260"/>
                  <a:pt x="110" y="1246"/>
                  <a:pt x="81" y="1235"/>
                </a:cubicBezTo>
                <a:cubicBezTo>
                  <a:pt x="63" y="1228"/>
                  <a:pt x="26" y="1217"/>
                  <a:pt x="26" y="1217"/>
                </a:cubicBezTo>
                <a:cubicBezTo>
                  <a:pt x="8" y="1161"/>
                  <a:pt x="0" y="1095"/>
                  <a:pt x="45" y="1052"/>
                </a:cubicBezTo>
                <a:cubicBezTo>
                  <a:pt x="61" y="1019"/>
                  <a:pt x="74" y="1004"/>
                  <a:pt x="100" y="979"/>
                </a:cubicBezTo>
                <a:cubicBezTo>
                  <a:pt x="134" y="876"/>
                  <a:pt x="99" y="990"/>
                  <a:pt x="118" y="723"/>
                </a:cubicBezTo>
                <a:cubicBezTo>
                  <a:pt x="120" y="698"/>
                  <a:pt x="131" y="675"/>
                  <a:pt x="136" y="650"/>
                </a:cubicBezTo>
                <a:cubicBezTo>
                  <a:pt x="139" y="616"/>
                  <a:pt x="139" y="582"/>
                  <a:pt x="145" y="549"/>
                </a:cubicBezTo>
                <a:cubicBezTo>
                  <a:pt x="148" y="530"/>
                  <a:pt x="164" y="494"/>
                  <a:pt x="164" y="494"/>
                </a:cubicBezTo>
                <a:cubicBezTo>
                  <a:pt x="182" y="263"/>
                  <a:pt x="174" y="415"/>
                  <a:pt x="164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76360" y="1916280"/>
          <a:ext cx="6095880" cy="1199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期 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三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五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收益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4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.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92" name="Text Box 23"/>
          <p:cNvSpPr/>
          <p:nvPr/>
        </p:nvSpPr>
        <p:spPr>
          <a:xfrm>
            <a:off x="539640" y="1268280"/>
            <a:ext cx="4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3425760" y="137304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国债利率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1763640" y="4292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×6.00%×5 - 5000×5.43%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1403280" y="47959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1332000" y="52722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85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5"/>
          <p:cNvSpPr/>
          <p:nvPr/>
        </p:nvSpPr>
        <p:spPr>
          <a:xfrm>
            <a:off x="539640" y="325296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同样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国债，到期后五年期比三年期的利息多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2050920" y="573408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到期后五年期比三年期的利息多</a:t>
            </a:r>
            <a:r>
              <a:rPr b="1" lang="en-US" sz="2400" spc="-1" strike="noStrike">
                <a:solidFill>
                  <a:srgbClr val="d6081c"/>
                </a:solidFill>
                <a:latin typeface="楷体_GB2312"/>
                <a:ea typeface="楷体_GB2312"/>
              </a:rPr>
              <a:t>685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42"/>
          <p:cNvSpPr/>
          <p:nvPr/>
        </p:nvSpPr>
        <p:spPr>
          <a:xfrm>
            <a:off x="108000" y="2316240"/>
            <a:ext cx="4389480" cy="2465280"/>
          </a:xfrm>
          <a:custGeom>
            <a:avLst/>
            <a:gdLst>
              <a:gd name="textAreaLeft" fmla="*/ 0 w 4389480"/>
              <a:gd name="textAreaRight" fmla="*/ 4389840 w 438948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2765" h="1553">
                <a:moveTo>
                  <a:pt x="87" y="8"/>
                </a:moveTo>
                <a:cubicBezTo>
                  <a:pt x="150" y="16"/>
                  <a:pt x="193" y="26"/>
                  <a:pt x="252" y="45"/>
                </a:cubicBezTo>
                <a:cubicBezTo>
                  <a:pt x="270" y="51"/>
                  <a:pt x="307" y="63"/>
                  <a:pt x="307" y="63"/>
                </a:cubicBezTo>
                <a:cubicBezTo>
                  <a:pt x="673" y="45"/>
                  <a:pt x="1064" y="123"/>
                  <a:pt x="1413" y="36"/>
                </a:cubicBezTo>
                <a:cubicBezTo>
                  <a:pt x="1815" y="39"/>
                  <a:pt x="2218" y="40"/>
                  <a:pt x="2620" y="45"/>
                </a:cubicBezTo>
                <a:cubicBezTo>
                  <a:pt x="2663" y="46"/>
                  <a:pt x="2711" y="32"/>
                  <a:pt x="2748" y="54"/>
                </a:cubicBezTo>
                <a:cubicBezTo>
                  <a:pt x="2765" y="64"/>
                  <a:pt x="2730" y="109"/>
                  <a:pt x="2730" y="109"/>
                </a:cubicBezTo>
                <a:cubicBezTo>
                  <a:pt x="2717" y="229"/>
                  <a:pt x="2716" y="197"/>
                  <a:pt x="2730" y="356"/>
                </a:cubicBezTo>
                <a:cubicBezTo>
                  <a:pt x="2733" y="388"/>
                  <a:pt x="2757" y="447"/>
                  <a:pt x="2757" y="447"/>
                </a:cubicBezTo>
                <a:cubicBezTo>
                  <a:pt x="2754" y="548"/>
                  <a:pt x="2756" y="649"/>
                  <a:pt x="2748" y="749"/>
                </a:cubicBezTo>
                <a:cubicBezTo>
                  <a:pt x="2747" y="768"/>
                  <a:pt x="2730" y="785"/>
                  <a:pt x="2730" y="804"/>
                </a:cubicBezTo>
                <a:cubicBezTo>
                  <a:pt x="2730" y="828"/>
                  <a:pt x="2730" y="853"/>
                  <a:pt x="2730" y="877"/>
                </a:cubicBezTo>
                <a:lnTo>
                  <a:pt x="1950" y="907"/>
                </a:lnTo>
                <a:cubicBezTo>
                  <a:pt x="1954" y="1004"/>
                  <a:pt x="1964" y="1100"/>
                  <a:pt x="1962" y="1197"/>
                </a:cubicBezTo>
                <a:cubicBezTo>
                  <a:pt x="1962" y="1217"/>
                  <a:pt x="1933" y="1301"/>
                  <a:pt x="1925" y="1325"/>
                </a:cubicBezTo>
                <a:cubicBezTo>
                  <a:pt x="1919" y="1343"/>
                  <a:pt x="1907" y="1380"/>
                  <a:pt x="1907" y="1380"/>
                </a:cubicBezTo>
                <a:cubicBezTo>
                  <a:pt x="1910" y="1429"/>
                  <a:pt x="1906" y="1478"/>
                  <a:pt x="1916" y="1526"/>
                </a:cubicBezTo>
                <a:cubicBezTo>
                  <a:pt x="1918" y="1537"/>
                  <a:pt x="1935" y="1536"/>
                  <a:pt x="1943" y="1544"/>
                </a:cubicBezTo>
                <a:cubicBezTo>
                  <a:pt x="1945" y="1546"/>
                  <a:pt x="1943" y="1550"/>
                  <a:pt x="1943" y="1553"/>
                </a:cubicBezTo>
                <a:lnTo>
                  <a:pt x="0" y="154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360" y="1916280"/>
          <a:ext cx="6095880" cy="1199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期 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三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五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收益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4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.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03" name="Text Box 23"/>
          <p:cNvSpPr/>
          <p:nvPr/>
        </p:nvSpPr>
        <p:spPr>
          <a:xfrm>
            <a:off x="512640" y="126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425760" y="137304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0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国债利率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826920" y="3284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还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5"/>
          <p:cNvSpPr/>
          <p:nvPr/>
        </p:nvSpPr>
        <p:spPr>
          <a:xfrm>
            <a:off x="1116000" y="3716280"/>
            <a:ext cx="741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李家在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1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买五年期的国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元，到期后可以得到多少利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2050920" y="465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0×6.00%×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1690560" y="50990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0 ×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1690560" y="55324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2916360" y="6021360"/>
            <a:ext cx="53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到期后可以得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利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2771640" y="1773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运动会报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449280" y="209376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男生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王东 李明 刘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亮 丁一 张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于军 刘平 赵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2"/>
          <p:cNvSpPr/>
          <p:nvPr/>
        </p:nvSpPr>
        <p:spPr>
          <a:xfrm>
            <a:off x="3635280" y="2166840"/>
            <a:ext cx="20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女生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燕 王静 牛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方悦 于美 张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孙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2"/>
          <p:cNvSpPr/>
          <p:nvPr/>
        </p:nvSpPr>
        <p:spPr>
          <a:xfrm>
            <a:off x="468360" y="836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9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1476360" y="2133720"/>
            <a:ext cx="158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8"/>
          <p:cNvSpPr/>
          <p:nvPr/>
        </p:nvSpPr>
        <p:spPr>
          <a:xfrm>
            <a:off x="4140360" y="2133720"/>
            <a:ext cx="158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1297074047576_000"/>
          <p:cNvPicPr/>
          <p:nvPr/>
        </p:nvPicPr>
        <p:blipFill>
          <a:blip r:embed="rId2"/>
          <a:srcRect l="11873" t="8416" r="4247" b="15975"/>
          <a:stretch/>
        </p:blipFill>
        <p:spPr>
          <a:xfrm>
            <a:off x="611280" y="1844640"/>
            <a:ext cx="4535280" cy="3222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496800" y="5445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于银行储蓄的知识，你都知道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3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165600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771640" y="1773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运动会报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449280" y="209376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男生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王东 李明 刘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亮 丁一 张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于军 刘平 赵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635280" y="2166840"/>
            <a:ext cx="20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女生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燕 王静 牛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方悦 于美 张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孙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468360" y="836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1476360" y="2133720"/>
            <a:ext cx="158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4140360" y="2133720"/>
            <a:ext cx="158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4" descr="[LZ`%GJ)[CFZFSJN%_MVWR5"/>
          <p:cNvPicPr/>
          <p:nvPr/>
        </p:nvPicPr>
        <p:blipFill>
          <a:blip r:embed="rId1"/>
          <a:stretch/>
        </p:blipFill>
        <p:spPr>
          <a:xfrm>
            <a:off x="1116000" y="1484280"/>
            <a:ext cx="7048440" cy="3162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1"/>
          <p:cNvSpPr/>
          <p:nvPr/>
        </p:nvSpPr>
        <p:spPr>
          <a:xfrm>
            <a:off x="1057320" y="48434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存单上，你能了解到哪些信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2771640" y="1773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运动会报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449280" y="209376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男生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王东 李明 刘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亮 丁一 张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于军 刘平 赵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3635280" y="2166840"/>
            <a:ext cx="20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女生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燕 王静 牛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方悦 于美 张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孙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468360" y="836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1476360" y="2133720"/>
            <a:ext cx="158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8"/>
          <p:cNvSpPr/>
          <p:nvPr/>
        </p:nvSpPr>
        <p:spPr>
          <a:xfrm>
            <a:off x="4140360" y="2133720"/>
            <a:ext cx="158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84360" y="465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存入银行的钱叫本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1116000" y="5229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取款时银行除还给本金外，另外付给的钱叫利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68360" y="5805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单位时间内，利息与本金的比值叫利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4" descr="[LZ`%GJ)[CFZFSJN%_MVWR5"/>
          <p:cNvPicPr/>
          <p:nvPr/>
        </p:nvPicPr>
        <p:blipFill>
          <a:blip r:embed="rId1"/>
          <a:stretch/>
        </p:blipFill>
        <p:spPr>
          <a:xfrm>
            <a:off x="1116000" y="1484280"/>
            <a:ext cx="7048440" cy="3162240"/>
          </a:xfrm>
          <a:prstGeom prst="rect">
            <a:avLst/>
          </a:prstGeom>
          <a:ln w="0">
            <a:noFill/>
          </a:ln>
        </p:spPr>
      </p:pic>
      <p:sp>
        <p:nvSpPr>
          <p:cNvPr id="83" name="Oval 29"/>
          <p:cNvSpPr/>
          <p:nvPr/>
        </p:nvSpPr>
        <p:spPr>
          <a:xfrm>
            <a:off x="3276720" y="4653000"/>
            <a:ext cx="71892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0"/>
          <p:cNvSpPr/>
          <p:nvPr/>
        </p:nvSpPr>
        <p:spPr>
          <a:xfrm>
            <a:off x="3132000" y="3716280"/>
            <a:ext cx="360360" cy="936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1"/>
          <p:cNvSpPr/>
          <p:nvPr/>
        </p:nvSpPr>
        <p:spPr>
          <a:xfrm>
            <a:off x="7020000" y="5229360"/>
            <a:ext cx="64764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2"/>
          <p:cNvSpPr/>
          <p:nvPr/>
        </p:nvSpPr>
        <p:spPr>
          <a:xfrm flipH="1" flipV="1">
            <a:off x="6876720" y="2636640"/>
            <a:ext cx="358920" cy="25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3"/>
          <p:cNvSpPr/>
          <p:nvPr/>
        </p:nvSpPr>
        <p:spPr>
          <a:xfrm flipH="1" flipV="1">
            <a:off x="5292720" y="2707920"/>
            <a:ext cx="719280" cy="3097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4"/>
          <p:cNvSpPr/>
          <p:nvPr/>
        </p:nvSpPr>
        <p:spPr>
          <a:xfrm>
            <a:off x="5724360" y="5805360"/>
            <a:ext cx="648000" cy="50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1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176560" y="487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826920" y="4581360"/>
            <a:ext cx="734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利率是银行规定的，按年计算的叫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年利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按月计算的叫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月利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储蓄存款利率表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3095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1116000" y="57340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利率可以根据存款时间的长短和方式的不同而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1"/>
          <p:cNvSpPr/>
          <p:nvPr/>
        </p:nvSpPr>
        <p:spPr>
          <a:xfrm>
            <a:off x="900000" y="46101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存单上，你还能了解到哪些内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73"/>
          <p:cNvSpPr/>
          <p:nvPr/>
        </p:nvSpPr>
        <p:spPr>
          <a:xfrm>
            <a:off x="3995640" y="2421000"/>
            <a:ext cx="432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74" descr="[LZ`%GJ)[CFZFSJN%_MVWR5"/>
          <p:cNvPicPr/>
          <p:nvPr/>
        </p:nvPicPr>
        <p:blipFill>
          <a:blip r:embed="rId1"/>
          <a:stretch/>
        </p:blipFill>
        <p:spPr>
          <a:xfrm>
            <a:off x="1042920" y="1413000"/>
            <a:ext cx="7048440" cy="3162240"/>
          </a:xfrm>
          <a:prstGeom prst="rect">
            <a:avLst/>
          </a:prstGeom>
          <a:ln w="0">
            <a:noFill/>
          </a:ln>
        </p:spPr>
      </p:pic>
      <p:sp>
        <p:nvSpPr>
          <p:cNvPr id="100" name="Oval 175"/>
          <p:cNvSpPr/>
          <p:nvPr/>
        </p:nvSpPr>
        <p:spPr>
          <a:xfrm>
            <a:off x="3924360" y="2060640"/>
            <a:ext cx="4316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1"/>
          <p:cNvSpPr/>
          <p:nvPr/>
        </p:nvSpPr>
        <p:spPr>
          <a:xfrm>
            <a:off x="900000" y="5300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觉得利息的多少可能与什么有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492280"/>
          <a:ext cx="6912000" cy="1944720"/>
        </p:xfrm>
        <a:graphic>
          <a:graphicData uri="http://schemas.openxmlformats.org/drawingml/2006/table">
            <a:tbl>
              <a:tblPr/>
              <a:tblGrid>
                <a:gridCol w="1271520"/>
                <a:gridCol w="1127160"/>
                <a:gridCol w="1128600"/>
                <a:gridCol w="1128960"/>
                <a:gridCol w="1127160"/>
                <a:gridCol w="11286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存款类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姓 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本 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 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利 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利 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整存整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王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1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1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李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1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.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1"/>
          <p:cNvSpPr/>
          <p:nvPr/>
        </p:nvSpPr>
        <p:spPr>
          <a:xfrm>
            <a:off x="1116000" y="465300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结论：利息与本金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1085760" y="52862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当时间、利率相同时，本金越多，利息就越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71"/>
          <p:cNvSpPr/>
          <p:nvPr/>
        </p:nvSpPr>
        <p:spPr>
          <a:xfrm>
            <a:off x="539640" y="1341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息的多少可能与什么有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2637000"/>
          <a:ext cx="7272360" cy="1942920"/>
        </p:xfrm>
        <a:graphic>
          <a:graphicData uri="http://schemas.openxmlformats.org/drawingml/2006/table">
            <a:tbl>
              <a:tblPr/>
              <a:tblGrid>
                <a:gridCol w="1332000"/>
                <a:gridCol w="1189080"/>
                <a:gridCol w="1187280"/>
                <a:gridCol w="1187640"/>
                <a:gridCol w="1188720"/>
                <a:gridCol w="118764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存款类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姓 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本 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 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利 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利 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整存整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王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1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1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李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2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.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18"/>
          <p:cNvSpPr/>
          <p:nvPr/>
        </p:nvSpPr>
        <p:spPr>
          <a:xfrm>
            <a:off x="4175640" y="1792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二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9"/>
          <p:cNvSpPr/>
          <p:nvPr/>
        </p:nvSpPr>
        <p:spPr>
          <a:xfrm>
            <a:off x="765000" y="5373720"/>
            <a:ext cx="83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当本金相同时，存的时间越长，利率越高，利息就越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"/>
          <p:cNvSpPr/>
          <p:nvPr/>
        </p:nvSpPr>
        <p:spPr>
          <a:xfrm>
            <a:off x="1042920" y="4797360"/>
            <a:ext cx="57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结论：利息与时间、利率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71"/>
          <p:cNvSpPr/>
          <p:nvPr/>
        </p:nvSpPr>
        <p:spPr>
          <a:xfrm>
            <a:off x="539640" y="1341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息的多少可能与什么有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71"/>
          <p:cNvSpPr/>
          <p:nvPr/>
        </p:nvSpPr>
        <p:spPr>
          <a:xfrm>
            <a:off x="539640" y="1341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息的多少可能与什么有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550800" y="4960800"/>
            <a:ext cx="57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结论：利息与本金、时间和利率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1703520" y="5608800"/>
            <a:ext cx="5121000" cy="581400"/>
          </a:xfrm>
          <a:prstGeom prst="rect">
            <a:avLst/>
          </a:prstGeom>
          <a:solidFill>
            <a:srgbClr val="ff99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2"/>
          <a:stretch/>
        </p:blipFill>
        <p:spPr>
          <a:xfrm>
            <a:off x="4641840" y="1916280"/>
            <a:ext cx="4273560" cy="2881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262080" y="1916280"/>
            <a:ext cx="4368600" cy="2881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23:47Z</dcterms:created>
  <dc:creator>Administrator</dc:creator>
  <dc:description/>
  <cp:keywords>青岛版数学</cp:keywords>
  <dc:language>en-US</dc:language>
  <cp:lastModifiedBy>微软用户</cp:lastModifiedBy>
  <dcterms:modified xsi:type="dcterms:W3CDTF">2015-11-17T07:24:47Z</dcterms:modified>
  <cp:revision>355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