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3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78D-A249-4318-9683-832A80DD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E69-1258-4D59-84C7-0D9688FA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94C-FF75-4371-90FB-266D31A0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90D-5926-4B0D-BF8E-B21A390C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227-1EEF-42B4-B2A9-3C36BDA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F76-B477-422C-A9C9-B4654F79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4C6-A3C8-433B-AA30-57D0FCA8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897-5708-440B-BDEE-C684792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2EC-7A66-4BF9-9293-D62C9DCB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E2A-DFCC-4A35-ADCA-94111A56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939-169C-42F5-9241-28258641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B3E-AFC3-482B-A0D5-B7CD2BD8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9BAF-6C3C-4B60-87F3-4802CB82C3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image" Target="../media/image11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" Target="slide5.xml"/><Relationship Id="rId6" Type="http://schemas.openxmlformats.org/officeDocument/2006/relationships/image" Target="../media/image8.jpeg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image" Target="../media/image9.jpeg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image" Target="../media/image10.jpeg"/><Relationship Id="rId13" Type="http://schemas.openxmlformats.org/officeDocument/2006/relationships/slide" Target="slide7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image" Target="../media/image11.jpeg"/><Relationship Id="rId5" Type="http://schemas.openxmlformats.org/officeDocument/2006/relationships/slide" Target="slide4.xml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image" Target="../media/image11.jpeg"/><Relationship Id="rId5" Type="http://schemas.openxmlformats.org/officeDocument/2006/relationships/slide" Target="slide4.xml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8.jpeg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image" Target="../media/image9.jpeg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image" Target="../media/image10.jpeg"/><Relationship Id="rId12" Type="http://schemas.openxmlformats.org/officeDocument/2006/relationships/slide" Target="slide11.xml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image" Target="../media/image11.jpeg"/><Relationship Id="rId5" Type="http://schemas.openxmlformats.org/officeDocument/2006/relationships/slide" Target="slide8.xm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5"/>
          <p:cNvSpPr/>
          <p:nvPr/>
        </p:nvSpPr>
        <p:spPr>
          <a:xfrm>
            <a:off x="3059280" y="30290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6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2"/>
          <p:cNvSpPr/>
          <p:nvPr/>
        </p:nvSpPr>
        <p:spPr>
          <a:xfrm>
            <a:off x="3132000" y="432576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49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246" name="Picture 36" descr="蓝色按钮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9"/>
          <p:cNvSpPr/>
          <p:nvPr/>
        </p:nvSpPr>
        <p:spPr>
          <a:xfrm>
            <a:off x="395280" y="206064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比例尺的意义，在这幅图上，实际距离是图上距离的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059280" y="36194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0÷1000 = 1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144960" y="49878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÷1000 = 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8"/>
          <p:cNvGrpSpPr/>
          <p:nvPr/>
        </p:nvGrpSpPr>
        <p:grpSpPr>
          <a:xfrm>
            <a:off x="611280" y="1268280"/>
            <a:ext cx="8532720" cy="504720"/>
            <a:chOff x="611280" y="1268280"/>
            <a:chExt cx="8532720" cy="504720"/>
          </a:xfrm>
        </p:grpSpPr>
        <p:sp>
          <p:nvSpPr>
            <p:cNvPr id="252" name="Rectangle 11"/>
            <p:cNvSpPr/>
            <p:nvPr/>
          </p:nvSpPr>
          <p:spPr>
            <a:xfrm>
              <a:off x="898560" y="1268280"/>
              <a:ext cx="824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点距底线的图上距离是多少厘米？距左边线呢？</a:t>
              </a:r>
              <a:r>
                <a:rPr b="0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1" descr="12"/>
            <p:cNvPicPr/>
            <p:nvPr/>
          </p:nvPicPr>
          <p:blipFill>
            <a:blip r:embed="rId5"/>
            <a:stretch/>
          </p:blipFill>
          <p:spPr>
            <a:xfrm>
              <a:off x="611280" y="1341360"/>
              <a:ext cx="43164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1042920" y="2017800"/>
            <a:ext cx="5473800" cy="4536720"/>
            <a:chOff x="1042920" y="2017800"/>
            <a:chExt cx="5473800" cy="453672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tretch/>
          </p:blipFill>
          <p:spPr>
            <a:xfrm>
              <a:off x="1042920" y="2017800"/>
              <a:ext cx="5472000" cy="40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4"/>
            <p:cNvSpPr/>
            <p:nvPr/>
          </p:nvSpPr>
          <p:spPr>
            <a:xfrm>
              <a:off x="1042920" y="5703120"/>
              <a:ext cx="5473800" cy="851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843280" y="202392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足球场平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39640" y="1341360"/>
            <a:ext cx="61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在图中标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起脚的位置吗？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3"/>
          <a:stretch/>
        </p:blipFill>
        <p:spPr>
          <a:xfrm>
            <a:off x="5575320" y="2070000"/>
            <a:ext cx="423720" cy="1044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"/>
          <p:cNvPicPr/>
          <p:nvPr/>
        </p:nvPicPr>
        <p:blipFill>
          <a:blip r:embed="rId4"/>
          <a:stretch/>
        </p:blipFill>
        <p:spPr>
          <a:xfrm>
            <a:off x="5549760" y="3063960"/>
            <a:ext cx="997200" cy="360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4"/>
          <p:cNvSpPr/>
          <p:nvPr/>
        </p:nvSpPr>
        <p:spPr>
          <a:xfrm>
            <a:off x="5389560" y="2292480"/>
            <a:ext cx="49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6588000" y="2637000"/>
            <a:ext cx="232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起脚位置应该标在距底线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6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，距左边线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厘米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3"/>
          <p:cNvSpPr/>
          <p:nvPr/>
        </p:nvSpPr>
        <p:spPr>
          <a:xfrm>
            <a:off x="1589040" y="5157720"/>
            <a:ext cx="146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比例尺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: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1042920" y="5518080"/>
            <a:ext cx="561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底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左边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脚，射进第二个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4772160" y="20764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左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757760" y="49039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右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6031440" y="3473280"/>
            <a:ext cx="4852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底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5249880" y="26258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42"/>
          <p:cNvSpPr/>
          <p:nvPr/>
        </p:nvSpPr>
        <p:spPr>
          <a:xfrm>
            <a:off x="108000" y="2316240"/>
            <a:ext cx="4389480" cy="2465280"/>
          </a:xfrm>
          <a:custGeom>
            <a:avLst/>
            <a:gdLst>
              <a:gd name="textAreaLeft" fmla="*/ 0 w 4389480"/>
              <a:gd name="textAreaRight" fmla="*/ 4389840 w 438948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2765" h="1553">
                <a:moveTo>
                  <a:pt x="87" y="8"/>
                </a:moveTo>
                <a:cubicBezTo>
                  <a:pt x="150" y="16"/>
                  <a:pt x="193" y="26"/>
                  <a:pt x="252" y="45"/>
                </a:cubicBezTo>
                <a:cubicBezTo>
                  <a:pt x="270" y="51"/>
                  <a:pt x="307" y="63"/>
                  <a:pt x="307" y="63"/>
                </a:cubicBezTo>
                <a:cubicBezTo>
                  <a:pt x="673" y="45"/>
                  <a:pt x="1064" y="123"/>
                  <a:pt x="1413" y="36"/>
                </a:cubicBezTo>
                <a:cubicBezTo>
                  <a:pt x="1815" y="39"/>
                  <a:pt x="2218" y="40"/>
                  <a:pt x="2620" y="45"/>
                </a:cubicBezTo>
                <a:cubicBezTo>
                  <a:pt x="2663" y="46"/>
                  <a:pt x="2711" y="32"/>
                  <a:pt x="2748" y="54"/>
                </a:cubicBezTo>
                <a:cubicBezTo>
                  <a:pt x="2765" y="64"/>
                  <a:pt x="2730" y="109"/>
                  <a:pt x="2730" y="109"/>
                </a:cubicBezTo>
                <a:cubicBezTo>
                  <a:pt x="2717" y="229"/>
                  <a:pt x="2716" y="197"/>
                  <a:pt x="2730" y="356"/>
                </a:cubicBezTo>
                <a:cubicBezTo>
                  <a:pt x="2733" y="388"/>
                  <a:pt x="2757" y="447"/>
                  <a:pt x="2757" y="447"/>
                </a:cubicBezTo>
                <a:cubicBezTo>
                  <a:pt x="2754" y="548"/>
                  <a:pt x="2756" y="649"/>
                  <a:pt x="2748" y="749"/>
                </a:cubicBezTo>
                <a:cubicBezTo>
                  <a:pt x="2747" y="768"/>
                  <a:pt x="2730" y="785"/>
                  <a:pt x="2730" y="804"/>
                </a:cubicBezTo>
                <a:cubicBezTo>
                  <a:pt x="2730" y="828"/>
                  <a:pt x="2730" y="853"/>
                  <a:pt x="2730" y="877"/>
                </a:cubicBezTo>
                <a:lnTo>
                  <a:pt x="1950" y="907"/>
                </a:lnTo>
                <a:cubicBezTo>
                  <a:pt x="1954" y="1004"/>
                  <a:pt x="1964" y="1100"/>
                  <a:pt x="1962" y="1197"/>
                </a:cubicBezTo>
                <a:cubicBezTo>
                  <a:pt x="1962" y="1217"/>
                  <a:pt x="1933" y="1301"/>
                  <a:pt x="1925" y="1325"/>
                </a:cubicBezTo>
                <a:cubicBezTo>
                  <a:pt x="1919" y="1343"/>
                  <a:pt x="1907" y="1380"/>
                  <a:pt x="1907" y="1380"/>
                </a:cubicBezTo>
                <a:cubicBezTo>
                  <a:pt x="1910" y="1429"/>
                  <a:pt x="1906" y="1478"/>
                  <a:pt x="1916" y="1526"/>
                </a:cubicBezTo>
                <a:cubicBezTo>
                  <a:pt x="1918" y="1537"/>
                  <a:pt x="1935" y="1536"/>
                  <a:pt x="1943" y="1544"/>
                </a:cubicBezTo>
                <a:cubicBezTo>
                  <a:pt x="1945" y="1546"/>
                  <a:pt x="1943" y="1550"/>
                  <a:pt x="1943" y="1553"/>
                </a:cubicBezTo>
                <a:lnTo>
                  <a:pt x="0" y="154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9"/>
          <p:cNvSpPr/>
          <p:nvPr/>
        </p:nvSpPr>
        <p:spPr>
          <a:xfrm flipH="1">
            <a:off x="7451640" y="3763800"/>
            <a:ext cx="8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2"/>
          <p:cNvSpPr/>
          <p:nvPr/>
        </p:nvSpPr>
        <p:spPr>
          <a:xfrm>
            <a:off x="539640" y="1125000"/>
            <a:ext cx="3745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1522440" y="2779560"/>
            <a:ext cx="200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长方形草坪长的图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5"/>
          <p:cNvSpPr/>
          <p:nvPr/>
        </p:nvSpPr>
        <p:spPr>
          <a:xfrm>
            <a:off x="1240920" y="386064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7"/>
          <p:cNvGrpSpPr/>
          <p:nvPr/>
        </p:nvGrpSpPr>
        <p:grpSpPr>
          <a:xfrm>
            <a:off x="1303920" y="4149720"/>
            <a:ext cx="2247480" cy="733680"/>
            <a:chOff x="1303920" y="4149720"/>
            <a:chExt cx="2247480" cy="733680"/>
          </a:xfrm>
        </p:grpSpPr>
        <p:sp>
          <p:nvSpPr>
            <p:cNvPr id="278" name="Text Box 38"/>
            <p:cNvSpPr/>
            <p:nvPr/>
          </p:nvSpPr>
          <p:spPr>
            <a:xfrm>
              <a:off x="1587960" y="4176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9"/>
            <p:cNvSpPr/>
            <p:nvPr/>
          </p:nvSpPr>
          <p:spPr>
            <a:xfrm>
              <a:off x="1332000" y="4508640"/>
              <a:ext cx="719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0"/>
            <p:cNvSpPr/>
            <p:nvPr/>
          </p:nvSpPr>
          <p:spPr>
            <a:xfrm>
              <a:off x="1303920" y="44845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2765880" y="414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3"/>
            <p:cNvSpPr/>
            <p:nvPr/>
          </p:nvSpPr>
          <p:spPr>
            <a:xfrm>
              <a:off x="2589480" y="4508640"/>
              <a:ext cx="71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4"/>
            <p:cNvSpPr/>
            <p:nvPr/>
          </p:nvSpPr>
          <p:spPr>
            <a:xfrm>
              <a:off x="2579760" y="44704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5"/>
            <p:cNvSpPr/>
            <p:nvPr/>
          </p:nvSpPr>
          <p:spPr>
            <a:xfrm>
              <a:off x="2147040" y="43005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46"/>
          <p:cNvSpPr/>
          <p:nvPr/>
        </p:nvSpPr>
        <p:spPr>
          <a:xfrm>
            <a:off x="1368360" y="5027760"/>
            <a:ext cx="21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7"/>
          <p:cNvSpPr/>
          <p:nvPr/>
        </p:nvSpPr>
        <p:spPr>
          <a:xfrm>
            <a:off x="2060640" y="5616720"/>
            <a:ext cx="15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5624640" y="2708280"/>
            <a:ext cx="200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长方形草坪宽的图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是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5428440" y="36450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25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80"/>
          <p:cNvGrpSpPr/>
          <p:nvPr/>
        </p:nvGrpSpPr>
        <p:grpSpPr>
          <a:xfrm>
            <a:off x="5401080" y="4059360"/>
            <a:ext cx="2401560" cy="719640"/>
            <a:chOff x="5401080" y="4059360"/>
            <a:chExt cx="2401560" cy="719640"/>
          </a:xfrm>
        </p:grpSpPr>
        <p:grpSp>
          <p:nvGrpSpPr>
            <p:cNvPr id="290" name="Group 79"/>
            <p:cNvGrpSpPr/>
            <p:nvPr/>
          </p:nvGrpSpPr>
          <p:grpSpPr>
            <a:xfrm>
              <a:off x="5401080" y="4059360"/>
              <a:ext cx="790200" cy="719640"/>
              <a:chOff x="5401080" y="4059360"/>
              <a:chExt cx="790200" cy="719640"/>
            </a:xfrm>
          </p:grpSpPr>
          <p:sp>
            <p:nvSpPr>
              <p:cNvPr id="291" name="Text Box 54"/>
              <p:cNvSpPr/>
              <p:nvPr/>
            </p:nvSpPr>
            <p:spPr>
              <a:xfrm>
                <a:off x="5640480" y="4059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55"/>
              <p:cNvSpPr/>
              <p:nvPr/>
            </p:nvSpPr>
            <p:spPr>
              <a:xfrm>
                <a:off x="5469120" y="4416480"/>
                <a:ext cx="7189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56"/>
              <p:cNvSpPr/>
              <p:nvPr/>
            </p:nvSpPr>
            <p:spPr>
              <a:xfrm>
                <a:off x="5401080" y="43801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8"/>
            <p:cNvGrpSpPr/>
            <p:nvPr/>
          </p:nvGrpSpPr>
          <p:grpSpPr>
            <a:xfrm>
              <a:off x="6815160" y="4079880"/>
              <a:ext cx="987480" cy="681480"/>
              <a:chOff x="6815160" y="4079880"/>
              <a:chExt cx="987480" cy="68148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7072560" y="40798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59"/>
              <p:cNvSpPr/>
              <p:nvPr/>
            </p:nvSpPr>
            <p:spPr>
              <a:xfrm>
                <a:off x="6862680" y="4425840"/>
                <a:ext cx="719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60"/>
              <p:cNvSpPr/>
              <p:nvPr/>
            </p:nvSpPr>
            <p:spPr>
              <a:xfrm>
                <a:off x="6815160" y="4362480"/>
                <a:ext cx="98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 Box 61"/>
            <p:cNvSpPr/>
            <p:nvPr/>
          </p:nvSpPr>
          <p:spPr>
            <a:xfrm>
              <a:off x="6360840" y="42451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62"/>
          <p:cNvSpPr/>
          <p:nvPr/>
        </p:nvSpPr>
        <p:spPr>
          <a:xfrm>
            <a:off x="5706000" y="491976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3"/>
          <p:cNvSpPr/>
          <p:nvPr/>
        </p:nvSpPr>
        <p:spPr>
          <a:xfrm>
            <a:off x="6310440" y="5472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2"/>
          <p:cNvSpPr/>
          <p:nvPr/>
        </p:nvSpPr>
        <p:spPr>
          <a:xfrm>
            <a:off x="900000" y="2276640"/>
            <a:ext cx="31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先算出图上距离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900000" y="1447200"/>
            <a:ext cx="7201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块长方形草坪长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宽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请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∶100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例尺画出这块草坪的平面图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971640" y="597852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再画图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2"/>
          <p:cNvSpPr/>
          <p:nvPr/>
        </p:nvSpPr>
        <p:spPr>
          <a:xfrm>
            <a:off x="2124000" y="59547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答案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42"/>
          <p:cNvSpPr/>
          <p:nvPr/>
        </p:nvSpPr>
        <p:spPr>
          <a:xfrm>
            <a:off x="108000" y="2316240"/>
            <a:ext cx="4389480" cy="2465280"/>
          </a:xfrm>
          <a:custGeom>
            <a:avLst/>
            <a:gdLst>
              <a:gd name="textAreaLeft" fmla="*/ 0 w 4389480"/>
              <a:gd name="textAreaRight" fmla="*/ 4389840 w 438948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2765" h="1553">
                <a:moveTo>
                  <a:pt x="87" y="8"/>
                </a:moveTo>
                <a:cubicBezTo>
                  <a:pt x="150" y="16"/>
                  <a:pt x="193" y="26"/>
                  <a:pt x="252" y="45"/>
                </a:cubicBezTo>
                <a:cubicBezTo>
                  <a:pt x="270" y="51"/>
                  <a:pt x="307" y="63"/>
                  <a:pt x="307" y="63"/>
                </a:cubicBezTo>
                <a:cubicBezTo>
                  <a:pt x="673" y="45"/>
                  <a:pt x="1064" y="123"/>
                  <a:pt x="1413" y="36"/>
                </a:cubicBezTo>
                <a:cubicBezTo>
                  <a:pt x="1815" y="39"/>
                  <a:pt x="2218" y="40"/>
                  <a:pt x="2620" y="45"/>
                </a:cubicBezTo>
                <a:cubicBezTo>
                  <a:pt x="2663" y="46"/>
                  <a:pt x="2711" y="32"/>
                  <a:pt x="2748" y="54"/>
                </a:cubicBezTo>
                <a:cubicBezTo>
                  <a:pt x="2765" y="64"/>
                  <a:pt x="2730" y="109"/>
                  <a:pt x="2730" y="109"/>
                </a:cubicBezTo>
                <a:cubicBezTo>
                  <a:pt x="2717" y="229"/>
                  <a:pt x="2716" y="197"/>
                  <a:pt x="2730" y="356"/>
                </a:cubicBezTo>
                <a:cubicBezTo>
                  <a:pt x="2733" y="388"/>
                  <a:pt x="2757" y="447"/>
                  <a:pt x="2757" y="447"/>
                </a:cubicBezTo>
                <a:cubicBezTo>
                  <a:pt x="2754" y="548"/>
                  <a:pt x="2756" y="649"/>
                  <a:pt x="2748" y="749"/>
                </a:cubicBezTo>
                <a:cubicBezTo>
                  <a:pt x="2747" y="768"/>
                  <a:pt x="2730" y="785"/>
                  <a:pt x="2730" y="804"/>
                </a:cubicBezTo>
                <a:cubicBezTo>
                  <a:pt x="2730" y="828"/>
                  <a:pt x="2730" y="853"/>
                  <a:pt x="2730" y="877"/>
                </a:cubicBezTo>
                <a:lnTo>
                  <a:pt x="1950" y="907"/>
                </a:lnTo>
                <a:cubicBezTo>
                  <a:pt x="1954" y="1004"/>
                  <a:pt x="1964" y="1100"/>
                  <a:pt x="1962" y="1197"/>
                </a:cubicBezTo>
                <a:cubicBezTo>
                  <a:pt x="1962" y="1217"/>
                  <a:pt x="1933" y="1301"/>
                  <a:pt x="1925" y="1325"/>
                </a:cubicBezTo>
                <a:cubicBezTo>
                  <a:pt x="1919" y="1343"/>
                  <a:pt x="1907" y="1380"/>
                  <a:pt x="1907" y="1380"/>
                </a:cubicBezTo>
                <a:cubicBezTo>
                  <a:pt x="1910" y="1429"/>
                  <a:pt x="1906" y="1478"/>
                  <a:pt x="1916" y="1526"/>
                </a:cubicBezTo>
                <a:cubicBezTo>
                  <a:pt x="1918" y="1537"/>
                  <a:pt x="1935" y="1536"/>
                  <a:pt x="1943" y="1544"/>
                </a:cubicBezTo>
                <a:cubicBezTo>
                  <a:pt x="1945" y="1546"/>
                  <a:pt x="1943" y="1550"/>
                  <a:pt x="1943" y="1553"/>
                </a:cubicBezTo>
                <a:lnTo>
                  <a:pt x="0" y="154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9"/>
          <p:cNvSpPr/>
          <p:nvPr/>
        </p:nvSpPr>
        <p:spPr>
          <a:xfrm flipH="1">
            <a:off x="7451640" y="3395520"/>
            <a:ext cx="8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574560" y="131508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71640" y="2060640"/>
          <a:ext cx="6840360" cy="3095640"/>
        </p:xfrm>
        <a:graphic>
          <a:graphicData uri="http://schemas.openxmlformats.org/drawingml/2006/table">
            <a:tbl>
              <a:tblPr/>
              <a:tblGrid>
                <a:gridCol w="2266920"/>
                <a:gridCol w="2486160"/>
                <a:gridCol w="2087280"/>
              </a:tblGrid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图上距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0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实际距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0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比例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0ed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∶30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∶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Text Box 29"/>
          <p:cNvSpPr/>
          <p:nvPr/>
        </p:nvSpPr>
        <p:spPr>
          <a:xfrm>
            <a:off x="1187280" y="2924280"/>
            <a:ext cx="18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508720" y="378936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∶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3564000" y="450864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539640" y="1195920"/>
            <a:ext cx="770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9"/>
          <p:cNvSpPr/>
          <p:nvPr/>
        </p:nvSpPr>
        <p:spPr>
          <a:xfrm>
            <a:off x="1979640" y="2412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甲、乙两地之间的实际距离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       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0"/>
          <p:cNvSpPr/>
          <p:nvPr/>
        </p:nvSpPr>
        <p:spPr>
          <a:xfrm>
            <a:off x="2050920" y="2923560"/>
            <a:ext cx="4408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:25000 = 20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20×2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1"/>
          <p:cNvSpPr/>
          <p:nvPr/>
        </p:nvSpPr>
        <p:spPr>
          <a:xfrm>
            <a:off x="3123720" y="4220280"/>
            <a:ext cx="30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甲、乙两地之间的图上距离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2"/>
          <p:cNvSpPr/>
          <p:nvPr/>
        </p:nvSpPr>
        <p:spPr>
          <a:xfrm>
            <a:off x="2484360" y="4507920"/>
            <a:ext cx="4427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:20000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5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5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6"/>
          <p:cNvSpPr/>
          <p:nvPr/>
        </p:nvSpPr>
        <p:spPr>
          <a:xfrm>
            <a:off x="900000" y="1597320"/>
            <a:ext cx="770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比例尺是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2500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地图上量得甲、乙两地之间的距离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如果把它改画在比例尺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:2000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地图上，甲、乙两地的图上距离应画多长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6"/>
          <p:cNvSpPr/>
          <p:nvPr/>
        </p:nvSpPr>
        <p:spPr>
          <a:xfrm>
            <a:off x="2916360" y="5814000"/>
            <a:ext cx="583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甲、乙两地的图上距离应画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6"/>
          <p:cNvSpPr/>
          <p:nvPr/>
        </p:nvSpPr>
        <p:spPr>
          <a:xfrm>
            <a:off x="395280" y="112500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427640" cy="44640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0"/>
          <p:cNvSpPr/>
          <p:nvPr/>
        </p:nvSpPr>
        <p:spPr>
          <a:xfrm>
            <a:off x="5076720" y="1700280"/>
            <a:ext cx="3745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客厅实际长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卧室的实际面积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阳台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画在图上应是多少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还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755640" y="5877000"/>
            <a:ext cx="67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解决这些问题，先要量出每个房间的尺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3" descr="红直尺"/>
          <p:cNvPicPr/>
          <p:nvPr/>
        </p:nvPicPr>
        <p:blipFill>
          <a:blip r:embed="rId3"/>
          <a:srcRect l="5936" t="37341" r="2805" b="33333"/>
          <a:stretch/>
        </p:blipFill>
        <p:spPr>
          <a:xfrm>
            <a:off x="898560" y="1628640"/>
            <a:ext cx="5027400" cy="444600"/>
          </a:xfrm>
          <a:prstGeom prst="rect">
            <a:avLst/>
          </a:prstGeom>
          <a:ln w="0">
            <a:noFill/>
          </a:ln>
        </p:spPr>
      </p:pic>
      <p:sp>
        <p:nvSpPr>
          <p:cNvPr id="331" name="Line 14"/>
          <p:cNvSpPr/>
          <p:nvPr/>
        </p:nvSpPr>
        <p:spPr>
          <a:xfrm>
            <a:off x="1028880" y="1643040"/>
            <a:ext cx="18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1692360" y="1459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8"/>
          <p:cNvSpPr/>
          <p:nvPr/>
        </p:nvSpPr>
        <p:spPr>
          <a:xfrm>
            <a:off x="3492360" y="148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3"/>
          <p:cNvSpPr/>
          <p:nvPr/>
        </p:nvSpPr>
        <p:spPr>
          <a:xfrm rot="16200000">
            <a:off x="3974760" y="42418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5"/>
          <p:cNvSpPr/>
          <p:nvPr/>
        </p:nvSpPr>
        <p:spPr>
          <a:xfrm rot="16200000">
            <a:off x="3989160" y="2297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6"/>
          <p:cNvSpPr/>
          <p:nvPr/>
        </p:nvSpPr>
        <p:spPr>
          <a:xfrm rot="16200000">
            <a:off x="618840" y="38829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7"/>
          <p:cNvSpPr/>
          <p:nvPr/>
        </p:nvSpPr>
        <p:spPr>
          <a:xfrm rot="16200000">
            <a:off x="618840" y="28306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8"/>
          <p:cNvSpPr/>
          <p:nvPr/>
        </p:nvSpPr>
        <p:spPr>
          <a:xfrm rot="16200000">
            <a:off x="590040" y="19512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6"/>
          <p:cNvSpPr/>
          <p:nvPr/>
        </p:nvSpPr>
        <p:spPr>
          <a:xfrm>
            <a:off x="395280" y="112500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427640" cy="44640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5148360" y="1341360"/>
            <a:ext cx="37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客厅实际长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1028880" y="1643040"/>
            <a:ext cx="18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1692360" y="1459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492360" y="148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 rot="16200000">
            <a:off x="3974760" y="42418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 rot="16200000">
            <a:off x="3989160" y="2297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 rot="16200000">
            <a:off x="618840" y="38829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 rot="16200000">
            <a:off x="618840" y="28306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 rot="16200000">
            <a:off x="590040" y="19512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5148360" y="220500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比例尺的意义，在这幅图上，实际距离是图上距离的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5580000" y="41497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5257800" y="3645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×100 = 50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5292720" y="42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5148360" y="472608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客厅实际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6"/>
          <p:cNvSpPr/>
          <p:nvPr/>
        </p:nvSpPr>
        <p:spPr>
          <a:xfrm>
            <a:off x="395280" y="112500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427640" cy="44640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6"/>
          <p:cNvSpPr/>
          <p:nvPr/>
        </p:nvSpPr>
        <p:spPr>
          <a:xfrm>
            <a:off x="5148360" y="1341360"/>
            <a:ext cx="345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卧室的实际面积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1028880" y="1643040"/>
            <a:ext cx="18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692360" y="1459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492360" y="148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 rot="16200000">
            <a:off x="3974760" y="42418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 rot="16200000">
            <a:off x="3989160" y="2297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 rot="16200000">
            <a:off x="618840" y="38829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 rot="16200000">
            <a:off x="618840" y="28306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 rot="16200000">
            <a:off x="590040" y="19512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5148360" y="223344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比例尺的意义，在这幅图上，实际距离是图上距离的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>
            <a:off x="5257800" y="350028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×100 = 30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3924360" y="5734080"/>
            <a:ext cx="633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小卧室的实际面积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5292720" y="443556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×100 = 40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2"/>
          <p:cNvSpPr/>
          <p:nvPr/>
        </p:nvSpPr>
        <p:spPr>
          <a:xfrm>
            <a:off x="5292720" y="400356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5292720" y="486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4"/>
          <p:cNvSpPr/>
          <p:nvPr/>
        </p:nvSpPr>
        <p:spPr>
          <a:xfrm>
            <a:off x="5148360" y="538812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×3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6"/>
          <p:cNvSpPr/>
          <p:nvPr/>
        </p:nvSpPr>
        <p:spPr>
          <a:xfrm>
            <a:off x="395280" y="112500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427640" cy="4464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148360" y="1341360"/>
            <a:ext cx="34574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阳台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画在图上应是多少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028880" y="1643040"/>
            <a:ext cx="18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1692360" y="1459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492360" y="148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 rot="16200000">
            <a:off x="3974760" y="42418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1"/>
          <p:cNvSpPr/>
          <p:nvPr/>
        </p:nvSpPr>
        <p:spPr>
          <a:xfrm rot="16200000">
            <a:off x="3989160" y="2297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 rot="16200000">
            <a:off x="618840" y="38829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 rot="16200000">
            <a:off x="618840" y="28306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 rot="16200000">
            <a:off x="590040" y="19512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5076720" y="2637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比例尺的意义，在这幅图上，实际距离是图上距离的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5257800" y="400536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5292720" y="458136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÷100 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1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5003640" y="5157720"/>
            <a:ext cx="453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画在图上应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5003640" y="256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395280" y="112500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427640" cy="4464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6"/>
          <p:cNvSpPr/>
          <p:nvPr/>
        </p:nvSpPr>
        <p:spPr>
          <a:xfrm>
            <a:off x="4859280" y="1413000"/>
            <a:ext cx="460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还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1028880" y="1643040"/>
            <a:ext cx="188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692360" y="1459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3492360" y="148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 rot="16200000">
            <a:off x="3974760" y="42418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 rot="16200000">
            <a:off x="3989160" y="2297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 rot="16200000">
            <a:off x="618840" y="38829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 rot="16200000">
            <a:off x="618840" y="28306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 rot="16200000">
            <a:off x="590040" y="19512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5076720" y="1989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厨房的实际宽是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5291280" y="4581360"/>
            <a:ext cx="230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5040360" y="386064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主卧室的实际面积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5257800" y="24494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×100 = 25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5292720" y="2924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5076720" y="34146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厨房的实际宽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2059" t="0" r="0" b="0"/>
          <a:stretch/>
        </p:blipFill>
        <p:spPr>
          <a:xfrm>
            <a:off x="1258920" y="1628640"/>
            <a:ext cx="6805440" cy="4303800"/>
          </a:xfrm>
          <a:prstGeom prst="rect">
            <a:avLst/>
          </a:prstGeom>
          <a:ln w="0">
            <a:noFill/>
          </a:ln>
        </p:spPr>
      </p:pic>
      <p:sp>
        <p:nvSpPr>
          <p:cNvPr id="43" name="Line 9"/>
          <p:cNvSpPr/>
          <p:nvPr/>
        </p:nvSpPr>
        <p:spPr>
          <a:xfrm>
            <a:off x="1258920" y="5877000"/>
            <a:ext cx="677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157640" y="585144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边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4132440" y="1171440"/>
            <a:ext cx="13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边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1268280" y="1643040"/>
            <a:ext cx="672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6"/>
          <p:cNvSpPr/>
          <p:nvPr/>
        </p:nvSpPr>
        <p:spPr>
          <a:xfrm>
            <a:off x="1284120" y="1628640"/>
            <a:ext cx="0" cy="424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7"/>
          <p:cNvSpPr/>
          <p:nvPr/>
        </p:nvSpPr>
        <p:spPr>
          <a:xfrm>
            <a:off x="8028000" y="1628640"/>
            <a:ext cx="1440" cy="424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687240" y="3141720"/>
            <a:ext cx="5461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8104320" y="3429000"/>
            <a:ext cx="5461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>
            <a:off x="4645080" y="1649520"/>
            <a:ext cx="0" cy="4238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4589280" y="3357720"/>
            <a:ext cx="546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中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6000" y="2565360"/>
            <a:ext cx="792000" cy="24480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1332000" y="2538360"/>
            <a:ext cx="712800" cy="25290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390680" y="3157560"/>
            <a:ext cx="546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禁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7383600" y="3141720"/>
            <a:ext cx="5461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禁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1042920" y="6165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足球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的知识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都有哪些了解？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:\Documents and Settings\pub\Desktop\新ppt\返回首页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1"/>
          <p:cNvSpPr/>
          <p:nvPr/>
        </p:nvSpPr>
        <p:spPr>
          <a:xfrm>
            <a:off x="1116000" y="1662120"/>
            <a:ext cx="287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2"/>
          <p:cNvSpPr/>
          <p:nvPr/>
        </p:nvSpPr>
        <p:spPr>
          <a:xfrm>
            <a:off x="7956720" y="1628640"/>
            <a:ext cx="287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3"/>
          <p:cNvSpPr/>
          <p:nvPr/>
        </p:nvSpPr>
        <p:spPr>
          <a:xfrm>
            <a:off x="1403280" y="5805360"/>
            <a:ext cx="648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4"/>
          <p:cNvSpPr/>
          <p:nvPr/>
        </p:nvSpPr>
        <p:spPr>
          <a:xfrm>
            <a:off x="1403280" y="1557360"/>
            <a:ext cx="648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5"/>
          <p:cNvSpPr/>
          <p:nvPr/>
        </p:nvSpPr>
        <p:spPr>
          <a:xfrm>
            <a:off x="4572000" y="1773360"/>
            <a:ext cx="21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6"/>
          <p:cNvSpPr/>
          <p:nvPr/>
        </p:nvSpPr>
        <p:spPr>
          <a:xfrm>
            <a:off x="1332000" y="2637000"/>
            <a:ext cx="576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7"/>
          <p:cNvSpPr/>
          <p:nvPr/>
        </p:nvSpPr>
        <p:spPr>
          <a:xfrm>
            <a:off x="7380360" y="2565360"/>
            <a:ext cx="576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6"/>
          <p:cNvSpPr/>
          <p:nvPr/>
        </p:nvSpPr>
        <p:spPr>
          <a:xfrm>
            <a:off x="611280" y="1134720"/>
            <a:ext cx="1728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971640" y="1197000"/>
            <a:ext cx="781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比例尺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∶200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地图上量得甲、乙两地间的铁路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两列火车分别从甲、乙两地同时相对开出，已知从甲地开出的车每小时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从乙地开出的车每小时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几小时后两车能相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755640" y="306864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比例尺的意义，在这幅图上，实际距离是图上距离的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000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476360" y="4005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×20000000 = 12000000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1476360" y="45799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00000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1476360" y="522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0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5+1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小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3635280" y="5851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两车相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5"/>
          <p:cNvGrpSpPr/>
          <p:nvPr/>
        </p:nvGrpSpPr>
        <p:grpSpPr>
          <a:xfrm>
            <a:off x="539640" y="1341360"/>
            <a:ext cx="5473800" cy="4600440"/>
            <a:chOff x="539640" y="1341360"/>
            <a:chExt cx="5473800" cy="4600440"/>
          </a:xfrm>
        </p:grpSpPr>
        <p:pic>
          <p:nvPicPr>
            <p:cNvPr id="68" name="Picture 2" descr=""/>
            <p:cNvPicPr/>
            <p:nvPr/>
          </p:nvPicPr>
          <p:blipFill>
            <a:blip r:embed="rId1"/>
            <a:stretch/>
          </p:blipFill>
          <p:spPr>
            <a:xfrm>
              <a:off x="539640" y="1341360"/>
              <a:ext cx="5472000" cy="40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44"/>
            <p:cNvSpPr/>
            <p:nvPr/>
          </p:nvSpPr>
          <p:spPr>
            <a:xfrm>
              <a:off x="539640" y="5078160"/>
              <a:ext cx="547380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C:\Documents and Settings\pub\Desktop\新ppt\返回首页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8360" y="4610160"/>
            <a:ext cx="5616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雏鹰少年足球队上半场以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∶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先。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在蓝色区域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（距底线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右边线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）起脚，射进第一个球；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在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（距底线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左边线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）起脚，射进第二个球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468520" y="1374840"/>
            <a:ext cx="16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足球场平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539640" y="6067440"/>
            <a:ext cx="5545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11200" y="64389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这些信息，你能提出什么问题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012000" y="1557360"/>
            <a:ext cx="2966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在蓝色区域距底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右边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起脚，射进第一个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012000" y="3789360"/>
            <a:ext cx="287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在距底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左边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起脚，射进第二个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056280" y="5056200"/>
            <a:ext cx="302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距底线的图上距离是多少厘米？距左边线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6041880" y="2795760"/>
            <a:ext cx="302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距底线的图上距离是多少厘米？距右边线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211640" y="1341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左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211640" y="42559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右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572800" y="2779560"/>
            <a:ext cx="4852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底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1116000" y="4221000"/>
            <a:ext cx="165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900000" y="472428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539640" y="5373720"/>
            <a:ext cx="52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1"/>
          <p:cNvSpPr/>
          <p:nvPr/>
        </p:nvSpPr>
        <p:spPr>
          <a:xfrm>
            <a:off x="6012000" y="3716280"/>
            <a:ext cx="29509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2" descr=""/>
          <p:cNvPicPr/>
          <p:nvPr/>
        </p:nvPicPr>
        <p:blipFill>
          <a:blip r:embed="rId4"/>
          <a:srcRect l="0" t="11846" r="12398" b="-9230"/>
          <a:stretch/>
        </p:blipFill>
        <p:spPr>
          <a:xfrm>
            <a:off x="380880" y="1239840"/>
            <a:ext cx="8208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5"/>
          <p:cNvGrpSpPr/>
          <p:nvPr/>
        </p:nvGrpSpPr>
        <p:grpSpPr>
          <a:xfrm>
            <a:off x="539640" y="1916280"/>
            <a:ext cx="5473800" cy="4033440"/>
            <a:chOff x="539640" y="1916280"/>
            <a:chExt cx="5473800" cy="4033440"/>
          </a:xfrm>
        </p:grpSpPr>
        <p:pic>
          <p:nvPicPr>
            <p:cNvPr id="89" name="Picture 2" descr=""/>
            <p:cNvPicPr/>
            <p:nvPr/>
          </p:nvPicPr>
          <p:blipFill>
            <a:blip r:embed="rId1"/>
            <a:stretch/>
          </p:blipFill>
          <p:spPr>
            <a:xfrm>
              <a:off x="539640" y="1916280"/>
              <a:ext cx="5472000" cy="35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4"/>
            <p:cNvSpPr/>
            <p:nvPr/>
          </p:nvSpPr>
          <p:spPr>
            <a:xfrm>
              <a:off x="539640" y="5192640"/>
              <a:ext cx="5473800" cy="75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340000" y="195120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足球场平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4"/>
          <p:cNvGrpSpPr/>
          <p:nvPr/>
        </p:nvGrpSpPr>
        <p:grpSpPr>
          <a:xfrm>
            <a:off x="539640" y="1268280"/>
            <a:ext cx="8604360" cy="442800"/>
            <a:chOff x="539640" y="1268280"/>
            <a:chExt cx="8604360" cy="442800"/>
          </a:xfrm>
        </p:grpSpPr>
        <p:pic>
          <p:nvPicPr>
            <p:cNvPr id="94" name="Picture 9" descr=""/>
            <p:cNvPicPr/>
            <p:nvPr/>
          </p:nvPicPr>
          <p:blipFill>
            <a:blip r:embed="rId2"/>
            <a:stretch/>
          </p:blipFill>
          <p:spPr>
            <a:xfrm>
              <a:off x="539640" y="12794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1"/>
            <p:cNvSpPr/>
            <p:nvPr/>
          </p:nvSpPr>
          <p:spPr>
            <a:xfrm>
              <a:off x="898560" y="1268280"/>
              <a:ext cx="824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点距底线的图上距离是多少厘米？距右边线呢？</a:t>
              </a:r>
              <a:r>
                <a:rPr b="0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19" descr="C:\Documents and Settings\pub\Desktop\新ppt\返回首页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3"/>
          <p:cNvSpPr/>
          <p:nvPr/>
        </p:nvSpPr>
        <p:spPr>
          <a:xfrm>
            <a:off x="1158840" y="4724280"/>
            <a:ext cx="146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比例尺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: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2720" y="5084640"/>
            <a:ext cx="561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在蓝色区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底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右边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脚，射进第一个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253040" y="1944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左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238640" y="4437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右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512320" y="3284640"/>
            <a:ext cx="485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底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6227640" y="2924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会求图上距离吗？试试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4" descr="蓝色按钮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49280" y="63007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5">
            <a:hlinkClick r:id="rId7" action="ppaction://hlinksldjump"/>
          </p:cNvPr>
          <p:cNvSpPr/>
          <p:nvPr/>
        </p:nvSpPr>
        <p:spPr>
          <a:xfrm>
            <a:off x="172800" y="6068880"/>
            <a:ext cx="7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方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7" descr="蓝色按钮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349280" y="630072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8">
            <a:hlinkClick r:id="rId10" action="ppaction://hlinksldjump"/>
          </p:cNvPr>
          <p:cNvSpPr/>
          <p:nvPr/>
        </p:nvSpPr>
        <p:spPr>
          <a:xfrm>
            <a:off x="1059840" y="60040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算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3" descr="蓝色按钮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328840" y="62848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4">
            <a:hlinkClick r:id="rId13" action="ppaction://hlinksldjump"/>
          </p:cNvPr>
          <p:cNvSpPr/>
          <p:nvPr/>
        </p:nvSpPr>
        <p:spPr>
          <a:xfrm>
            <a:off x="2197080" y="59878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6"/>
          <p:cNvSpPr/>
          <p:nvPr/>
        </p:nvSpPr>
        <p:spPr>
          <a:xfrm>
            <a:off x="395280" y="29811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距底线的图上距离是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535040" y="378936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1414440" y="520704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965240" y="5769000"/>
            <a:ext cx="19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χ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7"/>
          <p:cNvGrpSpPr/>
          <p:nvPr/>
        </p:nvGrpSpPr>
        <p:grpSpPr>
          <a:xfrm>
            <a:off x="1353960" y="4351320"/>
            <a:ext cx="1990440" cy="1011600"/>
            <a:chOff x="1353960" y="4351320"/>
            <a:chExt cx="1990440" cy="1011600"/>
          </a:xfrm>
        </p:grpSpPr>
        <p:sp>
          <p:nvSpPr>
            <p:cNvPr id="116" name="Text Box 20"/>
            <p:cNvSpPr/>
            <p:nvPr/>
          </p:nvSpPr>
          <p:spPr>
            <a:xfrm>
              <a:off x="1644480" y="4365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493280" y="4719600"/>
              <a:ext cx="502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1353960" y="4643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2781720" y="4351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2583720" y="4659120"/>
              <a:ext cx="7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2252880" y="45021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2676600" y="4722840"/>
              <a:ext cx="502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9"/>
          <p:cNvGrpSpPr/>
          <p:nvPr/>
        </p:nvGrpSpPr>
        <p:grpSpPr>
          <a:xfrm>
            <a:off x="138960" y="5877000"/>
            <a:ext cx="966960" cy="704880"/>
            <a:chOff x="138960" y="5877000"/>
            <a:chExt cx="966960" cy="704880"/>
          </a:xfrm>
        </p:grpSpPr>
        <p:pic>
          <p:nvPicPr>
            <p:cNvPr id="124" name="Picture 36" descr="蓝色按钮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12640" y="6154920"/>
              <a:ext cx="4312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7">
              <a:hlinkClick r:id="rId5" action="ppaction://hlinksldjump"/>
            </p:cNvPr>
            <p:cNvSpPr/>
            <p:nvPr/>
          </p:nvSpPr>
          <p:spPr>
            <a:xfrm>
              <a:off x="138960" y="58770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40"/>
          <p:cNvSpPr/>
          <p:nvPr/>
        </p:nvSpPr>
        <p:spPr>
          <a:xfrm>
            <a:off x="5484600" y="2965320"/>
            <a:ext cx="2833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距右边线的图上距离是</a:t>
            </a:r>
            <a:r>
              <a:rPr b="1" i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5477040" y="3789360"/>
            <a:ext cx="25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5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60"/>
          <p:cNvGrpSpPr/>
          <p:nvPr/>
        </p:nvGrpSpPr>
        <p:grpSpPr>
          <a:xfrm>
            <a:off x="5276880" y="4292640"/>
            <a:ext cx="2244240" cy="773640"/>
            <a:chOff x="5276880" y="4292640"/>
            <a:chExt cx="2244240" cy="773640"/>
          </a:xfrm>
        </p:grpSpPr>
        <p:grpSp>
          <p:nvGrpSpPr>
            <p:cNvPr id="129" name="Group 58"/>
            <p:cNvGrpSpPr/>
            <p:nvPr/>
          </p:nvGrpSpPr>
          <p:grpSpPr>
            <a:xfrm>
              <a:off x="5276880" y="4292640"/>
              <a:ext cx="878400" cy="773640"/>
              <a:chOff x="5276880" y="4292640"/>
              <a:chExt cx="878400" cy="773640"/>
            </a:xfrm>
          </p:grpSpPr>
          <p:sp>
            <p:nvSpPr>
              <p:cNvPr id="130" name="Text Box 44"/>
              <p:cNvSpPr/>
              <p:nvPr/>
            </p:nvSpPr>
            <p:spPr>
              <a:xfrm>
                <a:off x="5454720" y="429264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45"/>
              <p:cNvSpPr/>
              <p:nvPr/>
            </p:nvSpPr>
            <p:spPr>
              <a:xfrm>
                <a:off x="5276880" y="4738680"/>
                <a:ext cx="676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46"/>
              <p:cNvSpPr/>
              <p:nvPr/>
            </p:nvSpPr>
            <p:spPr>
              <a:xfrm>
                <a:off x="5282640" y="4667400"/>
                <a:ext cx="87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59"/>
            <p:cNvGrpSpPr/>
            <p:nvPr/>
          </p:nvGrpSpPr>
          <p:grpSpPr>
            <a:xfrm>
              <a:off x="6628680" y="4380120"/>
              <a:ext cx="892440" cy="685800"/>
              <a:chOff x="6628680" y="4380120"/>
              <a:chExt cx="892440" cy="685800"/>
            </a:xfrm>
          </p:grpSpPr>
          <p:sp>
            <p:nvSpPr>
              <p:cNvPr id="134" name="Text Box 48"/>
              <p:cNvSpPr/>
              <p:nvPr/>
            </p:nvSpPr>
            <p:spPr>
              <a:xfrm>
                <a:off x="6800040" y="43801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9"/>
              <p:cNvSpPr/>
              <p:nvPr/>
            </p:nvSpPr>
            <p:spPr>
              <a:xfrm>
                <a:off x="6628680" y="4738680"/>
                <a:ext cx="676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0"/>
              <p:cNvSpPr/>
              <p:nvPr/>
            </p:nvSpPr>
            <p:spPr>
              <a:xfrm>
                <a:off x="6628680" y="4667040"/>
                <a:ext cx="89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51"/>
            <p:cNvSpPr/>
            <p:nvPr/>
          </p:nvSpPr>
          <p:spPr>
            <a:xfrm>
              <a:off x="6147360" y="4522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52"/>
          <p:cNvSpPr/>
          <p:nvPr/>
        </p:nvSpPr>
        <p:spPr>
          <a:xfrm>
            <a:off x="5364000" y="522936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i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3"/>
          <p:cNvSpPr/>
          <p:nvPr/>
        </p:nvSpPr>
        <p:spPr>
          <a:xfrm>
            <a:off x="5925960" y="5780160"/>
            <a:ext cx="19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976320" y="2104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根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2101680" y="2317680"/>
            <a:ext cx="1440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312280" y="188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图上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29824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际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623400" y="2122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例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5133960" y="21016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可以列方程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8"/>
          <p:cNvGrpSpPr/>
          <p:nvPr/>
        </p:nvGrpSpPr>
        <p:grpSpPr>
          <a:xfrm>
            <a:off x="539640" y="1268280"/>
            <a:ext cx="8604360" cy="442800"/>
            <a:chOff x="539640" y="1268280"/>
            <a:chExt cx="8604360" cy="442800"/>
          </a:xfrm>
        </p:grpSpPr>
        <p:pic>
          <p:nvPicPr>
            <p:cNvPr id="147" name="Picture 9" descr=""/>
            <p:cNvPicPr/>
            <p:nvPr/>
          </p:nvPicPr>
          <p:blipFill>
            <a:blip r:embed="rId6"/>
            <a:stretch/>
          </p:blipFill>
          <p:spPr>
            <a:xfrm>
              <a:off x="539640" y="12794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11"/>
            <p:cNvSpPr/>
            <p:nvPr/>
          </p:nvSpPr>
          <p:spPr>
            <a:xfrm>
              <a:off x="898560" y="1268280"/>
              <a:ext cx="824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点距底线的图上距离是多少厘米？距右边线呢？</a:t>
              </a:r>
              <a:r>
                <a:rPr b="0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5"/>
          <p:cNvSpPr/>
          <p:nvPr/>
        </p:nvSpPr>
        <p:spPr>
          <a:xfrm>
            <a:off x="3059280" y="30290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2"/>
          <p:cNvSpPr/>
          <p:nvPr/>
        </p:nvSpPr>
        <p:spPr>
          <a:xfrm>
            <a:off x="3132000" y="432576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9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154" name="Picture 36" descr="蓝色按钮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37">
              <a:hlinkClick r:id="rId5" action="ppaction://hlinksldjump"/>
            </p:cNvPr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29"/>
          <p:cNvSpPr/>
          <p:nvPr/>
        </p:nvSpPr>
        <p:spPr>
          <a:xfrm>
            <a:off x="395280" y="206064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比例尺的意义，在这幅图上，实际距离是图上距离的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0"/>
          <p:cNvSpPr/>
          <p:nvPr/>
        </p:nvSpPr>
        <p:spPr>
          <a:xfrm>
            <a:off x="3059280" y="36194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÷1000 = 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3144960" y="49878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0÷1000 = 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2"/>
          <p:cNvGrpSpPr/>
          <p:nvPr/>
        </p:nvGrpSpPr>
        <p:grpSpPr>
          <a:xfrm>
            <a:off x="539640" y="1268280"/>
            <a:ext cx="8604360" cy="442800"/>
            <a:chOff x="539640" y="1268280"/>
            <a:chExt cx="8604360" cy="442800"/>
          </a:xfrm>
        </p:grpSpPr>
        <p:pic>
          <p:nvPicPr>
            <p:cNvPr id="160" name="Picture 9" descr=""/>
            <p:cNvPicPr/>
            <p:nvPr/>
          </p:nvPicPr>
          <p:blipFill>
            <a:blip r:embed="rId6"/>
            <a:stretch/>
          </p:blipFill>
          <p:spPr>
            <a:xfrm>
              <a:off x="539640" y="12794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11"/>
            <p:cNvSpPr/>
            <p:nvPr/>
          </p:nvSpPr>
          <p:spPr>
            <a:xfrm>
              <a:off x="898560" y="1268280"/>
              <a:ext cx="824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点距底线的图上距离是多少厘米？距右边线呢？</a:t>
              </a:r>
              <a:r>
                <a:rPr b="0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611280" y="1901880"/>
            <a:ext cx="5473440" cy="4522320"/>
            <a:chOff x="611280" y="1901880"/>
            <a:chExt cx="5473440" cy="452232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611280" y="1901880"/>
              <a:ext cx="5471640" cy="40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4"/>
            <p:cNvSpPr/>
            <p:nvPr/>
          </p:nvSpPr>
          <p:spPr>
            <a:xfrm>
              <a:off x="611280" y="5575320"/>
              <a:ext cx="5473440" cy="84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411280" y="1871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足球场平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611280" y="1341360"/>
            <a:ext cx="612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在图中标出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起脚的位置吗？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9" descr="C:\Documents and Settings\pub\Desktop\新ppt\返回首页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1230120" y="4724280"/>
            <a:ext cx="146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比例尺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: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84360" y="5300640"/>
            <a:ext cx="561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在蓝色区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（距底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右边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）起脚，射进第一个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5253120" y="3984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300720" y="2781360"/>
            <a:ext cx="255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脚位置应该标在距底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距右边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6" descr=""/>
          <p:cNvPicPr/>
          <p:nvPr/>
        </p:nvPicPr>
        <p:blipFill>
          <a:blip r:embed="rId4"/>
          <a:stretch/>
        </p:blipFill>
        <p:spPr>
          <a:xfrm>
            <a:off x="5280120" y="4394160"/>
            <a:ext cx="1019160" cy="36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"/>
          <p:cNvPicPr/>
          <p:nvPr/>
        </p:nvPicPr>
        <p:blipFill>
          <a:blip r:embed="rId5"/>
          <a:stretch/>
        </p:blipFill>
        <p:spPr>
          <a:xfrm>
            <a:off x="5041800" y="4373640"/>
            <a:ext cx="276480" cy="936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8"/>
          <p:cNvSpPr/>
          <p:nvPr/>
        </p:nvSpPr>
        <p:spPr>
          <a:xfrm>
            <a:off x="5091120" y="3638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311720" y="18939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左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340160" y="4751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右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5583600" y="3357720"/>
            <a:ext cx="485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底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4975200" y="40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5"/>
          <p:cNvGrpSpPr/>
          <p:nvPr/>
        </p:nvGrpSpPr>
        <p:grpSpPr>
          <a:xfrm>
            <a:off x="539640" y="1916280"/>
            <a:ext cx="5473800" cy="4033440"/>
            <a:chOff x="539640" y="1916280"/>
            <a:chExt cx="5473800" cy="4033440"/>
          </a:xfrm>
        </p:grpSpPr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539640" y="1916280"/>
              <a:ext cx="5472000" cy="356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44"/>
            <p:cNvSpPr/>
            <p:nvPr/>
          </p:nvSpPr>
          <p:spPr>
            <a:xfrm>
              <a:off x="539640" y="5192640"/>
              <a:ext cx="5473800" cy="75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2340000" y="195120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足球场平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9" descr="C:\Documents and Settings\pub\Desktop\新ppt\返回首页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3"/>
          <p:cNvSpPr/>
          <p:nvPr/>
        </p:nvSpPr>
        <p:spPr>
          <a:xfrm>
            <a:off x="1158840" y="4724280"/>
            <a:ext cx="146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比例尺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: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612720" y="5084640"/>
            <a:ext cx="561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队员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底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左边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脚，射进第二个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253040" y="1944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左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238640" y="4437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右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5512320" y="3284640"/>
            <a:ext cx="485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底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4" descr="蓝色按钮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9280" y="63007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5">
            <a:hlinkClick r:id="rId6" action="ppaction://hlinksldjump"/>
          </p:cNvPr>
          <p:cNvSpPr/>
          <p:nvPr/>
        </p:nvSpPr>
        <p:spPr>
          <a:xfrm>
            <a:off x="172800" y="6068880"/>
            <a:ext cx="7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方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7" descr="蓝色按钮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349280" y="630072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8">
            <a:hlinkClick r:id="rId9" action="ppaction://hlinksldjump"/>
          </p:cNvPr>
          <p:cNvSpPr/>
          <p:nvPr/>
        </p:nvSpPr>
        <p:spPr>
          <a:xfrm>
            <a:off x="1059840" y="60040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算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3" descr="蓝色按钮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328840" y="62848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4">
            <a:hlinkClick r:id="rId12" action="ppaction://hlinksldjump"/>
          </p:cNvPr>
          <p:cNvSpPr/>
          <p:nvPr/>
        </p:nvSpPr>
        <p:spPr>
          <a:xfrm>
            <a:off x="2197080" y="59878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611280" y="1268280"/>
            <a:ext cx="8532720" cy="504720"/>
            <a:chOff x="611280" y="1268280"/>
            <a:chExt cx="8532720" cy="504720"/>
          </a:xfrm>
        </p:grpSpPr>
        <p:sp>
          <p:nvSpPr>
            <p:cNvPr id="198" name="Rectangle 11"/>
            <p:cNvSpPr/>
            <p:nvPr/>
          </p:nvSpPr>
          <p:spPr>
            <a:xfrm>
              <a:off x="898560" y="1268280"/>
              <a:ext cx="824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点距底线的图上距离是多少厘米？距左边线呢？</a:t>
              </a:r>
              <a:r>
                <a:rPr b="0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1" descr="12"/>
            <p:cNvPicPr/>
            <p:nvPr/>
          </p:nvPicPr>
          <p:blipFill>
            <a:blip r:embed="rId13"/>
            <a:stretch/>
          </p:blipFill>
          <p:spPr>
            <a:xfrm>
              <a:off x="611280" y="1341360"/>
              <a:ext cx="43164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31"/>
          <p:cNvSpPr/>
          <p:nvPr/>
        </p:nvSpPr>
        <p:spPr>
          <a:xfrm>
            <a:off x="6227640" y="2924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会求图上距离吗？试试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6"/>
          <p:cNvSpPr/>
          <p:nvPr/>
        </p:nvSpPr>
        <p:spPr>
          <a:xfrm>
            <a:off x="395280" y="29811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距底线的图上距离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1535040" y="378936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6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1414440" y="520704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1965240" y="5769000"/>
            <a:ext cx="19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7"/>
          <p:cNvGrpSpPr/>
          <p:nvPr/>
        </p:nvGrpSpPr>
        <p:grpSpPr>
          <a:xfrm>
            <a:off x="1353960" y="4351320"/>
            <a:ext cx="1990440" cy="1011600"/>
            <a:chOff x="1353960" y="4351320"/>
            <a:chExt cx="1990440" cy="1011600"/>
          </a:xfrm>
        </p:grpSpPr>
        <p:sp>
          <p:nvSpPr>
            <p:cNvPr id="208" name="Text Box 20"/>
            <p:cNvSpPr/>
            <p:nvPr/>
          </p:nvSpPr>
          <p:spPr>
            <a:xfrm>
              <a:off x="1647720" y="4365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1493280" y="4719600"/>
              <a:ext cx="502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353960" y="4643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2781720" y="4351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2583720" y="4659120"/>
              <a:ext cx="7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"/>
            <p:cNvSpPr/>
            <p:nvPr/>
          </p:nvSpPr>
          <p:spPr>
            <a:xfrm>
              <a:off x="2252880" y="45021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2676600" y="4722840"/>
              <a:ext cx="502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9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216" name="Picture 36" descr="蓝色按钮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37">
              <a:hlinkClick r:id="rId5" action="ppaction://hlinksldjump"/>
            </p:cNvPr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40"/>
          <p:cNvSpPr/>
          <p:nvPr/>
        </p:nvSpPr>
        <p:spPr>
          <a:xfrm>
            <a:off x="5461560" y="2965320"/>
            <a:ext cx="282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距左边线的图上距离是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5477040" y="3789360"/>
            <a:ext cx="25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60"/>
          <p:cNvGrpSpPr/>
          <p:nvPr/>
        </p:nvGrpSpPr>
        <p:grpSpPr>
          <a:xfrm>
            <a:off x="5276880" y="4379760"/>
            <a:ext cx="2244240" cy="686160"/>
            <a:chOff x="5276880" y="4379760"/>
            <a:chExt cx="2244240" cy="686160"/>
          </a:xfrm>
        </p:grpSpPr>
        <p:grpSp>
          <p:nvGrpSpPr>
            <p:cNvPr id="221" name="Group 58"/>
            <p:cNvGrpSpPr/>
            <p:nvPr/>
          </p:nvGrpSpPr>
          <p:grpSpPr>
            <a:xfrm>
              <a:off x="5276880" y="4394160"/>
              <a:ext cx="878400" cy="671760"/>
              <a:chOff x="5276880" y="4394160"/>
              <a:chExt cx="878400" cy="671760"/>
            </a:xfrm>
          </p:grpSpPr>
          <p:sp>
            <p:nvSpPr>
              <p:cNvPr id="222" name="Text Box 44"/>
              <p:cNvSpPr/>
              <p:nvPr/>
            </p:nvSpPr>
            <p:spPr>
              <a:xfrm>
                <a:off x="5459760" y="4394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45"/>
              <p:cNvSpPr/>
              <p:nvPr/>
            </p:nvSpPr>
            <p:spPr>
              <a:xfrm>
                <a:off x="5276880" y="4738680"/>
                <a:ext cx="676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46"/>
              <p:cNvSpPr/>
              <p:nvPr/>
            </p:nvSpPr>
            <p:spPr>
              <a:xfrm>
                <a:off x="5282640" y="4667040"/>
                <a:ext cx="87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59"/>
            <p:cNvGrpSpPr/>
            <p:nvPr/>
          </p:nvGrpSpPr>
          <p:grpSpPr>
            <a:xfrm>
              <a:off x="6628680" y="4379760"/>
              <a:ext cx="892440" cy="686160"/>
              <a:chOff x="6628680" y="4379760"/>
              <a:chExt cx="892440" cy="686160"/>
            </a:xfrm>
          </p:grpSpPr>
          <p:sp>
            <p:nvSpPr>
              <p:cNvPr id="226" name="Text Box 48"/>
              <p:cNvSpPr/>
              <p:nvPr/>
            </p:nvSpPr>
            <p:spPr>
              <a:xfrm>
                <a:off x="6800040" y="43797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9"/>
              <p:cNvSpPr/>
              <p:nvPr/>
            </p:nvSpPr>
            <p:spPr>
              <a:xfrm>
                <a:off x="6628680" y="4738680"/>
                <a:ext cx="6760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50"/>
              <p:cNvSpPr/>
              <p:nvPr/>
            </p:nvSpPr>
            <p:spPr>
              <a:xfrm>
                <a:off x="6628680" y="4667040"/>
                <a:ext cx="89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51"/>
            <p:cNvSpPr/>
            <p:nvPr/>
          </p:nvSpPr>
          <p:spPr>
            <a:xfrm>
              <a:off x="6147360" y="4522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2"/>
          <p:cNvSpPr/>
          <p:nvPr/>
        </p:nvSpPr>
        <p:spPr>
          <a:xfrm>
            <a:off x="5442120" y="521640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3"/>
          <p:cNvSpPr/>
          <p:nvPr/>
        </p:nvSpPr>
        <p:spPr>
          <a:xfrm>
            <a:off x="5925960" y="5780160"/>
            <a:ext cx="19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y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>
            <a:off x="976320" y="2104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根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0"/>
          <p:cNvSpPr/>
          <p:nvPr/>
        </p:nvSpPr>
        <p:spPr>
          <a:xfrm>
            <a:off x="2101680" y="2317680"/>
            <a:ext cx="1440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2312280" y="188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图上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229824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际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623400" y="2122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例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5133960" y="21016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可以列方程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5"/>
          <p:cNvGrpSpPr/>
          <p:nvPr/>
        </p:nvGrpSpPr>
        <p:grpSpPr>
          <a:xfrm>
            <a:off x="611280" y="1268280"/>
            <a:ext cx="8532720" cy="504720"/>
            <a:chOff x="611280" y="1268280"/>
            <a:chExt cx="8532720" cy="504720"/>
          </a:xfrm>
        </p:grpSpPr>
        <p:sp>
          <p:nvSpPr>
            <p:cNvPr id="239" name="Rectangle 11"/>
            <p:cNvSpPr/>
            <p:nvPr/>
          </p:nvSpPr>
          <p:spPr>
            <a:xfrm>
              <a:off x="898560" y="1268280"/>
              <a:ext cx="824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点距底线的图上距离是多少厘米？距左边线呢？</a:t>
              </a:r>
              <a:r>
                <a:rPr b="0" lang="zh-CN" sz="2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11" descr="12"/>
            <p:cNvPicPr/>
            <p:nvPr/>
          </p:nvPicPr>
          <p:blipFill>
            <a:blip r:embed="rId6"/>
            <a:stretch/>
          </p:blipFill>
          <p:spPr>
            <a:xfrm>
              <a:off x="611280" y="1341360"/>
              <a:ext cx="43164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29:14Z</dcterms:created>
  <dc:creator>Administrator</dc:creator>
  <dc:description/>
  <cp:keywords>青岛版数学</cp:keywords>
  <dc:language>en-US</dc:language>
  <cp:lastModifiedBy>hk</cp:lastModifiedBy>
  <dcterms:modified xsi:type="dcterms:W3CDTF">2015-11-23T11:58:54Z</dcterms:modified>
  <cp:revision>538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