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7F5-BEF3-4716-BE1A-E44627C1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40C-B739-463C-A088-F94140F3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816-95CF-42DE-A7A5-F976D44C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D17-EDEE-45DE-9A6A-8253C5A8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4AA-0B6A-4B7B-831C-A9844C9A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84D-BF46-4C52-89CE-9CB396CA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47A-BDE7-4EC5-9E45-969B167A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973-3143-4625-9751-F510BF03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FEB-04FC-45D6-9535-1DE27CF5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163-A269-4E0E-960F-541629D2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BE2-A154-4F54-85E3-DD5F44E1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39B-F843-446E-B1B2-9E44B42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CC0A-10A7-4C2B-BC92-3E7436D9229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39640" y="134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Freeform 42"/>
          <p:cNvSpPr/>
          <p:nvPr/>
        </p:nvSpPr>
        <p:spPr>
          <a:xfrm>
            <a:off x="108000" y="2316240"/>
            <a:ext cx="4389480" cy="2465280"/>
          </a:xfrm>
          <a:custGeom>
            <a:avLst/>
            <a:gdLst>
              <a:gd name="textAreaLeft" fmla="*/ 0 w 4389480"/>
              <a:gd name="textAreaRight" fmla="*/ 4389840 w 438948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2765" h="1553">
                <a:moveTo>
                  <a:pt x="87" y="8"/>
                </a:moveTo>
                <a:cubicBezTo>
                  <a:pt x="150" y="16"/>
                  <a:pt x="193" y="26"/>
                  <a:pt x="252" y="45"/>
                </a:cubicBezTo>
                <a:cubicBezTo>
                  <a:pt x="270" y="51"/>
                  <a:pt x="307" y="63"/>
                  <a:pt x="307" y="63"/>
                </a:cubicBezTo>
                <a:cubicBezTo>
                  <a:pt x="673" y="45"/>
                  <a:pt x="1064" y="123"/>
                  <a:pt x="1413" y="36"/>
                </a:cubicBezTo>
                <a:cubicBezTo>
                  <a:pt x="1815" y="39"/>
                  <a:pt x="2218" y="40"/>
                  <a:pt x="2620" y="45"/>
                </a:cubicBezTo>
                <a:cubicBezTo>
                  <a:pt x="2663" y="46"/>
                  <a:pt x="2711" y="32"/>
                  <a:pt x="2748" y="54"/>
                </a:cubicBezTo>
                <a:cubicBezTo>
                  <a:pt x="2765" y="64"/>
                  <a:pt x="2730" y="109"/>
                  <a:pt x="2730" y="109"/>
                </a:cubicBezTo>
                <a:cubicBezTo>
                  <a:pt x="2717" y="229"/>
                  <a:pt x="2716" y="197"/>
                  <a:pt x="2730" y="356"/>
                </a:cubicBezTo>
                <a:cubicBezTo>
                  <a:pt x="2733" y="388"/>
                  <a:pt x="2757" y="447"/>
                  <a:pt x="2757" y="447"/>
                </a:cubicBezTo>
                <a:cubicBezTo>
                  <a:pt x="2754" y="548"/>
                  <a:pt x="2756" y="649"/>
                  <a:pt x="2748" y="749"/>
                </a:cubicBezTo>
                <a:cubicBezTo>
                  <a:pt x="2747" y="768"/>
                  <a:pt x="2730" y="785"/>
                  <a:pt x="2730" y="804"/>
                </a:cubicBezTo>
                <a:cubicBezTo>
                  <a:pt x="2730" y="828"/>
                  <a:pt x="2730" y="853"/>
                  <a:pt x="2730" y="877"/>
                </a:cubicBezTo>
                <a:lnTo>
                  <a:pt x="1950" y="907"/>
                </a:lnTo>
                <a:cubicBezTo>
                  <a:pt x="1954" y="1004"/>
                  <a:pt x="1964" y="1100"/>
                  <a:pt x="1962" y="1197"/>
                </a:cubicBezTo>
                <a:cubicBezTo>
                  <a:pt x="1962" y="1217"/>
                  <a:pt x="1933" y="1301"/>
                  <a:pt x="1925" y="1325"/>
                </a:cubicBezTo>
                <a:cubicBezTo>
                  <a:pt x="1919" y="1343"/>
                  <a:pt x="1907" y="1380"/>
                  <a:pt x="1907" y="1380"/>
                </a:cubicBezTo>
                <a:cubicBezTo>
                  <a:pt x="1910" y="1429"/>
                  <a:pt x="1906" y="1478"/>
                  <a:pt x="1916" y="1526"/>
                </a:cubicBezTo>
                <a:cubicBezTo>
                  <a:pt x="1918" y="1537"/>
                  <a:pt x="1935" y="1536"/>
                  <a:pt x="1943" y="1544"/>
                </a:cubicBezTo>
                <a:cubicBezTo>
                  <a:pt x="1945" y="1546"/>
                  <a:pt x="1943" y="1550"/>
                  <a:pt x="1943" y="1553"/>
                </a:cubicBezTo>
                <a:lnTo>
                  <a:pt x="0" y="154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6" name="Picture 30" descr=")O`NO]]MGR1_ZXEDHUPZZ%I"/>
          <p:cNvPicPr/>
          <p:nvPr/>
        </p:nvPicPr>
        <p:blipFill>
          <a:blip r:embed="rId1"/>
          <a:stretch/>
        </p:blipFill>
        <p:spPr>
          <a:xfrm>
            <a:off x="1258920" y="1557360"/>
            <a:ext cx="6913440" cy="17794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1"/>
          <p:cNvSpPr/>
          <p:nvPr/>
        </p:nvSpPr>
        <p:spPr>
          <a:xfrm>
            <a:off x="1258920" y="393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8 × 65% = 109.2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AutoShape 33"/>
          <p:cNvSpPr/>
          <p:nvPr/>
        </p:nvSpPr>
        <p:spPr>
          <a:xfrm>
            <a:off x="4572000" y="2060640"/>
            <a:ext cx="2376360" cy="1152360"/>
          </a:xfrm>
          <a:prstGeom prst="wedgeEllipseCallout">
            <a:avLst>
              <a:gd name="adj1" fmla="val 57078"/>
              <a:gd name="adj2" fmla="val 1680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六五折优惠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能买一套吗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3059280" y="2565360"/>
            <a:ext cx="1512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／套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1979640" y="47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9.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2843280" y="5589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元可以买一套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611280" y="1341360"/>
            <a:ext cx="62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下列物品打折后的价格填入表内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自主练习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843280" y="50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8.5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元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3995640" y="5084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40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元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5435640" y="50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元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673272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08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元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9" name="Picture 22" descr="(YXA~H[~FGW1AHTK1E0U1CK"/>
          <p:cNvPicPr/>
          <p:nvPr/>
        </p:nvPicPr>
        <p:blipFill>
          <a:blip r:embed="rId1"/>
          <a:stretch/>
        </p:blipFill>
        <p:spPr>
          <a:xfrm>
            <a:off x="1116000" y="2060640"/>
            <a:ext cx="6480360" cy="1152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3"/>
          <p:cNvSpPr/>
          <p:nvPr/>
        </p:nvSpPr>
        <p:spPr>
          <a:xfrm>
            <a:off x="684360" y="335772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原价：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八五折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2627280" y="335772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原价：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五折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4427640" y="335772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原价：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九折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6443640" y="335772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原价：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六五折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41480" y="4508640"/>
          <a:ext cx="6913440" cy="1152360"/>
        </p:xfrm>
        <a:graphic>
          <a:graphicData uri="http://schemas.openxmlformats.org/drawingml/2006/table">
            <a:tbl>
              <a:tblPr/>
              <a:tblGrid>
                <a:gridCol w="1728720"/>
                <a:gridCol w="1222560"/>
                <a:gridCol w="1154160"/>
                <a:gridCol w="1439640"/>
                <a:gridCol w="1368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名　称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钢　笔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毛　衣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玩具汽车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皮　鞋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现价（元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）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自主练习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39640" y="1225440"/>
            <a:ext cx="115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403280" y="2565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 × 1% = 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900000" y="1254240"/>
            <a:ext cx="720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李文从邮局给父母汇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元，按照规定汇费是汇款额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李文应付汇费多少元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484360" y="33577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李文应付汇费 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43"/>
          <p:cNvPicPr/>
          <p:nvPr/>
        </p:nvPicPr>
        <p:blipFill>
          <a:blip r:embed="rId1"/>
          <a:stretch/>
        </p:blipFill>
        <p:spPr>
          <a:xfrm>
            <a:off x="539640" y="1197000"/>
            <a:ext cx="7561440" cy="22622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自主练习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39640" y="1341360"/>
            <a:ext cx="57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042920" y="2924280"/>
            <a:ext cx="2160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价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419640" y="2924280"/>
            <a:ext cx="201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价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364000" y="292428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价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6156360" y="1268280"/>
            <a:ext cx="2158920" cy="1225800"/>
          </a:xfrm>
          <a:prstGeom prst="wedgeEllipseCallout">
            <a:avLst>
              <a:gd name="adj1" fmla="val -32648"/>
              <a:gd name="adj2" fmla="val 57254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所有商品八折优惠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-36360" y="3621240"/>
            <a:ext cx="6697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能买一个茶几和一套沙发吗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971640" y="4221000"/>
            <a:ext cx="568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00+5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 80%   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1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1301760" y="5300640"/>
            <a:ext cx="568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94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260360" y="4724280"/>
            <a:ext cx="5689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180 × 80%    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556000" y="5853240"/>
            <a:ext cx="6588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能买一个茶几和一套沙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43"/>
          <p:cNvPicPr/>
          <p:nvPr/>
        </p:nvPicPr>
        <p:blipFill>
          <a:blip r:embed="rId1"/>
          <a:stretch/>
        </p:blipFill>
        <p:spPr>
          <a:xfrm>
            <a:off x="539640" y="1125360"/>
            <a:ext cx="7561440" cy="22622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自主练习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39640" y="1341360"/>
            <a:ext cx="57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042920" y="2924280"/>
            <a:ext cx="2160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价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419640" y="2924280"/>
            <a:ext cx="201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价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364000" y="292428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价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6156360" y="1268280"/>
            <a:ext cx="2158920" cy="1225800"/>
          </a:xfrm>
          <a:prstGeom prst="wedgeEllipseCallout">
            <a:avLst>
              <a:gd name="adj1" fmla="val -32648"/>
              <a:gd name="adj2" fmla="val 57254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所有商品八折优惠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611280" y="3573360"/>
            <a:ext cx="6697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现在买一块地毯比原来便宜多少元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898560" y="4076640"/>
            <a:ext cx="554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0 – 840 × 80%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1"/>
          <p:cNvSpPr/>
          <p:nvPr/>
        </p:nvSpPr>
        <p:spPr>
          <a:xfrm>
            <a:off x="1373040" y="5218200"/>
            <a:ext cx="5545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6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1403280" y="4641840"/>
            <a:ext cx="554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40 - 672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2195640" y="5877000"/>
            <a:ext cx="705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现在买一块地毯比原来便宜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6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468360" y="566100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449280" y="209376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男生志愿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王东 李明 刘刚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亮 丁一 张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于军 刘平 赵海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Text Box 22"/>
          <p:cNvSpPr/>
          <p:nvPr/>
        </p:nvSpPr>
        <p:spPr>
          <a:xfrm>
            <a:off x="3635280" y="2166840"/>
            <a:ext cx="20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女生志愿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燕 王静 牛莉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方悦 于美 张红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孙娟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Text Box 28"/>
          <p:cNvSpPr/>
          <p:nvPr/>
        </p:nvSpPr>
        <p:spPr>
          <a:xfrm>
            <a:off x="5508720" y="411948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团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Text Box 32"/>
          <p:cNvSpPr/>
          <p:nvPr/>
        </p:nvSpPr>
        <p:spPr>
          <a:xfrm>
            <a:off x="468360" y="836640"/>
            <a:ext cx="32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情境导入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36"/>
          <p:cNvSpPr/>
          <p:nvPr/>
        </p:nvSpPr>
        <p:spPr>
          <a:xfrm>
            <a:off x="468360" y="60069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1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Rectangle 47"/>
          <p:cNvSpPr/>
          <p:nvPr/>
        </p:nvSpPr>
        <p:spPr>
          <a:xfrm>
            <a:off x="1476360" y="2133720"/>
            <a:ext cx="158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Rectangle 48"/>
          <p:cNvSpPr/>
          <p:nvPr/>
        </p:nvSpPr>
        <p:spPr>
          <a:xfrm>
            <a:off x="4140360" y="2133720"/>
            <a:ext cx="158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539640" y="2852640"/>
            <a:ext cx="151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5508720" y="4508640"/>
            <a:ext cx="309564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售每张票</a:t>
            </a: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团体票八五折优惠。</a:t>
            </a:r>
            <a:endParaRPr b="1" lang="en-US" sz="2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1258920" y="4221000"/>
            <a:ext cx="730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Text Box 34"/>
          <p:cNvSpPr/>
          <p:nvPr/>
        </p:nvSpPr>
        <p:spPr>
          <a:xfrm>
            <a:off x="5580000" y="1628640"/>
            <a:ext cx="331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一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金周期间共收入</a:t>
            </a: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5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。</a:t>
            </a:r>
            <a:endParaRPr b="1" lang="en-US" sz="2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Rectangle 35"/>
          <p:cNvSpPr/>
          <p:nvPr/>
        </p:nvSpPr>
        <p:spPr>
          <a:xfrm>
            <a:off x="1258920" y="4221000"/>
            <a:ext cx="44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Text Box 36"/>
          <p:cNvSpPr/>
          <p:nvPr/>
        </p:nvSpPr>
        <p:spPr>
          <a:xfrm>
            <a:off x="5537160" y="5316480"/>
            <a:ext cx="424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旅游团买门票需要多少钱？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0" name="Picture 43" descr="QQ截图20130426133453"/>
          <p:cNvPicPr/>
          <p:nvPr/>
        </p:nvPicPr>
        <p:blipFill>
          <a:blip r:embed="rId2"/>
          <a:srcRect l="2089" t="2673" r="3100" b="18232"/>
          <a:stretch/>
        </p:blipFill>
        <p:spPr>
          <a:xfrm>
            <a:off x="468360" y="1700280"/>
            <a:ext cx="5040360" cy="35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Rectangle 48"/>
          <p:cNvSpPr/>
          <p:nvPr/>
        </p:nvSpPr>
        <p:spPr>
          <a:xfrm>
            <a:off x="395280" y="3284640"/>
            <a:ext cx="12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Rectangle 49"/>
          <p:cNvSpPr/>
          <p:nvPr/>
        </p:nvSpPr>
        <p:spPr>
          <a:xfrm>
            <a:off x="395280" y="3213000"/>
            <a:ext cx="136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Rectangle 50"/>
          <p:cNvSpPr/>
          <p:nvPr/>
        </p:nvSpPr>
        <p:spPr>
          <a:xfrm>
            <a:off x="395280" y="3284640"/>
            <a:ext cx="144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Rectangle 51"/>
          <p:cNvSpPr/>
          <p:nvPr/>
        </p:nvSpPr>
        <p:spPr>
          <a:xfrm>
            <a:off x="324000" y="328464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Rectangle 52"/>
          <p:cNvSpPr/>
          <p:nvPr/>
        </p:nvSpPr>
        <p:spPr>
          <a:xfrm>
            <a:off x="250920" y="3284640"/>
            <a:ext cx="1441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Rectangle 55"/>
          <p:cNvSpPr/>
          <p:nvPr/>
        </p:nvSpPr>
        <p:spPr>
          <a:xfrm>
            <a:off x="1042920" y="4941720"/>
            <a:ext cx="41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AutoShape 61"/>
          <p:cNvSpPr/>
          <p:nvPr/>
        </p:nvSpPr>
        <p:spPr>
          <a:xfrm>
            <a:off x="468360" y="3213000"/>
            <a:ext cx="1295280" cy="792360"/>
          </a:xfrm>
          <a:prstGeom prst="wedgeEllipseCallout">
            <a:avLst>
              <a:gd name="adj1" fmla="val 46689"/>
              <a:gd name="adj2" fmla="val 54009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团有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Rectangle 64"/>
          <p:cNvSpPr/>
          <p:nvPr/>
        </p:nvSpPr>
        <p:spPr>
          <a:xfrm>
            <a:off x="3708360" y="3573360"/>
            <a:ext cx="180036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价：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体票（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以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）：八五折优惠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Text Box 65"/>
          <p:cNvSpPr/>
          <p:nvPr/>
        </p:nvSpPr>
        <p:spPr>
          <a:xfrm>
            <a:off x="482760" y="4892760"/>
            <a:ext cx="4998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彩虹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金周期间共收入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。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5594400" y="2565360"/>
            <a:ext cx="32256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如果按</a:t>
            </a:r>
            <a:r>
              <a:rPr b="1" lang="en-US" sz="21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%</a:t>
            </a:r>
            <a:r>
              <a:rPr b="1" lang="zh-CN" sz="21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的税率缴纳营业税，</a:t>
            </a:r>
            <a:r>
              <a:rPr b="1" lang="zh-CN" sz="2100" spc="-1" strike="noStrike">
                <a:solidFill>
                  <a:srgbClr val="de0000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十一</a:t>
            </a:r>
            <a:r>
              <a:rPr b="1" lang="zh-CN" sz="2100" spc="-1" strike="noStrike">
                <a:solidFill>
                  <a:srgbClr val="de0000"/>
                </a:solidFill>
                <a:latin typeface="Arial"/>
                <a:ea typeface="楷体_GB2312"/>
              </a:rPr>
              <a:t>”</a:t>
            </a:r>
            <a:r>
              <a:rPr b="1" lang="zh-CN" sz="21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黄金周期间彩虹谷景区应缴纳营业税多少万元？</a:t>
            </a:r>
            <a:endParaRPr b="1" lang="en-US" sz="2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5651640" y="1700280"/>
            <a:ext cx="309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32000" cy="41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4"/>
          <p:cNvSpPr/>
          <p:nvPr/>
        </p:nvSpPr>
        <p:spPr>
          <a:xfrm>
            <a:off x="900000" y="1225440"/>
            <a:ext cx="76359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税率缴纳营业税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金周期间彩虹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景区应缴纳营业税多少万元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44"/>
          <p:cNvSpPr/>
          <p:nvPr/>
        </p:nvSpPr>
        <p:spPr>
          <a:xfrm>
            <a:off x="826920" y="2781360"/>
            <a:ext cx="7777440" cy="797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税是根据国家税法规定，按照一定的比率把集体或个人收入的一部分缴纳给国家。税收的种类主要有增值税、消费税、营业税和个人所得税等。缴纳的税款叫作</a:t>
            </a: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纳税额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应纳税额与各种收入（销售额、营业额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_GB2312"/>
              </a:rPr>
              <a:t>…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比率叫作</a:t>
            </a: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税率。</a:t>
            </a:r>
            <a:endParaRPr b="1" lang="en-US" sz="2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Text Box 53"/>
          <p:cNvSpPr/>
          <p:nvPr/>
        </p:nvSpPr>
        <p:spPr>
          <a:xfrm>
            <a:off x="900000" y="5589720"/>
            <a:ext cx="43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5 × 3% = </a:t>
            </a:r>
            <a:r>
              <a:rPr b="1" lang="en-US" sz="22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.4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万元）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Text Box 54"/>
          <p:cNvSpPr/>
          <p:nvPr/>
        </p:nvSpPr>
        <p:spPr>
          <a:xfrm>
            <a:off x="3203640" y="6093000"/>
            <a:ext cx="476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应上缴营业税 </a:t>
            </a:r>
            <a:r>
              <a:rPr b="1" lang="en-US" sz="22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.45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。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2556000" y="4494240"/>
            <a:ext cx="424800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营业额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税率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税额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9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1"/>
          <p:cNvSpPr/>
          <p:nvPr/>
        </p:nvSpPr>
        <p:spPr>
          <a:xfrm>
            <a:off x="684360" y="50418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求上缴的营业税就是求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万元的３％是多少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814320" y="2190600"/>
            <a:ext cx="5977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税率是怎么回事呢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1"/>
          <p:cNvSpPr/>
          <p:nvPr/>
        </p:nvSpPr>
        <p:spPr>
          <a:xfrm>
            <a:off x="539640" y="539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76360" y="1341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餐饮服务场所的营业税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根据这一信息，计算并填写下表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87280" y="2133720"/>
          <a:ext cx="6912000" cy="3008160"/>
        </p:xfrm>
        <a:graphic>
          <a:graphicData uri="http://schemas.openxmlformats.org/drawingml/2006/table">
            <a:tbl>
              <a:tblPr/>
              <a:tblGrid>
                <a:gridCol w="1943280"/>
                <a:gridCol w="2447640"/>
                <a:gridCol w="25210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份营业额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万元）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应缴纳营业税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（万元）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方华大酒店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0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丽都酒店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4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东方海鲜城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铁路宾馆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67"/>
          <p:cNvSpPr/>
          <p:nvPr/>
        </p:nvSpPr>
        <p:spPr>
          <a:xfrm>
            <a:off x="6516720" y="24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Text Box 68"/>
          <p:cNvSpPr/>
          <p:nvPr/>
        </p:nvSpPr>
        <p:spPr>
          <a:xfrm>
            <a:off x="6599160" y="299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.5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 Box 70"/>
          <p:cNvSpPr/>
          <p:nvPr/>
        </p:nvSpPr>
        <p:spPr>
          <a:xfrm>
            <a:off x="6804000" y="31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Text Box 71"/>
          <p:cNvSpPr/>
          <p:nvPr/>
        </p:nvSpPr>
        <p:spPr>
          <a:xfrm>
            <a:off x="660204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.2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72"/>
          <p:cNvSpPr/>
          <p:nvPr/>
        </p:nvSpPr>
        <p:spPr>
          <a:xfrm>
            <a:off x="6617160" y="414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.5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Text Box 73"/>
          <p:cNvSpPr/>
          <p:nvPr/>
        </p:nvSpPr>
        <p:spPr>
          <a:xfrm>
            <a:off x="6791400" y="465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6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0"/>
          <p:cNvSpPr/>
          <p:nvPr/>
        </p:nvSpPr>
        <p:spPr>
          <a:xfrm>
            <a:off x="6804000" y="31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70"/>
          <p:cNvSpPr/>
          <p:nvPr/>
        </p:nvSpPr>
        <p:spPr>
          <a:xfrm>
            <a:off x="6819840" y="31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539640" y="1438200"/>
            <a:ext cx="506520" cy="432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>
            <a:off x="1008000" y="141300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个旅游团买门票需要多少钱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159"/>
          <p:cNvSpPr/>
          <p:nvPr/>
        </p:nvSpPr>
        <p:spPr>
          <a:xfrm>
            <a:off x="684360" y="256536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Text Box 182"/>
          <p:cNvSpPr/>
          <p:nvPr/>
        </p:nvSpPr>
        <p:spPr>
          <a:xfrm>
            <a:off x="4500720" y="3573360"/>
            <a:ext cx="340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AutoShape 194"/>
          <p:cNvSpPr/>
          <p:nvPr/>
        </p:nvSpPr>
        <p:spPr>
          <a:xfrm>
            <a:off x="1116000" y="4149720"/>
            <a:ext cx="5411880" cy="216000"/>
          </a:xfrm>
          <a:prstGeom prst="wedgeRectCallout">
            <a:avLst>
              <a:gd name="adj1" fmla="val -17439"/>
              <a:gd name="adj2" fmla="val -470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6012000" y="1413000"/>
            <a:ext cx="2520720" cy="1008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价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体票八五折优惠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2" name="Picture 36" descr="蓝色按钮"/>
          <p:cNvPicPr/>
          <p:nvPr/>
        </p:nvPicPr>
        <p:blipFill>
          <a:blip r:embed="rId3"/>
          <a:stretch/>
        </p:blipFill>
        <p:spPr>
          <a:xfrm>
            <a:off x="585720" y="622764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7"/>
          <p:cNvSpPr/>
          <p:nvPr/>
        </p:nvSpPr>
        <p:spPr>
          <a:xfrm>
            <a:off x="601200" y="5972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先打折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4" name="Picture 36" descr="蓝色按钮"/>
          <p:cNvPicPr/>
          <p:nvPr/>
        </p:nvPicPr>
        <p:blipFill>
          <a:blip r:embed="rId4"/>
          <a:stretch/>
        </p:blipFill>
        <p:spPr>
          <a:xfrm>
            <a:off x="1450800" y="622764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7"/>
          <p:cNvSpPr/>
          <p:nvPr/>
        </p:nvSpPr>
        <p:spPr>
          <a:xfrm>
            <a:off x="1426680" y="5972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后打折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6" name="Picture 36" descr="蓝色按钮"/>
          <p:cNvPicPr/>
          <p:nvPr/>
        </p:nvPicPr>
        <p:blipFill>
          <a:blip r:embed="rId5"/>
          <a:stretch/>
        </p:blipFill>
        <p:spPr>
          <a:xfrm>
            <a:off x="2386080" y="6227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7"/>
          <p:cNvSpPr/>
          <p:nvPr/>
        </p:nvSpPr>
        <p:spPr>
          <a:xfrm>
            <a:off x="2424960" y="59612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AutoShape 194"/>
          <p:cNvSpPr/>
          <p:nvPr/>
        </p:nvSpPr>
        <p:spPr>
          <a:xfrm>
            <a:off x="1187280" y="4941720"/>
            <a:ext cx="5411880" cy="1224000"/>
          </a:xfrm>
          <a:prstGeom prst="wedgeRectCallout">
            <a:avLst>
              <a:gd name="adj1" fmla="val -16120"/>
              <a:gd name="adj2" fmla="val 1799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971640" y="27082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几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就是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十分之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也就是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百分之几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971640" y="335772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八五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指现在的价格是原价的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85%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971640" y="1989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八折五是什么意思呢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539640" y="1373040"/>
            <a:ext cx="468360" cy="4003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1"/>
          <p:cNvSpPr/>
          <p:nvPr/>
        </p:nvSpPr>
        <p:spPr>
          <a:xfrm>
            <a:off x="971640" y="13273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个旅游团买门票需要多少钱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Text Box 159"/>
          <p:cNvSpPr/>
          <p:nvPr/>
        </p:nvSpPr>
        <p:spPr>
          <a:xfrm>
            <a:off x="684360" y="256536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182"/>
          <p:cNvSpPr/>
          <p:nvPr/>
        </p:nvSpPr>
        <p:spPr>
          <a:xfrm>
            <a:off x="4500720" y="3573360"/>
            <a:ext cx="340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36" descr="蓝色按钮"/>
          <p:cNvPicPr/>
          <p:nvPr/>
        </p:nvPicPr>
        <p:blipFill>
          <a:blip r:embed="rId3"/>
          <a:stretch/>
        </p:blipFill>
        <p:spPr>
          <a:xfrm>
            <a:off x="585720" y="622764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7"/>
          <p:cNvSpPr/>
          <p:nvPr/>
        </p:nvSpPr>
        <p:spPr>
          <a:xfrm>
            <a:off x="616680" y="59500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171"/>
          <p:cNvSpPr/>
          <p:nvPr/>
        </p:nvSpPr>
        <p:spPr>
          <a:xfrm>
            <a:off x="971640" y="335772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求打折后一张门票应付多少元，再求一共需要多少钱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Text Box 173"/>
          <p:cNvSpPr/>
          <p:nvPr/>
        </p:nvSpPr>
        <p:spPr>
          <a:xfrm>
            <a:off x="2627280" y="3933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× 85 % × 23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Text Box 197"/>
          <p:cNvSpPr/>
          <p:nvPr/>
        </p:nvSpPr>
        <p:spPr>
          <a:xfrm>
            <a:off x="3059280" y="587700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旅游团买门票需要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17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5867280" y="907920"/>
            <a:ext cx="2521080" cy="100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价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体票八五折优惠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900000" y="2060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几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就是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十分之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也就是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百分之几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900000" y="2637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八五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指现在的价钱是原价的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85%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173"/>
          <p:cNvSpPr/>
          <p:nvPr/>
        </p:nvSpPr>
        <p:spPr>
          <a:xfrm>
            <a:off x="2916360" y="4508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51 × 23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 Box 173"/>
          <p:cNvSpPr/>
          <p:nvPr/>
        </p:nvSpPr>
        <p:spPr>
          <a:xfrm>
            <a:off x="2930400" y="51721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17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2"/>
          <a:stretch/>
        </p:blipFill>
        <p:spPr>
          <a:xfrm>
            <a:off x="468360" y="1415880"/>
            <a:ext cx="503280" cy="428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900000" y="1341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个旅游团买门票需要多少钱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59"/>
          <p:cNvSpPr/>
          <p:nvPr/>
        </p:nvSpPr>
        <p:spPr>
          <a:xfrm>
            <a:off x="684360" y="256536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Text Box 182"/>
          <p:cNvSpPr/>
          <p:nvPr/>
        </p:nvSpPr>
        <p:spPr>
          <a:xfrm>
            <a:off x="4500720" y="3573360"/>
            <a:ext cx="340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4" name="Picture 36" descr="蓝色按钮"/>
          <p:cNvPicPr/>
          <p:nvPr/>
        </p:nvPicPr>
        <p:blipFill>
          <a:blip r:embed="rId3"/>
          <a:stretch/>
        </p:blipFill>
        <p:spPr>
          <a:xfrm>
            <a:off x="585720" y="622764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7"/>
          <p:cNvSpPr/>
          <p:nvPr/>
        </p:nvSpPr>
        <p:spPr>
          <a:xfrm>
            <a:off x="631080" y="60213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Text Box 171"/>
          <p:cNvSpPr/>
          <p:nvPr/>
        </p:nvSpPr>
        <p:spPr>
          <a:xfrm>
            <a:off x="885960" y="328464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求按原票价一共需要多少元，再求打折后需要多少钱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Text Box 173"/>
          <p:cNvSpPr/>
          <p:nvPr/>
        </p:nvSpPr>
        <p:spPr>
          <a:xfrm>
            <a:off x="2266920" y="3645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× 23 × 85%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Text Box 197"/>
          <p:cNvSpPr/>
          <p:nvPr/>
        </p:nvSpPr>
        <p:spPr>
          <a:xfrm>
            <a:off x="3419640" y="5516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旅游团买门票需要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17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Rectangle 64"/>
          <p:cNvSpPr/>
          <p:nvPr/>
        </p:nvSpPr>
        <p:spPr>
          <a:xfrm>
            <a:off x="6012000" y="1125360"/>
            <a:ext cx="2520720" cy="100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价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体票八五折优惠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826920" y="2060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几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就是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十分之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也就是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百分之几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826920" y="2637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八五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指现在的价钱是原价的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85%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Text Box 173"/>
          <p:cNvSpPr/>
          <p:nvPr/>
        </p:nvSpPr>
        <p:spPr>
          <a:xfrm>
            <a:off x="2195640" y="42498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380 × 85%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Text Box 173"/>
          <p:cNvSpPr/>
          <p:nvPr/>
        </p:nvSpPr>
        <p:spPr>
          <a:xfrm>
            <a:off x="222408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17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1268280"/>
            <a:ext cx="518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11280" y="2349360"/>
            <a:ext cx="792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李叔叔每月工资收入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元。他每月应向国家缴纳多少元个人所得税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2268360" y="5516640"/>
            <a:ext cx="57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他每月缴纳 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5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个人所得税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619280" y="328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0-3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3%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826920" y="1282680"/>
            <a:ext cx="748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税法规定，个人月工资收入超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部分，应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税率缴纳个人所得税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476360" y="393372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 ×3%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1547640" y="465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611280" y="2316240"/>
            <a:ext cx="784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张阿姨每月工资收入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元，缴纳个人所得税后的收入是多少元？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1908000" y="3213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00 - 3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 3%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2195640" y="4941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00 – 30 = 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4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1800360" y="5589720"/>
            <a:ext cx="77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张阿姨缴纳个人所得税后的收入是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4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826920" y="1270080"/>
            <a:ext cx="7632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税法规定，个人月工资收入超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部分，应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税率缴纳个人所得税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95280" y="1268280"/>
            <a:ext cx="518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1763640" y="371628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 × 3%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1763640" y="42642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32:00Z</dcterms:created>
  <dc:creator>Administrator</dc:creator>
  <dc:description/>
  <cp:keywords>青岛版数学</cp:keywords>
  <dc:language>en-US</dc:language>
  <cp:lastModifiedBy>微软用户</cp:lastModifiedBy>
  <dcterms:modified xsi:type="dcterms:W3CDTF">2015-11-17T07:33:00Z</dcterms:modified>
  <cp:revision>336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