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DC32-4782-4130-8D83-3A21A85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9A35-E9C3-4877-AE5E-7201FE0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6D56-AF57-4F7C-B024-DD0A7C8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9AAC-C11D-483D-A3DD-C186C51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67F7-C97C-4F57-B752-5504758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2766-ABCB-4234-917B-1CF3CA9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51C71-31FA-413A-8EB4-3FCB55C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0CB02-8161-497C-A4AD-1698D4A7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7180-59F8-475C-8E42-6EC6D2B5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0B779-6F11-49B2-B76E-CE8ED1FD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1F9C3-6C25-4C32-A643-C400D09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5364C-D7F0-49CD-9F7C-AE7F950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87BA7-61C2-4506-8657-DF379D4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DF52-3414-462A-B911-DE72036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62749-3AD3-4FF1-AFC5-D518F91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BF291-D1A8-476E-9719-EF51276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4FAD-1065-4074-94F2-6024827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166A1-6917-4324-91A3-77C35B5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21AB-05AB-4F25-BB11-F74A4C7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B7F2-1455-4A21-BDC5-50E4B62F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79A90-48D6-44A4-A849-E73EA1E7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DCCCE-1DAB-4473-B33E-184A1932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B98CD-55C2-4970-9DDF-CB552C0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5018B-BA1C-4B8A-94F0-6EDF37A0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D2AAD-6B52-42B9-B3EA-E3076D3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06672-602F-4617-8492-1C6E2BC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32D6C-25CC-4F56-8D1F-6BB0325B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2DE0C-1B96-44B2-9A11-3AA1C80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8E26F-C224-4298-B01D-E95E0DB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211C5-4F6A-4AF2-BDD7-A854367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67E-D879-40C9-BAEE-F1BE1DCC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575F8-E862-4083-9D10-60A0DFF3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CDA69-870B-4DB5-942C-8E3965C5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7AA83-5E40-42F9-85C8-C1E8D38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8A40F-C755-4AF7-A26C-C006813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D6292-94AE-4CF1-859C-1AD1861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4A6C7-4060-4569-ABD3-F455224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C75B-CEE2-495A-809C-8543B04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5082-F874-4F4D-AE28-E7D6BB5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83102-0970-4F6B-AEAA-F0DA40E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5D8F-3B14-4AA8-93D3-52181A8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CC2-F5AB-4C37-9BAB-C44472D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D50D9-F49B-4E21-96DA-B5FAC7E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1A300-D23A-420F-88B9-6E31C6B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DEA76-B806-4FF9-BAE0-4E0EEB1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411D-1AC6-42C7-B3E7-BF2D14D6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13F17-B535-4C03-A2F2-EBF2F31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DA7A-2C55-4A81-B7E6-6F5374E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93ECA-5AF1-4D8B-A4AB-41B18EE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0EB11-FF06-4ED3-9EF5-215334C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0DFC5-A82A-4E35-8DB1-F4F72890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6012-A5FB-4BF7-9299-BB4FCE1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E30-22F3-40EE-BD29-BEC56A08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A1ED6-41B2-47F8-BCB9-76102E80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02F53-916B-4C21-A454-D851C84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69C36-2A6A-41B5-9576-344AFCE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0A05F-65AD-4A95-8682-70B391C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2224D-E182-4B76-94C8-A42C2FE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E8CDA-20CF-4DFB-9D13-061C606F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F4122-5BBE-4570-A58D-98CCA68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5C98E-3451-44EE-8E25-93C1BADB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CD732-4657-465C-9015-50131F8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30183-E2FA-4C5B-8A37-DA110D0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7BD-6965-4432-8112-89ABCDCD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1FF45-48B8-45CE-BCE2-D0196F56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E20DA-6847-4F4C-835B-305F4B87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DC433-738A-4289-A790-A292D8C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E2E35-E72D-42FC-8EC6-DC2AEA1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23A19-0682-4046-9B14-7E5639B5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4BF79-D821-4189-A3CB-6DFAADF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875A3-C9F3-4908-84A6-2F0702B8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87FD2-A58F-4805-96A1-393AA203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6E978-713D-4C91-B3DD-7FDCBC3F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CE643-7DD7-4904-9831-60DBA344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F69-D774-4628-A97A-EBF40C24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20749-2D18-46DE-83DF-89B9203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56D5F-B0AF-4BE4-AD5B-A57C1FD5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D95E3-BA87-4792-B276-A22229BD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12E0C-CB68-4426-A7B4-D02F8474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01FDE-2295-4B89-ABDD-8F3E69F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D5D27-CDCC-4A0F-9803-4C67484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81906-FAFA-4FEC-9BC0-9BF2B0B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88334-A8B7-46AE-ACE8-9F92C84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6EA96-8AE1-463B-A599-AEA41A1B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5A493-E9A9-46C9-816A-03310891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FF9-8E9C-4437-9E46-2596B892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2AA2C-F31E-4ECF-83EA-B5C9824A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92421-1325-47FD-9C5A-64E0759A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BE2F6-3CE7-4FD0-BA31-D1EDFC3F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062D0-3A19-413C-8761-5DAD950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FA2DE-E431-48DE-93CB-3F278C5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B5B10-B2E2-499A-83AB-A10125DA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86D15-A51E-43CA-8F26-6A45233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32089-0B45-4626-82AD-0A0050A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54238-89AC-4CCB-A461-0F107BB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6B750-5048-42D3-9F39-32FABAC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3DC-23CF-45EB-B21E-FFE4695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AECBF-5061-4154-8D59-14F2173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6A83C-559F-44E6-BDDC-B60B6D46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24CB9-AA27-4930-AEE6-74AD30A0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88B3D-80CD-4E9A-B9FA-905FF12B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5860E-B2DF-487D-A1FD-FF23FC5D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8B855-A9FD-4395-A975-7278540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91C5F-640D-4E27-9D78-2DFA781D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52E62-C6BF-4952-9E30-07FFC9D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F3793-BC45-40B7-B30E-D84C8D98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30041-CDE7-4DE3-B0AC-26CE3F7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8D1-12C1-4143-9484-20E93FD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31B67-0950-49A0-98F7-331EC24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1E10F-DEDB-4E0C-8917-11106454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6663B-96DD-4EDD-8554-1A2136F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66540-D453-4F66-AEB0-29601EFA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93FC5-10EA-447C-95FC-9FEDD080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66699-FE7B-4014-A63F-4B38F167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E5D50-06F6-492F-8B7D-50CEC6E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6D260-64D3-48BD-9972-2EEC948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C4350-673D-4BCF-BF53-ABC84FF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AAE0B-9045-4561-98E9-E5D5AD97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878-8515-499E-9742-058ECD7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48F9D-EF6C-4B5E-B069-8076AF4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67DC3-CE8B-4B4A-8D8B-9409A6D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182EA-2CB8-4006-979F-C70CC4EF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6957E-08CF-42F6-822E-FFCB010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2ED5C-F910-416B-AF00-73E5EA3D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B89F0-F37C-4C7F-9D89-54DE432C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C6D63-A76A-46E7-821F-F26E55C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D94F6-F504-44A7-8731-6F759D31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A1596-CC81-45C9-83CF-E4DA787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9D28E-C203-40F2-AC6E-4E7672B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7C2-EC4F-4789-B8E8-14D2785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D6723-4B6F-46DD-9A50-7576992F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616B4-D219-4B85-B07B-198DF36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FEA92-5E0F-4412-BF59-6FAF7F3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30C7C-F53B-4D21-A3D0-AA28377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5FF34-34EB-48CB-A730-3341800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6F70D-94D2-4210-8BC2-449D547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14BB1-86D4-436D-9D94-C05BD7C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E6F19-D295-42DE-88C2-F4AFD873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B66F1-35B9-4ABE-B007-DB53B626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2A68C-9A9C-4CDD-84ED-3B01B4D6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389-9E82-47E2-8D9E-1DDED1DA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EC290-2621-4231-B3E2-3B64D85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12989-F6D2-472B-9252-09406D0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B78ED-4C6A-4AC5-B76D-B32E884A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E677D-30CE-419A-A233-4DBF594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A64CC-0E48-4EF3-8067-5373BA3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A5B5C-8B2B-48FA-B53C-F9A9B7A1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035E3-8B13-4B1B-B96D-D9ED32B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C5CF7-6052-4155-AC87-1446666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7A91F-F6BB-4FEB-BE61-622FD0D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0FC5F-F40D-4E4F-8DE9-696D3F3D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0B2-516C-45DC-B032-8A88630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9B55F-5B10-44A5-B4A1-4D5AEFDB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0D6AD-8C2D-4FD6-BCC7-FCE8D79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C4278-5857-4656-A2DB-75635A04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B102D-8135-4383-AB97-48A4276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12C6F-AE1E-456E-B44C-0A79C929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2A172-6BB0-408A-BAF8-DB363D98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669D9-FF79-4086-8D61-3AD2D2C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C86E3-2D09-44EB-875F-61D4FEA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D7AF1-27DD-408F-8335-BCD3125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475C9-A6B6-4703-8937-B757F11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C4A2-26BE-4BB2-A508-1897C5BC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B7873-045B-43EB-BFE1-9027BCE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78378-F9FE-4813-AF37-CF880B23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F186D-4236-4AC0-B9BC-121F64CC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7A8EC-1A2E-4F1F-9021-37628CFF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15250-0983-4002-817A-E8A00D0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44FA1-0EB6-4F06-882F-09006F8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7C54C-E999-4DDE-BFD2-D0E46EB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699FE-9B4A-4648-A6D6-C39BD288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5D234-5690-48D4-8675-34AE7D03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0F7AC-E387-4093-977B-4779548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BE9-5CEF-4F73-9311-3A63FDEB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9A2B2-CF74-4DBD-A23E-2BFFDCB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F1BB4-A74C-41F1-8D24-9C7E168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4572C-3675-4B1F-AAD7-362ABF9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C37B7-9532-4482-AD1D-7DD908AC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4BFBC-73AB-410A-B6FA-EAD4AD5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E81E2-B19D-4F9C-A926-0E1ED5A1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A19102-B626-4219-8499-CC2AD9D4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0B0CC-1585-484C-B059-F5E98F1E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03A0E3-97C6-493D-95F5-207AE6C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773A89-1D4A-4922-AB4D-1681BEF8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D931-92E3-48C1-9C85-6CE7A6C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7B5C91-8B04-4DBC-807A-C452AE6B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03E69-B849-4364-B677-BCD4A16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B96E6-29D9-4B17-BAA2-3006913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66996-6221-45AB-B3E5-7D745B43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92D985-977C-4398-B3E3-20A8AD4F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79BAF-359C-43CE-8991-688E885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F7BD0A-BB28-4E11-8E89-0E880BE3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F2552-53F5-48DE-8E7A-7179A9D1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2C0C5-72E8-4C84-B4E8-874E7CE7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26399-6848-4226-96BF-3350F0A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BCAE-0A5E-4072-9242-9C8CFFC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252AB-DDEF-4AA4-88D4-C8B1BE5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4693EE-AB64-4D2C-A1BA-76B2C2E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F07A7-2488-4240-8547-CE3CE67D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E282C-8799-4EF7-9969-3C94AC8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F61BB-A0B6-4816-A318-88F522C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FEA13-5B7C-46EC-B98B-E6A2687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1A8E3-C755-48B8-990E-02CC6E4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1D37D-C472-44F6-8081-3DED2055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3E5CA-1883-4B90-B4D3-3CB76539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4C62-7EA7-4B8D-A561-67E3F8ED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DD5-5E80-447F-B4C2-57AA4676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B694-0169-4020-A251-298963E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D916-ABAF-4631-99FB-6808F2D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2E17-07AA-4584-BE1E-82B2203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596-1ADE-4F2E-939E-14F0B4B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4683-978B-4712-A1D8-075B0487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181E-B1A3-4C45-B13F-30A70676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CC5D-0A44-4748-BABA-09B2B35E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02D3-D4DA-4DFC-86DD-F46C3BF1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8C2F-D207-49E7-9F4F-C35E376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086E-9F39-472F-8526-561FB1A4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DDA9-8B2C-4823-A78F-FA4EF0C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5F25-3E05-4610-92FC-EFE92F7C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263C-6724-4539-86A8-A5E1899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A7AF-4E32-4D36-95A9-5361749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F670-707B-42B8-AC5E-05CAFB30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0929-E1D4-484B-9220-C512307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17F9-B527-4D4A-8C61-5772B5B2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E410-A556-4D12-8BD4-FE30E735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AD58-018B-46B7-8B56-2BE4E1F0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77E2-44A9-4417-A509-2CEF171F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E2E2-1BF6-4A3C-9987-AEC07E1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0FDB-1965-4642-BDF1-AB1E095C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3CCC-EC15-4BE9-906B-185931F3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8D55-5D19-4C94-A53A-3A13D35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C4D2-0276-4448-BEBF-4993650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FC16-8E33-4E1A-947E-AB72EBC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59D4-F39B-41FB-92EA-78F8B39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666E-8E7F-4802-A065-40234653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3DE4-D2D5-494F-9E35-17F2014B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56BB-964D-45A4-BD6C-1FC5D1BF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2AC54-7529-4CB0-AE28-BE509153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915C-0EFC-4177-A258-E163F3B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11AE0-714A-425A-822B-403BFB0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1199-25AC-43A6-BFA0-2647AAF0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2BC9-F96D-4CB8-9FAA-F087664C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65E1-7B32-4950-9F03-AB15919F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0B34-6448-4099-A7E5-98AA5D5B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8C31-A264-47B3-A164-E0180BE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6F4AD-50AB-44FD-BA77-AF24304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6404-6D1A-4C17-AC4C-E303B76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144A-666D-4CC7-A1F0-F5FCE562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5BBB-301C-4A03-A94B-0998E9F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03BA-6BFC-4C85-903D-2E593996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FC01-5200-4874-AC15-6923633F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92CD-3EED-4495-9839-E4A8515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FACB-4D5A-45A3-A84C-84F9FBC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5FFA-31AE-4E6F-AB49-CB084DE2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3E02-E927-4D98-B4FF-B655BB6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2C8AE-0295-4D07-8993-C7E64EF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C1E3-3F5A-4DAE-BE26-7CBC439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A2CEF-24BF-4B9F-B66D-58A6B89F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DB30-20CE-4639-98B6-20D5E528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EE8E-2201-414F-8D4E-D5157A79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519C-1764-41E3-AEE6-91626BB0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F36A-A12A-4E8F-A7BA-79973B51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3911B-C6AF-468E-9B45-33E9E88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741C-62A8-4C22-830C-7EA3B3A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0BD9-A3EC-484D-9980-710ACC8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A6777-FD5B-497E-9069-D6F9C32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12ED-67AA-4EA4-8333-BF205BBF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89C9-3FDD-4DC6-9956-A3D4DF3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D779-1886-4429-8116-A5D2CE5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B431-3F53-4D21-B3E8-96906FB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2CEB-DF11-4CA4-87CA-CBC98D8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EA9F4-EB07-43D1-8606-08CA43F3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6B0AE-FDEF-46C8-B733-B66698E7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742E4-67F5-4570-B4DD-95E670F3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B1C3-7005-4679-9E1D-80A0769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D69B-0165-4593-8E72-6435154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A984-5DA0-454B-9603-2663A054FDF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2A18-2A0F-41F9-8264-082128F332C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CB4-6B6C-4CA6-933C-BA0B856881B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1AAD-28F7-4805-BFED-77952085798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394-1996-4597-AE38-D4A4AC1887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905D-E958-4450-BA04-C151EC0D94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CC5-CB3A-43D0-A74A-915E64B309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F066-5282-4FC3-BB38-80083C0744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48F0-19BF-4897-8B92-E4723834A8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87C-F809-41F1-A551-7D1F7578C2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6F94-E6D7-4DD4-B98E-0032E1438C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FBFC-706C-4562-885D-C2D33063C4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C7E-7B87-42C8-995D-42582F3127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498C-BE1B-4756-9C52-7EE87AF2EF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D48-F28F-4A4A-8141-2ECA938FA6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8FA4-08FB-4BFD-AA42-0D43EADF33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554-4961-4596-9B99-3E22844999D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384-A7C5-447E-AB96-E8C669C0531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EC7D-DD96-4433-A3BF-53ECFD701D9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2DA-BB1F-4893-B3AB-C230482FA2F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B36-D69B-414C-A6C2-21BEA5D0618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9CE-8520-4AC7-B654-F87CA989B37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CB2B-362B-46B6-9205-168033D9C66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圆柱和圆锥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111560" y="1574640"/>
            <a:ext cx="50418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冰淇淋盒有多大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圆柱和圆锥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平面图形旋转得到圆柱、圆锥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围成圆柱的有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圆柱的特征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84240" y="1233360"/>
            <a:ext cx="64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用纸片和小棒做成下面的小旗，快速旋转小棒，想象纸片旋转一周后所形成的图形，再连一连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Picture 12" descr="XT4"/>
          <p:cNvPicPr/>
          <p:nvPr/>
        </p:nvPicPr>
        <p:blipFill>
          <a:blip r:embed="rId2"/>
          <a:stretch/>
        </p:blipFill>
        <p:spPr>
          <a:xfrm>
            <a:off x="2346480" y="3213000"/>
            <a:ext cx="4405320" cy="2303640"/>
          </a:xfrm>
          <a:prstGeom prst="rect">
            <a:avLst/>
          </a:prstGeom>
          <a:ln w="0">
            <a:noFill/>
          </a:ln>
        </p:spPr>
      </p:pic>
      <p:sp>
        <p:nvSpPr>
          <p:cNvPr id="1005" name="直接连接符 2"/>
          <p:cNvSpPr/>
          <p:nvPr/>
        </p:nvSpPr>
        <p:spPr>
          <a:xfrm flipV="1">
            <a:off x="2808360" y="4113360"/>
            <a:ext cx="219528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直接连接符 4"/>
          <p:cNvSpPr/>
          <p:nvPr/>
        </p:nvSpPr>
        <p:spPr>
          <a:xfrm flipV="1">
            <a:off x="4067280" y="4113360"/>
            <a:ext cx="226836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直接连接符 6"/>
          <p:cNvSpPr/>
          <p:nvPr/>
        </p:nvSpPr>
        <p:spPr>
          <a:xfrm>
            <a:off x="2808360" y="4113360"/>
            <a:ext cx="239400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直接连接符 8"/>
          <p:cNvSpPr/>
          <p:nvPr/>
        </p:nvSpPr>
        <p:spPr>
          <a:xfrm>
            <a:off x="4067280" y="4113360"/>
            <a:ext cx="205236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Box 1"/>
          <p:cNvSpPr/>
          <p:nvPr/>
        </p:nvSpPr>
        <p:spPr>
          <a:xfrm>
            <a:off x="880920" y="13050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认真选一选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下图，长方形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搭配起来能做成一个圆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0" name="Picture 4" descr="xjt5"/>
          <p:cNvPicPr/>
          <p:nvPr/>
        </p:nvPicPr>
        <p:blipFill>
          <a:blip r:embed="rId1"/>
          <a:stretch/>
        </p:blipFill>
        <p:spPr>
          <a:xfrm>
            <a:off x="2133720" y="3213000"/>
            <a:ext cx="4686120" cy="295272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1"/>
          <p:cNvSpPr/>
          <p:nvPr/>
        </p:nvSpPr>
        <p:spPr>
          <a:xfrm>
            <a:off x="47455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0"/>
          <p:cNvSpPr/>
          <p:nvPr/>
        </p:nvSpPr>
        <p:spPr>
          <a:xfrm>
            <a:off x="954000" y="126828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有一块棱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的正方体木料，把它加工成一个最大的圆柱，这个圆柱的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　　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7236000" y="187308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2415240" y="251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"/>
          <p:cNvSpPr/>
          <p:nvPr/>
        </p:nvSpPr>
        <p:spPr>
          <a:xfrm>
            <a:off x="826920" y="12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用一张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长方形纸围成一个圆柱，有几种不同的围法？它们的高和底面周长各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2"/>
          <p:cNvSpPr/>
          <p:nvPr/>
        </p:nvSpPr>
        <p:spPr>
          <a:xfrm>
            <a:off x="1655640" y="321300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两种不同的围法。一种是以长方形的长为底面周长，此时圆柱的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底面周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；另一种是以长方形的宽为底面周长，此时圆柱的高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底面周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"/>
          <p:cNvSpPr/>
          <p:nvPr/>
        </p:nvSpPr>
        <p:spPr>
          <a:xfrm>
            <a:off x="1606680" y="3968640"/>
            <a:ext cx="65372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5×2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宽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5×2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高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个箱子的长至少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，宽至少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，高至少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927000" y="11556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712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种饮料罐的形状为圆柱形，底面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这种饮料罐按下图所示的方式放入箱子内，这个箱子的长、宽、高至少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9" name="Picture 4" descr="YA12A"/>
          <p:cNvPicPr/>
          <p:nvPr/>
        </p:nvPicPr>
        <p:blipFill>
          <a:blip r:embed="rId1"/>
          <a:stretch/>
        </p:blipFill>
        <p:spPr>
          <a:xfrm>
            <a:off x="4487760" y="3357720"/>
            <a:ext cx="35146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10"/>
          <p:cNvSpPr/>
          <p:nvPr/>
        </p:nvSpPr>
        <p:spPr>
          <a:xfrm>
            <a:off x="97164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图，一个圆柱形蛋糕盒用彩带捆扎，如果接头处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的彩带，那么一共用了多长的彩带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1" name="矩形 4"/>
          <p:cNvSpPr/>
          <p:nvPr/>
        </p:nvSpPr>
        <p:spPr>
          <a:xfrm>
            <a:off x="1800360" y="3814920"/>
            <a:ext cx="50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5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一共用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15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的彩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2" name="Picture 4" descr="xjt6"/>
          <p:cNvPicPr/>
          <p:nvPr/>
        </p:nvPicPr>
        <p:blipFill>
          <a:blip r:embed="rId1"/>
          <a:stretch/>
        </p:blipFill>
        <p:spPr>
          <a:xfrm>
            <a:off x="6767640" y="2595600"/>
            <a:ext cx="120780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4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5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8" name="矩形 19"/>
          <p:cNvSpPr/>
          <p:nvPr/>
        </p:nvSpPr>
        <p:spPr>
          <a:xfrm>
            <a:off x="96372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二、有一个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.5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c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圆柱，沿底面某条直径所在的平面把它切割成两个完全一样的半圆柱，其中一个切割面的面积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1414440" y="4143240"/>
            <a:ext cx="6508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.56÷3.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其中一个切割面的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0" name="Picture 9" descr="XJ2"/>
          <p:cNvPicPr/>
          <p:nvPr/>
        </p:nvPicPr>
        <p:blipFill>
          <a:blip r:embed="rId2"/>
          <a:stretch/>
        </p:blipFill>
        <p:spPr>
          <a:xfrm>
            <a:off x="6804000" y="3033720"/>
            <a:ext cx="80820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7:30Z</dcterms:modified>
  <cp:revision>1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