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12.wmf" ContentType="image/x-wmf"/>
  <Override PartName="/ppt/media/image33.png" ContentType="image/png"/>
  <Override PartName="/ppt/media/image16.wmf" ContentType="image/x-wmf"/>
  <Override PartName="/ppt/media/image11.wmf" ContentType="image/x-wmf"/>
  <Override PartName="/ppt/media/image34.jpeg" ContentType="image/jpeg"/>
  <Override PartName="/ppt/media/image37.wmf" ContentType="image/x-wmf"/>
  <Override PartName="/ppt/media/image7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3.jpeg" ContentType="image/jpeg"/>
  <Override PartName="/ppt/media/image28.wmf" ContentType="image/x-wmf"/>
  <Override PartName="/ppt/media/image21.wmf" ContentType="image/x-wmf"/>
  <Override PartName="/ppt/media/image6.jpeg" ContentType="image/jpeg"/>
  <Override PartName="/ppt/media/image10.wmf" ContentType="image/x-wmf"/>
  <Override PartName="/ppt/media/image25.wmf" ContentType="image/x-wmf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BEF-714E-43C3-97A4-9B7E94E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C6C-BA6C-44B7-AC4F-E52BA071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290-53FB-4191-B1BC-87CED1A5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937-7A2A-4FFB-A37B-4A61170C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C44-1FCF-4360-9F1F-7FB7E16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3E9-CA23-40AA-AD34-BE371FD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31B-E599-4F64-B8A2-FADBB415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CAB-D945-4C7F-A412-4C270E1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EC8-03D8-405D-888A-6A49FB0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E6-E8DF-4796-9EA1-E881DA8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444-C0E1-445E-81E7-1B132B2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F98-5826-4859-A0C8-0279D0F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0FB-C473-4B5E-BD09-F344B4C8A47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60720" y="1773360"/>
            <a:ext cx="2158920" cy="36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情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060720" y="2125800"/>
            <a:ext cx="215892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老师买词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984480" y="2502000"/>
            <a:ext cx="241560" cy="269640"/>
          </a:xfrm>
          <a:prstGeom prst="downArrow">
            <a:avLst>
              <a:gd name="adj1" fmla="val 50000"/>
              <a:gd name="adj2" fmla="val 2790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1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700360" y="2797200"/>
            <a:ext cx="2879640" cy="36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1658400">
            <a:off x="3492000" y="3203280"/>
            <a:ext cx="241560" cy="269640"/>
          </a:xfrm>
          <a:prstGeom prst="downArrow">
            <a:avLst>
              <a:gd name="adj1" fmla="val 50000"/>
              <a:gd name="adj2" fmla="val 2790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 rot="20336400">
            <a:off x="4475160" y="3203280"/>
            <a:ext cx="241200" cy="269640"/>
          </a:xfrm>
          <a:prstGeom prst="downArrow">
            <a:avLst>
              <a:gd name="adj1" fmla="val 50000"/>
              <a:gd name="adj2" fmla="val 2794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2665440" y="3492360"/>
            <a:ext cx="1440000" cy="71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了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够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108320" y="3492360"/>
            <a:ext cx="1800360" cy="71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找回（或再付）多少元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3354480" y="4237200"/>
            <a:ext cx="241200" cy="269640"/>
          </a:xfrm>
          <a:prstGeom prst="downArrow">
            <a:avLst>
              <a:gd name="adj1" fmla="val 50000"/>
              <a:gd name="adj2" fmla="val 2794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1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4788000" y="4221000"/>
            <a:ext cx="196920" cy="274680"/>
          </a:xfrm>
          <a:prstGeom prst="downArrow">
            <a:avLst>
              <a:gd name="adj1" fmla="val 50000"/>
              <a:gd name="adj2" fmla="val 2779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835280" y="4527720"/>
            <a:ext cx="2158920" cy="36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需要近似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068720" y="4527720"/>
            <a:ext cx="2158920" cy="36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精确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755640" y="5229360"/>
            <a:ext cx="1619280" cy="1152360"/>
            <a:chOff x="755640" y="5229360"/>
            <a:chExt cx="1619280" cy="1152360"/>
          </a:xfrm>
        </p:grpSpPr>
        <p:sp>
          <p:nvSpPr>
            <p:cNvPr id="239" name="Rectangle 17"/>
            <p:cNvSpPr/>
            <p:nvPr/>
          </p:nvSpPr>
          <p:spPr>
            <a:xfrm>
              <a:off x="755640" y="5229360"/>
              <a:ext cx="1587960" cy="11095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786960" y="5248800"/>
              <a:ext cx="1587960" cy="11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估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80≈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0≈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×200≈8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9"/>
          <p:cNvGrpSpPr/>
          <p:nvPr/>
        </p:nvGrpSpPr>
        <p:grpSpPr>
          <a:xfrm>
            <a:off x="2378160" y="5170320"/>
            <a:ext cx="2698560" cy="1138320"/>
            <a:chOff x="2378160" y="5170320"/>
            <a:chExt cx="2698560" cy="1138320"/>
          </a:xfrm>
        </p:grpSpPr>
        <p:sp>
          <p:nvSpPr>
            <p:cNvPr id="242" name="Rectangle 20"/>
            <p:cNvSpPr/>
            <p:nvPr/>
          </p:nvSpPr>
          <p:spPr>
            <a:xfrm>
              <a:off x="2409840" y="5217120"/>
              <a:ext cx="2158920" cy="10915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2378160" y="5170320"/>
              <a:ext cx="26985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口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80×200-3.80×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2"/>
          <p:cNvGrpSpPr/>
          <p:nvPr/>
        </p:nvGrpSpPr>
        <p:grpSpPr>
          <a:xfrm>
            <a:off x="4541760" y="5229360"/>
            <a:ext cx="1440000" cy="1224000"/>
            <a:chOff x="4541760" y="5229360"/>
            <a:chExt cx="1440000" cy="1224000"/>
          </a:xfrm>
        </p:grpSpPr>
        <p:sp>
          <p:nvSpPr>
            <p:cNvPr id="245" name="Rectangle 23"/>
            <p:cNvSpPr/>
            <p:nvPr/>
          </p:nvSpPr>
          <p:spPr>
            <a:xfrm>
              <a:off x="4629600" y="5229360"/>
              <a:ext cx="1080000" cy="1082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4"/>
            <p:cNvSpPr/>
            <p:nvPr/>
          </p:nvSpPr>
          <p:spPr>
            <a:xfrm>
              <a:off x="4541760" y="522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笔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8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1 9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5"/>
          <p:cNvGrpSpPr/>
          <p:nvPr/>
        </p:nvGrpSpPr>
        <p:grpSpPr>
          <a:xfrm>
            <a:off x="5761080" y="5229360"/>
            <a:ext cx="1619280" cy="1079280"/>
            <a:chOff x="5761080" y="5229360"/>
            <a:chExt cx="1619280" cy="1079280"/>
          </a:xfrm>
        </p:grpSpPr>
        <p:sp>
          <p:nvSpPr>
            <p:cNvPr id="248" name="Rectangle 26"/>
            <p:cNvSpPr/>
            <p:nvPr/>
          </p:nvSpPr>
          <p:spPr>
            <a:xfrm>
              <a:off x="5761080" y="5229360"/>
              <a:ext cx="1619280" cy="1079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5865120" y="5252400"/>
              <a:ext cx="14392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计算器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80×1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28"/>
          <p:cNvSpPr/>
          <p:nvPr/>
        </p:nvSpPr>
        <p:spPr>
          <a:xfrm rot="2711400">
            <a:off x="2064960" y="4957560"/>
            <a:ext cx="241560" cy="270000"/>
          </a:xfrm>
          <a:prstGeom prst="downArrow">
            <a:avLst>
              <a:gd name="adj1" fmla="val 50000"/>
              <a:gd name="adj2" fmla="val 279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9"/>
          <p:cNvSpPr/>
          <p:nvPr/>
        </p:nvSpPr>
        <p:spPr>
          <a:xfrm rot="2711400">
            <a:off x="4080960" y="4961160"/>
            <a:ext cx="241200" cy="269640"/>
          </a:xfrm>
          <a:prstGeom prst="downArrow">
            <a:avLst>
              <a:gd name="adj1" fmla="val 50000"/>
              <a:gd name="adj2" fmla="val 2794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>
            <a:off x="5051520" y="4943520"/>
            <a:ext cx="241200" cy="270000"/>
          </a:xfrm>
          <a:prstGeom prst="downArrow">
            <a:avLst>
              <a:gd name="adj1" fmla="val 50000"/>
              <a:gd name="adj2" fmla="val 2798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1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/>
          <p:cNvSpPr/>
          <p:nvPr/>
        </p:nvSpPr>
        <p:spPr>
          <a:xfrm rot="19081800">
            <a:off x="6084360" y="4898520"/>
            <a:ext cx="241560" cy="270000"/>
          </a:xfrm>
          <a:prstGeom prst="downArrow">
            <a:avLst>
              <a:gd name="adj1" fmla="val 50000"/>
              <a:gd name="adj2" fmla="val 279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4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34920" y="1197000"/>
            <a:ext cx="93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在选择计算方法解决问题的过程中，我们经历了怎样一个过程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6"/>
          <p:cNvSpPr/>
          <p:nvPr/>
        </p:nvSpPr>
        <p:spPr>
          <a:xfrm>
            <a:off x="539640" y="13827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图形与几何”“统计与可能性”等知识的学习是不是也要用到计算？谈谈你的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4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1500120" cy="2376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6"/>
          <p:cNvSpPr/>
          <p:nvPr/>
        </p:nvSpPr>
        <p:spPr>
          <a:xfrm>
            <a:off x="755640" y="2276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图，要为这样一个饮料罐的外壁制作标签纸，至少需要多少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3442680" y="3224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×3.14×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5262120" y="3213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9.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780000" y="472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里用到了小数乘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6"/>
          <p:cNvSpPr/>
          <p:nvPr/>
        </p:nvSpPr>
        <p:spPr>
          <a:xfrm>
            <a:off x="539640" y="126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图形与几何”“统计与可能性”等知识的学习是不是也要用到计算？谈谈你的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024000" cy="2577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1"/>
          <p:cNvSpPr/>
          <p:nvPr/>
        </p:nvSpPr>
        <p:spPr>
          <a:xfrm>
            <a:off x="455760" y="2496960"/>
            <a:ext cx="8148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如：六年级一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课，各学科课时占总课时的百分比如下图。一周有多少节语文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143600" y="37638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×23.3%≈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419640" y="5373720"/>
            <a:ext cx="4968720" cy="551160"/>
          </a:xfrm>
          <a:prstGeom prst="rect">
            <a:avLst/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算在数学学习中非常重要，大部分的知识要用到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3780000" y="4508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里用到了分数乘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324000" y="123984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1782360" y="1241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食堂计划购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大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900000" y="2924280"/>
            <a:ext cx="3167280" cy="504720"/>
          </a:xfrm>
          <a:prstGeom prst="rect">
            <a:avLst/>
          </a:prstGeom>
          <a:solidFill>
            <a:srgbClr val="ffff00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些大米够吃半个月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2327400" y="3516480"/>
            <a:ext cx="214200" cy="303120"/>
          </a:xfrm>
          <a:prstGeom prst="downArrow">
            <a:avLst>
              <a:gd name="adj1" fmla="val 50000"/>
              <a:gd name="adj2" fmla="val 35378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2355840" y="4365720"/>
            <a:ext cx="200160" cy="245880"/>
          </a:xfrm>
          <a:prstGeom prst="downArrow">
            <a:avLst>
              <a:gd name="adj1" fmla="val 50000"/>
              <a:gd name="adj2" fmla="val 30710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912960" y="3860640"/>
            <a:ext cx="3011400" cy="432000"/>
          </a:xfrm>
          <a:prstGeom prst="rect">
            <a:avLst/>
          </a:prstGeom>
          <a:solidFill>
            <a:srgbClr val="ffccff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只需要近似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900000" y="4710240"/>
            <a:ext cx="3168720" cy="1728720"/>
          </a:xfrm>
          <a:prstGeom prst="rect">
            <a:avLst/>
          </a:prstGeom>
          <a:solidFill>
            <a:srgbClr val="ffff00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4657680" y="2952720"/>
            <a:ext cx="3816360" cy="504720"/>
          </a:xfrm>
          <a:prstGeom prst="rect">
            <a:avLst/>
          </a:prstGeom>
          <a:solidFill>
            <a:srgbClr val="ffff00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还剩下（还需要购进）多少千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1"/>
          <p:cNvSpPr/>
          <p:nvPr/>
        </p:nvSpPr>
        <p:spPr>
          <a:xfrm>
            <a:off x="6372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2"/>
          <p:cNvSpPr/>
          <p:nvPr/>
        </p:nvSpPr>
        <p:spPr>
          <a:xfrm>
            <a:off x="5003640" y="3860640"/>
            <a:ext cx="2951280" cy="432000"/>
          </a:xfrm>
          <a:prstGeom prst="rect">
            <a:avLst/>
          </a:prstGeom>
          <a:solidFill>
            <a:srgbClr val="ffccff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需要精确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3"/>
          <p:cNvSpPr/>
          <p:nvPr/>
        </p:nvSpPr>
        <p:spPr>
          <a:xfrm>
            <a:off x="6429240" y="4365720"/>
            <a:ext cx="216000" cy="272880"/>
          </a:xfrm>
          <a:prstGeom prst="downArrow">
            <a:avLst>
              <a:gd name="adj1" fmla="val 50000"/>
              <a:gd name="adj2" fmla="val 31583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4757760" y="4653000"/>
            <a:ext cx="3600360" cy="1757160"/>
          </a:xfrm>
          <a:prstGeom prst="rect">
            <a:avLst/>
          </a:prstGeom>
          <a:solidFill>
            <a:srgbClr val="ffff00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4729320" y="4711680"/>
            <a:ext cx="44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先求半个月需要多少千克大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4875840" y="4998960"/>
            <a:ext cx="32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4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4729320" y="5373720"/>
            <a:ext cx="39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再求还剩下多少千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9"/>
          <p:cNvSpPr/>
          <p:nvPr/>
        </p:nvSpPr>
        <p:spPr>
          <a:xfrm>
            <a:off x="4716360" y="5719680"/>
            <a:ext cx="29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-1425=75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5838840" y="6021360"/>
            <a:ext cx="32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还剩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-1798560" y="1816200"/>
            <a:ext cx="115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平均每天吃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这些大米够吃半个月吗？（一个月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计算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1544400" y="2382840"/>
            <a:ext cx="50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够了，还剩下多少千克？如果不够，还需要购进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900000" y="488304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估算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5≈100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571400" y="53164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×15=1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2355840" y="57862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答：够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395280" y="1268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755640" y="11685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开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的火车平均每小时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以到达；提速后，平均每小时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几小时到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1387440" y="3716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×4 = 4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387440" y="4437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÷16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小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84360" y="2421000"/>
            <a:ext cx="806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所求问题是“几小时到达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需要求出确切的时间，所以要精确计算。这道题可以选择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8"/>
          <p:cNvSpPr/>
          <p:nvPr/>
        </p:nvSpPr>
        <p:spPr>
          <a:xfrm>
            <a:off x="3059280" y="52293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到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468360" y="1268280"/>
            <a:ext cx="547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2"/>
          <p:cNvSpPr/>
          <p:nvPr/>
        </p:nvSpPr>
        <p:spPr>
          <a:xfrm>
            <a:off x="826920" y="1268280"/>
            <a:ext cx="76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连、烟台两个港口相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里。甲、乙两船分别从两个港口同时出发，相向而行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后相遇。乙船每小时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里，甲船每小时行多少海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2411280" y="41497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7 ÷ 3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828720" y="2852640"/>
            <a:ext cx="806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所求问题是“甲船每小时行多少海里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，需要求出确切的速度，所以要精确计算。这道题可以选择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031840" y="51577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海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2050920" y="45813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9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348000" y="5661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甲船每小时航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395280" y="1209600"/>
            <a:ext cx="5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870120" y="1197000"/>
            <a:ext cx="720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是王阿姨某天卖出报刊情况的记录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11280" y="1924200"/>
          <a:ext cx="4390920" cy="2368440"/>
        </p:xfrm>
        <a:graphic>
          <a:graphicData uri="http://schemas.openxmlformats.org/drawingml/2006/table">
            <a:tbl>
              <a:tblPr/>
              <a:tblGrid>
                <a:gridCol w="1800360"/>
                <a:gridCol w="1584360"/>
                <a:gridCol w="100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单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都市晚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9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京华晨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8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电脑世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2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城市生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5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0"/>
          <p:cNvSpPr/>
          <p:nvPr/>
        </p:nvSpPr>
        <p:spPr>
          <a:xfrm>
            <a:off x="4925880" y="1844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晚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华晨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卖了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2"/>
          <p:cNvSpPr/>
          <p:nvPr/>
        </p:nvSpPr>
        <p:spPr>
          <a:xfrm>
            <a:off x="5484960" y="2565360"/>
            <a:ext cx="34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0×90 + 0.30×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2"/>
          <p:cNvSpPr/>
          <p:nvPr/>
        </p:nvSpPr>
        <p:spPr>
          <a:xfrm>
            <a:off x="5173560" y="3454560"/>
            <a:ext cx="50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7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2"/>
          <p:cNvSpPr/>
          <p:nvPr/>
        </p:nvSpPr>
        <p:spPr>
          <a:xfrm>
            <a:off x="5148360" y="29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5 + 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1621800" y="4365720"/>
            <a:ext cx="52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脑世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生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种卖的钱多？多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1182240" y="486900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脑世界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85×25 = 46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5"/>
          <p:cNvSpPr/>
          <p:nvPr/>
        </p:nvSpPr>
        <p:spPr>
          <a:xfrm>
            <a:off x="1284120" y="537372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生活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70×9 = 51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2360520" y="573408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.3 - 46.25 = 5.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1042920" y="62118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城市生活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卖的钱多，多卖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5722920" y="39052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卖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95280" y="123660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27200" y="1150920"/>
            <a:ext cx="720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王平的爸爸在银行存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定期一年，年利率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到期后应得利息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55640" y="2492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利息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本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利率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855360" y="293832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0×3.25%×1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2"/>
          <p:cNvSpPr/>
          <p:nvPr/>
        </p:nvSpPr>
        <p:spPr>
          <a:xfrm>
            <a:off x="611280" y="3284640"/>
            <a:ext cx="871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种上衣原价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按七折销售，便宜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971640" y="383544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按七折销售就是按现价是原价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0%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销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1071720" y="429264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7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639720" y="472428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商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月份销售的女装数量比男装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男装销售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件，女装销售了多少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887400" y="573408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80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4"/>
          <p:cNvSpPr/>
          <p:nvPr/>
        </p:nvSpPr>
        <p:spPr>
          <a:xfrm>
            <a:off x="5600880" y="296856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应得利息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6551640" y="43513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便宜了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5830920" y="57340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女装销售了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568440" y="14590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1042920" y="126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东区要修一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景观大道，第一周修了这条路的   ，第二周修了这条路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剩多少米没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3"/>
          <p:cNvGrpSpPr/>
          <p:nvPr/>
        </p:nvGrpSpPr>
        <p:grpSpPr>
          <a:xfrm>
            <a:off x="1804680" y="1859040"/>
            <a:ext cx="331920" cy="717840"/>
            <a:chOff x="1804680" y="1859040"/>
            <a:chExt cx="331920" cy="717840"/>
          </a:xfrm>
        </p:grpSpPr>
        <p:sp>
          <p:nvSpPr>
            <p:cNvPr id="346" name="Text Box 10"/>
            <p:cNvSpPr/>
            <p:nvPr/>
          </p:nvSpPr>
          <p:spPr>
            <a:xfrm>
              <a:off x="1804680" y="1859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1814040" y="2178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>
              <a:off x="1820880" y="2203560"/>
              <a:ext cx="288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2"/>
          <p:cNvGrpSpPr/>
          <p:nvPr/>
        </p:nvGrpSpPr>
        <p:grpSpPr>
          <a:xfrm>
            <a:off x="1406160" y="2909880"/>
            <a:ext cx="3687120" cy="837360"/>
            <a:chOff x="1406160" y="2909880"/>
            <a:chExt cx="3687120" cy="837360"/>
          </a:xfrm>
        </p:grpSpPr>
        <p:sp>
          <p:nvSpPr>
            <p:cNvPr id="350" name="Text Box 15"/>
            <p:cNvSpPr/>
            <p:nvPr/>
          </p:nvSpPr>
          <p:spPr>
            <a:xfrm>
              <a:off x="1406160" y="3095640"/>
              <a:ext cx="368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-    -  20%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6"/>
            <p:cNvGrpSpPr/>
            <p:nvPr/>
          </p:nvGrpSpPr>
          <p:grpSpPr>
            <a:xfrm>
              <a:off x="3141360" y="2909880"/>
              <a:ext cx="363600" cy="837360"/>
              <a:chOff x="3141360" y="2909880"/>
              <a:chExt cx="363600" cy="837360"/>
            </a:xfrm>
          </p:grpSpPr>
          <p:sp>
            <p:nvSpPr>
              <p:cNvPr id="352" name="Text Box 17"/>
              <p:cNvSpPr/>
              <p:nvPr/>
            </p:nvSpPr>
            <p:spPr>
              <a:xfrm>
                <a:off x="3144600" y="2909880"/>
                <a:ext cx="33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8"/>
              <p:cNvSpPr/>
              <p:nvPr/>
            </p:nvSpPr>
            <p:spPr>
              <a:xfrm>
                <a:off x="3141360" y="328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9"/>
              <p:cNvSpPr/>
              <p:nvPr/>
            </p:nvSpPr>
            <p:spPr>
              <a:xfrm>
                <a:off x="3168360" y="3317760"/>
                <a:ext cx="289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 Box 15"/>
          <p:cNvSpPr/>
          <p:nvPr/>
        </p:nvSpPr>
        <p:spPr>
          <a:xfrm>
            <a:off x="1255680" y="3959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58920" y="458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5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4"/>
          <p:cNvSpPr/>
          <p:nvPr/>
        </p:nvSpPr>
        <p:spPr>
          <a:xfrm>
            <a:off x="3132000" y="5157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还剩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没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568440" y="135396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042920" y="1268280"/>
            <a:ext cx="72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个城市绿化面积的有关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00000" y="2060640"/>
          <a:ext cx="7128000" cy="1414440"/>
        </p:xfrm>
        <a:graphic>
          <a:graphicData uri="http://schemas.openxmlformats.org/drawingml/2006/table">
            <a:tbl>
              <a:tblPr/>
              <a:tblGrid>
                <a:gridCol w="3095640"/>
                <a:gridCol w="1368360"/>
                <a:gridCol w="1368360"/>
                <a:gridCol w="1295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城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总面积（万平方千米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绿化面积（万平方千米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28"/>
          <p:cNvSpPr/>
          <p:nvPr/>
        </p:nvSpPr>
        <p:spPr>
          <a:xfrm>
            <a:off x="2667600" y="370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城市的绿化情况好一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1"/>
          <p:cNvSpPr/>
          <p:nvPr/>
        </p:nvSpPr>
        <p:spPr>
          <a:xfrm>
            <a:off x="1099080" y="422100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绿化率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3÷0.7×100%≈32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2"/>
          <p:cNvSpPr/>
          <p:nvPr/>
        </p:nvSpPr>
        <p:spPr>
          <a:xfrm>
            <a:off x="1103760" y="472428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绿化率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÷1.1×100%≈22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1146960" y="52372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绿化率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7÷1.5×100%≈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4"/>
          <p:cNvSpPr/>
          <p:nvPr/>
        </p:nvSpPr>
        <p:spPr>
          <a:xfrm>
            <a:off x="4649760" y="602136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城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化情况好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395280" y="1778040"/>
            <a:ext cx="2160720" cy="2226960"/>
          </a:xfrm>
          <a:prstGeom prst="rect">
            <a:avLst/>
          </a:prstGeom>
          <a:solidFill>
            <a:srgbClr val="ff00ff">
              <a:alpha val="9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老师要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小词典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她带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够吗？应找回（或再付）多少元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468360" y="55641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5"/>
          <p:cNvSpPr/>
          <p:nvPr/>
        </p:nvSpPr>
        <p:spPr>
          <a:xfrm>
            <a:off x="5351400" y="1773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5"/>
          <p:cNvSpPr/>
          <p:nvPr/>
        </p:nvSpPr>
        <p:spPr>
          <a:xfrm>
            <a:off x="5351400" y="2422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每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2" descr=""/>
          <p:cNvPicPr/>
          <p:nvPr/>
        </p:nvPicPr>
        <p:blipFill>
          <a:blip r:embed="rId2"/>
          <a:srcRect l="40901" t="0" r="0" b="0"/>
          <a:stretch/>
        </p:blipFill>
        <p:spPr>
          <a:xfrm>
            <a:off x="2554200" y="1778040"/>
            <a:ext cx="2814840" cy="30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Rectangle 33"/>
          <p:cNvSpPr/>
          <p:nvPr/>
        </p:nvSpPr>
        <p:spPr>
          <a:xfrm>
            <a:off x="395280" y="23544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755640" y="278604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55640" y="321804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539640" y="401004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5318280" y="3060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钱够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5351400" y="3568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应找回（或再付）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468360" y="58039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343480" y="4437000"/>
            <a:ext cx="38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根据解决问题的需要，怎样选择合理的计算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2"/>
          <p:cNvSpPr/>
          <p:nvPr/>
        </p:nvSpPr>
        <p:spPr>
          <a:xfrm>
            <a:off x="5435640" y="3645000"/>
            <a:ext cx="295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568440" y="14590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042920" y="1341360"/>
            <a:ext cx="763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山小学六年级有学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报名参加冬季越野比赛的占   ，其中男生占   。参加越野比赛的男生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3"/>
          <p:cNvGrpSpPr/>
          <p:nvPr/>
        </p:nvGrpSpPr>
        <p:grpSpPr>
          <a:xfrm>
            <a:off x="1765080" y="1793880"/>
            <a:ext cx="331920" cy="717840"/>
            <a:chOff x="1765080" y="1793880"/>
            <a:chExt cx="331920" cy="717840"/>
          </a:xfrm>
        </p:grpSpPr>
        <p:sp>
          <p:nvSpPr>
            <p:cNvPr id="373" name="Text Box 34"/>
            <p:cNvSpPr/>
            <p:nvPr/>
          </p:nvSpPr>
          <p:spPr>
            <a:xfrm>
              <a:off x="1765080" y="179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5"/>
            <p:cNvSpPr/>
            <p:nvPr/>
          </p:nvSpPr>
          <p:spPr>
            <a:xfrm>
              <a:off x="1774440" y="211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6"/>
            <p:cNvSpPr/>
            <p:nvPr/>
          </p:nvSpPr>
          <p:spPr>
            <a:xfrm>
              <a:off x="1781280" y="2138400"/>
              <a:ext cx="288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37"/>
          <p:cNvGrpSpPr/>
          <p:nvPr/>
        </p:nvGrpSpPr>
        <p:grpSpPr>
          <a:xfrm>
            <a:off x="4068720" y="1776240"/>
            <a:ext cx="331920" cy="717840"/>
            <a:chOff x="4068720" y="1776240"/>
            <a:chExt cx="331920" cy="717840"/>
          </a:xfrm>
        </p:grpSpPr>
        <p:sp>
          <p:nvSpPr>
            <p:cNvPr id="377" name="Text Box 38"/>
            <p:cNvSpPr/>
            <p:nvPr/>
          </p:nvSpPr>
          <p:spPr>
            <a:xfrm>
              <a:off x="4068720" y="177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9"/>
            <p:cNvSpPr/>
            <p:nvPr/>
          </p:nvSpPr>
          <p:spPr>
            <a:xfrm>
              <a:off x="4078080" y="2095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>
              <a:off x="4084920" y="2120760"/>
              <a:ext cx="288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9"/>
          <p:cNvSpPr/>
          <p:nvPr/>
        </p:nvSpPr>
        <p:spPr>
          <a:xfrm>
            <a:off x="1548000" y="340344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6×   ×    = 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0"/>
          <p:cNvGrpSpPr/>
          <p:nvPr/>
        </p:nvGrpSpPr>
        <p:grpSpPr>
          <a:xfrm>
            <a:off x="2408040" y="3213000"/>
            <a:ext cx="363600" cy="837360"/>
            <a:chOff x="2408040" y="3213000"/>
            <a:chExt cx="363600" cy="837360"/>
          </a:xfrm>
        </p:grpSpPr>
        <p:sp>
          <p:nvSpPr>
            <p:cNvPr id="382" name="Text Box 51"/>
            <p:cNvSpPr/>
            <p:nvPr/>
          </p:nvSpPr>
          <p:spPr>
            <a:xfrm>
              <a:off x="2411280" y="321300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52"/>
            <p:cNvSpPr/>
            <p:nvPr/>
          </p:nvSpPr>
          <p:spPr>
            <a:xfrm>
              <a:off x="2408040" y="359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3"/>
            <p:cNvSpPr/>
            <p:nvPr/>
          </p:nvSpPr>
          <p:spPr>
            <a:xfrm>
              <a:off x="2435040" y="3620880"/>
              <a:ext cx="289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4"/>
          <p:cNvGrpSpPr/>
          <p:nvPr/>
        </p:nvGrpSpPr>
        <p:grpSpPr>
          <a:xfrm>
            <a:off x="3198960" y="3173400"/>
            <a:ext cx="372960" cy="890640"/>
            <a:chOff x="3198960" y="3173400"/>
            <a:chExt cx="372960" cy="890640"/>
          </a:xfrm>
        </p:grpSpPr>
        <p:sp>
          <p:nvSpPr>
            <p:cNvPr id="386" name="Text Box 55"/>
            <p:cNvSpPr/>
            <p:nvPr/>
          </p:nvSpPr>
          <p:spPr>
            <a:xfrm>
              <a:off x="3198960" y="317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56"/>
            <p:cNvSpPr/>
            <p:nvPr/>
          </p:nvSpPr>
          <p:spPr>
            <a:xfrm>
              <a:off x="3208320" y="3604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7"/>
            <p:cNvSpPr/>
            <p:nvPr/>
          </p:nvSpPr>
          <p:spPr>
            <a:xfrm>
              <a:off x="3235320" y="3638880"/>
              <a:ext cx="289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22"/>
          <p:cNvSpPr/>
          <p:nvPr/>
        </p:nvSpPr>
        <p:spPr>
          <a:xfrm>
            <a:off x="3564000" y="4221000"/>
            <a:ext cx="51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参加越野比赛的男生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568440" y="135396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826920" y="131760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监局对全市儿童服装产品进行质量抽检。在抽检的产品中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品牌产品合格，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品牌产品不合格。本次抽检的合格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8"/>
          <p:cNvGrpSpPr/>
          <p:nvPr/>
        </p:nvGrpSpPr>
        <p:grpSpPr>
          <a:xfrm>
            <a:off x="653760" y="3813120"/>
            <a:ext cx="3321720" cy="759240"/>
            <a:chOff x="653760" y="3813120"/>
            <a:chExt cx="3321720" cy="759240"/>
          </a:xfrm>
        </p:grpSpPr>
        <p:sp>
          <p:nvSpPr>
            <p:cNvPr id="395" name="Text Box 15"/>
            <p:cNvSpPr/>
            <p:nvPr/>
          </p:nvSpPr>
          <p:spPr>
            <a:xfrm>
              <a:off x="653760" y="39798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格率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4"/>
            <p:cNvSpPr/>
            <p:nvPr/>
          </p:nvSpPr>
          <p:spPr>
            <a:xfrm>
              <a:off x="1905840" y="38131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格产品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5"/>
            <p:cNvSpPr/>
            <p:nvPr/>
          </p:nvSpPr>
          <p:spPr>
            <a:xfrm>
              <a:off x="1968480" y="4173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产品总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6"/>
            <p:cNvSpPr/>
            <p:nvPr/>
          </p:nvSpPr>
          <p:spPr>
            <a:xfrm>
              <a:off x="3032640" y="399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7"/>
            <p:cNvSpPr/>
            <p:nvPr/>
          </p:nvSpPr>
          <p:spPr>
            <a:xfrm>
              <a:off x="1619280" y="419580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9"/>
          <p:cNvGrpSpPr/>
          <p:nvPr/>
        </p:nvGrpSpPr>
        <p:grpSpPr>
          <a:xfrm>
            <a:off x="-674640" y="4843440"/>
            <a:ext cx="3512160" cy="820080"/>
            <a:chOff x="-674640" y="4843440"/>
            <a:chExt cx="3512160" cy="820080"/>
          </a:xfrm>
        </p:grpSpPr>
        <p:sp>
          <p:nvSpPr>
            <p:cNvPr id="401" name="Text Box 40"/>
            <p:cNvSpPr/>
            <p:nvPr/>
          </p:nvSpPr>
          <p:spPr>
            <a:xfrm>
              <a:off x="-674640" y="49957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1"/>
            <p:cNvSpPr/>
            <p:nvPr/>
          </p:nvSpPr>
          <p:spPr>
            <a:xfrm>
              <a:off x="890640" y="484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96600" y="5203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3"/>
            <p:cNvSpPr/>
            <p:nvPr/>
          </p:nvSpPr>
          <p:spPr>
            <a:xfrm>
              <a:off x="1742400" y="5010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4"/>
            <p:cNvSpPr/>
            <p:nvPr/>
          </p:nvSpPr>
          <p:spPr>
            <a:xfrm>
              <a:off x="405000" y="521172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52"/>
          <p:cNvSpPr/>
          <p:nvPr/>
        </p:nvSpPr>
        <p:spPr>
          <a:xfrm>
            <a:off x="2615400" y="501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684360" y="5759280"/>
            <a:ext cx="51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本次抽查的合格率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6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755640" y="2736720"/>
            <a:ext cx="72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豆的出油率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现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大豆，能榨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豆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6"/>
          <p:cNvGrpSpPr/>
          <p:nvPr/>
        </p:nvGrpSpPr>
        <p:grpSpPr>
          <a:xfrm>
            <a:off x="4844880" y="3824280"/>
            <a:ext cx="3321720" cy="759240"/>
            <a:chOff x="4844880" y="3824280"/>
            <a:chExt cx="3321720" cy="759240"/>
          </a:xfrm>
        </p:grpSpPr>
        <p:sp>
          <p:nvSpPr>
            <p:cNvPr id="410" name="Text Box 7"/>
            <p:cNvSpPr/>
            <p:nvPr/>
          </p:nvSpPr>
          <p:spPr>
            <a:xfrm>
              <a:off x="4844880" y="399096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出油率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6096960" y="3824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豆油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6084000" y="41846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豆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7223760" y="40053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1"/>
            <p:cNvSpPr/>
            <p:nvPr/>
          </p:nvSpPr>
          <p:spPr>
            <a:xfrm>
              <a:off x="5810400" y="420696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21"/>
          <p:cNvSpPr/>
          <p:nvPr/>
        </p:nvSpPr>
        <p:spPr>
          <a:xfrm>
            <a:off x="4982400" y="530064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 =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5308200" y="4724280"/>
            <a:ext cx="27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豆油的质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大豆的质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油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5003640" y="5851440"/>
            <a:ext cx="72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榨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豆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4" descr=""/>
          <p:cNvPicPr/>
          <p:nvPr/>
        </p:nvPicPr>
        <p:blipFill>
          <a:blip r:embed="rId2"/>
          <a:stretch/>
        </p:blipFill>
        <p:spPr>
          <a:xfrm>
            <a:off x="395280" y="14000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808200" y="1341360"/>
            <a:ext cx="73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解决问题的需要，怎样选择合理的计算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4" descr="蓝色按钮"/>
          <p:cNvPicPr/>
          <p:nvPr/>
        </p:nvPicPr>
        <p:blipFill>
          <a:blip r:embed="rId3"/>
          <a:stretch/>
        </p:blipFill>
        <p:spPr>
          <a:xfrm>
            <a:off x="449280" y="63118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0"/>
          <p:cNvSpPr/>
          <p:nvPr/>
        </p:nvSpPr>
        <p:spPr>
          <a:xfrm>
            <a:off x="478440" y="61088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笔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4" descr="蓝色按钮"/>
          <p:cNvPicPr/>
          <p:nvPr/>
        </p:nvPicPr>
        <p:blipFill>
          <a:blip r:embed="rId4"/>
          <a:stretch/>
        </p:blipFill>
        <p:spPr>
          <a:xfrm>
            <a:off x="1146240" y="62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1"/>
          <p:cNvSpPr/>
          <p:nvPr/>
        </p:nvSpPr>
        <p:spPr>
          <a:xfrm>
            <a:off x="1191240" y="6093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口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4" descr="蓝色按钮"/>
          <p:cNvPicPr/>
          <p:nvPr/>
        </p:nvPicPr>
        <p:blipFill>
          <a:blip r:embed="rId5"/>
          <a:stretch/>
        </p:blipFill>
        <p:spPr>
          <a:xfrm>
            <a:off x="1839960" y="62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0"/>
          <p:cNvSpPr/>
          <p:nvPr/>
        </p:nvSpPr>
        <p:spPr>
          <a:xfrm>
            <a:off x="1883520" y="6094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估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4" descr="蓝色按钮"/>
          <p:cNvPicPr/>
          <p:nvPr/>
        </p:nvPicPr>
        <p:blipFill>
          <a:blip r:embed="rId6"/>
          <a:stretch/>
        </p:blipFill>
        <p:spPr>
          <a:xfrm>
            <a:off x="258588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1"/>
          <p:cNvSpPr/>
          <p:nvPr/>
        </p:nvSpPr>
        <p:spPr>
          <a:xfrm>
            <a:off x="2631240" y="6093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2557440" y="32846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怎样解决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够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这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1"/>
          <p:cNvGrpSpPr/>
          <p:nvPr/>
        </p:nvGrpSpPr>
        <p:grpSpPr>
          <a:xfrm>
            <a:off x="6372360" y="1989000"/>
            <a:ext cx="2519280" cy="1008000"/>
            <a:chOff x="6372360" y="1989000"/>
            <a:chExt cx="2519280" cy="1008000"/>
          </a:xfrm>
        </p:grpSpPr>
        <p:grpSp>
          <p:nvGrpSpPr>
            <p:cNvPr id="73" name="Group 30"/>
            <p:cNvGrpSpPr/>
            <p:nvPr/>
          </p:nvGrpSpPr>
          <p:grpSpPr>
            <a:xfrm>
              <a:off x="6588360" y="2060280"/>
              <a:ext cx="2303280" cy="830520"/>
              <a:chOff x="6588360" y="2060280"/>
              <a:chExt cx="2303280" cy="830520"/>
            </a:xfrm>
          </p:grpSpPr>
          <p:sp>
            <p:nvSpPr>
              <p:cNvPr id="74" name="TextBox 25"/>
              <p:cNvSpPr/>
              <p:nvPr/>
            </p:nvSpPr>
            <p:spPr>
              <a:xfrm>
                <a:off x="6588360" y="2491920"/>
                <a:ext cx="23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本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25"/>
              <p:cNvSpPr/>
              <p:nvPr/>
            </p:nvSpPr>
            <p:spPr>
              <a:xfrm>
                <a:off x="6588360" y="206028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要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29"/>
            <p:cNvSpPr/>
            <p:nvPr/>
          </p:nvSpPr>
          <p:spPr>
            <a:xfrm>
              <a:off x="6372360" y="1989000"/>
              <a:ext cx="1728720" cy="1008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30"/>
          <p:cNvGrpSpPr/>
          <p:nvPr/>
        </p:nvGrpSpPr>
        <p:grpSpPr>
          <a:xfrm>
            <a:off x="1440000" y="2900520"/>
            <a:ext cx="2808000" cy="2158920"/>
            <a:chOff x="1440000" y="2900520"/>
            <a:chExt cx="2808000" cy="2158920"/>
          </a:xfrm>
        </p:grpSpPr>
        <p:sp>
          <p:nvSpPr>
            <p:cNvPr id="79" name="Text Box 24"/>
            <p:cNvSpPr/>
            <p:nvPr/>
          </p:nvSpPr>
          <p:spPr>
            <a:xfrm>
              <a:off x="1440000" y="2900520"/>
              <a:ext cx="2808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 8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1  9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 4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3  8    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  2  2. 0 0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24"/>
            <p:cNvSpPr/>
            <p:nvPr/>
          </p:nvSpPr>
          <p:spPr>
            <a:xfrm>
              <a:off x="3168720" y="4483440"/>
              <a:ext cx="287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25"/>
            <p:cNvSpPr/>
            <p:nvPr/>
          </p:nvSpPr>
          <p:spPr>
            <a:xfrm>
              <a:off x="3456000" y="4483440"/>
              <a:ext cx="287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2"/>
            <p:cNvSpPr/>
            <p:nvPr/>
          </p:nvSpPr>
          <p:spPr>
            <a:xfrm>
              <a:off x="3168720" y="4098960"/>
              <a:ext cx="4316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1330200" y="21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2986200" y="21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722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1908000" y="5157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3564000" y="57801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够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449280" y="5950080"/>
            <a:ext cx="435600" cy="635040"/>
            <a:chOff x="449280" y="5950080"/>
            <a:chExt cx="435600" cy="635040"/>
          </a:xfrm>
        </p:grpSpPr>
        <p:pic>
          <p:nvPicPr>
            <p:cNvPr id="90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1531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0"/>
            <p:cNvSpPr/>
            <p:nvPr/>
          </p:nvSpPr>
          <p:spPr>
            <a:xfrm>
              <a:off x="521280" y="5950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26"/>
          <p:cNvSpPr/>
          <p:nvPr/>
        </p:nvSpPr>
        <p:spPr>
          <a:xfrm>
            <a:off x="539640" y="1341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笔算可以解决这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7"/>
          <p:cNvGrpSpPr/>
          <p:nvPr/>
        </p:nvGrpSpPr>
        <p:grpSpPr>
          <a:xfrm>
            <a:off x="6300720" y="1557360"/>
            <a:ext cx="2519280" cy="1008000"/>
            <a:chOff x="6300720" y="1557360"/>
            <a:chExt cx="2519280" cy="1008000"/>
          </a:xfrm>
        </p:grpSpPr>
        <p:grpSp>
          <p:nvGrpSpPr>
            <p:cNvPr id="94" name="Group 28"/>
            <p:cNvGrpSpPr/>
            <p:nvPr/>
          </p:nvGrpSpPr>
          <p:grpSpPr>
            <a:xfrm>
              <a:off x="6516720" y="1628640"/>
              <a:ext cx="2303280" cy="830520"/>
              <a:chOff x="6516720" y="1628640"/>
              <a:chExt cx="2303280" cy="830520"/>
            </a:xfrm>
          </p:grpSpPr>
          <p:sp>
            <p:nvSpPr>
              <p:cNvPr id="95" name="TextBox 25"/>
              <p:cNvSpPr/>
              <p:nvPr/>
            </p:nvSpPr>
            <p:spPr>
              <a:xfrm>
                <a:off x="6516720" y="2060280"/>
                <a:ext cx="23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本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25"/>
              <p:cNvSpPr/>
              <p:nvPr/>
            </p:nvSpPr>
            <p:spPr>
              <a:xfrm>
                <a:off x="6516720" y="162864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要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31"/>
            <p:cNvSpPr/>
            <p:nvPr/>
          </p:nvSpPr>
          <p:spPr>
            <a:xfrm>
              <a:off x="6300720" y="1557360"/>
              <a:ext cx="1728720" cy="1008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1403280" y="21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2916360" y="4307040"/>
            <a:ext cx="431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3059280" y="213372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722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7"/>
          <p:cNvSpPr/>
          <p:nvPr/>
        </p:nvSpPr>
        <p:spPr>
          <a:xfrm>
            <a:off x="234000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2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4032360" y="5229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够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187280" y="270972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 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39640" y="1341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简便方法口算解决这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6300720" y="1557360"/>
            <a:ext cx="2519280" cy="1008000"/>
            <a:chOff x="6300720" y="1557360"/>
            <a:chExt cx="2519280" cy="1008000"/>
          </a:xfrm>
        </p:grpSpPr>
        <p:grpSp>
          <p:nvGrpSpPr>
            <p:cNvPr id="109" name="Group 22"/>
            <p:cNvGrpSpPr/>
            <p:nvPr/>
          </p:nvGrpSpPr>
          <p:grpSpPr>
            <a:xfrm>
              <a:off x="6516720" y="1628640"/>
              <a:ext cx="2303280" cy="830520"/>
              <a:chOff x="6516720" y="1628640"/>
              <a:chExt cx="2303280" cy="830520"/>
            </a:xfrm>
          </p:grpSpPr>
          <p:sp>
            <p:nvSpPr>
              <p:cNvPr id="110" name="TextBox 25"/>
              <p:cNvSpPr/>
              <p:nvPr/>
            </p:nvSpPr>
            <p:spPr>
              <a:xfrm>
                <a:off x="6516720" y="2060280"/>
                <a:ext cx="23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本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25"/>
              <p:cNvSpPr/>
              <p:nvPr/>
            </p:nvSpPr>
            <p:spPr>
              <a:xfrm>
                <a:off x="6516720" y="162864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要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Rectangle 25"/>
            <p:cNvSpPr/>
            <p:nvPr/>
          </p:nvSpPr>
          <p:spPr>
            <a:xfrm>
              <a:off x="6300720" y="1557360"/>
              <a:ext cx="1728720" cy="1008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1"/>
          <p:cNvSpPr/>
          <p:nvPr/>
        </p:nvSpPr>
        <p:spPr>
          <a:xfrm>
            <a:off x="1116000" y="3141720"/>
            <a:ext cx="61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 200 - 3.80 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1119240" y="3621240"/>
            <a:ext cx="38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116000" y="410220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2"/>
          <p:cNvGrpSpPr/>
          <p:nvPr/>
        </p:nvGrpSpPr>
        <p:grpSpPr>
          <a:xfrm>
            <a:off x="449280" y="5950080"/>
            <a:ext cx="435600" cy="635040"/>
            <a:chOff x="449280" y="5950080"/>
            <a:chExt cx="435600" cy="635040"/>
          </a:xfrm>
        </p:grpSpPr>
        <p:pic>
          <p:nvPicPr>
            <p:cNvPr id="117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1531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50"/>
            <p:cNvSpPr/>
            <p:nvPr/>
          </p:nvSpPr>
          <p:spPr>
            <a:xfrm>
              <a:off x="521280" y="5950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7"/>
          <p:cNvSpPr/>
          <p:nvPr/>
        </p:nvSpPr>
        <p:spPr>
          <a:xfrm>
            <a:off x="539640" y="1268280"/>
            <a:ext cx="590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计算器计算也可以解决这个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396720" y="1916280"/>
            <a:ext cx="3959280" cy="48146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28440">
            <a:solidFill>
              <a:srgbClr val="7f7f7f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588960" y="3873600"/>
            <a:ext cx="2214720" cy="2566800"/>
          </a:xfrm>
          <a:prstGeom prst="rect">
            <a:avLst/>
          </a:prstGeom>
          <a:noFill/>
          <a:ln w="9360">
            <a:solidFill>
              <a:srgbClr val="948a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2878200" y="3873600"/>
            <a:ext cx="1295280" cy="2566800"/>
          </a:xfrm>
          <a:prstGeom prst="rect">
            <a:avLst/>
          </a:prstGeom>
          <a:noFill/>
          <a:ln w="9360">
            <a:solidFill>
              <a:srgbClr val="948a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88960" y="3182760"/>
            <a:ext cx="3652920" cy="552600"/>
          </a:xfrm>
          <a:prstGeom prst="rect">
            <a:avLst/>
          </a:prstGeom>
          <a:noFill/>
          <a:ln w="9360">
            <a:solidFill>
              <a:srgbClr val="948a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4"/>
          <p:cNvSpPr/>
          <p:nvPr/>
        </p:nvSpPr>
        <p:spPr>
          <a:xfrm>
            <a:off x="3703680" y="63342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7"/>
          <p:cNvSpPr/>
          <p:nvPr/>
        </p:nvSpPr>
        <p:spPr>
          <a:xfrm>
            <a:off x="5651640" y="39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2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5219640" y="494172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够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57200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658800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2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6299280" y="2936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8"/>
          <p:cNvGrpSpPr/>
          <p:nvPr/>
        </p:nvGrpSpPr>
        <p:grpSpPr>
          <a:xfrm>
            <a:off x="6624720" y="1413000"/>
            <a:ext cx="2519280" cy="1008000"/>
            <a:chOff x="6624720" y="1413000"/>
            <a:chExt cx="2519280" cy="1008000"/>
          </a:xfrm>
        </p:grpSpPr>
        <p:grpSp>
          <p:nvGrpSpPr>
            <p:cNvPr id="133" name="Group 49"/>
            <p:cNvGrpSpPr/>
            <p:nvPr/>
          </p:nvGrpSpPr>
          <p:grpSpPr>
            <a:xfrm>
              <a:off x="6840720" y="1484280"/>
              <a:ext cx="2303280" cy="830520"/>
              <a:chOff x="6840720" y="1484280"/>
              <a:chExt cx="2303280" cy="830520"/>
            </a:xfrm>
          </p:grpSpPr>
          <p:sp>
            <p:nvSpPr>
              <p:cNvPr id="134" name="TextBox 25"/>
              <p:cNvSpPr/>
              <p:nvPr/>
            </p:nvSpPr>
            <p:spPr>
              <a:xfrm>
                <a:off x="6840720" y="1915920"/>
                <a:ext cx="23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本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25"/>
              <p:cNvSpPr/>
              <p:nvPr/>
            </p:nvSpPr>
            <p:spPr>
              <a:xfrm>
                <a:off x="6840720" y="148428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要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52"/>
            <p:cNvSpPr/>
            <p:nvPr/>
          </p:nvSpPr>
          <p:spPr>
            <a:xfrm>
              <a:off x="6624720" y="1413000"/>
              <a:ext cx="1728720" cy="1008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120600" y="6058080"/>
            <a:ext cx="431640" cy="736560"/>
            <a:chOff x="120600" y="6058080"/>
            <a:chExt cx="431640" cy="736560"/>
          </a:xfrm>
        </p:grpSpPr>
        <p:pic>
          <p:nvPicPr>
            <p:cNvPr id="138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120600" y="636300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0"/>
            <p:cNvSpPr/>
            <p:nvPr/>
          </p:nvSpPr>
          <p:spPr>
            <a:xfrm>
              <a:off x="186120" y="6058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82480" y="2198520"/>
            <a:ext cx="3676680" cy="723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5800" y="403236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403280" y="403236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125800" y="403236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85800" y="4638600"/>
            <a:ext cx="581040" cy="50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414440" y="4627440"/>
            <a:ext cx="581040" cy="505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25800" y="4627440"/>
            <a:ext cx="581040" cy="5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685800" y="525780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1403280" y="526896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2125800" y="525780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3543480" y="4043520"/>
            <a:ext cx="58068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3543480" y="4897440"/>
            <a:ext cx="58068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3543480" y="5694480"/>
            <a:ext cx="58068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2913120" y="4043520"/>
            <a:ext cx="58104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7"/>
          <a:stretch/>
        </p:blipFill>
        <p:spPr>
          <a:xfrm>
            <a:off x="2913120" y="4908600"/>
            <a:ext cx="58104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8"/>
          <a:stretch/>
        </p:blipFill>
        <p:spPr>
          <a:xfrm>
            <a:off x="685800" y="585468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9"/>
          <a:stretch/>
        </p:blipFill>
        <p:spPr>
          <a:xfrm>
            <a:off x="1403280" y="586584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2125800" y="5854680"/>
            <a:ext cx="581040" cy="50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3089160" y="3267000"/>
            <a:ext cx="1076400" cy="39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2484360" y="3267000"/>
            <a:ext cx="51444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685800" y="3267000"/>
            <a:ext cx="51444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1292400" y="3267000"/>
            <a:ext cx="51408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5"/>
          <a:stretch/>
        </p:blipFill>
        <p:spPr>
          <a:xfrm>
            <a:off x="1884240" y="3267000"/>
            <a:ext cx="51444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6532560" y="2492280"/>
            <a:ext cx="10796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2987640" y="3259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80 ×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2"/>
          <p:cNvSpPr/>
          <p:nvPr/>
        </p:nvSpPr>
        <p:spPr>
          <a:xfrm>
            <a:off x="4500720" y="5432400"/>
            <a:ext cx="431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4643280" y="3259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4211640" y="541980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够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2987640" y="383688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≈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5280" y="19162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要解决的问题是“带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元钱够吗？”，不需要求出精确的结果，求近似值即可，所以用估算就可以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059280" y="4772160"/>
            <a:ext cx="273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2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3059280" y="4340160"/>
            <a:ext cx="27349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 ≈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539640" y="1341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估算可以解决这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6624720" y="1484280"/>
            <a:ext cx="2519280" cy="1008000"/>
            <a:chOff x="6624720" y="1484280"/>
            <a:chExt cx="2519280" cy="1008000"/>
          </a:xfrm>
        </p:grpSpPr>
        <p:grpSp>
          <p:nvGrpSpPr>
            <p:cNvPr id="177" name="Group 28"/>
            <p:cNvGrpSpPr/>
            <p:nvPr/>
          </p:nvGrpSpPr>
          <p:grpSpPr>
            <a:xfrm>
              <a:off x="6840720" y="1555560"/>
              <a:ext cx="2303280" cy="830520"/>
              <a:chOff x="6840720" y="1555560"/>
              <a:chExt cx="2303280" cy="830520"/>
            </a:xfrm>
          </p:grpSpPr>
          <p:sp>
            <p:nvSpPr>
              <p:cNvPr id="178" name="TextBox 25"/>
              <p:cNvSpPr/>
              <p:nvPr/>
            </p:nvSpPr>
            <p:spPr>
              <a:xfrm>
                <a:off x="6840720" y="1987200"/>
                <a:ext cx="23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本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25"/>
              <p:cNvSpPr/>
              <p:nvPr/>
            </p:nvSpPr>
            <p:spPr>
              <a:xfrm>
                <a:off x="6840720" y="155556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要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31"/>
            <p:cNvSpPr/>
            <p:nvPr/>
          </p:nvSpPr>
          <p:spPr>
            <a:xfrm>
              <a:off x="6624720" y="1484280"/>
              <a:ext cx="1728720" cy="1008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2"/>
          <p:cNvGrpSpPr/>
          <p:nvPr/>
        </p:nvGrpSpPr>
        <p:grpSpPr>
          <a:xfrm>
            <a:off x="449280" y="5950080"/>
            <a:ext cx="435600" cy="635040"/>
            <a:chOff x="449280" y="5950080"/>
            <a:chExt cx="435600" cy="635040"/>
          </a:xfrm>
        </p:grpSpPr>
        <p:pic>
          <p:nvPicPr>
            <p:cNvPr id="182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1531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50"/>
            <p:cNvSpPr/>
            <p:nvPr/>
          </p:nvSpPr>
          <p:spPr>
            <a:xfrm>
              <a:off x="521280" y="5950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rcRect l="0" t="16673" r="25729" b="19447"/>
          <a:stretch/>
        </p:blipFill>
        <p:spPr>
          <a:xfrm>
            <a:off x="324000" y="3467160"/>
            <a:ext cx="1728720" cy="12031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88" name="TextBox 24"/>
          <p:cNvSpPr/>
          <p:nvPr/>
        </p:nvSpPr>
        <p:spPr>
          <a:xfrm>
            <a:off x="2301120" y="5275440"/>
            <a:ext cx="9122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精确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5"/>
          <p:cNvSpPr/>
          <p:nvPr/>
        </p:nvSpPr>
        <p:spPr>
          <a:xfrm>
            <a:off x="6804000" y="5338800"/>
            <a:ext cx="14540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估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8"/>
          <p:cNvSpPr/>
          <p:nvPr/>
        </p:nvSpPr>
        <p:spPr>
          <a:xfrm>
            <a:off x="1403280" y="4691160"/>
            <a:ext cx="647640" cy="43164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箭头连接符 36"/>
          <p:cNvCxnSpPr/>
          <p:nvPr/>
        </p:nvCxnSpPr>
        <p:spPr>
          <a:xfrm>
            <a:off x="7451280" y="4835520"/>
            <a:ext cx="1080" cy="39456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sp>
        <p:nvSpPr>
          <p:cNvPr id="192" name="Rectangle 11"/>
          <p:cNvSpPr/>
          <p:nvPr/>
        </p:nvSpPr>
        <p:spPr>
          <a:xfrm>
            <a:off x="468360" y="126828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顾刚才解决问题的过程， 想一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够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问题，选择哪种计算方法比较合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826920" y="2205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计算过程比较麻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0"/>
          <p:cNvSpPr/>
          <p:nvPr/>
        </p:nvSpPr>
        <p:spPr>
          <a:xfrm flipH="1">
            <a:off x="3203640" y="4762440"/>
            <a:ext cx="1800000" cy="360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36"/>
          <p:cNvCxnSpPr/>
          <p:nvPr/>
        </p:nvCxnSpPr>
        <p:spPr>
          <a:xfrm>
            <a:off x="2827080" y="4546080"/>
            <a:ext cx="1080" cy="57708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pic>
        <p:nvPicPr>
          <p:cNvPr id="196" name="Picture 3" descr=""/>
          <p:cNvPicPr/>
          <p:nvPr/>
        </p:nvPicPr>
        <p:blipFill>
          <a:blip r:embed="rId3"/>
          <a:srcRect l="0" t="0" r="15595" b="2333"/>
          <a:stretch/>
        </p:blipFill>
        <p:spPr>
          <a:xfrm>
            <a:off x="2195640" y="3479760"/>
            <a:ext cx="2016000" cy="118260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97" name="Text Box 61"/>
          <p:cNvSpPr/>
          <p:nvPr/>
        </p:nvSpPr>
        <p:spPr>
          <a:xfrm>
            <a:off x="3995640" y="220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计算简单快捷，计算器携带不方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6767640" y="2276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计算比较简单、快捷地解决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直接箭头连接符 36"/>
          <p:cNvCxnSpPr/>
          <p:nvPr/>
        </p:nvCxnSpPr>
        <p:spPr>
          <a:xfrm flipV="1">
            <a:off x="1547640" y="2564640"/>
            <a:ext cx="648360" cy="85644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cxnSp>
        <p:nvCxnSpPr>
          <p:cNvPr id="200" name="直接箭头连接符 36"/>
          <p:cNvCxnSpPr/>
          <p:nvPr/>
        </p:nvCxnSpPr>
        <p:spPr>
          <a:xfrm flipV="1">
            <a:off x="7667640" y="2923920"/>
            <a:ext cx="2160" cy="50544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cxnSp>
        <p:nvCxnSpPr>
          <p:cNvPr id="201" name="直接箭头连接符 36"/>
          <p:cNvCxnSpPr/>
          <p:nvPr/>
        </p:nvCxnSpPr>
        <p:spPr>
          <a:xfrm flipV="1">
            <a:off x="5076360" y="2819160"/>
            <a:ext cx="2520" cy="50544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pic>
        <p:nvPicPr>
          <p:cNvPr id="202" name="Picture 58" descr=""/>
          <p:cNvPicPr/>
          <p:nvPr/>
        </p:nvPicPr>
        <p:blipFill>
          <a:blip r:embed="rId4"/>
          <a:srcRect l="54203" t="0" r="0" b="0"/>
          <a:stretch/>
        </p:blipFill>
        <p:spPr>
          <a:xfrm>
            <a:off x="4427640" y="3035160"/>
            <a:ext cx="1571400" cy="180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5"/>
          <a:srcRect l="0" t="13108" r="25108" b="21595"/>
          <a:stretch/>
        </p:blipFill>
        <p:spPr>
          <a:xfrm>
            <a:off x="6227640" y="3395520"/>
            <a:ext cx="2448000" cy="13795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cxnSp>
        <p:nvCxnSpPr>
          <p:cNvPr id="204" name="直接箭头连接符 36"/>
          <p:cNvCxnSpPr/>
          <p:nvPr/>
        </p:nvCxnSpPr>
        <p:spPr>
          <a:xfrm flipH="1" flipV="1">
            <a:off x="2194920" y="2565000"/>
            <a:ext cx="648360" cy="828000"/>
          </a:xfrm>
          <a:prstGeom prst="straightConnector1">
            <a:avLst/>
          </a:prstGeom>
          <a:ln w="31680">
            <a:solidFill>
              <a:srgbClr val="99cc00"/>
            </a:solidFill>
            <a:miter/>
            <a:tailEnd len="med" type="arrow" w="med"/>
          </a:ln>
        </p:spPr>
      </p:cxnSp>
      <p:sp>
        <p:nvSpPr>
          <p:cNvPr id="20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1030320" y="1268280"/>
            <a:ext cx="84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求“应找回多少元？”，选择哪种计算方法比较合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6"/>
          <p:cNvSpPr/>
          <p:nvPr/>
        </p:nvSpPr>
        <p:spPr>
          <a:xfrm>
            <a:off x="3373560" y="2684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0 ×19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7"/>
          <p:cNvSpPr/>
          <p:nvPr/>
        </p:nvSpPr>
        <p:spPr>
          <a:xfrm>
            <a:off x="5148360" y="2684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2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334800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9"/>
          <p:cNvSpPr/>
          <p:nvPr/>
        </p:nvSpPr>
        <p:spPr>
          <a:xfrm>
            <a:off x="5148360" y="61149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应找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0" t="16673" r="25729" b="19447"/>
          <a:stretch/>
        </p:blipFill>
        <p:spPr>
          <a:xfrm>
            <a:off x="900000" y="3906720"/>
            <a:ext cx="2376720" cy="1656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0" t="0" r="15595" b="2333"/>
          <a:stretch/>
        </p:blipFill>
        <p:spPr>
          <a:xfrm>
            <a:off x="3995640" y="3835440"/>
            <a:ext cx="2576520" cy="158436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215" name="TextBox 37"/>
          <p:cNvSpPr/>
          <p:nvPr/>
        </p:nvSpPr>
        <p:spPr>
          <a:xfrm>
            <a:off x="1182600" y="3233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以笔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8"/>
          <p:cNvSpPr/>
          <p:nvPr/>
        </p:nvSpPr>
        <p:spPr>
          <a:xfrm>
            <a:off x="4132800" y="323388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也可以口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7020000" y="3114720"/>
            <a:ext cx="1511280" cy="69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用计算器计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539640" y="1773360"/>
            <a:ext cx="86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求“应找回多少元？”，就需要知道精确的结果，所以要精算才能解决这个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"/>
          <p:cNvPicPr/>
          <p:nvPr/>
        </p:nvPicPr>
        <p:blipFill>
          <a:blip r:embed="rId4"/>
          <a:srcRect l="54203" t="0" r="0" b="0"/>
          <a:stretch/>
        </p:blipFill>
        <p:spPr>
          <a:xfrm>
            <a:off x="7093080" y="3860640"/>
            <a:ext cx="1571400" cy="1800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5"/>
          <p:cNvSpPr/>
          <p:nvPr/>
        </p:nvSpPr>
        <p:spPr>
          <a:xfrm>
            <a:off x="755640" y="268272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先求花了多少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755640" y="570708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再求剩下多少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1" descr="1G]2HL]YS)ZT`8_OHVINRVH"/>
          <p:cNvPicPr/>
          <p:nvPr/>
        </p:nvPicPr>
        <p:blipFill>
          <a:blip r:embed="rId5"/>
          <a:stretch/>
        </p:blipFill>
        <p:spPr>
          <a:xfrm>
            <a:off x="539640" y="1268280"/>
            <a:ext cx="444600" cy="5079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16:52Z</dcterms:created>
  <dc:creator>Administrator</dc:creator>
  <dc:description/>
  <cp:keywords>青岛版数学</cp:keywords>
  <dc:language>en-US</dc:language>
  <cp:lastModifiedBy>微软用户</cp:lastModifiedBy>
  <dcterms:modified xsi:type="dcterms:W3CDTF">2015-11-17T07:18:07Z</dcterms:modified>
  <cp:revision>471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