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776-BFBE-4168-91A3-95A52799E0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54AE-8745-42BF-8877-63F29483FE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6BA-93FB-4145-BCA5-EA656BB3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711-8777-41ED-8A10-0E287F6D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527-C6C4-4CB0-9F43-F2DBA69B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85D-B17F-4636-B113-6C43D1DD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96D-C8EF-4CF8-A45F-2495EC4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1EC-B3D3-496E-B21F-2A066B1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079-9126-4761-827A-C40AF6F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1D7-4B94-4115-89D2-5FA6A6B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530-34C1-4A71-9E1E-1119FD0C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E4B-998A-40F9-B354-889E84F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998-1569-4564-BF2B-615595C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C37-B6AA-4153-86B3-7E6C428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FD8-B1DC-4689-950B-549A8258B0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标题 1"/>
          <p:cNvSpPr/>
          <p:nvPr/>
        </p:nvSpPr>
        <p:spPr>
          <a:xfrm>
            <a:off x="5526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图形的放大和缩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900000" y="3541680"/>
            <a:ext cx="1800360" cy="35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9"/>
          <p:cNvSpPr/>
          <p:nvPr/>
        </p:nvSpPr>
        <p:spPr>
          <a:xfrm>
            <a:off x="1692360" y="4116240"/>
            <a:ext cx="172728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0"/>
          <p:cNvSpPr/>
          <p:nvPr/>
        </p:nvSpPr>
        <p:spPr>
          <a:xfrm>
            <a:off x="2411280" y="4683240"/>
            <a:ext cx="172908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1"/>
          <p:cNvSpPr/>
          <p:nvPr/>
        </p:nvSpPr>
        <p:spPr>
          <a:xfrm>
            <a:off x="3203640" y="524988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fe9de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pub\Desktop\未命名文件夹 4\按钮\按钮3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526428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2">
            <a:hlinkClick r:id="rId3" action="ppaction://hlinksldjump"/>
          </p:cNvPr>
          <p:cNvSpPr/>
          <p:nvPr/>
        </p:nvSpPr>
        <p:spPr>
          <a:xfrm>
            <a:off x="3205080" y="5221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回顾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>
            <a:hlinkClick r:id="rId4" action="ppaction://hlinksldjump"/>
          </p:cNvPr>
          <p:cNvSpPr/>
          <p:nvPr/>
        </p:nvSpPr>
        <p:spPr>
          <a:xfrm>
            <a:off x="2382840" y="4653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自主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pub\Desktop\未命名文件夹 4\按钮\按钮3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979640" y="4683240"/>
            <a:ext cx="355680" cy="35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>
            <a:hlinkClick r:id="rId7" action="ppaction://hlinksldjump"/>
          </p:cNvPr>
          <p:cNvSpPr/>
          <p:nvPr/>
        </p:nvSpPr>
        <p:spPr>
          <a:xfrm>
            <a:off x="161928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合作探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pub\Desktop\未命名文件夹 4\按钮\按钮3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258920" y="411624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>
            <a:hlinkClick r:id="rId10" action="ppaction://hlinksldjump"/>
          </p:cNvPr>
          <p:cNvSpPr/>
          <p:nvPr/>
        </p:nvSpPr>
        <p:spPr>
          <a:xfrm>
            <a:off x="87156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情境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pub\Desktop\未命名文件夹 4\按钮\按钮3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82760" y="3541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62" name="矩形 42"/>
          <p:cNvSpPr/>
          <p:nvPr/>
        </p:nvSpPr>
        <p:spPr>
          <a:xfrm>
            <a:off x="3995640" y="582624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fe9de">
                  <a:alpha val="5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pub\Desktop\未命名文件夹 4\按钮\按钮3.jp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64000" y="5840280"/>
            <a:ext cx="357120" cy="357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>
            <a:hlinkClick r:id="rId15" action="ppaction://hlinksldjump"/>
          </p:cNvPr>
          <p:cNvSpPr/>
          <p:nvPr/>
        </p:nvSpPr>
        <p:spPr>
          <a:xfrm>
            <a:off x="3997440" y="5797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478400" y="1574640"/>
            <a:ext cx="42624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4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快乐足球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5"/>
          <p:cNvSpPr/>
          <p:nvPr/>
        </p:nvSpPr>
        <p:spPr>
          <a:xfrm>
            <a:off x="395280" y="414972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图中（     ）号图形是①号长方形放大后的图形，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（    ）∶（    ）的比放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图中（     ）号图形是①号长方形缩小后的图形，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（     ）∶（     ）的比缩小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268280"/>
          <a:ext cx="7129440" cy="2772000"/>
        </p:xfrm>
        <a:graphic>
          <a:graphicData uri="http://schemas.openxmlformats.org/drawingml/2006/table">
            <a:tbl>
              <a:tblPr/>
              <a:tblGrid>
                <a:gridCol w="339840"/>
                <a:gridCol w="339840"/>
                <a:gridCol w="339480"/>
                <a:gridCol w="338400"/>
                <a:gridCol w="339480"/>
                <a:gridCol w="339840"/>
                <a:gridCol w="339840"/>
                <a:gridCol w="339480"/>
                <a:gridCol w="339840"/>
                <a:gridCol w="339840"/>
                <a:gridCol w="338040"/>
                <a:gridCol w="339840"/>
                <a:gridCol w="339480"/>
                <a:gridCol w="339840"/>
                <a:gridCol w="339840"/>
                <a:gridCol w="339480"/>
                <a:gridCol w="339840"/>
                <a:gridCol w="338040"/>
                <a:gridCol w="339840"/>
                <a:gridCol w="339840"/>
                <a:gridCol w="339480"/>
              </a:tblGrid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矩形 4"/>
          <p:cNvSpPr/>
          <p:nvPr/>
        </p:nvSpPr>
        <p:spPr>
          <a:xfrm>
            <a:off x="1392120" y="1268280"/>
            <a:ext cx="2014560" cy="792360"/>
          </a:xfrm>
          <a:prstGeom prst="rect">
            <a:avLst/>
          </a:prstGeom>
          <a:solidFill>
            <a:srgbClr val="00b0f0">
              <a:alpha val="57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131560" y="1374840"/>
            <a:ext cx="5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4440240" y="1281240"/>
            <a:ext cx="1008000" cy="792000"/>
          </a:xfrm>
          <a:prstGeom prst="rect">
            <a:avLst/>
          </a:prstGeom>
          <a:solidFill>
            <a:srgbClr val="00b0f0">
              <a:alpha val="57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673880" y="135396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1392120" y="2467080"/>
            <a:ext cx="4043520" cy="1584360"/>
          </a:xfrm>
          <a:prstGeom prst="rect">
            <a:avLst/>
          </a:prstGeom>
          <a:solidFill>
            <a:srgbClr val="00b0f0">
              <a:alpha val="57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6478560" y="1290600"/>
            <a:ext cx="1008000" cy="360360"/>
          </a:xfrm>
          <a:prstGeom prst="rect">
            <a:avLst/>
          </a:prstGeom>
          <a:solidFill>
            <a:srgbClr val="00b0f0">
              <a:alpha val="57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2080" y="296244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5796000" y="3259080"/>
            <a:ext cx="2016000" cy="360360"/>
          </a:xfrm>
          <a:prstGeom prst="rect">
            <a:avLst/>
          </a:prstGeom>
          <a:solidFill>
            <a:srgbClr val="00b0f0">
              <a:alpha val="57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6546600" y="313704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697800" y="11714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3140640" y="297504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9"/>
          <p:cNvSpPr/>
          <p:nvPr/>
        </p:nvSpPr>
        <p:spPr>
          <a:xfrm>
            <a:off x="1869480" y="479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3106080" y="480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1907640" y="591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3"/>
          <p:cNvSpPr/>
          <p:nvPr/>
        </p:nvSpPr>
        <p:spPr>
          <a:xfrm>
            <a:off x="3228480" y="591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6697800" y="11746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82760" y="11970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0389E-006 L -0.11684 0.18085 E">
                                      <p:cBhvr>
                                        <p:cTn id="22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02683E-006 L -0.5092 0.6006 E">
                                      <p:cBhvr>
                                        <p:cTn id="23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468360" y="1052640"/>
            <a:ext cx="83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下面的两幅图分别缩小，使缩小后的图形与原图形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长的比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∶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611280" y="2205000"/>
          <a:ext cx="7705800" cy="4367160"/>
        </p:xfrm>
        <a:graphic>
          <a:graphicData uri="http://schemas.openxmlformats.org/drawingml/2006/table">
            <a:tbl>
              <a:tblPr/>
              <a:tblGrid>
                <a:gridCol w="244440"/>
                <a:gridCol w="241200"/>
                <a:gridCol w="244440"/>
                <a:gridCol w="241200"/>
                <a:gridCol w="244800"/>
                <a:gridCol w="242640"/>
                <a:gridCol w="243000"/>
                <a:gridCol w="243000"/>
                <a:gridCol w="242640"/>
                <a:gridCol w="243000"/>
                <a:gridCol w="244440"/>
                <a:gridCol w="241200"/>
                <a:gridCol w="244800"/>
                <a:gridCol w="241200"/>
                <a:gridCol w="244440"/>
                <a:gridCol w="243000"/>
                <a:gridCol w="242640"/>
                <a:gridCol w="243000"/>
                <a:gridCol w="243000"/>
                <a:gridCol w="242640"/>
                <a:gridCol w="243000"/>
                <a:gridCol w="243000"/>
                <a:gridCol w="244440"/>
                <a:gridCol w="241200"/>
                <a:gridCol w="244440"/>
                <a:gridCol w="273240"/>
                <a:gridCol w="249120"/>
                <a:gridCol w="241200"/>
                <a:gridCol w="216000"/>
                <a:gridCol w="217440"/>
                <a:gridCol w="216000"/>
                <a:gridCol w="216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47"/>
          <p:cNvSpPr/>
          <p:nvPr/>
        </p:nvSpPr>
        <p:spPr>
          <a:xfrm>
            <a:off x="1332000" y="4376880"/>
            <a:ext cx="3887640" cy="1749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48"/>
          <p:cNvSpPr/>
          <p:nvPr/>
        </p:nvSpPr>
        <p:spPr>
          <a:xfrm>
            <a:off x="2301840" y="5251320"/>
            <a:ext cx="974880" cy="863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24"/>
          <p:cNvGrpSpPr/>
          <p:nvPr/>
        </p:nvGrpSpPr>
        <p:grpSpPr>
          <a:xfrm>
            <a:off x="5933880" y="5229360"/>
            <a:ext cx="1951200" cy="936360"/>
            <a:chOff x="5933880" y="5229360"/>
            <a:chExt cx="1951200" cy="936360"/>
          </a:xfrm>
        </p:grpSpPr>
        <p:sp>
          <p:nvSpPr>
            <p:cNvPr id="194" name="Line 1339"/>
            <p:cNvSpPr/>
            <p:nvPr/>
          </p:nvSpPr>
          <p:spPr>
            <a:xfrm>
              <a:off x="5940360" y="5229360"/>
              <a:ext cx="15840" cy="93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43"/>
            <p:cNvSpPr/>
            <p:nvPr/>
          </p:nvSpPr>
          <p:spPr>
            <a:xfrm flipV="1">
              <a:off x="6440400" y="5661000"/>
              <a:ext cx="324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344"/>
            <p:cNvSpPr/>
            <p:nvPr/>
          </p:nvSpPr>
          <p:spPr>
            <a:xfrm>
              <a:off x="6418440" y="5672160"/>
              <a:ext cx="55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42"/>
            <p:cNvSpPr/>
            <p:nvPr/>
          </p:nvSpPr>
          <p:spPr>
            <a:xfrm>
              <a:off x="5940360" y="6141960"/>
              <a:ext cx="0" cy="2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343"/>
            <p:cNvSpPr/>
            <p:nvPr/>
          </p:nvSpPr>
          <p:spPr>
            <a:xfrm flipV="1">
              <a:off x="6948360" y="5661000"/>
              <a:ext cx="324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339"/>
            <p:cNvSpPr/>
            <p:nvPr/>
          </p:nvSpPr>
          <p:spPr>
            <a:xfrm>
              <a:off x="7869240" y="5229360"/>
              <a:ext cx="15840" cy="93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39"/>
            <p:cNvSpPr/>
            <p:nvPr/>
          </p:nvSpPr>
          <p:spPr>
            <a:xfrm flipH="1">
              <a:off x="5933880" y="5251320"/>
              <a:ext cx="194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39"/>
            <p:cNvSpPr/>
            <p:nvPr/>
          </p:nvSpPr>
          <p:spPr>
            <a:xfrm flipH="1">
              <a:off x="5940360" y="6132600"/>
              <a:ext cx="194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22"/>
          <p:cNvSpPr/>
          <p:nvPr/>
        </p:nvSpPr>
        <p:spPr>
          <a:xfrm>
            <a:off x="2805120" y="2432160"/>
            <a:ext cx="1944720" cy="172872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23"/>
          <p:cNvSpPr/>
          <p:nvPr/>
        </p:nvSpPr>
        <p:spPr>
          <a:xfrm>
            <a:off x="5962680" y="3295800"/>
            <a:ext cx="1008000" cy="86508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38"/>
          <p:cNvSpPr/>
          <p:nvPr/>
        </p:nvSpPr>
        <p:spPr>
          <a:xfrm flipH="1" rot="16200000">
            <a:off x="5507640" y="5301360"/>
            <a:ext cx="144720" cy="432000"/>
          </a:xfrm>
          <a:prstGeom prst="downArrow">
            <a:avLst>
              <a:gd name="adj1" fmla="val 50000"/>
              <a:gd name="adj2" fmla="val 7462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38"/>
          <p:cNvSpPr/>
          <p:nvPr/>
        </p:nvSpPr>
        <p:spPr>
          <a:xfrm flipH="1" rot="16200000">
            <a:off x="5395320" y="353448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C:\Documents and Settings\pub\Desktop\新ppt\返回首页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6280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880920" y="1773360"/>
            <a:ext cx="678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，你见过这样的现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4175792_152333618000_2.jpg"/>
          <p:cNvPicPr/>
          <p:nvPr/>
        </p:nvPicPr>
        <p:blipFill>
          <a:blip r:embed="rId3"/>
          <a:srcRect l="5705" t="0" r="4819" b="5173"/>
          <a:stretch/>
        </p:blipFill>
        <p:spPr>
          <a:xfrm>
            <a:off x="971640" y="2492280"/>
            <a:ext cx="4464000" cy="3548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3" descr=""/>
          <p:cNvPicPr/>
          <p:nvPr/>
        </p:nvPicPr>
        <p:blipFill>
          <a:blip r:embed="rId4"/>
          <a:stretch/>
        </p:blipFill>
        <p:spPr>
          <a:xfrm>
            <a:off x="468360" y="1309680"/>
            <a:ext cx="1655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6" descr="4109.jpg"/>
          <p:cNvPicPr/>
          <p:nvPr/>
        </p:nvPicPr>
        <p:blipFill>
          <a:blip r:embed="rId1"/>
          <a:srcRect l="0" t="32596" r="0" b="0"/>
          <a:stretch/>
        </p:blipFill>
        <p:spPr>
          <a:xfrm>
            <a:off x="1332000" y="2060640"/>
            <a:ext cx="5183280" cy="4321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11280" y="1413000"/>
            <a:ext cx="678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，你见过这样的现象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4338720" y="2276640"/>
            <a:ext cx="109692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2" descr="b6dde5d0907242e6a3dd599a1562b316.jpg"/>
          <p:cNvPicPr/>
          <p:nvPr/>
        </p:nvPicPr>
        <p:blipFill>
          <a:blip r:embed="rId2"/>
          <a:srcRect l="0" t="0" r="26913" b="0"/>
          <a:stretch/>
        </p:blipFill>
        <p:spPr>
          <a:xfrm>
            <a:off x="2928960" y="2060640"/>
            <a:ext cx="1278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2"/>
          <p:cNvGrpSpPr/>
          <p:nvPr/>
        </p:nvGrpSpPr>
        <p:grpSpPr>
          <a:xfrm>
            <a:off x="333360" y="4653000"/>
            <a:ext cx="3456000" cy="1366920"/>
            <a:chOff x="333360" y="4653000"/>
            <a:chExt cx="3456000" cy="1366920"/>
          </a:xfrm>
        </p:grpSpPr>
        <p:pic>
          <p:nvPicPr>
            <p:cNvPr id="80" name="图片 5" descr="b6dde5d0907242e6a3dd599a1562b316.jpg"/>
            <p:cNvPicPr/>
            <p:nvPr/>
          </p:nvPicPr>
          <p:blipFill>
            <a:blip r:embed="rId3"/>
            <a:srcRect l="0" t="0" r="26903" b="0"/>
            <a:stretch/>
          </p:blipFill>
          <p:spPr>
            <a:xfrm>
              <a:off x="333360" y="4653000"/>
              <a:ext cx="34560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Box 7"/>
            <p:cNvSpPr/>
            <p:nvPr/>
          </p:nvSpPr>
          <p:spPr>
            <a:xfrm>
              <a:off x="3199680" y="5372280"/>
              <a:ext cx="5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462"/>
          <p:cNvGrpSpPr/>
          <p:nvPr/>
        </p:nvGrpSpPr>
        <p:grpSpPr>
          <a:xfrm>
            <a:off x="4016520" y="4030560"/>
            <a:ext cx="2606400" cy="2351160"/>
            <a:chOff x="4016520" y="4030560"/>
            <a:chExt cx="2606400" cy="2351160"/>
          </a:xfrm>
        </p:grpSpPr>
        <p:pic>
          <p:nvPicPr>
            <p:cNvPr id="83" name="图片 2" descr="b6dde5d0907242e6a3dd599a1562b316.jpg"/>
            <p:cNvPicPr/>
            <p:nvPr/>
          </p:nvPicPr>
          <p:blipFill>
            <a:blip r:embed="rId4"/>
            <a:srcRect l="0" t="0" r="26907" b="0"/>
            <a:stretch/>
          </p:blipFill>
          <p:spPr>
            <a:xfrm>
              <a:off x="4016520" y="4030560"/>
              <a:ext cx="260640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>
              <a:off x="5994360" y="5589720"/>
              <a:ext cx="5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4"/>
          <p:cNvGrpSpPr/>
          <p:nvPr/>
        </p:nvGrpSpPr>
        <p:grpSpPr>
          <a:xfrm>
            <a:off x="6875640" y="3789360"/>
            <a:ext cx="1800000" cy="2636640"/>
            <a:chOff x="6875640" y="3789360"/>
            <a:chExt cx="1800000" cy="2636640"/>
          </a:xfrm>
        </p:grpSpPr>
        <p:pic>
          <p:nvPicPr>
            <p:cNvPr id="86" name="图片 9" descr="b6dde5d0907242e6a3dd599a1562b316.jpg"/>
            <p:cNvPicPr/>
            <p:nvPr/>
          </p:nvPicPr>
          <p:blipFill>
            <a:blip r:embed="rId5"/>
            <a:srcRect l="0" t="0" r="26903" b="0"/>
            <a:stretch/>
          </p:blipFill>
          <p:spPr>
            <a:xfrm>
              <a:off x="6875640" y="3789360"/>
              <a:ext cx="18000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10"/>
            <p:cNvSpPr/>
            <p:nvPr/>
          </p:nvSpPr>
          <p:spPr>
            <a:xfrm>
              <a:off x="8095320" y="5783400"/>
              <a:ext cx="5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楷体_GB2312"/>
                  <a:ea typeface="楷体_GB2312"/>
                </a:rPr>
                <a:t>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33"/>
          <p:cNvSpPr/>
          <p:nvPr/>
        </p:nvSpPr>
        <p:spPr>
          <a:xfrm>
            <a:off x="539640" y="1341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原图放大后会得到哪幅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71640" y="1773360"/>
          <a:ext cx="4824360" cy="4599000"/>
        </p:xfrm>
        <a:graphic>
          <a:graphicData uri="http://schemas.openxmlformats.org/drawingml/2006/table">
            <a:tbl>
              <a:tblPr/>
              <a:tblGrid>
                <a:gridCol w="360360"/>
                <a:gridCol w="361800"/>
                <a:gridCol w="358920"/>
                <a:gridCol w="288720"/>
                <a:gridCol w="324000"/>
                <a:gridCol w="324000"/>
                <a:gridCol w="358560"/>
                <a:gridCol w="289080"/>
                <a:gridCol w="371520"/>
                <a:gridCol w="347400"/>
                <a:gridCol w="360360"/>
                <a:gridCol w="360360"/>
                <a:gridCol w="358920"/>
                <a:gridCol w="360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Box 6"/>
          <p:cNvSpPr/>
          <p:nvPr/>
        </p:nvSpPr>
        <p:spPr>
          <a:xfrm>
            <a:off x="3708360" y="2205000"/>
            <a:ext cx="122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" descr="b6dde5d0907242e6a3dd599a1562b316.jpg"/>
          <p:cNvPicPr/>
          <p:nvPr/>
        </p:nvPicPr>
        <p:blipFill>
          <a:blip r:embed="rId1"/>
          <a:srcRect l="0" t="0" r="26908" b="0"/>
          <a:stretch/>
        </p:blipFill>
        <p:spPr>
          <a:xfrm>
            <a:off x="2340000" y="1773360"/>
            <a:ext cx="1278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7"/>
          <p:cNvGrpSpPr/>
          <p:nvPr/>
        </p:nvGrpSpPr>
        <p:grpSpPr>
          <a:xfrm>
            <a:off x="2368440" y="3716280"/>
            <a:ext cx="2697120" cy="2257560"/>
            <a:chOff x="2368440" y="3716280"/>
            <a:chExt cx="2697120" cy="2257560"/>
          </a:xfrm>
        </p:grpSpPr>
        <p:pic>
          <p:nvPicPr>
            <p:cNvPr id="93" name="图片 2" descr="b6dde5d0907242e6a3dd599a1562b316.jpg"/>
            <p:cNvPicPr/>
            <p:nvPr/>
          </p:nvPicPr>
          <p:blipFill>
            <a:blip r:embed="rId2"/>
            <a:srcRect l="0" t="0" r="26907" b="0"/>
            <a:stretch/>
          </p:blipFill>
          <p:spPr>
            <a:xfrm>
              <a:off x="2368440" y="3716280"/>
              <a:ext cx="269712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>
              <a:off x="4430880" y="5183280"/>
              <a:ext cx="5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539640" y="1197000"/>
            <a:ext cx="9288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后的图形与原图形对应边之间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2340000" y="1773360"/>
            <a:ext cx="1295280" cy="115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2368440" y="3716280"/>
            <a:ext cx="2708280" cy="223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26"/>
          <p:cNvSpPr/>
          <p:nvPr/>
        </p:nvSpPr>
        <p:spPr>
          <a:xfrm>
            <a:off x="6265800" y="2637000"/>
            <a:ext cx="212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大后的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原图形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长度的比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∶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285516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870200" y="213372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20106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3558600" y="589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19000" y="1325520"/>
            <a:ext cx="799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下面的长方形和三角形放大，使放大后的图形与原图形对应边长度的比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∶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0" descr="6下-4单元0000"/>
          <p:cNvPicPr/>
          <p:nvPr/>
        </p:nvPicPr>
        <p:blipFill>
          <a:blip r:embed="rId2"/>
          <a:srcRect l="13520" t="87662" r="82370" b="9343"/>
          <a:stretch/>
        </p:blipFill>
        <p:spPr>
          <a:xfrm>
            <a:off x="468360" y="1230480"/>
            <a:ext cx="431640" cy="4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11280" y="2133720"/>
          <a:ext cx="7848360" cy="3311280"/>
        </p:xfrm>
        <a:graphic>
          <a:graphicData uri="http://schemas.openxmlformats.org/drawingml/2006/table">
            <a:tbl>
              <a:tblPr/>
              <a:tblGrid>
                <a:gridCol w="245880"/>
                <a:gridCol w="244440"/>
                <a:gridCol w="246240"/>
                <a:gridCol w="244440"/>
                <a:gridCol w="245880"/>
                <a:gridCol w="244800"/>
                <a:gridCol w="245880"/>
                <a:gridCol w="244440"/>
                <a:gridCol w="246240"/>
                <a:gridCol w="244440"/>
                <a:gridCol w="245880"/>
                <a:gridCol w="244440"/>
                <a:gridCol w="246240"/>
                <a:gridCol w="244440"/>
                <a:gridCol w="245880"/>
                <a:gridCol w="244800"/>
                <a:gridCol w="245880"/>
                <a:gridCol w="244440"/>
                <a:gridCol w="246240"/>
                <a:gridCol w="244440"/>
                <a:gridCol w="245880"/>
                <a:gridCol w="244440"/>
                <a:gridCol w="246240"/>
                <a:gridCol w="244440"/>
                <a:gridCol w="246240"/>
                <a:gridCol w="276120"/>
                <a:gridCol w="216000"/>
                <a:gridCol w="244440"/>
                <a:gridCol w="246240"/>
                <a:gridCol w="216000"/>
                <a:gridCol w="279360"/>
                <a:gridCol w="23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矩形 8"/>
          <p:cNvSpPr/>
          <p:nvPr/>
        </p:nvSpPr>
        <p:spPr>
          <a:xfrm>
            <a:off x="1100160" y="2579760"/>
            <a:ext cx="1455840" cy="64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1766880" y="2166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790560" y="2708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4"/>
          <p:cNvSpPr/>
          <p:nvPr/>
        </p:nvSpPr>
        <p:spPr>
          <a:xfrm>
            <a:off x="1100160" y="3676680"/>
            <a:ext cx="0" cy="135108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6"/>
          <p:cNvSpPr/>
          <p:nvPr/>
        </p:nvSpPr>
        <p:spPr>
          <a:xfrm>
            <a:off x="1100160" y="3684600"/>
            <a:ext cx="2967120" cy="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2295360" y="33400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0"/>
          <p:cNvSpPr/>
          <p:nvPr/>
        </p:nvSpPr>
        <p:spPr>
          <a:xfrm>
            <a:off x="787320" y="413244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4"/>
          <p:cNvSpPr/>
          <p:nvPr/>
        </p:nvSpPr>
        <p:spPr>
          <a:xfrm>
            <a:off x="4043520" y="3684600"/>
            <a:ext cx="0" cy="135108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6"/>
          <p:cNvSpPr/>
          <p:nvPr/>
        </p:nvSpPr>
        <p:spPr>
          <a:xfrm>
            <a:off x="1100160" y="5003640"/>
            <a:ext cx="2967120" cy="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797"/>
          <p:cNvSpPr/>
          <p:nvPr/>
        </p:nvSpPr>
        <p:spPr>
          <a:xfrm>
            <a:off x="5276880" y="2563920"/>
            <a:ext cx="1182600" cy="679320"/>
          </a:xfrm>
          <a:prstGeom prst="rtTriangl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799"/>
          <p:cNvSpPr/>
          <p:nvPr/>
        </p:nvSpPr>
        <p:spPr>
          <a:xfrm>
            <a:off x="1908000" y="32907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>
              <a:alpha val="42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800"/>
          <p:cNvSpPr/>
          <p:nvPr/>
        </p:nvSpPr>
        <p:spPr>
          <a:xfrm>
            <a:off x="5796000" y="33004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>
              <a:alpha val="42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932360" y="27795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580000" y="317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4"/>
          <p:cNvSpPr/>
          <p:nvPr/>
        </p:nvSpPr>
        <p:spPr>
          <a:xfrm>
            <a:off x="5267160" y="3676680"/>
            <a:ext cx="0" cy="135108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4954680" y="409248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6"/>
          <p:cNvSpPr/>
          <p:nvPr/>
        </p:nvSpPr>
        <p:spPr>
          <a:xfrm>
            <a:off x="5245200" y="5011560"/>
            <a:ext cx="2495520" cy="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4"/>
          <p:cNvSpPr/>
          <p:nvPr/>
        </p:nvSpPr>
        <p:spPr>
          <a:xfrm>
            <a:off x="5292720" y="3684600"/>
            <a:ext cx="2448000" cy="132696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6004080" y="497520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809"/>
          <p:cNvSpPr/>
          <p:nvPr/>
        </p:nvSpPr>
        <p:spPr>
          <a:xfrm>
            <a:off x="500040" y="5477040"/>
            <a:ext cx="396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长方形的长和宽分别放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810"/>
          <p:cNvSpPr/>
          <p:nvPr/>
        </p:nvSpPr>
        <p:spPr>
          <a:xfrm>
            <a:off x="4643280" y="5468760"/>
            <a:ext cx="396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三角形的两条直角边分别放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811"/>
          <p:cNvSpPr/>
          <p:nvPr/>
        </p:nvSpPr>
        <p:spPr>
          <a:xfrm>
            <a:off x="523800" y="5508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细观察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812"/>
          <p:cNvSpPr/>
          <p:nvPr/>
        </p:nvSpPr>
        <p:spPr>
          <a:xfrm>
            <a:off x="500040" y="5483160"/>
            <a:ext cx="3887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大后的长方形与原来相比，形状没变，大小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813"/>
          <p:cNvSpPr/>
          <p:nvPr/>
        </p:nvSpPr>
        <p:spPr>
          <a:xfrm>
            <a:off x="4673520" y="5487840"/>
            <a:ext cx="388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大后的三角形与原来相比，形状没变，大小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61"/>
          <p:cNvSpPr/>
          <p:nvPr/>
        </p:nvSpPr>
        <p:spPr>
          <a:xfrm>
            <a:off x="1648080" y="2708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2"/>
          <p:cNvSpPr/>
          <p:nvPr/>
        </p:nvSpPr>
        <p:spPr>
          <a:xfrm>
            <a:off x="5393160" y="27813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2608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8"/>
          <p:cNvGrpSpPr/>
          <p:nvPr/>
        </p:nvGrpSpPr>
        <p:grpSpPr>
          <a:xfrm>
            <a:off x="995400" y="1552680"/>
            <a:ext cx="7164360" cy="611640"/>
            <a:chOff x="995400" y="1552680"/>
            <a:chExt cx="7164360" cy="611640"/>
          </a:xfrm>
        </p:grpSpPr>
        <p:sp>
          <p:nvSpPr>
            <p:cNvPr id="139" name="文本框 4"/>
            <p:cNvSpPr/>
            <p:nvPr/>
          </p:nvSpPr>
          <p:spPr>
            <a:xfrm>
              <a:off x="1571760" y="1552680"/>
              <a:ext cx="1476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归纳总结：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线连接符 38"/>
            <p:cNvSpPr/>
            <p:nvPr/>
          </p:nvSpPr>
          <p:spPr>
            <a:xfrm>
              <a:off x="995400" y="2149920"/>
              <a:ext cx="7164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18"/>
          <p:cNvSpPr/>
          <p:nvPr/>
        </p:nvSpPr>
        <p:spPr>
          <a:xfrm>
            <a:off x="755640" y="2498760"/>
            <a:ext cx="7931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方格纸上按一定的比把图形放大或缩小的方法分为三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看：看原图形的每条边各占几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算：算出放大或缩小后图形的每条边各占几格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画：按算出的各条边的长度画出原图形的放大图或缩小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一定的比放大或缩小后的图形与原图形相比，形状没变，大小变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2608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70"/>
          <p:cNvSpPr/>
          <p:nvPr/>
        </p:nvSpPr>
        <p:spPr>
          <a:xfrm>
            <a:off x="971640" y="2060640"/>
            <a:ext cx="7129440" cy="2209680"/>
          </a:xfrm>
          <a:prstGeom prst="roundRect">
            <a:avLst>
              <a:gd name="adj" fmla="val 10139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放大缩小并不难，按一定比是关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论放大或缩小，形状不变大小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7" descr="12"/>
          <p:cNvPicPr/>
          <p:nvPr/>
        </p:nvPicPr>
        <p:blipFill>
          <a:blip r:embed="rId2"/>
          <a:stretch/>
        </p:blipFill>
        <p:spPr>
          <a:xfrm>
            <a:off x="5538960" y="1600200"/>
            <a:ext cx="249696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28720" y="1268280"/>
            <a:ext cx="799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∶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比画出图形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缩小后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1280" y="2133720"/>
          <a:ext cx="7921440" cy="3382920"/>
        </p:xfrm>
        <a:graphic>
          <a:graphicData uri="http://schemas.openxmlformats.org/drawingml/2006/table">
            <a:tbl>
              <a:tblPr/>
              <a:tblGrid>
                <a:gridCol w="247320"/>
                <a:gridCol w="245520"/>
                <a:gridCol w="247320"/>
                <a:gridCol w="245880"/>
                <a:gridCol w="279000"/>
                <a:gridCol w="216000"/>
                <a:gridCol w="277200"/>
                <a:gridCol w="245880"/>
                <a:gridCol w="247320"/>
                <a:gridCol w="244080"/>
                <a:gridCol w="247320"/>
                <a:gridCol w="245520"/>
                <a:gridCol w="247320"/>
                <a:gridCol w="245880"/>
                <a:gridCol w="247320"/>
                <a:gridCol w="245520"/>
                <a:gridCol w="247320"/>
                <a:gridCol w="245880"/>
                <a:gridCol w="267840"/>
                <a:gridCol w="225360"/>
                <a:gridCol w="247320"/>
                <a:gridCol w="245880"/>
                <a:gridCol w="246960"/>
                <a:gridCol w="245880"/>
                <a:gridCol w="245520"/>
                <a:gridCol w="279360"/>
                <a:gridCol w="216000"/>
                <a:gridCol w="245520"/>
                <a:gridCol w="247320"/>
                <a:gridCol w="216000"/>
                <a:gridCol w="280800"/>
                <a:gridCol w="24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矩形 8"/>
          <p:cNvSpPr/>
          <p:nvPr/>
        </p:nvSpPr>
        <p:spPr>
          <a:xfrm>
            <a:off x="1111320" y="2579760"/>
            <a:ext cx="1515960" cy="6476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1766880" y="2166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790560" y="2708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"/>
          <p:cNvSpPr/>
          <p:nvPr/>
        </p:nvSpPr>
        <p:spPr>
          <a:xfrm>
            <a:off x="1100160" y="3929040"/>
            <a:ext cx="0" cy="27144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6"/>
          <p:cNvSpPr/>
          <p:nvPr/>
        </p:nvSpPr>
        <p:spPr>
          <a:xfrm>
            <a:off x="1116000" y="4176720"/>
            <a:ext cx="479520" cy="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1176480" y="3583080"/>
            <a:ext cx="11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819000" y="3840120"/>
            <a:ext cx="7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6"/>
          <p:cNvSpPr/>
          <p:nvPr/>
        </p:nvSpPr>
        <p:spPr>
          <a:xfrm>
            <a:off x="1100160" y="3944880"/>
            <a:ext cx="479520" cy="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4"/>
          <p:cNvSpPr/>
          <p:nvPr/>
        </p:nvSpPr>
        <p:spPr>
          <a:xfrm>
            <a:off x="1595520" y="3929040"/>
            <a:ext cx="0" cy="271440"/>
          </a:xfrm>
          <a:prstGeom prst="line">
            <a:avLst/>
          </a:prstGeom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69"/>
          <p:cNvGrpSpPr/>
          <p:nvPr/>
        </p:nvGrpSpPr>
        <p:grpSpPr>
          <a:xfrm>
            <a:off x="500040" y="5627520"/>
            <a:ext cx="7888320" cy="610200"/>
            <a:chOff x="500040" y="5627520"/>
            <a:chExt cx="7888320" cy="610200"/>
          </a:xfrm>
        </p:grpSpPr>
        <p:sp>
          <p:nvSpPr>
            <p:cNvPr id="160" name="Text Box 555"/>
            <p:cNvSpPr/>
            <p:nvPr/>
          </p:nvSpPr>
          <p:spPr>
            <a:xfrm>
              <a:off x="500040" y="5675400"/>
              <a:ext cx="78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把长方形的长和宽分别缩小到原来的   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565"/>
            <p:cNvGrpSpPr/>
            <p:nvPr/>
          </p:nvGrpSpPr>
          <p:grpSpPr>
            <a:xfrm>
              <a:off x="5599080" y="5627520"/>
              <a:ext cx="1236600" cy="610200"/>
              <a:chOff x="5599080" y="5627520"/>
              <a:chExt cx="1236600" cy="610200"/>
            </a:xfrm>
          </p:grpSpPr>
          <p:sp>
            <p:nvSpPr>
              <p:cNvPr id="162" name="Text Box 566"/>
              <p:cNvSpPr/>
              <p:nvPr/>
            </p:nvSpPr>
            <p:spPr>
              <a:xfrm>
                <a:off x="5599080" y="5627520"/>
                <a:ext cx="72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567"/>
              <p:cNvSpPr/>
              <p:nvPr/>
            </p:nvSpPr>
            <p:spPr>
              <a:xfrm>
                <a:off x="5612040" y="5900400"/>
                <a:ext cx="122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568"/>
              <p:cNvSpPr/>
              <p:nvPr/>
            </p:nvSpPr>
            <p:spPr>
              <a:xfrm>
                <a:off x="5612040" y="5927400"/>
                <a:ext cx="2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552"/>
          <p:cNvSpPr/>
          <p:nvPr/>
        </p:nvSpPr>
        <p:spPr>
          <a:xfrm>
            <a:off x="1721160" y="27082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青岛版数学</cp:keywords>
  <dc:language>en-US</dc:language>
  <cp:lastModifiedBy>Administrator</cp:lastModifiedBy>
  <dcterms:modified xsi:type="dcterms:W3CDTF">2017-11-10T02:46:52Z</dcterms:modified>
  <cp:revision>292</cp:revision>
  <dc:subject/>
  <dc:title>数学课件模版2003版</dc:title>
</cp:coreProperties>
</file>