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BF5-81B5-4E41-8A62-91AA805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2E5-3796-423E-9325-9C3FEF5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B66-1C21-4A56-923A-755874CF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F2F-8D80-4D2F-8F5B-8EA5CB20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E9A-9B5F-4E77-A37F-BF8C5496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9521-6D2D-4D4B-8CB8-AA7B2E38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D8C-6B3C-4C1E-A78E-58510BA6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5A5-411B-4647-91E3-2E3A5FF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5544-2DF6-4BAE-97AC-6BB69592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6710-0223-4F19-84CA-C23293D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00DF-9D55-48A8-8988-F1EB611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46C-05FF-4405-BD1B-1E9A00C2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23C2-2320-443A-977E-677282C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597-22E7-422D-8989-8D711EC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ED95-5467-47B6-8895-5E4E991F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EC04-44C7-46AC-A007-980C0E0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790-94A7-4C67-8A31-8873945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320-6716-4233-BBF1-E000C5F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567-C1D7-4767-954E-CA5C8C4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174-23F2-49DC-BEE0-FEBCC8A1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974-672C-4D0D-885B-1E5318B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ABA-D473-493A-A042-ECD598A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495-E1B5-429F-B056-2D2C556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C87-B205-4D6D-9B89-8055411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6541-10FE-4FA2-9AEF-4B093BD4F9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CA5-1714-4D13-8FFD-9FCAD8407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.blog.163.com/photo/Y-dNjClP_ILgyLgT-F0W9Q==/1206964700135739552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26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96160" cy="4486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819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3152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772400" cy="4264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152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自主练习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2819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12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17800" y="537228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75000" y="5181480"/>
            <a:ext cx="457200" cy="644760"/>
          </a:xfrm>
          <a:prstGeom prst="rect">
            <a:avLst/>
          </a:prstGeom>
          <a:solidFill>
            <a:srgbClr val="fdf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419720"/>
            <a:ext cx="457200" cy="1409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429000"/>
            <a:ext cx="457200" cy="2397240"/>
          </a:xfrm>
          <a:prstGeom prst="rect">
            <a:avLst/>
          </a:prstGeom>
          <a:solidFill>
            <a:srgbClr val="fdf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4680" y="4038480"/>
            <a:ext cx="457200" cy="1791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952880"/>
            <a:ext cx="457200" cy="873360"/>
          </a:xfrm>
          <a:prstGeom prst="rect">
            <a:avLst/>
          </a:prstGeom>
          <a:solidFill>
            <a:srgbClr val="fdf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5105520"/>
            <a:ext cx="457200" cy="723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5486400"/>
            <a:ext cx="457200" cy="339840"/>
          </a:xfrm>
          <a:prstGeom prst="rect">
            <a:avLst/>
          </a:prstGeom>
          <a:solidFill>
            <a:srgbClr val="fdf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685800" y="0"/>
            <a:ext cx="8076960" cy="2514240"/>
            <a:chOff x="685800" y="0"/>
            <a:chExt cx="8076960" cy="251424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771840" y="0"/>
              <a:ext cx="6520320" cy="22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85800" y="2190600"/>
              <a:ext cx="807696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990720" y="2590920"/>
            <a:ext cx="6858000" cy="4117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2520" y="838080"/>
            <a:ext cx="457200" cy="3812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143000"/>
            <a:ext cx="457200" cy="38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447920"/>
            <a:ext cx="457200" cy="38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181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1828800"/>
            <a:ext cx="457200" cy="38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5562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657600"/>
            <a:ext cx="1218960" cy="533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191120"/>
            <a:ext cx="1143000" cy="1066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5257800"/>
            <a:ext cx="1143000" cy="380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15900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0400" y="3200400"/>
            <a:ext cx="457200" cy="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838080"/>
            <a:ext cx="381240" cy="3812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876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19520" y="4952520"/>
            <a:ext cx="1143000" cy="685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505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62520" y="3581280"/>
            <a:ext cx="1143000" cy="1371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05520" y="3352320"/>
            <a:ext cx="1143000" cy="228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3.33333E-006 -1.23959E-006 L -0.15 0.38298 E">
                                      <p:cBhvr>
                                        <p:cTn id="4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3.33333E-006 -4.56984E-006 L -0.025 0.41629 E">
                                      <p:cBhvr>
                                        <p:cTn id="461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3.33333E-006 2.09991E-006 L 0.1 0.52729 E">
                                      <p:cBhvr>
                                        <p:cTn id="47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-3.33333E-006 -2.0629E-006 L 0.225 0.52729 E">
                                      <p:cBhvr>
                                        <p:cTn id="49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3959E-006 L -0.27917 0.6716 E">
                                      <p:cBhvr>
                                        <p:cTn id="52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858000" cy="4118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743200" y="1143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676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27432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1240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1219320"/>
            <a:ext cx="121896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1752480"/>
            <a:ext cx="1143000" cy="1067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2819520"/>
            <a:ext cx="1143000" cy="380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72072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0400" y="762120"/>
            <a:ext cx="457200" cy="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8380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19520" y="2514240"/>
            <a:ext cx="1143000" cy="685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0666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62520" y="1143000"/>
            <a:ext cx="1143000" cy="1371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105520" y="914040"/>
            <a:ext cx="1143000" cy="228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830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067520" cy="160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000920" cy="704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7162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05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76920" y="1522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奥运会中国体育代表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金牌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２００８年第29届北京奥运会中国金牌榜(全程跟踪一) - 剪缕阳光 - 剪缕阳光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3962520"/>
            <a:ext cx="312444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505320" y="3657600"/>
            <a:ext cx="220968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248520" y="16002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523880" y="152280"/>
            <a:ext cx="28195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371484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686040" cy="21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24280" y="2743200"/>
            <a:ext cx="368640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376236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80880" y="0"/>
            <a:ext cx="101916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85800" y="5029200"/>
            <a:ext cx="76201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4391280" cy="317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371448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36864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3686040" cy="152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09480" y="152280"/>
            <a:ext cx="37623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52280" y="4038480"/>
            <a:ext cx="3353040" cy="1524240"/>
            <a:chOff x="152280" y="4038480"/>
            <a:chExt cx="3353040" cy="1524240"/>
          </a:xfrm>
        </p:grpSpPr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152280" y="4038480"/>
              <a:ext cx="33339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895480" y="4038480"/>
              <a:ext cx="609840" cy="609840"/>
            </a:xfrm>
            <a:prstGeom prst="ellipse">
              <a:avLst/>
            </a:prstGeom>
            <a:noFill/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14400" y="1752480"/>
            <a:ext cx="3124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952880" y="1447920"/>
            <a:ext cx="3276720" cy="38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971800"/>
            <a:ext cx="2438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743200"/>
            <a:ext cx="327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1055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6        22      12     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486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8        16      15      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2        17      14      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62485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1        21      28 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12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2485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50292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33520" y="1905120"/>
            <a:ext cx="7315200" cy="752400"/>
            <a:chOff x="533520" y="1905120"/>
            <a:chExt cx="7315200" cy="75240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533520" y="1905120"/>
              <a:ext cx="73152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876920" y="2209680"/>
              <a:ext cx="1066680" cy="3812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62320" y="4191120"/>
            <a:ext cx="380880" cy="2133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1360" y="5410080"/>
            <a:ext cx="417600" cy="914400"/>
          </a:xfrm>
          <a:prstGeom prst="rect">
            <a:avLst/>
          </a:prstGeom>
          <a:solidFill>
            <a:srgbClr val="cc00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200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12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876920"/>
            <a:ext cx="417600" cy="1447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0680" y="4724280"/>
            <a:ext cx="417240" cy="1600200"/>
          </a:xfrm>
          <a:prstGeom prst="rect">
            <a:avLst/>
          </a:prstGeom>
          <a:solidFill>
            <a:srgbClr val="cc00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8760" y="5334120"/>
            <a:ext cx="4176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410080"/>
            <a:ext cx="417600" cy="914400"/>
          </a:xfrm>
          <a:prstGeom prst="rect">
            <a:avLst/>
          </a:prstGeom>
          <a:solidFill>
            <a:srgbClr val="cc00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58080" y="5562720"/>
            <a:ext cx="4172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715000"/>
            <a:ext cx="417240" cy="609480"/>
          </a:xfrm>
          <a:prstGeom prst="rect">
            <a:avLst/>
          </a:prstGeom>
          <a:solidFill>
            <a:srgbClr val="cc00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8600" y="990720"/>
          <a:ext cx="4191120" cy="8377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</a:tblGrid>
              <a:tr h="3070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中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金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9</a:t>
                      </a:r>
                      <a:r>
                        <a:rPr b="1" lang="zh-CN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5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0" y="990720"/>
          <a:ext cx="4191120" cy="8377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</a:tblGrid>
              <a:tr h="3070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美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685800" y="152280"/>
            <a:ext cx="8077320" cy="733680"/>
            <a:chOff x="685800" y="152280"/>
            <a:chExt cx="8077320" cy="7336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685800" y="152280"/>
              <a:ext cx="807732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715000" y="152280"/>
              <a:ext cx="2057400" cy="457200"/>
            </a:xfrm>
            <a:prstGeom prst="ellipse">
              <a:avLst/>
            </a:prstGeom>
            <a:noFill/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38080" y="2057400"/>
            <a:ext cx="7848720" cy="4533840"/>
            <a:chOff x="838080" y="2057400"/>
            <a:chExt cx="7848720" cy="453384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838080" y="2057400"/>
              <a:ext cx="784872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248520" y="22860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012   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277812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0" y="2743200"/>
              <a:ext cx="304920" cy="0"/>
            </a:xfrm>
            <a:prstGeom prst="line">
              <a:avLst/>
            </a:prstGeom>
            <a:ln w="5724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295280" y="1447920"/>
            <a:ext cx="381240" cy="3808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447920"/>
            <a:ext cx="380880" cy="3808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572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447920"/>
            <a:ext cx="380880" cy="3808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4419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1447920"/>
            <a:ext cx="381240" cy="3808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48240" y="33526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4647960"/>
            <a:ext cx="106668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52680" y="4495680"/>
            <a:ext cx="1067040" cy="152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19720" y="3428640"/>
            <a:ext cx="1066680" cy="1066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8098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267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41911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886200"/>
            <a:ext cx="1066680" cy="22860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114800"/>
            <a:ext cx="1067040" cy="22860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19720" y="4267080"/>
            <a:ext cx="1066680" cy="763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09991E-006 L 0.0875 0.53839 E">
                                      <p:cBhvr>
                                        <p:cTn id="1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8363E-006 L 0.10834 0.43293 E">
                                      <p:cBhvr>
                                        <p:cTn id="18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09991E-006 L 0.1375 0.41628 E">
                                      <p:cBhvr>
                                        <p:cTn id="20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09991E-006 L 0.1625 0.26087 E">
                                      <p:cBhvr>
                                        <p:cTn id="21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47960" cy="400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733920" cy="2133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38480" y="152280"/>
            <a:ext cx="4800600" cy="228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4100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12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1066680"/>
            <a:ext cx="380880" cy="38124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066680"/>
            <a:ext cx="380880" cy="38124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1066680"/>
            <a:ext cx="381240" cy="38124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5638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609480"/>
            <a:ext cx="1524240" cy="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1218960"/>
            <a:ext cx="2362320" cy="759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23880" y="1981080"/>
            <a:ext cx="2362320" cy="763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523880" y="1600200"/>
            <a:ext cx="2362320" cy="763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5356E-006 L -0.22917 0.48844 E">
                                      <p:cBhvr>
                                        <p:cTn id="29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3728E-006 L -0.14584 0.48289 E">
                                      <p:cBhvr>
                                        <p:cTn id="31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3728E-006 L -0.29583 0.6605 E">
                                      <p:cBhvr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628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6019920" cy="1860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57150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819520" cy="81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772400" cy="4778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1219320"/>
            <a:ext cx="7772400" cy="5029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7772400" cy="525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62120" y="12193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1T00:31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