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F6665-205E-4056-960F-18FC532F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BF6B5-7729-4BBE-B994-61D9B76A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A919A-23CA-4FB1-9476-83F22C09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FCE6-E7D4-4F23-82EE-F4D58C91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CDB34-79DB-44F5-AE74-7E073BC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0B5FD-47D5-47AA-B031-F9DF2EF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561C5-FD0F-4E83-BBEA-7E8B1F16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91720-9331-45FD-A512-B80B096E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81419-E61E-4BA4-A652-02A68CDF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03CD9-93DA-45AD-8C87-FFAC15C1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2A3DE-EC12-45F3-A239-DDAD158B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C813B-6415-488B-9FA7-3E964048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FCB3B-7D57-48B2-BA82-398864C5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DFBD3-1288-4888-BE49-26969F41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A3AE0-8771-47E6-9F10-80E74161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0ACE8-AEC0-42F0-AED9-D4148B0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51A49-09C3-4AA6-817E-BFF10198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7AF3B-E7A9-46CE-A33D-99BA0CA1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85C7D-0CD4-4DD2-B250-59B048EF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41754-562F-4A7B-AC3B-645760DB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ADCC6-60A9-4FE2-B5AD-D2DA65E8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B77C6-E9C8-4B29-9AD2-3F84F35A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A9BBC-7486-44A1-B793-0D91B29D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31D96-C887-4D2F-933A-70B7B377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7A891-3C6D-460B-9104-F2F4BC06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BB713-B0B9-4A6D-A407-060D6963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2C52C-DF98-4246-8BBB-DF7CFBF9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38524-E645-4026-8751-7594AC4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9C927-9171-4849-AF34-E96747E3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E0DCC-070D-409D-BC9A-38EF35C5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7BC-AC26-48CB-A698-39CB1451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EC5F1-BF09-49CD-AEE5-509E82A1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9B016-E703-4CBD-BB3D-993D2FBE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8B8FB-1C0D-45D7-A114-A9BB6912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50BFE-F114-4495-811A-8E5F0916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B1950-545B-4C82-9BBE-F15B264F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E43D3-ECB8-4A76-9A57-CC0C621A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CA047-04B1-4E88-A6FF-B339DF6C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7FAE8-4968-4E93-9398-B75289D0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F4267-AF20-4326-8133-7C9DE58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F337F-0518-4B9A-85B2-C8042AF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0E1-D758-45BC-A154-7AB9464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0247-A7ED-4384-BD09-232250A7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617D3-D0C2-4F78-93C9-ED22C61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ED127-8227-4611-980D-BFE53823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5308E-4A97-4516-97B3-ACCD4515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B6FB9-0F68-414C-A172-174A649A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750CB-5D5F-425C-BF2A-4F410B8F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9F0E5-1BA7-4AE5-8061-1D52C8A3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A49FD-BEA3-40AE-8B0D-E80DB53B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3BE65-E3E4-4458-A796-D81A49E8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ACDEA-3ACE-476C-A9F2-3E28F5F5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9E9-D274-4ADB-82B6-9EDA053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FA1A3-19F2-41C6-9E87-D31C41AF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EC3E8-23F6-4BB8-9B43-AD19F3FD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197AD-EDC8-4602-A22E-312D1B69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0CF6C-5542-49D2-8622-83A05516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068B2-8938-4913-909A-A06E7C1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C58E5-8E78-4C61-B0AF-4AEF0A0B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06DD1-7B11-4D19-A33E-171DDD66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57802-7B3A-4E33-8E66-9FB78391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74A58-452C-4DE9-B717-B530F1DA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846D3-9F0E-4215-8356-D3A6BE43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9F6-E004-421F-80F7-6D96A5FA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9B21E-5DCA-4CE2-85E7-90F2AE89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77854-32A1-40DD-AE83-ADA4B47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40887-E970-4BFE-8CEB-1E68439F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BA4E0-059A-418D-B6B9-CE361624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24726-740E-4F10-AF77-BD5B369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0F490-83D7-4CC2-85D6-EFE3490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18454-1BCE-4D2B-BF19-29AE31F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3B642-F025-44A2-A133-D4F382D3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B7EFD-A18D-43FF-956C-3985054B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FF676-4868-4379-BA19-FBCCE120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B9D-6E7A-486A-AD59-0FC815A8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C7BC7-5B82-41D8-AA3B-272C83C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6901F-506A-4BB9-A446-1A3EEF24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30CE4-0B9E-4FC1-8A4C-FE4791A6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24861-E718-40F7-9770-21B85A60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CF042-64C0-4D0E-9085-3FAA01D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24551-F251-4FAD-B2ED-F76A3746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C7449-C28A-4715-AFFE-EF42359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759FD-A08D-44BE-85AD-FA391F3C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CBB86-EB35-4A86-827B-ACE746A9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34F8B-CA91-48AC-8016-2E8403BB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B66-7934-4C9E-A716-2882611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9EC56-41A3-4B21-94BF-340E37D8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879D9-6443-4002-A00A-76979AC6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5D27A-438A-4482-8232-B992E716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DE189-E399-44D1-9270-A4BD41AD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BD185-3D44-4FDD-9B68-370414B1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B95DC-6B8F-4CC5-B8FB-B2F7583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C7BFF-BECF-440A-8B73-A938D3B7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EC904-AECB-45E8-9382-5C0AF654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54181-3959-427B-B4A8-D642757E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8EBB1-9256-447D-A66A-89C35F7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3AE-3B9C-4A19-9FED-C9FAB514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6BFCC-339C-4BC5-993E-60CEBA09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9AF7C-A7C7-4E27-A719-3E42390D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98111-5BBE-4E2C-A263-12D4E0BF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5298C-6133-4C31-BC1F-6272B9CD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E18A0-DD8A-4E52-A98F-FBD11049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79F56-46A2-4461-80B8-03F80970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E7EF5-B405-495E-9CF0-D4C4F418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70FD5-CE3D-45CA-BF2F-FF4B2058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D6D19-E490-4BCC-A67E-69D0DE11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7296E1-1AAF-4F9A-931D-146B6B7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9FB-56C7-4FAD-86FF-09BCDE39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E43DD-2399-4FEF-8727-2081CF25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FA991-5949-4BD5-81AB-9E6FC914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8FBB5-DC87-4263-95F7-9F039B9F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B8339-B02D-4A2C-A931-AE90BA88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AB509-58CD-4BE0-BA13-0E4B212C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445CA7-7192-4969-9756-61562053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CCDA8-B5B6-4683-AF27-3D896E3C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29D4E-77CB-401A-B816-D191B724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D43CE-0B4F-48CB-B1DA-A17E859E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15969-E0BE-440A-B0EA-7BDEF747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18B-32BA-4DD6-9965-F7D6B46E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DD3E1-93F7-417A-BF8E-D38F56A9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27132-CE3C-4DC5-AC0D-02D3CC3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77A90-7747-4732-9555-058C2CE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A5C5C-5BD6-4982-8802-18DAE12D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68A25D-25A3-4011-A9CE-0C33756C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CD87E-CFFD-4BF7-ACD2-21988488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D01A9-F95A-4C69-8846-3C5BA602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7EDD6-DC1B-4369-AA68-908D5029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23CB4-CCB4-4577-861A-7BCD0BFD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3EB7D-5084-44C4-9761-9C2A6187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5C6-0BFF-42F9-B492-F9DC041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1FC40-30EA-496B-8BC4-3C3061D0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D19B1-0660-4FEF-8276-B3FEFD03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76EA2-F961-4399-A509-C011D947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EE91D-8DF1-4531-90E3-79FD1F39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8EB1A-5185-4771-9254-EA6B3F96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FE82D-7AA3-40B3-BFCE-98395B9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97461-9641-49FC-B5BB-B5B0FCDA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B98FD5-7FFB-4125-9F7B-56FE2111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A100D-B6BF-4ACD-AF97-8E632A2A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5F2B6-70E2-4367-9D3F-E6238018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C5A-9D91-433F-8571-1108314D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D0C39-5165-4955-BDFB-E83405AC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CC881-850C-420D-84DE-8902DF00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94717-795B-4118-826F-B0F3EE1D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8DDB4-C839-46B3-B2B3-E1E561B5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7213A-B369-4513-A4B4-C1452E3C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D5D13-EAAE-44FD-B6A4-EFDAF22A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5098F-5A0F-4089-9D24-A1CA219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0B0E3-545F-4166-8297-8C59181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48A0C-73BF-4ECB-BB80-091143D0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3A0BA-590D-4A06-A423-66FF28D7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551-8547-4F51-81D8-52420DB1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6A302-6893-4D34-800F-AE9273D8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E9D39A-6658-4D93-8D58-697C58BC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66F901-376A-4386-ABD5-90002867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752D9-7B94-4ACB-9B5F-40A15683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5EBD3E-585F-49BD-A7A0-3428E2B6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87B39B-00B2-4566-BBED-96CB016C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1F474-6254-418A-90BA-A8D62310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715016-F873-4906-AA04-2D66AE7F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21471D-17A1-463C-91F4-09420A3D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4E423-A3ED-4B94-9525-D61699A3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6CF8-FBEE-4B63-9DB0-A1B61E1A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7249C-FEDD-4A4B-A532-FAA733C3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AC2724-B5B2-45A6-9996-3BEAD7B1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51C96-6669-4FF9-8E35-C1ABFFA2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C1D594-C17F-4FA2-9523-7E199942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B3D85-6D06-405A-BA52-BA44CF15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33CB5-1485-461C-B345-5738DB08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AB7863-E3B7-4E7E-B5A4-CB857D08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267A2-AD94-4838-AE38-2BE00599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B0658-6064-440F-96E3-7CC0C2F4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908FA4-1052-459F-9FF6-D8294D02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36C2-52E2-4E67-9A4F-84BAAFA2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93E86-1EE6-45A5-8E04-0EAFA798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DE92A-4326-4044-8FE6-2476571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22E328-CC94-42BC-95EC-94841825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26BCEC-E551-4695-AD74-E63ED740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8E64A-1E37-48C9-87CB-6082D9A6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238A1E-3458-4284-B3DB-52ABDC47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2AA89C-E99A-40A3-9E19-7141D847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F4B3E6-444C-489C-808D-4D52C1D6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9685C6-5D47-46A4-B502-2BE0D12C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BCFEDF-FFA6-4FC2-AFB4-6DDB6F5B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6642-F0C4-4AD9-AABD-3320FEB8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27E09C-CCB5-4F18-929C-26E6C607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078F71-6D37-4489-9E69-9F5C487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15A898-0F5D-4261-800D-771EDB5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97A5E1-7EB6-44BB-A39C-4BE4BCF2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5DBF8C-C747-4AD3-ACFA-85E58E9B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EAA581-2B3F-4488-A13D-5ED88E4E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CE7F8-563D-4813-9E4D-2294C2F5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B2E5D0-5968-4996-BC88-65A7F937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3C83BC-BD11-4F5B-A253-D3C9FD46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033251-7E37-4E4A-9341-9AFA4CF9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40D1-8CA3-40A8-B3B4-474A025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7028C5-89CF-405E-B85A-C489A151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CD6B6D-2DAE-470F-9CDA-0985798C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465108-0FDB-465A-BAF0-89DAC95E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11A2F4-66F1-4046-B96D-9B38FEE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186A7-4FBB-42CB-ABB1-F203BFAF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6F7330-8F2B-4F39-85C8-6360A24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00E1F6-F714-4C2D-A6DC-E32E5C00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810CD0-077F-44F3-BEDF-A926F67A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E78819-261E-4639-89CA-C3A5C0B4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8F36-0F56-4397-A486-37801024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AFEC-B6EA-4EE0-86DE-F4A803A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E993-E927-4F8F-A20F-552FAE0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90CD-E276-4266-83E8-13F71456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6171-4D04-4B93-8EC5-EF255A4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BBF0-A175-431F-82A0-CE49E3AE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4C5C-46EE-4F07-AC56-39314A5C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88C8-8889-460F-8588-D0FF9453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C11A-8C82-4051-B21C-9FAF0D85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4D54-6DBB-47B7-8E20-B6001AAB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C991-B9A2-43FC-8E21-A3A47613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9599-5547-416A-8F31-BE11C238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7908-2130-4170-8652-7583280F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4DFC-0E8A-42FF-AB16-947A9B4D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05AD-5DE7-4398-B92F-DF23CBF0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7C52-D393-4859-AE6E-63CF793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4C90-8A48-4D93-A23C-F2E0E31F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9D25-CE54-4829-99FE-14709A7F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A853-F960-4874-85FF-AE31F302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B2119-D9C3-4A4E-9CF1-410E2FBC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F011-69AB-449B-A4AE-E084A830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E9928-E876-47A8-BDCD-E00F895A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7958-42D8-4F3C-97D2-F58A8E52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DA221-3FDB-447E-92C2-278F30D3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0A38-537C-4204-A097-09103237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663AA-8A1A-42AA-8DB0-FF2752F3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9723-8EBA-4530-B109-40FD1FE4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6108B-80AB-4AC5-8CCA-4CB51F8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83B2-9904-4C80-B931-508C302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8EB2-7031-41D5-BEE5-419DC227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DD09-1EEF-4F64-A984-E851180F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E023-5A0B-4406-B1FF-25EC267D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B157B-76E5-430A-B158-AC2F1C31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CDD4E-9ECB-4EFA-B649-B4F460BD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2842D-C95C-4B47-87B0-994BAD6C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09D96-8459-4C13-BA0A-5A7260C1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7165C-0667-4DEA-8FAF-328F8613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F25D9-7242-4F8B-BD05-1EB86DFF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2F5F8-6677-49D9-BDC3-32344CE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5494E-1C93-4191-9635-743F78C9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61F8-11BC-4C2F-A1FD-BAC39607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7FF6E-9E9B-49E4-8FCA-CA00F854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E373B-FB84-4B98-8917-0A31D6A8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2CDD9-E857-4DBD-8866-EDC5DB02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F39E-7C8C-492F-A73D-B457C716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3586-AA7E-42E0-8E50-CC2CA0AA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C71EC-C925-4CB4-97C3-11CAAF10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CA716-7F19-4F61-B5D2-231E993F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EBD9F-3031-43AD-9FEF-B8CE887D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03606-F848-4800-A378-922ACEF0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9D49-97E0-444C-87CE-BD67B52E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5C03C-13CD-4B95-88F6-FF6E71A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8202-7A31-4169-BEAF-85ADDF67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C6802-5E53-42A6-85CE-C28C580D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C485A-B2EC-4CD6-B550-E863A856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5122-580B-427C-BA82-F028DBD4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8B520-46C3-47D7-8DF2-2BDECC88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C24C0-0B76-44D6-B93A-7BA0974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60741-BFFB-4C68-89C4-D32581AB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0F8B4-46FC-4BD1-8E82-B3EDA620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FE8FE-ADF7-4C75-B03B-C1DA94C1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15B41-7AD9-4A3C-8969-EC6B1D37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6A1D4-5521-49E5-B5DC-4B8AF71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BF714-F32B-4759-BF60-408CD25D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4F1D-3039-45B3-8880-78778E9C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D65B-8758-4884-9F3F-36F621E9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CF7E8-0545-4914-B254-A477841B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70D8C-A1FD-47A8-9D94-E998B6F0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55E70-B318-4586-943F-5D669A10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F4BAD-70C8-4835-9E11-0B562946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CC52F-FBEC-4869-8399-2E0EECDC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DA8-0AA4-4D40-9B9F-E6F44322680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3863-5A08-4D35-AB13-EB194799273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A07A-F799-4538-98E2-03A03B68DD8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C65A-D0D1-4D55-A08E-DA726C7DCE4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9E9-4649-4670-9AFE-A90676E514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1E36-9032-4284-B171-CC65D870CA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AAA8-5185-47F1-BD09-2653FFD222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7B6-9E7F-4812-9F35-97D2B9C796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0C10-3B98-4AAE-9042-489788FAB5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26B7-657D-4AD5-8C85-2D22F5B4F8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EEAD-F527-4663-8FC7-87718C1DF6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0D51-8D21-48B2-8801-74CAA0D19FC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A939-1BEE-4734-8199-8F2ABF59693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6204-62D8-48CE-AF56-0E7BDC36C1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BBE4-A91F-471F-B9A6-75E421F790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0A45-6CC0-4044-A4C4-647F87C8FD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6295-4EA4-4A45-925E-39EBA049C19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B1ED-D6D6-4853-A458-C3B7A543EAD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CA65-D14C-4570-A081-968A1A41AB8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2849-B501-4611-8DBF-03DDD37BB89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D26E-F84C-4C6E-9DF8-E2EAA92A989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2881-8A8A-46A8-8A28-4D1214C53D9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1F47-D3B2-4A58-90D1-596E352914A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2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5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6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9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0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标题 1"/>
          <p:cNvSpPr/>
          <p:nvPr/>
        </p:nvSpPr>
        <p:spPr>
          <a:xfrm>
            <a:off x="50004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圆柱的体积</a:t>
            </a:r>
            <a:endParaRPr b="1" lang="en-US" sz="5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067280" y="1574640"/>
            <a:ext cx="47228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2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冰淇淋盒有多大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圆柱和圆锥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圆柱底面半径或高扩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起体积变化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等积法解决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由拼、切后圆柱的表面积的变化求原来圆柱的体积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有关圆柱体积的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84240" y="1341360"/>
            <a:ext cx="7151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选一选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柱的底面半径和高都扩大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，则它的体积扩大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圆柱的底面直径扩大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，高缩小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那么圆柱的体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不变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缩小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扩大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扩大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TextBox 12"/>
          <p:cNvSpPr/>
          <p:nvPr/>
        </p:nvSpPr>
        <p:spPr>
          <a:xfrm>
            <a:off x="4719240" y="256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TextBox 13"/>
          <p:cNvSpPr/>
          <p:nvPr/>
        </p:nvSpPr>
        <p:spPr>
          <a:xfrm>
            <a:off x="6087600" y="42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6" name="对象 1" descr=""/>
          <p:cNvPicPr/>
          <p:nvPr/>
        </p:nvPicPr>
        <p:blipFill>
          <a:blip r:embed="rId2"/>
          <a:stretch/>
        </p:blipFill>
        <p:spPr>
          <a:xfrm>
            <a:off x="2951280" y="4075200"/>
            <a:ext cx="271440" cy="718920"/>
          </a:xfrm>
          <a:prstGeom prst="rect">
            <a:avLst/>
          </a:prstGeom>
          <a:ln w="0">
            <a:noFill/>
          </a:ln>
        </p:spPr>
      </p:pic>
      <p:pic>
        <p:nvPicPr>
          <p:cNvPr id="1007" name="对象 1" descr=""/>
          <p:cNvPicPr/>
          <p:nvPr/>
        </p:nvPicPr>
        <p:blipFill>
          <a:blip r:embed="rId3"/>
          <a:stretch/>
        </p:blipFill>
        <p:spPr>
          <a:xfrm>
            <a:off x="7164360" y="4545000"/>
            <a:ext cx="27144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Box 1"/>
          <p:cNvSpPr/>
          <p:nvPr/>
        </p:nvSpPr>
        <p:spPr>
          <a:xfrm>
            <a:off x="993600" y="1300320"/>
            <a:ext cx="71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如图，把一整盒的鲜牛奶倒入圆柱形的杯子中，杯子中的鲜牛奶高多少厘米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杯子厚度忽略不计，得数保留一位小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1733400" y="4473720"/>
            <a:ext cx="637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2×5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80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80÷[(8÷2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×3.14]≈9.6(cm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杯子中的鲜牛奶高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9.6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0" name="Picture 4" descr="YA16D"/>
          <p:cNvPicPr/>
          <p:nvPr/>
        </p:nvPicPr>
        <p:blipFill>
          <a:blip r:embed="rId1"/>
          <a:stretch/>
        </p:blipFill>
        <p:spPr>
          <a:xfrm>
            <a:off x="4248000" y="2984400"/>
            <a:ext cx="3713400" cy="16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矩形 10"/>
          <p:cNvSpPr/>
          <p:nvPr/>
        </p:nvSpPr>
        <p:spPr>
          <a:xfrm>
            <a:off x="963720" y="1268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一个装有水的圆柱形量筒，底面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把一个完全没入水中的铁块从这个量筒里取出后，水面下降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这个铁块的体积是多少立方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2" name="TextBox 5"/>
          <p:cNvSpPr/>
          <p:nvPr/>
        </p:nvSpPr>
        <p:spPr>
          <a:xfrm>
            <a:off x="1511280" y="3676680"/>
            <a:ext cx="68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0.7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个铁块的体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0.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矩形 1"/>
          <p:cNvSpPr/>
          <p:nvPr/>
        </p:nvSpPr>
        <p:spPr>
          <a:xfrm>
            <a:off x="826920" y="123336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一个圆柱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沿底面直径劈成两半，圆柱的表面积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厘米，原来圆柱的体积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矩形 2"/>
          <p:cNvSpPr/>
          <p:nvPr/>
        </p:nvSpPr>
        <p:spPr>
          <a:xfrm>
            <a:off x="1692360" y="321300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2÷2÷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2÷2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3.14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.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原来圆柱的体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.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矩形 1"/>
          <p:cNvSpPr/>
          <p:nvPr/>
        </p:nvSpPr>
        <p:spPr>
          <a:xfrm>
            <a:off x="826920" y="112536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54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截成两个小圆柱，表面积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厘米，原来圆柱的体积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54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54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54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高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表面积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厘米，原来圆柱的体积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6" name="矩形 2"/>
          <p:cNvSpPr/>
          <p:nvPr/>
        </p:nvSpPr>
        <p:spPr>
          <a:xfrm>
            <a:off x="1690560" y="226836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2÷2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原来圆柱的体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7" name="矩形 3"/>
          <p:cNvSpPr/>
          <p:nvPr/>
        </p:nvSpPr>
        <p:spPr>
          <a:xfrm>
            <a:off x="1843200" y="454176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.12÷2÷3.1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3.14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.4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原来圆柱的体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.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厘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矩形 1"/>
          <p:cNvSpPr/>
          <p:nvPr/>
        </p:nvSpPr>
        <p:spPr>
          <a:xfrm>
            <a:off x="1635120" y="4437000"/>
            <a:ext cx="6537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2.5×10×0.5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88.57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张大爷家今年产稻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88.5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9" name="矩形 2"/>
          <p:cNvSpPr/>
          <p:nvPr/>
        </p:nvSpPr>
        <p:spPr>
          <a:xfrm>
            <a:off x="863640" y="12762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在国家政策的鼓励下，农民的种粮积极性很高。张大爷家今年的稻谷又获丰收，他家的稻谷装满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底面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的圆柱形粮囤。张大爷家今年产稻谷多少吨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稻谷按每立方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吨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1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2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3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4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矩形 19"/>
          <p:cNvSpPr/>
          <p:nvPr/>
        </p:nvSpPr>
        <p:spPr>
          <a:xfrm>
            <a:off x="792000" y="1233360"/>
            <a:ext cx="74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一、亮亮想测量一个玻璃瓶的容积，先将玻璃瓶正立，量得玻璃瓶的底面直径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水高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；再将玻璃瓶倒立，量得空着的部分高度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这个玻璃瓶的容积是多少毫升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玻璃瓶厚度忽略不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1655640" y="4184640"/>
            <a:ext cx="534672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÷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厘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4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1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14×4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3.36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厘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3.3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立方厘米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3.3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毫升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个玻璃瓶的容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3.36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毫升。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7" name="Picture 9" descr="YA16F"/>
          <p:cNvPicPr/>
          <p:nvPr/>
        </p:nvPicPr>
        <p:blipFill>
          <a:blip r:embed="rId2"/>
          <a:stretch/>
        </p:blipFill>
        <p:spPr>
          <a:xfrm>
            <a:off x="6134040" y="2997360"/>
            <a:ext cx="173988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8:19Z</dcterms:modified>
  <cp:revision>1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