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10.wmf" ContentType="image/x-wmf"/>
  <Override PartName="/ppt/media/image11.png" ContentType="image/png"/>
  <Override PartName="/ppt/media/image4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20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media/image5.png" ContentType="image/png"/>
  <Override PartName="/ppt/media/image1.jpeg" ContentType="image/jpeg"/>
  <Override PartName="/ppt/media/image15.wmf" ContentType="image/x-wmf"/>
  <Override PartName="/ppt/media/image16.png" ContentType="image/png"/>
  <Override PartName="/ppt/media/image17.wmf" ContentType="image/x-wmf"/>
  <Override PartName="/ppt/media/image19.png" ContentType="image/png"/>
  <Override PartName="/ppt/media/image21.png" ContentType="image/png"/>
  <Override PartName="/ppt/media/image22.png" ContentType="image/png"/>
  <Override PartName="/ppt/media/image24.wmf" ContentType="image/x-wmf"/>
  <Override PartName="/ppt/media/image26.png" ContentType="image/png"/>
  <Override PartName="/ppt/media/image28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B0B-81C9-46E2-94B7-E2E79B39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C75-26B9-4CC3-9A7C-CCC2080C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C00-54F0-48C4-AEB8-7512345F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2C3-5EA2-40E4-ACAD-83D7142B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D34-5528-4200-8D34-6756E1EA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6A8-7CC8-4DE7-9374-BC4D7851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4B6-EFD6-4A38-A3BC-53D749EC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8A2-7CE9-43B4-9666-450F55A7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77B-A642-48BB-AAF9-412F49A0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E05-911C-4F82-BACA-C97E6C9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F7C-0216-412B-BA64-F8F99024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8F2-37DC-44F5-A181-14122A76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74E4-9103-490B-8770-8A7D36954838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3.jpe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84360" y="2276640"/>
          <a:ext cx="8135640" cy="3797280"/>
        </p:xfrm>
        <a:graphic>
          <a:graphicData uri="http://schemas.openxmlformats.org/drawingml/2006/table">
            <a:tbl>
              <a:tblPr/>
              <a:tblGrid>
                <a:gridCol w="1223640"/>
                <a:gridCol w="2087640"/>
                <a:gridCol w="2736720"/>
                <a:gridCol w="2087640"/>
              </a:tblGrid>
              <a:tr h="10080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图形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特征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侧面积、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表面积公式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积公式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</a:tr>
              <a:tr h="13590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圆柱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</a:tr>
              <a:tr h="143028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圆锥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----</a:t>
                      </a:r>
                      <a:endParaRPr b="1" lang="en-US" sz="24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ccff"/>
                        </a:solidFill>
                        <a:latin typeface="黑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fefc"/>
                    </a:solidFill>
                  </a:tcPr>
                </a:tc>
              </a:tr>
            </a:tbl>
          </a:graphicData>
        </a:graphic>
      </p:graphicFrame>
      <p:sp>
        <p:nvSpPr>
          <p:cNvPr id="226" name="Rectangle 26"/>
          <p:cNvSpPr/>
          <p:nvPr/>
        </p:nvSpPr>
        <p:spPr>
          <a:xfrm>
            <a:off x="2052720" y="342792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同样大小的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面，一个侧面，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无数条高。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27" name="Rectangle 27"/>
          <p:cNvSpPr/>
          <p:nvPr/>
        </p:nvSpPr>
        <p:spPr>
          <a:xfrm>
            <a:off x="1979640" y="486936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底面，一个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侧面，一个顶点，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能画一条高。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948360" y="3716280"/>
            <a:ext cx="179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柱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229" name="Group 29"/>
          <p:cNvGrpSpPr/>
          <p:nvPr/>
        </p:nvGrpSpPr>
        <p:grpSpPr>
          <a:xfrm>
            <a:off x="6334200" y="4941720"/>
            <a:ext cx="2809440" cy="909360"/>
            <a:chOff x="6334200" y="4941720"/>
            <a:chExt cx="2809440" cy="909360"/>
          </a:xfrm>
        </p:grpSpPr>
        <p:sp>
          <p:nvSpPr>
            <p:cNvPr id="230" name="Text Box 3"/>
            <p:cNvSpPr/>
            <p:nvPr/>
          </p:nvSpPr>
          <p:spPr>
            <a:xfrm>
              <a:off x="6334200" y="5062320"/>
              <a:ext cx="28094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V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锥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＝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h</a:t>
              </a:r>
              <a:endParaRPr b="1" lang="en-US" sz="28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231" name="Group 31"/>
            <p:cNvGrpSpPr/>
            <p:nvPr/>
          </p:nvGrpSpPr>
          <p:grpSpPr>
            <a:xfrm>
              <a:off x="7696440" y="4941720"/>
              <a:ext cx="579600" cy="909360"/>
              <a:chOff x="7696440" y="4941720"/>
              <a:chExt cx="579600" cy="909360"/>
            </a:xfrm>
          </p:grpSpPr>
          <p:sp>
            <p:nvSpPr>
              <p:cNvPr id="232" name="Line 32"/>
              <p:cNvSpPr/>
              <p:nvPr/>
            </p:nvSpPr>
            <p:spPr>
              <a:xfrm flipV="1">
                <a:off x="7697880" y="5402160"/>
                <a:ext cx="407160" cy="1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233" name="Text Box 33"/>
              <p:cNvSpPr/>
              <p:nvPr/>
            </p:nvSpPr>
            <p:spPr>
              <a:xfrm>
                <a:off x="7707240" y="4941720"/>
                <a:ext cx="56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8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234" name="Text Box 34"/>
              <p:cNvSpPr/>
              <p:nvPr/>
            </p:nvSpPr>
            <p:spPr>
              <a:xfrm>
                <a:off x="7696440" y="5330520"/>
                <a:ext cx="56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8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sp>
        <p:nvSpPr>
          <p:cNvPr id="235" name="Text Box 14"/>
          <p:cNvSpPr/>
          <p:nvPr/>
        </p:nvSpPr>
        <p:spPr>
          <a:xfrm>
            <a:off x="4356000" y="3357720"/>
            <a:ext cx="1621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4067280" y="4076640"/>
            <a:ext cx="27367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+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侧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237" name="Group 39"/>
          <p:cNvGrpSpPr/>
          <p:nvPr/>
        </p:nvGrpSpPr>
        <p:grpSpPr>
          <a:xfrm>
            <a:off x="449280" y="6091200"/>
            <a:ext cx="436680" cy="639720"/>
            <a:chOff x="449280" y="6091200"/>
            <a:chExt cx="436680" cy="639720"/>
          </a:xfrm>
        </p:grpSpPr>
        <p:pic>
          <p:nvPicPr>
            <p:cNvPr id="238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9280"/>
              <a:ext cx="4366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35"/>
            <p:cNvSpPr/>
            <p:nvPr/>
          </p:nvSpPr>
          <p:spPr>
            <a:xfrm>
              <a:off x="492120" y="60912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1" lang="en-US" sz="1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240" name="Rectangle 4"/>
          <p:cNvSpPr/>
          <p:nvPr/>
        </p:nvSpPr>
        <p:spPr>
          <a:xfrm>
            <a:off x="539640" y="549360"/>
            <a:ext cx="3240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755640" y="134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7" descr=""/>
          <p:cNvPicPr/>
          <p:nvPr/>
        </p:nvPicPr>
        <p:blipFill>
          <a:blip r:embed="rId1"/>
          <a:srcRect l="0" t="0" r="6935" b="-12766"/>
          <a:stretch/>
        </p:blipFill>
        <p:spPr>
          <a:xfrm>
            <a:off x="2397240" y="5518080"/>
            <a:ext cx="6624360" cy="43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"/>
          <p:cNvPicPr/>
          <p:nvPr/>
        </p:nvPicPr>
        <p:blipFill>
          <a:blip r:embed="rId2"/>
          <a:srcRect l="0" t="0" r="21202" b="-14027"/>
          <a:stretch/>
        </p:blipFill>
        <p:spPr>
          <a:xfrm>
            <a:off x="2627280" y="1916280"/>
            <a:ext cx="4392720" cy="417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126828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回顾长方体、正方体体积公式的推导过程：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246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6"/>
          <p:cNvSpPr/>
          <p:nvPr/>
        </p:nvSpPr>
        <p:spPr>
          <a:xfrm>
            <a:off x="468360" y="1989000"/>
            <a:ext cx="1511280" cy="43344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实问题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48" name="Line 89"/>
          <p:cNvSpPr/>
          <p:nvPr/>
        </p:nvSpPr>
        <p:spPr>
          <a:xfrm>
            <a:off x="2022480" y="2205000"/>
            <a:ext cx="431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49" name="Rectangle 90"/>
          <p:cNvSpPr/>
          <p:nvPr/>
        </p:nvSpPr>
        <p:spPr>
          <a:xfrm>
            <a:off x="2556000" y="1844640"/>
            <a:ext cx="4392360" cy="5176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50" name="Rectangle 91"/>
          <p:cNvSpPr/>
          <p:nvPr/>
        </p:nvSpPr>
        <p:spPr>
          <a:xfrm>
            <a:off x="468360" y="3573360"/>
            <a:ext cx="1511280" cy="43344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学问题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51" name="Line 92"/>
          <p:cNvSpPr/>
          <p:nvPr/>
        </p:nvSpPr>
        <p:spPr>
          <a:xfrm>
            <a:off x="2022480" y="3805200"/>
            <a:ext cx="431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52" name="Rectangle 96"/>
          <p:cNvSpPr/>
          <p:nvPr/>
        </p:nvSpPr>
        <p:spPr>
          <a:xfrm>
            <a:off x="496800" y="4221000"/>
            <a:ext cx="1440000" cy="72072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联想已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知识经验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53" name="Line 97"/>
          <p:cNvSpPr/>
          <p:nvPr/>
        </p:nvSpPr>
        <p:spPr>
          <a:xfrm>
            <a:off x="1979640" y="4611600"/>
            <a:ext cx="431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2627280" y="242100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9" descr=""/>
          <p:cNvPicPr/>
          <p:nvPr/>
        </p:nvPicPr>
        <p:blipFill>
          <a:blip r:embed="rId5"/>
          <a:srcRect l="0" t="0" r="47107" b="-10008"/>
          <a:stretch/>
        </p:blipFill>
        <p:spPr>
          <a:xfrm>
            <a:off x="2556000" y="3637080"/>
            <a:ext cx="3384360" cy="431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"/>
          <p:cNvPicPr/>
          <p:nvPr/>
        </p:nvPicPr>
        <p:blipFill>
          <a:blip r:embed="rId6"/>
          <a:stretch/>
        </p:blipFill>
        <p:spPr>
          <a:xfrm>
            <a:off x="2843280" y="4743360"/>
            <a:ext cx="3097080" cy="847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4" descr=""/>
          <p:cNvPicPr/>
          <p:nvPr/>
        </p:nvPicPr>
        <p:blipFill>
          <a:blip r:embed="rId7"/>
          <a:stretch/>
        </p:blipFill>
        <p:spPr>
          <a:xfrm>
            <a:off x="2987640" y="5870520"/>
            <a:ext cx="2808360" cy="798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"/>
          <p:cNvPicPr/>
          <p:nvPr/>
        </p:nvPicPr>
        <p:blipFill>
          <a:blip r:embed="rId8"/>
          <a:srcRect l="0" t="0" r="5390" b="-12766"/>
          <a:stretch/>
        </p:blipFill>
        <p:spPr>
          <a:xfrm>
            <a:off x="2411280" y="4365720"/>
            <a:ext cx="640872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3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6264360" cy="25034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261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7"/>
          <p:cNvSpPr/>
          <p:nvPr/>
        </p:nvSpPr>
        <p:spPr>
          <a:xfrm>
            <a:off x="324000" y="1498680"/>
            <a:ext cx="1511280" cy="43344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寻找方法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835280" y="1700280"/>
            <a:ext cx="43308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2398680" y="1498680"/>
            <a:ext cx="719280" cy="358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4226040" y="1484280"/>
            <a:ext cx="865080" cy="358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276720" y="1484280"/>
            <a:ext cx="792000" cy="358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6156360" y="1484280"/>
            <a:ext cx="1728720" cy="358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3"/>
          <p:cNvGrpSpPr/>
          <p:nvPr/>
        </p:nvGrpSpPr>
        <p:grpSpPr>
          <a:xfrm>
            <a:off x="324000" y="2462040"/>
            <a:ext cx="3600360" cy="2982960"/>
            <a:chOff x="324000" y="2462040"/>
            <a:chExt cx="3600360" cy="2982960"/>
          </a:xfrm>
        </p:grpSpPr>
        <p:pic>
          <p:nvPicPr>
            <p:cNvPr id="269" name="Picture 11" descr=""/>
            <p:cNvPicPr/>
            <p:nvPr/>
          </p:nvPicPr>
          <p:blipFill>
            <a:blip r:embed="rId1"/>
            <a:srcRect l="0" t="0" r="50613" b="88921"/>
            <a:stretch/>
          </p:blipFill>
          <p:spPr>
            <a:xfrm>
              <a:off x="468360" y="2462040"/>
              <a:ext cx="295128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2" descr=""/>
            <p:cNvPicPr/>
            <p:nvPr/>
          </p:nvPicPr>
          <p:blipFill>
            <a:blip r:embed="rId2"/>
            <a:srcRect l="15678" t="21889" r="13230" b="0"/>
            <a:stretch/>
          </p:blipFill>
          <p:spPr>
            <a:xfrm>
              <a:off x="324000" y="2828880"/>
              <a:ext cx="3600360" cy="26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272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2"/>
          <p:cNvSpPr/>
          <p:nvPr/>
        </p:nvSpPr>
        <p:spPr>
          <a:xfrm>
            <a:off x="1042920" y="1411200"/>
            <a:ext cx="1511280" cy="43344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归纳结论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1763640" y="2060640"/>
            <a:ext cx="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275" name="Picture 14" descr=""/>
          <p:cNvPicPr/>
          <p:nvPr/>
        </p:nvPicPr>
        <p:blipFill>
          <a:blip r:embed="rId4"/>
          <a:srcRect l="0" t="0" r="30325" b="83976"/>
          <a:stretch/>
        </p:blipFill>
        <p:spPr>
          <a:xfrm>
            <a:off x="4211640" y="2492280"/>
            <a:ext cx="4390920" cy="501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"/>
          <p:cNvPicPr/>
          <p:nvPr/>
        </p:nvPicPr>
        <p:blipFill>
          <a:blip r:embed="rId5"/>
          <a:srcRect l="0" t="18737" r="0" b="0"/>
          <a:stretch/>
        </p:blipFill>
        <p:spPr>
          <a:xfrm>
            <a:off x="4067280" y="3068640"/>
            <a:ext cx="4752720" cy="22971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3"/>
          <p:cNvSpPr/>
          <p:nvPr/>
        </p:nvSpPr>
        <p:spPr>
          <a:xfrm>
            <a:off x="5364000" y="1268280"/>
            <a:ext cx="1656000" cy="792360"/>
          </a:xfrm>
          <a:prstGeom prst="rect">
            <a:avLst/>
          </a:prstGeom>
          <a:solidFill>
            <a:srgbClr val="ff99cc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决问题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释应用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78" name="Line 14"/>
          <p:cNvSpPr/>
          <p:nvPr/>
        </p:nvSpPr>
        <p:spPr>
          <a:xfrm>
            <a:off x="6184800" y="2176560"/>
            <a:ext cx="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3995640" y="2205000"/>
            <a:ext cx="0" cy="35290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5435640" y="4724280"/>
            <a:ext cx="3311640" cy="792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611280" y="4797360"/>
            <a:ext cx="3311280" cy="792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32400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法整理：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28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31"/>
          <p:cNvGrpSpPr/>
          <p:nvPr/>
        </p:nvGrpSpPr>
        <p:grpSpPr>
          <a:xfrm>
            <a:off x="266760" y="2003400"/>
            <a:ext cx="1425600" cy="576360"/>
            <a:chOff x="266760" y="2003400"/>
            <a:chExt cx="1425600" cy="576360"/>
          </a:xfrm>
        </p:grpSpPr>
        <p:sp>
          <p:nvSpPr>
            <p:cNvPr id="286" name="Rectangle 28"/>
            <p:cNvSpPr/>
            <p:nvPr/>
          </p:nvSpPr>
          <p:spPr>
            <a:xfrm>
              <a:off x="266760" y="2003400"/>
              <a:ext cx="142560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382320" y="2049480"/>
              <a:ext cx="11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现实问题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288" name="AutoShape 19"/>
          <p:cNvSpPr/>
          <p:nvPr/>
        </p:nvSpPr>
        <p:spPr>
          <a:xfrm>
            <a:off x="1778040" y="2708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289" name="Group 50"/>
          <p:cNvGrpSpPr/>
          <p:nvPr/>
        </p:nvGrpSpPr>
        <p:grpSpPr>
          <a:xfrm>
            <a:off x="264960" y="2581200"/>
            <a:ext cx="1427040" cy="1208160"/>
            <a:chOff x="264960" y="2581200"/>
            <a:chExt cx="1427040" cy="1208160"/>
          </a:xfrm>
        </p:grpSpPr>
        <p:sp>
          <p:nvSpPr>
            <p:cNvPr id="290" name="Rectangle 30"/>
            <p:cNvSpPr/>
            <p:nvPr/>
          </p:nvSpPr>
          <p:spPr>
            <a:xfrm>
              <a:off x="265680" y="2581200"/>
              <a:ext cx="1426320" cy="120816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291" name="Text Box 29"/>
            <p:cNvSpPr/>
            <p:nvPr/>
          </p:nvSpPr>
          <p:spPr>
            <a:xfrm>
              <a:off x="264960" y="2765880"/>
              <a:ext cx="137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怎样求圆柱形包装盒的体积？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292" name="Group 32"/>
          <p:cNvGrpSpPr/>
          <p:nvPr/>
        </p:nvGrpSpPr>
        <p:grpSpPr>
          <a:xfrm>
            <a:off x="2124000" y="2003400"/>
            <a:ext cx="1440000" cy="576360"/>
            <a:chOff x="2124000" y="2003400"/>
            <a:chExt cx="1440000" cy="576360"/>
          </a:xfrm>
        </p:grpSpPr>
        <p:sp>
          <p:nvSpPr>
            <p:cNvPr id="293" name="Rectangle 33"/>
            <p:cNvSpPr/>
            <p:nvPr/>
          </p:nvSpPr>
          <p:spPr>
            <a:xfrm>
              <a:off x="2124000" y="2003400"/>
              <a:ext cx="144000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294" name="Text Box 34"/>
            <p:cNvSpPr/>
            <p:nvPr/>
          </p:nvSpPr>
          <p:spPr>
            <a:xfrm>
              <a:off x="2240640" y="2049480"/>
              <a:ext cx="12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数学问题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295" name="Group 71"/>
          <p:cNvGrpSpPr/>
          <p:nvPr/>
        </p:nvGrpSpPr>
        <p:grpSpPr>
          <a:xfrm>
            <a:off x="3822840" y="1989000"/>
            <a:ext cx="3255480" cy="576360"/>
            <a:chOff x="3822840" y="1989000"/>
            <a:chExt cx="3255480" cy="576360"/>
          </a:xfrm>
        </p:grpSpPr>
        <p:sp>
          <p:nvSpPr>
            <p:cNvPr id="296" name="Rectangle 36"/>
            <p:cNvSpPr/>
            <p:nvPr/>
          </p:nvSpPr>
          <p:spPr>
            <a:xfrm>
              <a:off x="3922920" y="1989000"/>
              <a:ext cx="304992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297" name="Text Box 37"/>
            <p:cNvSpPr/>
            <p:nvPr/>
          </p:nvSpPr>
          <p:spPr>
            <a:xfrm>
              <a:off x="3822840" y="2035080"/>
              <a:ext cx="32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联想已有知识经验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298" name="Group 41"/>
          <p:cNvGrpSpPr/>
          <p:nvPr/>
        </p:nvGrpSpPr>
        <p:grpSpPr>
          <a:xfrm>
            <a:off x="900000" y="4076640"/>
            <a:ext cx="1944360" cy="576360"/>
            <a:chOff x="900000" y="4076640"/>
            <a:chExt cx="1944360" cy="576360"/>
          </a:xfrm>
        </p:grpSpPr>
        <p:sp>
          <p:nvSpPr>
            <p:cNvPr id="299" name="Rectangle 42"/>
            <p:cNvSpPr/>
            <p:nvPr/>
          </p:nvSpPr>
          <p:spPr>
            <a:xfrm>
              <a:off x="900000" y="4076640"/>
              <a:ext cx="194436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00" name="Text Box 43"/>
            <p:cNvSpPr/>
            <p:nvPr/>
          </p:nvSpPr>
          <p:spPr>
            <a:xfrm>
              <a:off x="1057680" y="4122720"/>
              <a:ext cx="16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归纳结论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301" name="Group 70"/>
          <p:cNvGrpSpPr/>
          <p:nvPr/>
        </p:nvGrpSpPr>
        <p:grpSpPr>
          <a:xfrm>
            <a:off x="3375000" y="4076640"/>
            <a:ext cx="2952720" cy="576360"/>
            <a:chOff x="3375000" y="4076640"/>
            <a:chExt cx="2952720" cy="576360"/>
          </a:xfrm>
        </p:grpSpPr>
        <p:sp>
          <p:nvSpPr>
            <p:cNvPr id="302" name="Rectangle 45"/>
            <p:cNvSpPr/>
            <p:nvPr/>
          </p:nvSpPr>
          <p:spPr>
            <a:xfrm>
              <a:off x="3441600" y="4076640"/>
              <a:ext cx="274284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3375000" y="412272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解决问题、解释应用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304" name="Group 47"/>
          <p:cNvGrpSpPr/>
          <p:nvPr/>
        </p:nvGrpSpPr>
        <p:grpSpPr>
          <a:xfrm>
            <a:off x="6748560" y="4135320"/>
            <a:ext cx="2160000" cy="576360"/>
            <a:chOff x="6748560" y="4135320"/>
            <a:chExt cx="2160000" cy="576360"/>
          </a:xfrm>
        </p:grpSpPr>
        <p:sp>
          <p:nvSpPr>
            <p:cNvPr id="305" name="Rectangle 48"/>
            <p:cNvSpPr/>
            <p:nvPr/>
          </p:nvSpPr>
          <p:spPr>
            <a:xfrm>
              <a:off x="6748560" y="4135320"/>
              <a:ext cx="2160000" cy="57636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06" name="Text Box 49"/>
            <p:cNvSpPr/>
            <p:nvPr/>
          </p:nvSpPr>
          <p:spPr>
            <a:xfrm>
              <a:off x="6923880" y="4181400"/>
              <a:ext cx="181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产生新问题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307" name="Group 51"/>
          <p:cNvGrpSpPr/>
          <p:nvPr/>
        </p:nvGrpSpPr>
        <p:grpSpPr>
          <a:xfrm>
            <a:off x="2124000" y="2579760"/>
            <a:ext cx="1439640" cy="1209600"/>
            <a:chOff x="2124000" y="2579760"/>
            <a:chExt cx="1439640" cy="1209600"/>
          </a:xfrm>
        </p:grpSpPr>
        <p:sp>
          <p:nvSpPr>
            <p:cNvPr id="308" name="Rectangle 52"/>
            <p:cNvSpPr/>
            <p:nvPr/>
          </p:nvSpPr>
          <p:spPr>
            <a:xfrm>
              <a:off x="2124720" y="2579760"/>
              <a:ext cx="1438920" cy="120960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09" name="Text Box 53"/>
            <p:cNvSpPr/>
            <p:nvPr/>
          </p:nvSpPr>
          <p:spPr>
            <a:xfrm>
              <a:off x="2124000" y="2763000"/>
              <a:ext cx="13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怎样求圆柱体的体积？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310" name="Group 72"/>
          <p:cNvGrpSpPr/>
          <p:nvPr/>
        </p:nvGrpSpPr>
        <p:grpSpPr>
          <a:xfrm>
            <a:off x="3851280" y="2541600"/>
            <a:ext cx="3312720" cy="1260360"/>
            <a:chOff x="3851280" y="2541600"/>
            <a:chExt cx="3312720" cy="1260360"/>
          </a:xfrm>
        </p:grpSpPr>
        <p:sp>
          <p:nvSpPr>
            <p:cNvPr id="311" name="Rectangle 55"/>
            <p:cNvSpPr/>
            <p:nvPr/>
          </p:nvSpPr>
          <p:spPr>
            <a:xfrm>
              <a:off x="3929040" y="2541600"/>
              <a:ext cx="3088800" cy="126036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12" name="Text Box 56"/>
            <p:cNvSpPr/>
            <p:nvPr/>
          </p:nvSpPr>
          <p:spPr>
            <a:xfrm>
              <a:off x="3851280" y="2622960"/>
              <a:ext cx="331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推导圆面积公式时，是把圆转化成近似的长方形，推导圆柱体体积计算公式时，可否把它转化成长方体来研究呢？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313" name="Group 60"/>
          <p:cNvGrpSpPr/>
          <p:nvPr/>
        </p:nvGrpSpPr>
        <p:grpSpPr>
          <a:xfrm>
            <a:off x="912960" y="4638600"/>
            <a:ext cx="1946160" cy="1166760"/>
            <a:chOff x="912960" y="4638600"/>
            <a:chExt cx="1946160" cy="1166760"/>
          </a:xfrm>
        </p:grpSpPr>
        <p:sp>
          <p:nvSpPr>
            <p:cNvPr id="314" name="Rectangle 61"/>
            <p:cNvSpPr/>
            <p:nvPr/>
          </p:nvSpPr>
          <p:spPr>
            <a:xfrm>
              <a:off x="914400" y="4638600"/>
              <a:ext cx="1944720" cy="116676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15" name="Text Box 62"/>
            <p:cNvSpPr/>
            <p:nvPr/>
          </p:nvSpPr>
          <p:spPr>
            <a:xfrm>
              <a:off x="912960" y="4815360"/>
              <a:ext cx="18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猜想、验证、总结体积公式：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V=Sh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316" name="Group 63"/>
          <p:cNvGrpSpPr/>
          <p:nvPr/>
        </p:nvGrpSpPr>
        <p:grpSpPr>
          <a:xfrm>
            <a:off x="3440160" y="4651200"/>
            <a:ext cx="2742480" cy="1225440"/>
            <a:chOff x="3440160" y="4651200"/>
            <a:chExt cx="2742480" cy="1225440"/>
          </a:xfrm>
        </p:grpSpPr>
        <p:sp>
          <p:nvSpPr>
            <p:cNvPr id="317" name="Rectangle 64"/>
            <p:cNvSpPr/>
            <p:nvPr/>
          </p:nvSpPr>
          <p:spPr>
            <a:xfrm>
              <a:off x="3441960" y="4651200"/>
              <a:ext cx="2740680" cy="122544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18" name="Text Box 65"/>
            <p:cNvSpPr/>
            <p:nvPr/>
          </p:nvSpPr>
          <p:spPr>
            <a:xfrm>
              <a:off x="3440160" y="4836960"/>
              <a:ext cx="26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运用公式求出圆柱体的体积，解决求冰淇淋包装盒的问题。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319" name="Group 66"/>
          <p:cNvGrpSpPr/>
          <p:nvPr/>
        </p:nvGrpSpPr>
        <p:grpSpPr>
          <a:xfrm>
            <a:off x="6748560" y="4724280"/>
            <a:ext cx="2160000" cy="1152720"/>
            <a:chOff x="6748560" y="4724280"/>
            <a:chExt cx="2160000" cy="1152720"/>
          </a:xfrm>
        </p:grpSpPr>
        <p:sp>
          <p:nvSpPr>
            <p:cNvPr id="320" name="Rectangle 67"/>
            <p:cNvSpPr/>
            <p:nvPr/>
          </p:nvSpPr>
          <p:spPr>
            <a:xfrm>
              <a:off x="6750000" y="4724280"/>
              <a:ext cx="2158560" cy="115272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21" name="Text Box 68"/>
            <p:cNvSpPr/>
            <p:nvPr/>
          </p:nvSpPr>
          <p:spPr>
            <a:xfrm>
              <a:off x="6748560" y="4898880"/>
              <a:ext cx="20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解决问题的过程中产生新问题。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322" name="AutoShape 75"/>
          <p:cNvSpPr/>
          <p:nvPr/>
        </p:nvSpPr>
        <p:spPr>
          <a:xfrm>
            <a:off x="3578400" y="2708280"/>
            <a:ext cx="345960" cy="144360"/>
          </a:xfrm>
          <a:prstGeom prst="rightArrow">
            <a:avLst>
              <a:gd name="adj1" fmla="val 50000"/>
              <a:gd name="adj2" fmla="val 59913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23" name="AutoShape 76"/>
          <p:cNvSpPr/>
          <p:nvPr/>
        </p:nvSpPr>
        <p:spPr>
          <a:xfrm>
            <a:off x="291636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24" name="AutoShape 77"/>
          <p:cNvSpPr/>
          <p:nvPr/>
        </p:nvSpPr>
        <p:spPr>
          <a:xfrm>
            <a:off x="7020000" y="278136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25" name="AutoShape 78"/>
          <p:cNvSpPr/>
          <p:nvPr/>
        </p:nvSpPr>
        <p:spPr>
          <a:xfrm>
            <a:off x="395280" y="479736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26" name="AutoShape 79"/>
          <p:cNvSpPr/>
          <p:nvPr/>
        </p:nvSpPr>
        <p:spPr>
          <a:xfrm>
            <a:off x="6300720" y="4941720"/>
            <a:ext cx="358920" cy="142920"/>
          </a:xfrm>
          <a:prstGeom prst="rightArrow">
            <a:avLst>
              <a:gd name="adj1" fmla="val 50000"/>
              <a:gd name="adj2" fmla="val 62783"/>
            </a:avLst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327" name="Group 73"/>
          <p:cNvGrpSpPr/>
          <p:nvPr/>
        </p:nvGrpSpPr>
        <p:grpSpPr>
          <a:xfrm>
            <a:off x="7351560" y="1959120"/>
            <a:ext cx="1523880" cy="576000"/>
            <a:chOff x="7351560" y="1959120"/>
            <a:chExt cx="1523880" cy="576000"/>
          </a:xfrm>
        </p:grpSpPr>
        <p:sp>
          <p:nvSpPr>
            <p:cNvPr id="328" name="Rectangle 39"/>
            <p:cNvSpPr/>
            <p:nvPr/>
          </p:nvSpPr>
          <p:spPr>
            <a:xfrm>
              <a:off x="7385040" y="1959120"/>
              <a:ext cx="1490400" cy="576000"/>
            </a:xfrm>
            <a:prstGeom prst="rect">
              <a:avLst/>
            </a:prstGeom>
            <a:solidFill>
              <a:srgbClr val="ff99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29" name="Text Box 40"/>
            <p:cNvSpPr/>
            <p:nvPr/>
          </p:nvSpPr>
          <p:spPr>
            <a:xfrm>
              <a:off x="7351560" y="2030040"/>
              <a:ext cx="145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寻找方法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330" name="Group 74"/>
          <p:cNvGrpSpPr/>
          <p:nvPr/>
        </p:nvGrpSpPr>
        <p:grpSpPr>
          <a:xfrm>
            <a:off x="7323120" y="2492280"/>
            <a:ext cx="1569600" cy="1367640"/>
            <a:chOff x="7323120" y="2492280"/>
            <a:chExt cx="1569600" cy="1367640"/>
          </a:xfrm>
        </p:grpSpPr>
        <p:sp>
          <p:nvSpPr>
            <p:cNvPr id="331" name="Rectangle 58"/>
            <p:cNvSpPr/>
            <p:nvPr/>
          </p:nvSpPr>
          <p:spPr>
            <a:xfrm>
              <a:off x="7389000" y="2533320"/>
              <a:ext cx="1503720" cy="1326600"/>
            </a:xfrm>
            <a:prstGeom prst="rect">
              <a:avLst/>
            </a:prstGeom>
            <a:solidFill>
              <a:srgbClr val="cc99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32" name="Text Box 59"/>
            <p:cNvSpPr/>
            <p:nvPr/>
          </p:nvSpPr>
          <p:spPr>
            <a:xfrm>
              <a:off x="7323120" y="2492280"/>
              <a:ext cx="1563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一分，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切一切，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拼一拼。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33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填表"/>
          <p:cNvPicPr/>
          <p:nvPr/>
        </p:nvPicPr>
        <p:blipFill>
          <a:blip r:embed="rId2"/>
          <a:stretch/>
        </p:blipFill>
        <p:spPr>
          <a:xfrm>
            <a:off x="324000" y="2133720"/>
            <a:ext cx="8458200" cy="31906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4643280" y="2924280"/>
            <a:ext cx="1224000" cy="50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614840" y="4135320"/>
            <a:ext cx="1224000" cy="50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5925960" y="2924280"/>
            <a:ext cx="1224000" cy="50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7308720" y="2924280"/>
            <a:ext cx="1224000" cy="50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7236000" y="4135320"/>
            <a:ext cx="1439640" cy="50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2556000" y="4149720"/>
            <a:ext cx="936360" cy="50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1547640" y="3544920"/>
            <a:ext cx="936720" cy="50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1547640" y="4724280"/>
            <a:ext cx="936720" cy="50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3578400" y="3559320"/>
            <a:ext cx="936360" cy="502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4643280" y="3559320"/>
            <a:ext cx="1152720" cy="502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4643280" y="4724280"/>
            <a:ext cx="1152720" cy="50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5940360" y="3559320"/>
            <a:ext cx="1152720" cy="502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7236000" y="4724280"/>
            <a:ext cx="1439640" cy="50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1547640" y="3589920"/>
            <a:ext cx="936720" cy="429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3dm</a:t>
            </a:r>
            <a:endParaRPr b="1" lang="en-US" sz="2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2556000" y="2996280"/>
            <a:ext cx="936360" cy="42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8cm</a:t>
            </a:r>
            <a:endParaRPr b="1" lang="en-US" sz="2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1547640" y="4769280"/>
            <a:ext cx="936720" cy="429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6m</a:t>
            </a:r>
            <a:endParaRPr b="1" lang="en-US" sz="2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3578400" y="3604320"/>
            <a:ext cx="936360" cy="429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0dm</a:t>
            </a:r>
            <a:endParaRPr b="1" lang="en-US" sz="2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4643280" y="2815920"/>
            <a:ext cx="1224000" cy="73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50.24cm</a:t>
            </a:r>
            <a:r>
              <a:rPr b="1" lang="en-US" sz="2100" spc="-1" strike="noStrike" baseline="30000">
                <a:solidFill>
                  <a:srgbClr val="cc0066"/>
                </a:solidFill>
                <a:latin typeface="楷体_GB2312"/>
                <a:ea typeface="楷体_GB2312"/>
              </a:rPr>
              <a:t>2</a:t>
            </a:r>
            <a:endParaRPr b="1" lang="en-US" sz="21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2556000" y="4180320"/>
            <a:ext cx="936360" cy="42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4m</a:t>
            </a:r>
            <a:endParaRPr b="1" lang="en-US" sz="2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55" name="Rectangle 25"/>
          <p:cNvSpPr/>
          <p:nvPr/>
        </p:nvSpPr>
        <p:spPr>
          <a:xfrm>
            <a:off x="4600440" y="3447720"/>
            <a:ext cx="1224000" cy="73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28.26dm</a:t>
            </a:r>
            <a:r>
              <a:rPr b="1" lang="en-US" sz="2100" spc="-1" strike="noStrike" baseline="30000">
                <a:solidFill>
                  <a:srgbClr val="cc0066"/>
                </a:solidFill>
                <a:latin typeface="楷体_GB2312"/>
                <a:ea typeface="楷体_GB2312"/>
              </a:rPr>
              <a:t>2</a:t>
            </a:r>
            <a:endParaRPr b="1" lang="en-US" sz="21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56" name="Rectangle 26"/>
          <p:cNvSpPr/>
          <p:nvPr/>
        </p:nvSpPr>
        <p:spPr>
          <a:xfrm>
            <a:off x="4643280" y="4060440"/>
            <a:ext cx="1224000" cy="73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2.56m</a:t>
            </a:r>
            <a:r>
              <a:rPr b="1" lang="en-US" sz="2100" spc="-1" strike="noStrike" baseline="30000">
                <a:solidFill>
                  <a:srgbClr val="cc0066"/>
                </a:solidFill>
                <a:latin typeface="楷体_GB2312"/>
                <a:ea typeface="楷体_GB2312"/>
              </a:rPr>
              <a:t>2</a:t>
            </a:r>
            <a:endParaRPr b="1" lang="en-US" sz="21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5940360" y="2881440"/>
            <a:ext cx="1224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226.08cm</a:t>
            </a:r>
            <a:r>
              <a:rPr b="1" lang="en-US" sz="1800" spc="-1" strike="noStrike" baseline="30000">
                <a:solidFill>
                  <a:srgbClr val="cc0066"/>
                </a:solidFill>
                <a:latin typeface="楷体_GB2312"/>
                <a:ea typeface="楷体_GB2312"/>
              </a:rPr>
              <a:t>2</a:t>
            </a:r>
            <a:endParaRPr b="1" lang="en-US" sz="18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5940360" y="3457800"/>
            <a:ext cx="12240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244.92dm</a:t>
            </a:r>
            <a:r>
              <a:rPr b="1" lang="en-US" sz="1800" spc="-1" strike="noStrike" baseline="30000">
                <a:solidFill>
                  <a:srgbClr val="cc0066"/>
                </a:solidFill>
                <a:latin typeface="楷体_GB2312"/>
                <a:ea typeface="楷体_GB2312"/>
              </a:rPr>
              <a:t>2</a:t>
            </a:r>
            <a:endParaRPr b="1" lang="en-US" sz="18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4643280" y="4636800"/>
            <a:ext cx="1224000" cy="73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13.04m</a:t>
            </a:r>
            <a:r>
              <a:rPr b="1" lang="en-US" sz="2100" spc="-1" strike="noStrike" baseline="30000">
                <a:solidFill>
                  <a:srgbClr val="cc0066"/>
                </a:solidFill>
                <a:latin typeface="楷体_GB2312"/>
                <a:ea typeface="楷体_GB2312"/>
              </a:rPr>
              <a:t>2</a:t>
            </a:r>
            <a:endParaRPr b="1" lang="en-US" sz="21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7308720" y="2836800"/>
            <a:ext cx="1224000" cy="73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251.2cm</a:t>
            </a:r>
            <a:r>
              <a:rPr b="1" lang="en-US" sz="2100" spc="-1" strike="noStrike" baseline="30000">
                <a:solidFill>
                  <a:srgbClr val="cc0066"/>
                </a:solidFill>
                <a:latin typeface="楷体_GB2312"/>
                <a:ea typeface="楷体_GB2312"/>
              </a:rPr>
              <a:t>3</a:t>
            </a:r>
            <a:endParaRPr b="1" lang="en-US" sz="21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7308720" y="3989160"/>
            <a:ext cx="1224000" cy="73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37.68m</a:t>
            </a:r>
            <a:r>
              <a:rPr b="1" lang="en-US" sz="2100" spc="-1" strike="noStrike" baseline="30000">
                <a:solidFill>
                  <a:srgbClr val="cc0066"/>
                </a:solidFill>
                <a:latin typeface="楷体_GB2312"/>
                <a:ea typeface="楷体_GB2312"/>
              </a:rPr>
              <a:t>3</a:t>
            </a:r>
            <a:endParaRPr b="1" lang="en-US" sz="21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62" name="Rectangle 32"/>
          <p:cNvSpPr/>
          <p:nvPr/>
        </p:nvSpPr>
        <p:spPr>
          <a:xfrm>
            <a:off x="7308720" y="4636800"/>
            <a:ext cx="1224000" cy="73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50.72m</a:t>
            </a:r>
            <a:r>
              <a:rPr b="1" lang="en-US" sz="2100" spc="-1" strike="noStrike" baseline="30000">
                <a:solidFill>
                  <a:srgbClr val="cc0066"/>
                </a:solidFill>
                <a:latin typeface="楷体_GB2312"/>
                <a:ea typeface="楷体_GB2312"/>
              </a:rPr>
              <a:t>3</a:t>
            </a:r>
            <a:endParaRPr b="1" lang="en-US" sz="21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539640" y="134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2556000" y="2924280"/>
            <a:ext cx="93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20"/>
          <p:cNvSpPr/>
          <p:nvPr/>
        </p:nvSpPr>
        <p:spPr>
          <a:xfrm>
            <a:off x="468360" y="1243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826920" y="1602000"/>
            <a:ext cx="46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柱形的水池，从里面量得底面直径是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深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 它的容积是多少立方米？它的四周和底面抹有水泥，至少用了多少千克水泥？（每平方米用水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。）</a:t>
            </a:r>
            <a:endParaRPr b="1" lang="en-US" sz="2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5003640" y="1990800"/>
            <a:ext cx="3672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5003640" y="2492280"/>
            <a:ext cx="3672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5046840" y="2867040"/>
            <a:ext cx="38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5048280" y="3270240"/>
            <a:ext cx="36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076720" y="3141720"/>
            <a:ext cx="36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295272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12720" y="3357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池的容积：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839880" y="3875040"/>
            <a:ext cx="36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÷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3.14×1.5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684360" y="4365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3.14×1.5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684360" y="486900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1.4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立方米）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324000" y="544500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水池的容积是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1.4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米。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356000" y="33861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泥的重量：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4356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÷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3.14+16×3.14×1.5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211640" y="4292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3.14+50.24×1.5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4211640" y="4797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276.3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平方米） 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4427640" y="59119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至少用了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763.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水泥。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427640" y="5408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76.32×10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763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千克）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755640" y="3502080"/>
            <a:ext cx="5832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395280" y="12682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521080" cy="19382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9"/>
          <p:cNvSpPr/>
          <p:nvPr/>
        </p:nvSpPr>
        <p:spPr>
          <a:xfrm>
            <a:off x="826920" y="2889360"/>
            <a:ext cx="597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26920" y="185616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根竹筒从里面量直径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长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把大米装至竹筒长的   处做米饭，如果每立方厘米大米约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，这根竹筒里的大米大约重多少克？（只列式不计算。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392" name="Group 9"/>
          <p:cNvGrpSpPr/>
          <p:nvPr/>
        </p:nvGrpSpPr>
        <p:grpSpPr>
          <a:xfrm>
            <a:off x="4932360" y="1628640"/>
            <a:ext cx="360360" cy="687960"/>
            <a:chOff x="4932360" y="1628640"/>
            <a:chExt cx="360360" cy="687960"/>
          </a:xfrm>
        </p:grpSpPr>
        <p:sp>
          <p:nvSpPr>
            <p:cNvPr id="393" name="Text Box 11"/>
            <p:cNvSpPr/>
            <p:nvPr/>
          </p:nvSpPr>
          <p:spPr>
            <a:xfrm>
              <a:off x="4933800" y="162864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1" lang="en-US" sz="20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94" name="Text Box 12"/>
            <p:cNvSpPr/>
            <p:nvPr/>
          </p:nvSpPr>
          <p:spPr>
            <a:xfrm>
              <a:off x="4935600" y="191772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1" lang="en-US" sz="20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395" name="Line 13"/>
            <p:cNvSpPr/>
            <p:nvPr/>
          </p:nvSpPr>
          <p:spPr>
            <a:xfrm>
              <a:off x="4932360" y="197640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396" name="Group 38"/>
          <p:cNvGrpSpPr/>
          <p:nvPr/>
        </p:nvGrpSpPr>
        <p:grpSpPr>
          <a:xfrm>
            <a:off x="826920" y="3860640"/>
            <a:ext cx="4465800" cy="687960"/>
            <a:chOff x="826920" y="3860640"/>
            <a:chExt cx="4465800" cy="687960"/>
          </a:xfrm>
        </p:grpSpPr>
        <p:sp>
          <p:nvSpPr>
            <p:cNvPr id="397" name="Text Box 3"/>
            <p:cNvSpPr/>
            <p:nvPr/>
          </p:nvSpPr>
          <p:spPr>
            <a:xfrm>
              <a:off x="826920" y="3956040"/>
              <a:ext cx="44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×3.14×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÷2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）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×10×   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398" name="Group 15"/>
            <p:cNvGrpSpPr/>
            <p:nvPr/>
          </p:nvGrpSpPr>
          <p:grpSpPr>
            <a:xfrm>
              <a:off x="4572000" y="3860640"/>
              <a:ext cx="429840" cy="687960"/>
              <a:chOff x="4572000" y="3860640"/>
              <a:chExt cx="429840" cy="687960"/>
            </a:xfrm>
          </p:grpSpPr>
          <p:sp>
            <p:nvSpPr>
              <p:cNvPr id="399" name="Text Box 22"/>
              <p:cNvSpPr/>
              <p:nvPr/>
            </p:nvSpPr>
            <p:spPr>
              <a:xfrm>
                <a:off x="4573440" y="38606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00" name="Text Box 23"/>
              <p:cNvSpPr/>
              <p:nvPr/>
            </p:nvSpPr>
            <p:spPr>
              <a:xfrm>
                <a:off x="4575600" y="4149720"/>
                <a:ext cx="40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5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01" name="Line 24"/>
              <p:cNvSpPr/>
              <p:nvPr/>
            </p:nvSpPr>
            <p:spPr>
              <a:xfrm>
                <a:off x="4572000" y="4208400"/>
                <a:ext cx="344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sp>
        <p:nvSpPr>
          <p:cNvPr id="402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4"/>
          <p:cNvSpPr/>
          <p:nvPr/>
        </p:nvSpPr>
        <p:spPr>
          <a:xfrm>
            <a:off x="539640" y="14684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庙大成殿前檐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石雕龙柱，高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直径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已知每立方米石料约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，这些柱子大约重多少吨？（只列式不计算。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41440" y="13874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406" name="Picture 18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1871640" cy="230508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611280" y="4149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8÷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3.14×6×10×2.7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36"/>
          <p:cNvGrpSpPr/>
          <p:nvPr/>
        </p:nvGrpSpPr>
        <p:grpSpPr>
          <a:xfrm>
            <a:off x="684360" y="1268280"/>
            <a:ext cx="3297240" cy="2808360"/>
            <a:chOff x="684360" y="1268280"/>
            <a:chExt cx="3297240" cy="2808360"/>
          </a:xfrm>
        </p:grpSpPr>
        <p:pic>
          <p:nvPicPr>
            <p:cNvPr id="410" name="Picture 3" descr=""/>
            <p:cNvPicPr/>
            <p:nvPr/>
          </p:nvPicPr>
          <p:blipFill>
            <a:blip r:embed="rId1"/>
            <a:stretch/>
          </p:blipFill>
          <p:spPr>
            <a:xfrm>
              <a:off x="684360" y="1268280"/>
              <a:ext cx="2803680" cy="280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1" name="Group 5"/>
            <p:cNvGrpSpPr/>
            <p:nvPr/>
          </p:nvGrpSpPr>
          <p:grpSpPr>
            <a:xfrm>
              <a:off x="2973600" y="1628280"/>
              <a:ext cx="1008000" cy="792000"/>
              <a:chOff x="2973600" y="1628280"/>
              <a:chExt cx="1008000" cy="792000"/>
            </a:xfrm>
          </p:grpSpPr>
          <p:sp>
            <p:nvSpPr>
              <p:cNvPr id="412" name="Line 11"/>
              <p:cNvSpPr/>
              <p:nvPr/>
            </p:nvSpPr>
            <p:spPr>
              <a:xfrm>
                <a:off x="3224880" y="1628640"/>
                <a:ext cx="378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13" name="Line 12"/>
              <p:cNvSpPr/>
              <p:nvPr/>
            </p:nvSpPr>
            <p:spPr>
              <a:xfrm>
                <a:off x="3414240" y="2243880"/>
                <a:ext cx="1080" cy="176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14" name="Line 13"/>
              <p:cNvSpPr/>
              <p:nvPr/>
            </p:nvSpPr>
            <p:spPr>
              <a:xfrm flipV="1">
                <a:off x="3414240" y="1628280"/>
                <a:ext cx="1080" cy="17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15" name="Text Box 14"/>
              <p:cNvSpPr/>
              <p:nvPr/>
            </p:nvSpPr>
            <p:spPr>
              <a:xfrm>
                <a:off x="2973600" y="1803240"/>
                <a:ext cx="100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2.1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米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16" name="Line 11"/>
              <p:cNvSpPr/>
              <p:nvPr/>
            </p:nvSpPr>
            <p:spPr>
              <a:xfrm>
                <a:off x="3224880" y="2420280"/>
                <a:ext cx="378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  <p:grpSp>
          <p:nvGrpSpPr>
            <p:cNvPr id="417" name="Group 11"/>
            <p:cNvGrpSpPr/>
            <p:nvPr/>
          </p:nvGrpSpPr>
          <p:grpSpPr>
            <a:xfrm>
              <a:off x="900000" y="3571920"/>
              <a:ext cx="2232360" cy="451080"/>
              <a:chOff x="900000" y="3571920"/>
              <a:chExt cx="2232360" cy="451080"/>
            </a:xfrm>
          </p:grpSpPr>
          <p:sp>
            <p:nvSpPr>
              <p:cNvPr id="418" name="Line 12"/>
              <p:cNvSpPr/>
              <p:nvPr/>
            </p:nvSpPr>
            <p:spPr>
              <a:xfrm flipH="1">
                <a:off x="900000" y="3778200"/>
                <a:ext cx="821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19" name="Line 13"/>
              <p:cNvSpPr/>
              <p:nvPr/>
            </p:nvSpPr>
            <p:spPr>
              <a:xfrm>
                <a:off x="2368440" y="3778200"/>
                <a:ext cx="763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20" name="Line 14"/>
              <p:cNvSpPr/>
              <p:nvPr/>
            </p:nvSpPr>
            <p:spPr>
              <a:xfrm>
                <a:off x="900360" y="3571920"/>
                <a:ext cx="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21" name="Line 15"/>
              <p:cNvSpPr/>
              <p:nvPr/>
            </p:nvSpPr>
            <p:spPr>
              <a:xfrm>
                <a:off x="3132360" y="3571920"/>
                <a:ext cx="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22" name="Text Box 14"/>
              <p:cNvSpPr/>
              <p:nvPr/>
            </p:nvSpPr>
            <p:spPr>
              <a:xfrm>
                <a:off x="1782000" y="3624120"/>
                <a:ext cx="76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米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  <p:grpSp>
          <p:nvGrpSpPr>
            <p:cNvPr id="423" name="Group 17"/>
            <p:cNvGrpSpPr/>
            <p:nvPr/>
          </p:nvGrpSpPr>
          <p:grpSpPr>
            <a:xfrm>
              <a:off x="3132360" y="2420280"/>
              <a:ext cx="792000" cy="1369080"/>
              <a:chOff x="3132360" y="2420280"/>
              <a:chExt cx="792000" cy="1369080"/>
            </a:xfrm>
          </p:grpSpPr>
          <p:sp>
            <p:nvSpPr>
              <p:cNvPr id="424" name="Line 11"/>
              <p:cNvSpPr/>
              <p:nvPr/>
            </p:nvSpPr>
            <p:spPr>
              <a:xfrm>
                <a:off x="3245760" y="2420640"/>
                <a:ext cx="339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25" name="Line 12"/>
              <p:cNvSpPr/>
              <p:nvPr/>
            </p:nvSpPr>
            <p:spPr>
              <a:xfrm>
                <a:off x="3415320" y="3353760"/>
                <a:ext cx="0" cy="435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26" name="Line 13"/>
              <p:cNvSpPr/>
              <p:nvPr/>
            </p:nvSpPr>
            <p:spPr>
              <a:xfrm flipV="1">
                <a:off x="3415320" y="2420280"/>
                <a:ext cx="0" cy="497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132360" y="29494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6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米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28" name="Line 11"/>
              <p:cNvSpPr/>
              <p:nvPr/>
            </p:nvSpPr>
            <p:spPr>
              <a:xfrm>
                <a:off x="3244320" y="3787920"/>
                <a:ext cx="339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pic>
        <p:nvPicPr>
          <p:cNvPr id="429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20"/>
          <p:cNvSpPr/>
          <p:nvPr/>
        </p:nvSpPr>
        <p:spPr>
          <a:xfrm>
            <a:off x="395280" y="119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32" name="Rectangle 23"/>
          <p:cNvSpPr/>
          <p:nvPr/>
        </p:nvSpPr>
        <p:spPr>
          <a:xfrm>
            <a:off x="3710160" y="14824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个粮仓的占地面积有多大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33" name="Rectangle 34"/>
          <p:cNvSpPr/>
          <p:nvPr/>
        </p:nvSpPr>
        <p:spPr>
          <a:xfrm>
            <a:off x="3909960" y="2027520"/>
            <a:ext cx="496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它的容积是多少立方米？  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墙壁的厚度忽略不计。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419640" y="3116160"/>
            <a:ext cx="58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÷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3.14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8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平方米）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3706920" y="3645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粮仓的占地面积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8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 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3881520" y="4897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471+54.95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3890880" y="535788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25.9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立方米）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3882960" y="599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它的容积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25.9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米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439" name="Group 42"/>
          <p:cNvGrpSpPr/>
          <p:nvPr/>
        </p:nvGrpSpPr>
        <p:grpSpPr>
          <a:xfrm>
            <a:off x="3419640" y="4149720"/>
            <a:ext cx="4608360" cy="762120"/>
            <a:chOff x="3419640" y="4149720"/>
            <a:chExt cx="4608360" cy="762120"/>
          </a:xfrm>
        </p:grpSpPr>
        <p:sp>
          <p:nvSpPr>
            <p:cNvPr id="440" name="Text Box 3"/>
            <p:cNvSpPr/>
            <p:nvPr/>
          </p:nvSpPr>
          <p:spPr>
            <a:xfrm>
              <a:off x="3419640" y="432432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8.5×6+78.5×2.1×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3"/>
            <a:stretch/>
          </p:blipFill>
          <p:spPr>
            <a:xfrm>
              <a:off x="7135920" y="4149720"/>
              <a:ext cx="28260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34"/>
          <p:cNvGrpSpPr/>
          <p:nvPr/>
        </p:nvGrpSpPr>
        <p:grpSpPr>
          <a:xfrm>
            <a:off x="2050920" y="2060640"/>
            <a:ext cx="1729080" cy="2155680"/>
            <a:chOff x="2050920" y="2060640"/>
            <a:chExt cx="1729080" cy="2155680"/>
          </a:xfrm>
        </p:grpSpPr>
        <p:sp>
          <p:nvSpPr>
            <p:cNvPr id="43" name="AutoShape 2"/>
            <p:cNvSpPr/>
            <p:nvPr/>
          </p:nvSpPr>
          <p:spPr>
            <a:xfrm>
              <a:off x="2064600" y="2060640"/>
              <a:ext cx="1715040" cy="2155680"/>
            </a:xfrm>
            <a:prstGeom prst="can">
              <a:avLst>
                <a:gd name="adj" fmla="val 25032"/>
              </a:avLst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44" name="Oval 166"/>
            <p:cNvSpPr/>
            <p:nvPr/>
          </p:nvSpPr>
          <p:spPr>
            <a:xfrm>
              <a:off x="2050920" y="3630600"/>
              <a:ext cx="1729080" cy="584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45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整体回顾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755640" y="5661000"/>
            <a:ext cx="693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单元的学习，你都学到了哪些知识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4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Freeform 22"/>
          <p:cNvSpPr/>
          <p:nvPr/>
        </p:nvSpPr>
        <p:spPr>
          <a:xfrm>
            <a:off x="4932360" y="2205000"/>
            <a:ext cx="1944720" cy="18716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1104" h="1344">
                <a:moveTo>
                  <a:pt x="576" y="0"/>
                </a:moveTo>
                <a:lnTo>
                  <a:pt x="0" y="1344"/>
                </a:lnTo>
                <a:lnTo>
                  <a:pt x="1104" y="1344"/>
                </a:lnTo>
                <a:lnTo>
                  <a:pt x="576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268360" y="443700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</a:t>
            </a:r>
            <a:endParaRPr b="1" lang="en-US" sz="28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550872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</a:t>
            </a:r>
            <a:endParaRPr b="1" lang="en-US" sz="28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51" name="Group 56"/>
          <p:cNvGrpSpPr/>
          <p:nvPr/>
        </p:nvGrpSpPr>
        <p:grpSpPr>
          <a:xfrm>
            <a:off x="4932360" y="2205000"/>
            <a:ext cx="2232000" cy="2232000"/>
            <a:chOff x="4932360" y="2205000"/>
            <a:chExt cx="2232000" cy="2232000"/>
          </a:xfrm>
        </p:grpSpPr>
        <p:grpSp>
          <p:nvGrpSpPr>
            <p:cNvPr id="52" name="Group 55"/>
            <p:cNvGrpSpPr/>
            <p:nvPr/>
          </p:nvGrpSpPr>
          <p:grpSpPr>
            <a:xfrm>
              <a:off x="4942080" y="2205000"/>
              <a:ext cx="1973160" cy="2123640"/>
              <a:chOff x="4942080" y="2205000"/>
              <a:chExt cx="1973160" cy="2123640"/>
            </a:xfrm>
          </p:grpSpPr>
          <p:grpSp>
            <p:nvGrpSpPr>
              <p:cNvPr id="53" name="Group 48"/>
              <p:cNvGrpSpPr/>
              <p:nvPr/>
            </p:nvGrpSpPr>
            <p:grpSpPr>
              <a:xfrm>
                <a:off x="4942080" y="2205000"/>
                <a:ext cx="1973160" cy="1904400"/>
                <a:chOff x="4942080" y="2205000"/>
                <a:chExt cx="1973160" cy="1904400"/>
              </a:xfrm>
            </p:grpSpPr>
            <p:sp>
              <p:nvSpPr>
                <p:cNvPr id="54" name="Line 7"/>
                <p:cNvSpPr/>
                <p:nvPr/>
              </p:nvSpPr>
              <p:spPr>
                <a:xfrm flipH="1">
                  <a:off x="4942080" y="2205000"/>
                  <a:ext cx="994320" cy="189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ccff"/>
                    </a:solidFill>
                    <a:latin typeface="黑体"/>
                  </a:endParaRPr>
                </a:p>
              </p:txBody>
            </p:sp>
            <p:sp>
              <p:nvSpPr>
                <p:cNvPr id="55" name="Line 8"/>
                <p:cNvSpPr/>
                <p:nvPr/>
              </p:nvSpPr>
              <p:spPr>
                <a:xfrm>
                  <a:off x="5929920" y="2224800"/>
                  <a:ext cx="985320" cy="1884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ccff"/>
                    </a:solidFill>
                    <a:latin typeface="黑体"/>
                  </a:endParaRPr>
                </a:p>
              </p:txBody>
            </p:sp>
          </p:grpSp>
          <p:sp>
            <p:nvSpPr>
              <p:cNvPr id="56" name="Oval 9"/>
              <p:cNvSpPr/>
              <p:nvPr/>
            </p:nvSpPr>
            <p:spPr>
              <a:xfrm>
                <a:off x="4958280" y="3877200"/>
                <a:ext cx="1935720" cy="45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33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  <p:pic>
          <p:nvPicPr>
            <p:cNvPr id="57" name="Picture 53" descr=""/>
            <p:cNvPicPr/>
            <p:nvPr/>
          </p:nvPicPr>
          <p:blipFill>
            <a:blip r:embed="rId2"/>
            <a:stretch/>
          </p:blipFill>
          <p:spPr>
            <a:xfrm>
              <a:off x="4932360" y="4079520"/>
              <a:ext cx="2232000" cy="35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AutoShape 23"/>
          <p:cNvSpPr/>
          <p:nvPr/>
        </p:nvSpPr>
        <p:spPr>
          <a:xfrm>
            <a:off x="4975200" y="3890880"/>
            <a:ext cx="1944720" cy="430200"/>
          </a:xfrm>
          <a:prstGeom prst="flowChartConnector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59" name="Picture 24" descr=""/>
          <p:cNvPicPr/>
          <p:nvPr/>
        </p:nvPicPr>
        <p:blipFill>
          <a:blip r:embed="rId3"/>
          <a:srcRect l="6078" t="6469" r="6959" b="0"/>
          <a:stretch/>
        </p:blipFill>
        <p:spPr>
          <a:xfrm>
            <a:off x="611280" y="1413000"/>
            <a:ext cx="8137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3"/>
          <p:cNvSpPr/>
          <p:nvPr/>
        </p:nvSpPr>
        <p:spPr>
          <a:xfrm>
            <a:off x="3132000" y="5300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9.5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44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20"/>
          <p:cNvSpPr/>
          <p:nvPr/>
        </p:nvSpPr>
        <p:spPr>
          <a:xfrm>
            <a:off x="468360" y="12398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45" name="Rectangle 12"/>
          <p:cNvSpPr/>
          <p:nvPr/>
        </p:nvSpPr>
        <p:spPr>
          <a:xfrm>
            <a:off x="826920" y="1631160"/>
            <a:ext cx="727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老师做一件冰雕作品，要将两个棱长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正方体冰块分别雕成最大的圆柱和圆锥。它们的体积各是多少立方分米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971640" y="1989000"/>
            <a:ext cx="7272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492360" y="234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柱的体积： 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3492360" y="285444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÷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3.14×60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3365640" y="3333600"/>
            <a:ext cx="32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90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3.14×60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363840" y="37656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695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立方厘米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3492360" y="4292640"/>
            <a:ext cx="50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956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厘米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69.5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分米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3276720" y="4797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锥的体积：  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454" name="Group 24"/>
          <p:cNvGrpSpPr/>
          <p:nvPr/>
        </p:nvGrpSpPr>
        <p:grpSpPr>
          <a:xfrm>
            <a:off x="4643280" y="5229360"/>
            <a:ext cx="461880" cy="687960"/>
            <a:chOff x="4643280" y="5229360"/>
            <a:chExt cx="461880" cy="687960"/>
          </a:xfrm>
        </p:grpSpPr>
        <p:sp>
          <p:nvSpPr>
            <p:cNvPr id="455" name="Text Box 46"/>
            <p:cNvSpPr/>
            <p:nvPr/>
          </p:nvSpPr>
          <p:spPr>
            <a:xfrm>
              <a:off x="4645080" y="5229360"/>
              <a:ext cx="46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1" lang="en-US" sz="20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456" name="Text Box 47"/>
            <p:cNvSpPr/>
            <p:nvPr/>
          </p:nvSpPr>
          <p:spPr>
            <a:xfrm>
              <a:off x="4647240" y="55184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1" lang="en-US" sz="20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457" name="Line 48"/>
            <p:cNvSpPr/>
            <p:nvPr/>
          </p:nvSpPr>
          <p:spPr>
            <a:xfrm>
              <a:off x="4643280" y="5577120"/>
              <a:ext cx="37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458" name="Text Box 3"/>
          <p:cNvSpPr/>
          <p:nvPr/>
        </p:nvSpPr>
        <p:spPr>
          <a:xfrm>
            <a:off x="5003640" y="5300640"/>
            <a:ext cx="51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.5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立方分米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2778120" y="5751000"/>
            <a:ext cx="59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圆柱和圆锥的体积分别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9.5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分米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.5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分米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460" name="Group 80"/>
          <p:cNvGrpSpPr/>
          <p:nvPr/>
        </p:nvGrpSpPr>
        <p:grpSpPr>
          <a:xfrm>
            <a:off x="755640" y="2540160"/>
            <a:ext cx="2664000" cy="1936800"/>
            <a:chOff x="755640" y="2540160"/>
            <a:chExt cx="2664000" cy="1936800"/>
          </a:xfrm>
        </p:grpSpPr>
        <p:sp>
          <p:nvSpPr>
            <p:cNvPr id="461" name="Oval 79"/>
            <p:cNvSpPr/>
            <p:nvPr/>
          </p:nvSpPr>
          <p:spPr>
            <a:xfrm>
              <a:off x="1028520" y="3673800"/>
              <a:ext cx="1095480" cy="43308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462" name="Group 15"/>
            <p:cNvGrpSpPr/>
            <p:nvPr/>
          </p:nvGrpSpPr>
          <p:grpSpPr>
            <a:xfrm>
              <a:off x="2195640" y="2565360"/>
              <a:ext cx="1224000" cy="1150920"/>
              <a:chOff x="2195640" y="2565360"/>
              <a:chExt cx="1224000" cy="1150920"/>
            </a:xfrm>
          </p:grpSpPr>
          <p:sp>
            <p:nvSpPr>
              <p:cNvPr id="463" name="Line 11"/>
              <p:cNvSpPr/>
              <p:nvPr/>
            </p:nvSpPr>
            <p:spPr>
              <a:xfrm>
                <a:off x="2413080" y="2565720"/>
                <a:ext cx="52380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64" name="Line 12"/>
              <p:cNvSpPr/>
              <p:nvPr/>
            </p:nvSpPr>
            <p:spPr>
              <a:xfrm>
                <a:off x="2629080" y="3349800"/>
                <a:ext cx="0" cy="366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65" name="Line 13"/>
              <p:cNvSpPr/>
              <p:nvPr/>
            </p:nvSpPr>
            <p:spPr>
              <a:xfrm flipV="1">
                <a:off x="2629080" y="2565360"/>
                <a:ext cx="0" cy="41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2195640" y="294912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6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厘米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67" name="Line 11"/>
              <p:cNvSpPr/>
              <p:nvPr/>
            </p:nvSpPr>
            <p:spPr>
              <a:xfrm>
                <a:off x="2411640" y="3714840"/>
                <a:ext cx="52380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  <p:grpSp>
          <p:nvGrpSpPr>
            <p:cNvPr id="468" name="Group 51"/>
            <p:cNvGrpSpPr/>
            <p:nvPr/>
          </p:nvGrpSpPr>
          <p:grpSpPr>
            <a:xfrm>
              <a:off x="755640" y="2540160"/>
              <a:ext cx="1641240" cy="1564560"/>
              <a:chOff x="755640" y="2540160"/>
              <a:chExt cx="1641240" cy="1564560"/>
            </a:xfrm>
          </p:grpSpPr>
          <p:sp>
            <p:nvSpPr>
              <p:cNvPr id="469" name="AutoShape 52"/>
              <p:cNvSpPr/>
              <p:nvPr/>
            </p:nvSpPr>
            <p:spPr>
              <a:xfrm>
                <a:off x="1011600" y="2540160"/>
                <a:ext cx="1130400" cy="1555200"/>
              </a:xfrm>
              <a:prstGeom prst="can">
                <a:avLst>
                  <a:gd name="adj" fmla="val 25000"/>
                </a:avLst>
              </a:prstGeom>
              <a:solidFill>
                <a:srgbClr val="008000">
                  <a:alpha val="9000"/>
                </a:srgbClr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70" name="AutoShape 53"/>
              <p:cNvSpPr/>
              <p:nvPr/>
            </p:nvSpPr>
            <p:spPr>
              <a:xfrm>
                <a:off x="755640" y="2550600"/>
                <a:ext cx="1631520" cy="154476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71" name="Line 54"/>
              <p:cNvSpPr/>
              <p:nvPr/>
            </p:nvSpPr>
            <p:spPr>
              <a:xfrm>
                <a:off x="1191960" y="3674520"/>
                <a:ext cx="12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72" name="Line 55"/>
              <p:cNvSpPr/>
              <p:nvPr/>
            </p:nvSpPr>
            <p:spPr>
              <a:xfrm>
                <a:off x="1161000" y="2550600"/>
                <a:ext cx="42480" cy="110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73" name="Line 56"/>
              <p:cNvSpPr/>
              <p:nvPr/>
            </p:nvSpPr>
            <p:spPr>
              <a:xfrm flipV="1">
                <a:off x="755640" y="3652920"/>
                <a:ext cx="458280" cy="45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  <p:grpSp>
          <p:nvGrpSpPr>
            <p:cNvPr id="474" name="Group 66"/>
            <p:cNvGrpSpPr/>
            <p:nvPr/>
          </p:nvGrpSpPr>
          <p:grpSpPr>
            <a:xfrm>
              <a:off x="755640" y="4077000"/>
              <a:ext cx="1225080" cy="399960"/>
              <a:chOff x="755640" y="4077000"/>
              <a:chExt cx="1225080" cy="399960"/>
            </a:xfrm>
          </p:grpSpPr>
          <p:sp>
            <p:nvSpPr>
              <p:cNvPr id="475" name="Text Box 14"/>
              <p:cNvSpPr/>
              <p:nvPr/>
            </p:nvSpPr>
            <p:spPr>
              <a:xfrm>
                <a:off x="755640" y="4078080"/>
                <a:ext cx="122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6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厘米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76" name="Line 11"/>
              <p:cNvSpPr/>
              <p:nvPr/>
            </p:nvSpPr>
            <p:spPr>
              <a:xfrm flipH="1">
                <a:off x="767880" y="4120920"/>
                <a:ext cx="1800" cy="28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 flipH="1">
                <a:off x="1978560" y="4077000"/>
                <a:ext cx="1800" cy="28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78" name="Line 64"/>
              <p:cNvSpPr/>
              <p:nvPr/>
            </p:nvSpPr>
            <p:spPr>
              <a:xfrm flipH="1">
                <a:off x="755640" y="4293360"/>
                <a:ext cx="21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79" name="Line 65"/>
              <p:cNvSpPr/>
              <p:nvPr/>
            </p:nvSpPr>
            <p:spPr>
              <a:xfrm>
                <a:off x="1764720" y="4264920"/>
                <a:ext cx="21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grpSp>
        <p:nvGrpSpPr>
          <p:cNvPr id="480" name="Group 82"/>
          <p:cNvGrpSpPr/>
          <p:nvPr/>
        </p:nvGrpSpPr>
        <p:grpSpPr>
          <a:xfrm>
            <a:off x="609480" y="4437000"/>
            <a:ext cx="1946160" cy="2055600"/>
            <a:chOff x="609480" y="4437000"/>
            <a:chExt cx="1946160" cy="2055600"/>
          </a:xfrm>
        </p:grpSpPr>
        <p:pic>
          <p:nvPicPr>
            <p:cNvPr id="481" name="Picture 74" descr=""/>
            <p:cNvPicPr/>
            <p:nvPr/>
          </p:nvPicPr>
          <p:blipFill>
            <a:blip r:embed="rId2"/>
            <a:stretch/>
          </p:blipFill>
          <p:spPr>
            <a:xfrm>
              <a:off x="809640" y="4437000"/>
              <a:ext cx="17460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AutoShape 75"/>
            <p:cNvSpPr/>
            <p:nvPr/>
          </p:nvSpPr>
          <p:spPr>
            <a:xfrm>
              <a:off x="653760" y="4468680"/>
              <a:ext cx="1733760" cy="15969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483" name="Line 76"/>
            <p:cNvSpPr/>
            <p:nvPr/>
          </p:nvSpPr>
          <p:spPr>
            <a:xfrm>
              <a:off x="1087200" y="5678280"/>
              <a:ext cx="1270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484" name="Line 77"/>
            <p:cNvSpPr/>
            <p:nvPr/>
          </p:nvSpPr>
          <p:spPr>
            <a:xfrm>
              <a:off x="1047600" y="4524480"/>
              <a:ext cx="46080" cy="11793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485" name="Line 78"/>
            <p:cNvSpPr/>
            <p:nvPr/>
          </p:nvSpPr>
          <p:spPr>
            <a:xfrm flipV="1">
              <a:off x="609480" y="5677920"/>
              <a:ext cx="476280" cy="389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486" name="Group 67"/>
            <p:cNvGrpSpPr/>
            <p:nvPr/>
          </p:nvGrpSpPr>
          <p:grpSpPr>
            <a:xfrm>
              <a:off x="609480" y="6092640"/>
              <a:ext cx="1298160" cy="399960"/>
              <a:chOff x="609480" y="6092640"/>
              <a:chExt cx="1298160" cy="399960"/>
            </a:xfrm>
          </p:grpSpPr>
          <p:sp>
            <p:nvSpPr>
              <p:cNvPr id="487" name="Text Box 14"/>
              <p:cNvSpPr/>
              <p:nvPr/>
            </p:nvSpPr>
            <p:spPr>
              <a:xfrm>
                <a:off x="609480" y="6093720"/>
                <a:ext cx="129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6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厘米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88" name="Line 11"/>
              <p:cNvSpPr/>
              <p:nvPr/>
            </p:nvSpPr>
            <p:spPr>
              <a:xfrm flipH="1">
                <a:off x="622440" y="6136560"/>
                <a:ext cx="1800" cy="28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89" name="Line 11"/>
              <p:cNvSpPr/>
              <p:nvPr/>
            </p:nvSpPr>
            <p:spPr>
              <a:xfrm flipH="1">
                <a:off x="1905480" y="6092640"/>
                <a:ext cx="1800" cy="28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90" name="Line 71"/>
              <p:cNvSpPr/>
              <p:nvPr/>
            </p:nvSpPr>
            <p:spPr>
              <a:xfrm flipH="1">
                <a:off x="609480" y="6309360"/>
                <a:ext cx="228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491" name="Line 72"/>
              <p:cNvSpPr/>
              <p:nvPr/>
            </p:nvSpPr>
            <p:spPr>
              <a:xfrm>
                <a:off x="1678680" y="6280560"/>
                <a:ext cx="228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  <p:sp>
          <p:nvSpPr>
            <p:cNvPr id="492" name="Oval 81"/>
            <p:cNvSpPr/>
            <p:nvPr/>
          </p:nvSpPr>
          <p:spPr>
            <a:xfrm>
              <a:off x="942840" y="5675400"/>
              <a:ext cx="1224000" cy="38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493" name="Group 13"/>
          <p:cNvGrpSpPr/>
          <p:nvPr/>
        </p:nvGrpSpPr>
        <p:grpSpPr>
          <a:xfrm>
            <a:off x="2124000" y="4508640"/>
            <a:ext cx="1225440" cy="1153440"/>
            <a:chOff x="2124000" y="4508640"/>
            <a:chExt cx="1225440" cy="1153440"/>
          </a:xfrm>
        </p:grpSpPr>
        <p:sp>
          <p:nvSpPr>
            <p:cNvPr id="494" name="Line 11"/>
            <p:cNvSpPr/>
            <p:nvPr/>
          </p:nvSpPr>
          <p:spPr>
            <a:xfrm>
              <a:off x="2341440" y="4508640"/>
              <a:ext cx="524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>
              <a:off x="2557800" y="5294520"/>
              <a:ext cx="0" cy="367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 flipV="1">
              <a:off x="2557800" y="4508640"/>
              <a:ext cx="0" cy="418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2124000" y="4893120"/>
              <a:ext cx="12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6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厘米</a:t>
              </a:r>
              <a:endParaRPr b="1" lang="en-US" sz="20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498" name="Line 11"/>
            <p:cNvSpPr/>
            <p:nvPr/>
          </p:nvSpPr>
          <p:spPr>
            <a:xfrm>
              <a:off x="2340000" y="5660640"/>
              <a:ext cx="524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500" name="Group 3"/>
          <p:cNvGrpSpPr/>
          <p:nvPr/>
        </p:nvGrpSpPr>
        <p:grpSpPr>
          <a:xfrm>
            <a:off x="6415200" y="1213920"/>
            <a:ext cx="1742040" cy="2322360"/>
            <a:chOff x="6415200" y="1213920"/>
            <a:chExt cx="1742040" cy="2322360"/>
          </a:xfrm>
        </p:grpSpPr>
        <p:sp>
          <p:nvSpPr>
            <p:cNvPr id="501" name="AutoShape 4"/>
            <p:cNvSpPr/>
            <p:nvPr/>
          </p:nvSpPr>
          <p:spPr>
            <a:xfrm rot="100800">
              <a:off x="6887880" y="1426680"/>
              <a:ext cx="1104120" cy="2093760"/>
            </a:xfrm>
            <a:prstGeom prst="flowChartMagneticDisk">
              <a:avLst/>
            </a:prstGeom>
            <a:solidFill>
              <a:srgbClr val="d69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grpSp>
          <p:nvGrpSpPr>
            <p:cNvPr id="502" name="Group 5"/>
            <p:cNvGrpSpPr/>
            <p:nvPr/>
          </p:nvGrpSpPr>
          <p:grpSpPr>
            <a:xfrm>
              <a:off x="6415200" y="1213920"/>
              <a:ext cx="1742040" cy="2078640"/>
              <a:chOff x="6415200" y="1213920"/>
              <a:chExt cx="1742040" cy="2078640"/>
            </a:xfrm>
          </p:grpSpPr>
          <p:sp>
            <p:nvSpPr>
              <p:cNvPr id="503" name="Line 6"/>
              <p:cNvSpPr/>
              <p:nvPr/>
            </p:nvSpPr>
            <p:spPr>
              <a:xfrm flipV="1">
                <a:off x="7057440" y="1697760"/>
                <a:ext cx="99036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504" name="Text Box 7"/>
              <p:cNvSpPr/>
              <p:nvPr/>
            </p:nvSpPr>
            <p:spPr>
              <a:xfrm rot="21312600">
                <a:off x="7191720" y="1252440"/>
                <a:ext cx="95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0cm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505" name="Line 8"/>
              <p:cNvSpPr/>
              <p:nvPr/>
            </p:nvSpPr>
            <p:spPr>
              <a:xfrm flipH="1" flipV="1">
                <a:off x="6449760" y="3287160"/>
                <a:ext cx="3988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506" name="Line 9"/>
              <p:cNvSpPr/>
              <p:nvPr/>
            </p:nvSpPr>
            <p:spPr>
              <a:xfrm flipH="1">
                <a:off x="6460560" y="1711440"/>
                <a:ext cx="461880" cy="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507" name="Line 10"/>
              <p:cNvSpPr/>
              <p:nvPr/>
            </p:nvSpPr>
            <p:spPr>
              <a:xfrm flipH="1" flipV="1">
                <a:off x="6632640" y="2611080"/>
                <a:ext cx="360" cy="64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508" name="Line 11"/>
              <p:cNvSpPr/>
              <p:nvPr/>
            </p:nvSpPr>
            <p:spPr>
              <a:xfrm>
                <a:off x="6631560" y="1674720"/>
                <a:ext cx="16200" cy="64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509" name="Text Box 12"/>
              <p:cNvSpPr/>
              <p:nvPr/>
            </p:nvSpPr>
            <p:spPr>
              <a:xfrm rot="16376400">
                <a:off x="6282360" y="2111040"/>
                <a:ext cx="69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m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</p:grpSp>
      <p:sp>
        <p:nvSpPr>
          <p:cNvPr id="510" name="Rectangle 13"/>
          <p:cNvSpPr/>
          <p:nvPr/>
        </p:nvSpPr>
        <p:spPr>
          <a:xfrm>
            <a:off x="770040" y="14817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圆柱和圆锥的知识，联系实际，展开想象的翅膀，看看你能提出什么问题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列出算式吗？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12" name="Text Box 20"/>
          <p:cNvSpPr/>
          <p:nvPr/>
        </p:nvSpPr>
        <p:spPr>
          <a:xfrm>
            <a:off x="468360" y="1341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611280" y="2780640"/>
            <a:ext cx="554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圆柱的表面积是多少平方厘米？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611280" y="3933000"/>
            <a:ext cx="554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圆柱的体积是多少立方厘米？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684360" y="5169240"/>
            <a:ext cx="845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如果把它削成一个最大圆锥体，圆锥体的体积是多少立方厘米？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16" name="Rectangle 25"/>
          <p:cNvSpPr/>
          <p:nvPr/>
        </p:nvSpPr>
        <p:spPr>
          <a:xfrm>
            <a:off x="1403280" y="45957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×200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17" name="Rectangle 26"/>
          <p:cNvSpPr/>
          <p:nvPr/>
        </p:nvSpPr>
        <p:spPr>
          <a:xfrm>
            <a:off x="1403280" y="3429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30×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2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518" name="Group 28"/>
          <p:cNvGrpSpPr/>
          <p:nvPr/>
        </p:nvGrpSpPr>
        <p:grpSpPr>
          <a:xfrm>
            <a:off x="2411280" y="5516640"/>
            <a:ext cx="5068800" cy="687960"/>
            <a:chOff x="2411280" y="5516640"/>
            <a:chExt cx="5068800" cy="687960"/>
          </a:xfrm>
        </p:grpSpPr>
        <p:grpSp>
          <p:nvGrpSpPr>
            <p:cNvPr id="519" name="Group 24"/>
            <p:cNvGrpSpPr/>
            <p:nvPr/>
          </p:nvGrpSpPr>
          <p:grpSpPr>
            <a:xfrm>
              <a:off x="2411280" y="5516640"/>
              <a:ext cx="461520" cy="687960"/>
              <a:chOff x="2411280" y="5516640"/>
              <a:chExt cx="461520" cy="687960"/>
            </a:xfrm>
          </p:grpSpPr>
          <p:sp>
            <p:nvSpPr>
              <p:cNvPr id="520" name="Text Box 46"/>
              <p:cNvSpPr/>
              <p:nvPr/>
            </p:nvSpPr>
            <p:spPr>
              <a:xfrm>
                <a:off x="2413080" y="5516640"/>
                <a:ext cx="45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521" name="Text Box 47"/>
              <p:cNvSpPr/>
              <p:nvPr/>
            </p:nvSpPr>
            <p:spPr>
              <a:xfrm>
                <a:off x="2415240" y="5805720"/>
                <a:ext cx="43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522" name="Line 48"/>
              <p:cNvSpPr/>
              <p:nvPr/>
            </p:nvSpPr>
            <p:spPr>
              <a:xfrm>
                <a:off x="2411280" y="5864400"/>
                <a:ext cx="3700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  <p:sp>
          <p:nvSpPr>
            <p:cNvPr id="523" name="Rectangle 27"/>
            <p:cNvSpPr/>
            <p:nvPr/>
          </p:nvSpPr>
          <p:spPr>
            <a:xfrm>
              <a:off x="2871720" y="561816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3.14×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0÷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）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200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整体回顾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11280" y="1341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单元你学会了哪些知识和方法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6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3421080" y="4149720"/>
            <a:ext cx="3095640" cy="2736360"/>
            <a:chOff x="3421080" y="4149720"/>
            <a:chExt cx="3095640" cy="2736360"/>
          </a:xfrm>
        </p:grpSpPr>
        <p:sp>
          <p:nvSpPr>
            <p:cNvPr id="64" name="未知"/>
            <p:cNvSpPr/>
            <p:nvPr/>
          </p:nvSpPr>
          <p:spPr>
            <a:xfrm>
              <a:off x="4860720" y="4725000"/>
              <a:ext cx="1656000" cy="216108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2161080"/>
                <a:gd name="textAreaBottom" fmla="*/ 2161440 h 2161080"/>
              </a:gdLst>
              <a:ahLst/>
              <a:rect l="textAreaLeft" t="textAreaTop" r="textAreaRight" b="textAreaBottom"/>
              <a:pathLst>
                <a:path w="922" h="1497">
                  <a:moveTo>
                    <a:pt x="922" y="0"/>
                  </a:moveTo>
                  <a:cubicBezTo>
                    <a:pt x="612" y="34"/>
                    <a:pt x="302" y="69"/>
                    <a:pt x="151" y="318"/>
                  </a:cubicBezTo>
                  <a:cubicBezTo>
                    <a:pt x="0" y="567"/>
                    <a:pt x="38" y="1301"/>
                    <a:pt x="15" y="1497"/>
                  </a:cubicBezTo>
                </a:path>
              </a:pathLst>
            </a:cu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3494520" y="5085360"/>
              <a:ext cx="504720" cy="177480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861" h="1497">
                  <a:moveTo>
                    <a:pt x="0" y="0"/>
                  </a:moveTo>
                  <a:cubicBezTo>
                    <a:pt x="246" y="79"/>
                    <a:pt x="492" y="159"/>
                    <a:pt x="635" y="408"/>
                  </a:cubicBezTo>
                  <a:cubicBezTo>
                    <a:pt x="778" y="657"/>
                    <a:pt x="823" y="1316"/>
                    <a:pt x="861" y="1497"/>
                  </a:cubicBezTo>
                </a:path>
              </a:pathLst>
            </a:cu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3421080" y="4149720"/>
              <a:ext cx="2519640" cy="1174680"/>
            </a:xfrm>
            <a:custGeom>
              <a:avLst/>
              <a:gdLst>
                <a:gd name="textAreaLeft" fmla="*/ 0 w 2519640"/>
                <a:gd name="textAreaRight" fmla="*/ 2519640 w 2519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1406" h="363">
                  <a:moveTo>
                    <a:pt x="0" y="0"/>
                  </a:moveTo>
                  <a:cubicBezTo>
                    <a:pt x="192" y="60"/>
                    <a:pt x="385" y="121"/>
                    <a:pt x="498" y="181"/>
                  </a:cubicBezTo>
                  <a:cubicBezTo>
                    <a:pt x="611" y="241"/>
                    <a:pt x="620" y="363"/>
                    <a:pt x="680" y="363"/>
                  </a:cubicBezTo>
                  <a:cubicBezTo>
                    <a:pt x="740" y="363"/>
                    <a:pt x="740" y="241"/>
                    <a:pt x="861" y="181"/>
                  </a:cubicBezTo>
                  <a:cubicBezTo>
                    <a:pt x="982" y="121"/>
                    <a:pt x="1315" y="30"/>
                    <a:pt x="1406" y="0"/>
                  </a:cubicBezTo>
                </a:path>
              </a:pathLst>
            </a:cu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67" name="Cloud"/>
          <p:cNvSpPr/>
          <p:nvPr/>
        </p:nvSpPr>
        <p:spPr>
          <a:xfrm>
            <a:off x="5508720" y="3645000"/>
            <a:ext cx="2448000" cy="1204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  锥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6372360" y="2852640"/>
            <a:ext cx="142920" cy="86364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69" name="Group 12"/>
          <p:cNvGrpSpPr/>
          <p:nvPr/>
        </p:nvGrpSpPr>
        <p:grpSpPr>
          <a:xfrm>
            <a:off x="7308720" y="2060640"/>
            <a:ext cx="1511280" cy="1009080"/>
            <a:chOff x="7308720" y="2060640"/>
            <a:chExt cx="1511280" cy="1009080"/>
          </a:xfrm>
        </p:grpSpPr>
        <p:sp>
          <p:nvSpPr>
            <p:cNvPr id="70" name="Cloud"/>
            <p:cNvSpPr/>
            <p:nvPr/>
          </p:nvSpPr>
          <p:spPr>
            <a:xfrm>
              <a:off x="7308720" y="2060640"/>
              <a:ext cx="1511280" cy="1009080"/>
            </a:xfrm>
            <a:custGeom>
              <a:avLst/>
              <a:gdLst>
                <a:gd name="textAreaLeft" fmla="*/ 208440 w 1511280"/>
                <a:gd name="textAreaRight" fmla="*/ 1195920 w 1511280"/>
                <a:gd name="textAreaTop" fmla="*/ 152280 h 1009080"/>
                <a:gd name="textAreaBottom" fmla="*/ 810720 h 100908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7440120" y="2276640"/>
              <a:ext cx="111600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楷体_GB2312"/>
                </a:rPr>
                <a:t>圆锥体积的计算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72" name="Group 15"/>
          <p:cNvGrpSpPr/>
          <p:nvPr/>
        </p:nvGrpSpPr>
        <p:grpSpPr>
          <a:xfrm>
            <a:off x="5724360" y="2060640"/>
            <a:ext cx="1152720" cy="936720"/>
            <a:chOff x="5724360" y="2060640"/>
            <a:chExt cx="1152720" cy="936720"/>
          </a:xfrm>
        </p:grpSpPr>
        <p:sp>
          <p:nvSpPr>
            <p:cNvPr id="73" name="Cloud"/>
            <p:cNvSpPr/>
            <p:nvPr/>
          </p:nvSpPr>
          <p:spPr>
            <a:xfrm>
              <a:off x="5724360" y="2060640"/>
              <a:ext cx="1152720" cy="936720"/>
            </a:xfrm>
            <a:custGeom>
              <a:avLst/>
              <a:gdLst>
                <a:gd name="textAreaLeft" fmla="*/ 158400 w 1152720"/>
                <a:gd name="textAreaRight" fmla="*/ 911880 w 1152720"/>
                <a:gd name="textAreaTop" fmla="*/ 141480 h 936720"/>
                <a:gd name="textAreaBottom" fmla="*/ 752040 h 93672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867640" y="2202840"/>
              <a:ext cx="9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楷体_GB2312"/>
                </a:rPr>
                <a:t>圆锥的认识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75" name="Group 18"/>
          <p:cNvGrpSpPr/>
          <p:nvPr/>
        </p:nvGrpSpPr>
        <p:grpSpPr>
          <a:xfrm>
            <a:off x="3637080" y="1844640"/>
            <a:ext cx="1296720" cy="863640"/>
            <a:chOff x="3637080" y="1844640"/>
            <a:chExt cx="1296720" cy="863640"/>
          </a:xfrm>
        </p:grpSpPr>
        <p:sp>
          <p:nvSpPr>
            <p:cNvPr id="76" name="Cloud"/>
            <p:cNvSpPr/>
            <p:nvPr/>
          </p:nvSpPr>
          <p:spPr>
            <a:xfrm>
              <a:off x="3637080" y="1844640"/>
              <a:ext cx="1296720" cy="863640"/>
            </a:xfrm>
            <a:custGeom>
              <a:avLst/>
              <a:gdLst>
                <a:gd name="textAreaLeft" fmla="*/ 178200 w 1296720"/>
                <a:gd name="textAreaRight" fmla="*/ 1025640 w 1296720"/>
                <a:gd name="textAreaTop" fmla="*/ 129960 h 863640"/>
                <a:gd name="textAreaBottom" fmla="*/ 693720 h 8636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77" name="Text Box 20"/>
            <p:cNvSpPr/>
            <p:nvPr/>
          </p:nvSpPr>
          <p:spPr>
            <a:xfrm>
              <a:off x="3781080" y="2060280"/>
              <a:ext cx="100764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楷体_GB2312"/>
                </a:rPr>
                <a:t>底面积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78" name="Group 21"/>
          <p:cNvGrpSpPr/>
          <p:nvPr/>
        </p:nvGrpSpPr>
        <p:grpSpPr>
          <a:xfrm>
            <a:off x="755640" y="5445000"/>
            <a:ext cx="1800360" cy="865440"/>
            <a:chOff x="755640" y="5445000"/>
            <a:chExt cx="1800360" cy="865440"/>
          </a:xfrm>
        </p:grpSpPr>
        <p:sp>
          <p:nvSpPr>
            <p:cNvPr id="79" name="Cloud"/>
            <p:cNvSpPr/>
            <p:nvPr/>
          </p:nvSpPr>
          <p:spPr>
            <a:xfrm>
              <a:off x="755640" y="5445000"/>
              <a:ext cx="1800360" cy="865440"/>
            </a:xfrm>
            <a:custGeom>
              <a:avLst/>
              <a:gdLst>
                <a:gd name="textAreaLeft" fmla="*/ 248040 w 1800360"/>
                <a:gd name="textAreaRight" fmla="*/ 1424520 w 1800360"/>
                <a:gd name="textAreaTop" fmla="*/ 130680 h 865440"/>
                <a:gd name="textAreaBottom" fmla="*/ 694800 h 8654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80" name="Text Box 23"/>
            <p:cNvSpPr/>
            <p:nvPr/>
          </p:nvSpPr>
          <p:spPr>
            <a:xfrm>
              <a:off x="999360" y="5517360"/>
              <a:ext cx="124668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楷体_GB2312"/>
                </a:rPr>
                <a:t>圆柱各部分的名称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81" name="Group 24"/>
          <p:cNvGrpSpPr/>
          <p:nvPr/>
        </p:nvGrpSpPr>
        <p:grpSpPr>
          <a:xfrm>
            <a:off x="1403280" y="1916280"/>
            <a:ext cx="1873440" cy="1006200"/>
            <a:chOff x="1403280" y="1916280"/>
            <a:chExt cx="1873440" cy="1006200"/>
          </a:xfrm>
        </p:grpSpPr>
        <p:sp>
          <p:nvSpPr>
            <p:cNvPr id="82" name="Cloud"/>
            <p:cNvSpPr/>
            <p:nvPr/>
          </p:nvSpPr>
          <p:spPr>
            <a:xfrm>
              <a:off x="1403280" y="1916280"/>
              <a:ext cx="1873440" cy="1006200"/>
            </a:xfrm>
            <a:custGeom>
              <a:avLst/>
              <a:gdLst>
                <a:gd name="textAreaLeft" fmla="*/ 257760 w 1873440"/>
                <a:gd name="textAreaRight" fmla="*/ 1482120 w 1873440"/>
                <a:gd name="textAreaTop" fmla="*/ 152280 h 1006200"/>
                <a:gd name="textAreaBottom" fmla="*/ 807840 h 10062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83" name="Text Box 26"/>
            <p:cNvSpPr/>
            <p:nvPr/>
          </p:nvSpPr>
          <p:spPr>
            <a:xfrm>
              <a:off x="1619280" y="2131920"/>
              <a:ext cx="15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楷体_GB2312"/>
                </a:rPr>
                <a:t>圆柱的表面积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84" name="Group 27"/>
          <p:cNvGrpSpPr/>
          <p:nvPr/>
        </p:nvGrpSpPr>
        <p:grpSpPr>
          <a:xfrm>
            <a:off x="3696840" y="2672280"/>
            <a:ext cx="2037960" cy="1368720"/>
            <a:chOff x="3696840" y="2672280"/>
            <a:chExt cx="2037960" cy="1368720"/>
          </a:xfrm>
        </p:grpSpPr>
        <p:sp>
          <p:nvSpPr>
            <p:cNvPr id="85" name="Cloud"/>
            <p:cNvSpPr/>
            <p:nvPr/>
          </p:nvSpPr>
          <p:spPr>
            <a:xfrm rot="706200">
              <a:off x="3779640" y="2852280"/>
              <a:ext cx="1871640" cy="1008000"/>
            </a:xfrm>
            <a:custGeom>
              <a:avLst/>
              <a:gdLst>
                <a:gd name="textAreaLeft" fmla="*/ 257760 w 1871640"/>
                <a:gd name="textAreaRight" fmla="*/ 1480680 w 1871640"/>
                <a:gd name="textAreaTop" fmla="*/ 152280 h 1008000"/>
                <a:gd name="textAreaBottom" fmla="*/ 809280 h 10080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 rot="706200">
              <a:off x="3996000" y="3140280"/>
              <a:ext cx="148428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楷体_GB2312"/>
                </a:rPr>
                <a:t>圆柱的体积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0" y="2781360"/>
            <a:ext cx="1871640" cy="1006560"/>
            <a:chOff x="0" y="2781360"/>
            <a:chExt cx="1871640" cy="1006560"/>
          </a:xfrm>
        </p:grpSpPr>
        <p:sp>
          <p:nvSpPr>
            <p:cNvPr id="88" name="Cloud"/>
            <p:cNvSpPr/>
            <p:nvPr/>
          </p:nvSpPr>
          <p:spPr>
            <a:xfrm>
              <a:off x="0" y="2781360"/>
              <a:ext cx="1871640" cy="1006560"/>
            </a:xfrm>
            <a:custGeom>
              <a:avLst/>
              <a:gdLst>
                <a:gd name="textAreaLeft" fmla="*/ 257760 w 1871640"/>
                <a:gd name="textAreaRight" fmla="*/ 1480320 w 1871640"/>
                <a:gd name="textAreaTop" fmla="*/ 152280 h 1006560"/>
                <a:gd name="textAreaBottom" fmla="*/ 807840 h 10065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89" name="Text Box 32"/>
            <p:cNvSpPr/>
            <p:nvPr/>
          </p:nvSpPr>
          <p:spPr>
            <a:xfrm>
              <a:off x="216360" y="2996280"/>
              <a:ext cx="158436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楷体_GB2312"/>
                </a:rPr>
                <a:t>圆柱的侧面积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90" name="Group 33"/>
          <p:cNvGrpSpPr/>
          <p:nvPr/>
        </p:nvGrpSpPr>
        <p:grpSpPr>
          <a:xfrm>
            <a:off x="-281160" y="3776040"/>
            <a:ext cx="2267280" cy="1679400"/>
            <a:chOff x="-281160" y="3776040"/>
            <a:chExt cx="2267280" cy="1679400"/>
          </a:xfrm>
        </p:grpSpPr>
        <p:sp>
          <p:nvSpPr>
            <p:cNvPr id="91" name="Cloud"/>
            <p:cNvSpPr/>
            <p:nvPr/>
          </p:nvSpPr>
          <p:spPr>
            <a:xfrm rot="1411200">
              <a:off x="-181080" y="4149720"/>
              <a:ext cx="2067120" cy="932040"/>
            </a:xfrm>
            <a:custGeom>
              <a:avLst/>
              <a:gdLst>
                <a:gd name="textAreaLeft" fmla="*/ 284400 w 2067120"/>
                <a:gd name="textAreaRight" fmla="*/ 1635120 w 2067120"/>
                <a:gd name="textAreaTop" fmla="*/ 140760 h 932040"/>
                <a:gd name="textAreaBottom" fmla="*/ 748080 h 9320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92" name="Text Box 35"/>
            <p:cNvSpPr/>
            <p:nvPr/>
          </p:nvSpPr>
          <p:spPr>
            <a:xfrm rot="1411200">
              <a:off x="71640" y="4300200"/>
              <a:ext cx="1605960" cy="36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楷体_GB2312"/>
                </a:rPr>
                <a:t>圆柱的特征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93" name="Line 36"/>
          <p:cNvSpPr/>
          <p:nvPr/>
        </p:nvSpPr>
        <p:spPr>
          <a:xfrm flipH="1">
            <a:off x="2123640" y="5084640"/>
            <a:ext cx="505080" cy="36036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4" name="Line 37"/>
          <p:cNvSpPr/>
          <p:nvPr/>
        </p:nvSpPr>
        <p:spPr>
          <a:xfrm flipV="1">
            <a:off x="1692360" y="4579560"/>
            <a:ext cx="576000" cy="7308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5" name="Line 38"/>
          <p:cNvSpPr/>
          <p:nvPr/>
        </p:nvSpPr>
        <p:spPr>
          <a:xfrm>
            <a:off x="2629080" y="2854440"/>
            <a:ext cx="69840" cy="129528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6" name="Line 39"/>
          <p:cNvSpPr/>
          <p:nvPr/>
        </p:nvSpPr>
        <p:spPr>
          <a:xfrm flipH="1">
            <a:off x="899640" y="2494080"/>
            <a:ext cx="576360" cy="36036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7" name="Line 40"/>
          <p:cNvSpPr/>
          <p:nvPr/>
        </p:nvSpPr>
        <p:spPr>
          <a:xfrm flipH="1">
            <a:off x="3276360" y="2276640"/>
            <a:ext cx="360360" cy="144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8" name="Line 41"/>
          <p:cNvSpPr/>
          <p:nvPr/>
        </p:nvSpPr>
        <p:spPr>
          <a:xfrm flipH="1">
            <a:off x="3779640" y="3718080"/>
            <a:ext cx="577800" cy="35856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9" name="Line 42"/>
          <p:cNvSpPr/>
          <p:nvPr/>
        </p:nvSpPr>
        <p:spPr>
          <a:xfrm flipH="1">
            <a:off x="6876720" y="3070080"/>
            <a:ext cx="1152360" cy="57492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0" name="Cloud"/>
          <p:cNvSpPr/>
          <p:nvPr/>
        </p:nvSpPr>
        <p:spPr>
          <a:xfrm>
            <a:off x="2239920" y="4005360"/>
            <a:ext cx="2232000" cy="11952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 柱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7"/>
          <p:cNvSpPr/>
          <p:nvPr/>
        </p:nvSpPr>
        <p:spPr>
          <a:xfrm>
            <a:off x="1908000" y="321300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和圆锥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0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0"/>
          <p:cNvSpPr/>
          <p:nvPr/>
        </p:nvSpPr>
        <p:spPr>
          <a:xfrm>
            <a:off x="4356000" y="30675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侧面积、表面积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4356000" y="22755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和圆锥的特征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4284720" y="41090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和圆锥的体积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6" name="左大括号 15"/>
          <p:cNvSpPr/>
          <p:nvPr/>
        </p:nvSpPr>
        <p:spPr>
          <a:xfrm>
            <a:off x="3884760" y="2565360"/>
            <a:ext cx="288720" cy="1727280"/>
          </a:xfrm>
          <a:custGeom>
            <a:avLst/>
            <a:gdLst>
              <a:gd name="textAreaLeft" fmla="*/ 184680 w 288720"/>
              <a:gd name="textAreaRight" fmla="*/ 289080 w 288720"/>
              <a:gd name="textAreaTop" fmla="*/ 8280 h 1727280"/>
              <a:gd name="textAreaBottom" fmla="*/ 171900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4"/>
                </a:cubicBezTo>
                <a:lnTo>
                  <a:pt x="10800" y="10456"/>
                </a:lnTo>
                <a:cubicBezTo>
                  <a:pt x="10800" y="10628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4"/>
                </a:cubicBezTo>
                <a:lnTo>
                  <a:pt x="10800" y="21256"/>
                </a:lnTo>
                <a:cubicBezTo>
                  <a:pt x="10800" y="2142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716360" y="364500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侧</a:t>
            </a:r>
            <a:r>
              <a:rPr b="1" i="1" lang="zh-CN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 Ch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859280" y="4653000"/>
            <a:ext cx="16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柱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 Sh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516720" y="3645000"/>
            <a:ext cx="28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表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 S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底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2+S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侧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6588000" y="4581360"/>
            <a:ext cx="1800360" cy="687960"/>
            <a:chOff x="6588000" y="4581360"/>
            <a:chExt cx="1800360" cy="687960"/>
          </a:xfrm>
        </p:grpSpPr>
        <p:grpSp>
          <p:nvGrpSpPr>
            <p:cNvPr id="111" name="Group 18"/>
            <p:cNvGrpSpPr/>
            <p:nvPr/>
          </p:nvGrpSpPr>
          <p:grpSpPr>
            <a:xfrm>
              <a:off x="7378560" y="4581360"/>
              <a:ext cx="360360" cy="687960"/>
              <a:chOff x="7378560" y="4581360"/>
              <a:chExt cx="360360" cy="687960"/>
            </a:xfrm>
          </p:grpSpPr>
          <p:sp>
            <p:nvSpPr>
              <p:cNvPr id="112" name="Text Box 19"/>
              <p:cNvSpPr/>
              <p:nvPr/>
            </p:nvSpPr>
            <p:spPr>
              <a:xfrm>
                <a:off x="7380000" y="458136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13" name="Text Box 20"/>
              <p:cNvSpPr/>
              <p:nvPr/>
            </p:nvSpPr>
            <p:spPr>
              <a:xfrm>
                <a:off x="7381800" y="487044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  <p:sp>
            <p:nvSpPr>
              <p:cNvPr id="114" name="Line 21"/>
              <p:cNvSpPr/>
              <p:nvPr/>
            </p:nvSpPr>
            <p:spPr>
              <a:xfrm>
                <a:off x="7378560" y="4929120"/>
                <a:ext cx="2890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ccff"/>
                  </a:solidFill>
                  <a:latin typeface="黑体"/>
                </a:endParaRPr>
              </a:p>
            </p:txBody>
          </p:sp>
        </p:grpSp>
        <p:sp>
          <p:nvSpPr>
            <p:cNvPr id="115" name="Text Box 14"/>
            <p:cNvSpPr/>
            <p:nvPr/>
          </p:nvSpPr>
          <p:spPr>
            <a:xfrm>
              <a:off x="6588000" y="4652640"/>
              <a:ext cx="180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V</a:t>
              </a:r>
              <a:r>
                <a:rPr b="1" lang="zh-CN" sz="2400" spc="-1" strike="noStrike" baseline="-25000">
                  <a:solidFill>
                    <a:srgbClr val="ff0000"/>
                  </a:solidFill>
                  <a:latin typeface="Times New Roman"/>
                  <a:ea typeface="楷体_GB2312"/>
                </a:rPr>
                <a:t>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  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Sh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116" name="Rectangle 13"/>
          <p:cNvSpPr/>
          <p:nvPr/>
        </p:nvSpPr>
        <p:spPr>
          <a:xfrm>
            <a:off x="468360" y="1413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把学会的知识及方法整理一下吗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539640" y="2421000"/>
            <a:ext cx="1079640" cy="520560"/>
          </a:xfrm>
          <a:prstGeom prst="rect">
            <a:avLst/>
          </a:prstGeom>
          <a:solidFill>
            <a:srgbClr val="ff66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</a:t>
            </a:r>
            <a:endParaRPr b="1" lang="en-US" sz="28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11280" y="5445000"/>
            <a:ext cx="1079280" cy="520560"/>
          </a:xfrm>
          <a:prstGeom prst="rect">
            <a:avLst/>
          </a:prstGeom>
          <a:solidFill>
            <a:srgbClr val="ff66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endParaRPr b="1" lang="en-US" sz="28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1835280" y="54928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转化、实验等方法探究圆柱、圆锥的体积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2" descr=""/>
          <p:cNvPicPr/>
          <p:nvPr/>
        </p:nvPicPr>
        <p:blipFill>
          <a:blip r:embed="rId2"/>
          <a:stretch/>
        </p:blipFill>
        <p:spPr>
          <a:xfrm>
            <a:off x="3333600" y="4365720"/>
            <a:ext cx="2594160" cy="1400040"/>
          </a:xfrm>
          <a:prstGeom prst="rect">
            <a:avLst/>
          </a:prstGeom>
          <a:ln w="0">
            <a:noFill/>
          </a:ln>
        </p:spPr>
      </p:pic>
      <p:sp>
        <p:nvSpPr>
          <p:cNvPr id="123" name="Oval 31"/>
          <p:cNvSpPr/>
          <p:nvPr/>
        </p:nvSpPr>
        <p:spPr>
          <a:xfrm>
            <a:off x="3462480" y="1773360"/>
            <a:ext cx="2346120" cy="12398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448080" y="2365200"/>
            <a:ext cx="1440" cy="270216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796000" y="2351160"/>
            <a:ext cx="14400" cy="27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419640" y="2351160"/>
            <a:ext cx="2403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419640" y="5016600"/>
            <a:ext cx="2403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4641840" y="2351160"/>
            <a:ext cx="1440" cy="270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29" name="Oval 15"/>
          <p:cNvSpPr/>
          <p:nvPr/>
        </p:nvSpPr>
        <p:spPr>
          <a:xfrm flipV="1">
            <a:off x="4600440" y="227664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4600440" y="4984920"/>
            <a:ext cx="73080" cy="7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1" name="Line 19"/>
          <p:cNvSpPr/>
          <p:nvPr/>
        </p:nvSpPr>
        <p:spPr>
          <a:xfrm flipV="1">
            <a:off x="6156360" y="2351160"/>
            <a:ext cx="1440" cy="1022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6156360" y="4008600"/>
            <a:ext cx="1440" cy="1022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284720" y="19162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底面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4572000" y="444024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底面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5932440" y="3392640"/>
            <a:ext cx="65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3506760" y="340200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侧面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5794200" y="2351160"/>
            <a:ext cx="5828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8" name="Line 34"/>
          <p:cNvSpPr/>
          <p:nvPr/>
        </p:nvSpPr>
        <p:spPr>
          <a:xfrm>
            <a:off x="5794200" y="5014800"/>
            <a:ext cx="5828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395280" y="134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特征：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1" name="Oval 31"/>
          <p:cNvSpPr/>
          <p:nvPr/>
        </p:nvSpPr>
        <p:spPr>
          <a:xfrm>
            <a:off x="3468600" y="1773360"/>
            <a:ext cx="2346480" cy="1239840"/>
          </a:xfrm>
          <a:prstGeom prst="ellipse">
            <a:avLst/>
          </a:prstGeom>
          <a:noFill/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449280" y="6091200"/>
            <a:ext cx="436680" cy="639720"/>
            <a:chOff x="449280" y="6091200"/>
            <a:chExt cx="436680" cy="639720"/>
          </a:xfrm>
        </p:grpSpPr>
        <p:pic>
          <p:nvPicPr>
            <p:cNvPr id="143" name="Picture 34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9280"/>
              <a:ext cx="4366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35"/>
            <p:cNvSpPr/>
            <p:nvPr/>
          </p:nvSpPr>
          <p:spPr>
            <a:xfrm>
              <a:off x="492120" y="60912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1" lang="en-US" sz="1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2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2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4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5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6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7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208 L 0.00156 0.39006 E">
                                      <p:cBhvr>
                                        <p:cTn id="25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38449 L 0.00087 -0.00347 E">
                                      <p:cBhvr>
                                        <p:cTn id="25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"/>
          <p:cNvPicPr/>
          <p:nvPr/>
        </p:nvPicPr>
        <p:blipFill>
          <a:blip r:embed="rId2"/>
          <a:stretch/>
        </p:blipFill>
        <p:spPr>
          <a:xfrm>
            <a:off x="2916360" y="4241880"/>
            <a:ext cx="2628720" cy="1419120"/>
          </a:xfrm>
          <a:prstGeom prst="rect">
            <a:avLst/>
          </a:prstGeom>
          <a:ln w="0">
            <a:noFill/>
          </a:ln>
        </p:spPr>
      </p:pic>
      <p:sp>
        <p:nvSpPr>
          <p:cNvPr id="147" name="Line 5"/>
          <p:cNvSpPr/>
          <p:nvPr/>
        </p:nvSpPr>
        <p:spPr>
          <a:xfrm flipV="1">
            <a:off x="3060720" y="2296800"/>
            <a:ext cx="1152360" cy="259236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8" name="Line 8"/>
          <p:cNvSpPr/>
          <p:nvPr/>
        </p:nvSpPr>
        <p:spPr>
          <a:xfrm flipH="1" flipV="1">
            <a:off x="4213080" y="2296800"/>
            <a:ext cx="1224000" cy="259236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437080" y="488952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4213080" y="229716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5581800" y="3954600"/>
            <a:ext cx="0" cy="93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2" name="Line 13"/>
          <p:cNvSpPr/>
          <p:nvPr/>
        </p:nvSpPr>
        <p:spPr>
          <a:xfrm flipV="1">
            <a:off x="5581800" y="22971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5292720" y="33051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4140360" y="48387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底面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533760" y="35416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侧面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3781440" y="18288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顶点</a:t>
            </a:r>
            <a:endParaRPr b="1" lang="en-US" sz="20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3059280" y="48895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8" name="Oval 21"/>
          <p:cNvSpPr/>
          <p:nvPr/>
        </p:nvSpPr>
        <p:spPr>
          <a:xfrm>
            <a:off x="4183200" y="486108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59" name="Line 24"/>
          <p:cNvSpPr/>
          <p:nvPr/>
        </p:nvSpPr>
        <p:spPr>
          <a:xfrm>
            <a:off x="4211640" y="2297160"/>
            <a:ext cx="0" cy="2593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395280" y="134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的特征：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61" name="Group 26"/>
          <p:cNvGrpSpPr/>
          <p:nvPr/>
        </p:nvGrpSpPr>
        <p:grpSpPr>
          <a:xfrm>
            <a:off x="449280" y="6091200"/>
            <a:ext cx="436680" cy="639720"/>
            <a:chOff x="449280" y="6091200"/>
            <a:chExt cx="436680" cy="639720"/>
          </a:xfrm>
        </p:grpSpPr>
        <p:pic>
          <p:nvPicPr>
            <p:cNvPr id="162" name="Picture 34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9280"/>
              <a:ext cx="4366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35"/>
            <p:cNvSpPr/>
            <p:nvPr/>
          </p:nvSpPr>
          <p:spPr>
            <a:xfrm>
              <a:off x="492120" y="60912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1" lang="en-US" sz="1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164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剪刀2 拷贝"/>
          <p:cNvPicPr/>
          <p:nvPr/>
        </p:nvPicPr>
        <p:blipFill>
          <a:blip r:embed="rId1"/>
          <a:stretch/>
        </p:blipFill>
        <p:spPr>
          <a:xfrm rot="17416800">
            <a:off x="1654920" y="3707280"/>
            <a:ext cx="792000" cy="57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620720" y="522936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侧面积＝底面周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199040" y="1185840"/>
            <a:ext cx="3733560" cy="4114800"/>
            <a:chOff x="4199040" y="1185840"/>
            <a:chExt cx="3733560" cy="4114800"/>
          </a:xfrm>
        </p:grpSpPr>
        <p:sp>
          <p:nvSpPr>
            <p:cNvPr id="168" name="Rectangle 5"/>
            <p:cNvSpPr/>
            <p:nvPr/>
          </p:nvSpPr>
          <p:spPr>
            <a:xfrm>
              <a:off x="4199040" y="2557440"/>
              <a:ext cx="3733560" cy="1371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5418000" y="1185840"/>
              <a:ext cx="13712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170" name="Oval 7"/>
            <p:cNvSpPr/>
            <p:nvPr/>
          </p:nvSpPr>
          <p:spPr>
            <a:xfrm>
              <a:off x="5493960" y="3929040"/>
              <a:ext cx="13712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1" lang="en-US" sz="1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171" name="AutoShape 8"/>
          <p:cNvSpPr/>
          <p:nvPr/>
        </p:nvSpPr>
        <p:spPr>
          <a:xfrm>
            <a:off x="770040" y="2481120"/>
            <a:ext cx="1218960" cy="144792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2598840" y="3243240"/>
            <a:ext cx="96516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8008920" y="26337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8209440" y="3054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</a:t>
            </a:r>
            <a:endParaRPr b="1" lang="en-US" sz="18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75" name="Group 12"/>
          <p:cNvGrpSpPr/>
          <p:nvPr/>
        </p:nvGrpSpPr>
        <p:grpSpPr>
          <a:xfrm>
            <a:off x="4198680" y="3243240"/>
            <a:ext cx="3733560" cy="0"/>
            <a:chOff x="4198680" y="3243240"/>
            <a:chExt cx="3733560" cy="0"/>
          </a:xfrm>
        </p:grpSpPr>
        <p:sp>
          <p:nvSpPr>
            <p:cNvPr id="176" name="Line 13"/>
            <p:cNvSpPr/>
            <p:nvPr/>
          </p:nvSpPr>
          <p:spPr>
            <a:xfrm>
              <a:off x="6941880" y="324324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 flipH="1">
              <a:off x="4198680" y="324324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178" name="Text Box 15"/>
          <p:cNvSpPr/>
          <p:nvPr/>
        </p:nvSpPr>
        <p:spPr>
          <a:xfrm>
            <a:off x="5364000" y="3068640"/>
            <a:ext cx="18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底面周长</a:t>
            </a:r>
            <a:endParaRPr b="1" lang="en-US" sz="18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1547640" y="595008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表面积＝底面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 +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积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8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3"/>
          <p:cNvSpPr/>
          <p:nvPr/>
        </p:nvSpPr>
        <p:spPr>
          <a:xfrm>
            <a:off x="395280" y="134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表面积：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83" name="Group 26"/>
          <p:cNvGrpSpPr/>
          <p:nvPr/>
        </p:nvGrpSpPr>
        <p:grpSpPr>
          <a:xfrm>
            <a:off x="449280" y="6091200"/>
            <a:ext cx="436680" cy="639720"/>
            <a:chOff x="449280" y="6091200"/>
            <a:chExt cx="436680" cy="639720"/>
          </a:xfrm>
        </p:grpSpPr>
        <p:pic>
          <p:nvPicPr>
            <p:cNvPr id="184" name="Picture 34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9280"/>
              <a:ext cx="4366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35"/>
            <p:cNvSpPr/>
            <p:nvPr/>
          </p:nvSpPr>
          <p:spPr>
            <a:xfrm>
              <a:off x="492120" y="60912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1" lang="en-US" sz="1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4.16667E-006 -0.20463 E">
                                      <p:cBhvr>
                                        <p:cTn id="39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1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3"/>
          <p:cNvSpPr/>
          <p:nvPr/>
        </p:nvSpPr>
        <p:spPr>
          <a:xfrm>
            <a:off x="539640" y="12970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体积：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830680" y="5695920"/>
            <a:ext cx="2558880" cy="569160"/>
          </a:xfrm>
          <a:prstGeom prst="rect">
            <a:avLst/>
          </a:prstGeom>
          <a:solidFill>
            <a:srgbClr val="ff66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S h</a:t>
            </a:r>
            <a:endParaRPr b="1" lang="en-US" sz="26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4487760" y="487980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797280" y="517356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2903400" y="488484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796000" y="51735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835280" y="51879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体积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95" name="Group 16"/>
          <p:cNvGrpSpPr/>
          <p:nvPr/>
        </p:nvGrpSpPr>
        <p:grpSpPr>
          <a:xfrm>
            <a:off x="3780000" y="5175360"/>
            <a:ext cx="1726560" cy="525240"/>
            <a:chOff x="3780000" y="5175360"/>
            <a:chExt cx="1726560" cy="525240"/>
          </a:xfrm>
        </p:grpSpPr>
        <p:sp>
          <p:nvSpPr>
            <p:cNvPr id="196" name="Text Box 11"/>
            <p:cNvSpPr/>
            <p:nvPr/>
          </p:nvSpPr>
          <p:spPr>
            <a:xfrm>
              <a:off x="3780000" y="5180040"/>
              <a:ext cx="31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1" lang="en-US" sz="28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5190480" y="517536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1042920" y="4460760"/>
            <a:ext cx="62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体的体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6013440" y="489888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6247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26"/>
          <p:cNvGrpSpPr/>
          <p:nvPr/>
        </p:nvGrpSpPr>
        <p:grpSpPr>
          <a:xfrm>
            <a:off x="449280" y="6091200"/>
            <a:ext cx="436680" cy="639720"/>
            <a:chOff x="449280" y="6091200"/>
            <a:chExt cx="436680" cy="639720"/>
          </a:xfrm>
        </p:grpSpPr>
        <p:pic>
          <p:nvPicPr>
            <p:cNvPr id="202" name="Picture 34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9280"/>
              <a:ext cx="4366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35"/>
            <p:cNvSpPr/>
            <p:nvPr/>
          </p:nvSpPr>
          <p:spPr>
            <a:xfrm>
              <a:off x="492120" y="60912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1" lang="en-US" sz="1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6156360" y="4869000"/>
            <a:ext cx="2303280" cy="1008000"/>
          </a:xfrm>
          <a:prstGeom prst="rect">
            <a:avLst/>
          </a:prstGeom>
          <a:solidFill>
            <a:srgbClr val="ff66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207" name="Group 22"/>
          <p:cNvGrpSpPr/>
          <p:nvPr/>
        </p:nvGrpSpPr>
        <p:grpSpPr>
          <a:xfrm>
            <a:off x="1187280" y="5373720"/>
            <a:ext cx="4535640" cy="622440"/>
            <a:chOff x="1187280" y="5373720"/>
            <a:chExt cx="4535640" cy="622440"/>
          </a:xfrm>
        </p:grpSpPr>
        <p:sp>
          <p:nvSpPr>
            <p:cNvPr id="208" name="Text Box 4"/>
            <p:cNvSpPr/>
            <p:nvPr/>
          </p:nvSpPr>
          <p:spPr>
            <a:xfrm>
              <a:off x="1187280" y="5445000"/>
              <a:ext cx="453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圆锥的体积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  ×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底面积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高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3314520" y="5373720"/>
              <a:ext cx="231840" cy="6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28"/>
          <p:cNvGrpSpPr/>
          <p:nvPr/>
        </p:nvGrpSpPr>
        <p:grpSpPr>
          <a:xfrm>
            <a:off x="6012000" y="4941720"/>
            <a:ext cx="2573280" cy="777240"/>
            <a:chOff x="6012000" y="4941720"/>
            <a:chExt cx="2573280" cy="777240"/>
          </a:xfrm>
        </p:grpSpPr>
        <p:sp>
          <p:nvSpPr>
            <p:cNvPr id="211" name="Text Box 8"/>
            <p:cNvSpPr/>
            <p:nvPr/>
          </p:nvSpPr>
          <p:spPr>
            <a:xfrm>
              <a:off x="6012000" y="5084640"/>
              <a:ext cx="25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Ⅴ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sh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7209000" y="4941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7210440" y="5259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7236000" y="533232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grpSp>
        <p:nvGrpSpPr>
          <p:cNvPr id="215" name="Group 23"/>
          <p:cNvGrpSpPr/>
          <p:nvPr/>
        </p:nvGrpSpPr>
        <p:grpSpPr>
          <a:xfrm>
            <a:off x="468360" y="4797360"/>
            <a:ext cx="5867280" cy="622440"/>
            <a:chOff x="468360" y="4797360"/>
            <a:chExt cx="5867280" cy="622440"/>
          </a:xfrm>
        </p:grpSpPr>
        <p:sp>
          <p:nvSpPr>
            <p:cNvPr id="216" name="Rectangle 13"/>
            <p:cNvSpPr/>
            <p:nvPr/>
          </p:nvSpPr>
          <p:spPr>
            <a:xfrm>
              <a:off x="468360" y="486864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圆锥的体积是等底等高的圆柱体积的  。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5508720" y="4797360"/>
              <a:ext cx="23184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3"/>
          <p:cNvSpPr/>
          <p:nvPr/>
        </p:nvSpPr>
        <p:spPr>
          <a:xfrm>
            <a:off x="539640" y="13161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的体积：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219" name="Picture 15" descr=""/>
          <p:cNvPicPr/>
          <p:nvPr/>
        </p:nvPicPr>
        <p:blipFill>
          <a:blip r:embed="rId4"/>
          <a:stretch/>
        </p:blipFill>
        <p:spPr>
          <a:xfrm>
            <a:off x="1258920" y="2492280"/>
            <a:ext cx="1388880" cy="1622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419640" y="836640"/>
            <a:ext cx="5329080" cy="388764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26"/>
          <p:cNvGrpSpPr/>
          <p:nvPr/>
        </p:nvGrpSpPr>
        <p:grpSpPr>
          <a:xfrm>
            <a:off x="449280" y="6091200"/>
            <a:ext cx="436680" cy="639720"/>
            <a:chOff x="449280" y="6091200"/>
            <a:chExt cx="436680" cy="639720"/>
          </a:xfrm>
        </p:grpSpPr>
        <p:pic>
          <p:nvPicPr>
            <p:cNvPr id="222" name="Picture 34" descr="蓝色按钮"/>
            <p:cNvPicPr/>
            <p:nvPr/>
          </p:nvPicPr>
          <p:blipFill>
            <a:blip r:embed="rId6"/>
            <a:stretch/>
          </p:blipFill>
          <p:spPr>
            <a:xfrm>
              <a:off x="449280" y="6299280"/>
              <a:ext cx="4366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35"/>
            <p:cNvSpPr/>
            <p:nvPr/>
          </p:nvSpPr>
          <p:spPr>
            <a:xfrm>
              <a:off x="492120" y="60912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1" lang="en-US" sz="1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3:16:45Z</dcterms:created>
  <dc:creator>Administrator</dc:creator>
  <dc:description/>
  <cp:keywords>青岛版数学</cp:keywords>
  <dc:language>en-US</dc:language>
  <cp:lastModifiedBy>微软用户</cp:lastModifiedBy>
  <dcterms:modified xsi:type="dcterms:W3CDTF">2015-11-17T07:42:51Z</dcterms:modified>
  <cp:revision>487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