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wmf" ContentType="image/x-wmf"/>
  <Override PartName="/ppt/media/image23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FA8-9665-43CF-8C19-B6946FB3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333-4A89-43E9-B955-CD676BF0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6AA-C1C8-4EBE-B44E-47C4AE09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66B-B61A-4B90-808C-7574F073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21C-DBAE-40AA-B313-D5010639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124-BD2C-432B-BC36-7A4050F1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931-ABC8-4014-8325-01303B3D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6F5-0B7F-4818-B5FA-C692B9B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29C-7EAB-4498-958B-5CEDDE6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F28-302B-4939-B2C4-43BA1ED2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A80-67AF-4FAC-BA61-051D534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A2E-0F33-4C79-AAC8-E52F424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B050-4EF2-4BF4-9AEE-0ACA656B1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6.wm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9640" y="539640"/>
            <a:ext cx="5832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539640" y="1268280"/>
            <a:ext cx="80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下面的平面图形，以它的一条边为轴旋转一周，会形成什么样的空间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1"/>
          <p:cNvSpPr/>
          <p:nvPr/>
        </p:nvSpPr>
        <p:spPr>
          <a:xfrm>
            <a:off x="539640" y="539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1835280" y="2852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0 + 20)×4 + 2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90000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芳给爷爷买了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日蛋糕（如图）。捆扎这个蛋糕盒所用的彩带至少有多长？（打结处大约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彩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96800" y="12826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2"/>
          <a:stretch/>
        </p:blipFill>
        <p:spPr>
          <a:xfrm>
            <a:off x="5796000" y="2276640"/>
            <a:ext cx="2508120" cy="1709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9"/>
          <p:cNvSpPr/>
          <p:nvPr/>
        </p:nvSpPr>
        <p:spPr>
          <a:xfrm>
            <a:off x="1619280" y="3573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0×4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633680" y="42069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d6081c"/>
                </a:solidFill>
                <a:latin typeface="楷体_GB2312"/>
                <a:ea typeface="楷体_GB2312"/>
              </a:rPr>
              <a:t>2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059280" y="5300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少需要彩带</a:t>
            </a:r>
            <a:r>
              <a:rPr b="1" lang="en-US" sz="2400" spc="-1" strike="noStrike">
                <a:solidFill>
                  <a:srgbClr val="d6081c"/>
                </a:solidFill>
                <a:latin typeface="楷体_GB2312"/>
                <a:ea typeface="楷体_GB2312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468360" y="836640"/>
            <a:ext cx="32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900000" y="50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7" name="Oval 42"/>
          <p:cNvSpPr/>
          <p:nvPr/>
        </p:nvSpPr>
        <p:spPr>
          <a:xfrm>
            <a:off x="0" y="422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4"/>
          <p:cNvSpPr/>
          <p:nvPr/>
        </p:nvSpPr>
        <p:spPr>
          <a:xfrm>
            <a:off x="1114560" y="3071880"/>
            <a:ext cx="1512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rcRect l="6078" t="6469" r="6959" b="0"/>
          <a:stretch/>
        </p:blipFill>
        <p:spPr>
          <a:xfrm>
            <a:off x="611280" y="1413000"/>
            <a:ext cx="7200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5" descr=""/>
          <p:cNvPicPr/>
          <p:nvPr/>
        </p:nvPicPr>
        <p:blipFill>
          <a:blip r:embed="rId1"/>
          <a:srcRect l="59526" t="65008" r="28613" b="4087"/>
          <a:stretch/>
        </p:blipFill>
        <p:spPr>
          <a:xfrm>
            <a:off x="5219640" y="2708280"/>
            <a:ext cx="1008000" cy="115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2"/>
          <a:srcRect l="42562" t="57237" r="46419" b="4087"/>
          <a:stretch/>
        </p:blipFill>
        <p:spPr>
          <a:xfrm>
            <a:off x="3780000" y="2665440"/>
            <a:ext cx="93636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3"/>
          <a:srcRect l="20941" t="68837" r="62527" b="2132"/>
          <a:stretch/>
        </p:blipFill>
        <p:spPr>
          <a:xfrm>
            <a:off x="1979640" y="3098880"/>
            <a:ext cx="1405080" cy="1081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468360" y="1317600"/>
            <a:ext cx="431640" cy="370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793800" y="12556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左边的物体是什么形状的？它们有哪些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pub\Desktop\新ppt\返回首页.jpg"/>
          <p:cNvPicPr/>
          <p:nvPr/>
        </p:nvPicPr>
        <p:blipFill>
          <a:blip r:embed="rId5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6"/>
          <a:srcRect l="18832" t="10792" r="23546" b="50533"/>
          <a:stretch/>
        </p:blipFill>
        <p:spPr>
          <a:xfrm>
            <a:off x="1763640" y="2637000"/>
            <a:ext cx="4896000" cy="143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6"/>
          <p:cNvSpPr/>
          <p:nvPr/>
        </p:nvSpPr>
        <p:spPr>
          <a:xfrm>
            <a:off x="826920" y="1916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左边的物体是圆柱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627280" y="4149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4284720" y="410544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767560" y="41353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2705 L -0.0059 0.27977 E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2543 L 0.004 0.28347 E">
                                      <p:cBhvr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5272 L 0.00017 0.31514 E">
                                      <p:cBhvr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0"/>
          <p:cNvSpPr/>
          <p:nvPr/>
        </p:nvSpPr>
        <p:spPr>
          <a:xfrm>
            <a:off x="1042920" y="4653000"/>
            <a:ext cx="6912000" cy="151272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6" descr="图片3副本_副本"/>
          <p:cNvPicPr/>
          <p:nvPr/>
        </p:nvPicPr>
        <p:blipFill>
          <a:blip r:embed="rId1"/>
          <a:stretch/>
        </p:blipFill>
        <p:spPr>
          <a:xfrm>
            <a:off x="1619280" y="1844640"/>
            <a:ext cx="180036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1"/>
          <p:cNvSpPr/>
          <p:nvPr/>
        </p:nvSpPr>
        <p:spPr>
          <a:xfrm>
            <a:off x="1679400" y="2030400"/>
            <a:ext cx="1690920" cy="2160720"/>
          </a:xfrm>
          <a:prstGeom prst="can">
            <a:avLst>
              <a:gd name="adj" fmla="val 26745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12"/>
          <p:cNvGrpSpPr/>
          <p:nvPr/>
        </p:nvGrpSpPr>
        <p:grpSpPr>
          <a:xfrm>
            <a:off x="1679400" y="2025720"/>
            <a:ext cx="1728720" cy="2160360"/>
            <a:chOff x="1679400" y="2025720"/>
            <a:chExt cx="1728720" cy="2160360"/>
          </a:xfrm>
        </p:grpSpPr>
        <p:sp>
          <p:nvSpPr>
            <p:cNvPr id="69" name="AutoShape 162"/>
            <p:cNvSpPr/>
            <p:nvPr/>
          </p:nvSpPr>
          <p:spPr>
            <a:xfrm>
              <a:off x="1679400" y="2025720"/>
              <a:ext cx="1728720" cy="2160360"/>
            </a:xfrm>
            <a:prstGeom prst="can">
              <a:avLst>
                <a:gd name="adj" fmla="val 2674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63"/>
            <p:cNvSpPr/>
            <p:nvPr/>
          </p:nvSpPr>
          <p:spPr>
            <a:xfrm>
              <a:off x="1719000" y="3663720"/>
              <a:ext cx="1654200" cy="5220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Oval 166"/>
          <p:cNvSpPr/>
          <p:nvPr/>
        </p:nvSpPr>
        <p:spPr>
          <a:xfrm>
            <a:off x="1695600" y="3641760"/>
            <a:ext cx="1706400" cy="55548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8"/>
          <p:cNvSpPr/>
          <p:nvPr/>
        </p:nvSpPr>
        <p:spPr>
          <a:xfrm>
            <a:off x="1695600" y="2038320"/>
            <a:ext cx="1706400" cy="5554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5"/>
          <p:cNvSpPr/>
          <p:nvPr/>
        </p:nvSpPr>
        <p:spPr>
          <a:xfrm>
            <a:off x="2255760" y="197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6"/>
          <p:cNvSpPr/>
          <p:nvPr/>
        </p:nvSpPr>
        <p:spPr>
          <a:xfrm>
            <a:off x="2268360" y="3827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7"/>
          <p:cNvSpPr/>
          <p:nvPr/>
        </p:nvSpPr>
        <p:spPr>
          <a:xfrm>
            <a:off x="1377720" y="2824200"/>
            <a:ext cx="729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侧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0"/>
          <p:cNvSpPr/>
          <p:nvPr/>
        </p:nvSpPr>
        <p:spPr>
          <a:xfrm>
            <a:off x="1900080" y="4896000"/>
            <a:ext cx="42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两个圆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底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21"/>
          <p:cNvSpPr/>
          <p:nvPr/>
        </p:nvSpPr>
        <p:spPr>
          <a:xfrm>
            <a:off x="1692360" y="2035080"/>
            <a:ext cx="1706400" cy="555840"/>
          </a:xfrm>
          <a:prstGeom prst="ellipse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5"/>
          <p:cNvSpPr/>
          <p:nvPr/>
        </p:nvSpPr>
        <p:spPr>
          <a:xfrm>
            <a:off x="4859280" y="1916280"/>
            <a:ext cx="35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上、下两个面都是圆，并且大小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1692360" y="2349360"/>
            <a:ext cx="1727280" cy="18432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1983" h="2647">
                <a:moveTo>
                  <a:pt x="0" y="0"/>
                </a:moveTo>
                <a:cubicBezTo>
                  <a:pt x="75" y="108"/>
                  <a:pt x="78" y="108"/>
                  <a:pt x="168" y="165"/>
                </a:cubicBezTo>
                <a:cubicBezTo>
                  <a:pt x="207" y="183"/>
                  <a:pt x="239" y="200"/>
                  <a:pt x="276" y="216"/>
                </a:cubicBezTo>
                <a:cubicBezTo>
                  <a:pt x="299" y="226"/>
                  <a:pt x="318" y="231"/>
                  <a:pt x="348" y="240"/>
                </a:cubicBezTo>
                <a:cubicBezTo>
                  <a:pt x="360" y="248"/>
                  <a:pt x="380" y="252"/>
                  <a:pt x="393" y="258"/>
                </a:cubicBezTo>
                <a:cubicBezTo>
                  <a:pt x="423" y="266"/>
                  <a:pt x="483" y="287"/>
                  <a:pt x="528" y="297"/>
                </a:cubicBezTo>
                <a:cubicBezTo>
                  <a:pt x="573" y="307"/>
                  <a:pt x="601" y="312"/>
                  <a:pt x="663" y="318"/>
                </a:cubicBezTo>
                <a:cubicBezTo>
                  <a:pt x="753" y="324"/>
                  <a:pt x="822" y="327"/>
                  <a:pt x="903" y="336"/>
                </a:cubicBezTo>
                <a:cubicBezTo>
                  <a:pt x="983" y="337"/>
                  <a:pt x="1062" y="333"/>
                  <a:pt x="1149" y="327"/>
                </a:cubicBezTo>
                <a:cubicBezTo>
                  <a:pt x="1236" y="321"/>
                  <a:pt x="1358" y="310"/>
                  <a:pt x="1428" y="300"/>
                </a:cubicBezTo>
                <a:cubicBezTo>
                  <a:pt x="1461" y="291"/>
                  <a:pt x="1542" y="279"/>
                  <a:pt x="1572" y="264"/>
                </a:cubicBezTo>
                <a:cubicBezTo>
                  <a:pt x="1590" y="258"/>
                  <a:pt x="1602" y="258"/>
                  <a:pt x="1620" y="252"/>
                </a:cubicBezTo>
                <a:cubicBezTo>
                  <a:pt x="1647" y="244"/>
                  <a:pt x="1671" y="234"/>
                  <a:pt x="1692" y="228"/>
                </a:cubicBezTo>
                <a:cubicBezTo>
                  <a:pt x="1725" y="217"/>
                  <a:pt x="1800" y="186"/>
                  <a:pt x="1830" y="168"/>
                </a:cubicBezTo>
                <a:cubicBezTo>
                  <a:pt x="1857" y="150"/>
                  <a:pt x="1896" y="123"/>
                  <a:pt x="1896" y="123"/>
                </a:cubicBezTo>
                <a:cubicBezTo>
                  <a:pt x="1904" y="111"/>
                  <a:pt x="1925" y="97"/>
                  <a:pt x="1935" y="87"/>
                </a:cubicBezTo>
                <a:cubicBezTo>
                  <a:pt x="1978" y="44"/>
                  <a:pt x="1968" y="94"/>
                  <a:pt x="1968" y="48"/>
                </a:cubicBezTo>
                <a:cubicBezTo>
                  <a:pt x="1972" y="812"/>
                  <a:pt x="1980" y="1576"/>
                  <a:pt x="1980" y="2340"/>
                </a:cubicBezTo>
                <a:cubicBezTo>
                  <a:pt x="1983" y="2364"/>
                  <a:pt x="1974" y="2361"/>
                  <a:pt x="1938" y="2391"/>
                </a:cubicBezTo>
                <a:cubicBezTo>
                  <a:pt x="1902" y="2430"/>
                  <a:pt x="1883" y="2429"/>
                  <a:pt x="1836" y="2460"/>
                </a:cubicBezTo>
                <a:cubicBezTo>
                  <a:pt x="1828" y="2472"/>
                  <a:pt x="1819" y="2474"/>
                  <a:pt x="1806" y="2481"/>
                </a:cubicBezTo>
                <a:cubicBezTo>
                  <a:pt x="1788" y="2491"/>
                  <a:pt x="1772" y="2503"/>
                  <a:pt x="1752" y="2508"/>
                </a:cubicBezTo>
                <a:cubicBezTo>
                  <a:pt x="1752" y="2508"/>
                  <a:pt x="1674" y="2544"/>
                  <a:pt x="1656" y="2550"/>
                </a:cubicBezTo>
                <a:cubicBezTo>
                  <a:pt x="1592" y="2567"/>
                  <a:pt x="1466" y="2602"/>
                  <a:pt x="1374" y="2616"/>
                </a:cubicBezTo>
                <a:cubicBezTo>
                  <a:pt x="1282" y="2630"/>
                  <a:pt x="1198" y="2632"/>
                  <a:pt x="1101" y="2634"/>
                </a:cubicBezTo>
                <a:cubicBezTo>
                  <a:pt x="959" y="2647"/>
                  <a:pt x="894" y="2638"/>
                  <a:pt x="789" y="2631"/>
                </a:cubicBezTo>
                <a:cubicBezTo>
                  <a:pt x="684" y="2624"/>
                  <a:pt x="554" y="2608"/>
                  <a:pt x="468" y="2592"/>
                </a:cubicBezTo>
                <a:cubicBezTo>
                  <a:pt x="398" y="2579"/>
                  <a:pt x="338" y="2555"/>
                  <a:pt x="270" y="2532"/>
                </a:cubicBezTo>
                <a:cubicBezTo>
                  <a:pt x="240" y="2511"/>
                  <a:pt x="219" y="2506"/>
                  <a:pt x="195" y="2490"/>
                </a:cubicBezTo>
                <a:cubicBezTo>
                  <a:pt x="183" y="2482"/>
                  <a:pt x="165" y="2475"/>
                  <a:pt x="165" y="2475"/>
                </a:cubicBezTo>
                <a:cubicBezTo>
                  <a:pt x="156" y="2468"/>
                  <a:pt x="152" y="2467"/>
                  <a:pt x="138" y="2457"/>
                </a:cubicBezTo>
                <a:cubicBezTo>
                  <a:pt x="124" y="2447"/>
                  <a:pt x="92" y="2426"/>
                  <a:pt x="78" y="2415"/>
                </a:cubicBezTo>
                <a:cubicBezTo>
                  <a:pt x="64" y="2404"/>
                  <a:pt x="63" y="2396"/>
                  <a:pt x="54" y="2388"/>
                </a:cubicBezTo>
                <a:cubicBezTo>
                  <a:pt x="42" y="2380"/>
                  <a:pt x="24" y="2364"/>
                  <a:pt x="24" y="2364"/>
                </a:cubicBezTo>
                <a:cubicBezTo>
                  <a:pt x="16" y="2352"/>
                  <a:pt x="0" y="2328"/>
                  <a:pt x="0" y="2328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9"/>
          <p:cNvSpPr/>
          <p:nvPr/>
        </p:nvSpPr>
        <p:spPr>
          <a:xfrm>
            <a:off x="5858640" y="3139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有一个曲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0"/>
          <p:cNvSpPr/>
          <p:nvPr/>
        </p:nvSpPr>
        <p:spPr>
          <a:xfrm>
            <a:off x="5508720" y="49118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曲面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侧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11"/>
          <p:cNvGrpSpPr/>
          <p:nvPr/>
        </p:nvGrpSpPr>
        <p:grpSpPr>
          <a:xfrm>
            <a:off x="1692360" y="2004840"/>
            <a:ext cx="2206080" cy="2044080"/>
            <a:chOff x="1692360" y="2004840"/>
            <a:chExt cx="2206080" cy="2044080"/>
          </a:xfrm>
        </p:grpSpPr>
        <p:sp>
          <p:nvSpPr>
            <p:cNvPr id="83" name="Text Box 185"/>
            <p:cNvSpPr/>
            <p:nvPr/>
          </p:nvSpPr>
          <p:spPr>
            <a:xfrm>
              <a:off x="2390400" y="3597120"/>
              <a:ext cx="5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210"/>
            <p:cNvGrpSpPr/>
            <p:nvPr/>
          </p:nvGrpSpPr>
          <p:grpSpPr>
            <a:xfrm>
              <a:off x="1692360" y="2004840"/>
              <a:ext cx="2206080" cy="2044080"/>
              <a:chOff x="1692360" y="2004840"/>
              <a:chExt cx="2206080" cy="2044080"/>
            </a:xfrm>
          </p:grpSpPr>
          <p:sp>
            <p:nvSpPr>
              <p:cNvPr id="85" name="Text Box 186"/>
              <p:cNvSpPr/>
              <p:nvPr/>
            </p:nvSpPr>
            <p:spPr>
              <a:xfrm>
                <a:off x="2408040" y="2220840"/>
                <a:ext cx="69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O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宋体"/>
                    <a:ea typeface="楷体_GB2312"/>
                  </a:rPr>
                  <a:t>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Group 209"/>
              <p:cNvGrpSpPr/>
              <p:nvPr/>
            </p:nvGrpSpPr>
            <p:grpSpPr>
              <a:xfrm>
                <a:off x="1692360" y="2004840"/>
                <a:ext cx="2206080" cy="2044080"/>
                <a:chOff x="1692360" y="2004840"/>
                <a:chExt cx="2206080" cy="2044080"/>
              </a:xfrm>
            </p:grpSpPr>
            <p:sp>
              <p:nvSpPr>
                <p:cNvPr id="87" name="Line 180"/>
                <p:cNvSpPr/>
                <p:nvPr/>
              </p:nvSpPr>
              <p:spPr>
                <a:xfrm>
                  <a:off x="1692360" y="2317680"/>
                  <a:ext cx="1728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81"/>
                <p:cNvSpPr/>
                <p:nvPr/>
              </p:nvSpPr>
              <p:spPr>
                <a:xfrm>
                  <a:off x="1692360" y="3914640"/>
                  <a:ext cx="1728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08"/>
                <p:cNvGrpSpPr/>
                <p:nvPr/>
              </p:nvGrpSpPr>
              <p:grpSpPr>
                <a:xfrm>
                  <a:off x="2222280" y="2004840"/>
                  <a:ext cx="653400" cy="2044080"/>
                  <a:chOff x="2222280" y="2004840"/>
                  <a:chExt cx="653400" cy="2044080"/>
                </a:xfrm>
              </p:grpSpPr>
              <p:sp>
                <p:nvSpPr>
                  <p:cNvPr id="90" name="Text Box 183"/>
                  <p:cNvSpPr/>
                  <p:nvPr/>
                </p:nvSpPr>
                <p:spPr>
                  <a:xfrm>
                    <a:off x="2226600" y="200484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84"/>
                  <p:cNvSpPr/>
                  <p:nvPr/>
                </p:nvSpPr>
                <p:spPr>
                  <a:xfrm>
                    <a:off x="2222280" y="358920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87"/>
                  <p:cNvSpPr/>
                  <p:nvPr/>
                </p:nvSpPr>
                <p:spPr>
                  <a:xfrm>
                    <a:off x="2539440" y="2360520"/>
                    <a:ext cx="0" cy="1587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89"/>
                <p:cNvSpPr/>
                <p:nvPr/>
              </p:nvSpPr>
              <p:spPr>
                <a:xfrm>
                  <a:off x="3373200" y="2312640"/>
                  <a:ext cx="28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90"/>
                <p:cNvSpPr/>
                <p:nvPr/>
              </p:nvSpPr>
              <p:spPr>
                <a:xfrm>
                  <a:off x="3423960" y="3909960"/>
                  <a:ext cx="28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91"/>
                <p:cNvSpPr/>
                <p:nvPr/>
              </p:nvSpPr>
              <p:spPr>
                <a:xfrm>
                  <a:off x="3563640" y="341460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2"/>
                <p:cNvSpPr/>
                <p:nvPr/>
              </p:nvSpPr>
              <p:spPr>
                <a:xfrm flipV="1">
                  <a:off x="3576240" y="2325240"/>
                  <a:ext cx="4680" cy="53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193"/>
                <p:cNvSpPr/>
                <p:nvPr/>
              </p:nvSpPr>
              <p:spPr>
                <a:xfrm>
                  <a:off x="3322440" y="288576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" name="Rectangle 231"/>
          <p:cNvSpPr/>
          <p:nvPr/>
        </p:nvSpPr>
        <p:spPr>
          <a:xfrm>
            <a:off x="1273320" y="5432400"/>
            <a:ext cx="43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底面之间的距离叫作</a:t>
            </a:r>
            <a:r>
              <a:rPr b="1" lang="zh-CN" sz="2400" spc="-1" strike="noStrike">
                <a:solidFill>
                  <a:srgbClr val="d6081c"/>
                </a:solidFill>
                <a:latin typeface="Arial"/>
                <a:ea typeface="楷体_GB2312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539640" y="134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楷体_GB2312"/>
              </a:rPr>
              <a:t>圆柱有哪些特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2.96296E-006 L 0.00035 0.23541 E">
                                      <p:cBhvr>
                                        <p:cTn id="7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23541 L 1.38889E-006 0.00046 E">
                                      <p:cBhvr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1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7" descr=""/>
          <p:cNvPicPr/>
          <p:nvPr/>
        </p:nvPicPr>
        <p:blipFill>
          <a:blip r:embed="rId1"/>
          <a:srcRect l="80786" t="46226" r="7691" b="15278"/>
          <a:stretch/>
        </p:blipFill>
        <p:spPr>
          <a:xfrm>
            <a:off x="5364000" y="2708280"/>
            <a:ext cx="64800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2" descr=""/>
          <p:cNvPicPr/>
          <p:nvPr/>
        </p:nvPicPr>
        <p:blipFill>
          <a:blip r:embed="rId2"/>
          <a:srcRect l="57721" t="50046" r="29457" b="17240"/>
          <a:stretch/>
        </p:blipFill>
        <p:spPr>
          <a:xfrm>
            <a:off x="4067280" y="2838600"/>
            <a:ext cx="720720" cy="122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3"/>
          <a:srcRect l="32079" t="55867" r="52548" b="15278"/>
          <a:stretch/>
        </p:blipFill>
        <p:spPr>
          <a:xfrm>
            <a:off x="2627280" y="2997360"/>
            <a:ext cx="863640" cy="107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"/>
          <p:cNvPicPr/>
          <p:nvPr/>
        </p:nvPicPr>
        <p:blipFill>
          <a:blip r:embed="rId4"/>
          <a:srcRect l="80786" t="5768" r="6419" b="59555"/>
          <a:stretch/>
        </p:blipFill>
        <p:spPr>
          <a:xfrm>
            <a:off x="5392800" y="2738520"/>
            <a:ext cx="718920" cy="129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5"/>
          <a:srcRect l="57721" t="9640" r="28186" b="59555"/>
          <a:stretch/>
        </p:blipFill>
        <p:spPr>
          <a:xfrm>
            <a:off x="4054320" y="2852640"/>
            <a:ext cx="792360" cy="11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6"/>
          <a:srcRect l="32079" t="15409" r="52548" b="57646"/>
          <a:stretch/>
        </p:blipFill>
        <p:spPr>
          <a:xfrm>
            <a:off x="2612880" y="299736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7"/>
          <a:stretch/>
        </p:blipFill>
        <p:spPr>
          <a:xfrm>
            <a:off x="468360" y="1317600"/>
            <a:ext cx="431640" cy="370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6"/>
          <p:cNvSpPr/>
          <p:nvPr/>
        </p:nvSpPr>
        <p:spPr>
          <a:xfrm>
            <a:off x="793800" y="12556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右边的物体是什么形状的？它们有哪些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C:\Documents and Settings\pub\Desktop\新ppt\返回首页.jpg"/>
          <p:cNvPicPr/>
          <p:nvPr/>
        </p:nvPicPr>
        <p:blipFill>
          <a:blip r:embed="rId8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6"/>
          <p:cNvSpPr/>
          <p:nvPr/>
        </p:nvSpPr>
        <p:spPr>
          <a:xfrm>
            <a:off x="826920" y="1916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右边的物体是圆锥形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3059280" y="4076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4384800" y="4105440"/>
            <a:ext cx="0" cy="50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5665680" y="41353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532 L 1.38889E-006 0.29365 E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833 L -0.00469 0.29271 E">
                                      <p:cBhvr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208 L -0.00243 0.29179 E">
                                      <p:cBhvr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3"/>
          <p:cNvSpPr/>
          <p:nvPr/>
        </p:nvSpPr>
        <p:spPr>
          <a:xfrm>
            <a:off x="4932360" y="2133720"/>
            <a:ext cx="3673440" cy="2447640"/>
          </a:xfrm>
          <a:prstGeom prst="rect">
            <a:avLst/>
          </a:prstGeom>
          <a:solidFill>
            <a:srgbClr val="ff66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1332000" y="1916280"/>
            <a:ext cx="2822400" cy="3152160"/>
            <a:chOff x="1332000" y="1916280"/>
            <a:chExt cx="2822400" cy="3152160"/>
          </a:xfrm>
        </p:grpSpPr>
        <p:grpSp>
          <p:nvGrpSpPr>
            <p:cNvPr id="116" name="Group 55"/>
            <p:cNvGrpSpPr/>
            <p:nvPr/>
          </p:nvGrpSpPr>
          <p:grpSpPr>
            <a:xfrm>
              <a:off x="1344240" y="1916280"/>
              <a:ext cx="2495880" cy="2999520"/>
              <a:chOff x="1344240" y="1916280"/>
              <a:chExt cx="2495880" cy="2999520"/>
            </a:xfrm>
          </p:grpSpPr>
          <p:grpSp>
            <p:nvGrpSpPr>
              <p:cNvPr id="117" name="Group 48"/>
              <p:cNvGrpSpPr/>
              <p:nvPr/>
            </p:nvGrpSpPr>
            <p:grpSpPr>
              <a:xfrm>
                <a:off x="1344240" y="1916280"/>
                <a:ext cx="2495880" cy="2689920"/>
                <a:chOff x="1344240" y="1916280"/>
                <a:chExt cx="2495880" cy="2689920"/>
              </a:xfrm>
            </p:grpSpPr>
            <p:sp>
              <p:nvSpPr>
                <p:cNvPr id="118" name="Line 7"/>
                <p:cNvSpPr/>
                <p:nvPr/>
              </p:nvSpPr>
              <p:spPr>
                <a:xfrm flipH="1">
                  <a:off x="1344240" y="1916280"/>
                  <a:ext cx="1257480" cy="268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8"/>
                <p:cNvSpPr/>
                <p:nvPr/>
              </p:nvSpPr>
              <p:spPr>
                <a:xfrm>
                  <a:off x="2593800" y="1944360"/>
                  <a:ext cx="1246320" cy="266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Oval 9"/>
              <p:cNvSpPr/>
              <p:nvPr/>
            </p:nvSpPr>
            <p:spPr>
              <a:xfrm>
                <a:off x="1365120" y="4278240"/>
                <a:ext cx="2448000" cy="637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33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" name="Picture 53" descr=""/>
            <p:cNvPicPr/>
            <p:nvPr/>
          </p:nvPicPr>
          <p:blipFill>
            <a:blip r:embed="rId1"/>
            <a:stretch/>
          </p:blipFill>
          <p:spPr>
            <a:xfrm>
              <a:off x="1332000" y="4563720"/>
              <a:ext cx="282240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Rectangle 31"/>
          <p:cNvSpPr/>
          <p:nvPr/>
        </p:nvSpPr>
        <p:spPr>
          <a:xfrm>
            <a:off x="539640" y="539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4" name="Oval 13"/>
          <p:cNvSpPr/>
          <p:nvPr/>
        </p:nvSpPr>
        <p:spPr>
          <a:xfrm>
            <a:off x="1366920" y="4280040"/>
            <a:ext cx="2448000" cy="61740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33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030400" y="455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64"/>
          <p:cNvGrpSpPr/>
          <p:nvPr/>
        </p:nvGrpSpPr>
        <p:grpSpPr>
          <a:xfrm>
            <a:off x="2583000" y="1928880"/>
            <a:ext cx="1957320" cy="2697120"/>
            <a:chOff x="2583000" y="1928880"/>
            <a:chExt cx="1957320" cy="2697120"/>
          </a:xfrm>
        </p:grpSpPr>
        <p:sp>
          <p:nvSpPr>
            <p:cNvPr id="127" name="Line 25"/>
            <p:cNvSpPr/>
            <p:nvPr/>
          </p:nvSpPr>
          <p:spPr>
            <a:xfrm>
              <a:off x="3840480" y="4605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2583000" y="192888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4187880" y="3691080"/>
              <a:ext cx="0" cy="9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 flipV="1">
              <a:off x="4187880" y="193320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3819600" y="30672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73"/>
          <p:cNvGrpSpPr/>
          <p:nvPr/>
        </p:nvGrpSpPr>
        <p:grpSpPr>
          <a:xfrm>
            <a:off x="2316240" y="1920960"/>
            <a:ext cx="574560" cy="2810880"/>
            <a:chOff x="2316240" y="1920960"/>
            <a:chExt cx="574560" cy="2810880"/>
          </a:xfrm>
        </p:grpSpPr>
        <p:sp>
          <p:nvSpPr>
            <p:cNvPr id="133" name="Line 23"/>
            <p:cNvSpPr/>
            <p:nvPr/>
          </p:nvSpPr>
          <p:spPr>
            <a:xfrm>
              <a:off x="2589120" y="1920960"/>
              <a:ext cx="9720" cy="268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2316240" y="42721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46"/>
          <p:cNvSpPr/>
          <p:nvPr/>
        </p:nvSpPr>
        <p:spPr>
          <a:xfrm>
            <a:off x="2411280" y="4272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6"/>
          <p:cNvGrpSpPr/>
          <p:nvPr/>
        </p:nvGrpSpPr>
        <p:grpSpPr>
          <a:xfrm>
            <a:off x="1370160" y="4071960"/>
            <a:ext cx="2447640" cy="1252080"/>
            <a:chOff x="1370160" y="4071960"/>
            <a:chExt cx="2447640" cy="1252080"/>
          </a:xfrm>
        </p:grpSpPr>
        <p:sp>
          <p:nvSpPr>
            <p:cNvPr id="137" name="Line 20"/>
            <p:cNvSpPr/>
            <p:nvPr/>
          </p:nvSpPr>
          <p:spPr>
            <a:xfrm>
              <a:off x="1370160" y="45925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0"/>
            <p:cNvSpPr/>
            <p:nvPr/>
          </p:nvSpPr>
          <p:spPr>
            <a:xfrm>
              <a:off x="2201760" y="4071960"/>
              <a:ext cx="575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en-US" sz="4000" spc="-1" strike="noStrike">
                  <a:solidFill>
                    <a:srgbClr val="de0000"/>
                  </a:solidFill>
                  <a:latin typeface="Arial"/>
                </a:rPr>
                <a:t>.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78"/>
          <p:cNvSpPr/>
          <p:nvPr/>
        </p:nvSpPr>
        <p:spPr>
          <a:xfrm>
            <a:off x="5191200" y="2179800"/>
            <a:ext cx="37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底面是一个圆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9"/>
          <p:cNvSpPr/>
          <p:nvPr/>
        </p:nvSpPr>
        <p:spPr>
          <a:xfrm>
            <a:off x="-388800" y="-1079640"/>
            <a:ext cx="6026040" cy="6002640"/>
          </a:xfrm>
          <a:custGeom>
            <a:avLst/>
            <a:gdLst>
              <a:gd name="textAreaLeft" fmla="*/ 0 w 6026040"/>
              <a:gd name="textAreaRight" fmla="*/ 6026400 w 6026040"/>
              <a:gd name="textAreaTop" fmla="*/ 0 h 6002640"/>
              <a:gd name="textAreaBottom" fmla="*/ 5850720 h 6002640"/>
            </a:gdLst>
            <a:ahLst/>
            <a:rect l="textAreaLeft" t="textAreaTop" r="textAreaRight" b="textAreaBottom"/>
            <a:pathLst>
              <a:path w="15255" h="21600">
                <a:moveTo>
                  <a:pt x="10847" y="10905"/>
                </a:moveTo>
                <a:cubicBezTo>
                  <a:pt x="10832" y="10912"/>
                  <a:pt x="10816" y="10915"/>
                  <a:pt x="10800" y="10916"/>
                </a:cubicBezTo>
                <a:cubicBezTo>
                  <a:pt x="10783" y="10916"/>
                  <a:pt x="10767" y="10912"/>
                  <a:pt x="10752" y="10905"/>
                </a:cubicBezTo>
                <a:lnTo>
                  <a:pt x="6344" y="20638"/>
                </a:lnTo>
                <a:cubicBezTo>
                  <a:pt x="7744" y="21272"/>
                  <a:pt x="9263" y="21600"/>
                  <a:pt x="10800" y="21600"/>
                </a:cubicBezTo>
                <a:cubicBezTo>
                  <a:pt x="12336" y="21599"/>
                  <a:pt x="13855" y="21272"/>
                  <a:pt x="15255" y="20638"/>
                </a:cubicBezTo>
                <a:lnTo>
                  <a:pt x="10847" y="10905"/>
                </a:lnTo>
                <a:close/>
              </a:path>
            </a:pathLst>
          </a:cu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1"/>
          <p:cNvSpPr/>
          <p:nvPr/>
        </p:nvSpPr>
        <p:spPr>
          <a:xfrm>
            <a:off x="5141880" y="2793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的侧面是一个曲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3"/>
          <p:cNvSpPr/>
          <p:nvPr/>
        </p:nvSpPr>
        <p:spPr>
          <a:xfrm>
            <a:off x="5148360" y="32418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圆锥的顶点到底面圆心的距离是圆锥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6"/>
          <p:cNvSpPr/>
          <p:nvPr/>
        </p:nvSpPr>
        <p:spPr>
          <a:xfrm>
            <a:off x="611280" y="1268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锥有哪些特征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1"/>
          <p:cNvSpPr/>
          <p:nvPr/>
        </p:nvSpPr>
        <p:spPr>
          <a:xfrm>
            <a:off x="539640" y="539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39640" y="134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物体中，哪些是圆柱形的？哪些是圆锥形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2"/>
          <a:stretch/>
        </p:blipFill>
        <p:spPr>
          <a:xfrm>
            <a:off x="1500120" y="2133720"/>
            <a:ext cx="83988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799920" cy="8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4"/>
          <a:stretch/>
        </p:blipFill>
        <p:spPr>
          <a:xfrm>
            <a:off x="3780000" y="2205000"/>
            <a:ext cx="750600" cy="100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"/>
          <p:cNvPicPr/>
          <p:nvPr/>
        </p:nvPicPr>
        <p:blipFill>
          <a:blip r:embed="rId5"/>
          <a:stretch/>
        </p:blipFill>
        <p:spPr>
          <a:xfrm>
            <a:off x="4859280" y="2276640"/>
            <a:ext cx="1225440" cy="76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"/>
          <p:cNvPicPr/>
          <p:nvPr/>
        </p:nvPicPr>
        <p:blipFill>
          <a:blip r:embed="rId6"/>
          <a:stretch/>
        </p:blipFill>
        <p:spPr>
          <a:xfrm>
            <a:off x="630072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"/>
          <p:cNvPicPr/>
          <p:nvPr/>
        </p:nvPicPr>
        <p:blipFill>
          <a:blip r:embed="rId7"/>
          <a:stretch/>
        </p:blipFill>
        <p:spPr>
          <a:xfrm>
            <a:off x="1189080" y="4076640"/>
            <a:ext cx="1366920" cy="87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"/>
          <p:cNvPicPr/>
          <p:nvPr/>
        </p:nvPicPr>
        <p:blipFill>
          <a:blip r:embed="rId8"/>
          <a:stretch/>
        </p:blipFill>
        <p:spPr>
          <a:xfrm>
            <a:off x="2916360" y="4149720"/>
            <a:ext cx="1079280" cy="860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"/>
          <p:cNvPicPr/>
          <p:nvPr/>
        </p:nvPicPr>
        <p:blipFill>
          <a:blip r:embed="rId9"/>
          <a:stretch/>
        </p:blipFill>
        <p:spPr>
          <a:xfrm>
            <a:off x="4500720" y="4005360"/>
            <a:ext cx="1150920" cy="1093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10"/>
          <a:stretch/>
        </p:blipFill>
        <p:spPr>
          <a:xfrm>
            <a:off x="5867280" y="4057560"/>
            <a:ext cx="1368720" cy="811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5"/>
          <p:cNvSpPr/>
          <p:nvPr/>
        </p:nvSpPr>
        <p:spPr>
          <a:xfrm>
            <a:off x="147492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76560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370560" y="3284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143760" y="5132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2614680" y="32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147492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643280" y="51325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2"/>
          <p:cNvSpPr/>
          <p:nvPr/>
        </p:nvSpPr>
        <p:spPr>
          <a:xfrm>
            <a:off x="5076720" y="3357720"/>
            <a:ext cx="57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3276720" y="5229360"/>
            <a:ext cx="57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1"/>
          <p:cNvSpPr/>
          <p:nvPr/>
        </p:nvSpPr>
        <p:spPr>
          <a:xfrm>
            <a:off x="539640" y="539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9640" y="134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2770200" y="3247920"/>
            <a:ext cx="1368360" cy="151128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625840" y="3247920"/>
            <a:ext cx="3382920" cy="122400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425840" y="3247920"/>
            <a:ext cx="1225800" cy="1295640"/>
          </a:xfrm>
          <a:prstGeom prst="line">
            <a:avLst/>
          </a:prstGeom>
          <a:ln w="381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2"/>
          <a:stretch/>
        </p:blipFill>
        <p:spPr>
          <a:xfrm>
            <a:off x="1424160" y="1681200"/>
            <a:ext cx="5832360" cy="2111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3"/>
          <a:stretch/>
        </p:blipFill>
        <p:spPr>
          <a:xfrm>
            <a:off x="1660680" y="4421160"/>
            <a:ext cx="4968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1"/>
          <p:cNvSpPr/>
          <p:nvPr/>
        </p:nvSpPr>
        <p:spPr>
          <a:xfrm>
            <a:off x="539640" y="539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39640" y="1197000"/>
            <a:ext cx="187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7"/>
          <p:cNvGrpSpPr/>
          <p:nvPr/>
        </p:nvGrpSpPr>
        <p:grpSpPr>
          <a:xfrm>
            <a:off x="971640" y="3429000"/>
            <a:ext cx="3571920" cy="1881720"/>
            <a:chOff x="971640" y="3429000"/>
            <a:chExt cx="3571920" cy="1881720"/>
          </a:xfrm>
        </p:grpSpPr>
        <p:sp>
          <p:nvSpPr>
            <p:cNvPr id="177" name="Rectangle 8"/>
            <p:cNvSpPr/>
            <p:nvPr/>
          </p:nvSpPr>
          <p:spPr>
            <a:xfrm>
              <a:off x="1908360" y="3429000"/>
              <a:ext cx="2635200" cy="1512720"/>
            </a:xfrm>
            <a:prstGeom prst="rect">
              <a:avLst/>
            </a:prstGeom>
            <a:solidFill>
              <a:srgbClr val="99cc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2309760" y="4911840"/>
              <a:ext cx="17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底面周长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971640" y="3789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5364000" y="2852640"/>
            <a:ext cx="2448000" cy="3337560"/>
            <a:chOff x="5364000" y="2852640"/>
            <a:chExt cx="2448000" cy="3337560"/>
          </a:xfrm>
        </p:grpSpPr>
        <p:sp>
          <p:nvSpPr>
            <p:cNvPr id="181" name="Text Box 11"/>
            <p:cNvSpPr/>
            <p:nvPr/>
          </p:nvSpPr>
          <p:spPr>
            <a:xfrm>
              <a:off x="5435280" y="5486400"/>
              <a:ext cx="144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底面周长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6802200" y="379008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高</a:t>
              </a:r>
              <a:r>
                <a:rPr b="1" lang="en-US" sz="2000" spc="-1" strike="noStrike">
                  <a:solidFill>
                    <a:srgbClr val="de0000"/>
                  </a:solidFill>
                  <a:latin typeface="楷体_GB2312"/>
                  <a:ea typeface="楷体_GB2312"/>
                </a:rPr>
                <a:t>2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 rot="5400000">
              <a:off x="4803480" y="3413160"/>
              <a:ext cx="2633760" cy="1512720"/>
            </a:xfrm>
            <a:prstGeom prst="rect">
              <a:avLst/>
            </a:prstGeom>
            <a:solidFill>
              <a:srgbClr val="99cc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32"/>
          <p:cNvGrpSpPr/>
          <p:nvPr/>
        </p:nvGrpSpPr>
        <p:grpSpPr>
          <a:xfrm>
            <a:off x="324000" y="5891040"/>
            <a:ext cx="720720" cy="701640"/>
            <a:chOff x="324000" y="5891040"/>
            <a:chExt cx="720720" cy="701640"/>
          </a:xfrm>
        </p:grpSpPr>
        <p:pic>
          <p:nvPicPr>
            <p:cNvPr id="185" name="Picture 34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165720"/>
              <a:ext cx="432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9"/>
            <p:cNvSpPr/>
            <p:nvPr/>
          </p:nvSpPr>
          <p:spPr>
            <a:xfrm>
              <a:off x="324000" y="58910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横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1266840" y="5904000"/>
            <a:ext cx="720720" cy="693720"/>
            <a:chOff x="1266840" y="5904000"/>
            <a:chExt cx="720720" cy="693720"/>
          </a:xfrm>
        </p:grpSpPr>
        <p:pic>
          <p:nvPicPr>
            <p:cNvPr id="188" name="Picture 37" descr="蓝色按钮"/>
            <p:cNvPicPr/>
            <p:nvPr/>
          </p:nvPicPr>
          <p:blipFill>
            <a:blip r:embed="rId3"/>
            <a:stretch/>
          </p:blipFill>
          <p:spPr>
            <a:xfrm>
              <a:off x="1349280" y="6166080"/>
              <a:ext cx="47628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31"/>
            <p:cNvSpPr/>
            <p:nvPr/>
          </p:nvSpPr>
          <p:spPr>
            <a:xfrm>
              <a:off x="1266840" y="590400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竖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7"/>
          <p:cNvSpPr/>
          <p:nvPr/>
        </p:nvSpPr>
        <p:spPr>
          <a:xfrm>
            <a:off x="971640" y="1197000"/>
            <a:ext cx="784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张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、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长方形纸卷成一个圆柱形纸筒，纸筒的底面周长和高各是多少？先自己卷一卷，再与同学交流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5:50Z</dcterms:created>
  <dc:creator>Administrator</dc:creator>
  <dc:description/>
  <cp:keywords>青岛版数学</cp:keywords>
  <dc:language>en-US</dc:language>
  <cp:lastModifiedBy>微软用户</cp:lastModifiedBy>
  <dcterms:modified xsi:type="dcterms:W3CDTF">2015-11-17T07:26:47Z</dcterms:modified>
  <cp:revision>38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