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808-1B28-46A6-BE15-E353BDAC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568-6D22-4FDD-B106-6E04A356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8BE-976B-4AB9-B3F3-E7E168D6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05A-5009-4657-8160-E8F2A738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881-4BAA-47AA-BF5C-6F90625B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6281-3A6F-455F-B2B2-5AB47B86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970A-C100-42D8-A7CA-8F88ABA6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377-895D-48DF-8A60-3BA5DEB3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788-2E80-48C0-B4B9-91783A11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A2E-4F3B-4A22-B9D5-DB05369C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9FA-D05C-4C5D-BF92-A5DC6CD7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81F-3011-4AE8-8BEB-08CA62CF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1" lang="en-US" sz="1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A698-50FA-4700-A565-B1DACEE5EF50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0"/>
          <p:cNvSpPr/>
          <p:nvPr/>
        </p:nvSpPr>
        <p:spPr>
          <a:xfrm>
            <a:off x="468360" y="12430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下列圆锥的体积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16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163" name="Group 51"/>
          <p:cNvGrpSpPr/>
          <p:nvPr/>
        </p:nvGrpSpPr>
        <p:grpSpPr>
          <a:xfrm>
            <a:off x="3995640" y="1700280"/>
            <a:ext cx="3056040" cy="687960"/>
            <a:chOff x="3995640" y="1700280"/>
            <a:chExt cx="3056040" cy="687960"/>
          </a:xfrm>
        </p:grpSpPr>
        <p:sp>
          <p:nvSpPr>
            <p:cNvPr id="164" name="Text Box 6"/>
            <p:cNvSpPr/>
            <p:nvPr/>
          </p:nvSpPr>
          <p:spPr>
            <a:xfrm>
              <a:off x="3995640" y="1771560"/>
              <a:ext cx="30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.6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grpSp>
          <p:nvGrpSpPr>
            <p:cNvPr id="165" name="Group 7"/>
            <p:cNvGrpSpPr/>
            <p:nvPr/>
          </p:nvGrpSpPr>
          <p:grpSpPr>
            <a:xfrm>
              <a:off x="4373640" y="1700280"/>
              <a:ext cx="360360" cy="687960"/>
              <a:chOff x="4373640" y="1700280"/>
              <a:chExt cx="360360" cy="687960"/>
            </a:xfrm>
          </p:grpSpPr>
          <p:sp>
            <p:nvSpPr>
              <p:cNvPr id="166" name="Text Box 8"/>
              <p:cNvSpPr/>
              <p:nvPr/>
            </p:nvSpPr>
            <p:spPr>
              <a:xfrm>
                <a:off x="4375080" y="170028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167" name="Text Box 9"/>
              <p:cNvSpPr/>
              <p:nvPr/>
            </p:nvSpPr>
            <p:spPr>
              <a:xfrm>
                <a:off x="4376880" y="1989360"/>
                <a:ext cx="33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168" name="Line 10"/>
              <p:cNvSpPr/>
              <p:nvPr/>
            </p:nvSpPr>
            <p:spPr>
              <a:xfrm>
                <a:off x="4373640" y="2048040"/>
                <a:ext cx="289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</p:grpSp>
      <p:sp>
        <p:nvSpPr>
          <p:cNvPr id="169" name="Text Box 12"/>
          <p:cNvSpPr/>
          <p:nvPr/>
        </p:nvSpPr>
        <p:spPr>
          <a:xfrm>
            <a:off x="611280" y="1773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5.6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3dm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611280" y="321300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6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20cm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641520" y="470052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8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6m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4067280" y="2421000"/>
            <a:ext cx="195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173" name="Group 52"/>
          <p:cNvGrpSpPr/>
          <p:nvPr/>
        </p:nvGrpSpPr>
        <p:grpSpPr>
          <a:xfrm>
            <a:off x="3995640" y="2924280"/>
            <a:ext cx="3057480" cy="687960"/>
            <a:chOff x="3995640" y="2924280"/>
            <a:chExt cx="3057480" cy="687960"/>
          </a:xfrm>
        </p:grpSpPr>
        <p:sp>
          <p:nvSpPr>
            <p:cNvPr id="174" name="Text Box 16"/>
            <p:cNvSpPr/>
            <p:nvPr/>
          </p:nvSpPr>
          <p:spPr>
            <a:xfrm>
              <a:off x="3995640" y="3035520"/>
              <a:ext cx="30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14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grpSp>
          <p:nvGrpSpPr>
            <p:cNvPr id="175" name="Group 7"/>
            <p:cNvGrpSpPr/>
            <p:nvPr/>
          </p:nvGrpSpPr>
          <p:grpSpPr>
            <a:xfrm>
              <a:off x="4354560" y="2924280"/>
              <a:ext cx="360360" cy="687960"/>
              <a:chOff x="4354560" y="2924280"/>
              <a:chExt cx="360360" cy="687960"/>
            </a:xfrm>
          </p:grpSpPr>
          <p:sp>
            <p:nvSpPr>
              <p:cNvPr id="176" name="Text Box 8"/>
              <p:cNvSpPr/>
              <p:nvPr/>
            </p:nvSpPr>
            <p:spPr>
              <a:xfrm>
                <a:off x="4356000" y="292428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177" name="Text Box 9"/>
              <p:cNvSpPr/>
              <p:nvPr/>
            </p:nvSpPr>
            <p:spPr>
              <a:xfrm>
                <a:off x="4357800" y="3213360"/>
                <a:ext cx="33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178" name="Line 10"/>
              <p:cNvSpPr/>
              <p:nvPr/>
            </p:nvSpPr>
            <p:spPr>
              <a:xfrm>
                <a:off x="4354560" y="3272040"/>
                <a:ext cx="289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</p:grpSp>
      <p:grpSp>
        <p:nvGrpSpPr>
          <p:cNvPr id="179" name="Group 53"/>
          <p:cNvGrpSpPr/>
          <p:nvPr/>
        </p:nvGrpSpPr>
        <p:grpSpPr>
          <a:xfrm>
            <a:off x="3852720" y="3587760"/>
            <a:ext cx="3887640" cy="687960"/>
            <a:chOff x="3852720" y="3587760"/>
            <a:chExt cx="3887640" cy="687960"/>
          </a:xfrm>
        </p:grpSpPr>
        <p:sp>
          <p:nvSpPr>
            <p:cNvPr id="180" name="Text Box 16"/>
            <p:cNvSpPr/>
            <p:nvPr/>
          </p:nvSpPr>
          <p:spPr>
            <a:xfrm>
              <a:off x="3852720" y="368784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   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14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36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grpSp>
          <p:nvGrpSpPr>
            <p:cNvPr id="181" name="Group 7"/>
            <p:cNvGrpSpPr/>
            <p:nvPr/>
          </p:nvGrpSpPr>
          <p:grpSpPr>
            <a:xfrm>
              <a:off x="4384440" y="3587760"/>
              <a:ext cx="360360" cy="687960"/>
              <a:chOff x="4384440" y="3587760"/>
              <a:chExt cx="360360" cy="687960"/>
            </a:xfrm>
          </p:grpSpPr>
          <p:sp>
            <p:nvSpPr>
              <p:cNvPr id="182" name="Text Box 8"/>
              <p:cNvSpPr/>
              <p:nvPr/>
            </p:nvSpPr>
            <p:spPr>
              <a:xfrm>
                <a:off x="4385880" y="358776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183" name="Text Box 9"/>
              <p:cNvSpPr/>
              <p:nvPr/>
            </p:nvSpPr>
            <p:spPr>
              <a:xfrm>
                <a:off x="4387680" y="3876840"/>
                <a:ext cx="33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184" name="Line 10"/>
              <p:cNvSpPr/>
              <p:nvPr/>
            </p:nvSpPr>
            <p:spPr>
              <a:xfrm>
                <a:off x="4384440" y="3935520"/>
                <a:ext cx="289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</p:grpSp>
      <p:sp>
        <p:nvSpPr>
          <p:cNvPr id="185" name="Text Box 16"/>
          <p:cNvSpPr/>
          <p:nvPr/>
        </p:nvSpPr>
        <p:spPr>
          <a:xfrm>
            <a:off x="3881520" y="42814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53.6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186" name="Group 54"/>
          <p:cNvGrpSpPr/>
          <p:nvPr/>
        </p:nvGrpSpPr>
        <p:grpSpPr>
          <a:xfrm>
            <a:off x="4038480" y="4724280"/>
            <a:ext cx="4421160" cy="687960"/>
            <a:chOff x="4038480" y="4724280"/>
            <a:chExt cx="4421160" cy="687960"/>
          </a:xfrm>
        </p:grpSpPr>
        <p:sp>
          <p:nvSpPr>
            <p:cNvPr id="187" name="Text Box 22"/>
            <p:cNvSpPr/>
            <p:nvPr/>
          </p:nvSpPr>
          <p:spPr>
            <a:xfrm>
              <a:off x="4038480" y="4840200"/>
              <a:ext cx="442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14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÷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grpSp>
          <p:nvGrpSpPr>
            <p:cNvPr id="188" name="Group 7"/>
            <p:cNvGrpSpPr/>
            <p:nvPr/>
          </p:nvGrpSpPr>
          <p:grpSpPr>
            <a:xfrm>
              <a:off x="4398840" y="4724280"/>
              <a:ext cx="360360" cy="687960"/>
              <a:chOff x="4398840" y="4724280"/>
              <a:chExt cx="360360" cy="687960"/>
            </a:xfrm>
          </p:grpSpPr>
          <p:sp>
            <p:nvSpPr>
              <p:cNvPr id="189" name="Text Box 8"/>
              <p:cNvSpPr/>
              <p:nvPr/>
            </p:nvSpPr>
            <p:spPr>
              <a:xfrm>
                <a:off x="4400280" y="472428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190" name="Text Box 9"/>
              <p:cNvSpPr/>
              <p:nvPr/>
            </p:nvSpPr>
            <p:spPr>
              <a:xfrm>
                <a:off x="4402080" y="5013360"/>
                <a:ext cx="33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191" name="Line 10"/>
              <p:cNvSpPr/>
              <p:nvPr/>
            </p:nvSpPr>
            <p:spPr>
              <a:xfrm>
                <a:off x="4398840" y="5072040"/>
                <a:ext cx="289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</p:grpSp>
      <p:grpSp>
        <p:nvGrpSpPr>
          <p:cNvPr id="192" name="Group 55"/>
          <p:cNvGrpSpPr/>
          <p:nvPr/>
        </p:nvGrpSpPr>
        <p:grpSpPr>
          <a:xfrm>
            <a:off x="3894120" y="5402160"/>
            <a:ext cx="3887640" cy="687960"/>
            <a:chOff x="3894120" y="5402160"/>
            <a:chExt cx="3887640" cy="687960"/>
          </a:xfrm>
        </p:grpSpPr>
        <p:sp>
          <p:nvSpPr>
            <p:cNvPr id="193" name="Text Box 16"/>
            <p:cNvSpPr/>
            <p:nvPr/>
          </p:nvSpPr>
          <p:spPr>
            <a:xfrm>
              <a:off x="3894120" y="551664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   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14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16×6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grpSp>
          <p:nvGrpSpPr>
            <p:cNvPr id="194" name="Group 7"/>
            <p:cNvGrpSpPr/>
            <p:nvPr/>
          </p:nvGrpSpPr>
          <p:grpSpPr>
            <a:xfrm>
              <a:off x="4413240" y="5402160"/>
              <a:ext cx="360360" cy="687960"/>
              <a:chOff x="4413240" y="5402160"/>
              <a:chExt cx="360360" cy="687960"/>
            </a:xfrm>
          </p:grpSpPr>
          <p:sp>
            <p:nvSpPr>
              <p:cNvPr id="195" name="Text Box 8"/>
              <p:cNvSpPr/>
              <p:nvPr/>
            </p:nvSpPr>
            <p:spPr>
              <a:xfrm>
                <a:off x="4414680" y="540216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196" name="Text Box 9"/>
              <p:cNvSpPr/>
              <p:nvPr/>
            </p:nvSpPr>
            <p:spPr>
              <a:xfrm>
                <a:off x="4416480" y="5691240"/>
                <a:ext cx="33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197" name="Line 10"/>
              <p:cNvSpPr/>
              <p:nvPr/>
            </p:nvSpPr>
            <p:spPr>
              <a:xfrm>
                <a:off x="4413240" y="5749920"/>
                <a:ext cx="289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</p:grpSp>
      <p:sp>
        <p:nvSpPr>
          <p:cNvPr id="198" name="Text Box 16"/>
          <p:cNvSpPr/>
          <p:nvPr/>
        </p:nvSpPr>
        <p:spPr>
          <a:xfrm>
            <a:off x="3938760" y="60674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0.48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1332000" y="4005360"/>
            <a:ext cx="518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14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62.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1835280" y="4941720"/>
            <a:ext cx="518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2.8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4 =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7.9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吨）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1619280" y="5516640"/>
            <a:ext cx="518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这堆煤大约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7.9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204" name="Group 8"/>
          <p:cNvGrpSpPr/>
          <p:nvPr/>
        </p:nvGrpSpPr>
        <p:grpSpPr>
          <a:xfrm>
            <a:off x="1692360" y="3357720"/>
            <a:ext cx="5545080" cy="1140840"/>
            <a:chOff x="1692360" y="3357720"/>
            <a:chExt cx="5545080" cy="1140840"/>
          </a:xfrm>
        </p:grpSpPr>
        <p:sp>
          <p:nvSpPr>
            <p:cNvPr id="205" name="Text Box 9"/>
            <p:cNvSpPr/>
            <p:nvPr/>
          </p:nvSpPr>
          <p:spPr>
            <a:xfrm>
              <a:off x="1692360" y="3482640"/>
              <a:ext cx="5545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14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1.4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÷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14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÷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.4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grpSp>
          <p:nvGrpSpPr>
            <p:cNvPr id="206" name="Group 10"/>
            <p:cNvGrpSpPr/>
            <p:nvPr/>
          </p:nvGrpSpPr>
          <p:grpSpPr>
            <a:xfrm>
              <a:off x="1835280" y="3357720"/>
              <a:ext cx="360360" cy="687600"/>
              <a:chOff x="1835280" y="3357720"/>
              <a:chExt cx="360360" cy="687600"/>
            </a:xfrm>
          </p:grpSpPr>
          <p:sp>
            <p:nvSpPr>
              <p:cNvPr id="207" name="Text Box 11"/>
              <p:cNvSpPr/>
              <p:nvPr/>
            </p:nvSpPr>
            <p:spPr>
              <a:xfrm>
                <a:off x="1836720" y="335772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208" name="Text Box 12"/>
              <p:cNvSpPr/>
              <p:nvPr/>
            </p:nvSpPr>
            <p:spPr>
              <a:xfrm>
                <a:off x="1838520" y="3646440"/>
                <a:ext cx="33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209" name="Line 13"/>
              <p:cNvSpPr/>
              <p:nvPr/>
            </p:nvSpPr>
            <p:spPr>
              <a:xfrm>
                <a:off x="1835280" y="3705120"/>
                <a:ext cx="289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</p:grpSp>
      <p:pic>
        <p:nvPicPr>
          <p:cNvPr id="210" name="Picture 14" descr=""/>
          <p:cNvPicPr/>
          <p:nvPr/>
        </p:nvPicPr>
        <p:blipFill>
          <a:blip r:embed="rId2"/>
          <a:stretch/>
        </p:blipFill>
        <p:spPr>
          <a:xfrm>
            <a:off x="4788000" y="1420920"/>
            <a:ext cx="3351240" cy="15033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5"/>
          <p:cNvSpPr/>
          <p:nvPr/>
        </p:nvSpPr>
        <p:spPr>
          <a:xfrm>
            <a:off x="324000" y="134928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个近似圆锥形的煤堆，测得它的底面周长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.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高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如果每立方米煤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，这堆煤大约重多少吨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4754520" cy="3529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0"/>
          <p:cNvSpPr/>
          <p:nvPr/>
        </p:nvSpPr>
        <p:spPr>
          <a:xfrm>
            <a:off x="826920" y="5516640"/>
            <a:ext cx="6175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，你知道了哪些数学信息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44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3"/>
          <p:cNvSpPr/>
          <p:nvPr/>
        </p:nvSpPr>
        <p:spPr>
          <a:xfrm>
            <a:off x="5508720" y="1700280"/>
            <a:ext cx="30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锥形冰淇淋包装盒的底面直径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6" name="Text Box 23"/>
          <p:cNvSpPr/>
          <p:nvPr/>
        </p:nvSpPr>
        <p:spPr>
          <a:xfrm>
            <a:off x="5580000" y="3573360"/>
            <a:ext cx="3022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锥形包装盒的体积是多少立方厘米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859280" y="2924280"/>
            <a:ext cx="7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427640" y="3068640"/>
            <a:ext cx="43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755640" y="5875200"/>
            <a:ext cx="655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这些信息，你能提出什么问题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3"/>
          <a:stretch/>
        </p:blipFill>
        <p:spPr>
          <a:xfrm>
            <a:off x="468360" y="1341360"/>
            <a:ext cx="934920" cy="636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情境导入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1835280" y="2708280"/>
            <a:ext cx="27352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3"/>
          <p:cNvGrpSpPr/>
          <p:nvPr/>
        </p:nvGrpSpPr>
        <p:grpSpPr>
          <a:xfrm>
            <a:off x="1476360" y="4005000"/>
            <a:ext cx="1582920" cy="1859400"/>
            <a:chOff x="1476360" y="4005000"/>
            <a:chExt cx="1582920" cy="1859400"/>
          </a:xfrm>
        </p:grpSpPr>
        <p:sp>
          <p:nvSpPr>
            <p:cNvPr id="55" name="Freeform 51"/>
            <p:cNvSpPr/>
            <p:nvPr/>
          </p:nvSpPr>
          <p:spPr>
            <a:xfrm flipV="1">
              <a:off x="1476360" y="4005360"/>
              <a:ext cx="1582920" cy="1859040"/>
            </a:xfrm>
            <a:custGeom>
              <a:avLst/>
              <a:gdLst>
                <a:gd name="textAreaLeft" fmla="*/ 0 w 1582920"/>
                <a:gd name="textAreaRight" fmla="*/ 1583280 w 1582920"/>
                <a:gd name="textAreaTop" fmla="*/ 360 h 1859040"/>
                <a:gd name="textAreaBottom" fmla="*/ 1859760 h 1859040"/>
              </a:gdLst>
              <a:ahLst/>
              <a:rect l="textAreaLeft" t="textAreaTop" r="textAreaRight" b="textAreaBottom"/>
              <a:pathLst>
                <a:path w="1827" h="1776">
                  <a:moveTo>
                    <a:pt x="1" y="1442"/>
                  </a:moveTo>
                  <a:lnTo>
                    <a:pt x="0" y="1442"/>
                  </a:lnTo>
                  <a:lnTo>
                    <a:pt x="11" y="1382"/>
                  </a:lnTo>
                  <a:lnTo>
                    <a:pt x="913" y="0"/>
                  </a:lnTo>
                  <a:lnTo>
                    <a:pt x="1799" y="1366"/>
                  </a:lnTo>
                  <a:lnTo>
                    <a:pt x="1827" y="1438"/>
                  </a:lnTo>
                  <a:lnTo>
                    <a:pt x="1817" y="1493"/>
                  </a:lnTo>
                  <a:lnTo>
                    <a:pt x="1789" y="1535"/>
                  </a:lnTo>
                  <a:lnTo>
                    <a:pt x="1766" y="1561"/>
                  </a:lnTo>
                  <a:lnTo>
                    <a:pt x="1731" y="1592"/>
                  </a:lnTo>
                  <a:lnTo>
                    <a:pt x="1655" y="1637"/>
                  </a:lnTo>
                  <a:lnTo>
                    <a:pt x="1574" y="1673"/>
                  </a:lnTo>
                  <a:lnTo>
                    <a:pt x="1497" y="1700"/>
                  </a:lnTo>
                  <a:lnTo>
                    <a:pt x="1427" y="1718"/>
                  </a:lnTo>
                  <a:lnTo>
                    <a:pt x="1344" y="1738"/>
                  </a:lnTo>
                  <a:lnTo>
                    <a:pt x="1255" y="1753"/>
                  </a:lnTo>
                  <a:lnTo>
                    <a:pt x="1159" y="1763"/>
                  </a:lnTo>
                  <a:lnTo>
                    <a:pt x="1063" y="1774"/>
                  </a:lnTo>
                  <a:lnTo>
                    <a:pt x="989" y="1775"/>
                  </a:lnTo>
                  <a:lnTo>
                    <a:pt x="913" y="1776"/>
                  </a:lnTo>
                  <a:lnTo>
                    <a:pt x="810" y="1776"/>
                  </a:lnTo>
                  <a:lnTo>
                    <a:pt x="725" y="1769"/>
                  </a:lnTo>
                  <a:lnTo>
                    <a:pt x="627" y="1760"/>
                  </a:lnTo>
                  <a:lnTo>
                    <a:pt x="547" y="1747"/>
                  </a:lnTo>
                  <a:lnTo>
                    <a:pt x="456" y="1732"/>
                  </a:lnTo>
                  <a:lnTo>
                    <a:pt x="385" y="1715"/>
                  </a:lnTo>
                  <a:lnTo>
                    <a:pt x="312" y="1693"/>
                  </a:lnTo>
                  <a:lnTo>
                    <a:pt x="239" y="1669"/>
                  </a:lnTo>
                  <a:lnTo>
                    <a:pt x="175" y="1637"/>
                  </a:lnTo>
                  <a:lnTo>
                    <a:pt x="107" y="1600"/>
                  </a:lnTo>
                  <a:lnTo>
                    <a:pt x="61" y="1561"/>
                  </a:lnTo>
                  <a:lnTo>
                    <a:pt x="26" y="1520"/>
                  </a:lnTo>
                  <a:lnTo>
                    <a:pt x="8" y="1484"/>
                  </a:lnTo>
                  <a:lnTo>
                    <a:pt x="1" y="1443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56" name="Oval 49"/>
            <p:cNvSpPr/>
            <p:nvPr/>
          </p:nvSpPr>
          <p:spPr>
            <a:xfrm flipV="1">
              <a:off x="1476360" y="4004640"/>
              <a:ext cx="1580040" cy="703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 rot="10800000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sp>
        <p:nvSpPr>
          <p:cNvPr id="57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826920" y="1989000"/>
            <a:ext cx="71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圆锥形包装盒的体积就是求圆锥的体积。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812880" y="31114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楷体_GB2312"/>
              </a:rPr>
              <a:t>猜一猜：圆锥的体积可能与哪种立体图形的体积有关系？ 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3564000" y="4653000"/>
            <a:ext cx="761760" cy="216000"/>
          </a:xfrm>
          <a:prstGeom prst="rightArrow">
            <a:avLst>
              <a:gd name="adj1" fmla="val 50000"/>
              <a:gd name="adj2" fmla="val 881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61" name="Group 10"/>
          <p:cNvGrpSpPr/>
          <p:nvPr/>
        </p:nvGrpSpPr>
        <p:grpSpPr>
          <a:xfrm>
            <a:off x="4932360" y="4076280"/>
            <a:ext cx="1584360" cy="2184840"/>
            <a:chOff x="4932360" y="4076280"/>
            <a:chExt cx="1584360" cy="2184840"/>
          </a:xfrm>
        </p:grpSpPr>
        <p:sp>
          <p:nvSpPr>
            <p:cNvPr id="62" name="Oval 2"/>
            <p:cNvSpPr/>
            <p:nvPr/>
          </p:nvSpPr>
          <p:spPr>
            <a:xfrm>
              <a:off x="4932360" y="5549400"/>
              <a:ext cx="1580760" cy="6868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63" name="Oval 4"/>
            <p:cNvSpPr/>
            <p:nvPr/>
          </p:nvSpPr>
          <p:spPr>
            <a:xfrm>
              <a:off x="4932360" y="4076640"/>
              <a:ext cx="1580760" cy="6868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 flipV="1">
              <a:off x="4932360" y="4075920"/>
              <a:ext cx="1584360" cy="181620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-360 h 1816200"/>
                <a:gd name="textAreaBottom" fmla="*/ 1816200 h 1816200"/>
              </a:gdLst>
              <a:ahLst/>
              <a:rect l="textAreaLeft" t="textAreaTop" r="textAreaRight" b="textAreaBottom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4932360" y="4444920"/>
              <a:ext cx="1584360" cy="181620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1816200"/>
                <a:gd name="textAreaBottom" fmla="*/ 1816560 h 1816200"/>
              </a:gdLst>
              <a:ahLst/>
              <a:rect l="textAreaLeft" t="textAreaTop" r="textAreaRight" b="textAreaBottom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pic>
        <p:nvPicPr>
          <p:cNvPr id="66" name="Picture 15" descr=""/>
          <p:cNvPicPr/>
          <p:nvPr/>
        </p:nvPicPr>
        <p:blipFill>
          <a:blip r:embed="rId2"/>
          <a:stretch/>
        </p:blipFill>
        <p:spPr>
          <a:xfrm>
            <a:off x="468360" y="13701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3"/>
          <p:cNvSpPr/>
          <p:nvPr/>
        </p:nvSpPr>
        <p:spPr>
          <a:xfrm>
            <a:off x="826920" y="1341360"/>
            <a:ext cx="71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锥形包装盒的体积是多少立方厘米？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826920" y="2565360"/>
            <a:ext cx="78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楷体_GB2312"/>
              </a:rPr>
              <a:t>怎样求圆锥的体积呢？ 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3"/>
          <p:cNvGrpSpPr/>
          <p:nvPr/>
        </p:nvGrpSpPr>
        <p:grpSpPr>
          <a:xfrm>
            <a:off x="1547640" y="2781000"/>
            <a:ext cx="1800360" cy="2087640"/>
            <a:chOff x="1547640" y="2781000"/>
            <a:chExt cx="1800360" cy="2087640"/>
          </a:xfrm>
        </p:grpSpPr>
        <p:sp>
          <p:nvSpPr>
            <p:cNvPr id="71" name="Freeform 51"/>
            <p:cNvSpPr/>
            <p:nvPr/>
          </p:nvSpPr>
          <p:spPr>
            <a:xfrm flipV="1">
              <a:off x="1547640" y="2780640"/>
              <a:ext cx="1800360" cy="2087640"/>
            </a:xfrm>
            <a:custGeom>
              <a:avLst/>
              <a:gdLst>
                <a:gd name="textAreaLeft" fmla="*/ 0 w 1800360"/>
                <a:gd name="textAreaRight" fmla="*/ 1800720 w 1800360"/>
                <a:gd name="textAreaTop" fmla="*/ -360 h 2087640"/>
                <a:gd name="textAreaBottom" fmla="*/ 2087640 h 2087640"/>
              </a:gdLst>
              <a:ahLst/>
              <a:rect l="textAreaLeft" t="textAreaTop" r="textAreaRight" b="textAreaBottom"/>
              <a:pathLst>
                <a:path w="1827" h="1776">
                  <a:moveTo>
                    <a:pt x="1" y="1442"/>
                  </a:moveTo>
                  <a:lnTo>
                    <a:pt x="0" y="1442"/>
                  </a:lnTo>
                  <a:lnTo>
                    <a:pt x="11" y="1382"/>
                  </a:lnTo>
                  <a:lnTo>
                    <a:pt x="913" y="0"/>
                  </a:lnTo>
                  <a:lnTo>
                    <a:pt x="1799" y="1366"/>
                  </a:lnTo>
                  <a:lnTo>
                    <a:pt x="1827" y="1438"/>
                  </a:lnTo>
                  <a:lnTo>
                    <a:pt x="1817" y="1493"/>
                  </a:lnTo>
                  <a:lnTo>
                    <a:pt x="1789" y="1535"/>
                  </a:lnTo>
                  <a:lnTo>
                    <a:pt x="1766" y="1561"/>
                  </a:lnTo>
                  <a:lnTo>
                    <a:pt x="1731" y="1592"/>
                  </a:lnTo>
                  <a:lnTo>
                    <a:pt x="1655" y="1637"/>
                  </a:lnTo>
                  <a:lnTo>
                    <a:pt x="1574" y="1673"/>
                  </a:lnTo>
                  <a:lnTo>
                    <a:pt x="1497" y="1700"/>
                  </a:lnTo>
                  <a:lnTo>
                    <a:pt x="1427" y="1718"/>
                  </a:lnTo>
                  <a:lnTo>
                    <a:pt x="1344" y="1738"/>
                  </a:lnTo>
                  <a:lnTo>
                    <a:pt x="1255" y="1753"/>
                  </a:lnTo>
                  <a:lnTo>
                    <a:pt x="1159" y="1763"/>
                  </a:lnTo>
                  <a:lnTo>
                    <a:pt x="1063" y="1774"/>
                  </a:lnTo>
                  <a:lnTo>
                    <a:pt x="989" y="1775"/>
                  </a:lnTo>
                  <a:lnTo>
                    <a:pt x="913" y="1776"/>
                  </a:lnTo>
                  <a:lnTo>
                    <a:pt x="810" y="1776"/>
                  </a:lnTo>
                  <a:lnTo>
                    <a:pt x="725" y="1769"/>
                  </a:lnTo>
                  <a:lnTo>
                    <a:pt x="627" y="1760"/>
                  </a:lnTo>
                  <a:lnTo>
                    <a:pt x="547" y="1747"/>
                  </a:lnTo>
                  <a:lnTo>
                    <a:pt x="456" y="1732"/>
                  </a:lnTo>
                  <a:lnTo>
                    <a:pt x="385" y="1715"/>
                  </a:lnTo>
                  <a:lnTo>
                    <a:pt x="312" y="1693"/>
                  </a:lnTo>
                  <a:lnTo>
                    <a:pt x="239" y="1669"/>
                  </a:lnTo>
                  <a:lnTo>
                    <a:pt x="175" y="1637"/>
                  </a:lnTo>
                  <a:lnTo>
                    <a:pt x="107" y="1600"/>
                  </a:lnTo>
                  <a:lnTo>
                    <a:pt x="61" y="1561"/>
                  </a:lnTo>
                  <a:lnTo>
                    <a:pt x="26" y="1520"/>
                  </a:lnTo>
                  <a:lnTo>
                    <a:pt x="8" y="1484"/>
                  </a:lnTo>
                  <a:lnTo>
                    <a:pt x="1" y="1443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72" name="Oval 49"/>
            <p:cNvSpPr/>
            <p:nvPr/>
          </p:nvSpPr>
          <p:spPr>
            <a:xfrm flipV="1">
              <a:off x="1547640" y="2780640"/>
              <a:ext cx="1797120" cy="7894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 rot="10800000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73" name="Group 6"/>
          <p:cNvGrpSpPr/>
          <p:nvPr/>
        </p:nvGrpSpPr>
        <p:grpSpPr>
          <a:xfrm>
            <a:off x="4500720" y="2781360"/>
            <a:ext cx="1800000" cy="2520360"/>
            <a:chOff x="4500720" y="2781360"/>
            <a:chExt cx="1800000" cy="2520360"/>
          </a:xfrm>
        </p:grpSpPr>
        <p:sp>
          <p:nvSpPr>
            <p:cNvPr id="74" name="Oval 2"/>
            <p:cNvSpPr/>
            <p:nvPr/>
          </p:nvSpPr>
          <p:spPr>
            <a:xfrm>
              <a:off x="4500720" y="4500000"/>
              <a:ext cx="1796040" cy="8017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75" name="Oval 4"/>
            <p:cNvSpPr/>
            <p:nvPr/>
          </p:nvSpPr>
          <p:spPr>
            <a:xfrm>
              <a:off x="4500720" y="2781360"/>
              <a:ext cx="1796040" cy="8017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 flipV="1">
              <a:off x="4500720" y="2781360"/>
              <a:ext cx="1800000" cy="2119680"/>
            </a:xfrm>
            <a:custGeom>
              <a:avLst/>
              <a:gdLst>
                <a:gd name="textAreaLeft" fmla="*/ 0 w 1800000"/>
                <a:gd name="textAreaRight" fmla="*/ 1800360 w 1800000"/>
                <a:gd name="textAreaTop" fmla="*/ 360 h 2119680"/>
                <a:gd name="textAreaBottom" fmla="*/ 2120400 h 2119680"/>
              </a:gdLst>
              <a:ahLst/>
              <a:rect l="textAreaLeft" t="textAreaTop" r="textAreaRight" b="textAreaBottom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>
              <a:off x="4500720" y="3182400"/>
              <a:ext cx="1800000" cy="2119320"/>
            </a:xfrm>
            <a:custGeom>
              <a:avLst/>
              <a:gdLst>
                <a:gd name="textAreaLeft" fmla="*/ 0 w 1800000"/>
                <a:gd name="textAreaRight" fmla="*/ 1800360 w 1800000"/>
                <a:gd name="textAreaTop" fmla="*/ 0 h 2119320"/>
                <a:gd name="textAreaBottom" fmla="*/ 2119680 h 2119320"/>
              </a:gdLst>
              <a:ahLst/>
              <a:rect l="textAreaLeft" t="textAreaTop" r="textAreaRight" b="textAreaBottom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sp>
        <p:nvSpPr>
          <p:cNvPr id="78" name="Oval 11"/>
          <p:cNvSpPr/>
          <p:nvPr/>
        </p:nvSpPr>
        <p:spPr>
          <a:xfrm>
            <a:off x="4519440" y="2781360"/>
            <a:ext cx="1800360" cy="793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1619280" y="55897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个圆柱和圆锥等底等高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539640" y="1341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锥的体积与圆柱有怎样的关系呢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5421240" y="3227400"/>
            <a:ext cx="0" cy="165564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83" name="Rectangle 23"/>
          <p:cNvSpPr/>
          <p:nvPr/>
        </p:nvSpPr>
        <p:spPr>
          <a:xfrm>
            <a:off x="5298840" y="308304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黑体"/>
                <a:ea typeface="黑体"/>
              </a:rPr>
              <a:t>●</a:t>
            </a:r>
            <a:endParaRPr b="1" lang="en-US" sz="8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84" name="Rectangle 25"/>
          <p:cNvSpPr/>
          <p:nvPr/>
        </p:nvSpPr>
        <p:spPr>
          <a:xfrm>
            <a:off x="5300280" y="472428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黑体"/>
                <a:ea typeface="黑体"/>
              </a:rPr>
              <a:t>●</a:t>
            </a:r>
            <a:endParaRPr b="1" lang="en-US" sz="8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8776E-006 L 0.32673 -2.28776E-006 E">
                                      <p:cBhvr>
                                        <p:cTn id="6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"/>
                            </p:stCondLst>
                            <p:childTnLst>
                              <p:par>
                                <p:cTn id="8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673 2.77457E-006 L -0.00399 2.77457E-006 E">
                                      <p:cBhvr>
                                        <p:cTn id="102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2"/>
          <p:cNvSpPr/>
          <p:nvPr/>
        </p:nvSpPr>
        <p:spPr>
          <a:xfrm>
            <a:off x="539640" y="2349360"/>
            <a:ext cx="7775640" cy="3745080"/>
          </a:xfrm>
          <a:prstGeom prst="foldedCorner">
            <a:avLst>
              <a:gd name="adj" fmla="val 12500"/>
            </a:avLst>
          </a:prstGeom>
          <a:solidFill>
            <a:srgbClr val="ff6600">
              <a:alpha val="27000"/>
            </a:srgbClr>
          </a:solidFill>
          <a:ln w="9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8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3"/>
          <p:cNvSpPr/>
          <p:nvPr/>
        </p:nvSpPr>
        <p:spPr>
          <a:xfrm>
            <a:off x="539640" y="2322360"/>
            <a:ext cx="727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验活动要求  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826920" y="2852640"/>
            <a:ext cx="727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材料：等底等高的圆柱形、圆锥形容器各一个；适量的沙子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826920" y="3645000"/>
            <a:ext cx="727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方法一：将圆锥形容器装满沙子，再倒入圆柱形的容器里，倒满为止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二：将圆柱形容器装满沙子，再倒入圆锥形的容器里，倒完为止。 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828720" y="5373720"/>
            <a:ext cx="727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你有什么发现？由此可以得出什么结论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482760" y="13701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锥的体积与圆柱有怎样的关系呢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1042920" y="19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来做个实验看看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5435640" y="1341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来做个实验看看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82760" y="13701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锥的体积与圆柱有怎样的关系呢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84247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5"/>
          <p:cNvSpPr/>
          <p:nvPr/>
        </p:nvSpPr>
        <p:spPr>
          <a:xfrm>
            <a:off x="4140360" y="3933720"/>
            <a:ext cx="2303280" cy="1008000"/>
          </a:xfrm>
          <a:prstGeom prst="rect">
            <a:avLst/>
          </a:prstGeom>
          <a:solidFill>
            <a:srgbClr val="ff66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10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22"/>
          <p:cNvGrpSpPr/>
          <p:nvPr/>
        </p:nvGrpSpPr>
        <p:grpSpPr>
          <a:xfrm>
            <a:off x="3203640" y="2965320"/>
            <a:ext cx="4535280" cy="919080"/>
            <a:chOff x="3203640" y="2965320"/>
            <a:chExt cx="4535280" cy="919080"/>
          </a:xfrm>
        </p:grpSpPr>
        <p:sp>
          <p:nvSpPr>
            <p:cNvPr id="102" name="Text Box 4"/>
            <p:cNvSpPr/>
            <p:nvPr/>
          </p:nvSpPr>
          <p:spPr>
            <a:xfrm>
              <a:off x="3203640" y="3213000"/>
              <a:ext cx="45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圆锥的体积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   ×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底面积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高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5219280" y="2965320"/>
                  <a:ext cx="34272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4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105" name="Group 28"/>
          <p:cNvGrpSpPr/>
          <p:nvPr/>
        </p:nvGrpSpPr>
        <p:grpSpPr>
          <a:xfrm>
            <a:off x="3929040" y="4033800"/>
            <a:ext cx="2573280" cy="777240"/>
            <a:chOff x="3929040" y="4033800"/>
            <a:chExt cx="2573280" cy="777240"/>
          </a:xfrm>
        </p:grpSpPr>
        <p:sp>
          <p:nvSpPr>
            <p:cNvPr id="106" name="Text Box 8"/>
            <p:cNvSpPr/>
            <p:nvPr/>
          </p:nvSpPr>
          <p:spPr>
            <a:xfrm>
              <a:off x="3929040" y="4176720"/>
              <a:ext cx="257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Ⅴ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sh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107" name="Text Box 10"/>
            <p:cNvSpPr/>
            <p:nvPr/>
          </p:nvSpPr>
          <p:spPr>
            <a:xfrm>
              <a:off x="5126040" y="4033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5127480" y="4351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109" name="Line 12"/>
            <p:cNvSpPr/>
            <p:nvPr/>
          </p:nvSpPr>
          <p:spPr>
            <a:xfrm>
              <a:off x="5153040" y="4424400"/>
              <a:ext cx="2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110" name="Group 23"/>
          <p:cNvGrpSpPr/>
          <p:nvPr/>
        </p:nvGrpSpPr>
        <p:grpSpPr>
          <a:xfrm>
            <a:off x="2916360" y="2133720"/>
            <a:ext cx="5867280" cy="966600"/>
            <a:chOff x="2916360" y="2133720"/>
            <a:chExt cx="5867280" cy="966600"/>
          </a:xfrm>
        </p:grpSpPr>
        <p:sp>
          <p:nvSpPr>
            <p:cNvPr id="111" name="Rectangle 13"/>
            <p:cNvSpPr/>
            <p:nvPr/>
          </p:nvSpPr>
          <p:spPr>
            <a:xfrm>
              <a:off x="2916360" y="237780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圆锥的体积是等底等高的圆柱体积的  。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7956720" y="2133720"/>
                  <a:ext cx="360360" cy="96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3" name="Rectangle 13"/>
          <p:cNvSpPr/>
          <p:nvPr/>
        </p:nvSpPr>
        <p:spPr>
          <a:xfrm>
            <a:off x="482760" y="13701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锥的体积与圆柱有怎样的关系呢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114" name="Group 30"/>
          <p:cNvGrpSpPr/>
          <p:nvPr/>
        </p:nvGrpSpPr>
        <p:grpSpPr>
          <a:xfrm>
            <a:off x="900000" y="2492280"/>
            <a:ext cx="1800360" cy="2160720"/>
            <a:chOff x="900000" y="2492280"/>
            <a:chExt cx="1800360" cy="2160720"/>
          </a:xfrm>
        </p:grpSpPr>
        <p:grpSp>
          <p:nvGrpSpPr>
            <p:cNvPr id="115" name="Group 27"/>
            <p:cNvGrpSpPr/>
            <p:nvPr/>
          </p:nvGrpSpPr>
          <p:grpSpPr>
            <a:xfrm>
              <a:off x="900000" y="2492280"/>
              <a:ext cx="1800360" cy="2160720"/>
              <a:chOff x="900000" y="2492280"/>
              <a:chExt cx="1800360" cy="2160720"/>
            </a:xfrm>
          </p:grpSpPr>
          <p:grpSp>
            <p:nvGrpSpPr>
              <p:cNvPr id="116" name="Group 16"/>
              <p:cNvGrpSpPr/>
              <p:nvPr/>
            </p:nvGrpSpPr>
            <p:grpSpPr>
              <a:xfrm>
                <a:off x="900000" y="2492280"/>
                <a:ext cx="1800360" cy="2160720"/>
                <a:chOff x="900000" y="2492280"/>
                <a:chExt cx="1800360" cy="2160720"/>
              </a:xfrm>
            </p:grpSpPr>
            <p:sp>
              <p:nvSpPr>
                <p:cNvPr id="117" name="Freeform 51"/>
                <p:cNvSpPr/>
                <p:nvPr/>
              </p:nvSpPr>
              <p:spPr>
                <a:xfrm flipV="1">
                  <a:off x="900000" y="2492280"/>
                  <a:ext cx="1800360" cy="2160720"/>
                </a:xfrm>
                <a:custGeom>
                  <a:avLst/>
                  <a:gdLst>
                    <a:gd name="textAreaLeft" fmla="*/ 0 w 1800360"/>
                    <a:gd name="textAreaRight" fmla="*/ 1800720 w 1800360"/>
                    <a:gd name="textAreaTop" fmla="*/ 360 h 2160720"/>
                    <a:gd name="textAreaBottom" fmla="*/ 2161440 h 2160720"/>
                  </a:gdLst>
                  <a:ahLst/>
                  <a:rect l="textAreaLeft" t="textAreaTop" r="textAreaRight" b="textAreaBottom"/>
                  <a:pathLst>
                    <a:path w="1827" h="1776">
                      <a:moveTo>
                        <a:pt x="1" y="1442"/>
                      </a:moveTo>
                      <a:lnTo>
                        <a:pt x="0" y="1442"/>
                      </a:lnTo>
                      <a:lnTo>
                        <a:pt x="11" y="1382"/>
                      </a:lnTo>
                      <a:lnTo>
                        <a:pt x="913" y="0"/>
                      </a:lnTo>
                      <a:lnTo>
                        <a:pt x="1799" y="1366"/>
                      </a:lnTo>
                      <a:lnTo>
                        <a:pt x="1827" y="1438"/>
                      </a:lnTo>
                      <a:lnTo>
                        <a:pt x="1817" y="1493"/>
                      </a:lnTo>
                      <a:lnTo>
                        <a:pt x="1789" y="1535"/>
                      </a:lnTo>
                      <a:lnTo>
                        <a:pt x="1766" y="1561"/>
                      </a:lnTo>
                      <a:lnTo>
                        <a:pt x="1731" y="1592"/>
                      </a:lnTo>
                      <a:lnTo>
                        <a:pt x="1655" y="1637"/>
                      </a:lnTo>
                      <a:lnTo>
                        <a:pt x="1574" y="1673"/>
                      </a:lnTo>
                      <a:lnTo>
                        <a:pt x="1497" y="1700"/>
                      </a:lnTo>
                      <a:lnTo>
                        <a:pt x="1427" y="1718"/>
                      </a:lnTo>
                      <a:lnTo>
                        <a:pt x="1344" y="1738"/>
                      </a:lnTo>
                      <a:lnTo>
                        <a:pt x="1255" y="1753"/>
                      </a:lnTo>
                      <a:lnTo>
                        <a:pt x="1159" y="1763"/>
                      </a:lnTo>
                      <a:lnTo>
                        <a:pt x="1063" y="1774"/>
                      </a:lnTo>
                      <a:lnTo>
                        <a:pt x="989" y="1775"/>
                      </a:lnTo>
                      <a:lnTo>
                        <a:pt x="913" y="1776"/>
                      </a:lnTo>
                      <a:lnTo>
                        <a:pt x="810" y="1776"/>
                      </a:lnTo>
                      <a:lnTo>
                        <a:pt x="725" y="1769"/>
                      </a:lnTo>
                      <a:lnTo>
                        <a:pt x="627" y="1760"/>
                      </a:lnTo>
                      <a:lnTo>
                        <a:pt x="547" y="1747"/>
                      </a:lnTo>
                      <a:lnTo>
                        <a:pt x="456" y="1732"/>
                      </a:lnTo>
                      <a:lnTo>
                        <a:pt x="385" y="1715"/>
                      </a:lnTo>
                      <a:lnTo>
                        <a:pt x="312" y="1693"/>
                      </a:lnTo>
                      <a:lnTo>
                        <a:pt x="239" y="1669"/>
                      </a:lnTo>
                      <a:lnTo>
                        <a:pt x="175" y="1637"/>
                      </a:lnTo>
                      <a:lnTo>
                        <a:pt x="107" y="1600"/>
                      </a:lnTo>
                      <a:lnTo>
                        <a:pt x="61" y="1561"/>
                      </a:lnTo>
                      <a:lnTo>
                        <a:pt x="26" y="1520"/>
                      </a:lnTo>
                      <a:lnTo>
                        <a:pt x="8" y="1484"/>
                      </a:lnTo>
                      <a:lnTo>
                        <a:pt x="1" y="1443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ccff"/>
                    </a:solidFill>
                    <a:latin typeface="黑体"/>
                  </a:endParaRPr>
                </a:p>
              </p:txBody>
            </p:sp>
            <p:sp>
              <p:nvSpPr>
                <p:cNvPr id="118" name="Oval 49"/>
                <p:cNvSpPr/>
                <p:nvPr/>
              </p:nvSpPr>
              <p:spPr>
                <a:xfrm flipV="1">
                  <a:off x="900000" y="2492280"/>
                  <a:ext cx="1797120" cy="81720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ccff"/>
                    </a:solidFill>
                    <a:latin typeface="黑体"/>
                  </a:endParaRPr>
                </a:p>
              </p:txBody>
            </p:sp>
          </p:grpSp>
          <p:sp>
            <p:nvSpPr>
              <p:cNvPr id="119" name="Line 26"/>
              <p:cNvSpPr/>
              <p:nvPr/>
            </p:nvSpPr>
            <p:spPr>
              <a:xfrm>
                <a:off x="1807920" y="2852640"/>
                <a:ext cx="0" cy="172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  <p:sp>
          <p:nvSpPr>
            <p:cNvPr id="120" name="Text Box 28"/>
            <p:cNvSpPr/>
            <p:nvPr/>
          </p:nvSpPr>
          <p:spPr>
            <a:xfrm>
              <a:off x="1487520" y="265896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·</a:t>
              </a:r>
              <a:endParaRPr b="1" lang="en-US" sz="20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2737080" cy="1741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3132000" y="3789360"/>
            <a:ext cx="56865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4.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立方厘米）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这个圆锥形包装盒的体积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.2             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厘米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125" name="Group 7"/>
          <p:cNvGrpSpPr/>
          <p:nvPr/>
        </p:nvGrpSpPr>
        <p:grpSpPr>
          <a:xfrm>
            <a:off x="3780000" y="2887560"/>
            <a:ext cx="4646520" cy="687960"/>
            <a:chOff x="3780000" y="2887560"/>
            <a:chExt cx="4646520" cy="687960"/>
          </a:xfrm>
        </p:grpSpPr>
        <p:sp>
          <p:nvSpPr>
            <p:cNvPr id="126" name="Text Box 20"/>
            <p:cNvSpPr/>
            <p:nvPr/>
          </p:nvSpPr>
          <p:spPr>
            <a:xfrm>
              <a:off x="3780000" y="2949480"/>
              <a:ext cx="46465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  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3.14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grpSp>
          <p:nvGrpSpPr>
            <p:cNvPr id="127" name="Group 9"/>
            <p:cNvGrpSpPr/>
            <p:nvPr/>
          </p:nvGrpSpPr>
          <p:grpSpPr>
            <a:xfrm>
              <a:off x="4249800" y="2887560"/>
              <a:ext cx="360360" cy="687960"/>
              <a:chOff x="4249800" y="2887560"/>
              <a:chExt cx="360360" cy="687960"/>
            </a:xfrm>
          </p:grpSpPr>
          <p:sp>
            <p:nvSpPr>
              <p:cNvPr id="128" name="Text Box 10"/>
              <p:cNvSpPr/>
              <p:nvPr/>
            </p:nvSpPr>
            <p:spPr>
              <a:xfrm>
                <a:off x="4251240" y="288756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129" name="Text Box 11"/>
              <p:cNvSpPr/>
              <p:nvPr/>
            </p:nvSpPr>
            <p:spPr>
              <a:xfrm>
                <a:off x="4253040" y="3176640"/>
                <a:ext cx="33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130" name="Line 12"/>
              <p:cNvSpPr/>
              <p:nvPr/>
            </p:nvSpPr>
            <p:spPr>
              <a:xfrm>
                <a:off x="4249800" y="3235320"/>
                <a:ext cx="289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</p:grpSp>
      <p:grpSp>
        <p:nvGrpSpPr>
          <p:cNvPr id="131" name="Group 13"/>
          <p:cNvGrpSpPr/>
          <p:nvPr/>
        </p:nvGrpSpPr>
        <p:grpSpPr>
          <a:xfrm>
            <a:off x="3635280" y="2205000"/>
            <a:ext cx="5329080" cy="687960"/>
            <a:chOff x="3635280" y="2205000"/>
            <a:chExt cx="5329080" cy="687960"/>
          </a:xfrm>
        </p:grpSpPr>
        <p:sp>
          <p:nvSpPr>
            <p:cNvPr id="132" name="Text Box 20"/>
            <p:cNvSpPr/>
            <p:nvPr/>
          </p:nvSpPr>
          <p:spPr>
            <a:xfrm>
              <a:off x="3635280" y="2243160"/>
              <a:ext cx="53290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14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÷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grpSp>
          <p:nvGrpSpPr>
            <p:cNvPr id="133" name="Group 15"/>
            <p:cNvGrpSpPr/>
            <p:nvPr/>
          </p:nvGrpSpPr>
          <p:grpSpPr>
            <a:xfrm>
              <a:off x="4066920" y="2205000"/>
              <a:ext cx="360360" cy="687960"/>
              <a:chOff x="4066920" y="2205000"/>
              <a:chExt cx="360360" cy="687960"/>
            </a:xfrm>
          </p:grpSpPr>
          <p:sp>
            <p:nvSpPr>
              <p:cNvPr id="134" name="Text Box 16"/>
              <p:cNvSpPr/>
              <p:nvPr/>
            </p:nvSpPr>
            <p:spPr>
              <a:xfrm>
                <a:off x="4068360" y="220500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135" name="Text Box 17"/>
              <p:cNvSpPr/>
              <p:nvPr/>
            </p:nvSpPr>
            <p:spPr>
              <a:xfrm>
                <a:off x="4070160" y="2494080"/>
                <a:ext cx="33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136" name="Line 18"/>
              <p:cNvSpPr/>
              <p:nvPr/>
            </p:nvSpPr>
            <p:spPr>
              <a:xfrm>
                <a:off x="4066920" y="2552760"/>
                <a:ext cx="289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</p:grpSp>
      <p:sp>
        <p:nvSpPr>
          <p:cNvPr id="137" name="Rectangle 13"/>
          <p:cNvSpPr/>
          <p:nvPr/>
        </p:nvSpPr>
        <p:spPr>
          <a:xfrm>
            <a:off x="826920" y="1268280"/>
            <a:ext cx="71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锥形包装盒的体积是多少立方厘米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138" name="Picture 22" descr=""/>
          <p:cNvPicPr/>
          <p:nvPr/>
        </p:nvPicPr>
        <p:blipFill>
          <a:blip r:embed="rId3"/>
          <a:stretch/>
        </p:blipFill>
        <p:spPr>
          <a:xfrm>
            <a:off x="468360" y="134136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0"/>
          <p:cNvSpPr/>
          <p:nvPr/>
        </p:nvSpPr>
        <p:spPr>
          <a:xfrm>
            <a:off x="539640" y="1557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下列圆锥的体积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14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468360" y="2239920"/>
            <a:ext cx="3416400" cy="19353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0"/>
          <p:cNvSpPr/>
          <p:nvPr/>
        </p:nvSpPr>
        <p:spPr>
          <a:xfrm>
            <a:off x="324000" y="4761000"/>
            <a:ext cx="51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14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2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144" name="Group 7"/>
          <p:cNvGrpSpPr/>
          <p:nvPr/>
        </p:nvGrpSpPr>
        <p:grpSpPr>
          <a:xfrm>
            <a:off x="684360" y="4255920"/>
            <a:ext cx="4390920" cy="687960"/>
            <a:chOff x="684360" y="4255920"/>
            <a:chExt cx="4390920" cy="687960"/>
          </a:xfrm>
        </p:grpSpPr>
        <p:sp>
          <p:nvSpPr>
            <p:cNvPr id="145" name="Text Box 8"/>
            <p:cNvSpPr/>
            <p:nvPr/>
          </p:nvSpPr>
          <p:spPr>
            <a:xfrm>
              <a:off x="684360" y="4371840"/>
              <a:ext cx="43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14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÷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grpSp>
          <p:nvGrpSpPr>
            <p:cNvPr id="146" name="Group 9"/>
            <p:cNvGrpSpPr/>
            <p:nvPr/>
          </p:nvGrpSpPr>
          <p:grpSpPr>
            <a:xfrm>
              <a:off x="828720" y="4255920"/>
              <a:ext cx="360360" cy="687960"/>
              <a:chOff x="828720" y="4255920"/>
              <a:chExt cx="360360" cy="687960"/>
            </a:xfrm>
          </p:grpSpPr>
          <p:sp>
            <p:nvSpPr>
              <p:cNvPr id="147" name="Text Box 10"/>
              <p:cNvSpPr/>
              <p:nvPr/>
            </p:nvSpPr>
            <p:spPr>
              <a:xfrm>
                <a:off x="830160" y="425592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148" name="Text Box 11"/>
              <p:cNvSpPr/>
              <p:nvPr/>
            </p:nvSpPr>
            <p:spPr>
              <a:xfrm>
                <a:off x="831960" y="4545000"/>
                <a:ext cx="33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149" name="Line 12"/>
              <p:cNvSpPr/>
              <p:nvPr/>
            </p:nvSpPr>
            <p:spPr>
              <a:xfrm>
                <a:off x="828720" y="4603680"/>
                <a:ext cx="289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</p:grpSp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5506920" y="2097000"/>
            <a:ext cx="1719360" cy="232092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7"/>
          <p:cNvGrpSpPr/>
          <p:nvPr/>
        </p:nvGrpSpPr>
        <p:grpSpPr>
          <a:xfrm>
            <a:off x="5003640" y="4329000"/>
            <a:ext cx="3057480" cy="687960"/>
            <a:chOff x="5003640" y="4329000"/>
            <a:chExt cx="3057480" cy="687960"/>
          </a:xfrm>
        </p:grpSpPr>
        <p:sp>
          <p:nvSpPr>
            <p:cNvPr id="152" name="Text Box 8"/>
            <p:cNvSpPr/>
            <p:nvPr/>
          </p:nvSpPr>
          <p:spPr>
            <a:xfrm>
              <a:off x="5003640" y="4433760"/>
              <a:ext cx="30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14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.5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grpSp>
          <p:nvGrpSpPr>
            <p:cNvPr id="153" name="Group 9"/>
            <p:cNvGrpSpPr/>
            <p:nvPr/>
          </p:nvGrpSpPr>
          <p:grpSpPr>
            <a:xfrm>
              <a:off x="5381640" y="4329000"/>
              <a:ext cx="360360" cy="687960"/>
              <a:chOff x="5381640" y="4329000"/>
              <a:chExt cx="360360" cy="687960"/>
            </a:xfrm>
          </p:grpSpPr>
          <p:sp>
            <p:nvSpPr>
              <p:cNvPr id="154" name="Text Box 10"/>
              <p:cNvSpPr/>
              <p:nvPr/>
            </p:nvSpPr>
            <p:spPr>
              <a:xfrm>
                <a:off x="5383080" y="432900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155" name="Text Box 11"/>
              <p:cNvSpPr/>
              <p:nvPr/>
            </p:nvSpPr>
            <p:spPr>
              <a:xfrm>
                <a:off x="5384880" y="4618080"/>
                <a:ext cx="33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5381640" y="4676760"/>
                <a:ext cx="289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</p:grpSp>
      <p:sp>
        <p:nvSpPr>
          <p:cNvPr id="157" name="Text Box 20"/>
          <p:cNvSpPr/>
          <p:nvPr/>
        </p:nvSpPr>
        <p:spPr>
          <a:xfrm>
            <a:off x="468360" y="5300640"/>
            <a:ext cx="51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.1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4859280" y="4905360"/>
            <a:ext cx="51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14×4×1.5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5003640" y="5445000"/>
            <a:ext cx="517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.8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m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2:09:46Z</dcterms:created>
  <dc:creator>Administrator</dc:creator>
  <dc:description/>
  <cp:keywords>青岛版数学</cp:keywords>
  <dc:language>en-US</dc:language>
  <cp:lastModifiedBy>微软用户</cp:lastModifiedBy>
  <dcterms:modified xsi:type="dcterms:W3CDTF">2015-11-17T07:19:12Z</dcterms:modified>
  <cp:revision>733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