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360A-9B85-4A7F-B170-7A4E8CBE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1B51-527D-46BF-ADAF-50025605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A451-A644-41E9-A6C9-5D1EF79F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437-E709-4DF2-9268-B7516B432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2527-371F-45B8-87C4-20E9E5861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639-A04C-4C07-904C-7BC1B474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9B1-A640-4F9D-9BA3-39F21A8B0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785-CCB0-4992-9AAB-B2D09486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C4CF-6D64-4546-A3B1-C8358A037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7E2-0BCD-449A-85FD-3CE983CE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0B5F-2B7B-4DB2-B493-162877A7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0E91-16F7-43D0-AD7B-E3DB13986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6B0B-919D-4FBE-A492-373C5F93C6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979640" y="2637000"/>
            <a:ext cx="4897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正比例关系</a:t>
            </a:r>
            <a:endParaRPr b="0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284720" y="3429000"/>
                <a:ext cx="82692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771640" y="3429000"/>
                <a:ext cx="714600" cy="15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Y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292248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21600" y="375984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那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81240" y="477360"/>
            <a:ext cx="6030360" cy="42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断题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如果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=7Y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那么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比例。（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如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3800" y="3716280"/>
            <a:ext cx="62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42920" y="5013360"/>
            <a:ext cx="68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成正比例。（        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41560" y="734760"/>
            <a:ext cx="5465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根据下列各个关系式，说出哪一种量一定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哪两种量成正比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工作效率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时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工作总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底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行四边形面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正方形周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÷4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边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0"/>
            <a:ext cx="1871640" cy="836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981000"/>
            <a:ext cx="822960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y=5x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不成正比例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甲数是乙数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倍，那么甲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与乙数成不成正比例？请说明理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爷爷的年龄是小明的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倍，爷爷的年龄与小明的年龄是不是成正比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rcRect l="16580" t="10624" r="17136" b="8910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18903" t="11447" r="23609" b="163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rcRect l="16805" t="9242" r="16530" b="9276"/>
          <a:stretch/>
        </p:blipFill>
        <p:spPr>
          <a:xfrm>
            <a:off x="0" y="0"/>
            <a:ext cx="914400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rcRect l="16275" t="9242" r="16530" b="10132"/>
          <a:stretch/>
        </p:blipFill>
        <p:spPr>
          <a:xfrm>
            <a:off x="0" y="-54000"/>
            <a:ext cx="921708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rcRect l="16007" t="9242" r="15997" b="9276"/>
          <a:stretch/>
        </p:blipFill>
        <p:spPr>
          <a:xfrm>
            <a:off x="0" y="0"/>
            <a:ext cx="9326520" cy="69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836640"/>
            <a:ext cx="76327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两种</a:t>
            </a:r>
            <a:r>
              <a:rPr b="1" lang="zh-CN" sz="4800" spc="-1" strike="noStrike">
                <a:solidFill>
                  <a:srgbClr val="800000"/>
                </a:solidFill>
                <a:latin typeface="隶书"/>
                <a:ea typeface="隶书"/>
              </a:rPr>
              <a:t>相关联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的量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一种量变化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另一种量也随着变化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两种量所对应的数的</a:t>
            </a:r>
            <a:r>
              <a:rPr b="1" lang="zh-CN" sz="4800" spc="-1" strike="noStrike">
                <a:solidFill>
                  <a:srgbClr val="800000"/>
                </a:solidFill>
                <a:latin typeface="隶书"/>
                <a:ea typeface="隶书"/>
              </a:rPr>
              <a:t>比值一定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我们就说这两种量是</a:t>
            </a:r>
            <a:r>
              <a:rPr b="1" lang="zh-CN" sz="4800" spc="-1" strike="noStrike">
                <a:solidFill>
                  <a:srgbClr val="800000"/>
                </a:solidFill>
                <a:latin typeface="隶书"/>
                <a:ea typeface="隶书"/>
              </a:rPr>
              <a:t>成正比例的量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，它们的关系是</a:t>
            </a:r>
            <a:r>
              <a:rPr b="1" lang="zh-CN" sz="4800" spc="-1" strike="noStrike">
                <a:solidFill>
                  <a:srgbClr val="800000"/>
                </a:solidFill>
                <a:latin typeface="隶书"/>
                <a:ea typeface="隶书"/>
              </a:rPr>
              <a:t>正比例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关系</a:t>
            </a: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331640" y="405000"/>
            <a:ext cx="6176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商不变的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5÷3=5      150÷30=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5÷0.3=      30÷6=        5÷1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商确定时，被除数越大，除数也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43200" y="2852640"/>
            <a:ext cx="69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商一定时，被除数和除数（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（      ）是相关联的量，而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64960" y="5630040"/>
            <a:ext cx="616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)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（      ）成正比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900000" y="4292640"/>
            <a:ext cx="3693240" cy="1325520"/>
            <a:chOff x="900000" y="4292640"/>
            <a:chExt cx="3693240" cy="1325520"/>
          </a:xfrm>
        </p:grpSpPr>
        <mc:AlternateContent>
          <mc:Choice xmlns:a14="http://schemas.microsoft.com/office/drawing/2010/main" Requires="a14">
            <p:sp>
              <p:nvSpPr>
                <p:cNvPr id="47" name=""/>
                <p:cNvSpPr txBox="1"/>
                <p:nvPr/>
              </p:nvSpPr>
              <p:spPr>
                <a:xfrm>
                  <a:off x="900000" y="4292640"/>
                  <a:ext cx="1656000" cy="13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被除数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除数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" name=""/>
            <p:cNvSpPr/>
            <p:nvPr/>
          </p:nvSpPr>
          <p:spPr>
            <a:xfrm>
              <a:off x="3579120" y="4702320"/>
              <a:ext cx="101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商（一定）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611280" y="981000"/>
                <a:ext cx="86508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627280" y="1052640"/>
                <a:ext cx="922320" cy="118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4643280" y="1052640"/>
                <a:ext cx="78768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6377040" y="1052640"/>
                <a:ext cx="75888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7885080" y="1052640"/>
                <a:ext cx="83016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145960" y="358200"/>
            <a:ext cx="72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分数基本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6360" y="897840"/>
            <a:ext cx="122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3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1440" y="1195920"/>
            <a:ext cx="57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92720" y="-246960"/>
            <a:ext cx="64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-178560"/>
            <a:ext cx="792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14880" y="2275920"/>
            <a:ext cx="582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分数值确定时，分子越大，分母也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561160" y="1268280"/>
            <a:ext cx="58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25240" y="3067920"/>
            <a:ext cx="2707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分数值一定时，分子和分母（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因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所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40600" y="476640"/>
            <a:ext cx="75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比例的基本性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8 : 4=7      280 : 40=      2.8 : 0.4=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6 : 8=       14 : 2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比值确定时，前项越大，后项也越（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79120" y="2996640"/>
            <a:ext cx="1937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值一定时，比的前项和后项成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所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87880" y="259920"/>
            <a:ext cx="109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圆柱底面积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755640" y="836640"/>
          <a:ext cx="7556400" cy="2098800"/>
        </p:xfrm>
        <a:graphic>
          <a:graphicData uri="http://schemas.openxmlformats.org/drawingml/2006/table">
            <a:tbl>
              <a:tblPr/>
              <a:tblGrid>
                <a:gridCol w="1800360"/>
                <a:gridCol w="934920"/>
                <a:gridCol w="1225440"/>
                <a:gridCol w="1224000"/>
                <a:gridCol w="1295640"/>
                <a:gridCol w="10760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体积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/cm</a:t>
                      </a:r>
                      <a:r>
                        <a:rPr b="1" lang="zh-CN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高度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/ c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底面积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/cm</a:t>
                      </a:r>
                      <a:r>
                        <a:rPr b="1" lang="zh-CN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"/>
          <p:cNvSpPr/>
          <p:nvPr/>
        </p:nvSpPr>
        <p:spPr>
          <a:xfrm>
            <a:off x="2396520" y="2935080"/>
            <a:ext cx="484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圆柱底面积不变时，圆柱高度越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体积就越（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02800" y="4292640"/>
            <a:ext cx="2958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当圆柱的底面积一定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体积和高成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正比例</a:t>
            </a:r>
            <a:r>
              <a:rPr b="1" lang="zh-CN" sz="4000" spc="-1" strike="noStrike">
                <a:solidFill>
                  <a:srgbClr val="8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9280" y="260280"/>
            <a:ext cx="9144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判断两种量是不是成正比例的量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2240" y="19890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种量要相关联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754440" y="2666880"/>
            <a:ext cx="174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种量要随另一种量的变化而变化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82360" y="3429000"/>
            <a:ext cx="56030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种量所对应的两个数的比值（商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一定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473640" y="3110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同一根竹竿，同一地点测得的竿长和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影长如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116000" y="1628640"/>
          <a:ext cx="6553080" cy="1828800"/>
        </p:xfrm>
        <a:graphic>
          <a:graphicData uri="http://schemas.openxmlformats.org/drawingml/2006/table">
            <a:tbl>
              <a:tblPr/>
              <a:tblGrid>
                <a:gridCol w="1638360"/>
                <a:gridCol w="1638360"/>
                <a:gridCol w="1638000"/>
                <a:gridCol w="16383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竿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.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5.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2.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影长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3.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4.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1.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4332240" y="3765240"/>
            <a:ext cx="1123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分别求出各组竿长和影长的比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判断竿长和影长是否成正比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79280" y="1268280"/>
            <a:ext cx="882036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洗衣粉的单价一定，买洗衣粉的数量和总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大豆的出油率一定，豆油的质量和大豆的质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人的身高和体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圆的直径和周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差一定，被减数和减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火车的速度一定，路程和时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面各题中的两种量是不是成正比例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1:29:30Z</dcterms:created>
  <dc:creator>微软用户</dc:creator>
  <dc:description/>
  <dc:language>en-US</dc:language>
  <cp:lastModifiedBy>微软用户</cp:lastModifiedBy>
  <dcterms:modified xsi:type="dcterms:W3CDTF">2013-03-13T07:36:35Z</dcterms:modified>
  <cp:revision>6</cp:revision>
  <dc:subject/>
  <dc:title>幻灯片 1</dc:title>
</cp:coreProperties>
</file>