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breeze.wav" ContentType="audio/x-wav"/>
  <Override PartName="/ppt/media/image14.jpeg" ContentType="image/jpeg"/>
  <Override PartName="/ppt/media/image2.png" ContentType="image/png"/>
  <Override PartName="/ppt/media/image18.png" ContentType="image/png"/>
  <Override PartName="/ppt/media/image15.jpeg" ContentType="image/jpeg"/>
  <Override PartName="/ppt/media/type.wav" ContentType="audio/x-wav"/>
  <Override PartName="/ppt/media/image17.png" ContentType="image/png"/>
  <Override PartName="/ppt/media/image4.png" ContentType="image/png"/>
  <Override PartName="/ppt/media/laser.wav" ContentType="audio/x-wav"/>
  <Override PartName="/ppt/media/camera.wav" ContentType="audio/x-wav"/>
  <Override PartName="/ppt/media/chimes.wav" ContentType="audio/x-wav"/>
  <Override PartName="/ppt/media/image16.jpeg" ContentType="image/jpeg"/>
  <Override PartName="/ppt/media/image1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ECA7-7A03-4486-9AF0-F9C16F78A7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364F-AF73-4ED8-8B56-2F0E7EEF1C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102A-035C-46BB-864E-0A4E540CF9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A6DC-8B5F-4A6D-8EA8-C86534EA59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4779-F759-42F8-90D9-A6E1A60605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5BC6-E395-4217-A35F-CBB14F0B47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D239-9B39-4335-865D-23579D3833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B86A-BA75-4ADC-BAEE-D5111BC2C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822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6B8F-2259-4ECC-86A9-B7188C194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46F2-AD9A-46E5-AF0F-972F5259F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3048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3048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290C-C78C-413E-A233-B551F7D91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FCF9E-D5EF-43E7-AC5A-271A638A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30480"/>
            <a:ext cx="8229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A7C2B-06FE-4FF0-B75B-295EABA7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82296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6DFA3-A455-489F-B488-3A87BF90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78594-F66C-4E9B-9023-CBFC4047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D1BB7-EDD2-45F2-ACC5-008AC237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50600" y="44568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3D465-E82E-4FD6-904B-0E892990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06D6A-DADD-4070-BE29-879F5BB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30480"/>
            <a:ext cx="8229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D14B-7BED-4C98-A085-C14B6361F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92830-6DAF-4E4F-9FA9-2893F76D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153FE-3A83-4ABD-99FE-FFF6EC02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822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AB14F-603B-41BF-8D42-EDF974E8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AF7AC-E39D-4B9D-8B40-E623576A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3048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3048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C0E82-E922-4F54-B300-1D33397E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82296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4954-7B79-4DB4-9D69-CFB875FC2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1346-4A27-4707-84B0-61345B108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8BEE-2F10-46BA-9A52-4ADD8D10C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50600" y="44568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D789-3BF8-4D60-A4D9-F80E20A82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6A31-88D6-4129-BB46-C1EF997FD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1AF4-10B4-4A52-9829-3A397B7D4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30480"/>
            <a:ext cx="40158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4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A85E-DE13-406F-8723-F020F15A4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f1"/>
            </a:gs>
            <a:gs pos="100000">
              <a:srgbClr val="f2d36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"/>
          <p:cNvPicPr/>
          <p:nvPr/>
        </p:nvPicPr>
        <p:blipFill>
          <a:blip r:embed="rId2"/>
          <a:srcRect l="0" t="0" r="12857" b="0"/>
          <a:stretch/>
        </p:blipFill>
        <p:spPr>
          <a:xfrm>
            <a:off x="4495680" y="0"/>
            <a:ext cx="4648320" cy="2333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back_w"/>
          <p:cNvPicPr/>
          <p:nvPr/>
        </p:nvPicPr>
        <p:blipFill>
          <a:blip r:embed="rId3"/>
          <a:srcRect l="6286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a_1"/>
          <p:cNvPicPr/>
          <p:nvPr/>
        </p:nvPicPr>
        <p:blipFill>
          <a:blip r:embed="rId4"/>
          <a:srcRect l="2176" t="0" r="0" b="0"/>
          <a:stretch/>
        </p:blipFill>
        <p:spPr>
          <a:xfrm>
            <a:off x="0" y="154944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104760" y="100080"/>
            <a:ext cx="262080" cy="266760"/>
          </a:xfrm>
          <a:prstGeom prst="rect">
            <a:avLst/>
          </a:prstGeom>
          <a:solidFill>
            <a:srgbClr val="f2d3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04640" y="100080"/>
            <a:ext cx="262080" cy="266760"/>
          </a:xfrm>
          <a:prstGeom prst="rect">
            <a:avLst/>
          </a:prstGeom>
          <a:solidFill>
            <a:srgbClr val="f2d3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704880" y="100080"/>
            <a:ext cx="262080" cy="266760"/>
          </a:xfrm>
          <a:prstGeom prst="rect">
            <a:avLst/>
          </a:prstGeom>
          <a:solidFill>
            <a:srgbClr val="f2d3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404640" y="399960"/>
            <a:ext cx="262080" cy="266760"/>
          </a:xfrm>
          <a:prstGeom prst="rect">
            <a:avLst/>
          </a:prstGeom>
          <a:solidFill>
            <a:srgbClr val="f2d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104760" y="399960"/>
            <a:ext cx="262080" cy="266760"/>
          </a:xfrm>
          <a:prstGeom prst="rect">
            <a:avLst/>
          </a:prstGeom>
          <a:solidFill>
            <a:srgbClr val="f2d3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104760" y="700200"/>
            <a:ext cx="262080" cy="266760"/>
          </a:xfrm>
          <a:prstGeom prst="rect">
            <a:avLst/>
          </a:prstGeom>
          <a:solidFill>
            <a:srgbClr val="f2d3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a_1"/>
          <p:cNvPicPr/>
          <p:nvPr/>
        </p:nvPicPr>
        <p:blipFill>
          <a:blip r:embed="rId5"/>
          <a:srcRect l="0" t="0" r="2176" b="0"/>
          <a:stretch/>
        </p:blipFill>
        <p:spPr>
          <a:xfrm>
            <a:off x="3657600" y="0"/>
            <a:ext cx="4800600" cy="27874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30480"/>
            <a:ext cx="82296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c7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447840" y="6476760"/>
            <a:ext cx="2209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403812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EB31-BE21-4CD6-A0E2-8D98B631C1D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50000">
              <a:srgbClr val="fefcf6"/>
            </a:gs>
            <a:gs pos="100000">
              <a:srgbClr val="f2d3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back_w"/>
          <p:cNvPicPr/>
          <p:nvPr/>
        </p:nvPicPr>
        <p:blipFill>
          <a:blip r:embed="rId2"/>
          <a:srcRect l="6286" t="0" r="0" b="0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w_box"/>
          <p:cNvPicPr/>
          <p:nvPr/>
        </p:nvPicPr>
        <p:blipFill>
          <a:blip r:embed="rId3"/>
          <a:stretch/>
        </p:blipFill>
        <p:spPr>
          <a:xfrm>
            <a:off x="5119560" y="2901960"/>
            <a:ext cx="3990960" cy="393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"/>
          <p:cNvPicPr/>
          <p:nvPr/>
        </p:nvPicPr>
        <p:blipFill>
          <a:blip r:embed="rId4"/>
          <a:srcRect l="0" t="822" r="0" b="0"/>
          <a:stretch/>
        </p:blipFill>
        <p:spPr>
          <a:xfrm>
            <a:off x="0" y="0"/>
            <a:ext cx="3892680" cy="6877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95400" y="100080"/>
            <a:ext cx="261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95280" y="100080"/>
            <a:ext cx="262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95160" y="100080"/>
            <a:ext cx="262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395280" y="399960"/>
            <a:ext cx="262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95400" y="399960"/>
            <a:ext cx="261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95400" y="700200"/>
            <a:ext cx="261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d"/>
          <p:cNvPicPr/>
          <p:nvPr/>
        </p:nvPicPr>
        <p:blipFill>
          <a:blip r:embed="rId5"/>
          <a:stretch/>
        </p:blipFill>
        <p:spPr>
          <a:xfrm>
            <a:off x="3809880" y="0"/>
            <a:ext cx="5334120" cy="23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b"/>
          <p:cNvPicPr/>
          <p:nvPr/>
        </p:nvPicPr>
        <p:blipFill>
          <a:blip r:embed="rId6"/>
          <a:srcRect l="0" t="8549" r="0" b="0"/>
          <a:stretch/>
        </p:blipFill>
        <p:spPr>
          <a:xfrm>
            <a:off x="3886200" y="-219240"/>
            <a:ext cx="2209680" cy="2122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9"/>
          <p:cNvSpPr/>
          <p:nvPr/>
        </p:nvSpPr>
        <p:spPr>
          <a:xfrm>
            <a:off x="5305320" y="5543640"/>
            <a:ext cx="1100160" cy="10951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7824960" y="5543640"/>
            <a:ext cx="1099800" cy="10951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6562800" y="4290840"/>
            <a:ext cx="1100160" cy="10954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7824960" y="3038400"/>
            <a:ext cx="1099800" cy="109548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6578640" y="5540400"/>
            <a:ext cx="1074600" cy="1089000"/>
          </a:xfrm>
          <a:prstGeom prst="rect">
            <a:avLst/>
          </a:prstGeom>
          <a:solidFill>
            <a:srgbClr val="7d9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7840800" y="4290840"/>
            <a:ext cx="1074600" cy="1089360"/>
          </a:xfrm>
          <a:prstGeom prst="rect">
            <a:avLst/>
          </a:prstGeom>
          <a:solidFill>
            <a:srgbClr val="a6c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230480"/>
            <a:ext cx="82296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c7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9189-C79D-43D0-A003-825EA65737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himes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himes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breez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6855017ea53ba3a962b43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2484360" y="292428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正比例关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刘芳-父亲的草原母亲的河.wma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6487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119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：建新小学午餐，已吃的次数和剩下的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3213000"/>
          <a:ext cx="8353440" cy="2303640"/>
        </p:xfrm>
        <a:graphic>
          <a:graphicData uri="http://schemas.openxmlformats.org/drawingml/2006/table">
            <a:tbl>
              <a:tblPr/>
              <a:tblGrid>
                <a:gridCol w="1728720"/>
                <a:gridCol w="792000"/>
                <a:gridCol w="936720"/>
                <a:gridCol w="792360"/>
                <a:gridCol w="1079280"/>
                <a:gridCol w="863640"/>
                <a:gridCol w="936720"/>
                <a:gridCol w="1224000"/>
              </a:tblGrid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已吃的午餐（次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还剩的午餐（次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图片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图片2副本"/>
          <p:cNvPicPr/>
          <p:nvPr/>
        </p:nvPicPr>
        <p:blipFill>
          <a:blip r:embed="rId2"/>
          <a:stretch/>
        </p:blipFill>
        <p:spPr>
          <a:xfrm>
            <a:off x="4067280" y="2852640"/>
            <a:ext cx="288720" cy="6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24000" y="4437000"/>
          <a:ext cx="8569080" cy="1736640"/>
        </p:xfrm>
        <a:graphic>
          <a:graphicData uri="http://schemas.openxmlformats.org/drawingml/2006/table">
            <a:tbl>
              <a:tblPr/>
              <a:tblGrid>
                <a:gridCol w="2016000"/>
                <a:gridCol w="1092240"/>
                <a:gridCol w="1092240"/>
                <a:gridCol w="1092240"/>
                <a:gridCol w="1091880"/>
                <a:gridCol w="1092240"/>
                <a:gridCol w="10922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高度</a:t>
                      </a: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体积</a:t>
                      </a: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cm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底面积</a:t>
                      </a: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cm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40"/>
          <p:cNvSpPr/>
          <p:nvPr/>
        </p:nvSpPr>
        <p:spPr>
          <a:xfrm>
            <a:off x="2556000" y="4508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2411280" y="5157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2" descr="图片2副本"/>
          <p:cNvPicPr/>
          <p:nvPr/>
        </p:nvPicPr>
        <p:blipFill>
          <a:blip r:embed="rId3"/>
          <a:stretch/>
        </p:blipFill>
        <p:spPr>
          <a:xfrm>
            <a:off x="4500720" y="2781360"/>
            <a:ext cx="28728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3"/>
          <p:cNvSpPr/>
          <p:nvPr/>
        </p:nvSpPr>
        <p:spPr>
          <a:xfrm>
            <a:off x="3708360" y="450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3492360" y="5157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5" descr="图片2副本"/>
          <p:cNvPicPr/>
          <p:nvPr/>
        </p:nvPicPr>
        <p:blipFill>
          <a:blip r:embed="rId4"/>
          <a:stretch/>
        </p:blipFill>
        <p:spPr>
          <a:xfrm>
            <a:off x="4932360" y="2708280"/>
            <a:ext cx="287280" cy="223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6"/>
          <p:cNvSpPr/>
          <p:nvPr/>
        </p:nvSpPr>
        <p:spPr>
          <a:xfrm>
            <a:off x="4859280" y="450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4643280" y="5157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8" descr="图片2副本"/>
          <p:cNvPicPr/>
          <p:nvPr/>
        </p:nvPicPr>
        <p:blipFill>
          <a:blip r:embed="rId5"/>
          <a:stretch/>
        </p:blipFill>
        <p:spPr>
          <a:xfrm>
            <a:off x="5364000" y="2637000"/>
            <a:ext cx="287640" cy="296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9"/>
          <p:cNvSpPr/>
          <p:nvPr/>
        </p:nvSpPr>
        <p:spPr>
          <a:xfrm>
            <a:off x="5867280" y="450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724360" y="5157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1" descr="图片2副本"/>
          <p:cNvPicPr/>
          <p:nvPr/>
        </p:nvPicPr>
        <p:blipFill>
          <a:blip r:embed="rId6"/>
          <a:stretch/>
        </p:blipFill>
        <p:spPr>
          <a:xfrm>
            <a:off x="5724360" y="2565360"/>
            <a:ext cx="287640" cy="368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2"/>
          <p:cNvSpPr/>
          <p:nvPr/>
        </p:nvSpPr>
        <p:spPr>
          <a:xfrm>
            <a:off x="687708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6804000" y="51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4" descr="图片2副本"/>
          <p:cNvPicPr/>
          <p:nvPr/>
        </p:nvPicPr>
        <p:blipFill>
          <a:blip r:embed="rId7"/>
          <a:stretch/>
        </p:blipFill>
        <p:spPr>
          <a:xfrm>
            <a:off x="6156360" y="2492280"/>
            <a:ext cx="287280" cy="441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5"/>
          <p:cNvSpPr/>
          <p:nvPr/>
        </p:nvSpPr>
        <p:spPr>
          <a:xfrm>
            <a:off x="7956720" y="450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6"/>
          <p:cNvSpPr/>
          <p:nvPr/>
        </p:nvSpPr>
        <p:spPr>
          <a:xfrm>
            <a:off x="7956720" y="5157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2411280" y="57340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          25        25       25       25    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324000" y="633888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体积和高度的变化有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87280" y="3789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87280" y="2205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圆柱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1116000" y="2781360"/>
            <a:ext cx="172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872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圆柱的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916360" y="2421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564000" y="2492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圆柱的底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796000" y="2492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55640" y="90792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1042920" y="90792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39640" y="981000"/>
            <a:ext cx="777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553080" cy="158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900000" y="3573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   两种相关联的量，一种量变化，另一种量也随着变化，如果这两种量中相对应的两个数的比值一定，这两种量就叫做成正比例的量，它们的关系叫做成正比例关系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2"/>
          <a:stretch/>
        </p:blipFill>
        <p:spPr>
          <a:xfrm>
            <a:off x="2556000" y="5373720"/>
            <a:ext cx="3600360" cy="1224000"/>
          </a:xfrm>
          <a:prstGeom prst="rect">
            <a:avLst/>
          </a:prstGeom>
          <a:ln w="0">
            <a:noFill/>
          </a:ln>
        </p:spPr>
      </p:pic>
      <p:sp>
        <p:nvSpPr>
          <p:cNvPr id="155" name="Line 15"/>
          <p:cNvSpPr/>
          <p:nvPr/>
        </p:nvSpPr>
        <p:spPr>
          <a:xfrm>
            <a:off x="1476360" y="4005360"/>
            <a:ext cx="237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6516720" y="43657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42920" y="620640"/>
            <a:ext cx="83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一列火车行驶的时间和所行的路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1197000"/>
          <a:ext cx="7993080" cy="171144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792000"/>
                <a:gridCol w="792360"/>
                <a:gridCol w="863280"/>
                <a:gridCol w="792360"/>
                <a:gridCol w="863640"/>
                <a:gridCol w="865080"/>
                <a:gridCol w="1008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路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044720" y="4797360"/>
          <a:ext cx="7488000" cy="1639800"/>
        </p:xfrm>
        <a:graphic>
          <a:graphicData uri="http://schemas.openxmlformats.org/drawingml/2006/table">
            <a:tbl>
              <a:tblPr/>
              <a:tblGrid>
                <a:gridCol w="1295280"/>
                <a:gridCol w="719280"/>
                <a:gridCol w="793440"/>
                <a:gridCol w="720720"/>
                <a:gridCol w="935280"/>
                <a:gridCol w="792000"/>
                <a:gridCol w="223200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工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61"/>
          <p:cNvSpPr/>
          <p:nvPr/>
        </p:nvSpPr>
        <p:spPr>
          <a:xfrm>
            <a:off x="36360" y="3197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加工一批机器零件，每小时加工的数量和所需的加工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11280" y="549360"/>
            <a:ext cx="7489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90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运一批货物，每天运的吨数和需要        的天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2205000"/>
          <a:ext cx="8748720" cy="1711440"/>
        </p:xfrm>
        <a:graphic>
          <a:graphicData uri="http://schemas.openxmlformats.org/drawingml/2006/table">
            <a:tbl>
              <a:tblPr/>
              <a:tblGrid>
                <a:gridCol w="1690560"/>
                <a:gridCol w="865440"/>
                <a:gridCol w="792000"/>
                <a:gridCol w="934920"/>
                <a:gridCol w="576360"/>
                <a:gridCol w="792360"/>
                <a:gridCol w="1224000"/>
                <a:gridCol w="1873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每天运的吨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需要的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1844640"/>
            <a:ext cx="925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800" spc="-1" strike="noStrike">
                <a:solidFill>
                  <a:srgbClr val="a6c701"/>
                </a:solidFill>
                <a:latin typeface="Arial"/>
              </a:rPr>
              <a:t>因为长方形的面积和长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两种相关联的量</a:t>
            </a:r>
            <a:r>
              <a:rPr b="1" lang="zh-CN" sz="4800" spc="-1" strike="noStrike">
                <a:solidFill>
                  <a:srgbClr val="a6c701"/>
                </a:solidFill>
                <a:latin typeface="Arial"/>
              </a:rPr>
              <a:t>，而且长方形的面积和长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比值</a:t>
            </a:r>
            <a:r>
              <a:rPr b="1" lang="zh-CN" sz="4800" spc="-1" strike="noStrike">
                <a:solidFill>
                  <a:srgbClr val="a6c701"/>
                </a:solidFill>
                <a:latin typeface="Arial"/>
              </a:rPr>
              <a:t>（也就是宽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定</a:t>
            </a:r>
            <a:r>
              <a:rPr b="1" lang="zh-CN" sz="4800" spc="-1" strike="noStrike">
                <a:solidFill>
                  <a:srgbClr val="a6c701"/>
                </a:solidFill>
                <a:latin typeface="Arial"/>
              </a:rPr>
              <a:t>，所以长方形的面积和长成正比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Verdana"/>
                <a:ea typeface="宋体"/>
              </a:rPr>
              <a:t>、选择。（把正确答案的序号填在括号里）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）成正比例的两种量在变化时的规律是它们的（       ）不变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和   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差    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积    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）分数值一定，分子与分母（         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不成比例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成正比例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无法确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）下面各题中，两种量成正比例的是（       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5+a=25    B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10-a=6  C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374160" y="501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6443640" y="544500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37236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732720" y="5229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02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8101080" y="184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50872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87708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08000" y="620640"/>
            <a:ext cx="8785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判断下面每题中的两种量是否成正比例，并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单价一定，数量和总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减数一定，被减数和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正方形的边长和它的周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正方形的边长和它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每袋大米的质量一定，大米的总质量和袋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4:33:05Z</dcterms:created>
  <dc:creator>微软用户</dc:creator>
  <dc:description/>
  <dc:language>en-US</dc:language>
  <cp:lastModifiedBy>dreamsummit</cp:lastModifiedBy>
  <dcterms:modified xsi:type="dcterms:W3CDTF">2015-02-09T06:37:15Z</dcterms:modified>
  <cp:revision>11</cp:revision>
  <dc:subject/>
  <dc:title>幻灯片 1</dc:title>
</cp:coreProperties>
</file>