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590C0-9166-494E-B52A-BADAFA14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7D3AB-E385-431B-A70D-CB268805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4EF1F-915A-4D9D-8BAE-DF3C23A2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EBF76-D027-4B7F-9D11-EC23557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9FA02-D478-4236-BC29-4B2E6208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D4C7-01F0-4727-9EA2-BCE10E1A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0F6E8-243A-43E1-AB7C-7F64A296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588FF-6A1C-4883-88AE-59B7908D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0AA5-4A55-49A8-BB8A-E0503FEC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EC41E-8B03-43AC-8960-90A1C496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AC24-3A61-4AEF-9338-9ABD75DB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2D1AD-8C92-4AE0-BFD2-F83B9365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F0985-F207-49F4-B0C8-806D43B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EAAF9-A96D-4EAE-99D5-CEAF1854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8DD22-D5A6-40AD-A143-CE64480E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91FA1-DB5F-47B8-9723-E9C0564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035C-DF82-49CF-B7F0-732A531A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219E5-1A86-41FC-9EA9-09C1B77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2FFEA-B63F-4404-9715-5B086AD0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88B58-6E31-46CF-A1DB-79401D88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94CBC-5727-4E4F-8D6D-F65E8B14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27517-3BF9-44F8-A514-954BB837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8CD3F-0128-4042-83C4-566662EE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52816-7633-438F-A0C1-F5CBCB57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25CDF-9EC0-475D-916C-39CFA350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7D91B-9244-4617-AC91-A10D6C07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C6FEA-31F7-4D9F-AF9C-2BF87A46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3A4A3-7A44-40C9-B8E3-B991841D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F7D2B-E86E-4C87-A890-3150EBE3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55B2A-5A59-4D7A-BF0C-D07F0EB9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EBF8C-D235-42E8-A626-5CD7BF21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72B0C-E76A-4D18-AEC1-DD744965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7269D-37F3-4794-8265-D9269472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0C3B1-F964-42E0-AFB2-75D0943A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B6191-9AD9-497C-AF17-B9403132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21AE6-0D3F-4C64-9F76-4928E486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C963E-7AFB-4832-8BB7-2456418C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A5853-8F0D-4E76-A744-21E7068F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2CEE6-0ED4-48F4-96E7-78E88CF7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3D73A-ED5F-4C5F-A02B-314CC32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025D7-3866-4478-BFAB-4FCE7E1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41A46-6A18-4D16-A90B-2F75F71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785C3-8E20-48E2-BC0A-02187B20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DD177-0834-4A10-A322-E709E116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8DECA-5925-4500-90B1-3665C979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9B07C-4ECC-4F78-9AAB-895C425A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E41C0-5DE6-44B8-917B-D1AC6C14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34CD2-2478-4A81-ABC0-872FFFD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48DB1-4659-41FB-A0BE-E98317A7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35193-13FC-46F6-B581-9CF2C84D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ED634-D255-46C6-AE05-0A3C63FA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6AEC1-49DF-49EA-AE0E-19B8CFB8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483DB-D4F9-42BE-9ADB-153DCD5C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5ADB8-4EC7-4E7F-885C-71D2C5B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ECB88-24F9-48E3-A8F8-3D034288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664A1-A787-4249-A149-FB471AAC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0544A-F129-46CA-84F2-FA79DDD6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53184-3208-4B2A-B11E-B7FAC252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BFC6C-B8CB-4A5F-AE3A-269A59D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A2E45-002E-4983-B835-7443EFF8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7CA59-E44E-476D-8B39-7CFC90BC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047E2-F87D-48EA-B152-5BE8581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93DEB-FEE6-4A25-A401-92247A4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8B8D5-7D12-497A-9107-63A523F1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898B5-0A66-4B77-BCAF-953BE3F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41E89-A473-462B-BB13-620AAFF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EB3E3-5B3B-4F3A-9A2D-6FFBB36F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7BBD3-73B6-4D0E-AFB0-E494AB7B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6B6CF-3519-4CCC-B95C-85019999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893FB-3469-4620-BDD1-EF74B439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4543D-2742-4E01-9A64-D70BDDA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5C7AF-FB90-4E23-902E-E46A8081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46B02-8CEF-409E-A131-051E4E13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B04B8-26E9-40AE-B454-46028BA2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9709E-0593-4FC0-BB8C-BCD61C35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AC5AF-7FA1-44CF-850A-531030FF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A62ED-4311-4206-99A1-D9B5963A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F8EA2-8B9C-4D76-B17C-1BC648EE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FA7A6-9819-4BD0-A8FD-4659665F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A7311-99AD-4EFA-9881-DF858222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06CEC-6EB4-4812-911D-4D06375B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246B5-8D41-489D-8146-994DF00C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28A65-4E9E-4ADA-AA79-FA91D8D1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09EB8-B363-4CFF-839B-D86743E2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FADFB-B9AA-42F3-9385-F7CF363A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3C6EC-D440-4B98-8305-51E272E0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4289F-6756-4C5D-89EC-9B36BD01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AA5F8-1422-4840-B16D-E5601E9D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DD5C2-AD5B-43E8-9009-447FB27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B6905-75B0-4764-9BE5-D29D9AC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7B060-3D76-4953-8D44-BC1AA0E5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EAAC7-5BEF-476B-9787-E9589B52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B2F84-0C5A-419A-BE80-8B712F4B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6AE-A6C6-4446-9779-D4AAF7E8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B31-80E6-42F7-8BDD-6FC5EFED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E87-6A3D-4D50-A75F-1938E70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A00-5CFA-406A-A2D5-B00FE92B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F50-4E63-4903-901C-A28D6697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EE9-CB3D-492A-9F1D-38EE6690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FDE-85DD-4AA1-8F79-5F0670B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A1F-96A2-44CE-9B15-C40EFBB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5F3-D51B-4D43-B8F4-A55996C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883-C9E6-4773-A3A6-13D79ADB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983-031F-4E9F-98D4-54B1CDFF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B18-1517-4B3E-A7A2-77888E31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8433-6321-4EDF-A16B-9D1D3017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4C01-39F4-417A-9097-A830335A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ED8B-24F4-43A4-B968-716E816D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AAF2-3264-45BA-9E23-02AD9FE7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C519-55A3-417F-A302-3BB0145A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D855-0BB0-41E0-B3AE-C04EC19E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FA5F-DC03-42E0-803D-9D34EE85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197B-FD29-4EBF-8FEB-B9DF3781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5453-FDE3-4027-8B8D-B2F4D40E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9C81-C266-4EBA-9807-CD183483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1A01-F4BB-49FB-8232-74F49444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937E-4B22-4A9A-A5DA-4AEC413B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E812-CB1F-426E-8506-CAF588E1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C7CBC-C439-47BA-A6C4-C7F95B1F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A21A-04E2-4895-AE87-BEDC1EBF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0806-F865-40E6-ADAE-170CC92F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BB6E-E14D-4941-9922-BD6DE2B8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E864-7811-4AFC-8CC0-1CBE1331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211B-E96C-4D99-B0D0-85F9B473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7ADB-7259-40A3-9322-8F3D80BB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DE4F-E172-45D0-B799-DAB6F3B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BB06-0715-4E88-8D0E-BEE2ED60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2F62-6428-4A7B-A66F-1BE8AC26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31E7-EECD-41E1-B884-54A34D42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121D-0386-4444-8D58-E076F3BE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C9CA8-4946-471C-889E-212189E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4EE1-4962-4D0F-9A05-44FC7841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1E782-2DDA-4A26-818E-005341F2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2CC8C-1B0F-45AD-85CA-F65C649D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01EC-D0ED-41F0-B0DE-124EEFFD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4786-3553-4157-8779-4BD8DA7A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56C13-5ADE-43A5-8F3B-85E36E92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7D717-5F7B-4286-9C67-FB4264CA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7F218-9BCA-4726-AB64-9931ECC2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A3AE-7F96-4B7B-854F-53336454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A129-12A7-44B7-A70B-F61D0B4A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EFD4A-6A43-4AE6-912A-083B37E8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A59A3-2CD9-4565-9589-67BC3760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DB4DA-6761-4583-A692-81AF9B5F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959DC-41CD-4A47-BC76-9CCA720B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CC7C4-E9FC-4E4C-A478-507ABC46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3EE9-5207-4C85-A124-AD32D75D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D46E-E62C-495B-B2C8-90A71510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416E-6547-4806-AF7F-A287A3FD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507D6-B4D8-4259-AB42-900D010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E2BC4-CA0A-4171-8D99-668381F0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F5C8-55F4-4D83-A9E0-119BFAFF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FB616-0AF0-42A0-8C76-99E24F54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2AD00-EC4B-4EFF-89F7-12F48B5F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006E-BA50-412B-A12D-320E5E21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9230-BAB4-453A-927D-BD3C8E5D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D07F-3D5D-480C-86B0-36C82BAF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BDA4-9756-4D44-9F2C-88CD8B88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BA945-57B0-4203-A757-9D394720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0E08-130D-45F6-B196-A45C074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6EA0D-9FB2-414E-A3C1-167B62BC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E6F96-C1F5-460C-850A-6E289C6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ADF3-B03B-4859-9012-C9171612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BA75-4FDD-42C3-BAE1-FD691E44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CA900-E466-4679-BEF4-3BA5C23B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C0598-650A-44E6-8899-A6206380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88755-0E62-4967-94C4-110BDB93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9BD17-6750-4A48-91A0-92CB30A9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81EA-4809-47B5-8437-97931D8F09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84C-151C-4501-8786-2511E8614D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08A3-8D6A-47F6-8AB8-39F575504B7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2F98-2EC7-4805-A68E-AD99857078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4177-385A-4CAE-8807-9C4CE92449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B26A-465B-429C-AD97-57B3E88D69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FFBF-D587-47B7-B705-3DD3732AD4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4E3A1-4273-4A8A-8D7B-DEF14E291DC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3744-A440-41D7-8E78-C944B0B0155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149F-38A5-472D-B785-D2D088FD919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93B6-3D44-426D-AF62-A89A397FBF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6867-C67C-4F56-97CD-EAF8BAC6BF5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9766-CDD3-481A-90A2-4300B4E2A2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720F-92B1-4A3B-8BF7-F62F0E866F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了解天气预报中的负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  生活中的负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1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17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252440" y="2060640"/>
            <a:ext cx="6867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温度在实际生活情景中的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稍复杂温度问题的计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971640" y="184464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合适的温度连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水刚烧开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℃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冰箱的冷冻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℃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春天河水的温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℃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冬天某一天的最低气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1176480"/>
            <a:ext cx="2809800" cy="668160"/>
            <a:chOff x="595440" y="1176480"/>
            <a:chExt cx="2809800" cy="66816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28916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27620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17648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直接连接符 2"/>
          <p:cNvSpPr/>
          <p:nvPr/>
        </p:nvSpPr>
        <p:spPr>
          <a:xfrm>
            <a:off x="2328840" y="2781360"/>
            <a:ext cx="1295280" cy="10080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直接连接符 14"/>
          <p:cNvSpPr/>
          <p:nvPr/>
        </p:nvSpPr>
        <p:spPr>
          <a:xfrm flipV="1">
            <a:off x="2481120" y="2781360"/>
            <a:ext cx="1143000" cy="49536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直接连接符 16"/>
          <p:cNvSpPr/>
          <p:nvPr/>
        </p:nvSpPr>
        <p:spPr>
          <a:xfrm>
            <a:off x="2451240" y="3879720"/>
            <a:ext cx="1172880" cy="5050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直接连接符 19"/>
          <p:cNvSpPr/>
          <p:nvPr/>
        </p:nvSpPr>
        <p:spPr>
          <a:xfrm flipV="1">
            <a:off x="2576520" y="3357360"/>
            <a:ext cx="1047600" cy="10033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627120" y="1236600"/>
            <a:ext cx="74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四个温度填入下面的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冬季，哈尔滨的一个小朋友去海南旅游，在飞机上播音员正在播报两地当日气温：海南的最高气温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最低气温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哈尔滨的最高气温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最低气温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13"/>
          <p:cNvSpPr/>
          <p:nvPr/>
        </p:nvSpPr>
        <p:spPr>
          <a:xfrm>
            <a:off x="1781280" y="35784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14"/>
          <p:cNvSpPr/>
          <p:nvPr/>
        </p:nvSpPr>
        <p:spPr>
          <a:xfrm>
            <a:off x="4738680" y="35784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15"/>
          <p:cNvSpPr/>
          <p:nvPr/>
        </p:nvSpPr>
        <p:spPr>
          <a:xfrm>
            <a:off x="5532480" y="4127400"/>
            <a:ext cx="13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6"/>
          <p:cNvSpPr/>
          <p:nvPr/>
        </p:nvSpPr>
        <p:spPr>
          <a:xfrm>
            <a:off x="2201760" y="412416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8"/>
          <p:cNvSpPr/>
          <p:nvPr/>
        </p:nvSpPr>
        <p:spPr>
          <a:xfrm>
            <a:off x="1260360" y="981000"/>
            <a:ext cx="662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年每个季度的平均气温如下表所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在温度计上表示出这些温度吗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1835280" y="1557360"/>
          <a:ext cx="5400720" cy="1295280"/>
        </p:xfrm>
        <a:graphic>
          <a:graphicData uri="http://schemas.openxmlformats.org/drawingml/2006/table">
            <a:tbl>
              <a:tblPr/>
              <a:tblGrid>
                <a:gridCol w="2016000"/>
                <a:gridCol w="863640"/>
                <a:gridCol w="865440"/>
                <a:gridCol w="863280"/>
                <a:gridCol w="792360"/>
              </a:tblGrid>
              <a:tr h="73980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季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季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均气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矩形 14"/>
          <p:cNvSpPr/>
          <p:nvPr/>
        </p:nvSpPr>
        <p:spPr>
          <a:xfrm>
            <a:off x="3930480" y="5981760"/>
            <a:ext cx="9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26" descr=""/>
          <p:cNvPicPr/>
          <p:nvPr/>
        </p:nvPicPr>
        <p:blipFill>
          <a:blip r:embed="rId1"/>
          <a:stretch/>
        </p:blipFill>
        <p:spPr>
          <a:xfrm>
            <a:off x="1763640" y="3262320"/>
            <a:ext cx="5329440" cy="216360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8"/>
          <p:cNvSpPr/>
          <p:nvPr/>
        </p:nvSpPr>
        <p:spPr>
          <a:xfrm>
            <a:off x="1619280" y="5229360"/>
            <a:ext cx="12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季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平均气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3003480" y="5229360"/>
            <a:ext cx="12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季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平均气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4500720" y="5229360"/>
            <a:ext cx="12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季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平均气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6027840" y="5229360"/>
            <a:ext cx="12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季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平均气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8"/>
          <p:cNvSpPr/>
          <p:nvPr/>
        </p:nvSpPr>
        <p:spPr>
          <a:xfrm>
            <a:off x="826920" y="1197000"/>
            <a:ext cx="7002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年某日三个城市的最高气温和最低气温情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三亚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7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6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石家庄：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哈尔滨：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3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填写下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矩形 14"/>
          <p:cNvSpPr/>
          <p:nvPr/>
        </p:nvSpPr>
        <p:spPr>
          <a:xfrm>
            <a:off x="4010040" y="42004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874880" y="3668760"/>
          <a:ext cx="4817880" cy="1522440"/>
        </p:xfrm>
        <a:graphic>
          <a:graphicData uri="http://schemas.openxmlformats.org/drawingml/2006/table">
            <a:tbl>
              <a:tblPr/>
              <a:tblGrid>
                <a:gridCol w="2044440"/>
                <a:gridCol w="755640"/>
                <a:gridCol w="1015920"/>
                <a:gridCol w="1001880"/>
              </a:tblGrid>
              <a:tr h="50796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城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石家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哈尔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低气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高气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矩形 8"/>
          <p:cNvSpPr/>
          <p:nvPr/>
        </p:nvSpPr>
        <p:spPr>
          <a:xfrm>
            <a:off x="4705200" y="419580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5649840" y="418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10"/>
          <p:cNvSpPr/>
          <p:nvPr/>
        </p:nvSpPr>
        <p:spPr>
          <a:xfrm>
            <a:off x="4024440" y="467532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11"/>
          <p:cNvSpPr/>
          <p:nvPr/>
        </p:nvSpPr>
        <p:spPr>
          <a:xfrm flipH="1">
            <a:off x="4903920" y="46753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12"/>
          <p:cNvSpPr/>
          <p:nvPr/>
        </p:nvSpPr>
        <p:spPr>
          <a:xfrm>
            <a:off x="5705640" y="46753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8"/>
          <p:cNvSpPr/>
          <p:nvPr/>
        </p:nvSpPr>
        <p:spPr>
          <a:xfrm>
            <a:off x="539640" y="112248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年某日三个城市的最高气温和最低气温情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三亚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7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6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石家庄：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哈尔滨：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3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个城市这一天的最高气温最高？哪个城市这一天的最低气温最低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这三个城市这一天的最低气温按从低到高的顺序排列起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矩形 14"/>
          <p:cNvSpPr/>
          <p:nvPr/>
        </p:nvSpPr>
        <p:spPr>
          <a:xfrm>
            <a:off x="1593720" y="3341520"/>
            <a:ext cx="55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三亚这一天的最高气温最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哈尔滨这一天的最低气温最低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1619280" y="4797360"/>
            <a:ext cx="404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3 ℃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＜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 ℃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8"/>
          <p:cNvSpPr/>
          <p:nvPr/>
        </p:nvSpPr>
        <p:spPr>
          <a:xfrm>
            <a:off x="1116000" y="119700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15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高多少摄氏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几摄氏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几摄氏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14"/>
          <p:cNvSpPr/>
          <p:nvPr/>
        </p:nvSpPr>
        <p:spPr>
          <a:xfrm>
            <a:off x="2050920" y="1736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5"/>
          <p:cNvSpPr/>
          <p:nvPr/>
        </p:nvSpPr>
        <p:spPr>
          <a:xfrm>
            <a:off x="2052720" y="2852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6"/>
          <p:cNvSpPr/>
          <p:nvPr/>
        </p:nvSpPr>
        <p:spPr>
          <a:xfrm>
            <a:off x="2050920" y="39337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比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8"/>
          <p:cNvSpPr/>
          <p:nvPr/>
        </p:nvSpPr>
        <p:spPr>
          <a:xfrm>
            <a:off x="684360" y="17208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水果商店新购进了一批水果，商店里有五个不同温度的保鲜箱，水果放在哪个保鲜箱里保鲜效果最好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水果的保鲜温度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6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707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矩形 12"/>
          <p:cNvSpPr/>
          <p:nvPr/>
        </p:nvSpPr>
        <p:spPr>
          <a:xfrm>
            <a:off x="1403280" y="4149720"/>
            <a:ext cx="60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水果放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保鲜箱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6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保鲜箱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里保鲜效果最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Picture 10" descr=""/>
          <p:cNvPicPr/>
          <p:nvPr/>
        </p:nvPicPr>
        <p:blipFill>
          <a:blip r:embed="rId2"/>
          <a:stretch/>
        </p:blipFill>
        <p:spPr>
          <a:xfrm>
            <a:off x="1403280" y="3357720"/>
            <a:ext cx="5934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7T03:03:16Z</dcterms:modified>
  <cp:revision>1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