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gif" ContentType="image/gif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2AD5-B525-4627-8A25-7D7E3F4A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53E2-7E05-419E-8C97-4B8F31F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E7D19-71CA-47A3-AC53-6AA008E0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24F7-C101-410D-BFC8-D0967C1A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F2814-DC39-4BD1-A340-E142D3B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833E-F5A7-421C-97D2-A6C4F6B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C833-D14D-4FC1-96E7-9038E90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B690-6B91-4EA3-9C35-284EF287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B020-30D1-4671-A454-B33A3869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59216-4FD5-4698-89B2-88FEF36E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3D0E-07A6-4FFD-B23B-9136F12E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F0F9-F41B-4374-AEF3-486E3565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037BC-EC7B-436A-9778-1ED96C2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9107-68B2-4E0C-B6B1-C314CFD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754F-3890-421B-8E68-F96DFDE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B02A-E2B8-43D2-BB44-ED01185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EC510-5449-46A7-AE3B-26B0A60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517C-F3BF-410F-BE80-CDB8FF51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18DB-C674-4338-88D7-0C980392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12F5-6B56-4714-8F82-9E07B799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9E27-83EC-4E96-8DAF-66DDE18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20FA9-2023-4808-BA75-52D34EDB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86940-C62B-42C4-A7BB-73B05350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80C61-9BF8-43EA-8E97-5647B97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5AD15-C1FE-4229-BA61-7FE24EC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9A362-F678-41FE-BFFF-B5AD940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B3B81-1E3C-4E7E-83A9-F3C0F8B4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2D9B-73AB-40CB-9A6D-79F8C3E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82606-4F0C-4FC8-BA9B-9A9B1CA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315DF-70B4-493A-911D-6EA5BBE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38FE2-333A-4130-9420-0AB680AA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0F957-130D-40AF-954D-0EC4286C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616C4-B89E-4378-8F59-762A285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904F0-28E9-4FF3-A7EF-AAF23C8F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EAF1D-A533-478D-B59B-5784DCA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0248-46FE-4075-9597-DDC40C0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955F8-F197-44D5-A1BA-4C640105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77879-8D38-4A40-B985-18F97B8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AF9E8-F58E-4888-A3B8-792E9FAF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A1F48-2A93-485F-8687-A55E4099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D0546-3DA1-4C42-AF86-D0FD0112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BBE82-F11E-4885-9EC8-889F164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8A9FD-6996-47B1-81B8-0341A4EB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1006D-D14C-44D9-A0B2-D7A8F33E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0CD8-AF53-41D4-800B-A2027D78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9DF1-62B4-4072-B247-30916F4F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EA79-0836-41F8-A4F0-F6CFF3B9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2E8C0-FE07-4DE3-A765-09BE3C6D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EAE85-509C-4043-8554-F1888F78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29B55-23E9-4BE3-9557-C65492E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5CBED-046F-4F1A-AB9F-78C9CD38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ECCA-4046-4BFA-B814-B886DF1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34D8-6201-48FB-977C-86E0135D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44B3B-FA13-490F-A1B8-A90A7A6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CF10-17EA-40C6-84AD-E563CB5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50977-9910-4158-8ED6-10516CAA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FF75A-5622-40DB-9892-702E5CDB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8ED3-34AE-47B2-83E5-4016F4BF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0B9BB-0DA8-4B0D-B3F1-FADD4748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68458-224B-4D3D-B876-B3A6560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234E1-EBAA-4F06-9588-87D98CCE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6DE88-42C2-4B36-AB1A-71FABBC2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25D29-B65C-46B1-B809-C32E3AE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5AE2-FCBD-401F-8ED1-BB9094B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4CCBA-4B7F-4289-8992-BBB11DF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211C1-7D96-4CA4-AA6F-2EB12095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6DD99-21BF-49A9-86CE-679E9D82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A18D4-31C1-4B2E-8BC9-5D9BADFC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5F05A-B79F-44F4-A3E1-196AC6C6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DC5B7-86C6-4579-BD60-131BE9FF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8091A-CABF-4E15-89D2-13F3ED0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48B4A-EBB9-46F0-A15A-10A8F1C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4819B-FC82-4A43-9CCA-32E6A22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6A732-EB57-4982-B293-9121D2B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B9CA7-B35C-4440-8FF3-6E5D73E6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A3792-4B7C-4671-A06F-AF48EA09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2ABEF-0A63-444B-A212-0205F7F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07333-F08C-497D-BD18-7DC82C9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2806D-9497-491B-9127-68D6878A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D48A1-1E31-43E1-A233-E7644A71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D0C73-5CFD-4717-8AA5-D0146B32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78679-F892-4870-B738-723704E0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5C2E3-C879-4DDF-9E84-C333A93D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814C8-9EA3-4F34-9379-9D5BF72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C2C1F4-84EA-42AD-A930-A2BFD7E0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4E25D-32AA-4FB5-BA90-AE85AD3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100D-367D-42B5-8CE5-01B96EA8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A58D0-7EDA-48BE-A71A-16E8C6F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0023D-14CA-45AF-924F-56A60CD6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43B6D-7827-451A-B2A0-7329E84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0E450-8133-4F88-90D7-479124BD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DDD4E-371B-4A46-9A7C-985C623E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4F67D-5813-47FD-A2FF-B8EAAB3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3CF-DADD-4D1E-A928-D9C804FA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02D-FA67-435E-BA8A-9C548B2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C89-1D5E-47BF-9F07-FC980D5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A4A-7CBF-4DBF-A57F-FD543955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8A0-0865-4242-AC8B-2A1105B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AF1-3BEC-406B-AFBE-1ED1850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EE0-D3CC-4192-9B9E-B0BA22D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A41-0F6C-44C0-B215-642C9BD1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DAB-E4B7-4C87-B121-22A9893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173-494D-4622-A3F0-C55B2C9E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BBF-F69E-4892-9A77-CDCA1F25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DFE-F855-4BE7-B263-7A96EEE2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32D1-353E-4E89-BABC-71A561B3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109-2D66-4288-85F8-51766344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B1E-6ACA-400C-B537-ADD973E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7F1-5D69-46DF-8EF0-9E9A964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C693-951C-4B33-A50C-0501F76D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4EC-B071-4F68-8317-B7A0CEFD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C2D1-1FD2-4CC8-933A-82A985A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F0B5-2F4F-4AC8-9490-D140B660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E232-0A81-448E-A27A-3A8F76C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093-CD77-469B-99AC-7F5F121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B18-B022-4C34-A2A6-2E7BF2DC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D3B-CDAD-47FE-A920-CC914190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7EB0-8C4F-4D32-AA1E-236CEFF4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06C2-052B-45E9-A5D0-F1294B2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F073-BFFB-48BC-990B-2112492A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D9B3-992D-49D7-80D0-85C4CC28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68EC8-01B4-4ACD-AAEC-932BE84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BF28-A343-4272-905E-97935DF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0494-B904-4C6B-9A7E-10B5886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AE12-AB46-4913-A424-2FFE3A91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3510-CE8C-46C9-99F5-D59E951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79AE-58CA-480F-A0E0-75D5C7D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CCA3-F688-4A7D-A938-6D0EAFFE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8ECD-31B3-403C-98C3-2675FB75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F292-A8ED-497F-9E9C-992A7D1D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D235-6609-43B6-8D6F-28B98D4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195F-B95A-4398-A655-58C8C484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49BE-C2C2-451E-8070-6FCB91E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22D9A-B35B-4EA9-A5AE-C8A989C1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4D47-A90A-4C36-A037-190057F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C8FA-5B21-4B3C-8280-868639E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C366-0735-45FF-8E9D-0266C69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6CD7-5C48-4F7E-A6F7-60882B9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FCEA-58E5-40EA-B2E7-E4E93324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2C87-069D-465B-91C5-27D8A2FD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AF09-5265-47F1-A53E-D07365B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FC5A-956A-4D59-B5B7-69DFE980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E687-1846-48B2-9BBB-E9BB31CD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F440-CC95-47F7-92CB-D4671E78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2A14-36A3-4125-B612-10280B3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0470-9CD3-4A75-BED5-524F35CC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A12E-BF2D-47F6-9D7C-3A72D366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05C6A-8E0C-44D6-A539-3764BB0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A3CD-7872-4FFF-88A2-98E09B9E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57C7-DF92-44DD-83D9-6E8F4A6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649A-5B23-40B0-A722-09A44F79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27AF-D04B-493E-BC8E-40B89ACC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0F2F-8601-456A-9922-D8A9285D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ACF71-AF16-4BEE-AC17-1FA6551A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0FD7-449C-475B-A70D-D14B2697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E495-8813-447D-99A8-3D847304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147ED-7811-4A2A-89BD-6F9BF0D4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E8C4-3C87-4A82-ABC7-DFF4B41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6780-8E60-4792-B1D1-0909CBE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67F8-58A2-4650-B6DB-1BBFF7D5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DCFBE-2F22-4707-BDBE-0FF4B7D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2C24-2588-4800-9AE3-4906D8A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6BAA-8AA3-4C8D-9F4E-F8FA4685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6BCB-BDA2-4DF2-A147-103CE48E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E77B-6D9B-4358-A640-ED6F1E84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4AC49-99A1-4E7C-BBB0-83D5E0B6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5598-8B60-4694-B469-743B3B2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9E2E-D40E-40FC-98B7-1B3C6D74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48A-675C-4E90-A8F1-423BF34AFE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B8E3-F5BF-40D1-B83D-AA9978DA1D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685-9297-4674-BEB6-EB8AA266B2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6922-B342-4CDD-BE1F-742DDCE6AF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F28C-A487-477C-80C7-035D8C8F75D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0A2-73B9-4D5A-8EB0-0607F4486A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930-FD97-4EAB-9513-7EC6036CBD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60C8C-F0DC-434C-A370-FA79584C41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57B5-F658-4522-9DC4-F7134DABF29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0ADF-C081-49B0-A592-178D9D4D7FA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47A9-D595-4288-9C8E-E83F7CB2E6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F725-043D-48D2-B3A7-44AF1B912A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2394-3939-40DE-836A-2A0B6BAD896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542-1969-4E71-A83E-10EFFEAF64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负整数和整数的分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 生活中的负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2133720"/>
            <a:ext cx="6867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直线上表示的数解决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706320" y="206064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写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点表示的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176480"/>
            <a:ext cx="2809800" cy="668160"/>
            <a:chOff x="595440" y="1176480"/>
            <a:chExt cx="2809800" cy="66816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28916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2762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7648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Box 17"/>
          <p:cNvSpPr/>
          <p:nvPr/>
        </p:nvSpPr>
        <p:spPr>
          <a:xfrm>
            <a:off x="1154520" y="3024360"/>
            <a:ext cx="6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8"/>
          <p:cNvSpPr/>
          <p:nvPr/>
        </p:nvSpPr>
        <p:spPr>
          <a:xfrm>
            <a:off x="3426840" y="3016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20"/>
          <p:cNvSpPr/>
          <p:nvPr/>
        </p:nvSpPr>
        <p:spPr>
          <a:xfrm>
            <a:off x="4502880" y="3016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21"/>
          <p:cNvSpPr/>
          <p:nvPr/>
        </p:nvSpPr>
        <p:spPr>
          <a:xfrm>
            <a:off x="6196320" y="3024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22"/>
          <p:cNvSpPr/>
          <p:nvPr/>
        </p:nvSpPr>
        <p:spPr>
          <a:xfrm>
            <a:off x="7280640" y="3029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14" descr=""/>
          <p:cNvPicPr/>
          <p:nvPr/>
        </p:nvPicPr>
        <p:blipFill>
          <a:blip r:embed="rId2"/>
          <a:stretch/>
        </p:blipFill>
        <p:spPr>
          <a:xfrm>
            <a:off x="1101600" y="2471760"/>
            <a:ext cx="7537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915840" y="1125360"/>
            <a:ext cx="740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直线上表示下面各数，并回答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4     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距离哪个数最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7"/>
          <p:cNvSpPr/>
          <p:nvPr/>
        </p:nvSpPr>
        <p:spPr>
          <a:xfrm>
            <a:off x="1896120" y="24433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1"/>
          <p:cNvSpPr/>
          <p:nvPr/>
        </p:nvSpPr>
        <p:spPr>
          <a:xfrm>
            <a:off x="2219400" y="2401920"/>
            <a:ext cx="442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椭圆 12"/>
          <p:cNvSpPr/>
          <p:nvPr/>
        </p:nvSpPr>
        <p:spPr>
          <a:xfrm>
            <a:off x="2743200" y="2422440"/>
            <a:ext cx="46080" cy="4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椭圆 17"/>
          <p:cNvSpPr/>
          <p:nvPr/>
        </p:nvSpPr>
        <p:spPr>
          <a:xfrm>
            <a:off x="5872320" y="2422440"/>
            <a:ext cx="4572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椭圆 18"/>
          <p:cNvSpPr/>
          <p:nvPr/>
        </p:nvSpPr>
        <p:spPr>
          <a:xfrm>
            <a:off x="6384960" y="240984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9"/>
          <p:cNvSpPr/>
          <p:nvPr/>
        </p:nvSpPr>
        <p:spPr>
          <a:xfrm>
            <a:off x="2448720" y="24368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20"/>
          <p:cNvSpPr/>
          <p:nvPr/>
        </p:nvSpPr>
        <p:spPr>
          <a:xfrm>
            <a:off x="5738040" y="243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21"/>
          <p:cNvSpPr/>
          <p:nvPr/>
        </p:nvSpPr>
        <p:spPr>
          <a:xfrm>
            <a:off x="6263640" y="243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1781640" y="3933720"/>
            <a:ext cx="20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距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最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4"/>
          <p:cNvSpPr/>
          <p:nvPr/>
        </p:nvSpPr>
        <p:spPr>
          <a:xfrm>
            <a:off x="3143160" y="455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15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43800" cy="2188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8"/>
          <p:cNvSpPr/>
          <p:nvPr/>
        </p:nvSpPr>
        <p:spPr>
          <a:xfrm>
            <a:off x="3654360" y="23432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7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87012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8"/>
          <p:cNvSpPr/>
          <p:nvPr/>
        </p:nvSpPr>
        <p:spPr>
          <a:xfrm>
            <a:off x="706320" y="1197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各数用直线上的点表示出来，并把它们按从小到大的顺序排列起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4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             2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对象 1" descr=""/>
          <p:cNvPicPr/>
          <p:nvPr/>
        </p:nvPicPr>
        <p:blipFill>
          <a:blip r:embed="rId2"/>
          <a:stretch/>
        </p:blipFill>
        <p:spPr>
          <a:xfrm>
            <a:off x="1692360" y="2116080"/>
            <a:ext cx="187200" cy="539640"/>
          </a:xfrm>
          <a:prstGeom prst="rect">
            <a:avLst/>
          </a:prstGeom>
          <a:ln w="0">
            <a:noFill/>
          </a:ln>
        </p:spPr>
      </p:pic>
      <p:pic>
        <p:nvPicPr>
          <p:cNvPr id="695" name="对象 2" descr=""/>
          <p:cNvPicPr/>
          <p:nvPr/>
        </p:nvPicPr>
        <p:blipFill>
          <a:blip r:embed="rId3"/>
          <a:stretch/>
        </p:blipFill>
        <p:spPr>
          <a:xfrm>
            <a:off x="3673440" y="2133720"/>
            <a:ext cx="331920" cy="539640"/>
          </a:xfrm>
          <a:prstGeom prst="rect">
            <a:avLst/>
          </a:prstGeom>
          <a:ln w="0">
            <a:noFill/>
          </a:ln>
        </p:spPr>
      </p:pic>
      <p:grpSp>
        <p:nvGrpSpPr>
          <p:cNvPr id="696" name="组合 6"/>
          <p:cNvGrpSpPr/>
          <p:nvPr/>
        </p:nvGrpSpPr>
        <p:grpSpPr>
          <a:xfrm>
            <a:off x="2062080" y="3573360"/>
            <a:ext cx="4299120" cy="1008360"/>
            <a:chOff x="2062080" y="3573360"/>
            <a:chExt cx="4299120" cy="1008360"/>
          </a:xfrm>
        </p:grpSpPr>
        <p:sp>
          <p:nvSpPr>
            <p:cNvPr id="697" name="矩形 8"/>
            <p:cNvSpPr/>
            <p:nvPr/>
          </p:nvSpPr>
          <p:spPr>
            <a:xfrm>
              <a:off x="2062080" y="3573360"/>
              <a:ext cx="429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2440" indent="-352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用直线上的点表示数略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52440" indent="-35244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－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4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＜－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.2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＜     ＜   ＜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8" name="对象 3" descr=""/>
            <p:cNvPicPr/>
            <p:nvPr/>
          </p:nvPicPr>
          <p:blipFill>
            <a:blip r:embed="rId4"/>
            <a:stretch/>
          </p:blipFill>
          <p:spPr>
            <a:xfrm>
              <a:off x="3779640" y="4026600"/>
              <a:ext cx="33156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对象 4" descr=""/>
            <p:cNvPicPr/>
            <p:nvPr/>
          </p:nvPicPr>
          <p:blipFill>
            <a:blip r:embed="rId5"/>
            <a:stretch/>
          </p:blipFill>
          <p:spPr>
            <a:xfrm>
              <a:off x="4380480" y="4026600"/>
              <a:ext cx="187200" cy="5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8"/>
          <p:cNvSpPr/>
          <p:nvPr/>
        </p:nvSpPr>
        <p:spPr>
          <a:xfrm>
            <a:off x="684360" y="1773360"/>
            <a:ext cx="74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村长考懒羊羊，说：“我如果用‘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沸羊羊，‘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喜羊羊，‘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代表暖羊羊，这三个数中最大的数所代表的羊得第一，最小的数所代表的羊得第三，那么谁得第一，谁得第二，谁得第三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1258920" y="4869000"/>
            <a:ext cx="6121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喜羊羊得第一，沸羊羊得第二，暖羊羊得第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03" name="圆角矩形 15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6" name="Picture 9" descr=""/>
          <p:cNvPicPr/>
          <p:nvPr/>
        </p:nvPicPr>
        <p:blipFill>
          <a:blip r:embed="rId2"/>
          <a:stretch/>
        </p:blipFill>
        <p:spPr>
          <a:xfrm>
            <a:off x="2292480" y="3500280"/>
            <a:ext cx="35035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1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pic>
        <p:nvPicPr>
          <p:cNvPr id="712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6T14:01:36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