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DB3-FB8E-43DD-A2F5-257DC269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453-C732-4FA2-B22B-84CEEB26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779-3C4D-42BC-9C05-5F34323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47E-1CBF-4956-AEA5-D3095F9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D42-3233-41D0-9902-F83B96F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E9C-28AD-489A-9046-97B7EB55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A1C-9EF8-4D9A-A0B6-F105056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FAA-1875-4FDB-A51D-BC7F8B4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18B-6DC6-48A6-90F8-86BE0FE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468-8743-4D61-9763-E1875CA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3DA-5090-4219-A15C-9F47BB3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CD7-92F2-4256-9F26-C34B4801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3DA6-B870-48C8-BDFF-1B5FC93249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用正负数表示生活中的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生活中的负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1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1042920" y="2421000"/>
            <a:ext cx="6697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30360" y="907920"/>
            <a:ext cx="804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一次体育测试中，老师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名女生进行了仰卧起坐测试，以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个为标准，超过的个数用正数表示，不足的个数用负数表示，她们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人的成绩如下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单位：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名女生实际各做了多少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们的达标率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938160" y="366696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答：这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名女生实际各做了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8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3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7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、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2"/>
          <p:cNvGrpSpPr/>
          <p:nvPr/>
        </p:nvGrpSpPr>
        <p:grpSpPr>
          <a:xfrm>
            <a:off x="1415880" y="5229360"/>
            <a:ext cx="6324840" cy="1191240"/>
            <a:chOff x="1415880" y="5229360"/>
            <a:chExt cx="6324840" cy="1191240"/>
          </a:xfrm>
        </p:grpSpPr>
        <p:sp>
          <p:nvSpPr>
            <p:cNvPr id="256" name="TextBox 6"/>
            <p:cNvSpPr/>
            <p:nvPr/>
          </p:nvSpPr>
          <p:spPr>
            <a:xfrm>
              <a:off x="1415880" y="522936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2440" indent="-62244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×100%</a:t>
              </a: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62.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622440" indent="-62244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答：她们的达标率是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62.5%</a:t>
              </a: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对象 1" descr=""/>
            <p:cNvPicPr/>
            <p:nvPr/>
          </p:nvPicPr>
          <p:blipFill>
            <a:blip r:embed="rId1"/>
            <a:stretch/>
          </p:blipFill>
          <p:spPr>
            <a:xfrm>
              <a:off x="1572120" y="5229360"/>
              <a:ext cx="20160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6"/>
          <p:cNvSpPr/>
          <p:nvPr/>
        </p:nvSpPr>
        <p:spPr>
          <a:xfrm>
            <a:off x="995400" y="282564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用正数和负数表示具有相反意义的量时，要先规定哪种量为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如果一种量用正数表示，那么另一种与它相反意义的量就用负数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26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36"/>
          <p:cNvSpPr/>
          <p:nvPr/>
        </p:nvSpPr>
        <p:spPr>
          <a:xfrm>
            <a:off x="790560" y="2035080"/>
            <a:ext cx="758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体重减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可以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体重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可以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河水下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，可以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河水上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，可以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413680" y="262404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116960" y="317664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5420880" y="3724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4588920" y="4281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568440" y="2639880"/>
          <a:ext cx="7869240" cy="784080"/>
        </p:xfrm>
        <a:graphic>
          <a:graphicData uri="http://schemas.openxmlformats.org/drawingml/2006/table">
            <a:tbl>
              <a:tblPr/>
              <a:tblGrid>
                <a:gridCol w="1311120"/>
                <a:gridCol w="1311480"/>
                <a:gridCol w="1311120"/>
                <a:gridCol w="1312920"/>
                <a:gridCol w="1311480"/>
                <a:gridCol w="1311120"/>
              </a:tblGrid>
              <a:tr h="392040"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伙食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奖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电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买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结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2ee"/>
                    </a:solidFill>
                  </a:tcPr>
                </a:tc>
              </a:tr>
              <a:tr h="392040"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5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根据下表写出亮亮家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月份的收支情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6"/>
          <p:cNvSpPr/>
          <p:nvPr/>
        </p:nvSpPr>
        <p:spPr>
          <a:xfrm>
            <a:off x="1166760" y="3805200"/>
            <a:ext cx="70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爸爸妈妈的工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伙食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奖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水电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买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7401960" y="3009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3574440" y="3851280"/>
            <a:ext cx="14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6430320" y="3855960"/>
            <a:ext cx="14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2095920" y="44053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5137560" y="44053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1489320" y="4954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6"/>
          <p:cNvSpPr/>
          <p:nvPr/>
        </p:nvSpPr>
        <p:spPr>
          <a:xfrm>
            <a:off x="6562800" y="199404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：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5"/>
          <p:cNvSpPr/>
          <p:nvPr/>
        </p:nvSpPr>
        <p:spPr>
          <a:xfrm>
            <a:off x="500040" y="1211400"/>
            <a:ext cx="8213760" cy="4010040"/>
          </a:xfrm>
          <a:prstGeom prst="rect">
            <a:avLst/>
          </a:prstGeom>
          <a:solidFill>
            <a:srgbClr val="b7dee8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8"/>
          <p:cNvSpPr/>
          <p:nvPr/>
        </p:nvSpPr>
        <p:spPr>
          <a:xfrm>
            <a:off x="1407960" y="1050840"/>
            <a:ext cx="1517760" cy="493920"/>
          </a:xfrm>
          <a:prstGeom prst="rect">
            <a:avLst/>
          </a:prstGeom>
          <a:solidFill>
            <a:srgbClr val="9bbb59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636480" y="1803240"/>
            <a:ext cx="788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奶奶从银行的自动取款机取出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元，屏幕上显示“结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元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C:\Users\Administrator\Desktop\图片1.png"/>
          <p:cNvPicPr/>
          <p:nvPr/>
        </p:nvPicPr>
        <p:blipFill>
          <a:blip r:embed="rId1"/>
          <a:stretch/>
        </p:blipFill>
        <p:spPr>
          <a:xfrm>
            <a:off x="1119240" y="2681280"/>
            <a:ext cx="4886280" cy="2114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Administrator\Desktop\图片2.png"/>
          <p:cNvPicPr/>
          <p:nvPr/>
        </p:nvPicPr>
        <p:blipFill>
          <a:blip r:embed="rId2"/>
          <a:stretch/>
        </p:blipFill>
        <p:spPr>
          <a:xfrm>
            <a:off x="4572000" y="3573360"/>
            <a:ext cx="3200400" cy="1467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754200" y="1811160"/>
            <a:ext cx="7418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一艘潜水艇在大海里进行军事演习，如果它下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米，记作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米，那么它上升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米，记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114560" y="2862360"/>
            <a:ext cx="6697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9"/>
          <p:cNvSpPr/>
          <p:nvPr/>
        </p:nvSpPr>
        <p:spPr>
          <a:xfrm>
            <a:off x="5927040" y="2452680"/>
            <a:ext cx="9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84360" y="4076640"/>
            <a:ext cx="7864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5160" indent="-965160" algn="just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辨析：错误的认为上升一定用正数表示，下降一定用负数表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9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正、负数表示生活中相反意义的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1139760" y="1463760"/>
            <a:ext cx="68486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实际生活中，有许多地方用到负数。如，吐鲁番盆地比海平面大约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记作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939960" y="3052800"/>
            <a:ext cx="72658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Administrator\Desktop\2.png"/>
          <p:cNvPicPr/>
          <p:nvPr/>
        </p:nvPicPr>
        <p:blipFill>
          <a:blip r:embed="rId2"/>
          <a:stretch/>
        </p:blipFill>
        <p:spPr>
          <a:xfrm>
            <a:off x="4316400" y="1839960"/>
            <a:ext cx="3679920" cy="188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ministrator\Desktop\1.png"/>
          <p:cNvPicPr/>
          <p:nvPr/>
        </p:nvPicPr>
        <p:blipFill>
          <a:blip r:embed="rId3"/>
          <a:stretch/>
        </p:blipFill>
        <p:spPr>
          <a:xfrm>
            <a:off x="1335240" y="2070000"/>
            <a:ext cx="2255760" cy="1749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493560" y="4343400"/>
            <a:ext cx="82663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前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记作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；后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记作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赢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记作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；亏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；记作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水温上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摄氏度，记作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水温下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摄氏度，记作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4507560" y="1996920"/>
            <a:ext cx="8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帮妈妈设计记事卡。下面是红红妈妈做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份家庭收支记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2"/>
          <p:cNvGrpSpPr/>
          <p:nvPr/>
        </p:nvGrpSpPr>
        <p:grpSpPr>
          <a:xfrm>
            <a:off x="503280" y="1143000"/>
            <a:ext cx="7854840" cy="666720"/>
            <a:chOff x="503280" y="1143000"/>
            <a:chExt cx="7854840" cy="666720"/>
          </a:xfrm>
        </p:grpSpPr>
        <p:sp>
          <p:nvSpPr>
            <p:cNvPr id="177" name="文本框 13"/>
            <p:cNvSpPr/>
            <p:nvPr/>
          </p:nvSpPr>
          <p:spPr>
            <a:xfrm>
              <a:off x="1671840" y="1190520"/>
              <a:ext cx="668628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用正、负数表示生活中相反意义的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8" descr=""/>
          <p:cNvPicPr/>
          <p:nvPr/>
        </p:nvPicPr>
        <p:blipFill>
          <a:blip r:embed="rId3"/>
          <a:stretch/>
        </p:blipFill>
        <p:spPr>
          <a:xfrm>
            <a:off x="673200" y="1930320"/>
            <a:ext cx="531720" cy="56844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58"/>
          <p:cNvGrpSpPr/>
          <p:nvPr/>
        </p:nvGrpSpPr>
        <p:grpSpPr>
          <a:xfrm>
            <a:off x="423720" y="2414520"/>
            <a:ext cx="6946920" cy="4381560"/>
            <a:chOff x="423720" y="2414520"/>
            <a:chExt cx="6946920" cy="4381560"/>
          </a:xfrm>
        </p:grpSpPr>
        <p:pic>
          <p:nvPicPr>
            <p:cNvPr id="181" name="Picture 2" descr="C:\Users\jzzou\Desktop\河北底图\正文(6)4.png"/>
            <p:cNvPicPr/>
            <p:nvPr/>
          </p:nvPicPr>
          <p:blipFill>
            <a:blip r:embed="rId4"/>
            <a:stretch/>
          </p:blipFill>
          <p:spPr>
            <a:xfrm>
              <a:off x="423720" y="2414520"/>
              <a:ext cx="6497280" cy="438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组合 29"/>
            <p:cNvGrpSpPr/>
            <p:nvPr/>
          </p:nvGrpSpPr>
          <p:grpSpPr>
            <a:xfrm>
              <a:off x="837720" y="2549520"/>
              <a:ext cx="5115960" cy="398880"/>
              <a:chOff x="837720" y="2549520"/>
              <a:chExt cx="5115960" cy="398880"/>
            </a:xfrm>
          </p:grpSpPr>
          <p:sp>
            <p:nvSpPr>
              <p:cNvPr id="183" name="TextBox 3"/>
              <p:cNvSpPr/>
              <p:nvPr/>
            </p:nvSpPr>
            <p:spPr>
              <a:xfrm>
                <a:off x="976320" y="2549520"/>
                <a:ext cx="497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爸爸工资收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60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流程图: 联系 50"/>
              <p:cNvSpPr/>
              <p:nvPr/>
            </p:nvSpPr>
            <p:spPr>
              <a:xfrm>
                <a:off x="837720" y="2750760"/>
                <a:ext cx="137880" cy="1350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组合 31"/>
            <p:cNvGrpSpPr/>
            <p:nvPr/>
          </p:nvGrpSpPr>
          <p:grpSpPr>
            <a:xfrm>
              <a:off x="837720" y="2932920"/>
              <a:ext cx="5115960" cy="398880"/>
              <a:chOff x="837720" y="2932920"/>
              <a:chExt cx="5115960" cy="398880"/>
            </a:xfrm>
          </p:grpSpPr>
          <p:sp>
            <p:nvSpPr>
              <p:cNvPr id="186" name="TextBox 3"/>
              <p:cNvSpPr/>
              <p:nvPr/>
            </p:nvSpPr>
            <p:spPr>
              <a:xfrm>
                <a:off x="976320" y="2932920"/>
                <a:ext cx="497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水电费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8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流程图: 联系 48"/>
              <p:cNvSpPr/>
              <p:nvPr/>
            </p:nvSpPr>
            <p:spPr>
              <a:xfrm>
                <a:off x="837720" y="3136680"/>
                <a:ext cx="137880" cy="1332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组合 34"/>
            <p:cNvGrpSpPr/>
            <p:nvPr/>
          </p:nvGrpSpPr>
          <p:grpSpPr>
            <a:xfrm>
              <a:off x="837720" y="3270960"/>
              <a:ext cx="5461560" cy="398880"/>
              <a:chOff x="837720" y="3270960"/>
              <a:chExt cx="5461560" cy="398880"/>
            </a:xfrm>
          </p:grpSpPr>
          <p:sp>
            <p:nvSpPr>
              <p:cNvPr id="189" name="TextBox 3"/>
              <p:cNvSpPr/>
              <p:nvPr/>
            </p:nvSpPr>
            <p:spPr>
              <a:xfrm>
                <a:off x="976320" y="3270960"/>
                <a:ext cx="532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订明年报刊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5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流程图: 联系 46"/>
              <p:cNvSpPr/>
              <p:nvPr/>
            </p:nvSpPr>
            <p:spPr>
              <a:xfrm>
                <a:off x="837720" y="3473280"/>
                <a:ext cx="137880" cy="1350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组合 38"/>
            <p:cNvGrpSpPr/>
            <p:nvPr/>
          </p:nvGrpSpPr>
          <p:grpSpPr>
            <a:xfrm>
              <a:off x="837720" y="3609720"/>
              <a:ext cx="5461560" cy="398880"/>
              <a:chOff x="837720" y="3609720"/>
              <a:chExt cx="5461560" cy="398880"/>
            </a:xfrm>
          </p:grpSpPr>
          <p:sp>
            <p:nvSpPr>
              <p:cNvPr id="192" name="TextBox 3"/>
              <p:cNvSpPr/>
              <p:nvPr/>
            </p:nvSpPr>
            <p:spPr>
              <a:xfrm>
                <a:off x="976320" y="3609720"/>
                <a:ext cx="532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妈妈工资收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流程图: 联系 44"/>
              <p:cNvSpPr/>
              <p:nvPr/>
            </p:nvSpPr>
            <p:spPr>
              <a:xfrm>
                <a:off x="837720" y="3811320"/>
                <a:ext cx="137880" cy="1350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组合 41"/>
            <p:cNvGrpSpPr/>
            <p:nvPr/>
          </p:nvGrpSpPr>
          <p:grpSpPr>
            <a:xfrm>
              <a:off x="837720" y="3948120"/>
              <a:ext cx="5945760" cy="398880"/>
              <a:chOff x="837720" y="3948120"/>
              <a:chExt cx="5945760" cy="398880"/>
            </a:xfrm>
          </p:grpSpPr>
          <p:sp>
            <p:nvSpPr>
              <p:cNvPr id="195" name="TextBox 3"/>
              <p:cNvSpPr/>
              <p:nvPr/>
            </p:nvSpPr>
            <p:spPr>
              <a:xfrm>
                <a:off x="988560" y="3948120"/>
                <a:ext cx="579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全家听音乐会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4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流程图: 联系 42"/>
              <p:cNvSpPr/>
              <p:nvPr/>
            </p:nvSpPr>
            <p:spPr>
              <a:xfrm>
                <a:off x="837720" y="4149720"/>
                <a:ext cx="149040" cy="13644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48"/>
            <p:cNvGrpSpPr/>
            <p:nvPr/>
          </p:nvGrpSpPr>
          <p:grpSpPr>
            <a:xfrm>
              <a:off x="837720" y="4284000"/>
              <a:ext cx="6532920" cy="398880"/>
              <a:chOff x="837720" y="4284000"/>
              <a:chExt cx="6532920" cy="398880"/>
            </a:xfrm>
          </p:grpSpPr>
          <p:sp>
            <p:nvSpPr>
              <p:cNvPr id="198" name="TextBox 3"/>
              <p:cNvSpPr/>
              <p:nvPr/>
            </p:nvSpPr>
            <p:spPr>
              <a:xfrm>
                <a:off x="976320" y="4284000"/>
                <a:ext cx="639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给爸爸买外衣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流程图: 联系 40"/>
              <p:cNvSpPr/>
              <p:nvPr/>
            </p:nvSpPr>
            <p:spPr>
              <a:xfrm>
                <a:off x="837720" y="4444920"/>
                <a:ext cx="149040" cy="1332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TextBox 3"/>
            <p:cNvSpPr/>
            <p:nvPr/>
          </p:nvSpPr>
          <p:spPr>
            <a:xfrm>
              <a:off x="2109600" y="4683600"/>
              <a:ext cx="497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给红红买围巾支出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组合 50"/>
            <p:cNvGrpSpPr/>
            <p:nvPr/>
          </p:nvGrpSpPr>
          <p:grpSpPr>
            <a:xfrm>
              <a:off x="837720" y="5052240"/>
              <a:ext cx="6532920" cy="398880"/>
              <a:chOff x="837720" y="5052240"/>
              <a:chExt cx="6532920" cy="398880"/>
            </a:xfrm>
          </p:grpSpPr>
          <p:sp>
            <p:nvSpPr>
              <p:cNvPr id="202" name="TextBox 3"/>
              <p:cNvSpPr/>
              <p:nvPr/>
            </p:nvSpPr>
            <p:spPr>
              <a:xfrm>
                <a:off x="976320" y="5052240"/>
                <a:ext cx="639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给爷爷、奶奶买元旦礼物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8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流程图: 联系 38"/>
              <p:cNvSpPr/>
              <p:nvPr/>
            </p:nvSpPr>
            <p:spPr>
              <a:xfrm>
                <a:off x="837720" y="5256360"/>
                <a:ext cx="149040" cy="1350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组合 53"/>
            <p:cNvGrpSpPr/>
            <p:nvPr/>
          </p:nvGrpSpPr>
          <p:grpSpPr>
            <a:xfrm>
              <a:off x="849960" y="5454720"/>
              <a:ext cx="5461560" cy="398880"/>
              <a:chOff x="849960" y="5454720"/>
              <a:chExt cx="5461560" cy="398880"/>
            </a:xfrm>
          </p:grpSpPr>
          <p:sp>
            <p:nvSpPr>
              <p:cNvPr id="205" name="TextBox 3"/>
              <p:cNvSpPr/>
              <p:nvPr/>
            </p:nvSpPr>
            <p:spPr>
              <a:xfrm>
                <a:off x="988200" y="5454720"/>
                <a:ext cx="532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日  本月伙食费支出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75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流程图: 联系 36"/>
              <p:cNvSpPr/>
              <p:nvPr/>
            </p:nvSpPr>
            <p:spPr>
              <a:xfrm>
                <a:off x="849960" y="5657760"/>
                <a:ext cx="137880" cy="13500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7" name="Picture 21" descr=""/>
          <p:cNvPicPr/>
          <p:nvPr/>
        </p:nvPicPr>
        <p:blipFill>
          <a:blip r:embed="rId5"/>
          <a:stretch/>
        </p:blipFill>
        <p:spPr>
          <a:xfrm>
            <a:off x="6800760" y="4576680"/>
            <a:ext cx="19954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82480" y="1001880"/>
          <a:ext cx="4638600" cy="5375160"/>
        </p:xfrm>
        <a:graphic>
          <a:graphicData uri="http://schemas.openxmlformats.org/drawingml/2006/table">
            <a:tbl>
              <a:tblPr/>
              <a:tblGrid>
                <a:gridCol w="2038320"/>
                <a:gridCol w="260028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收支情况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﹣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结  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2060"/>
                      </a:solidFill>
                    </a:lnL>
                    <a:lnR>
                      <a:noFill/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743040" y="2496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3171960" y="2494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743040" y="29368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171960" y="29368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33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743040" y="34844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171960" y="34369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43040" y="39844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3171960" y="39844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743040" y="44845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3171960" y="44845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743040" y="49849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3171960" y="50086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743040" y="5484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9"/>
          <p:cNvSpPr/>
          <p:nvPr/>
        </p:nvSpPr>
        <p:spPr>
          <a:xfrm>
            <a:off x="3171960" y="5508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3309840" y="592776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22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4" descr="C:\Users\Administrator\Desktop\1.png"/>
          <p:cNvPicPr/>
          <p:nvPr/>
        </p:nvPicPr>
        <p:blipFill>
          <a:blip r:embed="rId2"/>
          <a:stretch/>
        </p:blipFill>
        <p:spPr>
          <a:xfrm>
            <a:off x="5554800" y="1125360"/>
            <a:ext cx="2566800" cy="181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5" descr="C:\Users\Administrator\Desktop\3.png"/>
          <p:cNvPicPr/>
          <p:nvPr/>
        </p:nvPicPr>
        <p:blipFill>
          <a:blip r:embed="rId3"/>
          <a:stretch/>
        </p:blipFill>
        <p:spPr>
          <a:xfrm>
            <a:off x="5554800" y="4683240"/>
            <a:ext cx="2657160" cy="1592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C:\Users\Administrator\Desktop\2.png"/>
          <p:cNvPicPr/>
          <p:nvPr/>
        </p:nvPicPr>
        <p:blipFill>
          <a:blip r:embed="rId4"/>
          <a:stretch/>
        </p:blipFill>
        <p:spPr>
          <a:xfrm>
            <a:off x="5554800" y="2516040"/>
            <a:ext cx="29034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900000" y="1749600"/>
            <a:ext cx="65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表示向东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那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水果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盈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记作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亏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大雁向南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记作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那么向北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组合 12"/>
          <p:cNvGrpSpPr/>
          <p:nvPr/>
        </p:nvGrpSpPr>
        <p:grpSpPr>
          <a:xfrm>
            <a:off x="819000" y="1059480"/>
            <a:ext cx="4773600" cy="733680"/>
            <a:chOff x="819000" y="1059480"/>
            <a:chExt cx="4773600" cy="733680"/>
          </a:xfrm>
        </p:grpSpPr>
        <p:pic>
          <p:nvPicPr>
            <p:cNvPr id="23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81900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23"/>
            <p:cNvSpPr/>
            <p:nvPr/>
          </p:nvSpPr>
          <p:spPr>
            <a:xfrm>
              <a:off x="106992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TextBox 13"/>
          <p:cNvSpPr/>
          <p:nvPr/>
        </p:nvSpPr>
        <p:spPr>
          <a:xfrm>
            <a:off x="2008080" y="299736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向西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0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4481640" y="408132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301920" y="5165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00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890640" y="981000"/>
            <a:ext cx="741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下表是某校食堂库存大米在一个星期内的变化情况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进用正数表示，运出用负数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星期六运进大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运出大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星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运出大米，而没有运进大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星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出的大米和运进的大米同样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4"/>
          <p:cNvSpPr/>
          <p:nvPr/>
        </p:nvSpPr>
        <p:spPr>
          <a:xfrm>
            <a:off x="3131640" y="382428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79360" y="2060640"/>
          <a:ext cx="7137360" cy="1706400"/>
        </p:xfrm>
        <a:graphic>
          <a:graphicData uri="http://schemas.openxmlformats.org/drawingml/2006/table">
            <a:tbl>
              <a:tblPr/>
              <a:tblGrid>
                <a:gridCol w="971640"/>
                <a:gridCol w="836640"/>
                <a:gridCol w="792000"/>
                <a:gridCol w="865080"/>
                <a:gridCol w="863640"/>
                <a:gridCol w="863640"/>
                <a:gridCol w="936720"/>
                <a:gridCol w="1008000"/>
              </a:tblGrid>
              <a:tr h="39672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星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出入仓库大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千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矩形 34"/>
          <p:cNvSpPr/>
          <p:nvPr/>
        </p:nvSpPr>
        <p:spPr>
          <a:xfrm>
            <a:off x="5611680" y="382572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4"/>
          <p:cNvSpPr/>
          <p:nvPr/>
        </p:nvSpPr>
        <p:spPr>
          <a:xfrm>
            <a:off x="1974240" y="4297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4"/>
          <p:cNvSpPr/>
          <p:nvPr/>
        </p:nvSpPr>
        <p:spPr>
          <a:xfrm>
            <a:off x="1974240" y="4757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468360" y="101124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年级一班和二班进行“思维训练大比拼”。第一轮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道抢答题，答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，答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。结果一班答对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，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，答错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，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，共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。二班共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，他们答对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，答错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年级同学的平均体重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如果平均体重以下记作负数，小华的体重记作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那么小华的实际体重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玲玲的体重记作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，玲玲的实际体重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7452360" y="20448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2589120" y="25034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301280" y="25034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972720" y="2952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2953800" y="2963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6053040" y="38480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4880520" y="43308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7T03:00:58Z</dcterms:modified>
  <cp:revision>4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