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9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103400" y="1467000"/>
            <a:ext cx="6937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记录天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478480" y="542880"/>
            <a:ext cx="3112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</a:rPr>
              <a:t>一   生活中的负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45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49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51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53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矩形 9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9"/>
          <p:cNvSpPr/>
          <p:nvPr/>
        </p:nvSpPr>
        <p:spPr>
          <a:xfrm>
            <a:off x="836640" y="3801960"/>
            <a:ext cx="5673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天天气的冷、热和这天的温差有关系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836640" y="4365720"/>
            <a:ext cx="7665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没有直接关系，温差指的是当天最高与最低气温的温度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836640" y="1400040"/>
            <a:ext cx="6846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什么有些同学记录的同一天的天气情况不一样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836640" y="1963800"/>
            <a:ext cx="7665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查询的途径或查询的时间不同。不同途径可能查询的结果不同；即使相同途径，查询的时间不同也可能结果不同，当天查询的结果要比提前几天查询的结果更准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矩形 17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6"/>
          <p:cNvSpPr/>
          <p:nvPr/>
        </p:nvSpPr>
        <p:spPr>
          <a:xfrm>
            <a:off x="973080" y="2692440"/>
            <a:ext cx="71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知道了很多搜集天气情况的途径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学到很多有关天气的知识，同时了解从不同渠道获取资料有时会有误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天气预报不仅和我们的生活和学习息息相关，而且和交通、工农业生产也都有着密切的关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 49"/>
          <p:cNvGrpSpPr/>
          <p:nvPr/>
        </p:nvGrpSpPr>
        <p:grpSpPr>
          <a:xfrm>
            <a:off x="1092240" y="2946240"/>
            <a:ext cx="2190600" cy="719280"/>
            <a:chOff x="1092240" y="2946240"/>
            <a:chExt cx="2190600" cy="719280"/>
          </a:xfrm>
        </p:grpSpPr>
        <p:sp>
          <p:nvSpPr>
            <p:cNvPr id="55" name="自选图形2"/>
            <p:cNvSpPr/>
            <p:nvPr/>
          </p:nvSpPr>
          <p:spPr>
            <a:xfrm>
              <a:off x="1414440" y="3117960"/>
              <a:ext cx="1868400" cy="4078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自选图形1"/>
            <p:cNvSpPr/>
            <p:nvPr/>
          </p:nvSpPr>
          <p:spPr>
            <a:xfrm>
              <a:off x="1092240" y="294624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文本框 52"/>
            <p:cNvSpPr/>
            <p:nvPr/>
          </p:nvSpPr>
          <p:spPr>
            <a:xfrm>
              <a:off x="1815840" y="3090600"/>
              <a:ext cx="144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</a:rPr>
                <a:t>活动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1"/>
          <p:cNvGrpSpPr/>
          <p:nvPr/>
        </p:nvGrpSpPr>
        <p:grpSpPr>
          <a:xfrm>
            <a:off x="1036800" y="1206360"/>
            <a:ext cx="2190600" cy="719280"/>
            <a:chOff x="1036800" y="1206360"/>
            <a:chExt cx="2190600" cy="719280"/>
          </a:xfrm>
        </p:grpSpPr>
        <p:sp>
          <p:nvSpPr>
            <p:cNvPr id="59" name="AutoShape 2"/>
            <p:cNvSpPr/>
            <p:nvPr/>
          </p:nvSpPr>
          <p:spPr>
            <a:xfrm>
              <a:off x="1359000" y="1378080"/>
              <a:ext cx="1868400" cy="4078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AutoShape 11"/>
            <p:cNvSpPr/>
            <p:nvPr/>
          </p:nvSpPr>
          <p:spPr>
            <a:xfrm>
              <a:off x="1036800" y="12063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文本框3"/>
            <p:cNvSpPr/>
            <p:nvPr/>
          </p:nvSpPr>
          <p:spPr>
            <a:xfrm>
              <a:off x="1760400" y="1350720"/>
              <a:ext cx="144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</a:rPr>
                <a:t>活动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40"/>
          <p:cNvSpPr/>
          <p:nvPr/>
        </p:nvSpPr>
        <p:spPr>
          <a:xfrm>
            <a:off x="2403360" y="2027160"/>
            <a:ext cx="207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自己的方式记录当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天的天气情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矩形 41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2"/>
          <p:cNvSpPr/>
          <p:nvPr/>
        </p:nvSpPr>
        <p:spPr>
          <a:xfrm>
            <a:off x="992160" y="3800520"/>
            <a:ext cx="715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让学生能够用自己的方式正确地记录当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天的天气情况，了解温差的含义，并学会计算温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让学生在整理天气情况并尝试计算温差的过程中，获得有关天气的常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37"/>
          <p:cNvSpPr/>
          <p:nvPr/>
        </p:nvSpPr>
        <p:spPr>
          <a:xfrm>
            <a:off x="3259080" y="1577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9"/>
          <p:cNvSpPr/>
          <p:nvPr/>
        </p:nvSpPr>
        <p:spPr>
          <a:xfrm>
            <a:off x="1344600" y="25671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8"/>
          <p:cNvGrpSpPr/>
          <p:nvPr/>
        </p:nvGrpSpPr>
        <p:grpSpPr>
          <a:xfrm>
            <a:off x="479520" y="1096920"/>
            <a:ext cx="7245360" cy="666720"/>
            <a:chOff x="479520" y="1096920"/>
            <a:chExt cx="7245360" cy="666720"/>
          </a:xfrm>
        </p:grpSpPr>
        <p:sp>
          <p:nvSpPr>
            <p:cNvPr id="68" name="文本框 13"/>
            <p:cNvSpPr/>
            <p:nvPr/>
          </p:nvSpPr>
          <p:spPr>
            <a:xfrm>
              <a:off x="1638000" y="1168200"/>
              <a:ext cx="60868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自己的方式记录当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天的天气情况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79520" y="10969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Box 29"/>
          <p:cNvSpPr/>
          <p:nvPr/>
        </p:nvSpPr>
        <p:spPr>
          <a:xfrm>
            <a:off x="3029760" y="2133720"/>
            <a:ext cx="13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取当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的天气情况并记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矩形 12" descr=""/>
          <p:cNvPicPr/>
          <p:nvPr/>
        </p:nvPicPr>
        <p:blipFill>
          <a:blip r:embed="rId2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3"/>
          <a:stretch/>
        </p:blipFill>
        <p:spPr>
          <a:xfrm>
            <a:off x="493560" y="1949400"/>
            <a:ext cx="94320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9"/>
          <p:cNvSpPr/>
          <p:nvPr/>
        </p:nvSpPr>
        <p:spPr>
          <a:xfrm>
            <a:off x="2574360" y="283860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取天气情况的途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2" descr="C:\Users\Administrator\Desktop\QQ截图20170919170910.png"/>
          <p:cNvPicPr/>
          <p:nvPr/>
        </p:nvPicPr>
        <p:blipFill>
          <a:blip r:embed="rId4"/>
          <a:stretch/>
        </p:blipFill>
        <p:spPr>
          <a:xfrm>
            <a:off x="1528920" y="3849840"/>
            <a:ext cx="6060960" cy="868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9"/>
          <p:cNvSpPr/>
          <p:nvPr/>
        </p:nvSpPr>
        <p:spPr>
          <a:xfrm>
            <a:off x="858960" y="4869000"/>
            <a:ext cx="74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可以通过看电视、读报纸、网络查询、电话查询、手机查询等途径获取天气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9"/>
          <p:cNvSpPr/>
          <p:nvPr/>
        </p:nvSpPr>
        <p:spPr>
          <a:xfrm>
            <a:off x="1290600" y="2676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493560" y="1501920"/>
            <a:ext cx="76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自己的方式记录天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录的内容有每天的天气情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阴、晴、多云、小雨、暴雨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每天的最高气温和最低气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矩形 9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C:\Users\Administrator\Desktop\QQ截图20170919170910.png"/>
          <p:cNvPicPr/>
          <p:nvPr/>
        </p:nvPicPr>
        <p:blipFill>
          <a:blip r:embed="rId2"/>
          <a:stretch/>
        </p:blipFill>
        <p:spPr>
          <a:xfrm>
            <a:off x="1528920" y="3849840"/>
            <a:ext cx="60609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6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9"/>
          <p:cNvSpPr/>
          <p:nvPr/>
        </p:nvSpPr>
        <p:spPr>
          <a:xfrm>
            <a:off x="2385360" y="145080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流记录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93560" y="1266840"/>
            <a:ext cx="94320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9"/>
          <p:cNvSpPr/>
          <p:nvPr/>
        </p:nvSpPr>
        <p:spPr>
          <a:xfrm>
            <a:off x="3227400" y="2314440"/>
            <a:ext cx="75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交流收集天气情况的途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展示并介绍自己的记录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1014480" y="3689280"/>
            <a:ext cx="7224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9"/>
          <p:cNvSpPr/>
          <p:nvPr/>
        </p:nvSpPr>
        <p:spPr>
          <a:xfrm>
            <a:off x="3867120" y="1535040"/>
            <a:ext cx="75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交流从记录天气活动中获得的知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了天气预报对我们生活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识了许多天气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矩形 4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Users\Administrator\Desktop\1.png"/>
          <p:cNvPicPr/>
          <p:nvPr/>
        </p:nvPicPr>
        <p:blipFill>
          <a:blip r:embed="rId2"/>
          <a:stretch/>
        </p:blipFill>
        <p:spPr>
          <a:xfrm>
            <a:off x="1473120" y="3414600"/>
            <a:ext cx="3105360" cy="10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Administrator\Desktop\2.png"/>
          <p:cNvPicPr/>
          <p:nvPr/>
        </p:nvPicPr>
        <p:blipFill>
          <a:blip r:embed="rId3"/>
          <a:stretch/>
        </p:blipFill>
        <p:spPr>
          <a:xfrm>
            <a:off x="5048280" y="3414600"/>
            <a:ext cx="2550960" cy="101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C:\Users\Administrator\Desktop\5.png"/>
          <p:cNvPicPr/>
          <p:nvPr/>
        </p:nvPicPr>
        <p:blipFill>
          <a:blip r:embed="rId4"/>
          <a:stretch/>
        </p:blipFill>
        <p:spPr>
          <a:xfrm>
            <a:off x="4599000" y="4670280"/>
            <a:ext cx="2200320" cy="114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C:\Users\Administrator\Desktop\4.png"/>
          <p:cNvPicPr/>
          <p:nvPr/>
        </p:nvPicPr>
        <p:blipFill>
          <a:blip r:embed="rId5"/>
          <a:stretch/>
        </p:blipFill>
        <p:spPr>
          <a:xfrm>
            <a:off x="1989000" y="4670280"/>
            <a:ext cx="220032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10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493560" y="1130400"/>
            <a:ext cx="943200" cy="1047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9"/>
          <p:cNvSpPr/>
          <p:nvPr/>
        </p:nvSpPr>
        <p:spPr>
          <a:xfrm>
            <a:off x="1374840" y="1314360"/>
            <a:ext cx="69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理记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记录的天气情况整理在下表中，试着算出每天的温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84280" y="3027240"/>
          <a:ext cx="6350040" cy="2556000"/>
        </p:xfrm>
        <a:graphic>
          <a:graphicData uri="http://schemas.openxmlformats.org/drawingml/2006/table">
            <a:tbl>
              <a:tblPr/>
              <a:tblGrid>
                <a:gridCol w="1817640"/>
                <a:gridCol w="647640"/>
                <a:gridCol w="647640"/>
                <a:gridCol w="648000"/>
                <a:gridCol w="645840"/>
                <a:gridCol w="648000"/>
                <a:gridCol w="647640"/>
                <a:gridCol w="64764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气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高气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低气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5" name="TextBox 29"/>
          <p:cNvSpPr/>
          <p:nvPr/>
        </p:nvSpPr>
        <p:spPr>
          <a:xfrm>
            <a:off x="1144440" y="56707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温差指一天当中的最低气温与最高气温的温度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9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29"/>
          <p:cNvSpPr/>
          <p:nvPr/>
        </p:nvSpPr>
        <p:spPr>
          <a:xfrm>
            <a:off x="846000" y="2178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温度计上先找出每天的最高气温，再找出每天的最低气温，两个气温之间有几个刻度，说明当天的温差就是几摄氏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某天的最高气温是零上几摄氏度，最低气温是零下几摄氏度，即最高气温和最低气温是异号，那么就把这两个数前面的正、负号去掉，用加法求出的两个数的和就是这天的温差；如果某天的最高气温和最低气温是同号，那么就把这两个数前面的正号或负号去掉，用减法求出的差就是这天的温差。概括起来就是算温差，同号用减法，异号用加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493560" y="1130400"/>
            <a:ext cx="943200" cy="1047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9"/>
          <p:cNvSpPr/>
          <p:nvPr/>
        </p:nvSpPr>
        <p:spPr>
          <a:xfrm>
            <a:off x="1374840" y="133200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每天的温差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借助温度计上的刻度进行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矩形 9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493560" y="1130400"/>
            <a:ext cx="943200" cy="1047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9"/>
          <p:cNvSpPr/>
          <p:nvPr/>
        </p:nvSpPr>
        <p:spPr>
          <a:xfrm>
            <a:off x="1374840" y="133200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讨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9"/>
          <p:cNvSpPr/>
          <p:nvPr/>
        </p:nvSpPr>
        <p:spPr>
          <a:xfrm>
            <a:off x="836640" y="3051000"/>
            <a:ext cx="5086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预报的天气情况是每天的实际情况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9"/>
          <p:cNvSpPr/>
          <p:nvPr/>
        </p:nvSpPr>
        <p:spPr>
          <a:xfrm>
            <a:off x="836640" y="3616200"/>
            <a:ext cx="766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基本上反映了每天的实际情况，但也有可能出现误差，天气预报是对未来的天气的预测，有时会与实际情况有偏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6T13:56:00Z</dcterms:modified>
  <cp:revision>4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