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48A-5BF2-4CDD-9E5E-9AA65938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8BB-2EAA-4F3F-AECE-7CC85A8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B07-270A-4557-B33C-1397F389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7EF-D8E5-4BDA-A31E-73B4C874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9D0-4C93-4F70-B094-DA100843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252-3961-44CF-AF11-C1607A9E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537-9980-4245-A619-01867769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44B-20AB-4D29-B1AE-750B7DE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36B-1B5C-494E-AA35-08C891E9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9FD-DCCF-4614-A0ED-BB52727E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176-CC48-48D7-A635-6748F9DE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4CA-5284-4101-954A-3D0CE8F7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5EA2-D24C-4240-A88B-BD7E2DA8569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1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5360" y="143352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位置（一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013520" y="503280"/>
            <a:ext cx="1673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位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2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28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9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690480" y="907920"/>
            <a:ext cx="848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下面是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班部分学生的座位情况，请你用数对表示这些同学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刘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，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　李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，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罗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，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　张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，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王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，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　李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，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，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　赵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，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1808280" y="4686480"/>
            <a:ext cx="8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3941640" y="4694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8"/>
          <p:cNvSpPr/>
          <p:nvPr/>
        </p:nvSpPr>
        <p:spPr>
          <a:xfrm>
            <a:off x="1816200" y="5146560"/>
            <a:ext cx="8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3949560" y="51544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3941640" y="55990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1816200" y="6053040"/>
            <a:ext cx="8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1816200" y="5599080"/>
            <a:ext cx="8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3963960" y="60530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36840" y="1486080"/>
          <a:ext cx="4895640" cy="2773080"/>
        </p:xfrm>
        <a:graphic>
          <a:graphicData uri="http://schemas.openxmlformats.org/drawingml/2006/table">
            <a:tbl>
              <a:tblPr/>
              <a:tblGrid>
                <a:gridCol w="815760"/>
                <a:gridCol w="815760"/>
                <a:gridCol w="816120"/>
                <a:gridCol w="815760"/>
                <a:gridCol w="816120"/>
                <a:gridCol w="8161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罗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李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刘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张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黄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王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李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赵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8"/>
          <p:cNvSpPr/>
          <p:nvPr/>
        </p:nvSpPr>
        <p:spPr>
          <a:xfrm>
            <a:off x="1660680" y="4132440"/>
            <a:ext cx="462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2           3           4           5           6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1187280" y="1519200"/>
            <a:ext cx="366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187280" y="1876320"/>
            <a:ext cx="366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187280" y="2287440"/>
            <a:ext cx="366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1187280" y="2668680"/>
            <a:ext cx="366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203480" y="3073320"/>
            <a:ext cx="365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203480" y="3473280"/>
            <a:ext cx="365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1203480" y="3865680"/>
            <a:ext cx="365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6"/>
          <p:cNvSpPr/>
          <p:nvPr/>
        </p:nvSpPr>
        <p:spPr>
          <a:xfrm>
            <a:off x="995400" y="282564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数对中第一、二个数字的意义要由题目中的条件来设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6"/>
          <p:cNvSpPr/>
          <p:nvPr/>
        </p:nvSpPr>
        <p:spPr>
          <a:xfrm>
            <a:off x="790560" y="176364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组合 7"/>
          <p:cNvGrpSpPr/>
          <p:nvPr/>
        </p:nvGrpSpPr>
        <p:grpSpPr>
          <a:xfrm>
            <a:off x="957240" y="1062720"/>
            <a:ext cx="6172200" cy="733680"/>
            <a:chOff x="957240" y="1062720"/>
            <a:chExt cx="6172200" cy="733680"/>
          </a:xfrm>
        </p:grpSpPr>
        <p:pic>
          <p:nvPicPr>
            <p:cNvPr id="23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41256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23"/>
            <p:cNvSpPr/>
            <p:nvPr/>
          </p:nvSpPr>
          <p:spPr>
            <a:xfrm>
              <a:off x="1369800" y="1062720"/>
              <a:ext cx="5759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" name="Picture 10" descr=""/>
          <p:cNvPicPr/>
          <p:nvPr/>
        </p:nvPicPr>
        <p:blipFill>
          <a:blip r:embed="rId2"/>
          <a:stretch/>
        </p:blipFill>
        <p:spPr>
          <a:xfrm>
            <a:off x="857160" y="2543040"/>
            <a:ext cx="7427880" cy="31435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5637600" y="4645080"/>
            <a:ext cx="11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5943240" y="5807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36"/>
          <p:cNvSpPr/>
          <p:nvPr/>
        </p:nvSpPr>
        <p:spPr>
          <a:xfrm>
            <a:off x="752400" y="966960"/>
            <a:ext cx="77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等十六个方格已经涂上色，请你根据给出的数对将相应的方格涂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988920" y="2095560"/>
            <a:ext cx="4083120" cy="4173480"/>
          </a:xfrm>
          <a:prstGeom prst="rect">
            <a:avLst/>
          </a:prstGeom>
          <a:ln w="0">
            <a:noFill/>
          </a:ln>
        </p:spPr>
      </p:pic>
      <p:sp>
        <p:nvSpPr>
          <p:cNvPr id="247" name="矩形 1"/>
          <p:cNvSpPr/>
          <p:nvPr/>
        </p:nvSpPr>
        <p:spPr>
          <a:xfrm>
            <a:off x="5176800" y="1959120"/>
            <a:ext cx="356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6319440" y="156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6"/>
          <p:cNvSpPr/>
          <p:nvPr/>
        </p:nvSpPr>
        <p:spPr>
          <a:xfrm>
            <a:off x="752400" y="966960"/>
            <a:ext cx="772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在庆祝六一儿童节的活动中，有一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”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的表演方队，队员每人 头顶一块图板。部分队员表演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将拼成“六一”两个字。请你设计一下这 些队员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位置，在相应的方格中涂上红色，然后用数对表示他们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085840" y="2879640"/>
            <a:ext cx="4991400" cy="34210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7551360" y="3989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1042920" y="191124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：如果电影票上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号”用数对表示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号”用数对表示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，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电影院的位置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22"/>
          <p:cNvSpPr/>
          <p:nvPr/>
        </p:nvSpPr>
        <p:spPr>
          <a:xfrm>
            <a:off x="1611360" y="440064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数对中的第一个数和第二个数的意义混淆不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1643040" y="314172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721044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2160000" y="368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6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3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3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4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4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5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数对表示具体情境中的物体的位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5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6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5" descr="liu-333"/>
          <p:cNvPicPr/>
          <p:nvPr/>
        </p:nvPicPr>
        <p:blipFill>
          <a:blip r:embed="rId2"/>
          <a:srcRect l="0" t="0" r="827" b="15931"/>
          <a:stretch/>
        </p:blipFill>
        <p:spPr>
          <a:xfrm>
            <a:off x="689040" y="1128600"/>
            <a:ext cx="7916760" cy="498168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99"/>
          <p:cNvGrpSpPr/>
          <p:nvPr/>
        </p:nvGrpSpPr>
        <p:grpSpPr>
          <a:xfrm>
            <a:off x="1057320" y="1835280"/>
            <a:ext cx="3179520" cy="1292040"/>
            <a:chOff x="1057320" y="1835280"/>
            <a:chExt cx="3179520" cy="1292040"/>
          </a:xfrm>
        </p:grpSpPr>
        <p:sp>
          <p:nvSpPr>
            <p:cNvPr id="168" name="AutoShape 196"/>
            <p:cNvSpPr/>
            <p:nvPr/>
          </p:nvSpPr>
          <p:spPr>
            <a:xfrm>
              <a:off x="1067400" y="1835280"/>
              <a:ext cx="3002040" cy="1292040"/>
            </a:xfrm>
            <a:prstGeom prst="wedgeRoundRectCallout">
              <a:avLst>
                <a:gd name="adj1" fmla="val 44685"/>
                <a:gd name="adj2" fmla="val 77560"/>
                <a:gd name="adj3" fmla="val 16667"/>
              </a:avLst>
            </a:prstGeom>
            <a:solidFill>
              <a:srgbClr val="b7de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 Box 198"/>
            <p:cNvSpPr/>
            <p:nvPr/>
          </p:nvSpPr>
          <p:spPr>
            <a:xfrm>
              <a:off x="1057320" y="1906200"/>
              <a:ext cx="317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同学们你知道他们是谁吗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201"/>
          <p:cNvGrpSpPr/>
          <p:nvPr/>
        </p:nvGrpSpPr>
        <p:grpSpPr>
          <a:xfrm>
            <a:off x="5033880" y="1876320"/>
            <a:ext cx="3168360" cy="1638360"/>
            <a:chOff x="5033880" y="1876320"/>
            <a:chExt cx="3168360" cy="1638360"/>
          </a:xfrm>
        </p:grpSpPr>
        <p:sp>
          <p:nvSpPr>
            <p:cNvPr id="171" name="AutoShape 197"/>
            <p:cNvSpPr/>
            <p:nvPr/>
          </p:nvSpPr>
          <p:spPr>
            <a:xfrm>
              <a:off x="5033880" y="1876320"/>
              <a:ext cx="3168360" cy="1638360"/>
            </a:xfrm>
            <a:prstGeom prst="cloudCallout">
              <a:avLst>
                <a:gd name="adj1" fmla="val -43620"/>
                <a:gd name="adj2" fmla="val 52083"/>
              </a:avLst>
            </a:prstGeom>
            <a:solidFill>
              <a:srgbClr val="eefba3"/>
            </a:solidFill>
            <a:ln w="9360">
              <a:solidFill>
                <a:srgbClr val="eefb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200"/>
            <p:cNvSpPr/>
            <p:nvPr/>
          </p:nvSpPr>
          <p:spPr>
            <a:xfrm>
              <a:off x="5315040" y="2165760"/>
              <a:ext cx="260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你知道他们做了一件什么事吗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5" descr="U1286P55T4D72097F50DT20051013114830"/>
          <p:cNvPicPr/>
          <p:nvPr/>
        </p:nvPicPr>
        <p:blipFill>
          <a:blip r:embed="rId2"/>
          <a:stretch/>
        </p:blipFill>
        <p:spPr>
          <a:xfrm>
            <a:off x="4444920" y="1609560"/>
            <a:ext cx="3441960" cy="2406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6" descr="U1286P55T4D72098F50DT20051013114855"/>
          <p:cNvPicPr/>
          <p:nvPr/>
        </p:nvPicPr>
        <p:blipFill>
          <a:blip r:embed="rId3"/>
          <a:stretch/>
        </p:blipFill>
        <p:spPr>
          <a:xfrm>
            <a:off x="958680" y="1609560"/>
            <a:ext cx="3457800" cy="24069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7"/>
          <p:cNvSpPr/>
          <p:nvPr/>
        </p:nvSpPr>
        <p:spPr>
          <a:xfrm>
            <a:off x="1120680" y="4246560"/>
            <a:ext cx="699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浩瀚的宇宙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跟踪确定飞行器的位置对于宇航员来说是一项非常重要的工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C:\Users\Administrator\Desktop\QQ截图20170913142938.png"/>
          <p:cNvPicPr/>
          <p:nvPr/>
        </p:nvPicPr>
        <p:blipFill>
          <a:blip r:embed="rId1"/>
          <a:stretch/>
        </p:blipFill>
        <p:spPr>
          <a:xfrm>
            <a:off x="2446200" y="2287440"/>
            <a:ext cx="4876920" cy="397224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4"/>
          <p:cNvGrpSpPr/>
          <p:nvPr/>
        </p:nvGrpSpPr>
        <p:grpSpPr>
          <a:xfrm>
            <a:off x="981000" y="1852560"/>
            <a:ext cx="3968280" cy="603360"/>
            <a:chOff x="981000" y="1852560"/>
            <a:chExt cx="3968280" cy="603360"/>
          </a:xfrm>
        </p:grpSpPr>
        <p:sp>
          <p:nvSpPr>
            <p:cNvPr id="179" name="矩形 1"/>
            <p:cNvSpPr/>
            <p:nvPr/>
          </p:nvSpPr>
          <p:spPr>
            <a:xfrm>
              <a:off x="4619160" y="19234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观察红红她们班同学在教室里的作为示意图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0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181" name="Picture 10" descr="C:\Users\Administrator\Desktop\草莓.png"/>
              <p:cNvPicPr/>
              <p:nvPr/>
            </p:nvPicPr>
            <p:blipFill>
              <a:blip r:embed="rId2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83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2"/>
          <p:cNvSpPr/>
          <p:nvPr/>
        </p:nvSpPr>
        <p:spPr>
          <a:xfrm>
            <a:off x="1558800" y="4954680"/>
            <a:ext cx="9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2484360" y="5326200"/>
            <a:ext cx="44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组合 2"/>
          <p:cNvGrpSpPr/>
          <p:nvPr/>
        </p:nvGrpSpPr>
        <p:grpSpPr>
          <a:xfrm>
            <a:off x="503280" y="1143000"/>
            <a:ext cx="7854840" cy="666720"/>
            <a:chOff x="503280" y="1143000"/>
            <a:chExt cx="7854840" cy="666720"/>
          </a:xfrm>
        </p:grpSpPr>
        <p:sp>
          <p:nvSpPr>
            <p:cNvPr id="187" name="文本框 13"/>
            <p:cNvSpPr/>
            <p:nvPr/>
          </p:nvSpPr>
          <p:spPr>
            <a:xfrm>
              <a:off x="1671840" y="1190520"/>
              <a:ext cx="668628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用数对表示具体情境中的物体的位置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8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625760" y="1292400"/>
            <a:ext cx="5886360" cy="41972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2"/>
          <p:cNvSpPr/>
          <p:nvPr/>
        </p:nvSpPr>
        <p:spPr>
          <a:xfrm>
            <a:off x="2286000" y="1789200"/>
            <a:ext cx="55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红红和亮亮分别坐在第几列，第几排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2"/>
          <p:cNvSpPr/>
          <p:nvPr/>
        </p:nvSpPr>
        <p:spPr>
          <a:xfrm>
            <a:off x="966960" y="3598920"/>
            <a:ext cx="72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教室里，每个同学的位置都可以用第几列、第几排的两个数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Administrator\Desktop\2.png"/>
          <p:cNvPicPr/>
          <p:nvPr/>
        </p:nvPicPr>
        <p:blipFill>
          <a:blip r:embed="rId2"/>
          <a:stretch/>
        </p:blipFill>
        <p:spPr>
          <a:xfrm>
            <a:off x="4735440" y="2417760"/>
            <a:ext cx="2273400" cy="1071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Administrator\Desktop\1.png"/>
          <p:cNvPicPr/>
          <p:nvPr/>
        </p:nvPicPr>
        <p:blipFill>
          <a:blip r:embed="rId3"/>
          <a:stretch/>
        </p:blipFill>
        <p:spPr>
          <a:xfrm>
            <a:off x="1946160" y="2417760"/>
            <a:ext cx="2303640" cy="1071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5" descr="C:\Users\Administrator\Desktop\2.png"/>
          <p:cNvPicPr/>
          <p:nvPr/>
        </p:nvPicPr>
        <p:blipFill>
          <a:blip r:embed="rId4"/>
          <a:stretch/>
        </p:blipFill>
        <p:spPr>
          <a:xfrm>
            <a:off x="1438200" y="4844880"/>
            <a:ext cx="29289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6" descr="C:\Users\Administrator\Desktop\3.png"/>
          <p:cNvPicPr/>
          <p:nvPr/>
        </p:nvPicPr>
        <p:blipFill>
          <a:blip r:embed="rId5"/>
          <a:stretch/>
        </p:blipFill>
        <p:spPr>
          <a:xfrm>
            <a:off x="4746600" y="4844880"/>
            <a:ext cx="2708280" cy="785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6"/>
          <a:stretch/>
        </p:blipFill>
        <p:spPr>
          <a:xfrm>
            <a:off x="844560" y="1469880"/>
            <a:ext cx="14414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1254240" y="436716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能用数对表示其他同学的位置吗？试一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C:\Users\Administrator\Desktop\1.png"/>
          <p:cNvPicPr/>
          <p:nvPr/>
        </p:nvPicPr>
        <p:blipFill>
          <a:blip r:embed="rId2"/>
          <a:stretch/>
        </p:blipFill>
        <p:spPr>
          <a:xfrm>
            <a:off x="2271600" y="1268280"/>
            <a:ext cx="4613400" cy="27417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2011320" y="5084640"/>
            <a:ext cx="54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不唯一，如小明的位置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；小强的位置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1012680" y="1919160"/>
            <a:ext cx="712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数对表示位置时，要先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明明在教室的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排，用数对表示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，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龙在教室里的位置用数对表示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表示坐在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、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排的位置；小欢在教室里的位置用数对表示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表示坐在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、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排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玲玲在班里的位置用数对表示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小丽在玲玲的正后方，用数对表示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，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5020560" y="2486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20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Box 14"/>
          <p:cNvSpPr/>
          <p:nvPr/>
        </p:nvSpPr>
        <p:spPr>
          <a:xfrm>
            <a:off x="6965280" y="2484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9"/>
          <p:cNvSpPr/>
          <p:nvPr/>
        </p:nvSpPr>
        <p:spPr>
          <a:xfrm>
            <a:off x="6139080" y="29527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2882520" y="4317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1"/>
          <p:cNvSpPr/>
          <p:nvPr/>
        </p:nvSpPr>
        <p:spPr>
          <a:xfrm>
            <a:off x="4345920" y="4317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2"/>
          <p:cNvSpPr/>
          <p:nvPr/>
        </p:nvSpPr>
        <p:spPr>
          <a:xfrm>
            <a:off x="3564720" y="52293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07T04:04:29Z</dcterms:modified>
  <cp:revision>4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