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AF2CF-6768-4FF0-A85D-32DCF143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BDE0B-BDCF-48DA-9E1D-8809B551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5EE99-13AD-4143-AED1-D51040A2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3F1D1-76AC-4BA7-AD02-DBD6604E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CC311-C893-493D-B6D0-BFF09CB9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602D0-59EF-421E-B9FF-2036F3A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E97AB-9C83-4A90-94B0-5BC824C9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66D9C-5765-4F89-B61B-2BA33D92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E16D-4623-47A9-96AD-3E22189A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BC790-9A5C-4AA4-B8B0-D30F474F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752C6-8D75-4FE5-8BE0-91BAF342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98A6-847C-428D-853E-995487E2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2059F-0E12-4E87-AD31-0DD67C3E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7DA37-E10B-4986-9BC8-3087F480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B0E59-4DA3-411B-8E20-6D97BC31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47918-598A-4C72-9A3B-E07803B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8E197-3DC2-4B84-87ED-7ED14FCE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B49ED-DC08-4F80-B98D-C9C6321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32FE8-CAD5-4081-8174-19752C5D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02A0B-958B-49F0-819C-24EBF64B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E3688-476B-4D3C-836A-78CDC87A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D7007-7E97-41F1-9BA1-8BC7CA37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210E2-F850-4F28-9A95-5F267350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D375A-8A06-4642-B09C-61134484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0E670-14A9-47B4-BA03-B5215780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B70AC-4CEB-421B-B87D-25138F2D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02018-3AD4-4FBA-9902-3122393C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83DB8-DC41-4DDB-A930-C4AC5A34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81D4E-C102-47EE-9DB2-7EAE44C0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6C32B-A0DC-4B32-90FD-77CDB1DF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038B8-D1C1-4905-BCA7-BD7CB215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E2893-0098-41EE-8E55-0CAEFDDB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D45C0-EFFF-4AC7-AE86-EEB2CFF7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C8721-C7B4-463A-B1F0-2501358E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ABBA9-D193-472A-885A-3C4DFFE6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96393-B589-4047-8185-FAC94D2E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505AA-C36C-4CBD-BAB3-B50DA547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A7256-826E-4F1D-9021-6678E28C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2171D-2E82-45E8-9B2A-C6EEE677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A9290-D932-4753-861B-F862F369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34A97-5BA6-4E74-86A4-E48FBD8E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5EBDB-C996-4B89-B23B-AEB4959C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210A1-71EF-41B7-B5E8-CEC4E100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75CF8-19C0-4372-A532-F067E2BA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02DA9-F07E-45CE-BB4E-6D3FCAD5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7981B-FEA3-41E8-B8B1-122690A2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A97DD-3061-4923-86B2-4A4AC534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88C69-B661-4FCD-9999-02602CEE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3C54D-482A-4ABD-ABA2-D7FD799E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04CE6-5A44-4312-B0D7-A2CAABEB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DD9F9-3F13-480D-BF3A-232A99BF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65C14-F880-426A-B350-B3E09779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6F131-BCB6-4232-9DF0-744F21BB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8DDEF-2E1B-4E18-AABE-EC81A076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25203-7E51-42C2-9ADF-DB70E35C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1F25B-397A-4280-AA18-4819C663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066FA-FDE1-4E06-A2BF-AEDFA7C1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8B2CC-07E8-49B4-9C91-E8C44DEE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5B9B4-6E60-4832-B348-283C6DC5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D1A49-D341-49C1-AB6A-EB015C0C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7674D-1B2B-4CFE-A11B-1874C6BE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978D9-3A10-4F11-B26F-5AA10C78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B5FC4-BA23-4F8E-AA23-84CD8FD3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BB7E2-8FC1-4CC4-844E-D679D42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8877D-8EB8-4915-BD5F-502645F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2B904-B344-4F72-A9AD-C611B714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318D8-8A18-4831-BD16-83DB9ECD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FC87B-40FC-4774-9B95-4488D27F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D0A1C-0F34-43B0-B7A3-174C420D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65A0A-8382-4403-BC03-BF2EAFB3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E9803-8220-4AF6-B728-F02F6564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889E9-B707-41CF-B5F1-A293A602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3E3FD-1E3C-49D5-A1BF-8F054D42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1F6B2-B0DB-4D7E-9D67-E3E91103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F0AF9-6F22-4332-B822-639D79B9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C2DB8-330F-46BF-90A2-37E787C5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5C63F-77AD-4C52-AB6C-1A4326D4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C5D88-31D0-4FB6-B5D8-8FEE243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2551E-7EBA-4AA1-84C1-1CDD3BA2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51CBF-1BD8-4B78-90AE-AC025F26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F99D3-A911-4C10-99F8-E26C57BB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8ACC6-7899-42DC-BD7C-E8D588F9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08504-6216-4AC0-9C4A-CAC672F6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D4B62-6740-4160-819D-1D125BF3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475F3-F5B0-4DDA-A9A8-03DE454E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2DB80-AF84-497C-9628-185BEF50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30CAD-7408-4057-A53C-56DC8DFC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8D41B-203A-447E-BE45-3C3323A1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05DFE-30FB-4EC2-8E4F-8D4DFB34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71042-4A0C-49C7-832F-90E22FFF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61632-3912-426A-9842-7993653D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F2E15-85DC-4D7D-9639-23853FF8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C6B3E-AEAE-4FBF-8276-3587EAD1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80D-E9E9-4B25-B111-46FBF882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123-1606-47E5-9051-9777AA1B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FD3-FA83-4281-9A9B-6DFA29E5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8CC-4DE6-4743-8337-565C2EE2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72E-C354-4164-9E5E-6D245088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375-1C7A-4D6E-98FA-8FB37896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5EA-EDAF-43C8-9F1E-3459280A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431-AA54-4135-9A03-4EA3EBA0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452-B48B-4782-853D-7572E30C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4E3-E7D0-4DE9-8B1A-C19DDD97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7BF-4923-4CA7-BC72-13CA266A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795-B9B4-4B91-93DA-05074DEC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2A6A-4B8A-4C36-BD98-5F4F64AA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6F27-4999-4C34-A369-1FA72992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FE08-5D02-48AC-88B2-6C0CD50E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71A1-2680-4D6D-83D3-5431DCC8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CCAA-39C5-4B74-9202-895DF638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7DE0-AA4A-4E52-8444-CF28F8A0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801F-FC74-4345-A8BB-CA4C75B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96C2-3D3E-4435-9959-F23CA876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B8D6-E755-4504-8FD3-AE65B3E4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F374-E684-4EF8-A8FD-B5851BDE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CD1E-CA44-4BF0-991B-501CE650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7F64-ADD8-4866-B0F6-CF2EABF2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9D01D-B863-4C45-831F-60B7A27E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A067-A09E-4271-99EF-7648D3CC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AE035-B85F-4587-9FB8-7DD744FC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E8D2-8D5A-4857-A066-305720F9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C342-D917-4366-8CBC-7EC12D20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B3C62-B890-4534-A3AE-2B0DE56C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169D-5B3E-4D66-859B-0B5E129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8D9C-9CA0-4CC5-8642-C32C4F5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0929-967F-4FB3-9679-99A18D92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50961-CD22-4E90-8686-ECF707C4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8CCE-E9DC-4EC5-B5DE-FD3C7107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0F20-A371-4B8F-85BB-A68AF9EB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3A3F-20A9-4FD7-97BD-7461FC90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66CC0-C05B-4091-8AE6-242D9E80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44B47-7134-4A97-87F3-73DF751A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7D5B9-3487-4611-9EE8-67815AB5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904D8-DA9A-4C08-8490-C0E448C4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1611B-3D80-4D3D-BFC4-62E25FB2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104F3-352B-42AF-BF16-1B247CF1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FB68F-90BC-4C9C-BB4F-1B5D1E29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74B9-0B6E-4DFC-A673-53967E5A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8263-0521-42DB-A78F-AB28A2D7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CE57-51D7-47C5-AC43-92E40F64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26CF9-4A80-4DCC-B3A5-5EDC609B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89A79-4040-4B82-BF6F-47E5DBA4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F651F-9340-404E-BA99-DD1246E9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49E60-9F0A-4F99-8D6E-BC318296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51BE2-604B-434A-9351-F4F96D42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69A5E-4222-4298-A644-AE842019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60260-5948-4103-A928-E0A14326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3EB33-9772-4632-95B3-D55A99E6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B56B9-645A-496E-9A16-77F4DC45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FC51-19CD-4F52-9EF6-081FD0EF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E0B4-ECCA-4006-A3CD-F5380095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A4D98-86E4-48DD-981F-92F039D3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3B7B1-3193-4A1B-98ED-2106C70D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7F63-745D-4E98-8A93-7B3127F4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AFF7A-A883-4FB7-AC29-234B2E93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88F89-E95B-4AB5-835C-7294DB7A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79A3E-62A8-40DB-87A4-38D12832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3F986-2BB8-4237-B2F3-CE4110E2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59A32-9E5A-4D52-843E-D0F2A3D4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2DA1F-6AD2-4813-BFAF-61A43CDE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72648-9ADE-46EE-8F64-5426C2F8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00430-E632-481C-8FB0-1D05D31B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08AFA-AE93-4C71-9876-62C152CF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9035-DE0F-484F-9604-1D492FC7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0EAB7-0B73-4227-AAFE-8FAC24F9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C6A5D-CE88-494E-A8D0-1F47CD19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E30E3-4DEA-4803-89B5-D21A93CB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EFF27-50A7-400D-BB7F-ACEB042E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066D-70AF-446C-8CDC-9F7D450F2B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A579-C392-494C-A9E8-80EC7E4B2DE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A0A9-78C7-44D1-BD98-63D0B82B98C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F2D9-A3B6-4C9F-8739-83C067C2DC0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416C-631F-4637-9365-E8559BC6F31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C137-B388-410F-A394-7F2DBE4519E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4D61-579C-4167-8FAE-7AB07C90133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F660A-DBB3-4C7D-A7FF-B15FC168BDA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2AC-6CB0-4BEC-BFD5-BF072DC3CA7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CA72-E5B5-42B8-BAA1-F96D289392A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CD21-3F53-4121-A4B1-CB206D257AD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9B6F-88F2-4B02-BFDB-CB0F8C5B3F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F24A-B46E-4EB5-ADFF-0B6F0D044D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3E08-6BB4-48B6-89CD-B71B89A36CA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49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位置（一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 位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6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1233360" y="1889280"/>
            <a:ext cx="6867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数对来找出图中实物 的位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4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8"/>
          <p:cNvSpPr/>
          <p:nvPr/>
        </p:nvSpPr>
        <p:spPr>
          <a:xfrm>
            <a:off x="611280" y="1484280"/>
            <a:ext cx="83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是沈娜家所在“利民”小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号楼的平面示意图。图上“列”表示楼房的单元，“行”表示楼房的层数。按下面条件，标出各家所在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沈娜家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王华家和沈娜家在同一楼层，从左往右数第二单元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组合 1"/>
          <p:cNvGrpSpPr/>
          <p:nvPr/>
        </p:nvGrpSpPr>
        <p:grpSpPr>
          <a:xfrm>
            <a:off x="595440" y="1004760"/>
            <a:ext cx="2809800" cy="668520"/>
            <a:chOff x="595440" y="1004760"/>
            <a:chExt cx="2809800" cy="668520"/>
          </a:xfrm>
        </p:grpSpPr>
        <p:sp>
          <p:nvSpPr>
            <p:cNvPr id="669" name="圆角矩形 13"/>
            <p:cNvSpPr/>
            <p:nvPr/>
          </p:nvSpPr>
          <p:spPr>
            <a:xfrm>
              <a:off x="1479600" y="11174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文本框 13"/>
            <p:cNvSpPr/>
            <p:nvPr/>
          </p:nvSpPr>
          <p:spPr>
            <a:xfrm>
              <a:off x="1479600" y="11048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0476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72" name=""/>
          <p:cNvGraphicFramePr/>
          <p:nvPr/>
        </p:nvGraphicFramePr>
        <p:xfrm>
          <a:off x="1417680" y="3112920"/>
          <a:ext cx="6095880" cy="21956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8"/>
          <p:cNvSpPr/>
          <p:nvPr/>
        </p:nvSpPr>
        <p:spPr>
          <a:xfrm>
            <a:off x="2451240" y="2565360"/>
            <a:ext cx="43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利民”小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号楼的平面示意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1682640" y="5229360"/>
            <a:ext cx="5769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      2                  3                 4                 5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923760" y="482292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923760" y="448164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923760" y="411336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8"/>
          <p:cNvSpPr/>
          <p:nvPr/>
        </p:nvSpPr>
        <p:spPr>
          <a:xfrm>
            <a:off x="923760" y="3718080"/>
            <a:ext cx="606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942840" y="3365640"/>
            <a:ext cx="517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942840" y="2989440"/>
            <a:ext cx="517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18"/>
          <p:cNvSpPr/>
          <p:nvPr/>
        </p:nvSpPr>
        <p:spPr>
          <a:xfrm>
            <a:off x="2987640" y="60087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13"/>
          <p:cNvSpPr/>
          <p:nvPr/>
        </p:nvSpPr>
        <p:spPr>
          <a:xfrm>
            <a:off x="3348000" y="591660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636480" y="836640"/>
            <a:ext cx="794880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是沈娜家所在“利民”小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号楼的平面示意图。图上“列”表示楼房的单元，“行”表示楼房的层数。按下面条件，标出各家所在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李奶奶家在起始单元，起始层；陈奶奶家和李奶奶家在同一单元，比李奶奶家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层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1419120" y="2465280"/>
          <a:ext cx="6095880" cy="21938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Rectangle 8"/>
          <p:cNvSpPr/>
          <p:nvPr/>
        </p:nvSpPr>
        <p:spPr>
          <a:xfrm>
            <a:off x="2405160" y="2000160"/>
            <a:ext cx="43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利民”小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号楼的平面示意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1682640" y="4581360"/>
            <a:ext cx="5770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      2                  3                 4                 5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25560" y="4175280"/>
            <a:ext cx="517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925560" y="3833640"/>
            <a:ext cx="517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925560" y="3463920"/>
            <a:ext cx="517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925560" y="3070080"/>
            <a:ext cx="604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942840" y="271764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942840" y="234144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矩形 5"/>
          <p:cNvSpPr/>
          <p:nvPr/>
        </p:nvSpPr>
        <p:spPr>
          <a:xfrm>
            <a:off x="3348000" y="591660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36480" y="836640"/>
            <a:ext cx="794880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是沈娜家所在“利民”小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号楼的平面示意图。图上“列”表示楼房的单元，“行”表示楼房的层数。按下面条件，标出各家所在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张叔叔家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和刘阿姨家在同一楼层，刘阿姨家和沈娜家在同一单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419120" y="2465280"/>
          <a:ext cx="6095880" cy="21938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Rectangle 8"/>
          <p:cNvSpPr/>
          <p:nvPr/>
        </p:nvSpPr>
        <p:spPr>
          <a:xfrm>
            <a:off x="2405160" y="2000160"/>
            <a:ext cx="43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利民”小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号楼的平面示意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1682640" y="4581360"/>
            <a:ext cx="5770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      2                  3                 4                 5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925560" y="4175280"/>
            <a:ext cx="517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8"/>
          <p:cNvSpPr/>
          <p:nvPr/>
        </p:nvSpPr>
        <p:spPr>
          <a:xfrm>
            <a:off x="925560" y="3833640"/>
            <a:ext cx="517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925560" y="3463920"/>
            <a:ext cx="517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ectangle 8"/>
          <p:cNvSpPr/>
          <p:nvPr/>
        </p:nvSpPr>
        <p:spPr>
          <a:xfrm>
            <a:off x="925560" y="3070080"/>
            <a:ext cx="604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942840" y="271764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942840" y="234144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8"/>
          <p:cNvSpPr/>
          <p:nvPr/>
        </p:nvSpPr>
        <p:spPr>
          <a:xfrm>
            <a:off x="684360" y="1125360"/>
            <a:ext cx="73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按顺序找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置上的字母，组成一个单词，并写出它的中文意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16"/>
          <p:cNvSpPr/>
          <p:nvPr/>
        </p:nvSpPr>
        <p:spPr>
          <a:xfrm>
            <a:off x="2700360" y="5084640"/>
            <a:ext cx="2911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ootball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足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536840" y="2637000"/>
          <a:ext cx="4752720" cy="1981080"/>
        </p:xfrm>
        <a:graphic>
          <a:graphicData uri="http://schemas.openxmlformats.org/drawingml/2006/table">
            <a:tbl>
              <a:tblPr/>
              <a:tblGrid>
                <a:gridCol w="791640"/>
                <a:gridCol w="792360"/>
                <a:gridCol w="792000"/>
                <a:gridCol w="792360"/>
                <a:gridCol w="792000"/>
                <a:gridCol w="7923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7" name="Rectangle 8"/>
          <p:cNvSpPr/>
          <p:nvPr/>
        </p:nvSpPr>
        <p:spPr>
          <a:xfrm>
            <a:off x="1600200" y="4581360"/>
            <a:ext cx="4762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3          4           5          6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8"/>
          <p:cNvSpPr/>
          <p:nvPr/>
        </p:nvSpPr>
        <p:spPr>
          <a:xfrm>
            <a:off x="952560" y="413856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952560" y="372744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952560" y="335772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ectangle 8"/>
          <p:cNvSpPr/>
          <p:nvPr/>
        </p:nvSpPr>
        <p:spPr>
          <a:xfrm>
            <a:off x="952560" y="294624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952560" y="2550960"/>
            <a:ext cx="51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8"/>
          <p:cNvSpPr/>
          <p:nvPr/>
        </p:nvSpPr>
        <p:spPr>
          <a:xfrm>
            <a:off x="684360" y="172080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帮两朵花找位置时，因理解错了数对的表示方法，把列和排搞颠倒了，结果找在了下图中所标的位置上，请你根据对数对的正确理解，找出两朵花的正确位置并画出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4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715" name="圆角矩形 7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8" name="矩形 10"/>
          <p:cNvSpPr/>
          <p:nvPr/>
        </p:nvSpPr>
        <p:spPr>
          <a:xfrm>
            <a:off x="1763640" y="5229360"/>
            <a:ext cx="6089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两条花分别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与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的位置上，图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10" descr=""/>
          <p:cNvPicPr/>
          <p:nvPr/>
        </p:nvPicPr>
        <p:blipFill>
          <a:blip r:embed="rId2"/>
          <a:stretch/>
        </p:blipFill>
        <p:spPr>
          <a:xfrm>
            <a:off x="2052720" y="3284640"/>
            <a:ext cx="50385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2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25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07T03:31:52Z</dcterms:modified>
  <cp:revision>1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