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4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19D-D08F-4CEC-AC78-F6E6B8E5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29B-5D45-471E-8E91-44572222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D2A-F564-4D15-96CF-52ACC426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DAA-B81D-4BAB-B9F3-35B139F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06D-B2AC-455E-B21F-1B8DA2F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F00-1FC6-48B1-83FA-090F5C67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957-D27A-4A65-8DA9-EA31273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A95-AB2F-4CF1-A4F9-5B68933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AA2-AB48-42E2-99C2-67E8546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A27-5063-4ABC-8D91-AB0AFA5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ED9-CBB0-481C-A58B-961B0FBE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697-2C4B-413B-A2F0-9A7AAA04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2A23-1097-4FBA-A02D-6B34E46A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9212-653B-4F1A-BEA7-725A88D9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F1FA-D4A0-4C69-BF8E-934F1F9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6A9-CAAC-4A17-8607-08994CF4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EA9-397F-4821-B7E3-E5FBC80F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A88E-BADF-49BD-A93A-A926E09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5295-33AA-4AB6-9590-8102F15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3E95-1FD8-4DA5-AF1F-ECD7A1D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181-BF90-42AB-8CE8-7EDE49F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FBF-93D5-48DD-A216-7E239178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97BD-42A8-4817-9B1E-D6D13F1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5CC-F9A0-42AA-9BD6-3505E55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DF8-A6E7-4408-998E-CE79852A6C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806-722B-49B6-BD3E-80E3FD2B7A4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5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认识正比例的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6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67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8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9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正比例 反比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2019240" y="1563840"/>
            <a:ext cx="671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判断下面各题中的两种量是否成正比例，并说明理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496800" y="1201680"/>
            <a:ext cx="1522440" cy="9255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3"/>
          <p:cNvSpPr/>
          <p:nvPr/>
        </p:nvSpPr>
        <p:spPr>
          <a:xfrm>
            <a:off x="1168560" y="2130480"/>
            <a:ext cx="716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飞机飞行的速度不变，飞行的路程和时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每千克苹果的价钱一定，付出的钱数和购买的苹果的数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每月收入一定，每月支出的钱数和剩下的钱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18"/>
          <p:cNvGrpSpPr/>
          <p:nvPr/>
        </p:nvGrpSpPr>
        <p:grpSpPr>
          <a:xfrm>
            <a:off x="1168560" y="3511440"/>
            <a:ext cx="6997680" cy="1512720"/>
            <a:chOff x="1168560" y="3511440"/>
            <a:chExt cx="6997680" cy="1512720"/>
          </a:xfrm>
        </p:grpSpPr>
        <p:sp>
          <p:nvSpPr>
            <p:cNvPr id="278" name="TextBox 5"/>
            <p:cNvSpPr/>
            <p:nvPr/>
          </p:nvSpPr>
          <p:spPr>
            <a:xfrm>
              <a:off x="1168560" y="3558600"/>
              <a:ext cx="6997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题中，因为                     ＝飞行速度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一定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，所以飞行的路程和时间成正比例。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题中，因为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＝每千克苹果的价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一定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，所以付出的钱数和购买苹果的数量成正比例。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题中，因为每月支出的钱数＋剩下的钱数＝每月收入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一定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，不符合正比例的规律，所以每月支出的钱数和剩下的钱数不成正比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组合 10"/>
            <p:cNvGrpSpPr/>
            <p:nvPr/>
          </p:nvGrpSpPr>
          <p:grpSpPr>
            <a:xfrm>
              <a:off x="2947680" y="3511440"/>
              <a:ext cx="1276920" cy="697680"/>
              <a:chOff x="2947680" y="3511440"/>
              <a:chExt cx="1276920" cy="697680"/>
            </a:xfrm>
          </p:grpSpPr>
          <p:sp>
            <p:nvSpPr>
              <p:cNvPr id="280" name="TextBox 6"/>
              <p:cNvSpPr/>
              <p:nvPr/>
            </p:nvSpPr>
            <p:spPr>
              <a:xfrm>
                <a:off x="2947680" y="3511440"/>
                <a:ext cx="127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飞行的路程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直接连接符 7"/>
              <p:cNvSpPr/>
              <p:nvPr/>
            </p:nvSpPr>
            <p:spPr>
              <a:xfrm>
                <a:off x="3063600" y="3849480"/>
                <a:ext cx="1089720" cy="10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TextBox 8"/>
              <p:cNvSpPr/>
              <p:nvPr/>
            </p:nvSpPr>
            <p:spPr>
              <a:xfrm>
                <a:off x="3265200" y="3871800"/>
                <a:ext cx="711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数量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" name="组合 13"/>
            <p:cNvGrpSpPr/>
            <p:nvPr/>
          </p:nvGrpSpPr>
          <p:grpSpPr>
            <a:xfrm>
              <a:off x="5168880" y="3956760"/>
              <a:ext cx="1713240" cy="697680"/>
              <a:chOff x="5168880" y="3956760"/>
              <a:chExt cx="1713240" cy="697680"/>
            </a:xfrm>
          </p:grpSpPr>
          <p:sp>
            <p:nvSpPr>
              <p:cNvPr id="284" name="TextBox 14"/>
              <p:cNvSpPr/>
              <p:nvPr/>
            </p:nvSpPr>
            <p:spPr>
              <a:xfrm>
                <a:off x="5422680" y="3956760"/>
                <a:ext cx="127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付出的钱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直接连接符 15"/>
              <p:cNvSpPr/>
              <p:nvPr/>
            </p:nvSpPr>
            <p:spPr>
              <a:xfrm>
                <a:off x="5406840" y="4294800"/>
                <a:ext cx="118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TextBox 16"/>
              <p:cNvSpPr/>
              <p:nvPr/>
            </p:nvSpPr>
            <p:spPr>
              <a:xfrm>
                <a:off x="5168880" y="4317120"/>
                <a:ext cx="171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购买苹果的数量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87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Users\Administrator\Desktop\QQ截图20170914171435.png"/>
          <p:cNvPicPr/>
          <p:nvPr/>
        </p:nvPicPr>
        <p:blipFill>
          <a:blip r:embed="rId1"/>
          <a:stretch/>
        </p:blipFill>
        <p:spPr>
          <a:xfrm>
            <a:off x="4297320" y="1741320"/>
            <a:ext cx="3859200" cy="7606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1706400" y="2766960"/>
            <a:ext cx="616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活中成正比例的例子还有很多，如学校食堂每天的用煤量一定，用煤的总量和用的天数；小麦每公顷的产量一定，总产量和公顷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684360" y="1557360"/>
            <a:ext cx="8459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提高自身的阅读能力，学生们积极订阅书刊，认真阅读。某书店销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天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份数和总价如下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相关联的量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也随着增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总价与份数这两种相关联的量中相对应的两个数的比值都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比值实际上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总价与份数的比值一定，所以表中的两种量叫做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29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95" name=""/>
          <p:cNvGraphicFramePr/>
          <p:nvPr/>
        </p:nvGraphicFramePr>
        <p:xfrm>
          <a:off x="1619280" y="3068640"/>
          <a:ext cx="5068800" cy="1401840"/>
        </p:xfrm>
        <a:graphic>
          <a:graphicData uri="http://schemas.openxmlformats.org/drawingml/2006/table">
            <a:tbl>
              <a:tblPr/>
              <a:tblGrid>
                <a:gridCol w="974880"/>
                <a:gridCol w="544320"/>
                <a:gridCol w="544680"/>
                <a:gridCol w="544320"/>
                <a:gridCol w="638280"/>
                <a:gridCol w="639720"/>
                <a:gridCol w="638280"/>
                <a:gridCol w="544320"/>
              </a:tblGrid>
              <a:tr h="7016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份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Box 7"/>
          <p:cNvSpPr/>
          <p:nvPr/>
        </p:nvSpPr>
        <p:spPr>
          <a:xfrm>
            <a:off x="1632600" y="441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份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2579040" y="4414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总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5105520" y="441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份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663012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总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7741440" y="48657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3485160" y="5327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每份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小学生天地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的单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7324920" y="5791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正比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826920" y="1268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程与时间的比值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当这个比值一定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6"/>
          <p:cNvSpPr/>
          <p:nvPr/>
        </p:nvSpPr>
        <p:spPr>
          <a:xfrm>
            <a:off x="4304160" y="197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1531800" y="252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8"/>
          <p:cNvSpPr/>
          <p:nvPr/>
        </p:nvSpPr>
        <p:spPr>
          <a:xfrm>
            <a:off x="2971440" y="252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9"/>
          <p:cNvSpPr/>
          <p:nvPr/>
        </p:nvSpPr>
        <p:spPr>
          <a:xfrm>
            <a:off x="4464000" y="253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700200" y="1474920"/>
            <a:ext cx="775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的画“√”，错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形的长一定，宽和面积成正比例关系。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形的面积与边长成正比例关系。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的前项一定，比的后项和比值成正比例关系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关系。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7771680" y="222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2"/>
          <p:cNvSpPr/>
          <p:nvPr/>
        </p:nvSpPr>
        <p:spPr>
          <a:xfrm>
            <a:off x="7771680" y="2705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3"/>
          <p:cNvSpPr/>
          <p:nvPr/>
        </p:nvSpPr>
        <p:spPr>
          <a:xfrm>
            <a:off x="7771680" y="32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4"/>
          <p:cNvSpPr/>
          <p:nvPr/>
        </p:nvSpPr>
        <p:spPr>
          <a:xfrm>
            <a:off x="7766280" y="386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900000" y="907920"/>
            <a:ext cx="69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正确答案的字母填在括号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各组中两种量不成正比例关系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人的身高与年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工作效率一定，工作总量和工作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圆的周长与直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甲数的      与乙数的      相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甲、乙两数均不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甲数与乙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成正比例关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成正比例关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成比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无法判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5795280" y="1484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1967040" y="4221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对象 1" descr=""/>
          <p:cNvPicPr/>
          <p:nvPr/>
        </p:nvPicPr>
        <p:blipFill>
          <a:blip r:embed="rId1"/>
          <a:stretch/>
        </p:blipFill>
        <p:spPr>
          <a:xfrm>
            <a:off x="2135160" y="3645000"/>
            <a:ext cx="200160" cy="576000"/>
          </a:xfrm>
          <a:prstGeom prst="rect">
            <a:avLst/>
          </a:prstGeom>
          <a:ln w="0">
            <a:noFill/>
          </a:ln>
        </p:spPr>
      </p:pic>
      <p:pic>
        <p:nvPicPr>
          <p:cNvPr id="320" name="对象 2" descr=""/>
          <p:cNvPicPr/>
          <p:nvPr/>
        </p:nvPicPr>
        <p:blipFill>
          <a:blip r:embed="rId2"/>
          <a:stretch/>
        </p:blipFill>
        <p:spPr>
          <a:xfrm>
            <a:off x="3492360" y="3645000"/>
            <a:ext cx="292320" cy="5760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684360" y="1125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正确答案的字母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各式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  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    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5625720" y="18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对象 1" descr=""/>
          <p:cNvPicPr/>
          <p:nvPr/>
        </p:nvPicPr>
        <p:blipFill>
          <a:blip r:embed="rId1"/>
          <a:stretch/>
        </p:blipFill>
        <p:spPr>
          <a:xfrm>
            <a:off x="2141640" y="2838600"/>
            <a:ext cx="199800" cy="5760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的半径和面积不成正比例，但是圆的半径的平方和面积成正比例。两种量是否成正比例，要根据正比例的意义去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6"/>
          <p:cNvSpPr/>
          <p:nvPr/>
        </p:nvSpPr>
        <p:spPr>
          <a:xfrm>
            <a:off x="790560" y="1892160"/>
            <a:ext cx="705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一个化肥厂的生产情况如下表，根据表中数据回答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表中有哪两种相关联的量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表中相关联的两种量成正比例吗？为什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组合 7"/>
          <p:cNvGrpSpPr/>
          <p:nvPr/>
        </p:nvGrpSpPr>
        <p:grpSpPr>
          <a:xfrm>
            <a:off x="957240" y="1062720"/>
            <a:ext cx="5900760" cy="733680"/>
            <a:chOff x="957240" y="1062720"/>
            <a:chExt cx="5900760" cy="733680"/>
          </a:xfrm>
        </p:grpSpPr>
        <p:pic>
          <p:nvPicPr>
            <p:cNvPr id="33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39456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23"/>
            <p:cNvSpPr/>
            <p:nvPr/>
          </p:nvSpPr>
          <p:spPr>
            <a:xfrm>
              <a:off x="1351800" y="1062720"/>
              <a:ext cx="5506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TextBox 6"/>
          <p:cNvSpPr/>
          <p:nvPr/>
        </p:nvSpPr>
        <p:spPr>
          <a:xfrm>
            <a:off x="3250800" y="382896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时间和生产量是两种相关联的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1463760" y="4761000"/>
            <a:ext cx="59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成正比例，因为生产量随着时间的增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减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而增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减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且生产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时间＝生产效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所以时间和生产量成正比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54160" y="2436840"/>
          <a:ext cx="7362720" cy="838080"/>
        </p:xfrm>
        <a:graphic>
          <a:graphicData uri="http://schemas.openxmlformats.org/drawingml/2006/table">
            <a:tbl>
              <a:tblPr/>
              <a:tblGrid>
                <a:gridCol w="1195560"/>
                <a:gridCol w="806400"/>
                <a:gridCol w="893520"/>
                <a:gridCol w="893880"/>
                <a:gridCol w="893880"/>
                <a:gridCol w="892080"/>
                <a:gridCol w="893880"/>
                <a:gridCol w="893520"/>
              </a:tblGrid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1042920" y="2133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圆的半径越大，它的面积就越大，所以圆的半径和面积成正比例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22"/>
          <p:cNvSpPr/>
          <p:nvPr/>
        </p:nvSpPr>
        <p:spPr>
          <a:xfrm>
            <a:off x="1403280" y="3716280"/>
            <a:ext cx="68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7240" indent="-95724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辨析：没有正确理解正比例关系引起的判断错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9"/>
          <p:cNvSpPr/>
          <p:nvPr/>
        </p:nvSpPr>
        <p:spPr>
          <a:xfrm>
            <a:off x="553104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7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7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8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8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9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比例的意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9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0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4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4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865160" y="1714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路程和时间，怎样求速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167920" y="2298600"/>
            <a:ext cx="23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路程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865160" y="29383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总价和数量，怎样求单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190240" y="3551400"/>
            <a:ext cx="23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单价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总价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数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306880" y="41832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工作总量和工作时间，怎样求工作效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609640" y="482436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工作效率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工作总量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工作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4"/>
          <p:cNvGrpSpPr/>
          <p:nvPr/>
        </p:nvGrpSpPr>
        <p:grpSpPr>
          <a:xfrm>
            <a:off x="981000" y="1852560"/>
            <a:ext cx="7577280" cy="713520"/>
            <a:chOff x="981000" y="1852560"/>
            <a:chExt cx="7577280" cy="713520"/>
          </a:xfrm>
        </p:grpSpPr>
        <p:sp>
          <p:nvSpPr>
            <p:cNvPr id="213" name="矩形 1"/>
            <p:cNvSpPr/>
            <p:nvPr/>
          </p:nvSpPr>
          <p:spPr>
            <a:xfrm>
              <a:off x="1597680" y="1923480"/>
              <a:ext cx="696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是一辆汽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: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出发时和行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时候里程表上显示的千米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4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15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17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503280" y="1143000"/>
            <a:ext cx="4530600" cy="666720"/>
            <a:chOff x="503280" y="1143000"/>
            <a:chExt cx="4530600" cy="666720"/>
          </a:xfrm>
        </p:grpSpPr>
        <p:sp>
          <p:nvSpPr>
            <p:cNvPr id="219" name="文本框 13"/>
            <p:cNvSpPr/>
            <p:nvPr/>
          </p:nvSpPr>
          <p:spPr>
            <a:xfrm>
              <a:off x="1671840" y="1190520"/>
              <a:ext cx="336204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正比例的意义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2" descr="C:\Users\jzzou\Desktop\河北底图\正文(18)1.png"/>
          <p:cNvPicPr/>
          <p:nvPr/>
        </p:nvPicPr>
        <p:blipFill>
          <a:blip r:embed="rId4"/>
          <a:stretch/>
        </p:blipFill>
        <p:spPr>
          <a:xfrm>
            <a:off x="2592360" y="3033720"/>
            <a:ext cx="4500720" cy="13572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1"/>
          <p:cNvSpPr/>
          <p:nvPr/>
        </p:nvSpPr>
        <p:spPr>
          <a:xfrm>
            <a:off x="1683720" y="4479840"/>
            <a:ext cx="33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汽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行驶了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1706400" y="51674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724=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Administrator\Desktop\QQ截图20170914172151.png"/>
          <p:cNvPicPr/>
          <p:nvPr/>
        </p:nvPicPr>
        <p:blipFill>
          <a:blip r:embed="rId1"/>
          <a:stretch/>
        </p:blipFill>
        <p:spPr>
          <a:xfrm>
            <a:off x="1504800" y="1085760"/>
            <a:ext cx="6121440" cy="4208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3099600" y="119700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如果汽车的速度不变，请完成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53920" y="1863720"/>
          <a:ext cx="7989840" cy="833400"/>
        </p:xfrm>
        <a:graphic>
          <a:graphicData uri="http://schemas.openxmlformats.org/drawingml/2006/table">
            <a:tbl>
              <a:tblPr/>
              <a:tblGrid>
                <a:gridCol w="2571840"/>
                <a:gridCol w="1000080"/>
                <a:gridCol w="928800"/>
                <a:gridCol w="1087200"/>
                <a:gridCol w="1247760"/>
                <a:gridCol w="1154160"/>
              </a:tblGrid>
              <a:tr h="41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（时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路程（千米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Box 10"/>
          <p:cNvSpPr/>
          <p:nvPr/>
        </p:nvSpPr>
        <p:spPr>
          <a:xfrm>
            <a:off x="6473880" y="228744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7715160" y="22795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992160" y="2871720"/>
            <a:ext cx="719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写出相对应的路程和时间的比并求比值。你发现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对象 1" descr=""/>
          <p:cNvPicPr/>
          <p:nvPr/>
        </p:nvPicPr>
        <p:blipFill>
          <a:blip r:embed="rId2"/>
          <a:stretch/>
        </p:blipFill>
        <p:spPr>
          <a:xfrm>
            <a:off x="2843280" y="3551400"/>
            <a:ext cx="3419280" cy="61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C:\Users\Administrator\Desktop\QQ截图20170914162954.png"/>
          <p:cNvPicPr/>
          <p:nvPr/>
        </p:nvPicPr>
        <p:blipFill>
          <a:blip r:embed="rId3"/>
          <a:stretch/>
        </p:blipFill>
        <p:spPr>
          <a:xfrm>
            <a:off x="1157400" y="4414680"/>
            <a:ext cx="3138480" cy="7797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4"/>
          <p:cNvGrpSpPr/>
          <p:nvPr/>
        </p:nvGrpSpPr>
        <p:grpSpPr>
          <a:xfrm>
            <a:off x="3071880" y="5338800"/>
            <a:ext cx="4032360" cy="800640"/>
            <a:chOff x="3071880" y="5338800"/>
            <a:chExt cx="4032360" cy="800640"/>
          </a:xfrm>
        </p:grpSpPr>
        <p:sp>
          <p:nvSpPr>
            <p:cNvPr id="235" name="矩形 35"/>
            <p:cNvSpPr/>
            <p:nvPr/>
          </p:nvSpPr>
          <p:spPr>
            <a:xfrm>
              <a:off x="3071880" y="5338800"/>
              <a:ext cx="4032360" cy="79704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6" name="组合 28"/>
            <p:cNvGrpSpPr/>
            <p:nvPr/>
          </p:nvGrpSpPr>
          <p:grpSpPr>
            <a:xfrm>
              <a:off x="3503160" y="5338800"/>
              <a:ext cx="3373560" cy="800640"/>
              <a:chOff x="3503160" y="5338800"/>
              <a:chExt cx="3373560" cy="800640"/>
            </a:xfrm>
          </p:grpSpPr>
          <p:sp>
            <p:nvSpPr>
              <p:cNvPr id="237" name="TextBox 37"/>
              <p:cNvSpPr/>
              <p:nvPr/>
            </p:nvSpPr>
            <p:spPr>
              <a:xfrm>
                <a:off x="3503160" y="5338800"/>
                <a:ext cx="11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路程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38"/>
              <p:cNvSpPr/>
              <p:nvPr/>
            </p:nvSpPr>
            <p:spPr>
              <a:xfrm>
                <a:off x="3503160" y="5754600"/>
                <a:ext cx="863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TextBox 39"/>
              <p:cNvSpPr/>
              <p:nvPr/>
            </p:nvSpPr>
            <p:spPr>
              <a:xfrm>
                <a:off x="3503160" y="5740560"/>
                <a:ext cx="11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时间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TextBox 40"/>
              <p:cNvSpPr/>
              <p:nvPr/>
            </p:nvSpPr>
            <p:spPr>
              <a:xfrm>
                <a:off x="4293720" y="5554800"/>
                <a:ext cx="11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TextBox 41"/>
              <p:cNvSpPr/>
              <p:nvPr/>
            </p:nvSpPr>
            <p:spPr>
              <a:xfrm>
                <a:off x="4725360" y="5540400"/>
                <a:ext cx="21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速度（比值一定）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1028880" y="1287360"/>
            <a:ext cx="1484280" cy="854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2603520" y="1655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速度一定的情况下，路程和时间有什么关系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596960" y="4071960"/>
            <a:ext cx="6705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上面的问题中，路程和时间是两种相关联的量，路程随着时间的变化而变化，而且，路程和时间的比值一定（速度一定）。我们说路程和时间这两种量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正比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34" descr="C:\Users\Administrator\Desktop\1.png"/>
          <p:cNvPicPr/>
          <p:nvPr/>
        </p:nvPicPr>
        <p:blipFill>
          <a:blip r:embed="rId3"/>
          <a:stretch/>
        </p:blipFill>
        <p:spPr>
          <a:xfrm>
            <a:off x="1770120" y="2776680"/>
            <a:ext cx="2678040" cy="772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5" descr="C:\Users\Administrator\Desktop\2.png"/>
          <p:cNvPicPr/>
          <p:nvPr/>
        </p:nvPicPr>
        <p:blipFill>
          <a:blip r:embed="rId4"/>
          <a:stretch/>
        </p:blipFill>
        <p:spPr>
          <a:xfrm>
            <a:off x="5014800" y="2776680"/>
            <a:ext cx="27846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4"/>
          <p:cNvGrpSpPr/>
          <p:nvPr/>
        </p:nvGrpSpPr>
        <p:grpSpPr>
          <a:xfrm>
            <a:off x="981000" y="1494000"/>
            <a:ext cx="7577280" cy="604800"/>
            <a:chOff x="981000" y="1494000"/>
            <a:chExt cx="7577280" cy="604800"/>
          </a:xfrm>
        </p:grpSpPr>
        <p:sp>
          <p:nvSpPr>
            <p:cNvPr id="249" name="矩形 1"/>
            <p:cNvSpPr/>
            <p:nvPr/>
          </p:nvSpPr>
          <p:spPr>
            <a:xfrm>
              <a:off x="1597680" y="1494000"/>
              <a:ext cx="69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自动笔的单价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，请完成下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0" name="组合 3"/>
            <p:cNvGrpSpPr/>
            <p:nvPr/>
          </p:nvGrpSpPr>
          <p:grpSpPr>
            <a:xfrm>
              <a:off x="981000" y="1495800"/>
              <a:ext cx="519840" cy="603000"/>
              <a:chOff x="981000" y="1495800"/>
              <a:chExt cx="519840" cy="603000"/>
            </a:xfrm>
          </p:grpSpPr>
          <p:pic>
            <p:nvPicPr>
              <p:cNvPr id="251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495800"/>
                <a:ext cx="51984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Box 1"/>
              <p:cNvSpPr/>
              <p:nvPr/>
            </p:nvSpPr>
            <p:spPr>
              <a:xfrm>
                <a:off x="1083600" y="1592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3"/>
          <p:cNvSpPr/>
          <p:nvPr/>
        </p:nvSpPr>
        <p:spPr>
          <a:xfrm>
            <a:off x="1025640" y="3176640"/>
            <a:ext cx="36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上表中你发现了什么规律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85680" y="2209680"/>
          <a:ext cx="7572240" cy="792000"/>
        </p:xfrm>
        <a:graphic>
          <a:graphicData uri="http://schemas.openxmlformats.org/drawingml/2006/table">
            <a:tbl>
              <a:tblPr/>
              <a:tblGrid>
                <a:gridCol w="1803240"/>
                <a:gridCol w="824040"/>
                <a:gridCol w="824040"/>
                <a:gridCol w="823680"/>
                <a:gridCol w="824040"/>
                <a:gridCol w="825480"/>
                <a:gridCol w="824040"/>
                <a:gridCol w="823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（支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Box 15"/>
          <p:cNvSpPr/>
          <p:nvPr/>
        </p:nvSpPr>
        <p:spPr>
          <a:xfrm>
            <a:off x="5514840" y="25923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267600" y="2592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981840" y="2592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7910640" y="2592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.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组合 26"/>
          <p:cNvGrpSpPr/>
          <p:nvPr/>
        </p:nvGrpSpPr>
        <p:grpSpPr>
          <a:xfrm>
            <a:off x="2382840" y="5003640"/>
            <a:ext cx="3225960" cy="916200"/>
            <a:chOff x="2382840" y="5003640"/>
            <a:chExt cx="3225960" cy="916200"/>
          </a:xfrm>
        </p:grpSpPr>
        <p:sp>
          <p:nvSpPr>
            <p:cNvPr id="261" name="矩形 29"/>
            <p:cNvSpPr/>
            <p:nvPr/>
          </p:nvSpPr>
          <p:spPr>
            <a:xfrm>
              <a:off x="2382840" y="5003640"/>
              <a:ext cx="3225960" cy="91620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2" name="组合 28"/>
            <p:cNvGrpSpPr/>
            <p:nvPr/>
          </p:nvGrpSpPr>
          <p:grpSpPr>
            <a:xfrm>
              <a:off x="2750760" y="5003640"/>
              <a:ext cx="2646360" cy="786240"/>
              <a:chOff x="2750760" y="5003640"/>
              <a:chExt cx="2646360" cy="786240"/>
            </a:xfrm>
          </p:grpSpPr>
          <p:sp>
            <p:nvSpPr>
              <p:cNvPr id="263" name="TextBox 31"/>
              <p:cNvSpPr/>
              <p:nvPr/>
            </p:nvSpPr>
            <p:spPr>
              <a:xfrm>
                <a:off x="2845800" y="50036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总价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直接连接符 32"/>
              <p:cNvSpPr/>
              <p:nvPr/>
            </p:nvSpPr>
            <p:spPr>
              <a:xfrm>
                <a:off x="2750760" y="5389200"/>
                <a:ext cx="85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TextBox 33"/>
              <p:cNvSpPr/>
              <p:nvPr/>
            </p:nvSpPr>
            <p:spPr>
              <a:xfrm>
                <a:off x="2825280" y="539100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数量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4"/>
              <p:cNvSpPr/>
              <p:nvPr/>
            </p:nvSpPr>
            <p:spPr>
              <a:xfrm>
                <a:off x="3634920" y="5187600"/>
                <a:ext cx="176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＝单价（一定）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67" name="Picture 2" descr="C:\Users\Administrator\Desktop\1.png"/>
          <p:cNvPicPr/>
          <p:nvPr/>
        </p:nvPicPr>
        <p:blipFill>
          <a:blip r:embed="rId3"/>
          <a:stretch/>
        </p:blipFill>
        <p:spPr>
          <a:xfrm>
            <a:off x="981000" y="3914640"/>
            <a:ext cx="3568680" cy="793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Users\Administrator\Desktop\2.png"/>
          <p:cNvPicPr/>
          <p:nvPr/>
        </p:nvPicPr>
        <p:blipFill>
          <a:blip r:embed="rId4"/>
          <a:stretch/>
        </p:blipFill>
        <p:spPr>
          <a:xfrm>
            <a:off x="4729320" y="3965400"/>
            <a:ext cx="3890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34960" y="1297080"/>
            <a:ext cx="1484280" cy="8539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"/>
          <p:cNvSpPr/>
          <p:nvPr/>
        </p:nvSpPr>
        <p:spPr>
          <a:xfrm>
            <a:off x="2019240" y="1563840"/>
            <a:ext cx="671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花的钱数和买自动笔的数量这两种量成正比例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138320" y="2894040"/>
            <a:ext cx="770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像上面这样，两种相关联的量，一种量变化，另一种量也随着变化，如果这两种量中相对应的两个数的比值一定，这两种量就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成正比例的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C:\Users\Administrator\Desktop\1.png"/>
          <p:cNvPicPr/>
          <p:nvPr/>
        </p:nvPicPr>
        <p:blipFill>
          <a:blip r:embed="rId2"/>
          <a:stretch/>
        </p:blipFill>
        <p:spPr>
          <a:xfrm>
            <a:off x="4194000" y="4024440"/>
            <a:ext cx="4392720" cy="80460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7T04:07:35Z</dcterms:modified>
  <cp:revision>50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