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gif" ContentType="image/gif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50366-3AE2-49B1-A1C2-DD2FE438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5689B-F380-490D-B60A-2898A902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AFF50-C03A-4DA4-B3B2-92C6BDF3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2B4C0-1ABB-4A31-B6C1-29418B53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7A0FD-203E-4AAA-8C97-F5880E7B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96F73-20EF-4171-86B4-45D22B93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28319-47E4-4ACD-82E2-251F3E0B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0FBE3-A180-4AB5-9FB4-26906FCC2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DC0F4-A9CB-494F-A8B1-F332EEB33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E1EC1-2B80-4F1E-B7C8-BF5D5B6C1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723D8-2DA8-4DD2-88C0-BA8578C1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5CC54-89C5-4811-AD0B-699E8CFB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309C8-27CA-4488-89C1-9E2CD79C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5BA07-BCB3-4F90-A796-9B22C539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FF52F-232E-472E-93DC-A66039B3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1865F-4D1B-4C05-8C89-1C226F32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B3D13-744C-4F5E-9BF9-A8C9C3F5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F4631-33F6-4083-BE91-A2B6D439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F5BB7-2B4C-4FC5-9BB2-AF04DF5D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2CD30-412C-42F5-AC07-CEFEEFDEA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FFE1C-8786-4FBC-8E0E-8E3506E05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B558D0-72D7-4194-82F5-F16FE8138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E4BE4-6B58-481C-BEEA-F2742F69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374CA-3764-4302-844A-668A2757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F0D7E-BA28-4D8A-848F-D5B7AD75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0C4C1-1823-47FC-9EBF-CFB6BA80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50B5A-DA7E-4A43-AC51-410EF9C4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4A4B5A-19CC-4284-8941-F61F8DFD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F667EB-A34F-4D0F-B3A0-7CEFE845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7713E-59E4-4B8B-8AC0-6E4D1BFA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50255D-715D-4649-AC3F-DD4ABBED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770E5-C339-46F5-8362-B6C3C0E1F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22669A-1E74-464B-B968-933BE9C80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BDFC6E-7AF3-40B4-84C4-65D65E94F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382941-E1D0-4488-BB38-9AA9A2D5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B27FC6-F7EB-4F0F-B062-03B626F8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128449-BFB2-44BB-A595-02459639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119DC1-1987-49C8-8ACE-348F9A63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46D12-1F73-4866-A18C-C7970F67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16C84-1010-440A-B0E9-269FBF16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93FC3B-641B-469F-A016-71513A62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AE0BB-DBE2-444B-A1EB-8557B9F1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B4580-5CCE-4FE9-9D06-870873E0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9231B9-23B6-42E4-A64C-78D068C8C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C5CF76-9F6F-4349-A958-5BA5A7B8E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A3AEB-E946-4D44-A6C1-37FC614B9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2D093-A004-4D32-8D98-0DFF1892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1E601-948A-4426-B208-5B217EEE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3ED3B-FEDA-4F99-AEF6-1EB9CFE3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67F7D-613F-4BBA-91CB-E47D4B6F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8F93A-2D9E-45AD-959F-2BBF4305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097F6-0D7D-4637-AD29-3E37D625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0CA52-C00C-416A-8405-A9C06662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77135-731E-4F8E-84A1-B385DC8C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D1368-D02F-43B6-989D-FE488D5D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4A65E-D340-4FBF-BDE3-DECC05EFA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4DAD0-5FF8-4118-9731-13C17314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31FF88-9B2A-4034-BF09-2397AF256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178C9F-8DAB-4480-9551-F0B4C9BC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C3365-7BF7-4725-AED8-796F185D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024C48-4E87-468B-8C32-A75FFCCA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00C0B9-1194-4DF8-A40C-40ECB1BF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D34BF-EE47-4B24-B482-FF17F0CD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2B77E0-D761-448F-AD1C-DF3599BD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4A55D9-5686-4254-BD7F-8A2E3177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BA428E-3CE5-4431-BBEA-0A0D394A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F9897F-8B43-40A2-99DA-88F4FC12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D10751-F560-4371-AE46-4D190A55B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9E76C3-5626-41D5-B1D3-B46929DA0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3A90B7-B780-4818-B56A-7981E7459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0F505B-4B81-46E4-B014-B92031E9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6612FE-73D9-496C-8195-AA18A5CD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92B5F0-ED52-4A66-840A-EFE5254B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78372E-EF49-44F1-8AA4-5991A736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716E12-50DE-4CC7-9319-9B3344F6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F95520-EB74-4A1E-A0D9-B5669389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6643DC-08A9-4792-AEC8-C9917729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1D4C3C-A0BC-4F6B-97AC-8D283B8B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079B38-FC36-4991-A3DE-D4AB1650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5029B0-7DFB-4D6E-9579-83C5BCCF4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4CB5ED-F869-41DE-BDE4-1DF0FFE1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589FF3-1466-46C9-AB2C-6E46937CA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02024E-EE01-4609-8418-3874F372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F0DEE4-B468-484A-B9E9-9A67D88A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617741-02DD-420F-92C6-302183DD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1CCE82-3C5E-42D3-9C2C-A924B745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79C70A-661D-4AB0-843A-7977D907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230AAF-8809-49DF-AF41-E45C36B7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C8FED1-1374-46F8-AE47-0E050BC1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FE881A-F274-4BB9-8E25-2FFD0488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0BF13B-91C5-4976-B56C-9D14679E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088113-BE8C-4AAD-966E-57A3472C5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BBFD6D-C919-4486-8266-49CCAFD19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B254-59E6-4EFB-88AD-21FE7B3FD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9311-A80A-4122-BECF-BD7F090B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1959-C47F-4EDB-8A83-93F2845B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B455-E195-43E8-A3EE-94662F17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076A-67CA-4AC3-B872-A458B419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69A4-8965-4DC9-A5A1-EC718522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AF73-A0F2-495A-A936-4A568DD1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112B-7E24-4A35-9164-62CFC8B5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3C15-F18D-4B7E-A3CD-14275910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C872-BD5D-4DCC-ACCE-8922E651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D423-12E9-4F62-8484-D62B8E4C1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5B3E-8F24-4CCC-988C-A07B7C85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831A-E837-4694-8D5F-BB17075FD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0F0E-D2B6-4D76-B3E9-EB740012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23F3-60C1-4C8B-82A3-02DC0513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3B36-8860-40F3-99F7-8309722C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0131-6F3B-4BBC-BC27-14C6F257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1D8A-842A-40B7-9C41-648D6110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C03F-C19C-4364-8E7C-90A19469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A793-9627-496C-A083-AED08339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9251-6147-4173-81BC-2DFB156F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57F8-D8E4-407F-90B7-48B909F0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EC76-1D7D-4923-ACD1-01F99EB93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8765-BC81-45DE-92D5-CD17B43AB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650E1-4AAB-434A-A16A-0E980EFC5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B2093-9D48-4E1A-A276-0E47F0D3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A153D-31E4-4AE8-AEFF-FCC7825F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AE2CB-28B1-4EF7-B856-3069E7C1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36B2C-C8ED-4978-A8D9-871BAE10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FF3F8-1420-470D-9A12-6168F98D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68B10-4606-4820-B65B-D7117938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8DC1E-3BCD-4836-9F35-691B371A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CAD18-5151-41CF-92B8-9F79F239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B9E16-2FDD-4EC5-8B9B-31EABEE4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8F58C-BE3A-4C8D-9444-EF0868C8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106DE-5DD4-4E89-9F0A-696F814F6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2343A-6EC2-4858-B759-776F9133B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BB497-BE9C-4DCA-99FA-FD71C675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0625D-0E2D-47F3-8638-1F4B5034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E2749-7D7F-4958-83B6-C4F6831E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39514-A618-4435-9335-F208290B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BB436-19FF-4D4D-A9D4-2757450E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471F5-C52C-4D36-B251-1D581E77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C15D4-1FB2-4A4B-8E29-0876076A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F479E-D8B1-4FF0-B7E1-2111D5B2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6668C-8C48-422C-B66C-4EAA5088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5E2F0-8835-4C63-88F5-273E839FA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6B507-6047-40CB-99E2-64204E388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24909-D31D-4460-B92D-941A94A05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63F32-61F7-46D5-B6CD-2A35CE76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B2CFC-6649-4927-BF28-5E96F636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B0D82-D028-4EA7-9DDB-B6BC24E9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D2D27-8996-4F56-9AF1-24CE197D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62EB6-C069-47D4-8062-C441906C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1C3C6-980D-4B1A-A24C-1BE24FF3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D5F11-2C19-47F7-8631-37D5A9CF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73671-3BDF-4817-A1F9-F7B9315C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88B89-CF9A-4870-AAC2-428C4638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6DD50-3944-44DE-9792-FE242A915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E4164-BE2F-420A-8743-3760CC305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C0530-72FD-4A01-8352-5FB4D72A8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B273B-EB95-4278-B922-37C463EE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EBA77-DBDD-4F85-9010-85348899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11993-0792-45A0-B80B-EB8CF13F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A4A1D-5FC7-403D-855F-E3AC52C3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9682F-8C4F-4A5C-9E80-7A0EA4AC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8FAD8-9E96-4BC4-A9AF-A1A84BE0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CDAF5-6A5C-4694-BAD0-FB96544C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76BC2-7ADB-4779-84A3-104E34A8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286DD-CAC9-4BDA-9EC7-24B0774E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AAB81-5A5F-41DA-A47E-7DAAB81A5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52D01-2E7C-4C01-B82F-4A6512FB2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72ACE-3377-45EA-A6BC-B8DD0AF7E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F346C-C6C2-470A-AC20-D082FB79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1206B-259B-4392-854D-0E3DB3A2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277E-F328-452D-BAD4-09D3E2C00C8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615B-DFB1-483D-B607-18EED79FD3D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4864-EAE2-4915-9562-23CF5B6A4EF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A25D-6F92-4C4D-A3F6-BB16AE13D4E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408C-6F99-4DBA-A78E-C1F73C9D907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5FD4-2A73-4206-906F-59455D2AB02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AB9A-9CAB-4FD1-A81E-C7CDA2A4113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90F0DC-045E-4179-A81E-9D9E5032BFA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dt" idx="4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5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6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07EF-EDB9-41D2-95C3-EFD369442E3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dt" idx="7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8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9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44F1-E23A-481E-9AFE-E1ECD4F9032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4F64-36A0-49AE-8A91-733DEEDC929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170C-6C19-45D8-9E16-65C351E5502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D251-8D99-4E00-BDEE-C65352FE466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849C-EECD-43A4-A4F9-3B0AD90E68F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646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7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649" name="TextBox 3"/>
          <p:cNvSpPr/>
          <p:nvPr/>
        </p:nvSpPr>
        <p:spPr>
          <a:xfrm>
            <a:off x="495360" y="1251000"/>
            <a:ext cx="81532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认识成正比例的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Box 4"/>
          <p:cNvSpPr/>
          <p:nvPr/>
        </p:nvSpPr>
        <p:spPr>
          <a:xfrm>
            <a:off x="3851280" y="592200"/>
            <a:ext cx="4678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三     正比例  反比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1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652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654" name="TextBox 4"/>
          <p:cNvSpPr/>
          <p:nvPr/>
        </p:nvSpPr>
        <p:spPr>
          <a:xfrm>
            <a:off x="3557520" y="2644920"/>
            <a:ext cx="27226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六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5" name="椭圆 40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6" name="椭圆 41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7" name="椭圆 42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8" name="椭圆 43" descr=""/>
          <p:cNvPicPr/>
          <p:nvPr/>
        </p:nvPicPr>
        <p:blipFill>
          <a:blip r:embed="rId10"/>
          <a:stretch/>
        </p:blipFill>
        <p:spPr>
          <a:xfrm>
            <a:off x="8445600" y="1324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59" name="椭圆 44" descr=""/>
          <p:cNvPicPr/>
          <p:nvPr/>
        </p:nvPicPr>
        <p:blipFill>
          <a:blip r:embed="rId11"/>
          <a:stretch/>
        </p:blipFill>
        <p:spPr>
          <a:xfrm>
            <a:off x="8445600" y="19652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60" name="椭圆 45" descr=""/>
          <p:cNvPicPr/>
          <p:nvPr/>
        </p:nvPicPr>
        <p:blipFill>
          <a:blip r:embed="rId12"/>
          <a:stretch/>
        </p:blipFill>
        <p:spPr>
          <a:xfrm>
            <a:off x="8445600" y="2606760"/>
            <a:ext cx="403200" cy="403200"/>
          </a:xfrm>
          <a:prstGeom prst="rect">
            <a:avLst/>
          </a:prstGeom>
          <a:ln w="0">
            <a:noFill/>
          </a:ln>
        </p:spPr>
      </p:pic>
      <p:sp>
        <p:nvSpPr>
          <p:cNvPr id="661" name="TextBox 22"/>
          <p:cNvSpPr/>
          <p:nvPr/>
        </p:nvSpPr>
        <p:spPr>
          <a:xfrm>
            <a:off x="365688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8"/>
          <p:cNvSpPr/>
          <p:nvPr/>
        </p:nvSpPr>
        <p:spPr>
          <a:xfrm>
            <a:off x="684360" y="1720800"/>
            <a:ext cx="777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2360" indent="-522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如下图，这是四根木条钉成的一个平行四边形，它的形状随着外力的大小而发生变化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22360" indent="-522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22360" indent="-522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22360" indent="-522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这个平行四边形的面积与高成正比例吗？为什么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1" name="组合 1"/>
          <p:cNvGrpSpPr/>
          <p:nvPr/>
        </p:nvGrpSpPr>
        <p:grpSpPr>
          <a:xfrm>
            <a:off x="595440" y="1052640"/>
            <a:ext cx="2809800" cy="668160"/>
            <a:chOff x="595440" y="1052640"/>
            <a:chExt cx="2809800" cy="668160"/>
          </a:xfrm>
        </p:grpSpPr>
        <p:sp>
          <p:nvSpPr>
            <p:cNvPr id="712" name="圆角矩形 11"/>
            <p:cNvSpPr/>
            <p:nvPr/>
          </p:nvSpPr>
          <p:spPr>
            <a:xfrm>
              <a:off x="1479600" y="11653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d4ad8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文本框 13"/>
            <p:cNvSpPr/>
            <p:nvPr/>
          </p:nvSpPr>
          <p:spPr>
            <a:xfrm>
              <a:off x="1479600" y="115236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拓展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1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1052640"/>
              <a:ext cx="1087200" cy="66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5" name="矩形 12"/>
          <p:cNvSpPr/>
          <p:nvPr/>
        </p:nvSpPr>
        <p:spPr>
          <a:xfrm>
            <a:off x="1476360" y="4149720"/>
            <a:ext cx="6912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这个平行四边形的面积与高成正比例，因为该条高对应的底不变，面积与高的比值等于底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6" name="Picture 10" descr=""/>
          <p:cNvPicPr/>
          <p:nvPr/>
        </p:nvPicPr>
        <p:blipFill>
          <a:blip r:embed="rId2"/>
          <a:stretch/>
        </p:blipFill>
        <p:spPr>
          <a:xfrm>
            <a:off x="1835280" y="2708280"/>
            <a:ext cx="5143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720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722" name="矩形 3"/>
          <p:cNvSpPr/>
          <p:nvPr/>
        </p:nvSpPr>
        <p:spPr>
          <a:xfrm>
            <a:off x="7029360" y="65530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Arial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3" name="矩形 12" descr=""/>
          <p:cNvPicPr/>
          <p:nvPr/>
        </p:nvPicPr>
        <p:blipFill>
          <a:blip r:embed="rId4"/>
          <a:stretch/>
        </p:blipFill>
        <p:spPr>
          <a:xfrm>
            <a:off x="2031840" y="1328760"/>
            <a:ext cx="529128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2"/>
          <p:cNvSpPr/>
          <p:nvPr/>
        </p:nvSpPr>
        <p:spPr>
          <a:xfrm>
            <a:off x="1187280" y="2060640"/>
            <a:ext cx="6867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实际应用问题中判断正比例关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正比例关系来解决问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3" name="组 45"/>
          <p:cNvGrpSpPr/>
          <p:nvPr/>
        </p:nvGrpSpPr>
        <p:grpSpPr>
          <a:xfrm>
            <a:off x="603360" y="1168560"/>
            <a:ext cx="3119400" cy="795960"/>
            <a:chOff x="603360" y="1168560"/>
            <a:chExt cx="3119400" cy="795960"/>
          </a:xfrm>
        </p:grpSpPr>
        <p:sp>
          <p:nvSpPr>
            <p:cNvPr id="664" name="AutoShape 2"/>
            <p:cNvSpPr/>
            <p:nvPr/>
          </p:nvSpPr>
          <p:spPr>
            <a:xfrm>
              <a:off x="1241640" y="1529280"/>
              <a:ext cx="2188800" cy="40932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AutoShape 11"/>
            <p:cNvSpPr/>
            <p:nvPr/>
          </p:nvSpPr>
          <p:spPr>
            <a:xfrm>
              <a:off x="603360" y="116856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文本框 48"/>
            <p:cNvSpPr/>
            <p:nvPr/>
          </p:nvSpPr>
          <p:spPr>
            <a:xfrm>
              <a:off x="1290960" y="1504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8"/>
          <p:cNvSpPr/>
          <p:nvPr/>
        </p:nvSpPr>
        <p:spPr>
          <a:xfrm>
            <a:off x="1138320" y="1700280"/>
            <a:ext cx="7272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某服装厂生产情况如下表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表中有哪两种相关联的量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表中相关联的两种量成正比例吗？为什么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8" name="组合 1"/>
          <p:cNvGrpSpPr/>
          <p:nvPr/>
        </p:nvGrpSpPr>
        <p:grpSpPr>
          <a:xfrm>
            <a:off x="595440" y="1004760"/>
            <a:ext cx="2809800" cy="668520"/>
            <a:chOff x="595440" y="1004760"/>
            <a:chExt cx="2809800" cy="668520"/>
          </a:xfrm>
        </p:grpSpPr>
        <p:sp>
          <p:nvSpPr>
            <p:cNvPr id="669" name="圆角矩形 13"/>
            <p:cNvSpPr/>
            <p:nvPr/>
          </p:nvSpPr>
          <p:spPr>
            <a:xfrm>
              <a:off x="1479600" y="11174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d4ad8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文本框 13"/>
            <p:cNvSpPr/>
            <p:nvPr/>
          </p:nvSpPr>
          <p:spPr>
            <a:xfrm>
              <a:off x="1479600" y="110484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提升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1004760"/>
              <a:ext cx="1087200" cy="6685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672" name=""/>
          <p:cNvGraphicFramePr/>
          <p:nvPr/>
        </p:nvGraphicFramePr>
        <p:xfrm>
          <a:off x="1682640" y="2349360"/>
          <a:ext cx="5576760" cy="1106640"/>
        </p:xfrm>
        <a:graphic>
          <a:graphicData uri="http://schemas.openxmlformats.org/drawingml/2006/table">
            <a:tbl>
              <a:tblPr/>
              <a:tblGrid>
                <a:gridCol w="1697040"/>
                <a:gridCol w="646200"/>
                <a:gridCol w="647640"/>
                <a:gridCol w="646200"/>
                <a:gridCol w="645840"/>
                <a:gridCol w="648000"/>
                <a:gridCol w="645840"/>
              </a:tblGrid>
              <a:tr h="552600"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生产天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天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生产件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件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3" name="TextBox 10"/>
          <p:cNvSpPr/>
          <p:nvPr/>
        </p:nvSpPr>
        <p:spPr>
          <a:xfrm>
            <a:off x="3084120" y="4111560"/>
            <a:ext cx="31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生产天数与生产件数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Box 11"/>
          <p:cNvSpPr/>
          <p:nvPr/>
        </p:nvSpPr>
        <p:spPr>
          <a:xfrm>
            <a:off x="3866040" y="5003640"/>
            <a:ext cx="73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成正比例，因为每天生产的件数一定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8"/>
          <p:cNvSpPr/>
          <p:nvPr/>
        </p:nvSpPr>
        <p:spPr>
          <a:xfrm>
            <a:off x="1187280" y="1268280"/>
            <a:ext cx="74012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想一想，填一填，并回答问题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正方形的周长和边长成正比例吗？为什么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1692360" y="1773360"/>
          <a:ext cx="5395680" cy="1098360"/>
        </p:xfrm>
        <a:graphic>
          <a:graphicData uri="http://schemas.openxmlformats.org/drawingml/2006/table">
            <a:tbl>
              <a:tblPr/>
              <a:tblGrid>
                <a:gridCol w="2692080"/>
                <a:gridCol w="541440"/>
                <a:gridCol w="541080"/>
                <a:gridCol w="540000"/>
                <a:gridCol w="539640"/>
                <a:gridCol w="541440"/>
              </a:tblGrid>
              <a:tr h="549000"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正方形的边长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厘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正方形的周长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厘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7" name="TextBox 6"/>
          <p:cNvSpPr/>
          <p:nvPr/>
        </p:nvSpPr>
        <p:spPr>
          <a:xfrm>
            <a:off x="4499280" y="2382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TextBox 7"/>
          <p:cNvSpPr/>
          <p:nvPr/>
        </p:nvSpPr>
        <p:spPr>
          <a:xfrm>
            <a:off x="1763640" y="3429000"/>
            <a:ext cx="5745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4280" indent="-584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正方形的周长和边长成正比例，因为正方形的周长与边长的比值一定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TextBox 8"/>
          <p:cNvSpPr/>
          <p:nvPr/>
        </p:nvSpPr>
        <p:spPr>
          <a:xfrm>
            <a:off x="5035680" y="2382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TextBox 9"/>
          <p:cNvSpPr/>
          <p:nvPr/>
        </p:nvSpPr>
        <p:spPr>
          <a:xfrm>
            <a:off x="5520240" y="23828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TextBox 10"/>
          <p:cNvSpPr/>
          <p:nvPr/>
        </p:nvSpPr>
        <p:spPr>
          <a:xfrm>
            <a:off x="6057000" y="23828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TextBox 11"/>
          <p:cNvSpPr/>
          <p:nvPr/>
        </p:nvSpPr>
        <p:spPr>
          <a:xfrm>
            <a:off x="6590160" y="24004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8"/>
          <p:cNvSpPr/>
          <p:nvPr/>
        </p:nvSpPr>
        <p:spPr>
          <a:xfrm>
            <a:off x="468360" y="907920"/>
            <a:ext cx="8531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一个平行四边形的面积和底边长度的变化情况如下表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别写出各组平行四边形的面积和相对应的底边长度的比，并求出比值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说明这个比值所表示的意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表中的平行四边形的面积和底边长度成正比例吗？为什么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1763640" y="1420920"/>
          <a:ext cx="5529240" cy="1863720"/>
        </p:xfrm>
        <a:graphic>
          <a:graphicData uri="http://schemas.openxmlformats.org/drawingml/2006/table">
            <a:tbl>
              <a:tblPr/>
              <a:tblGrid>
                <a:gridCol w="2295360"/>
                <a:gridCol w="554040"/>
                <a:gridCol w="669960"/>
                <a:gridCol w="669960"/>
                <a:gridCol w="669960"/>
                <a:gridCol w="669960"/>
              </a:tblGrid>
              <a:tr h="932040"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平行四边形的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边长度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厘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平行四边形的面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平方厘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5" name="TextBox 7"/>
          <p:cNvSpPr/>
          <p:nvPr/>
        </p:nvSpPr>
        <p:spPr>
          <a:xfrm>
            <a:off x="1403280" y="3645000"/>
            <a:ext cx="64134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4280" indent="-584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:1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8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4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5"/>
          <p:cNvSpPr/>
          <p:nvPr/>
        </p:nvSpPr>
        <p:spPr>
          <a:xfrm>
            <a:off x="1420920" y="4518000"/>
            <a:ext cx="6680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4280" indent="-584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这个比值表示这个平行四边形该底边上的高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TextBox 6"/>
          <p:cNvSpPr/>
          <p:nvPr/>
        </p:nvSpPr>
        <p:spPr>
          <a:xfrm>
            <a:off x="1420920" y="5300640"/>
            <a:ext cx="6680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平行四边形的面积和底边长度成正比例，因为该底边上的高一定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8"/>
          <p:cNvSpPr/>
          <p:nvPr/>
        </p:nvSpPr>
        <p:spPr>
          <a:xfrm>
            <a:off x="900000" y="907920"/>
            <a:ext cx="74883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下面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位同学家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月份的用电情况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表中的数据把表填写完整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表中变化的量有几种？是什么？它们是相关联的量吗？为什么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求出电费和相对应的用电量的比值，比值表示什么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1440000" y="1403280"/>
          <a:ext cx="6003720" cy="2243160"/>
        </p:xfrm>
        <a:graphic>
          <a:graphicData uri="http://schemas.openxmlformats.org/drawingml/2006/table">
            <a:tbl>
              <a:tblPr/>
              <a:tblGrid>
                <a:gridCol w="1025280"/>
                <a:gridCol w="1074600"/>
                <a:gridCol w="950760"/>
                <a:gridCol w="1008360"/>
                <a:gridCol w="936360"/>
                <a:gridCol w="1008360"/>
              </a:tblGrid>
              <a:tr h="576360"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住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欢欢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乐乐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明明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贝贝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宝宝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用电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度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电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元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0" name="TextBox 9"/>
          <p:cNvSpPr/>
          <p:nvPr/>
        </p:nvSpPr>
        <p:spPr>
          <a:xfrm>
            <a:off x="4543560" y="2093760"/>
            <a:ext cx="863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4280" indent="-5842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TextBox 10"/>
          <p:cNvSpPr/>
          <p:nvPr/>
        </p:nvSpPr>
        <p:spPr>
          <a:xfrm>
            <a:off x="6632640" y="2914560"/>
            <a:ext cx="718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4280" indent="-584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.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TextBox 11"/>
          <p:cNvSpPr/>
          <p:nvPr/>
        </p:nvSpPr>
        <p:spPr>
          <a:xfrm>
            <a:off x="5535720" y="2093760"/>
            <a:ext cx="852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4280" indent="-5842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TextBox 7"/>
          <p:cNvSpPr/>
          <p:nvPr/>
        </p:nvSpPr>
        <p:spPr>
          <a:xfrm>
            <a:off x="1305000" y="4454640"/>
            <a:ext cx="6958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有用电量与电费两种，它们是相关联的量，因为用电量越高，电费越高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Box 8"/>
          <p:cNvSpPr/>
          <p:nvPr/>
        </p:nvSpPr>
        <p:spPr>
          <a:xfrm>
            <a:off x="1332000" y="5732640"/>
            <a:ext cx="6680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8280" indent="-638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比值均为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0.5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，比值表示一度电的电费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8"/>
          <p:cNvSpPr/>
          <p:nvPr/>
        </p:nvSpPr>
        <p:spPr>
          <a:xfrm>
            <a:off x="-7813800" y="2722680"/>
            <a:ext cx="740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TextBox 5"/>
          <p:cNvSpPr/>
          <p:nvPr/>
        </p:nvSpPr>
        <p:spPr>
          <a:xfrm>
            <a:off x="1015920" y="4195800"/>
            <a:ext cx="7443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8280" indent="-638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电费与相对应的用电量成正比例，因为这两种量的比值一定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Rectangle 8"/>
          <p:cNvSpPr/>
          <p:nvPr/>
        </p:nvSpPr>
        <p:spPr>
          <a:xfrm>
            <a:off x="611280" y="1044720"/>
            <a:ext cx="748980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下面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位同学家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月份的用电情况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哪两种量成正比例？为什么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1150920" y="1539720"/>
          <a:ext cx="6004080" cy="2243160"/>
        </p:xfrm>
        <a:graphic>
          <a:graphicData uri="http://schemas.openxmlformats.org/drawingml/2006/table">
            <a:tbl>
              <a:tblPr/>
              <a:tblGrid>
                <a:gridCol w="1025640"/>
                <a:gridCol w="1074600"/>
                <a:gridCol w="950760"/>
                <a:gridCol w="1008360"/>
                <a:gridCol w="936360"/>
                <a:gridCol w="1008360"/>
              </a:tblGrid>
              <a:tr h="576360"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住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欢欢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乐乐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明明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贝贝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宝宝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用电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度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电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元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9" name="TextBox 8"/>
          <p:cNvSpPr/>
          <p:nvPr/>
        </p:nvSpPr>
        <p:spPr>
          <a:xfrm>
            <a:off x="4254480" y="2230560"/>
            <a:ext cx="863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4280" indent="-5842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TextBox 9"/>
          <p:cNvSpPr/>
          <p:nvPr/>
        </p:nvSpPr>
        <p:spPr>
          <a:xfrm>
            <a:off x="6343560" y="3051000"/>
            <a:ext cx="719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4280" indent="-584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.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Box 10"/>
          <p:cNvSpPr/>
          <p:nvPr/>
        </p:nvSpPr>
        <p:spPr>
          <a:xfrm>
            <a:off x="5246640" y="2230560"/>
            <a:ext cx="852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4280" indent="-5842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2" name=""/>
          <p:cNvGraphicFramePr/>
          <p:nvPr/>
        </p:nvGraphicFramePr>
        <p:xfrm>
          <a:off x="1474920" y="2077920"/>
          <a:ext cx="5153040" cy="1047600"/>
        </p:xfrm>
        <a:graphic>
          <a:graphicData uri="http://schemas.openxmlformats.org/drawingml/2006/table">
            <a:tbl>
              <a:tblPr/>
              <a:tblGrid>
                <a:gridCol w="793800"/>
                <a:gridCol w="1239840"/>
                <a:gridCol w="1068480"/>
                <a:gridCol w="1058760"/>
                <a:gridCol w="992160"/>
              </a:tblGrid>
              <a:tr h="523800"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3" name="Rectangle 8"/>
          <p:cNvSpPr/>
          <p:nvPr/>
        </p:nvSpPr>
        <p:spPr>
          <a:xfrm>
            <a:off x="900000" y="1127160"/>
            <a:ext cx="66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已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成正比例，试将下表填写完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表中数据，列出两个比例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Box 10"/>
          <p:cNvSpPr/>
          <p:nvPr/>
        </p:nvSpPr>
        <p:spPr>
          <a:xfrm>
            <a:off x="3679920" y="25066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4280" indent="-584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.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Box 12"/>
          <p:cNvSpPr/>
          <p:nvPr/>
        </p:nvSpPr>
        <p:spPr>
          <a:xfrm>
            <a:off x="4832280" y="1989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4280" indent="-584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.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Box 13"/>
          <p:cNvSpPr/>
          <p:nvPr/>
        </p:nvSpPr>
        <p:spPr>
          <a:xfrm>
            <a:off x="5821200" y="250668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4280" indent="-584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Box 14"/>
          <p:cNvSpPr/>
          <p:nvPr/>
        </p:nvSpPr>
        <p:spPr>
          <a:xfrm>
            <a:off x="2311560" y="402444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4280" indent="-584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列比例式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8"/>
          <p:cNvSpPr/>
          <p:nvPr/>
        </p:nvSpPr>
        <p:spPr>
          <a:xfrm>
            <a:off x="920880" y="1195560"/>
            <a:ext cx="781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根据下列关系分别写出一个正比例关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底面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高＝体积中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定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成正比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量＝总价中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定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成正比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定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成正比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Box 12"/>
          <p:cNvSpPr/>
          <p:nvPr/>
        </p:nvSpPr>
        <p:spPr>
          <a:xfrm>
            <a:off x="3621240" y="4842000"/>
            <a:ext cx="178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8280" indent="-6382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8T01:54:42Z</dcterms:created>
  <dc:creator>Administrator</dc:creator>
  <dc:description/>
  <dc:language>en-US</dc:language>
  <cp:lastModifiedBy>相忘于江湖</cp:lastModifiedBy>
  <dcterms:modified xsi:type="dcterms:W3CDTF">2018-01-07T03:38:29Z</dcterms:modified>
  <cp:revision>15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