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C39B-00AC-41D3-82FB-1638E527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BD5A1-CA2B-4B58-97C0-B0E9765D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CC23F-4DCA-4365-A3D1-D46E2D5C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6DC16-7F41-43EC-B117-C67869C0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3F85E-E75A-4655-A53F-C714410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8478C-DB6B-4F06-B148-DFE3B105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553E3-6367-40CF-A697-BD3D9E32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A5067-0B39-471F-AEF9-FB3A1FA6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4881D-4EFE-4B33-83D0-21A16BB5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159D1-EF69-4FD9-96DF-4FE4433B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7F4E-3F73-4216-A2FC-1C49C0B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B4D49-EA8F-4CC7-83A1-E9BA4519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6C174-65E7-4C3E-9F7B-C162FA61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E9237-759A-4543-9004-F159A41A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6DCDC-942E-46CA-90FF-D14C6E07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EC064-9108-4A12-8E81-C95F2B04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1052E-FFEB-4D5D-9FC8-08E2A50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02DCE-9348-4197-8980-BED6B81C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B9BCF-382D-4AFF-8650-951BDDEA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28DC7-4BC6-4875-839F-22491CF7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E9FD1-6F46-491B-9EF0-981CA1D2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20DE1-D05F-4963-ACEE-C81519A5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6B9C1-ABF5-4FE7-A0AD-93E67FF8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39695-884C-4382-AF47-9D3C779C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D7C9C-2824-4C10-9901-67734A8C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EF930-D31F-44F6-A543-58935102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7C056-C015-4C00-B185-407C50A4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97D15-3C16-461A-AFB1-24D45212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8F5CD-83F4-4EEC-BB1E-E3983BBE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61155-8602-41D5-8191-E1A0E0A6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BC783-DC4B-483B-A686-44FD2752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B083C-DBA7-45C9-8BF8-B144D79E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58806-5D82-4EC3-866F-A7C93621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1FB48-4297-43C2-A865-2E6B1361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013EB-ACC5-43BE-A668-A971060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3CD4A-6307-4116-AD47-BF1FCFE0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34EB8-F11A-4006-9D3B-086C304F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F95CC-3BBA-496A-8F5D-6778201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CD490-7EAA-4C93-9523-309F9E9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0D86E-F044-4447-A4F9-5F40AF09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ED3E5-DD7B-4E0C-85A7-17999493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6AB39-3702-4E80-A82E-A15B41E8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1FE63-88CA-4F6F-A3F4-4871E580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7091E-890C-4862-AE33-8F601B12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E5491-85DE-4158-98F6-ED2CDD5C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9EFA2-E71D-4E64-8E29-C588E6B9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62266-58C1-432E-8BA7-55EAA126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7F34B-6F42-47F2-A8FD-B0148930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57BC9-1A63-471D-9C33-8559918C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855D5-7D40-49F1-801F-038211B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A40E1-1171-4214-8352-265589CC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C9F29-747D-408D-AA59-C8393330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4794E-1465-4CA9-8534-64B8E992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1C366-BE37-44FC-B3D7-36FD07E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408AA-E0DC-4009-AEDA-6A254E40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D96E2-E9A5-4D21-971F-9BE3A037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E410C-CF02-47E9-B82D-F6C25DEB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624C7-68AA-4F0B-AB98-B2AA11A1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29639-458B-4227-B041-0DCE2A49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58624-8FEB-4844-B611-E587A821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B59A7-2E98-4C94-9D68-208340CC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01E49-BDCB-49DE-B225-537D48F9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6092D-DB07-467F-BB15-48DDF8D0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EC3E6-EB9C-4A0C-A7FC-7FE8B3F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84FC3-E41B-4C26-AC68-92567C1A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F3F3F-9AB1-47EB-BD19-1973DA2B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3DB5E-6F6B-463B-80CD-21754E3A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CC02A-24E7-4682-8435-BB1090DA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13A20-563F-4C01-8321-E9F5F8B7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E1818-A452-4D97-9EFA-ACC9E587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4BD95-348F-4344-8C2C-AAAE2BDB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43A1F-F716-4EED-9F8D-3E3296AB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0F869-E594-4CA5-841A-4A004B94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31C79-177E-4BD9-86FC-499CC637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9C56B-1CC9-40D2-B0C2-69429154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FCF0C-A9FC-4105-9733-2F6D0952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95787-C766-4AC7-ADDE-E2B24A83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4C146-B849-48EC-BCE6-B72F34FC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8D2FE-71E3-484A-A01C-7C77E15F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6AC88-01EC-496D-9CD7-5E12238D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C3D04-D301-462B-857F-BE0B885B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73180-8B41-4853-AD78-4CE11777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164EC-4D63-4A29-81C9-5A6B0036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E01E5-8E79-4A8B-9C02-E1CA75DE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4B21F-08BE-4441-9F95-B6AA3C0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D6734-FD5F-437D-B5D9-8F6BB46E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15296-B1FA-405B-89C3-8F3656AE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14151-46C2-4068-8264-417E55FC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6723D-7CF0-419B-9693-C93F51A2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238A2-0F63-4320-AAC1-61401097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9CDBA-474A-4BFC-BEF8-2E6764B3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2DF6C-B951-41D9-B3A6-D382E89B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96CB5-E23B-45B3-A7BA-D089333F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0B6-081E-47D5-BD92-BE1AE356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1A4-2E91-45C0-A3DA-5431F895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2AF-7DD1-4E22-B63D-62D224AC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19F-0559-4A82-9346-3A259286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B44-A468-4A76-93C5-2277AAE0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C9A-0A5B-4CCB-B0C0-D4779813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587-6ECD-45E5-B284-ECD5322A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ED9-F458-42A7-B366-BFFACC2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1E5-FC85-4F8A-8630-F7C37E5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D42-68C8-4449-9538-DDB0C1FB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286-468F-40F5-AF3A-EDA3E9E1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541-A41A-466B-B11E-7D5F603C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1988-EB8F-4BD4-A5B7-1C140149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D173-55D3-4FF3-94E6-1064F3E5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D3A3-0FE0-4C2C-BBEC-45113DD3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C950-1383-46F5-A9A8-E2D69D9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B8E0-F8F1-4FE1-AF79-98564C5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A887-53C2-4ECC-B6DD-5F08E303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F0EB-A78B-4C19-ABC3-0EDF42EE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CE3D-2C1C-4888-A610-4D9555C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2E70-239B-42CF-B4C4-2C274A7A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C4E5-831C-4C59-9B0C-8A39A093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4E59-D56A-458D-A996-1B1009B1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A68F-F3E1-4E03-99A9-5199DFD8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D50F-04A5-421B-BD2B-FD41A278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727B-9763-44E4-A7DD-DD9A190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A237-678A-472F-83BB-AA5AB60A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E295-FE5B-4768-93C7-A54A5A73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EF6E-39B6-49CB-8708-494AC9C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7996-5D96-4CBC-9933-4721F154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AEA9-7F93-4012-9972-704B773B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CA20-9DFA-4EBD-B79A-2F459093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390E-15AC-45EB-A2FF-4CDEA51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CDF9-127E-42C3-B8EF-0A9E8EE9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1106-5445-4E30-AA87-9D72C371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7997-CF06-41FD-A00A-FC334ECA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D5BD3-0A88-4032-97F1-5C1E8B73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9F44-2D80-437D-B629-ACFBE3DD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5850-4E08-4B05-BA63-22945F2C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AF5A-BE62-4C88-B768-62C3A6E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DD73-9481-4AF3-9849-BB74CA9B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1E91-4342-4951-ADB5-35268BCD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B26B-B6B4-4E62-91FF-39725F4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F0206-CDFF-45FA-98B0-64D011C9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D8CCD-F4CA-4594-9337-33584CDE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F013-2361-4C98-B158-A3A41F3F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1945-816A-48E4-B67B-1C339EF3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661F-4C7D-4A6D-A2E4-629744C5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4789D-480F-4570-80B5-0B88B2AC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A49E3-38D8-4A4C-8E41-701C76E0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74AB-BC5E-4F85-9D61-E9F3990A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D4902-FE40-4067-8340-26CF3AA4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9CA4B-B1FF-4339-B132-36377584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8827-DF7D-4E25-AD32-D9256CE8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E5788-CB5F-40DA-BCCD-89E84D93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2DAD6-1772-4FCE-92A6-24B7637A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50A7-9FE2-49EF-A11A-5F9032BB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6A95C-AB2F-415A-8274-222111A7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41227-1A33-438D-BCB3-97E4D42E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8C5F2-1C3B-47FF-8AE6-14F769AF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1EFC-1A31-4FFD-86EC-E2EF4CF3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0F0F1-434B-4895-BA70-65AB4A10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50322-CA84-4313-A226-5BEE6BFF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9D0D0-B4B5-4F57-AE9E-06A52A40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39EC-0EA7-4C25-BFD3-3EB78CA9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2415-236B-4780-8048-B1CCDAAD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F4E9A-CD04-4255-86C0-A6656F94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53C4E-9865-4D86-8AC7-85CAA6F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8821-2F9D-4821-BC6A-75CF0EF9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7D5DB-DE23-4819-9BE7-35750902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0F25E-D3D2-4372-B94B-CB1BDBD8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FF3ED-9BEF-458F-B0AB-5A5E0AB6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E911D-5F3A-4107-B199-2517C831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868BE-C1D9-45DD-A78B-FD40859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DF6B5-DBFA-48CD-BAF8-51BEE0B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8DD8-7FCE-456B-84BB-6E80E9B24FD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FD45-31DD-499E-ABCB-38CD45081A5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3D77-B13E-445D-A383-E2D7E3A73C5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3C98-5FE6-4C1E-A285-3D99F70507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8761-51E3-448C-AB0F-D5E056DA268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127F-0B07-4BE4-A4E8-AB546644C51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D097-E63A-4323-B0A6-0B5134258ED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7707E-1E75-4622-B9A8-283A16E096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8F3D-561C-4478-A23A-1FB76D1B237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95F7-DC05-4AC8-9764-5BE3F7F7BD6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1B7C-AEB6-4E79-A85D-A0DB9572DA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89A3-A85F-47C2-BAF6-FE7FB57006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A90-F71E-4C63-8CF3-8E0968A5D54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16DF-C5AD-494E-8DD4-F61343B1EB0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49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比例的图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 正比例  反比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6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187280" y="2060640"/>
            <a:ext cx="6867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格与图像结合来解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正比例图像的规律解决稍复杂的行程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4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8"/>
          <p:cNvSpPr/>
          <p:nvPr/>
        </p:nvSpPr>
        <p:spPr>
          <a:xfrm>
            <a:off x="826920" y="1542960"/>
            <a:ext cx="72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购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学生汉语词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量与总价的情况如下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上面的表格填写完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表中数据，在下图中描出购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学生汉语词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总价和数量所对应的点，再把这些点依次连起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组合 1"/>
          <p:cNvGrpSpPr/>
          <p:nvPr/>
        </p:nvGrpSpPr>
        <p:grpSpPr>
          <a:xfrm>
            <a:off x="595440" y="1004760"/>
            <a:ext cx="2809800" cy="668520"/>
            <a:chOff x="595440" y="1004760"/>
            <a:chExt cx="2809800" cy="668520"/>
          </a:xfrm>
        </p:grpSpPr>
        <p:sp>
          <p:nvSpPr>
            <p:cNvPr id="669" name="圆角矩形 13"/>
            <p:cNvSpPr/>
            <p:nvPr/>
          </p:nvSpPr>
          <p:spPr>
            <a:xfrm>
              <a:off x="1479600" y="1117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文本框 13"/>
            <p:cNvSpPr/>
            <p:nvPr/>
          </p:nvSpPr>
          <p:spPr>
            <a:xfrm>
              <a:off x="1479600" y="1104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04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Box 10"/>
          <p:cNvSpPr/>
          <p:nvPr/>
        </p:nvSpPr>
        <p:spPr>
          <a:xfrm>
            <a:off x="4348800" y="2700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3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332000" y="2133720"/>
          <a:ext cx="5317920" cy="1008000"/>
        </p:xfrm>
        <a:graphic>
          <a:graphicData uri="http://schemas.openxmlformats.org/drawingml/2006/table">
            <a:tbl>
              <a:tblPr/>
              <a:tblGrid>
                <a:gridCol w="1325160"/>
                <a:gridCol w="825480"/>
                <a:gridCol w="750960"/>
                <a:gridCol w="825480"/>
                <a:gridCol w="750960"/>
                <a:gridCol w="839880"/>
              </a:tblGrid>
              <a:tr h="50472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4" name="TextBox 15"/>
          <p:cNvSpPr/>
          <p:nvPr/>
        </p:nvSpPr>
        <p:spPr>
          <a:xfrm>
            <a:off x="5113800" y="27082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9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5850720" y="27082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5.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34" descr=""/>
          <p:cNvPicPr/>
          <p:nvPr/>
        </p:nvPicPr>
        <p:blipFill>
          <a:blip r:embed="rId2"/>
          <a:stretch/>
        </p:blipFill>
        <p:spPr>
          <a:xfrm>
            <a:off x="2190600" y="4437000"/>
            <a:ext cx="2880000" cy="1994040"/>
          </a:xfrm>
          <a:prstGeom prst="rect">
            <a:avLst/>
          </a:prstGeom>
          <a:ln w="0">
            <a:noFill/>
          </a:ln>
        </p:spPr>
      </p:pic>
      <p:sp>
        <p:nvSpPr>
          <p:cNvPr id="677" name="TextBox 12"/>
          <p:cNvSpPr/>
          <p:nvPr/>
        </p:nvSpPr>
        <p:spPr>
          <a:xfrm>
            <a:off x="4479840" y="5157720"/>
            <a:ext cx="136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8"/>
          <p:cNvSpPr/>
          <p:nvPr/>
        </p:nvSpPr>
        <p:spPr>
          <a:xfrm>
            <a:off x="919080" y="1112760"/>
            <a:ext cx="74008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购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学生汉语词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量与总价的情况如下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购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学生汉语词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总价和数量成正比例关系吗？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12"/>
          <p:cNvSpPr/>
          <p:nvPr/>
        </p:nvSpPr>
        <p:spPr>
          <a:xfrm>
            <a:off x="1217520" y="3740040"/>
            <a:ext cx="643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成正比例关系，因为每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学生汉语词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的单价一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332000" y="1762200"/>
          <a:ext cx="5317920" cy="1008000"/>
        </p:xfrm>
        <a:graphic>
          <a:graphicData uri="http://schemas.openxmlformats.org/drawingml/2006/table">
            <a:tbl>
              <a:tblPr/>
              <a:tblGrid>
                <a:gridCol w="1325160"/>
                <a:gridCol w="825480"/>
                <a:gridCol w="750960"/>
                <a:gridCol w="825480"/>
                <a:gridCol w="750960"/>
                <a:gridCol w="839880"/>
              </a:tblGrid>
              <a:tr h="50472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TextBox 8"/>
          <p:cNvSpPr/>
          <p:nvPr/>
        </p:nvSpPr>
        <p:spPr>
          <a:xfrm>
            <a:off x="5113800" y="2346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9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9"/>
          <p:cNvSpPr/>
          <p:nvPr/>
        </p:nvSpPr>
        <p:spPr>
          <a:xfrm>
            <a:off x="5850720" y="23464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5.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0"/>
          <p:cNvSpPr/>
          <p:nvPr/>
        </p:nvSpPr>
        <p:spPr>
          <a:xfrm>
            <a:off x="4321800" y="2346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3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8"/>
          <p:cNvSpPr/>
          <p:nvPr/>
        </p:nvSpPr>
        <p:spPr>
          <a:xfrm>
            <a:off x="1187280" y="907920"/>
            <a:ext cx="7002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同一时间、同一地点测得树高和影长的数据如下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图中描出表示树高和对应影长的点，然后把它们连起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连线以后观察，表示树高和对应影长的点在一条直线上吗？说明树高和影长成什么关系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7"/>
          <p:cNvSpPr/>
          <p:nvPr/>
        </p:nvSpPr>
        <p:spPr>
          <a:xfrm>
            <a:off x="5672160" y="3625920"/>
            <a:ext cx="113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案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692360" y="1413000"/>
          <a:ext cx="4308480" cy="996840"/>
        </p:xfrm>
        <a:graphic>
          <a:graphicData uri="http://schemas.openxmlformats.org/drawingml/2006/table">
            <a:tbl>
              <a:tblPr/>
              <a:tblGrid>
                <a:gridCol w="1217520"/>
                <a:gridCol w="773280"/>
                <a:gridCol w="771480"/>
                <a:gridCol w="772920"/>
                <a:gridCol w="773280"/>
              </a:tblGrid>
              <a:tr h="49860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树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长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7" name="Picture 29" descr=""/>
          <p:cNvPicPr/>
          <p:nvPr/>
        </p:nvPicPr>
        <p:blipFill>
          <a:blip r:embed="rId1"/>
          <a:stretch/>
        </p:blipFill>
        <p:spPr>
          <a:xfrm>
            <a:off x="2911320" y="2701800"/>
            <a:ext cx="2692440" cy="23115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6"/>
          <p:cNvSpPr/>
          <p:nvPr/>
        </p:nvSpPr>
        <p:spPr>
          <a:xfrm>
            <a:off x="1547640" y="5886360"/>
            <a:ext cx="694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在一条直线上，说明树高和影长成正比例关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826920" y="1182600"/>
            <a:ext cx="7561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同一时间、同一地点测得树高和影长的数据如下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计算，利用图象判断，树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影长多少米？影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树高多少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1476360" y="3666960"/>
            <a:ext cx="58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树高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 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时，影长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4 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；影长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 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时，树高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 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403280" y="1784520"/>
          <a:ext cx="4308480" cy="996840"/>
        </p:xfrm>
        <a:graphic>
          <a:graphicData uri="http://schemas.openxmlformats.org/drawingml/2006/table">
            <a:tbl>
              <a:tblPr/>
              <a:tblGrid>
                <a:gridCol w="1217520"/>
                <a:gridCol w="773280"/>
                <a:gridCol w="771480"/>
                <a:gridCol w="772920"/>
                <a:gridCol w="773280"/>
              </a:tblGrid>
              <a:tr h="49860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树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长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8"/>
          <p:cNvSpPr/>
          <p:nvPr/>
        </p:nvSpPr>
        <p:spPr>
          <a:xfrm>
            <a:off x="828720" y="1635120"/>
            <a:ext cx="748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 indent="-390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购买甲、乙两种练习本的数量和总价的变化情况如下图所示。从图上看，哪种练习本便宜些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组合 1"/>
          <p:cNvGrpSpPr/>
          <p:nvPr/>
        </p:nvGrpSpPr>
        <p:grpSpPr>
          <a:xfrm>
            <a:off x="595440" y="966960"/>
            <a:ext cx="2809800" cy="668160"/>
            <a:chOff x="595440" y="966960"/>
            <a:chExt cx="2809800" cy="668160"/>
          </a:xfrm>
        </p:grpSpPr>
        <p:sp>
          <p:nvSpPr>
            <p:cNvPr id="694" name="圆角矩形 11"/>
            <p:cNvSpPr/>
            <p:nvPr/>
          </p:nvSpPr>
          <p:spPr>
            <a:xfrm>
              <a:off x="1479600" y="10796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文本框 13"/>
            <p:cNvSpPr/>
            <p:nvPr/>
          </p:nvSpPr>
          <p:spPr>
            <a:xfrm>
              <a:off x="1479600" y="10666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6696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矩形 12"/>
          <p:cNvSpPr/>
          <p:nvPr/>
        </p:nvSpPr>
        <p:spPr>
          <a:xfrm>
            <a:off x="2535120" y="5732640"/>
            <a:ext cx="318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乙种练习本便宜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10" descr=""/>
          <p:cNvPicPr/>
          <p:nvPr/>
        </p:nvPicPr>
        <p:blipFill>
          <a:blip r:embed="rId2"/>
          <a:stretch/>
        </p:blipFill>
        <p:spPr>
          <a:xfrm>
            <a:off x="2376360" y="2592360"/>
            <a:ext cx="33004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0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04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7T04:42:28Z</dcterms:modified>
  <cp:revision>1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