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7A364-22C0-4EB2-A328-CE4ACEE0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76223-FABB-49A6-AA4D-1D0C32C6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E734B-4DDF-44AA-9ACD-0C47D9CA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BCA8F-F01B-49E3-A9BC-611BC0C7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DA101-100F-4420-8BFB-76E6BE98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5EBE1-408C-48D6-BC83-22E0AA69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C3059-31E2-4E68-A2E4-EA712688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EBB3B-7BA6-4046-8F6F-F6E67159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6EDB4-FC75-470D-87A1-EAD474BA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69882-ED58-4625-A937-04747B04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75A01-EF41-4443-A0C3-C3CA42AB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95CCF-462F-4236-96EB-B7661164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9CA67-5566-43A3-82E6-04BBE9AE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32588-DAE4-4FA1-801D-1C105CEE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DF9B4-23BD-455A-8759-F908A697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E42F1-E671-48FE-80D3-A567AC97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FF712-68A6-4316-AD83-9F1B15C4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5CD26-D805-4ABE-B3E3-2529736B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BA715-2508-49B3-8A67-2B07DDA3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D6E6B-06A4-437E-964A-2CB224F7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C4EB3-14AF-41CE-B982-F1B551A1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F2283-5BA0-41E9-9F8D-76B6FB6E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2E1B4-BF08-46A6-98DB-5F8EFBF3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5CB41-4334-42B3-993F-DB0C7112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BB6C9-B27C-4A88-A527-16C82EA7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B3F0B-9ABE-4222-9D96-08D8CE19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30993-4759-4D1E-977B-12A08469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7752A-1210-4064-A09A-7FCDCC5C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CEA91-7D0D-4493-A875-34DE13BE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A9110-15E6-4589-8E4D-BDE22760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60811-7954-4456-8097-0CD0C94A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0E7FD-E3E3-4E47-9EB7-1E4E635E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6EFB3-0165-4CD1-8155-EEBA6A68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3BB8F-1118-478A-A496-EFB2A59E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72D0C-3D55-4DD0-A708-AA65D53E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227BF-B1D8-4019-B4C1-FC4852A8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1B7DC-938E-49AB-948A-44987FE3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57A53-ADD3-419C-A8A9-BCEEB147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CBE74-62F8-42D7-9639-4DEBE0E7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A0662-0F3C-4201-91AD-CF1A06D9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E1276-61C6-4C19-8AA6-DC63BFB2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C8DD4-1CED-4E86-B803-C6D054E6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40BF6-9DE9-467C-9557-06740556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688F2-8B96-422C-991B-E5E4B60E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535F9-136A-4C31-B224-180453CD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0FBAC-0359-4198-8438-174B74CA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3E657-DA50-4877-9757-9A72102B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4C524-9F11-491B-9FBA-C08CAFB4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49C5B-2E6C-469A-97D9-0FCF99B3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A0B8B-A658-4FA1-826F-F81C89A1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A5CCF-A037-4ADB-A6BC-3161F9B2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C1573-5B9E-4DB6-B557-1BE38CE6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174A4-D005-4A28-ABAC-42F69943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13FFF-67B4-4F3D-97F2-8DE58A1E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32223-A930-45C1-BCE8-0B735C0F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995A1-C5A8-47DD-A221-C831C930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10324-B1E4-43C4-8ED5-DF896E77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81D29-7705-4C95-8496-E6AF697C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5B67A-E11F-433C-AF0A-9AA2D4E2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E1534-F8E4-4F46-9318-B04D385D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B4A5A-402B-4B0D-80A6-8C154316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017D9-402A-498D-8245-2730DFE1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A36DE-BA5B-46B8-8190-46BE296A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E1081-61DF-4EE9-9C3E-994F999F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286BA-0EC3-4F00-9B2A-025A18B5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09491-06AE-44EF-93AD-AD4F28EA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6BC3A-2B26-450D-A46D-F6768154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01569-589A-403E-BEEB-1B7BFCE4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33867-B918-4AB4-B314-4C78D9BC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CD1D6-54FE-4B29-9E17-BEFEDA6C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73F05-CD91-49CE-ADFC-D40F8619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78F85-8A9D-41FA-B5FE-12F25F3E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E8984-BFDD-4655-8CF3-D06CE7F7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BF538-DD30-4936-A2B8-E83A73B4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5CF849-55A0-47B5-AA4A-AA10CF3C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97097F-689E-4147-955C-970970CD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B6F40-2E99-433C-98FD-B9D05B60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9BFD08-3396-4ADA-B30B-1F8E46B5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F043D-8D28-4678-BB8E-AEA8D15A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37D26-AC4C-4118-8850-FAE75883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5D425-6FB8-4799-BBA7-F6CD134A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F530D-2078-47B5-8648-444EBC69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96FA1C-7CFE-4FDB-991E-A72B6854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4DB417-C4D2-4DE7-A631-CA1E7D20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6E6063-D6D6-4980-8802-98CE586A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E98400-FB48-4C6C-8402-6D8C6DE3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57EF40-D15A-46E9-BED6-2CD94548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7E6C66-C097-4784-B8E4-71E75525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A793E0-638E-4D09-A3D5-4F068BDB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EA87C-9B5A-4AD3-AE1F-3DB79143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BB58B-3CA2-4139-966D-4630E669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8F756-2185-409F-9987-55F28BA8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5C5888-8719-4122-BCF6-2422172A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2D3E-A19D-4083-91FA-FB26D25A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D639-AB25-49F5-B6AA-17390974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20A6-47D2-4FF2-BB3B-47BB4896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CF0-C4B9-4189-A116-49F2A287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F2B0-3138-4746-9BE9-106A9AA1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0A11-1A8B-4DB3-9495-200BE54B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2857-7916-4750-B3C6-15F16946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963-EB05-46B0-B8CE-9AED4170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731C-20D8-4084-AA97-DEC0C745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0A05-D344-4261-A7F5-CF69629D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7CDC-0754-4AC6-BDAE-9A861100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1F5-FA98-45EA-9558-C62C2C3A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B25A-023D-4528-B9E9-A0870C48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F2D3-2F24-4FB6-90B9-297BA870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4BDD-01BF-49CA-88BE-3EDD942A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29DA-6FF4-45C6-9D04-250A2C54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C68A-0D27-4AB6-BA96-7D26BDA2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2DC3-93C4-4425-9B4E-1D6FEB40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F6EA-594A-4AAF-98C1-FDF3F784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2700-C4F0-480D-96DD-6B3F6A12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3106-F95E-4FE1-B457-FE1A9B6F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28A2-C519-4178-A777-ABF96597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FE1E-A3F9-45E4-975B-8A7D530C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4D5A-46ED-4705-86FD-AE2CA09D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84E01-F5EF-435F-9F80-7DB3D652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1CA38-E048-4CE2-8BA4-8224AF0A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4CF38-0B9C-4AEC-AF78-6B77D30C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DDDFD-1053-496C-9696-25F3D109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C8DE1-617C-4C52-BC21-37D892AE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FE258-5F02-49D2-B31B-E7EB5E84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56CBA-A687-4CA9-9D2E-2802A5FE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72BBD-CDF6-47DC-AFCE-7D7D082B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1357A-2BD1-44B9-9C8B-23469113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A3595-BF84-4C30-9881-8202B786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425A4-3777-448B-8DD2-B7A3764B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B3199-3DB3-4E39-873E-94AAA965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7FCA6-9B6F-4564-8A9E-66FFDD8F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C3B07-D9FE-4403-9109-5F643135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7F678-5164-4AC5-8926-164CA61E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D9B8E-F9EB-4E69-B272-F1513986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32B6E-B4C4-49E7-97A4-59511527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79F9A-7961-4FB0-9675-737FA61B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FED47-8F47-46D4-A8F9-BB59CFE5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A81BD-AB55-4E49-A480-33207B02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F9D80-9C18-4E23-8463-14313C7D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89E94-B4D1-472C-AB3D-F58FF759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B4B9D-90A3-48B8-8D5E-C1519394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EE17F-1619-4470-BBBC-40F6DE18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1DE2D-FF85-47E2-93DB-A1EEA0FA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3C863-F1F5-4194-926F-4DA83B51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AEC9A-8B10-4444-AAD7-560EE0D7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E4D17-82E4-4DD0-9E46-41B6C838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C5CA8-7E88-49E8-AB74-049E868A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D93E8-1E0F-4ABF-9E9A-D6C36157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1947F-10E2-481B-B803-E323296A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41105-67D8-47E1-ADD7-1C1EBD7C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F7B28-DEBE-42F4-9C14-A2AC7324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BD3C5-5DE4-429C-A338-2A84A70C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341A3-7C2A-4391-BB98-6BEBF3B1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982ED-D114-4F34-96F0-F0B549FD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B9DF0-4FEE-4B95-AC74-E759FC1E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64319-443E-40FA-8EA2-B9FDEEF9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00F29-8192-4017-9B00-AD468E21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4ED4A-A90C-41A6-968F-41B32056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34AEF-93ED-482A-A4BE-B451E73E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DCA3E-FA9E-465C-BA13-7488D9B5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E02E0-F5D7-45BC-8F56-9A7B773E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A331C-3946-483D-AB6E-5273F3C6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FA25B-8B20-425B-9E7A-77F87025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BE186-4E0E-464D-8A32-1B3116B5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37386-E2DB-467A-A4B7-05FA7FF1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0AA10-F618-49FB-85E2-84A33F75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983F5-93B5-453D-87D7-A8E2ACE0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8DF31-2969-44B5-9BBF-79A4F3AE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1B24D-2E23-469B-B602-E8E74124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2500-4F1F-4236-A5C6-4F725FCDA6D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A5F0-DA45-432A-835B-750356D1D10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0290-964A-45B4-9AA5-4614F216A38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572F-3317-4427-B5BB-CBD8884F737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B700-A2EE-46D7-B2D2-91B3096FCDF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4088-25D8-4FF3-80B4-FE4C2E86271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A625-8FDB-44E2-B59F-F27DE6C9A63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15F4D-EABC-459D-8ECF-E953EABD714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0BA6-0EE6-43EC-8E5D-80A5B332752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8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9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B256-A046-4F49-81AD-1CCE93DE22E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C376-AEBB-4557-844D-9E756E4634F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E5ED-7DDA-4B4A-B429-A70BE7D83C8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8059-DFDB-41D3-9203-86459856151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798E-C483-4A8D-85D9-951A812F69C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64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50" name="TextBox 3"/>
          <p:cNvSpPr/>
          <p:nvPr/>
        </p:nvSpPr>
        <p:spPr>
          <a:xfrm>
            <a:off x="495360" y="125100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认识圆柱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四    圆柱和圆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653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655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7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8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9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0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1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662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1187280" y="1844640"/>
            <a:ext cx="7120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圆柱的底面直径和高解决生活中的实际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运用圆柱的侧面积知识解决实际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665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8"/>
          <p:cNvSpPr/>
          <p:nvPr/>
        </p:nvSpPr>
        <p:spPr>
          <a:xfrm>
            <a:off x="851040" y="1617840"/>
            <a:ext cx="753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某种饮料罐的形状为圆柱形，底面直径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5 c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高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 c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罐这种饮料放在纸箱里，每排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罐，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排，放上、下两层，刚刚放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这个箱子的长、宽、高分别是多少厘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1"/>
          <p:cNvGrpSpPr/>
          <p:nvPr/>
        </p:nvGrpSpPr>
        <p:grpSpPr>
          <a:xfrm>
            <a:off x="595440" y="1004760"/>
            <a:ext cx="2809800" cy="668520"/>
            <a:chOff x="595440" y="1004760"/>
            <a:chExt cx="2809800" cy="668520"/>
          </a:xfrm>
        </p:grpSpPr>
        <p:sp>
          <p:nvSpPr>
            <p:cNvPr id="670" name="圆角矩形 13"/>
            <p:cNvSpPr/>
            <p:nvPr/>
          </p:nvSpPr>
          <p:spPr>
            <a:xfrm>
              <a:off x="1479600" y="11174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文本框 13"/>
            <p:cNvSpPr/>
            <p:nvPr/>
          </p:nvSpPr>
          <p:spPr>
            <a:xfrm>
              <a:off x="1479600" y="110484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0476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TextBox 10"/>
          <p:cNvSpPr/>
          <p:nvPr/>
        </p:nvSpPr>
        <p:spPr>
          <a:xfrm>
            <a:off x="1338120" y="3141720"/>
            <a:ext cx="705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长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×6.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6(c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宽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×6.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9.5(c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高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8×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6(c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这个箱子的长、宽、高分别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6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厘米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9.5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厘米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4" name="Picture 36" descr=""/>
          <p:cNvPicPr/>
          <p:nvPr/>
        </p:nvPicPr>
        <p:blipFill>
          <a:blip r:embed="rId2"/>
          <a:stretch/>
        </p:blipFill>
        <p:spPr>
          <a:xfrm>
            <a:off x="6867360" y="3005280"/>
            <a:ext cx="15145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8"/>
          <p:cNvSpPr/>
          <p:nvPr/>
        </p:nvSpPr>
        <p:spPr>
          <a:xfrm>
            <a:off x="82692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7400" indent="-617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今天是小明的生日，妈妈送给他一个大蛋糕，蛋糕盒是圆柱形，现在用丝带将它捆扎起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下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需要多长的丝带呢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蝴蝶结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 d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7"/>
          <p:cNvSpPr/>
          <p:nvPr/>
        </p:nvSpPr>
        <p:spPr>
          <a:xfrm>
            <a:off x="2749680" y="4653000"/>
            <a:ext cx="455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3(d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需要的丝带长度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3d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Picture 33" descr=""/>
          <p:cNvPicPr/>
          <p:nvPr/>
        </p:nvPicPr>
        <p:blipFill>
          <a:blip r:embed="rId1"/>
          <a:stretch/>
        </p:blipFill>
        <p:spPr>
          <a:xfrm>
            <a:off x="3763800" y="2852640"/>
            <a:ext cx="17431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8"/>
          <p:cNvSpPr/>
          <p:nvPr/>
        </p:nvSpPr>
        <p:spPr>
          <a:xfrm>
            <a:off x="971640" y="1052640"/>
            <a:ext cx="707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7400" indent="-617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某宾馆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圆柱形柱子，每根柱子的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底面周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512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现要给这些柱子贴上彩纸，如果每平方米彩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给这些柱子贴彩纸一共需要多少元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Box 7"/>
          <p:cNvSpPr/>
          <p:nvPr/>
        </p:nvSpPr>
        <p:spPr>
          <a:xfrm>
            <a:off x="1758960" y="3429000"/>
            <a:ext cx="61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×6×2.512×4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712.9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给这些柱子贴彩纸一共需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712.9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8"/>
          <p:cNvSpPr/>
          <p:nvPr/>
        </p:nvSpPr>
        <p:spPr>
          <a:xfrm>
            <a:off x="971640" y="1136520"/>
            <a:ext cx="74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6600" indent="-606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用一个滚刷往墙壁上刷涂料，滚刷的半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如果每蘸一次涂料，滚刷可以滚动四圈，那么可以刷多少平方厘米的墙壁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Box 13"/>
          <p:cNvSpPr/>
          <p:nvPr/>
        </p:nvSpPr>
        <p:spPr>
          <a:xfrm>
            <a:off x="1908000" y="2997360"/>
            <a:ext cx="66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8280" indent="-638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×6×2×3.14×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21.6( 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8280" indent="-638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可以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21.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平方厘米的墙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6" descr=""/>
          <p:cNvPicPr/>
          <p:nvPr/>
        </p:nvPicPr>
        <p:blipFill>
          <a:blip r:embed="rId1"/>
          <a:stretch/>
        </p:blipFill>
        <p:spPr>
          <a:xfrm>
            <a:off x="6948360" y="2797200"/>
            <a:ext cx="12574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8"/>
          <p:cNvSpPr/>
          <p:nvPr/>
        </p:nvSpPr>
        <p:spPr>
          <a:xfrm>
            <a:off x="1189080" y="1600200"/>
            <a:ext cx="691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2360" indent="-522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要制作一个无盖的圆柱形水桶，有以下几种型号的铁皮可以选择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单位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22360" indent="-522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22360" indent="-522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22360" indent="-522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22360" indent="-522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22360" indent="-522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22360" indent="-522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我选择的材料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号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号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22360" indent="-522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我选择的材料制成的水桶的底面直径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d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底面周长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d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高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d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4" name="组合 1"/>
          <p:cNvGrpSpPr/>
          <p:nvPr/>
        </p:nvGrpSpPr>
        <p:grpSpPr>
          <a:xfrm>
            <a:off x="595440" y="960480"/>
            <a:ext cx="2809800" cy="668160"/>
            <a:chOff x="595440" y="960480"/>
            <a:chExt cx="2809800" cy="668160"/>
          </a:xfrm>
        </p:grpSpPr>
        <p:sp>
          <p:nvSpPr>
            <p:cNvPr id="685" name="圆角矩形 11"/>
            <p:cNvSpPr/>
            <p:nvPr/>
          </p:nvSpPr>
          <p:spPr>
            <a:xfrm>
              <a:off x="1479600" y="107316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文本框 13"/>
            <p:cNvSpPr/>
            <p:nvPr/>
          </p:nvSpPr>
          <p:spPr>
            <a:xfrm>
              <a:off x="1479600" y="106020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96048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8" name="矩形 12"/>
          <p:cNvSpPr/>
          <p:nvPr/>
        </p:nvSpPr>
        <p:spPr>
          <a:xfrm>
            <a:off x="3505320" y="4842000"/>
            <a:ext cx="35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10" descr=""/>
          <p:cNvPicPr/>
          <p:nvPr/>
        </p:nvPicPr>
        <p:blipFill>
          <a:blip r:embed="rId2"/>
          <a:stretch/>
        </p:blipFill>
        <p:spPr>
          <a:xfrm>
            <a:off x="1825560" y="2587680"/>
            <a:ext cx="4618080" cy="2279520"/>
          </a:xfrm>
          <a:prstGeom prst="rect">
            <a:avLst/>
          </a:prstGeom>
          <a:ln w="0">
            <a:noFill/>
          </a:ln>
        </p:spPr>
      </p:pic>
      <p:sp>
        <p:nvSpPr>
          <p:cNvPr id="690" name="矩形 13"/>
          <p:cNvSpPr/>
          <p:nvPr/>
        </p:nvSpPr>
        <p:spPr>
          <a:xfrm>
            <a:off x="4719600" y="4842000"/>
            <a:ext cx="358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矩形 14"/>
          <p:cNvSpPr/>
          <p:nvPr/>
        </p:nvSpPr>
        <p:spPr>
          <a:xfrm>
            <a:off x="6122880" y="5286240"/>
            <a:ext cx="358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矩形 15"/>
          <p:cNvSpPr/>
          <p:nvPr/>
        </p:nvSpPr>
        <p:spPr>
          <a:xfrm>
            <a:off x="2004840" y="5734080"/>
            <a:ext cx="1001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.5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矩形 16"/>
          <p:cNvSpPr/>
          <p:nvPr/>
        </p:nvSpPr>
        <p:spPr>
          <a:xfrm>
            <a:off x="4224240" y="5745240"/>
            <a:ext cx="36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8"/>
          <p:cNvSpPr/>
          <p:nvPr/>
        </p:nvSpPr>
        <p:spPr>
          <a:xfrm>
            <a:off x="733320" y="1295280"/>
            <a:ext cx="77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个圆柱的底面周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42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如果沿着这个圆柱的底面直径把它切割成两个半圆柱，切割面的面积一共是多少平方厘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矩形 12"/>
          <p:cNvSpPr/>
          <p:nvPr/>
        </p:nvSpPr>
        <p:spPr>
          <a:xfrm>
            <a:off x="1452600" y="3068640"/>
            <a:ext cx="722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底面直径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.42÷3.1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(c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切割面的总面积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×3×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(  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底面直径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cm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切割面的总面积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平方厘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699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0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701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2" name="矩形 12" descr=""/>
          <p:cNvPicPr/>
          <p:nvPr/>
        </p:nvPicPr>
        <p:blipFill>
          <a:blip r:embed="rId4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相忘于江湖</cp:lastModifiedBy>
  <dcterms:modified xsi:type="dcterms:W3CDTF">2018-01-06T14:43:30Z</dcterms:modified>
  <cp:revision>15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