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8C5F6-9095-496C-8187-39DFCE7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5225-B219-4C6F-8603-4BDCCAD8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3BAB-0D01-4A5F-8696-3E5FFF7F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CB8D-2F34-44C0-A3FD-8579B61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58BC-56C4-4960-9AAA-F5B6EFF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5E73F-A12F-4ECF-B174-3825C19B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54487-E443-4F31-A4CD-E950180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BFFDB-EE43-47E3-A380-F07891E6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88F9C-B881-4119-A9DF-07977DCD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BCDC5-34B9-477E-A53D-D1A4E89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A5D3C-3AE3-47C9-A2D8-537A2839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FB6E-E23B-43D2-87D3-4ACACC44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AD2C2-0F0E-4A05-862C-714783DA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3F80A-BEB4-4E3E-9AF2-89D7CC52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374D-E3A0-4FEB-87AE-B7F32A28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FB944-BB22-4967-BD65-8286578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5226F-47A1-4CEE-8566-A8ECCCD6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9268-5868-4D2D-BD67-8F3AC76E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22F6-36B5-4DF0-A0FF-581F46B8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128D0-AE02-4485-80A8-2F504BEC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6D78B-A98C-4F7B-B8A0-54DD89F2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5DF6A-7874-46BA-8120-9DA12037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AF63E-150F-4D94-8AE8-E07BDF1A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2A131-D8E4-40D2-AE27-89339D9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D24F-58F5-4174-BEDE-8466316E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21F98-67A7-4EB0-AFE0-C55B72FA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84E86-28D4-418F-8069-C63A9B82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47591-461C-4947-9E03-43054F34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9346E-3E5B-47DC-B7FA-1382473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35F5F-1E96-4D0A-A259-6055F835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2F85C-42B1-4BE2-A0E0-D1D58A2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B9E42-E3B3-4F2B-A0E2-E42C2C27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F37E5-AC7C-4888-8D10-419607E0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3923-8CCA-405F-9412-9E949F91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687A-EE97-47AD-A740-30DBB4D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18F72-BC87-4148-BB7C-DF5F599D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27DB5-1610-4F5B-AC0B-B75B8C10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04632-05E9-49ED-9BE6-CD9EA673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6E20A-899E-4CDB-9350-8F5ABDD3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96DD1-1F68-4FA2-A1D8-FE806ABC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4CEBE-7826-4F4C-9BD3-A61A92C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4B0A6-33D3-4647-9B92-80DF4166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5523E-8B1C-4944-B506-884A7B10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4D692-0AE0-4913-891E-EC4280B5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E9262-8F53-4C9C-9586-A93494DF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77CB4-DFC7-402F-8108-AEC7AED1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7266F-7E32-4DEE-A8C8-21893C12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9738-1308-4BE4-A333-C91767D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22087-A133-4C59-8396-B5FA11A4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FB81-F2FF-4D37-A11B-CC7DF969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32543-66A2-4D05-9611-888A9248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0C00-B3D7-4202-8D0C-5698C919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794B1-94C5-4306-BE33-C3AB5CCA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E1711-9F5F-409C-93BF-B68C7B0F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7B4E3-0FE1-40F4-9C96-823B974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18F08-D7A4-4A16-9F6D-7EB553B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7CE5A-91AF-4EBE-94DF-5E52306E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F9EDB-4BA9-4A2F-832F-AA953B8D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7A320-9EA5-4640-A3C8-1EFEB8F8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56068-53EB-4FEE-9E0B-3046E397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2B3AC-95E8-492B-A6FA-42051A32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60DFA-26E8-4818-8933-17B44451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7A2F4-A9B2-4C4D-A6ED-AA067169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02E2D-EB41-4D48-BF74-A29327FB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A0D66-5533-40B6-AF31-B682583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131A9-729F-43AC-8FAF-2D4C611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6C5A7-EB2F-428B-970A-E004F9EE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1CCFA-C638-4D24-9C8B-AFD2C026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F5D35-424E-45EE-9EA4-726E941D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94B035-5707-468C-BAB8-B3838DE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61E6FA-687C-4717-86A5-8C3EA612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5197C-65C7-4926-8C27-79CF411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19594-B7D7-443F-BE26-1050041A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4E6B7-E5D0-44A4-85BE-E31886D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D0A6DA-52A5-4AF0-9B12-64150CE9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CF94B-AB1D-4CD2-AA7C-3B1AA7F3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EB5D03-5DDA-4206-B051-AB42878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1293B-DA9B-485D-A086-EB81956E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E3771-3869-4BED-99D6-783A5D78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5789E-B07C-437B-AC01-A906A71E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1C2DF-05C7-4264-BAA7-C7F3E205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193F4-F3F3-4F34-98DE-B8834E5B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59BDE-E5CB-4EDE-9CF0-54BDA92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D7D19-89E9-4CE3-9862-4ED7DCBC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B41FA-766F-42FA-A081-0131D838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1BC548-CD8C-4FFF-9CF1-C97ACB9D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D0804-F986-407D-BCE5-D3F54DBA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5C214-4E8B-4C13-B30D-CE995F2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2CC83-CA20-4481-BB67-5B5F0EBC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0841E-EF9E-43FC-AF06-AEEDE09A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1C180F-A472-4DB2-8875-0CAD2F7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4EE4F-1710-4183-98EA-818B6D97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FBE00-3FDB-45D2-AF56-959AB813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DA2D-902C-458A-BB93-F3A4B1D5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C8A-F87D-4B0A-89C6-1D3FFE22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2127-E3C2-43EC-9571-1AE0BD14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DE5-5C83-41E3-ACD6-DAB9CCF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DE3-B0AA-4339-892B-AB965255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444-0762-464F-A0EC-13486E42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7A7-B86B-436F-8A2F-010F8237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87F-2562-4EB1-B85B-AA2028D6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CCD-84BF-47E9-9F8C-0776100E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13B-3F2C-4483-917A-C9A18488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C0E-1E5B-4D69-A3C1-9B63E883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E11-E320-4818-A3B9-A638AAD4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05C1-F111-4CA3-A8FA-948BDDD5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A840-C835-4670-AE29-29193BE1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EAD9-D827-4C31-889E-54D901F2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34D97-B9CC-47A1-80D3-5727795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3027-65CB-4561-9A87-8EE5663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67FD-DC60-464F-9BF7-8D4EED97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71A9-56C4-41E8-8247-BB83C0AD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C927-FEEB-43BF-991A-134799B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F194-F9D6-49AD-8AB7-02916C5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16CC-48EB-4F1D-8845-0E07D06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3F17-9DB2-44EF-8439-09675EF4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5204-CF10-4AB8-ACA6-1C303B25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F3F1-16E2-4963-8FEA-7EE3191D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9F896-1555-441A-BB88-F6B409AC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2BEED-BEE6-4A8F-A1A0-0C64641F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A90D3-62D2-442A-88E6-9A35A451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8F8D-685D-48E2-BE11-BA6810A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3C5B-CA0F-4820-A792-B7ADBB5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BDE4-34B9-4940-B291-24F326D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6E50-F8DF-43A6-907D-4CB6CB7C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0C865-D5E2-4E08-A16F-CCDF6E5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672B3-E75B-4439-BB95-87894F0C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3743-7CC2-4B9A-97F9-48E346C6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66B0-7B3C-4799-9AAE-18B82994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DAB4-FA2B-400F-8927-C73C5F61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3253E-96CB-497A-AC1E-47650FFB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C43C1-BD2D-4851-8788-9EDBAB6C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B5749-3E1B-4E94-8030-0BD3DF2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2D97-E58B-4DCD-B8B6-000A4E76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8F5A-5448-45A2-8983-ABBC5941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199A-983B-4652-AF7B-864A7EE5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3CAE-4047-44B4-A5CD-8B3C786A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DEDD-370B-46A5-AC26-78F99301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924D-01D3-4288-911C-21BF0DB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A3700-1B0B-47B5-BF34-BAE68CAF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7D507-1F36-4F5A-BFD7-B96A3A21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3EEE-FD7F-4090-8907-B21B0954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0D039-251D-4E02-9D34-740CA5D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5F5A-E8CD-493A-A520-B97457D5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7446-AF5B-4040-8737-09753C8C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0E04-9947-49EB-ACBB-EE6A9871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0F8F-9598-4256-ACCE-258DB0D6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BD49-D772-4AA4-8189-559B7F4D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B25BC-4760-4527-AE56-B16B091C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75CC1-B2C4-4AC9-AEE5-7D71C51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31AD9-8259-4CC5-9420-37832BAE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4413-45DC-43FF-A311-173F8FD1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6BA9-D1BE-4906-8B7A-14BBBD49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ECF5B-94BC-4762-ADC1-D13AF0DD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8566-6F88-4737-80B6-66978F51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7D267-2630-4589-A951-D256BF64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7C0D-FEFF-4132-931D-F0F4C89D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81722-68BF-4375-97FC-15B33908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4A354-8637-4A0A-BC2E-1B98AA7D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7C85D-3133-49C0-A17B-795F1ACF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E5B4-FE71-48A6-A6D1-06F2D271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27C84-D825-46DB-B15C-CFBED60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4F7B0-543E-4C7D-BCFC-8EA05AC1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4B12B-4258-48BB-9A76-480C125D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9733-628D-4F56-ACDA-AF33A954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C630D-E02F-47EA-AD96-F8909C9E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5639D-1E08-4192-B8FD-BFB7AD8C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84AC-4287-4AD8-BFB2-DCD5B9B8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B25B-52D8-435C-B5FF-D17C2DFCAF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C02A-ADFC-46C3-BB4A-0F29A9FD27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0ED8-5931-4CEC-B52C-418E35E69B1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24E-FFFD-424E-B51A-5DE743FFC14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13B0-F8A9-4C46-B8A2-8BCD8C6D98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E0ED-512F-4EAF-9041-BD87D39713C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8FB-9191-4FF8-B8A6-4E7D118B2F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61C94-E042-4E49-AF10-EACE452AE68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F121-060C-44DA-BDBB-18D733C78BD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065-D305-4B35-9F74-5AAF541CB3C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073E-6573-4AFC-8C9D-A6FEDD6CEE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2155-9F50-4915-962B-854CD93EB7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4A8C-E8BF-423D-AA5F-6E66F8242C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BB29-50F8-47D3-AB74-A6686C753A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50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圆柱的体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1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046160" y="1700280"/>
            <a:ext cx="66960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旋转问题中圆柱的体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据增加的表面积求圆柱的体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半圆柱的体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5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851040" y="1617840"/>
            <a:ext cx="75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求如图所示的图形绕轴旋转一周后形成的立体图形的体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9" name="组合 1"/>
          <p:cNvGrpSpPr/>
          <p:nvPr/>
        </p:nvGrpSpPr>
        <p:grpSpPr>
          <a:xfrm>
            <a:off x="595440" y="1004760"/>
            <a:ext cx="2809800" cy="668520"/>
            <a:chOff x="595440" y="1004760"/>
            <a:chExt cx="2809800" cy="668520"/>
          </a:xfrm>
        </p:grpSpPr>
        <p:sp>
          <p:nvSpPr>
            <p:cNvPr id="670" name="圆角矩形 13"/>
            <p:cNvSpPr/>
            <p:nvPr/>
          </p:nvSpPr>
          <p:spPr>
            <a:xfrm>
              <a:off x="1479600" y="11174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文本框 13"/>
            <p:cNvSpPr/>
            <p:nvPr/>
          </p:nvSpPr>
          <p:spPr>
            <a:xfrm>
              <a:off x="1479600" y="11048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0476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TextBox 10"/>
          <p:cNvSpPr/>
          <p:nvPr/>
        </p:nvSpPr>
        <p:spPr>
          <a:xfrm>
            <a:off x="1434960" y="2852640"/>
            <a:ext cx="551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3.14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42(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立体图形的体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10" descr=""/>
          <p:cNvPicPr/>
          <p:nvPr/>
        </p:nvPicPr>
        <p:blipFill>
          <a:blip r:embed="rId2"/>
          <a:stretch/>
        </p:blipFill>
        <p:spPr>
          <a:xfrm>
            <a:off x="6516720" y="2246400"/>
            <a:ext cx="1438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8"/>
          <p:cNvSpPr/>
          <p:nvPr/>
        </p:nvSpPr>
        <p:spPr>
          <a:xfrm>
            <a:off x="90000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9520" indent="-479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张长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宽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长方形硬纸板，以哪条边所在直线为轴旋转一周能得到一个体积较大的圆柱？较大圆柱的体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7"/>
          <p:cNvSpPr/>
          <p:nvPr/>
        </p:nvSpPr>
        <p:spPr>
          <a:xfrm>
            <a:off x="1403280" y="299736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以宽所在直线为轴旋转一周能得到一个体积较大的圆柱，体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3.14×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84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较大圆柱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884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1098720" y="1197000"/>
            <a:ext cx="69292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66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圆柱的高是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 c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若高增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圆柱的表面积就增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0.24 c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。这个圆柱原来的体积是多少立方厘米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8" name="组合 4"/>
          <p:cNvGrpSpPr/>
          <p:nvPr/>
        </p:nvGrpSpPr>
        <p:grpSpPr>
          <a:xfrm>
            <a:off x="2050920" y="2852640"/>
            <a:ext cx="6504120" cy="1135440"/>
            <a:chOff x="2050920" y="2852640"/>
            <a:chExt cx="6504120" cy="1135440"/>
          </a:xfrm>
        </p:grpSpPr>
        <p:sp>
          <p:nvSpPr>
            <p:cNvPr id="679" name="TextBox 7"/>
            <p:cNvSpPr/>
            <p:nvPr/>
          </p:nvSpPr>
          <p:spPr>
            <a:xfrm>
              <a:off x="2050920" y="2889000"/>
              <a:ext cx="6504120" cy="10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                     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×3.14×10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25.6(cm</a:t>
              </a:r>
              <a:r>
                <a:rPr b="1" lang="en-US" sz="2200" spc="-1" strike="noStrike" baseline="30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584280" indent="-5842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个圆柱原来的体积是</a:t>
              </a:r>
              <a:r>
                <a:rPr b="1" lang="en-US" sz="2200" spc="-1" strike="noStrike">
                  <a:solidFill>
                    <a:srgbClr val="ff0000"/>
                  </a:solidFill>
                  <a:latin typeface="Times New Roman"/>
                </a:rPr>
                <a:t>125.6</a:t>
              </a:r>
              <a:r>
                <a:rPr b="1" lang="zh-CN" sz="22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立方厘米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0" name="对象 3" descr=""/>
            <p:cNvPicPr/>
            <p:nvPr/>
          </p:nvPicPr>
          <p:blipFill>
            <a:blip r:embed="rId1"/>
            <a:stretch/>
          </p:blipFill>
          <p:spPr>
            <a:xfrm>
              <a:off x="2168640" y="2852640"/>
              <a:ext cx="1484280" cy="57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684360" y="1136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一根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圆柱形钢材截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后，如图所示，表面积比原来增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6 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根钢材原来的体积是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1546200" y="2637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5 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 d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6÷4×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(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根钢材原来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6" descr=""/>
          <p:cNvPicPr/>
          <p:nvPr/>
        </p:nvPicPr>
        <p:blipFill>
          <a:blip r:embed="rId1"/>
          <a:stretch/>
        </p:blipFill>
        <p:spPr>
          <a:xfrm>
            <a:off x="4224240" y="2401920"/>
            <a:ext cx="4114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1098720" y="1125360"/>
            <a:ext cx="7462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如图，是用塑料薄膜覆盖的蔬菜大棚，长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横截面是一个直径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的半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个大棚的种植面积是多少平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覆盖在这个大棚上的塑料薄膜约有多少平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2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大棚内的空间约有多大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1459080" y="2552760"/>
            <a:ext cx="650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×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84280" indent="-584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大棚的种植面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1509840" y="3789360"/>
            <a:ext cx="70801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2×15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(2÷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.24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覆盖在这个大棚上的塑料薄膜约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.2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Picture 6" descr=""/>
          <p:cNvPicPr/>
          <p:nvPr/>
        </p:nvPicPr>
        <p:blipFill>
          <a:blip r:embed="rId1"/>
          <a:stretch/>
        </p:blipFill>
        <p:spPr>
          <a:xfrm>
            <a:off x="5384880" y="1773360"/>
            <a:ext cx="3105000" cy="1287360"/>
          </a:xfrm>
          <a:prstGeom prst="rect">
            <a:avLst/>
          </a:prstGeom>
          <a:ln w="0">
            <a:noFill/>
          </a:ln>
        </p:spPr>
      </p:pic>
      <p:sp>
        <p:nvSpPr>
          <p:cNvPr id="688" name="TextBox 6"/>
          <p:cNvSpPr/>
          <p:nvPr/>
        </p:nvSpPr>
        <p:spPr>
          <a:xfrm>
            <a:off x="1509840" y="521496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14×(2÷2)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×15÷2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3.55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米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8280" indent="-638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大棚内的空间约有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3.5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8"/>
          <p:cNvSpPr/>
          <p:nvPr/>
        </p:nvSpPr>
        <p:spPr>
          <a:xfrm>
            <a:off x="971640" y="160020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0120" indent="-600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圆柱的侧面积是它的底面积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底面半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个圆柱的体积是多少立方分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0" name="组合 1"/>
          <p:cNvGrpSpPr/>
          <p:nvPr/>
        </p:nvGrpSpPr>
        <p:grpSpPr>
          <a:xfrm>
            <a:off x="595440" y="960480"/>
            <a:ext cx="2809800" cy="668160"/>
            <a:chOff x="595440" y="960480"/>
            <a:chExt cx="2809800" cy="668160"/>
          </a:xfrm>
        </p:grpSpPr>
        <p:sp>
          <p:nvSpPr>
            <p:cNvPr id="691" name="圆角矩形 11"/>
            <p:cNvSpPr/>
            <p:nvPr/>
          </p:nvSpPr>
          <p:spPr>
            <a:xfrm>
              <a:off x="1479600" y="107316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文本框 13"/>
            <p:cNvSpPr/>
            <p:nvPr/>
          </p:nvSpPr>
          <p:spPr>
            <a:xfrm>
              <a:off x="1479600" y="106020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96048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矩形 15"/>
          <p:cNvSpPr/>
          <p:nvPr/>
        </p:nvSpPr>
        <p:spPr>
          <a:xfrm>
            <a:off x="1908000" y="2781360"/>
            <a:ext cx="57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(d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体积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3.14×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42(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个圆柱的体积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.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98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00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06T14:48:20Z</dcterms:modified>
  <cp:revision>1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