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gif" ContentType="image/gif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wmf" ContentType="image/x-wmf"/>
  <Override PartName="/ppt/media/image16.png" ContentType="image/png"/>
  <Override PartName="/ppt/media/image14.png" ContentType="image/png"/>
  <Override PartName="/ppt/media/image10.png" ContentType="image/png"/>
  <Override PartName="/ppt/media/image7.png" ContentType="image/png"/>
  <Override PartName="/ppt/media/image15.wmf" ContentType="image/x-wmf"/>
  <Override PartName="/ppt/media/image1.jpeg" ContentType="image/jpeg"/>
  <Override PartName="/ppt/media/image2.png" ContentType="image/png"/>
  <Override PartName="/ppt/media/image6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BB7EA-075E-430B-93E2-45A7F58A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5C109-DAE8-48E4-965B-9451CD89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417D2-F688-421B-91B6-B2AB94E6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7AE43-210D-4153-94D0-D7D39972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F437B-9F95-470A-9B37-B8FCFD6C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5A61E-544A-4129-802A-E2588A4D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E9BA1-8740-43B4-B6EE-F0782519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81E10-8DE9-4153-89E4-CC177C27F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33FA7-7288-45B0-AB6D-41ECCA9C1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09558-725A-4852-AB32-D76FCC73A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FC634-C1BC-4E81-BFA3-F4A5D956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BA5F5-1EE5-4099-BDC9-D36413EE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44F83-A7E8-4D1B-9AF9-0F97F381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AC612-C652-4B05-9D2D-3DD6F792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64850-9C32-4414-80BF-FCD2136A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8C0D6-2926-4E83-9ED0-87B2DCCD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19640-6511-4869-A9EC-2F2E3BCB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FB347-B2D7-4D73-B8A0-F077C28D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E0633-05B5-473A-BBDB-524028B0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A0E33-7B0A-4EB7-97A4-B3E86CB8E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5EAC1-433C-460B-811E-135EF12F8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10AEB-CBF2-4EBA-9965-DD71AE04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EAB2CB-D74E-4058-BAEB-7B93FB44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FB931-8FDC-465F-9A5B-4A8ED85F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8419C-883A-4CF1-BF4F-DBE57699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96CE6-4D93-4C8E-9A21-E0034EC2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0C278-7C2D-4062-AD49-A41923A3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C567B-E520-4A86-A1C3-2700C9FF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69376-B09F-4191-8F0A-193D87F9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57477-115C-4F75-A754-9255FBC2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0DBD7-F6FA-4F70-8941-6C421C0E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02419-1F0A-4771-8C24-82AC1BB30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A9AF02-63B5-43CD-8839-B365B1195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C6E4A-5D0D-4E64-9FAE-CCE55EA47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3B3B5-222C-414E-B80A-8711ED85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F67608-529B-4A80-B270-3F686231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013153-334B-439F-ADE5-A62D7015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0A9576-EAD9-4864-833B-032431B8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F0EF9-EB4A-4861-8AAB-CF8D1E96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8AFB2-0589-48A8-8A50-1078F9D7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7B04A-BA96-4A9D-B9E7-061C250A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6C0EAF-4F94-4FF3-91AE-10738EDD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213AB-1A3D-4155-AB75-A68DBBDF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264B6-3E6C-44DD-BFD0-90693BEFE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E58B65-AC2E-47BA-9E33-6956E7BB5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2D3B2-B7D2-4975-9484-A0C34117B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2BD47-E7D0-4355-9631-0553008E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45515C-EA63-4882-A506-AE998F3F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16FE1-AA42-429F-9A7A-3D16D30C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61AB4-524B-4093-8170-CF5829AF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F18A0-F41F-4313-9A37-EC791C59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3FF89-A8B6-4E2E-AC1C-59A67059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7D963-DCA5-4EFF-ADCE-2554E783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9D96C-71FA-47F5-8C85-3E5F2CC1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9F2C8-3EDE-4DAE-AF01-F5C649AB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175ED-3DD2-47AE-8033-D5610BDE6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E28B6-1A6D-41DC-8398-9E8F2D7B8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8C9E7A-243C-4070-BDF4-7F04B495A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2F86F6-A6E2-43AF-AAB8-9E596B8F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80164D-9D9B-4652-B5FF-BC492073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933458-DF27-480E-BDF3-B4000A09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CA3ED6-4A15-44D4-96F7-D5B25660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2AB947-6BEC-4E8C-9EFE-087648DF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735A53-936F-4B90-A921-925312E7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E6EB1A-D752-4A6D-BD74-8E2111FA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555BC4-C98D-49A2-9297-96351A9E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DD811E-06E2-4715-8BDF-A0D54487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1688E8-7030-463F-803F-D06E3FDE3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30B1B1-552E-4C90-81A5-C93762026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0AC8D9-6B8B-4006-918B-086FA8947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7CE6AF-0BB1-4F7E-97B5-DF523DF2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E27391-AD74-497D-82BF-B2D10620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BDBC89-21AF-4D40-B164-6C8C4AA5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E59EAC-02D4-48C4-B21B-819AF8AD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A5A298-25B3-4EF0-9BD9-D82A08A1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3A272A-C2D2-4D9E-A330-01E13CE9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CA1EE4-ABB8-4696-979B-8F73825F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9B3AEF-FB22-40FA-A9A1-399B54D2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53DD69-06C2-46D3-AED2-83E9DFD9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25C7B4-E8D3-4090-A77D-869F975CA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8E16F8-4DF5-484B-83BF-6CE604C64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41B433-41DF-4A7B-9393-B458D1C6D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9CB95A-14C6-44E0-8327-4F2D0FE6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B25B25-C02D-4997-BEAB-FC7F3978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BC9CFB-ADBD-4679-9D2E-0A870DA1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AB83E5-4320-4175-A4BA-FC76CEA5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7E9BC6-90C5-4F2C-BCBE-D6D3D578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ACD7BB-DCB3-4C92-8E52-1B26F0AD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47DC19-6B3E-42C6-8456-B51CC359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89D5F1-4F46-43C6-956B-FBEC65B0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7BE5D7-EA4C-446F-8158-F99E8E63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200B2C-2ED4-4346-8A06-E2B259648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B4AE31-EF57-490B-B9C5-9AEDC1814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0B10-870F-43CA-9FFD-1ACF10440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882E-FAC9-479D-8584-7E405380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994A-70E9-4125-AB58-7236D019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74D0-B33F-4099-A3DF-EC97013D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3EE4-3B06-473E-BD21-AEBC6518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9E95-5AEB-416D-B912-3BFA7A3D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E10A-EFCE-44A6-A124-1FB8F093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952A-0594-4E03-999A-F044870E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EEF7-ACC6-4AB3-B331-4FFA2AF7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3ADB-4394-4D62-9F22-51C7B4BD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7B18-31C1-4D52-A5A1-2E8300CEA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60C4-3CE9-4B4B-8DC9-4931F361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D2DF-89F5-45D7-9E19-D75FEA10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2884-1E7A-4DE4-899A-26338881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EE67-21CD-4F10-804F-87DC7334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2CB3-6785-4F2D-A160-0D523A2B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3BFB-C336-4819-B1C5-2FE53DAD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4616-848F-4152-BDE6-FF6B2E67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52F7-7CD5-49D2-8DA6-9822372D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AE06-3730-4640-A314-172C8B65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2CBD-86E0-4F9D-813B-CB9799EF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39D2-9158-4F2E-A27C-D63025D9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E63F-81D2-4C09-B01D-134CA362C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A830-F925-45E0-92B7-07C22A4BA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005AF-8254-4540-A38C-4E2A1EBD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C9E05-9078-422F-ACF5-DFBD2543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73067-889C-4A77-A8A9-528CF264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C3B52-474A-49BD-A2D7-F306173A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4BC08-9B04-4854-9919-04602823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E591A-392C-4FF8-ABD4-C597E446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0BA4F-321C-4380-883E-67DA40F9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D8FCA-51D3-4FBF-B78D-D41AC8BC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32D7F-1202-4ED9-AE68-193FFA9C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001F7-91F2-4759-8A93-EB863689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71D68-654D-4269-96DC-B2D7E1AE2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6B025-8D7C-497F-BB20-B681EDC4D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A7A69-F4AC-4440-B390-DA27BC08F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DABC7-8DDD-48F9-A72E-86E5B7B4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0E95B-7AD9-4D9C-BD4E-98954DDE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D61C9-4A13-4CBA-8CBD-D253219A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069EE-7CFC-4431-BB7B-544EB799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85811-2A1C-4BCB-A187-C9601D04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BA175-DF2E-4279-B8F7-185B87E0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938D8-82DC-45EE-AD0F-2759B0EE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4CE5D-7332-43B8-A1EE-1B0E15B0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C872A-2C99-4E54-B722-8CBDA639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CE07A-DFB1-4851-A613-C4F385FD1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9B0C8-13B5-4FAB-B448-0A0EE9855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7D095-FBDC-481A-A4DA-85CB7A602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155FB-940E-43C7-B4E3-BDD98F68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42038-0107-4E3D-AE52-21082296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60B02-F08E-4B00-8EDA-C9BD3FB8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80D31-F723-48D7-B3B0-C66EDCE8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5D7B9-4448-4B8B-A874-C2DCB1A9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BFC14-AEB4-41F0-8E55-A6C4A2BE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DF100-1BD4-4775-9652-A142C5A7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59211-EBCB-4DD6-A47A-615A9147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A10E3-B702-4177-86BB-7CF78927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780F0-E324-4FB2-9F66-24D54AD7A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082AB-8C96-4CD4-A43B-99820353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3517F-1264-4F96-8404-4C13DC61D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91BD7-24DF-44AE-9389-67D4FF21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F99AE-80D6-462D-958A-D9616586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6D722-C752-4259-8F32-A48FAAD3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4C0D2-5630-45DF-AD27-95951794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D5FBE-A8C2-4312-AFE1-87F959CB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F98EE-B13D-43D8-99EE-0FA44E2F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609F9-C108-40AD-B494-D068F0AD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915C5-96AD-49F0-8485-C4830C07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F4B3D-BEE2-4A0D-9BA5-D8855A9B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6896D-98F7-4D00-8DAC-8F44BCC0C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24FD9-0DDB-4099-B8FC-3AC40ED49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4B16B-1191-42C3-96FE-56F83938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9B332-8EF7-48BB-9843-C87D83DE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5C915-FE09-4547-974F-30E5971C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7AEB-CB53-4253-971E-901FD584DC5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B525-B5D3-4DFE-80F3-9C232D251DB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819C-11D3-4652-87C5-3396612FD2B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6663-DD61-48D0-854F-700B5021DDF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8E30-A31C-46F2-A439-C36DEC86FFE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943D-9214-432D-82D3-8AC2305EE50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1C1C-1A60-4770-8161-05498CF2D82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C514C0-2857-4D8E-ABFB-FE798096746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dt" idx="4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5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6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250F-532A-488A-B6B5-77DB97B0957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dt" idx="7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8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9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AB57-2D9E-4ECC-A564-724A28C4DAD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AF64-0117-4E70-9A7F-BDBD01DB298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DC69-C0DA-45A9-99B6-681F57AEDE3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FA4B-89D5-4C60-91E5-AC0E6AEAE2E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0A32-D4A8-4C56-9677-AECAF8A29AD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6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647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8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650" name="TextBox 3"/>
          <p:cNvSpPr/>
          <p:nvPr/>
        </p:nvSpPr>
        <p:spPr>
          <a:xfrm>
            <a:off x="495360" y="1251000"/>
            <a:ext cx="81532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圆柱容积的计算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Box 4"/>
          <p:cNvSpPr/>
          <p:nvPr/>
        </p:nvSpPr>
        <p:spPr>
          <a:xfrm>
            <a:off x="3851280" y="592200"/>
            <a:ext cx="4678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四    圆柱和圆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2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653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655" name="TextBox 4"/>
          <p:cNvSpPr/>
          <p:nvPr/>
        </p:nvSpPr>
        <p:spPr>
          <a:xfrm>
            <a:off x="3557520" y="2644920"/>
            <a:ext cx="27226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六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6" name="椭圆 40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7" name="椭圆 41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8" name="椭圆 42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9" name="椭圆 43" descr=""/>
          <p:cNvPicPr/>
          <p:nvPr/>
        </p:nvPicPr>
        <p:blipFill>
          <a:blip r:embed="rId10"/>
          <a:stretch/>
        </p:blipFill>
        <p:spPr>
          <a:xfrm>
            <a:off x="8445600" y="1324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60" name="椭圆 44" descr=""/>
          <p:cNvPicPr/>
          <p:nvPr/>
        </p:nvPicPr>
        <p:blipFill>
          <a:blip r:embed="rId11"/>
          <a:stretch/>
        </p:blipFill>
        <p:spPr>
          <a:xfrm>
            <a:off x="8445600" y="19652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61" name="椭圆 45" descr=""/>
          <p:cNvPicPr/>
          <p:nvPr/>
        </p:nvPicPr>
        <p:blipFill>
          <a:blip r:embed="rId12"/>
          <a:stretch/>
        </p:blipFill>
        <p:spPr>
          <a:xfrm>
            <a:off x="8445600" y="2606760"/>
            <a:ext cx="403200" cy="403200"/>
          </a:xfrm>
          <a:prstGeom prst="rect">
            <a:avLst/>
          </a:prstGeom>
          <a:ln w="0">
            <a:noFill/>
          </a:ln>
        </p:spPr>
      </p:pic>
      <p:sp>
        <p:nvSpPr>
          <p:cNvPr id="662" name="TextBox 22"/>
          <p:cNvSpPr/>
          <p:nvPr/>
        </p:nvSpPr>
        <p:spPr>
          <a:xfrm>
            <a:off x="365688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8"/>
          <p:cNvSpPr/>
          <p:nvPr/>
        </p:nvSpPr>
        <p:spPr>
          <a:xfrm>
            <a:off x="973080" y="1628640"/>
            <a:ext cx="7559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3640" indent="-593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如下图，一根圆柱形钢管，长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，外直径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，管壁厚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3640" indent="-593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3640" indent="-593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3640" indent="-593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3640" indent="-593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每立方厘米钢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克，这根钢管约重多少千克？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精确到十分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1" name="组合 1"/>
          <p:cNvGrpSpPr/>
          <p:nvPr/>
        </p:nvGrpSpPr>
        <p:grpSpPr>
          <a:xfrm>
            <a:off x="595440" y="907920"/>
            <a:ext cx="2809800" cy="668520"/>
            <a:chOff x="595440" y="907920"/>
            <a:chExt cx="2809800" cy="668520"/>
          </a:xfrm>
        </p:grpSpPr>
        <p:sp>
          <p:nvSpPr>
            <p:cNvPr id="702" name="圆角矩形 11"/>
            <p:cNvSpPr/>
            <p:nvPr/>
          </p:nvSpPr>
          <p:spPr>
            <a:xfrm>
              <a:off x="1479600" y="102060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d4ad8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文本框 13"/>
            <p:cNvSpPr/>
            <p:nvPr/>
          </p:nvSpPr>
          <p:spPr>
            <a:xfrm>
              <a:off x="1479600" y="100800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拓展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0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907920"/>
              <a:ext cx="108720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矩形 15"/>
          <p:cNvSpPr/>
          <p:nvPr/>
        </p:nvSpPr>
        <p:spPr>
          <a:xfrm>
            <a:off x="1809720" y="4365720"/>
            <a:ext cx="600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×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厘米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10÷2)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×3.14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6÷2)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×3.14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0.24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平方厘米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0.24×50×7.8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9593.6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≈19.6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千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这根钢管约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9.6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千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6" name="Picture 14" descr=""/>
          <p:cNvPicPr/>
          <p:nvPr/>
        </p:nvPicPr>
        <p:blipFill>
          <a:blip r:embed="rId2"/>
          <a:stretch/>
        </p:blipFill>
        <p:spPr>
          <a:xfrm>
            <a:off x="2281320" y="2637000"/>
            <a:ext cx="49528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8"/>
          <p:cNvSpPr/>
          <p:nvPr/>
        </p:nvSpPr>
        <p:spPr>
          <a:xfrm>
            <a:off x="755640" y="981000"/>
            <a:ext cx="741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54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如下图，一根圆柱形钢管，长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，外直径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，管壁厚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2880" indent="-54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2880" indent="-54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2880" indent="-54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2880" indent="-54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这样的钢管中，水以每秒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米的速度流动，每分钟的流水量是多少升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矩形 12"/>
          <p:cNvSpPr/>
          <p:nvPr/>
        </p:nvSpPr>
        <p:spPr>
          <a:xfrm>
            <a:off x="2023920" y="3933720"/>
            <a:ext cx="47516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米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厘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6÷2)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×3.14×100×6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69560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立方厘米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69.56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每分钟的流水量是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69.56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升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14" descr=""/>
          <p:cNvPicPr/>
          <p:nvPr/>
        </p:nvPicPr>
        <p:blipFill>
          <a:blip r:embed="rId1"/>
          <a:stretch/>
        </p:blipFill>
        <p:spPr>
          <a:xfrm>
            <a:off x="1763640" y="2060640"/>
            <a:ext cx="495324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1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713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715" name="矩形 3"/>
          <p:cNvSpPr/>
          <p:nvPr/>
        </p:nvSpPr>
        <p:spPr>
          <a:xfrm>
            <a:off x="7029360" y="65530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Arial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6" name="矩形 12" descr=""/>
          <p:cNvPicPr/>
          <p:nvPr/>
        </p:nvPicPr>
        <p:blipFill>
          <a:blip r:embed="rId4"/>
          <a:stretch/>
        </p:blipFill>
        <p:spPr>
          <a:xfrm>
            <a:off x="2031840" y="1328760"/>
            <a:ext cx="529128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2"/>
          <p:cNvSpPr/>
          <p:nvPr/>
        </p:nvSpPr>
        <p:spPr>
          <a:xfrm>
            <a:off x="1187280" y="1844640"/>
            <a:ext cx="7120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运用转换法解决不规则圆柱形容器的容积问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综合利用容积知识解决问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4" name="组 45"/>
          <p:cNvGrpSpPr/>
          <p:nvPr/>
        </p:nvGrpSpPr>
        <p:grpSpPr>
          <a:xfrm>
            <a:off x="603360" y="1168560"/>
            <a:ext cx="3119400" cy="795960"/>
            <a:chOff x="603360" y="1168560"/>
            <a:chExt cx="3119400" cy="795960"/>
          </a:xfrm>
        </p:grpSpPr>
        <p:sp>
          <p:nvSpPr>
            <p:cNvPr id="665" name="AutoShape 2"/>
            <p:cNvSpPr/>
            <p:nvPr/>
          </p:nvSpPr>
          <p:spPr>
            <a:xfrm>
              <a:off x="1241640" y="1529280"/>
              <a:ext cx="2188800" cy="40932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AutoShape 11"/>
            <p:cNvSpPr/>
            <p:nvPr/>
          </p:nvSpPr>
          <p:spPr>
            <a:xfrm>
              <a:off x="603360" y="116856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文本框 48"/>
            <p:cNvSpPr/>
            <p:nvPr/>
          </p:nvSpPr>
          <p:spPr>
            <a:xfrm>
              <a:off x="1290960" y="1504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8"/>
          <p:cNvSpPr/>
          <p:nvPr/>
        </p:nvSpPr>
        <p:spPr>
          <a:xfrm>
            <a:off x="851040" y="1617840"/>
            <a:ext cx="753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解决问题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一瓶装满的饮料，中午小明和小红喝了一部分，把瓶盖拧紧后倒置放平，无饮料部分高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 c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内直径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 c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小明和小红一共喝了多少毫升的饮料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9" name="组合 1"/>
          <p:cNvGrpSpPr/>
          <p:nvPr/>
        </p:nvGrpSpPr>
        <p:grpSpPr>
          <a:xfrm>
            <a:off x="595440" y="1004760"/>
            <a:ext cx="2809800" cy="668520"/>
            <a:chOff x="595440" y="1004760"/>
            <a:chExt cx="2809800" cy="668520"/>
          </a:xfrm>
        </p:grpSpPr>
        <p:sp>
          <p:nvSpPr>
            <p:cNvPr id="670" name="圆角矩形 13"/>
            <p:cNvSpPr/>
            <p:nvPr/>
          </p:nvSpPr>
          <p:spPr>
            <a:xfrm>
              <a:off x="1479600" y="11174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d4ad8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文本框 13"/>
            <p:cNvSpPr/>
            <p:nvPr/>
          </p:nvSpPr>
          <p:spPr>
            <a:xfrm>
              <a:off x="1479600" y="110484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提升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1004760"/>
              <a:ext cx="1087200" cy="66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3" name="Picture 10" descr=""/>
          <p:cNvPicPr/>
          <p:nvPr/>
        </p:nvPicPr>
        <p:blipFill>
          <a:blip r:embed="rId2"/>
          <a:stretch/>
        </p:blipFill>
        <p:spPr>
          <a:xfrm>
            <a:off x="6372360" y="3198960"/>
            <a:ext cx="1906560" cy="1670040"/>
          </a:xfrm>
          <a:prstGeom prst="rect">
            <a:avLst/>
          </a:prstGeom>
          <a:ln w="0">
            <a:noFill/>
          </a:ln>
        </p:spPr>
      </p:pic>
      <p:grpSp>
        <p:nvGrpSpPr>
          <p:cNvPr id="674" name="组合 3"/>
          <p:cNvGrpSpPr/>
          <p:nvPr/>
        </p:nvGrpSpPr>
        <p:grpSpPr>
          <a:xfrm>
            <a:off x="1258920" y="3500280"/>
            <a:ext cx="5797440" cy="1008360"/>
            <a:chOff x="1258920" y="3500280"/>
            <a:chExt cx="5797440" cy="1008360"/>
          </a:xfrm>
        </p:grpSpPr>
        <p:sp>
          <p:nvSpPr>
            <p:cNvPr id="675" name="TextBox 10"/>
            <p:cNvSpPr/>
            <p:nvPr/>
          </p:nvSpPr>
          <p:spPr>
            <a:xfrm>
              <a:off x="1258920" y="3500280"/>
              <a:ext cx="5797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     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×3.14×12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＝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602.88(cm</a:t>
              </a:r>
              <a:r>
                <a:rPr b="1" lang="en-US" sz="2000" spc="-1" strike="noStrike" baseline="30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＝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602.88 m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答：小明和小红一共喝了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602.88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毫升的饮料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6" name="对象 2" descr=""/>
            <p:cNvPicPr/>
            <p:nvPr/>
          </p:nvPicPr>
          <p:blipFill>
            <a:blip r:embed="rId3"/>
            <a:stretch/>
          </p:blipFill>
          <p:spPr>
            <a:xfrm>
              <a:off x="1330920" y="3500280"/>
              <a:ext cx="401400" cy="5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8"/>
          <p:cNvSpPr/>
          <p:nvPr/>
        </p:nvSpPr>
        <p:spPr>
          <a:xfrm>
            <a:off x="914400" y="907920"/>
            <a:ext cx="68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04920" indent="-304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解决问题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4920" indent="-304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下部是圆柱形的玻璃瓶，瓶高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0 c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现装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00 mL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水，玻璃瓶正立和倒立的情形如下图所示，这个瓶子能装水多少毫升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8" name="Picture 6" descr=""/>
          <p:cNvPicPr/>
          <p:nvPr/>
        </p:nvPicPr>
        <p:blipFill>
          <a:blip r:embed="rId1"/>
          <a:stretch/>
        </p:blipFill>
        <p:spPr>
          <a:xfrm>
            <a:off x="5591160" y="2438280"/>
            <a:ext cx="1933560" cy="1737000"/>
          </a:xfrm>
          <a:prstGeom prst="rect">
            <a:avLst/>
          </a:prstGeom>
          <a:ln w="0">
            <a:noFill/>
          </a:ln>
        </p:spPr>
      </p:pic>
      <p:grpSp>
        <p:nvGrpSpPr>
          <p:cNvPr id="679" name="组合 3"/>
          <p:cNvGrpSpPr/>
          <p:nvPr/>
        </p:nvGrpSpPr>
        <p:grpSpPr>
          <a:xfrm>
            <a:off x="1469880" y="3027240"/>
            <a:ext cx="3916440" cy="1008360"/>
            <a:chOff x="1469880" y="3027240"/>
            <a:chExt cx="3916440" cy="1008360"/>
          </a:xfrm>
        </p:grpSpPr>
        <p:sp>
          <p:nvSpPr>
            <p:cNvPr id="680" name="TextBox 7"/>
            <p:cNvSpPr/>
            <p:nvPr/>
          </p:nvSpPr>
          <p:spPr>
            <a:xfrm>
              <a:off x="1469880" y="3027240"/>
              <a:ext cx="3916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84280" indent="-5842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00×                       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＝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75(mL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584280" indent="-5842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答：这个瓶子能装水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75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毫升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81" name="对象 8" descr=""/>
            <p:cNvPicPr/>
            <p:nvPr/>
          </p:nvPicPr>
          <p:blipFill>
            <a:blip r:embed="rId2"/>
            <a:stretch/>
          </p:blipFill>
          <p:spPr>
            <a:xfrm>
              <a:off x="2253600" y="3033360"/>
              <a:ext cx="1405080" cy="57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8"/>
          <p:cNvSpPr/>
          <p:nvPr/>
        </p:nvSpPr>
        <p:spPr>
          <a:xfrm>
            <a:off x="1098720" y="1197000"/>
            <a:ext cx="700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04920" indent="-304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解决问题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4920" indent="-304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瓶子的内直径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 c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装入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 c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高的水后，盖好瓶子倒过来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如下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量得无水部分的高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5 c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这个瓶子的容积是多少毫升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3" name="Picture 5" descr=""/>
          <p:cNvPicPr/>
          <p:nvPr/>
        </p:nvPicPr>
        <p:blipFill>
          <a:blip r:embed="rId1"/>
          <a:stretch/>
        </p:blipFill>
        <p:spPr>
          <a:xfrm>
            <a:off x="5796000" y="2649600"/>
            <a:ext cx="2168640" cy="1571400"/>
          </a:xfrm>
          <a:prstGeom prst="rect">
            <a:avLst/>
          </a:prstGeom>
          <a:ln w="0">
            <a:noFill/>
          </a:ln>
        </p:spPr>
      </p:pic>
      <p:grpSp>
        <p:nvGrpSpPr>
          <p:cNvPr id="684" name="组合 3"/>
          <p:cNvGrpSpPr/>
          <p:nvPr/>
        </p:nvGrpSpPr>
        <p:grpSpPr>
          <a:xfrm>
            <a:off x="1403280" y="4170240"/>
            <a:ext cx="5680080" cy="1059120"/>
            <a:chOff x="1403280" y="4170240"/>
            <a:chExt cx="5680080" cy="1059120"/>
          </a:xfrm>
        </p:grpSpPr>
        <p:sp>
          <p:nvSpPr>
            <p:cNvPr id="685" name="TextBox 7"/>
            <p:cNvSpPr/>
            <p:nvPr/>
          </p:nvSpPr>
          <p:spPr>
            <a:xfrm>
              <a:off x="1403280" y="4221000"/>
              <a:ext cx="5680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84280" indent="-5842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      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×3.14×(10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＋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.5)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＝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628(cm</a:t>
              </a:r>
              <a:r>
                <a:rPr b="1" lang="en-US" sz="2000" spc="-1" strike="noStrike" baseline="30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＝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628 m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584280" indent="-5842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答：这个瓶子的容积是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628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毫升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86" name="对象 8" descr=""/>
            <p:cNvPicPr/>
            <p:nvPr/>
          </p:nvPicPr>
          <p:blipFill>
            <a:blip r:embed="rId2"/>
            <a:stretch/>
          </p:blipFill>
          <p:spPr>
            <a:xfrm>
              <a:off x="1547280" y="4170240"/>
              <a:ext cx="401400" cy="57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8"/>
          <p:cNvSpPr/>
          <p:nvPr/>
        </p:nvSpPr>
        <p:spPr>
          <a:xfrm>
            <a:off x="971640" y="1136520"/>
            <a:ext cx="740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7000" indent="-297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一种饮料瓶的瓶身是圆柱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不包括瓶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容积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0 mL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现在瓶中装有一些饮料，正放时饮料高度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 c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倒放时，空余部分的高度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c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瓶中现有多少毫升饮料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8" name="Picture 6" descr=""/>
          <p:cNvPicPr/>
          <p:nvPr/>
        </p:nvPicPr>
        <p:blipFill>
          <a:blip r:embed="rId1"/>
          <a:stretch/>
        </p:blipFill>
        <p:spPr>
          <a:xfrm>
            <a:off x="6005520" y="2556000"/>
            <a:ext cx="2093760" cy="1595160"/>
          </a:xfrm>
          <a:prstGeom prst="rect">
            <a:avLst/>
          </a:prstGeom>
          <a:ln w="0">
            <a:noFill/>
          </a:ln>
        </p:spPr>
      </p:pic>
      <p:grpSp>
        <p:nvGrpSpPr>
          <p:cNvPr id="689" name="组合 2"/>
          <p:cNvGrpSpPr/>
          <p:nvPr/>
        </p:nvGrpSpPr>
        <p:grpSpPr>
          <a:xfrm>
            <a:off x="2095560" y="2708280"/>
            <a:ext cx="3340080" cy="1032120"/>
            <a:chOff x="2095560" y="2708280"/>
            <a:chExt cx="3340080" cy="1032120"/>
          </a:xfrm>
        </p:grpSpPr>
        <p:sp>
          <p:nvSpPr>
            <p:cNvPr id="690" name="TextBox 13"/>
            <p:cNvSpPr/>
            <p:nvPr/>
          </p:nvSpPr>
          <p:spPr>
            <a:xfrm>
              <a:off x="2095560" y="2732040"/>
              <a:ext cx="3340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38280" indent="-6382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0×            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＝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4(mL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638280" indent="-6382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答：瓶中现有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4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毫升饮料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91" name="对象 6" descr=""/>
            <p:cNvPicPr/>
            <p:nvPr/>
          </p:nvPicPr>
          <p:blipFill>
            <a:blip r:embed="rId2"/>
            <a:stretch/>
          </p:blipFill>
          <p:spPr>
            <a:xfrm>
              <a:off x="2700000" y="2708280"/>
              <a:ext cx="709560" cy="57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8"/>
          <p:cNvSpPr/>
          <p:nvPr/>
        </p:nvSpPr>
        <p:spPr>
          <a:xfrm>
            <a:off x="826920" y="1197000"/>
            <a:ext cx="75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一个圆柱形贮油桶，从里面量得底面半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现贮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710 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正好占油桶容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求油桶的高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TextBox 7"/>
          <p:cNvSpPr/>
          <p:nvPr/>
        </p:nvSpPr>
        <p:spPr>
          <a:xfrm>
            <a:off x="2195640" y="2492280"/>
            <a:ext cx="4533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4280" indent="-584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710 L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.71 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4280" indent="-584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.71÷25%÷(3.14×2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.5(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84280" indent="-584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油桶的高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.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8"/>
          <p:cNvSpPr/>
          <p:nvPr/>
        </p:nvSpPr>
        <p:spPr>
          <a:xfrm>
            <a:off x="971640" y="1136520"/>
            <a:ext cx="7400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．有两个底面半径相等的圆柱，高的比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:5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。第二个圆柱的体积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75 c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，第二个圆柱的体积比第一个圆柱的多多少立方厘米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5" name="组合 2"/>
          <p:cNvGrpSpPr/>
          <p:nvPr/>
        </p:nvGrpSpPr>
        <p:grpSpPr>
          <a:xfrm>
            <a:off x="1452600" y="2781360"/>
            <a:ext cx="6864480" cy="1116360"/>
            <a:chOff x="1452600" y="2781360"/>
            <a:chExt cx="6864480" cy="1116360"/>
          </a:xfrm>
        </p:grpSpPr>
        <p:sp>
          <p:nvSpPr>
            <p:cNvPr id="696" name="TextBox 13"/>
            <p:cNvSpPr/>
            <p:nvPr/>
          </p:nvSpPr>
          <p:spPr>
            <a:xfrm>
              <a:off x="1452600" y="2798640"/>
              <a:ext cx="6864480" cy="10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38280" indent="-6382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</a:rPr>
                <a:t>175×        </a:t>
              </a: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＝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</a:rPr>
                <a:t>105(cm</a:t>
              </a:r>
              <a:r>
                <a:rPr b="1" lang="en-US" sz="2200" spc="-1" strike="noStrike" baseline="30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marL="638280" indent="-6382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答：第二个圆柱的体积比第一个圆柱的多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</a:rPr>
                <a:t>105</a:t>
              </a: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立方厘米。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97" name="对象 5" descr=""/>
            <p:cNvPicPr/>
            <p:nvPr/>
          </p:nvPicPr>
          <p:blipFill>
            <a:blip r:embed="rId1"/>
            <a:stretch/>
          </p:blipFill>
          <p:spPr>
            <a:xfrm>
              <a:off x="2268000" y="2781360"/>
              <a:ext cx="539640" cy="575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8"/>
          <p:cNvSpPr/>
          <p:nvPr/>
        </p:nvSpPr>
        <p:spPr>
          <a:xfrm>
            <a:off x="826920" y="1374840"/>
            <a:ext cx="740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7400" indent="-617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甲、乙两个圆柱形容器，底面积的比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: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甲容器中水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乙容器中水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现在往两个容器中注入同样多的水，直到水的深度一样为止，这时两个容器中的水深是多少厘米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TextBox 13"/>
          <p:cNvSpPr/>
          <p:nvPr/>
        </p:nvSpPr>
        <p:spPr>
          <a:xfrm>
            <a:off x="2195640" y="3645000"/>
            <a:ext cx="531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8280" indent="-638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)÷(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)×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9(c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8280" indent="-638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两个容器中的水深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厘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8T01:54:42Z</dcterms:created>
  <dc:creator>Administrator</dc:creator>
  <dc:description/>
  <dc:language>en-US</dc:language>
  <cp:lastModifiedBy>相忘于江湖</cp:lastModifiedBy>
  <dcterms:modified xsi:type="dcterms:W3CDTF">2018-01-06T14:50:07Z</dcterms:modified>
  <cp:revision>17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