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E0F-7456-4F36-83CA-BD3FA690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32E-4718-478B-B25F-D99E81CB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3AD-CAD5-4189-B1A8-7A0A108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80D-9B98-468F-BF30-75DC218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857-EFE6-4239-871B-23424088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8F5-18D1-481E-8189-E8D56DF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5BE-170E-4C01-99CF-739A54CC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636-E2D4-40E6-AF7D-7969645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7D8-8555-448F-9AF1-12E30244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F95-A39A-4131-B40C-370E1D07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DAC-E301-48BC-8BC3-7FE579C1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7E6-A99E-4666-8CA4-491ABD0F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83B7-4D2B-40CF-B89C-FE2447CC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150B-ABD2-4969-B9ED-87819101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71DE-3405-4248-A24E-A6A2DC6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80ED-C31C-4328-8D2D-5DF1ED50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A12B-A033-4398-8605-C6331855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FDB-6E0C-4AA4-BB12-BA6C8F6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1F0D-5956-4EA1-9A76-758D1D6C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A3FC-EF64-49B1-9E35-B2EC2B99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A7B6-0B13-495E-AAFE-322FDC05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A699-0327-48ED-89EA-7FC63E2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BE20-F871-4900-A0F4-0F576A3F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1E62-78B4-4C88-8AEB-86BDB636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DB22-A136-4F94-A51C-B41B465DD02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DB86-254C-4583-8ABF-56475F8C73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495360" y="143352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圆锥的认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6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6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7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5607000" y="503280"/>
            <a:ext cx="3079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圆柱和圆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826920" y="1052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锥的底面是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圆锥的侧面是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面。从圆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距离是圆锥的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锥的侧面展开图是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一个圆锥沿底面直径纵向切开平均分成两份，切面是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3916080" y="174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7382520" y="174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2803320" y="231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4352400" y="229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底面圆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4962240" y="283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扇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2839680" y="393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557280" y="1125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先填出圆锥各部分的名称，再量出圆锥的底面半径和高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3714840" y="4365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1679400" y="2133720"/>
            <a:ext cx="5257800" cy="216216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900000" y="1457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四种测量圆锥高的方法，你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5"/>
          <p:cNvSpPr/>
          <p:nvPr/>
        </p:nvSpPr>
        <p:spPr>
          <a:xfrm>
            <a:off x="6576840" y="1481040"/>
            <a:ext cx="4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1258920" y="2127240"/>
            <a:ext cx="6324480" cy="1809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1535040" y="3967200"/>
            <a:ext cx="57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B                C                       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6"/>
          <p:cNvSpPr/>
          <p:nvPr/>
        </p:nvSpPr>
        <p:spPr>
          <a:xfrm>
            <a:off x="995400" y="282564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圆锥顶点到底面圆心的距离是圆锥的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7"/>
          <p:cNvGrpSpPr/>
          <p:nvPr/>
        </p:nvGrpSpPr>
        <p:grpSpPr>
          <a:xfrm>
            <a:off x="957240" y="1062720"/>
            <a:ext cx="6743880" cy="733680"/>
            <a:chOff x="957240" y="1062720"/>
            <a:chExt cx="6743880" cy="733680"/>
          </a:xfrm>
        </p:grpSpPr>
        <p:pic>
          <p:nvPicPr>
            <p:cNvPr id="27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19760"/>
              <a:ext cx="4510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文本框 23"/>
            <p:cNvSpPr/>
            <p:nvPr/>
          </p:nvSpPr>
          <p:spPr>
            <a:xfrm>
              <a:off x="1408320" y="1062720"/>
              <a:ext cx="6292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42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" name="TextBox 36"/>
          <p:cNvSpPr/>
          <p:nvPr/>
        </p:nvSpPr>
        <p:spPr>
          <a:xfrm>
            <a:off x="790560" y="184932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下图中哪些是圆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1138320" y="2629080"/>
            <a:ext cx="6865920" cy="1285560"/>
          </a:xfrm>
          <a:prstGeom prst="rect">
            <a:avLst/>
          </a:prstGeom>
          <a:ln w="0">
            <a:noFill/>
          </a:ln>
        </p:spPr>
      </p:pic>
      <p:sp>
        <p:nvSpPr>
          <p:cNvPr id="281" name="矩形 6"/>
          <p:cNvSpPr/>
          <p:nvPr/>
        </p:nvSpPr>
        <p:spPr>
          <a:xfrm>
            <a:off x="3223800" y="4762440"/>
            <a:ext cx="2661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图形和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图形是圆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981000" y="1916280"/>
            <a:ext cx="73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“圆锥和圆柱一样也有无数条高”这句话对吗？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22"/>
          <p:cNvSpPr/>
          <p:nvPr/>
        </p:nvSpPr>
        <p:spPr>
          <a:xfrm>
            <a:off x="1987560" y="4724280"/>
            <a:ext cx="54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42840" indent="-94284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没有正确理解圆锥的高的意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9"/>
          <p:cNvSpPr/>
          <p:nvPr/>
        </p:nvSpPr>
        <p:spPr>
          <a:xfrm>
            <a:off x="1542960" y="3236760"/>
            <a:ext cx="63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1520" indent="-641520">
              <a:lnSpc>
                <a:spcPct val="150000"/>
              </a:lnSpc>
              <a:tabLst>
                <a:tab algn="l" pos="0"/>
                <a:tab algn="l" pos="333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不对，因为从圆锥顶点到底面圆心的距离是圆锥的高，圆锥只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条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992160" y="1512720"/>
            <a:ext cx="7226280" cy="3240360"/>
            <a:chOff x="992160" y="1512720"/>
            <a:chExt cx="7226280" cy="3240360"/>
          </a:xfrm>
        </p:grpSpPr>
        <p:sp>
          <p:nvSpPr>
            <p:cNvPr id="289" name="标题 1"/>
            <p:cNvSpPr/>
            <p:nvPr/>
          </p:nvSpPr>
          <p:spPr>
            <a:xfrm>
              <a:off x="1314360" y="1512720"/>
              <a:ext cx="690408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作  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 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0" name="图片 12" descr=""/>
            <p:cNvPicPr/>
            <p:nvPr/>
          </p:nvPicPr>
          <p:blipFill>
            <a:blip r:embed="rId1"/>
            <a:stretch/>
          </p:blipFill>
          <p:spPr>
            <a:xfrm>
              <a:off x="992160" y="187308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矩形 12"/>
            <p:cNvSpPr/>
            <p:nvPr/>
          </p:nvSpPr>
          <p:spPr>
            <a:xfrm>
              <a:off x="1137960" y="2435040"/>
              <a:ext cx="708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请完成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典中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“应用提升练”和“思维拓展练”习题，具体内容见习题课件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2" name="图片 13" descr="课后作业.png"/>
          <p:cNvPicPr/>
          <p:nvPr/>
        </p:nvPicPr>
        <p:blipFill>
          <a:blip r:embed="rId2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9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9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73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77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81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85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93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锥的认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98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202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5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6B81"/>
          <p:cNvPicPr/>
          <p:nvPr/>
        </p:nvPicPr>
        <p:blipFill>
          <a:blip r:embed="rId2"/>
          <a:stretch/>
        </p:blipFill>
        <p:spPr>
          <a:xfrm>
            <a:off x="3591000" y="1676520"/>
            <a:ext cx="2125440" cy="1817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6B79"/>
          <p:cNvPicPr/>
          <p:nvPr/>
        </p:nvPicPr>
        <p:blipFill>
          <a:blip r:embed="rId3"/>
          <a:stretch/>
        </p:blipFill>
        <p:spPr>
          <a:xfrm>
            <a:off x="603360" y="1217520"/>
            <a:ext cx="2111400" cy="2665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6B82"/>
          <p:cNvPicPr/>
          <p:nvPr/>
        </p:nvPicPr>
        <p:blipFill>
          <a:blip r:embed="rId4"/>
          <a:stretch/>
        </p:blipFill>
        <p:spPr>
          <a:xfrm>
            <a:off x="6448320" y="1427040"/>
            <a:ext cx="1646280" cy="24559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1658880" y="47721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面这些物体的形状有什么共同的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"/>
          <p:cNvGrpSpPr/>
          <p:nvPr/>
        </p:nvGrpSpPr>
        <p:grpSpPr>
          <a:xfrm>
            <a:off x="981000" y="1852560"/>
            <a:ext cx="7577280" cy="603360"/>
            <a:chOff x="981000" y="1852560"/>
            <a:chExt cx="7577280" cy="603360"/>
          </a:xfrm>
        </p:grpSpPr>
        <p:sp>
          <p:nvSpPr>
            <p:cNvPr id="212" name="矩形 1"/>
            <p:cNvSpPr/>
            <p:nvPr/>
          </p:nvSpPr>
          <p:spPr>
            <a:xfrm>
              <a:off x="1597680" y="1923480"/>
              <a:ext cx="69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认识圆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3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214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16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17" name="组合 2"/>
          <p:cNvGrpSpPr/>
          <p:nvPr/>
        </p:nvGrpSpPr>
        <p:grpSpPr>
          <a:xfrm>
            <a:off x="503280" y="1143000"/>
            <a:ext cx="4343400" cy="666720"/>
            <a:chOff x="503280" y="1143000"/>
            <a:chExt cx="4343400" cy="666720"/>
          </a:xfrm>
        </p:grpSpPr>
        <p:sp>
          <p:nvSpPr>
            <p:cNvPr id="218" name="文本框 13"/>
            <p:cNvSpPr/>
            <p:nvPr/>
          </p:nvSpPr>
          <p:spPr>
            <a:xfrm>
              <a:off x="1671480" y="1190520"/>
              <a:ext cx="317520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圆锥的认识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9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Picture 17" descr="C:\Users\Administrator\Desktop\1.png"/>
          <p:cNvPicPr/>
          <p:nvPr/>
        </p:nvPicPr>
        <p:blipFill>
          <a:blip r:embed="rId4"/>
          <a:stretch/>
        </p:blipFill>
        <p:spPr>
          <a:xfrm>
            <a:off x="3379680" y="2022480"/>
            <a:ext cx="498492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" descr="C:\Users\Administrator\Desktop\2.png"/>
          <p:cNvPicPr/>
          <p:nvPr/>
        </p:nvPicPr>
        <p:blipFill>
          <a:blip r:embed="rId5"/>
          <a:stretch/>
        </p:blipFill>
        <p:spPr>
          <a:xfrm>
            <a:off x="2209680" y="2833560"/>
            <a:ext cx="4449960" cy="245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9" descr="C:\Users\Administrator\Desktop\3.png"/>
          <p:cNvPicPr/>
          <p:nvPr/>
        </p:nvPicPr>
        <p:blipFill>
          <a:blip r:embed="rId6"/>
          <a:stretch/>
        </p:blipFill>
        <p:spPr>
          <a:xfrm>
            <a:off x="1676520" y="5386320"/>
            <a:ext cx="49831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697040" y="1254240"/>
            <a:ext cx="57499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2147760" y="162252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圆锥有哪些特点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662040" y="1274760"/>
            <a:ext cx="1484280" cy="853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Users\Administrator\Desktop\1.png"/>
          <p:cNvPicPr/>
          <p:nvPr/>
        </p:nvPicPr>
        <p:blipFill>
          <a:blip r:embed="rId3"/>
          <a:stretch/>
        </p:blipFill>
        <p:spPr>
          <a:xfrm>
            <a:off x="1154160" y="2444760"/>
            <a:ext cx="4197240" cy="1262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:\Users\Administrator\Desktop\2.png"/>
          <p:cNvPicPr/>
          <p:nvPr/>
        </p:nvPicPr>
        <p:blipFill>
          <a:blip r:embed="rId4"/>
          <a:srcRect l="0" t="0" r="7472" b="0"/>
          <a:stretch/>
        </p:blipFill>
        <p:spPr>
          <a:xfrm>
            <a:off x="4083120" y="3290760"/>
            <a:ext cx="41860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Users\Administrator\Desktop\3.png"/>
          <p:cNvPicPr/>
          <p:nvPr/>
        </p:nvPicPr>
        <p:blipFill>
          <a:blip r:embed="rId2"/>
          <a:stretch/>
        </p:blipFill>
        <p:spPr>
          <a:xfrm>
            <a:off x="6308640" y="3773520"/>
            <a:ext cx="1960560" cy="22795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"/>
          <p:cNvSpPr/>
          <p:nvPr/>
        </p:nvSpPr>
        <p:spPr>
          <a:xfrm>
            <a:off x="696960" y="2241720"/>
            <a:ext cx="517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锥的底面是一个圆，圆锥的侧面是一个曲面。从圆锥顶点到底面圆心的距离是圆锥的高，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2147760" y="162252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圆锥有哪些特点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662040" y="1274760"/>
            <a:ext cx="148428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2174760" y="4581360"/>
            <a:ext cx="58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7440" indent="-487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)               (         )                 (   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258920" y="1557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7440" indent="-487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小法官，巧判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图形中是圆锥的画“√”，不是圆锥的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2"/>
          <p:cNvGrpSpPr/>
          <p:nvPr/>
        </p:nvGrpSpPr>
        <p:grpSpPr>
          <a:xfrm>
            <a:off x="900000" y="838800"/>
            <a:ext cx="4773600" cy="733680"/>
            <a:chOff x="900000" y="838800"/>
            <a:chExt cx="4773600" cy="733680"/>
          </a:xfrm>
        </p:grpSpPr>
        <p:pic>
          <p:nvPicPr>
            <p:cNvPr id="23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00000" y="109620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文本框 23"/>
            <p:cNvSpPr/>
            <p:nvPr/>
          </p:nvSpPr>
          <p:spPr>
            <a:xfrm>
              <a:off x="1150920" y="83880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TextBox 20"/>
          <p:cNvSpPr/>
          <p:nvPr/>
        </p:nvSpPr>
        <p:spPr>
          <a:xfrm>
            <a:off x="2491920" y="4757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2448000" y="3267000"/>
            <a:ext cx="647640" cy="1076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"/>
          <p:cNvPicPr/>
          <p:nvPr/>
        </p:nvPicPr>
        <p:blipFill>
          <a:blip r:embed="rId3"/>
          <a:stretch/>
        </p:blipFill>
        <p:spPr>
          <a:xfrm>
            <a:off x="4176720" y="3362400"/>
            <a:ext cx="923760" cy="866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4"/>
          <a:stretch/>
        </p:blipFill>
        <p:spPr>
          <a:xfrm>
            <a:off x="6264360" y="3324240"/>
            <a:ext cx="1000080" cy="961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1619280" y="26877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7440" indent="-487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        (2)                     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4499280" y="47577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3"/>
          <p:cNvSpPr/>
          <p:nvPr/>
        </p:nvSpPr>
        <p:spPr>
          <a:xfrm>
            <a:off x="6669360" y="4773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图片 29" descr="探索新知.png"/>
          <p:cNvPicPr/>
          <p:nvPr/>
        </p:nvPicPr>
        <p:blipFill>
          <a:blip r:embed="rId5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900000" y="1125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4840" indent="-4748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新能力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一转，想一想会产生哪种立体图形，用线连一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511880" cy="3700440"/>
          </a:xfrm>
          <a:prstGeom prst="rect">
            <a:avLst/>
          </a:prstGeom>
          <a:ln w="0">
            <a:noFill/>
          </a:ln>
        </p:spPr>
      </p:pic>
      <p:sp>
        <p:nvSpPr>
          <p:cNvPr id="250" name="直接连接符 3"/>
          <p:cNvSpPr/>
          <p:nvPr/>
        </p:nvSpPr>
        <p:spPr>
          <a:xfrm>
            <a:off x="2436840" y="3789360"/>
            <a:ext cx="1150920" cy="7920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接连接符 9"/>
          <p:cNvSpPr/>
          <p:nvPr/>
        </p:nvSpPr>
        <p:spPr>
          <a:xfrm flipH="1">
            <a:off x="2484360" y="3789360"/>
            <a:ext cx="960480" cy="9349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10"/>
          <p:cNvSpPr/>
          <p:nvPr/>
        </p:nvSpPr>
        <p:spPr>
          <a:xfrm>
            <a:off x="4541760" y="3789360"/>
            <a:ext cx="1422360" cy="7920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接连接符 12"/>
          <p:cNvSpPr/>
          <p:nvPr/>
        </p:nvSpPr>
        <p:spPr>
          <a:xfrm flipH="1">
            <a:off x="4955760" y="3786120"/>
            <a:ext cx="863640" cy="7952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06T14:51:19Z</dcterms:modified>
  <cp:revision>5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