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8B94-0492-4A40-8440-2B8F14B5AB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B961-F6F5-40A2-8ADD-9F595452CE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BBC-3E71-43F9-93C1-6F04BE2876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8741-EEB4-4017-B3FC-9FF1056B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0F9-CAF9-4049-B8AE-CB0F3A48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EDF-39B6-457C-974E-69830F90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8FE-24C4-4380-8D37-980550D2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464-E22B-493E-BCF7-01833F9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3AE-4C04-494D-BCB9-B945FEF0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611-E339-49EB-AEA1-A9F8F7CF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DE4-9643-4A18-BFCB-410B228A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18A-76CB-4B02-93BC-90380411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1EB-EDBC-489D-B551-66F8765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C77-CF02-4A7E-A196-ACCEB02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3A2-18D5-4044-A40D-C756BD0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852D-3C16-430D-918A-BCC3B505AD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201312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69208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08480" y="2071800"/>
            <a:ext cx="412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正 比 例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反比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3170160" y="334332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3291840" y="3343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3"/>
          <p:cNvSpPr/>
          <p:nvPr/>
        </p:nvSpPr>
        <p:spPr>
          <a:xfrm>
            <a:off x="285840" y="571680"/>
            <a:ext cx="846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亮、红红、聪聪和丫丫各看一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安徒生童话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85840" y="5630760"/>
            <a:ext cx="83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上表中你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42960" y="1857240"/>
          <a:ext cx="7929720" cy="3706920"/>
        </p:xfrm>
        <a:graphic>
          <a:graphicData uri="http://schemas.openxmlformats.org/drawingml/2006/table">
            <a:tbl>
              <a:tblPr/>
              <a:tblGrid>
                <a:gridCol w="1785960"/>
                <a:gridCol w="1386000"/>
                <a:gridCol w="1585800"/>
                <a:gridCol w="1585800"/>
                <a:gridCol w="1586160"/>
              </a:tblGrid>
              <a:tr h="159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天看的页数（页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需要的天数（天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4" descr="C:\Users\jzzou\Desktop\河北底图\正文(22)1.png"/>
          <p:cNvPicPr/>
          <p:nvPr/>
        </p:nvPicPr>
        <p:blipFill>
          <a:blip r:embed="rId1"/>
          <a:stretch/>
        </p:blipFill>
        <p:spPr>
          <a:xfrm>
            <a:off x="2513160" y="1285920"/>
            <a:ext cx="5643360" cy="251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jzzou\Desktop\河北底图\正文(22)1.png"/>
          <p:cNvPicPr/>
          <p:nvPr/>
        </p:nvPicPr>
        <p:blipFill>
          <a:blip r:embed="rId2"/>
          <a:stretch/>
        </p:blipFill>
        <p:spPr>
          <a:xfrm>
            <a:off x="714240" y="1285920"/>
            <a:ext cx="17859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4"/>
          <p:cNvGrpSpPr/>
          <p:nvPr/>
        </p:nvGrpSpPr>
        <p:grpSpPr>
          <a:xfrm>
            <a:off x="-71280" y="500040"/>
            <a:ext cx="5286240" cy="2120760"/>
            <a:chOff x="-71280" y="500040"/>
            <a:chExt cx="5286240" cy="2120760"/>
          </a:xfrm>
        </p:grpSpPr>
        <p:pic>
          <p:nvPicPr>
            <p:cNvPr id="60" name="Picture 2" descr="C:\Users\jzzou\Desktop\河北底图\正文(22)2.png"/>
            <p:cNvPicPr/>
            <p:nvPr/>
          </p:nvPicPr>
          <p:blipFill>
            <a:blip r:embed="rId1"/>
            <a:stretch/>
          </p:blipFill>
          <p:spPr>
            <a:xfrm>
              <a:off x="-71280" y="500040"/>
              <a:ext cx="185364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圆角矩形标注 3"/>
            <p:cNvSpPr/>
            <p:nvPr/>
          </p:nvSpPr>
          <p:spPr>
            <a:xfrm>
              <a:off x="1438200" y="642600"/>
              <a:ext cx="3776760" cy="1714320"/>
            </a:xfrm>
            <a:prstGeom prst="wedgeRoundRectCallout">
              <a:avLst>
                <a:gd name="adj1" fmla="val -56750"/>
                <a:gd name="adj2" fmla="val 2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这本书的总页数是一定的，每天看的页数越多，需要的天数就越少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6"/>
          <p:cNvGrpSpPr/>
          <p:nvPr/>
        </p:nvGrpSpPr>
        <p:grpSpPr>
          <a:xfrm>
            <a:off x="5357880" y="571680"/>
            <a:ext cx="3929040" cy="1976400"/>
            <a:chOff x="5357880" y="571680"/>
            <a:chExt cx="3929040" cy="1976400"/>
          </a:xfrm>
        </p:grpSpPr>
        <p:pic>
          <p:nvPicPr>
            <p:cNvPr id="63" name="Picture 2" descr="C:\Users\jzzou\Desktop\河北底图\正文(22)2.png"/>
            <p:cNvPicPr/>
            <p:nvPr/>
          </p:nvPicPr>
          <p:blipFill>
            <a:blip r:embed="rId2"/>
            <a:stretch/>
          </p:blipFill>
          <p:spPr>
            <a:xfrm>
              <a:off x="7572600" y="642960"/>
              <a:ext cx="1714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圆角矩形标注 5"/>
            <p:cNvSpPr/>
            <p:nvPr/>
          </p:nvSpPr>
          <p:spPr>
            <a:xfrm>
              <a:off x="5357880" y="571680"/>
              <a:ext cx="2286000" cy="1857600"/>
            </a:xfrm>
            <a:prstGeom prst="wedgeRoundRectCallout">
              <a:avLst>
                <a:gd name="adj1" fmla="val 56703"/>
                <a:gd name="adj2" fmla="val -7097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每天看的页数越少，需要的天数就越多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7"/>
          <p:cNvGrpSpPr/>
          <p:nvPr/>
        </p:nvGrpSpPr>
        <p:grpSpPr>
          <a:xfrm>
            <a:off x="196920" y="2725560"/>
            <a:ext cx="8891640" cy="917640"/>
            <a:chOff x="196920" y="2725560"/>
            <a:chExt cx="8891640" cy="917640"/>
          </a:xfrm>
        </p:grpSpPr>
        <p:sp>
          <p:nvSpPr>
            <p:cNvPr id="66" name="矩形 8"/>
            <p:cNvSpPr/>
            <p:nvPr/>
          </p:nvSpPr>
          <p:spPr>
            <a:xfrm>
              <a:off x="196920" y="2725560"/>
              <a:ext cx="8891640" cy="91764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4"/>
            <p:cNvSpPr/>
            <p:nvPr/>
          </p:nvSpPr>
          <p:spPr>
            <a:xfrm>
              <a:off x="239760" y="2885760"/>
              <a:ext cx="863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每天看的页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需要的天数＝书的总页数（一定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5"/>
          <p:cNvSpPr/>
          <p:nvPr/>
        </p:nvSpPr>
        <p:spPr>
          <a:xfrm>
            <a:off x="307800" y="3929040"/>
            <a:ext cx="82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上面的问题中，看完一本书需要的天数和每天看书的页数是两种相关联的量。需要的天数随着每天看的页数的变化而变化，而且，每天看的页数和需要的天数的乘积一定（这本书的总页数一定）。我们说每天看的页数和需要的天数这两种量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642960" y="71604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一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的人民币分别换成同一种面值的零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57120" y="1969920"/>
          <a:ext cx="8501040" cy="2532240"/>
        </p:xfrm>
        <a:graphic>
          <a:graphicData uri="http://schemas.openxmlformats.org/drawingml/2006/table">
            <a:tbl>
              <a:tblPr/>
              <a:tblGrid>
                <a:gridCol w="1417680"/>
                <a:gridCol w="1416240"/>
                <a:gridCol w="1417320"/>
                <a:gridCol w="1416240"/>
                <a:gridCol w="1596960"/>
                <a:gridCol w="12366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面  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张数（张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Picture 2" descr="C:\Users\jzzou\Desktop\河北底图\正文(22)3.png"/>
          <p:cNvPicPr/>
          <p:nvPr/>
        </p:nvPicPr>
        <p:blipFill>
          <a:blip r:embed="rId1"/>
          <a:stretch/>
        </p:blipFill>
        <p:spPr>
          <a:xfrm>
            <a:off x="1962000" y="2073240"/>
            <a:ext cx="403884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jzzou\Desktop\河北底图\正文(22)3.png"/>
          <p:cNvPicPr/>
          <p:nvPr/>
        </p:nvPicPr>
        <p:blipFill>
          <a:blip r:embed="rId2"/>
          <a:stretch/>
        </p:blipFill>
        <p:spPr>
          <a:xfrm>
            <a:off x="6072120" y="2163600"/>
            <a:ext cx="3000600" cy="981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4857840" y="3287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429240" y="3287880"/>
            <a:ext cx="10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8001000" y="32878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71680" y="47163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上表，你发现了什么规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4"/>
          <p:cNvGrpSpPr/>
          <p:nvPr/>
        </p:nvGrpSpPr>
        <p:grpSpPr>
          <a:xfrm>
            <a:off x="44280" y="450720"/>
            <a:ext cx="4716720" cy="2071800"/>
            <a:chOff x="44280" y="450720"/>
            <a:chExt cx="4716720" cy="2071800"/>
          </a:xfrm>
        </p:grpSpPr>
        <p:sp>
          <p:nvSpPr>
            <p:cNvPr id="78" name="圆角矩形标注 1"/>
            <p:cNvSpPr/>
            <p:nvPr/>
          </p:nvSpPr>
          <p:spPr>
            <a:xfrm>
              <a:off x="1546200" y="450720"/>
              <a:ext cx="3214800" cy="1714680"/>
            </a:xfrm>
            <a:prstGeom prst="wedgeRoundRectCallout">
              <a:avLst>
                <a:gd name="adj1" fmla="val -56750"/>
                <a:gd name="adj2" fmla="val 2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把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换成零钱，零钱的面值越小，换的张数就越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" descr="C:\Users\jzzou\Desktop\河北底图\正文(23)1.png"/>
            <p:cNvPicPr/>
            <p:nvPr/>
          </p:nvPicPr>
          <p:blipFill>
            <a:blip r:embed="rId1"/>
            <a:stretch/>
          </p:blipFill>
          <p:spPr>
            <a:xfrm>
              <a:off x="44280" y="450720"/>
              <a:ext cx="1424160" cy="20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组合 6"/>
          <p:cNvGrpSpPr/>
          <p:nvPr/>
        </p:nvGrpSpPr>
        <p:grpSpPr>
          <a:xfrm>
            <a:off x="5278320" y="255600"/>
            <a:ext cx="3598920" cy="2460600"/>
            <a:chOff x="5278320" y="255600"/>
            <a:chExt cx="3598920" cy="2460600"/>
          </a:xfrm>
        </p:grpSpPr>
        <p:pic>
          <p:nvPicPr>
            <p:cNvPr id="81" name="Picture 2" descr="C:\Users\jzzou\Desktop\河北底图\正文(23)1.png"/>
            <p:cNvPicPr/>
            <p:nvPr/>
          </p:nvPicPr>
          <p:blipFill>
            <a:blip r:embed="rId2"/>
            <a:stretch/>
          </p:blipFill>
          <p:spPr>
            <a:xfrm>
              <a:off x="7493040" y="255600"/>
              <a:ext cx="1384200" cy="24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圆角矩形标注 5"/>
            <p:cNvSpPr/>
            <p:nvPr/>
          </p:nvSpPr>
          <p:spPr>
            <a:xfrm>
              <a:off x="5278320" y="469800"/>
              <a:ext cx="2357640" cy="1714680"/>
            </a:xfrm>
            <a:prstGeom prst="wedgeRoundRectCallout">
              <a:avLst>
                <a:gd name="adj1" fmla="val 57620"/>
                <a:gd name="adj2" fmla="val 18458"/>
                <a:gd name="adj3" fmla="val 1666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面值越大，换的张数就越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"/>
          <p:cNvGrpSpPr/>
          <p:nvPr/>
        </p:nvGrpSpPr>
        <p:grpSpPr>
          <a:xfrm>
            <a:off x="1736640" y="2238480"/>
            <a:ext cx="6572160" cy="714240"/>
            <a:chOff x="1736640" y="2238480"/>
            <a:chExt cx="6572160" cy="714240"/>
          </a:xfrm>
        </p:grpSpPr>
        <p:sp>
          <p:nvSpPr>
            <p:cNvPr id="84" name="矩形 8"/>
            <p:cNvSpPr/>
            <p:nvPr/>
          </p:nvSpPr>
          <p:spPr>
            <a:xfrm>
              <a:off x="1736640" y="2238480"/>
              <a:ext cx="6143760" cy="714240"/>
            </a:xfrm>
            <a:prstGeom prst="rect">
              <a:avLst/>
            </a:prstGeom>
            <a:solidFill>
              <a:srgbClr val="a5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9"/>
            <p:cNvSpPr/>
            <p:nvPr/>
          </p:nvSpPr>
          <p:spPr>
            <a:xfrm>
              <a:off x="1736640" y="2309760"/>
              <a:ext cx="657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面值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零钱的张数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0" y="301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零钱的面值与张数这两种量成反比例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4280" y="3483000"/>
            <a:ext cx="858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像上面这样，两种相关联的量，一种量变化，另一种量也随着变化，如果这两种量中相对应的两个数的积一定，这两种量就叫做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成反比例的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4"/>
          <p:cNvGrpSpPr/>
          <p:nvPr/>
        </p:nvGrpSpPr>
        <p:grpSpPr>
          <a:xfrm>
            <a:off x="2446200" y="4929120"/>
            <a:ext cx="6185160" cy="1643040"/>
            <a:chOff x="2446200" y="4929120"/>
            <a:chExt cx="6185160" cy="1643040"/>
          </a:xfrm>
        </p:grpSpPr>
        <p:pic>
          <p:nvPicPr>
            <p:cNvPr id="89" name="图片 12" descr="38.png"/>
            <p:cNvPicPr/>
            <p:nvPr/>
          </p:nvPicPr>
          <p:blipFill>
            <a:blip r:embed="rId3"/>
            <a:stretch/>
          </p:blipFill>
          <p:spPr>
            <a:xfrm>
              <a:off x="7339680" y="4929120"/>
              <a:ext cx="129168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圆角矩形标注 13"/>
            <p:cNvSpPr/>
            <p:nvPr/>
          </p:nvSpPr>
          <p:spPr>
            <a:xfrm>
              <a:off x="2446200" y="5510160"/>
              <a:ext cx="4643640" cy="714240"/>
            </a:xfrm>
            <a:prstGeom prst="wedgeRoundRectCallout">
              <a:avLst>
                <a:gd name="adj1" fmla="val 58046"/>
                <a:gd name="adj2" fmla="val -4652"/>
                <a:gd name="adj3" fmla="val 16667"/>
              </a:avLst>
            </a:prstGeom>
            <a:solidFill>
              <a:srgbClr val="f4ef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它们的关系叫做反比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428760" y="19130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乒乓球总个数一定，每盒装的个数和需要的盒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608040" y="29923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，因为个数越多需要的盒数越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00040" y="373680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的面积一定，长方形的长和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606600" y="4321080"/>
            <a:ext cx="83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，因为长方形的长越长，宽就越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4960" y="490536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长方形的周长一定，长方形的长和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606600" y="55530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关系，因为长方形的面积不固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00040" y="860400"/>
            <a:ext cx="80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下面各题中的两种量成什么比例，并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65040" y="248904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小时织布的米数一定，织布的总米数和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07960" y="3560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，因为织布的总米数越长需要的时间越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36680" y="47750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全班总人数一定，男生人数和女生人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07960" y="57625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关系，因为没有对应的乘积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71600" y="46656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轮船行驶的速度一定，行驶的路程和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38120" y="14130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正比例，因为行驶的路程越多需要的时间越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3"/>
          <p:cNvSpPr/>
          <p:nvPr/>
        </p:nvSpPr>
        <p:spPr>
          <a:xfrm>
            <a:off x="4535640" y="178740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举例说明什么是比，什么是比例，以及它们的应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3"/>
          <p:cNvSpPr/>
          <p:nvPr/>
        </p:nvSpPr>
        <p:spPr>
          <a:xfrm>
            <a:off x="2740320" y="2587680"/>
            <a:ext cx="359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表示两个数相除。例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除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也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比例是表示两个比相等的式子。例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=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4"/>
          <p:cNvSpPr/>
          <p:nvPr/>
        </p:nvSpPr>
        <p:spPr>
          <a:xfrm>
            <a:off x="428760" y="3613320"/>
            <a:ext cx="8715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级进行篮球比赛，红队与黄队分别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那么红队与黄队得分的比就为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比例可以这样表示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=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矩形 3" descr=""/>
          <p:cNvPicPr/>
          <p:nvPr/>
        </p:nvPicPr>
        <p:blipFill>
          <a:blip r:embed="rId1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3"/>
          <p:cNvSpPr/>
          <p:nvPr/>
        </p:nvSpPr>
        <p:spPr>
          <a:xfrm>
            <a:off x="4549320" y="122868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下面每题中的两个量是否成正比例或反比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266560" y="3005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不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71280" y="2071800"/>
            <a:ext cx="85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的电线，用去的长度与剩下的长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1280" y="365436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三角形的面积一定，它的底和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171360" y="4987800"/>
            <a:ext cx="830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一个数与它的倒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368080" y="432756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368080" y="556560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7:0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