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Button18.wav" ContentType="audio/x-wav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6086-7A0A-4861-9DAA-3F3ABD7B20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2DF-DD18-45FF-BC31-04C6B8D77B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DB1D-49EA-4808-93AD-6FFA83A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1887-FC2C-46FE-80B0-C525CF70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1D51-DBC9-4D98-A1BE-E30671A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901F-D852-4D77-861C-766E4DD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4F9A-1C31-4184-B85B-25B796A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E27B-D6E5-4E7B-8CCB-3D1C34B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7EF0-3AA6-45B0-9297-FA23B6C0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7B91-8795-4273-AC70-4F9A5B31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FBC8-9D5B-41DC-B8FF-2A8E50F6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599C7-F5E2-450D-9E62-EA0D529C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32AB8-E137-4B7A-9A64-C47A935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3310E-66AC-45F8-A27C-DEC781FD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00C1-2BB6-4D29-9E2C-0F8289F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43238-0DD0-4817-8B0B-ED364F9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0BC5-1C8F-4B2C-B671-4670A6B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B1DDD-6B9A-40D7-89BD-7EBD35E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24C44-9986-4362-8912-EC20748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B1F07-285D-43E0-859F-D4F3CE5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4E745-55DD-46BE-8082-DCF9BDC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F5B24-2B15-4DB0-916E-9A69DB79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EF2F6-D7DC-4F13-BD4C-14BCD89A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E4D1C-14CA-4CF3-9992-85575A1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FCE8-3A3A-4902-ABDF-391086A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6EA1B-83C2-41E5-BC08-DB421F42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7A4EE-DDAA-4936-87F9-583E07E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D812D-3494-448D-A0B4-2E8A64D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7E5F1-4ED5-4A6B-BF7A-2F0F2A8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0FB49-4E93-4A15-AD61-28E6D4B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7837-DA0C-4C78-B14C-62BF985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25196-0BAE-4FEF-BE9D-C160F80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920-E1B4-47E3-8899-B68DED79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97DEA-3EAF-4AE7-8BCE-568B95EA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63A85-A1F3-49B6-82C2-BD586EAC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F1ED9-38EC-41B2-B42F-8252DF64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2C-F111-4984-ADD2-A36B4CD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40B-D67A-484D-A6B0-67E71523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D46-BAEE-4FD3-9035-76897E2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765-FF4C-4E34-A8F8-0A3B253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64B-6EB7-4E72-BA4A-A0A5D835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57C-25AF-497A-AA1B-667221F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262-DE63-43CE-B1A3-0896CAF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ED7-3045-47D7-938A-09AF4EE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705-BC22-487B-87B3-29A3AEFB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EF4-2345-4338-BAD4-B3FC4B40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0C7-F03D-4751-9F8D-7A318803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F692-7C70-4112-ACF0-BE0E6DBA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908A-43D6-4BF1-A036-CB53F1AA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E9E-C50D-41A3-B7F4-6387FA9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329-143F-45D4-A559-19D5D0F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BF1C-FADC-4924-8EE2-7363AFC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B5F7-F09C-468F-BF0A-E19AA3F8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D3C-BA72-4D65-8848-9C7A1D2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DF6-C81B-4B80-BEC9-BB169E3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A60A-E9ED-4D5C-9113-36571EE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C53B-E548-46F8-AD94-E9C3826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BD5-3554-4090-9094-5D5D66A9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93C3-EAA7-4389-B32A-75E7BD32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6968-586C-4D9B-BF63-0583ECA3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2DA3-219F-474B-A602-5B9E18A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F501-14BD-49D8-8FEF-9B8BED3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ED26-DCCF-476D-855A-16E33A84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332E-0CB1-4D6E-B1E4-75B7B9EC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83D8-2FFD-4909-B709-6384C4DC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7FCA-B797-441D-A58F-0AAE0FF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0F28-87CE-436C-8A35-D61EAC4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8445-D2A7-4D2F-B44F-58AFD75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FD7D-B194-469F-8FDF-BAAFBF08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B8D8-91CA-4AD6-BB2F-72E96A90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7A67-0326-4409-875A-EA7776E1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4FDF-418D-4126-9935-938F8C67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5966-9D6C-47AE-9B74-6B0A8A6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EE27-AC93-4FC4-95A5-7D7B2C3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CB22-D875-4482-A93E-56AF0FB2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059B-E19A-4763-8212-E03E984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E6FF-16AE-4B04-A024-0DF1B2A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1EF8-C2A9-4773-A315-3DFB683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6EF5-6838-43A3-B0D3-FFBCAAF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9A45-D845-49F3-BE05-F44995DC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2D31-3756-4D88-907C-5EFD5558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3656F-0A28-43C9-9D93-A9D13A63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4E1F-9364-42E2-8412-E684549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ED20-0FAE-4648-B2E1-36394C46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44B2-07DF-4410-BEC1-8F15907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F878-D6D1-4ED4-A297-A00D676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8C11-E957-4C77-B1FF-364E94E3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E0C7-E1C1-425D-B75A-FE2728F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7EF4-6E0D-4799-A36F-177A24CA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CFDB-473A-4503-94F9-4BA3B83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E967-4423-4E23-B82D-22978511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A8BDB-7FCB-4E81-9ADB-67534EC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D578-175B-43E2-9F4D-2C06E1A2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E071-EE65-485F-97BE-0BEC80A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7AED-F7FA-4050-9058-6F062CD7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F6A9-9FA0-4E82-9A8A-CFE3359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DAE5-70DA-4284-A2F4-4A5186BA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B83C-DCF0-432C-8E3A-A00293FB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CD24-0638-4734-9D3B-F0B93E2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B7EE-8EAC-4DE3-A542-0873F575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C523-FE84-439D-92D0-B305155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4E0C-F3FE-4900-BBFC-003258E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0D7B-F73D-491A-81DD-064A138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4C8C-3B1E-473D-A644-5CB3E7D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FE27-D929-432A-93C7-C9EEFD3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7936-5F6C-4BF4-8187-7AA747F9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7CBE-AE02-4E53-A00D-5B88E1A4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BFAE-F770-4970-B08B-E33611F9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0137-2B41-48DC-9F4A-02B6451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64E2C-89FB-496B-9835-4E14897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B6D3-90DB-4C2D-B4F2-B8243EA5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265D-EE17-489D-8BCE-C5940888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0796-5AB5-4716-B6AA-06243948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6398-F864-45DF-ABF9-FB329EF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4FD6-AC39-4034-98D9-ECE17DC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89E7-EDAC-4690-8B67-433D737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8574-751B-4921-B6DE-030B61B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006C-0D3D-4213-982B-B9CF7CD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6AE9-B768-4CAA-85EC-8E5EAED0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68243-4338-46B2-AB3D-E10F6F2A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C1EF7-B23A-40BB-98E3-869406C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2B3A-B552-499F-BAD8-C99AA20A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3D0-6F11-4736-B206-FEC4576C02C4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D64-3DEC-4EB7-8304-276DEDAAC22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BE8-A00A-4DA5-BE28-6CA17B15DD9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7820-D75A-4718-B193-5EB2C634562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C7C5-DAF9-48FC-9DDB-5CC1712BE8D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A6E-4373-4211-89BF-8ED5810AE30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949B-3E6B-45BA-88C5-AB9F6CDE304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D6A1-E696-44FE-8DC2-7097AE680DD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ED9-2C4C-41F1-85AD-CA5D5138808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534-EC4A-47A3-AD7A-CD0C867F927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utton18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正比例、反比例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线连接符 21"/>
          <p:cNvSpPr/>
          <p:nvPr/>
        </p:nvSpPr>
        <p:spPr>
          <a:xfrm>
            <a:off x="2700360" y="1989000"/>
            <a:ext cx="4464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3924360" y="3141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.3 </a:t>
            </a: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认识反比例关系的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218760" y="58053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4101480" y="58183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958640" y="58039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5828400" y="58183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6714360" y="58183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5" name="Group 9"/>
          <p:cNvGrpSpPr/>
          <p:nvPr/>
        </p:nvGrpSpPr>
        <p:grpSpPr>
          <a:xfrm>
            <a:off x="1332000" y="4497480"/>
            <a:ext cx="7154280" cy="1936800"/>
            <a:chOff x="1332000" y="4497480"/>
            <a:chExt cx="7154280" cy="1936800"/>
          </a:xfrm>
        </p:grpSpPr>
        <p:sp>
          <p:nvSpPr>
            <p:cNvPr id="616" name="Rectangle 10"/>
            <p:cNvSpPr/>
            <p:nvPr/>
          </p:nvSpPr>
          <p:spPr>
            <a:xfrm>
              <a:off x="7615080" y="5784840"/>
              <a:ext cx="871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6744960" y="5784840"/>
              <a:ext cx="8697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Rectangle 12"/>
            <p:cNvSpPr/>
            <p:nvPr/>
          </p:nvSpPr>
          <p:spPr>
            <a:xfrm>
              <a:off x="5873400" y="5784840"/>
              <a:ext cx="871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5003640" y="5784840"/>
              <a:ext cx="8694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4132080" y="5784840"/>
              <a:ext cx="871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3231720" y="5784840"/>
              <a:ext cx="900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1332000" y="5784840"/>
              <a:ext cx="1899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体积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/cm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Rectangle 17"/>
            <p:cNvSpPr/>
            <p:nvPr/>
          </p:nvSpPr>
          <p:spPr>
            <a:xfrm>
              <a:off x="6744960" y="5135760"/>
              <a:ext cx="8697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5873400" y="5135760"/>
              <a:ext cx="8712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Rectangle 19"/>
            <p:cNvSpPr/>
            <p:nvPr/>
          </p:nvSpPr>
          <p:spPr>
            <a:xfrm>
              <a:off x="5003640" y="5135760"/>
              <a:ext cx="8694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Rectangle 20"/>
            <p:cNvSpPr/>
            <p:nvPr/>
          </p:nvSpPr>
          <p:spPr>
            <a:xfrm>
              <a:off x="4132080" y="5135760"/>
              <a:ext cx="8712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Rectangle 21"/>
            <p:cNvSpPr/>
            <p:nvPr/>
          </p:nvSpPr>
          <p:spPr>
            <a:xfrm>
              <a:off x="3231720" y="5135760"/>
              <a:ext cx="900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22"/>
            <p:cNvSpPr/>
            <p:nvPr/>
          </p:nvSpPr>
          <p:spPr>
            <a:xfrm>
              <a:off x="1332000" y="5135760"/>
              <a:ext cx="1899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底面积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/cm      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23"/>
            <p:cNvSpPr/>
            <p:nvPr/>
          </p:nvSpPr>
          <p:spPr>
            <a:xfrm>
              <a:off x="6744960" y="4497480"/>
              <a:ext cx="869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24"/>
            <p:cNvSpPr/>
            <p:nvPr/>
          </p:nvSpPr>
          <p:spPr>
            <a:xfrm>
              <a:off x="5873400" y="4497480"/>
              <a:ext cx="871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5003640" y="4497480"/>
              <a:ext cx="869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26"/>
            <p:cNvSpPr/>
            <p:nvPr/>
          </p:nvSpPr>
          <p:spPr>
            <a:xfrm>
              <a:off x="4132080" y="4497480"/>
              <a:ext cx="871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27"/>
            <p:cNvSpPr/>
            <p:nvPr/>
          </p:nvSpPr>
          <p:spPr>
            <a:xfrm>
              <a:off x="3231720" y="4497480"/>
              <a:ext cx="900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tangle 28"/>
            <p:cNvSpPr/>
            <p:nvPr/>
          </p:nvSpPr>
          <p:spPr>
            <a:xfrm>
              <a:off x="1332000" y="4497480"/>
              <a:ext cx="189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高度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/cm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1332000" y="4497480"/>
              <a:ext cx="6298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>
              <a:off x="1332000" y="5135760"/>
              <a:ext cx="627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 flipV="1">
              <a:off x="1332000" y="5770440"/>
              <a:ext cx="62542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V="1">
              <a:off x="1332000" y="6418440"/>
              <a:ext cx="6268680" cy="15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Line 33"/>
            <p:cNvSpPr/>
            <p:nvPr/>
          </p:nvSpPr>
          <p:spPr>
            <a:xfrm>
              <a:off x="1332000" y="4497480"/>
              <a:ext cx="0" cy="1936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Line 34"/>
            <p:cNvSpPr/>
            <p:nvPr/>
          </p:nvSpPr>
          <p:spPr>
            <a:xfrm>
              <a:off x="3231720" y="4497480"/>
              <a:ext cx="0" cy="19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Line 35"/>
            <p:cNvSpPr/>
            <p:nvPr/>
          </p:nvSpPr>
          <p:spPr>
            <a:xfrm>
              <a:off x="4132080" y="4497480"/>
              <a:ext cx="0" cy="19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Line 36"/>
            <p:cNvSpPr/>
            <p:nvPr/>
          </p:nvSpPr>
          <p:spPr>
            <a:xfrm>
              <a:off x="5003640" y="4497480"/>
              <a:ext cx="0" cy="19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Line 37"/>
            <p:cNvSpPr/>
            <p:nvPr/>
          </p:nvSpPr>
          <p:spPr>
            <a:xfrm>
              <a:off x="5873400" y="4497480"/>
              <a:ext cx="0" cy="19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Line 38"/>
            <p:cNvSpPr/>
            <p:nvPr/>
          </p:nvSpPr>
          <p:spPr>
            <a:xfrm>
              <a:off x="6744960" y="4497480"/>
              <a:ext cx="0" cy="19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Line 39"/>
            <p:cNvSpPr/>
            <p:nvPr/>
          </p:nvSpPr>
          <p:spPr>
            <a:xfrm>
              <a:off x="7616520" y="4497480"/>
              <a:ext cx="0" cy="1936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 Box 40"/>
            <p:cNvSpPr/>
            <p:nvPr/>
          </p:nvSpPr>
          <p:spPr>
            <a:xfrm>
              <a:off x="2822400" y="58006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Text Box 41"/>
            <p:cNvSpPr/>
            <p:nvPr/>
          </p:nvSpPr>
          <p:spPr>
            <a:xfrm>
              <a:off x="3008160" y="5146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8" name="Picture 42" descr=""/>
          <p:cNvPicPr/>
          <p:nvPr/>
        </p:nvPicPr>
        <p:blipFill>
          <a:blip r:embed="rId1"/>
          <a:srcRect l="0" t="20371" r="258" b="0"/>
          <a:stretch/>
        </p:blipFill>
        <p:spPr>
          <a:xfrm>
            <a:off x="1033560" y="1628640"/>
            <a:ext cx="6562800" cy="208764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43"/>
          <p:cNvSpPr/>
          <p:nvPr/>
        </p:nvSpPr>
        <p:spPr>
          <a:xfrm>
            <a:off x="3419640" y="1125360"/>
            <a:ext cx="4103640" cy="1079640"/>
          </a:xfrm>
          <a:prstGeom prst="wedgeRoundRectCallout">
            <a:avLst>
              <a:gd name="adj1" fmla="val -76152"/>
              <a:gd name="adj2" fmla="val 47351"/>
              <a:gd name="adj3" fmla="val 16667"/>
            </a:avLst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相同的体积的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倒入底面积不同的杯子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44"/>
          <p:cNvSpPr/>
          <p:nvPr/>
        </p:nvSpPr>
        <p:spPr>
          <a:xfrm>
            <a:off x="1036800" y="3665520"/>
            <a:ext cx="48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算出水的体积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45"/>
          <p:cNvSpPr/>
          <p:nvPr/>
        </p:nvSpPr>
        <p:spPr>
          <a:xfrm>
            <a:off x="5165640" y="37018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V=S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同侧圆角矩形 4"/>
          <p:cNvSpPr/>
          <p:nvPr/>
        </p:nvSpPr>
        <p:spPr>
          <a:xfrm>
            <a:off x="39528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线连接符 21"/>
          <p:cNvSpPr/>
          <p:nvPr/>
        </p:nvSpPr>
        <p:spPr>
          <a:xfrm flipV="1">
            <a:off x="395280" y="1341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65160" y="4638600"/>
            <a:ext cx="91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积和高度的积（体积）总是一定的，都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898720" y="17175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×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898720" y="213192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×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2898720" y="25653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8" name="Group 8"/>
          <p:cNvGrpSpPr/>
          <p:nvPr/>
        </p:nvGrpSpPr>
        <p:grpSpPr>
          <a:xfrm>
            <a:off x="4427640" y="4067280"/>
            <a:ext cx="143640" cy="585360"/>
            <a:chOff x="4427640" y="4067280"/>
            <a:chExt cx="143640" cy="585360"/>
          </a:xfrm>
        </p:grpSpPr>
        <p:sp>
          <p:nvSpPr>
            <p:cNvPr id="659" name="Rectangle 9"/>
            <p:cNvSpPr/>
            <p:nvPr/>
          </p:nvSpPr>
          <p:spPr>
            <a:xfrm>
              <a:off x="4427640" y="4067280"/>
              <a:ext cx="141120" cy="8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10"/>
            <p:cNvSpPr/>
            <p:nvPr/>
          </p:nvSpPr>
          <p:spPr>
            <a:xfrm>
              <a:off x="4430160" y="4317840"/>
              <a:ext cx="141120" cy="8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 11"/>
            <p:cNvSpPr/>
            <p:nvPr/>
          </p:nvSpPr>
          <p:spPr>
            <a:xfrm>
              <a:off x="4430160" y="4568040"/>
              <a:ext cx="141120" cy="8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2" name="Text Box 12"/>
          <p:cNvSpPr/>
          <p:nvPr/>
        </p:nvSpPr>
        <p:spPr>
          <a:xfrm>
            <a:off x="2898720" y="29973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×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2928960" y="34797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× 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14"/>
          <p:cNvSpPr/>
          <p:nvPr/>
        </p:nvSpPr>
        <p:spPr>
          <a:xfrm>
            <a:off x="2195640" y="1717560"/>
            <a:ext cx="0" cy="2448000"/>
          </a:xfrm>
          <a:prstGeom prst="line">
            <a:avLst/>
          </a:prstGeom>
          <a:ln w="54000">
            <a:solidFill>
              <a:srgbClr val="0000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324000" y="1717560"/>
            <a:ext cx="16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上往下看，底面积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增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水的高度反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6"/>
          <p:cNvSpPr/>
          <p:nvPr/>
        </p:nvSpPr>
        <p:spPr>
          <a:xfrm flipV="1">
            <a:off x="6659640" y="1717560"/>
            <a:ext cx="0" cy="2448000"/>
          </a:xfrm>
          <a:prstGeom prst="line">
            <a:avLst/>
          </a:prstGeom>
          <a:ln w="54000">
            <a:solidFill>
              <a:srgbClr val="0000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684360" y="5372280"/>
            <a:ext cx="712764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6867360" y="1717560"/>
            <a:ext cx="16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下往上看，底面积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水的高度反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增加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5938920" y="57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一定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1830240" y="5664240"/>
            <a:ext cx="49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度＝水的体积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21"/>
          <p:cNvSpPr/>
          <p:nvPr/>
        </p:nvSpPr>
        <p:spPr>
          <a:xfrm>
            <a:off x="2771640" y="1052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度和底面积的变化有什么规律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95280" y="2117880"/>
            <a:ext cx="8317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水的体积一定，所以水的高度随着底面积的变化而变化。底面积增加，高度反而降低，底面积减少，高度反而升高，而且高度和底面积的乘积一定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这样，两种相关联的量，一种量变化，另一种量也随着变化，如果这两种量中相对应的两个数的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，这两种量就叫做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成反比例的量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们的关系叫做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反比例关系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2244960" y="162864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的高度＝水的体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一定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396720" y="4222800"/>
            <a:ext cx="806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Line 7"/>
          <p:cNvSpPr/>
          <p:nvPr/>
        </p:nvSpPr>
        <p:spPr>
          <a:xfrm>
            <a:off x="395280" y="4295880"/>
            <a:ext cx="144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Line 8"/>
          <p:cNvSpPr/>
          <p:nvPr/>
        </p:nvSpPr>
        <p:spPr>
          <a:xfrm flipV="1">
            <a:off x="395280" y="6165720"/>
            <a:ext cx="8137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8461440" y="4222800"/>
            <a:ext cx="7128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同侧圆角矩形 4"/>
          <p:cNvSpPr/>
          <p:nvPr/>
        </p:nvSpPr>
        <p:spPr>
          <a:xfrm>
            <a:off x="46836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线连接符 21"/>
          <p:cNvSpPr/>
          <p:nvPr/>
        </p:nvSpPr>
        <p:spPr>
          <a:xfrm flipV="1">
            <a:off x="468360" y="1341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71"/>
          <p:cNvSpPr/>
          <p:nvPr/>
        </p:nvSpPr>
        <p:spPr>
          <a:xfrm>
            <a:off x="5724360" y="3195720"/>
            <a:ext cx="9144000" cy="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179280" y="2133720"/>
            <a:ext cx="8713800" cy="3471840"/>
          </a:xfrm>
          <a:prstGeom prst="roundRect">
            <a:avLst>
              <a:gd name="adj" fmla="val 6051"/>
            </a:avLst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422280" y="2724120"/>
            <a:ext cx="8182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用字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两种相关联的量，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它们的积（一定），反比例关系可以用下面的式子表示：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506680" y="4362480"/>
            <a:ext cx="41464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×y</a:t>
            </a:r>
            <a:r>
              <a:rPr b="1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一定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2627280" y="1052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正、反比例的相同点和不同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468360" y="1628640"/>
          <a:ext cx="8351640" cy="4896000"/>
        </p:xfrm>
        <a:graphic>
          <a:graphicData uri="http://schemas.openxmlformats.org/drawingml/2006/table">
            <a:tbl>
              <a:tblPr/>
              <a:tblGrid>
                <a:gridCol w="1328760"/>
                <a:gridCol w="3392280"/>
                <a:gridCol w="3630600"/>
              </a:tblGrid>
              <a:tr h="66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正比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反比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相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不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6c8d8"/>
                    </a:solidFill>
                  </a:tcPr>
                </a:tc>
              </a:tr>
            </a:tbl>
          </a:graphicData>
        </a:graphic>
      </p:graphicFrame>
      <p:sp>
        <p:nvSpPr>
          <p:cNvPr id="690" name="Text Box 23"/>
          <p:cNvSpPr/>
          <p:nvPr/>
        </p:nvSpPr>
        <p:spPr>
          <a:xfrm>
            <a:off x="1809720" y="2889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变化的方向相同，一种量扩大或缩小，另一种量也扩大或缩小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1763640" y="23241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两种相关联的量，一种量随着另一种量变化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5219640" y="2997360"/>
            <a:ext cx="36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变化的方向相反，一种量扩大（缩小），另一种量反而缩小（扩大）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798560" y="432900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相关联的两个量相对应的两个数的比值（商）一定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5267160" y="440208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相关联的两个量相对应的两个数的乘积一定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1797120" y="564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关系式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5178600" y="564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关系式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30"/>
              <p:cNvSpPr txBox="1"/>
              <p:nvPr/>
            </p:nvSpPr>
            <p:spPr>
              <a:xfrm>
                <a:off x="3435480" y="5564160"/>
                <a:ext cx="16286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（一定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31"/>
              <p:cNvSpPr txBox="1"/>
              <p:nvPr/>
            </p:nvSpPr>
            <p:spPr>
              <a:xfrm>
                <a:off x="6837480" y="5715000"/>
                <a:ext cx="1954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（一定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199800" y="321156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两种量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1238400" y="2701800"/>
            <a:ext cx="502920" cy="1582920"/>
          </a:xfrm>
          <a:custGeom>
            <a:avLst/>
            <a:gdLst>
              <a:gd name="textAreaLeft" fmla="*/ 321480 w 502920"/>
              <a:gd name="textAreaRight" fmla="*/ 503280 w 50292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2053440" y="2368440"/>
            <a:ext cx="9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不相关联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1987200" y="404172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相关联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AutoShape 8"/>
          <p:cNvSpPr/>
          <p:nvPr/>
        </p:nvSpPr>
        <p:spPr>
          <a:xfrm>
            <a:off x="3038400" y="3505320"/>
            <a:ext cx="503280" cy="2147760"/>
          </a:xfrm>
          <a:custGeom>
            <a:avLst/>
            <a:gdLst>
              <a:gd name="textAreaLeft" fmla="*/ 321480 w 503280"/>
              <a:gd name="textAreaRight" fmla="*/ 503640 w 503280"/>
              <a:gd name="textAreaTop" fmla="*/ 55800 h 2147760"/>
              <a:gd name="textAreaBottom" fmla="*/ 2091960 h 21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342"/>
                </a:lnTo>
                <a:cubicBezTo>
                  <a:pt x="10800" y="7242"/>
                  <a:pt x="5400" y="8142"/>
                  <a:pt x="0" y="8142"/>
                </a:cubicBezTo>
                <a:cubicBezTo>
                  <a:pt x="5400" y="8142"/>
                  <a:pt x="10800" y="9042"/>
                  <a:pt x="10800" y="99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3934440" y="3219480"/>
            <a:ext cx="9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加的关系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3934440" y="3962520"/>
            <a:ext cx="9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减的关系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3934440" y="4684680"/>
            <a:ext cx="9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乘的关系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3934440" y="5345280"/>
            <a:ext cx="9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除的关系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3444840" y="2324160"/>
            <a:ext cx="358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→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成比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5299200" y="3174840"/>
            <a:ext cx="358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→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成比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5299200" y="3917880"/>
            <a:ext cx="358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→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成比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5520960" y="4684680"/>
            <a:ext cx="511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积一定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5520960" y="5345280"/>
            <a:ext cx="511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商一定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6485040" y="4640400"/>
            <a:ext cx="358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→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反比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485040" y="5300640"/>
            <a:ext cx="358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→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正比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45"/>
          <p:cNvPicPr/>
          <p:nvPr/>
        </p:nvPicPr>
        <p:blipFill>
          <a:blip r:embed="rId1"/>
          <a:srcRect l="15420" t="6556" r="9280" b="73785"/>
          <a:stretch/>
        </p:blipFill>
        <p:spPr>
          <a:xfrm>
            <a:off x="1547640" y="1484280"/>
            <a:ext cx="6193080" cy="196056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5"/>
          <p:cNvSpPr/>
          <p:nvPr/>
        </p:nvSpPr>
        <p:spPr>
          <a:xfrm>
            <a:off x="468360" y="5156280"/>
            <a:ext cx="835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块地砖的面积和数量是两种相关联的量，因为每块地砖的面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量＝教室面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所以每块地砖的面积和数量成反比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773280" y="33624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6=5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400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773280" y="373680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×600=5400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773280" y="424512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×300=5400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773280" y="474192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0×150=5400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5" descr="45"/>
          <p:cNvPicPr/>
          <p:nvPr/>
        </p:nvPicPr>
        <p:blipFill>
          <a:blip r:embed="rId1"/>
          <a:srcRect l="16647" t="29487" r="10461" b="53847"/>
          <a:stretch/>
        </p:blipFill>
        <p:spPr>
          <a:xfrm>
            <a:off x="971640" y="1671480"/>
            <a:ext cx="7632720" cy="247824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6"/>
          <p:cNvSpPr/>
          <p:nvPr/>
        </p:nvSpPr>
        <p:spPr>
          <a:xfrm>
            <a:off x="395280" y="4591080"/>
            <a:ext cx="835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瓶容量和数量是两种相关联的量，因为每瓶容量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量＝醋的总量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所以每瓶容量和数量成反比例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754080" y="3357720"/>
            <a:ext cx="137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学校食堂新进一批煤，每天的用煤量与使用天数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684360" y="18446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下面每题中的两个量是否成反比例，并说明理由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468360" y="4292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每天的用煤量与使用天数是两种相关联的量，因为每天用煤量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使用天数＝煤的总量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定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所以每天的用煤量与使用天数成反比例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2957400" y="2755800"/>
            <a:ext cx="137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全班的人数一定，每组的人数和组数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4351680" y="18381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下面每题中的两个量是否成反比例，并说明理由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468360" y="3573360"/>
            <a:ext cx="835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每组的人数和组数是两种相关联的量，因为每组的人数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组数＝全班的人数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定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所以每组的人数和组数成反比例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74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684360" y="2082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684360" y="3500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1763640" y="2205000"/>
            <a:ext cx="633744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本节课的学习理解反比例的意义，能根据反比例的意义，正确判断两种量是否成反比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抽象概括能力和判断推理能力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2719080" y="2682720"/>
            <a:ext cx="137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圆柱体积一定，圆柱的底面积和高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4278600" y="176544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下面每题中的两个量是否成反比例，并说明理由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395280" y="3500280"/>
            <a:ext cx="835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圆柱的底面积和高是两种相关联的量，因为圆柱的底面积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＝圆柱体积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定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所以圆柱的底面积和高成反比例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324000" y="269064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书的总册数一定，每包的册数和包数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4370760" y="17733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下面每题中的两个量是否成反比例，并说明理由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68360" y="3544920"/>
            <a:ext cx="835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包的册数和包数是两种相关联的量，因为每包的册数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数＝书的总册数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定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所以每包的册数和包数成反比例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3249720" y="153684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单价、数量和总价中一种量一定，另外两个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什么比例关系。为什么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632240" y="304956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价一定，数量和总价                    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1685160" y="437688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价一定，数量和单价　　　　　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1627560" y="566100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一定，总价和单价                    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8"/>
          <p:cNvSpPr/>
          <p:nvPr/>
        </p:nvSpPr>
        <p:spPr>
          <a:xfrm>
            <a:off x="4730760" y="3568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Line 9"/>
          <p:cNvSpPr/>
          <p:nvPr/>
        </p:nvSpPr>
        <p:spPr>
          <a:xfrm>
            <a:off x="4730760" y="486396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Line 10"/>
          <p:cNvSpPr/>
          <p:nvPr/>
        </p:nvSpPr>
        <p:spPr>
          <a:xfrm>
            <a:off x="4730760" y="6205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11"/>
          <p:cNvSpPr/>
          <p:nvPr/>
        </p:nvSpPr>
        <p:spPr>
          <a:xfrm>
            <a:off x="5056920" y="3071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正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5056920" y="4332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反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3"/>
          <p:cNvSpPr/>
          <p:nvPr/>
        </p:nvSpPr>
        <p:spPr>
          <a:xfrm>
            <a:off x="5042520" y="5683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正比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95280" y="184464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面各题中两种量成不成比例，成什么比例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已知 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 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时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）比例；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时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）比例；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时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）比例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539640" y="465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工作总量一定，工作效率和工作时间（    ）比例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564000" y="2693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反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3564000" y="3141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正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0"/>
          <p:cNvSpPr/>
          <p:nvPr/>
        </p:nvSpPr>
        <p:spPr>
          <a:xfrm>
            <a:off x="3492360" y="35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正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7091280" y="46386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反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771" name="WordArt 7"/>
          <p:cNvSpPr txBox="1"/>
          <p:nvPr/>
        </p:nvSpPr>
        <p:spPr>
          <a:xfrm>
            <a:off x="3059280" y="1628640"/>
            <a:ext cx="46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宋体"/>
              </a:rPr>
              <a:t>今天你都收获了什么？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宋体"/>
              <a:ea typeface="宋体"/>
            </a:endParaRPr>
          </a:p>
        </p:txBody>
      </p:sp>
      <p:pic>
        <p:nvPicPr>
          <p:cNvPr id="772" name="Picture 7" descr="46"/>
          <p:cNvPicPr/>
          <p:nvPr/>
        </p:nvPicPr>
        <p:blipFill>
          <a:blip r:embed="rId2"/>
          <a:stretch/>
        </p:blipFill>
        <p:spPr>
          <a:xfrm>
            <a:off x="971640" y="2781360"/>
            <a:ext cx="51829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线连接符 21"/>
          <p:cNvSpPr/>
          <p:nvPr/>
        </p:nvSpPr>
        <p:spPr>
          <a:xfrm flipV="1">
            <a:off x="468360" y="15634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567160" y="18302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面每题中两种量成正比例还是反比例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066680" y="33465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和总价是两种相关联的量，它们与单价有下面的关系：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3192120" y="438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价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3048120" y="4900680"/>
            <a:ext cx="88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192120" y="492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965040" y="4648320"/>
            <a:ext cx="11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 单价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219320" y="5435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单价一定，就是总价和数量的比值是一定的，所以总价和数量成正比例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000880" y="269388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单价一定，数量和总价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12"/>
          <p:cNvSpPr/>
          <p:nvPr/>
        </p:nvSpPr>
        <p:spPr>
          <a:xfrm rot="5382600">
            <a:off x="1142640" y="28584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3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826920" y="4724280"/>
            <a:ext cx="792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463840" y="154152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面每题中两种量成正比例还是反比例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963720" y="28591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时间是两种相关联的量，它们与路程有下面的关系：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1116000" y="5373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路程一定，就是速度和时间的积是一定的，所以速度和时间成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反比例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1927800" y="205416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路程一定，速度和时间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2213640" y="4241880"/>
            <a:ext cx="21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＝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5673960" y="126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相同体积的水倒入表面积不同的杯子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63"/>
          <p:cNvSpPr/>
          <p:nvPr/>
        </p:nvSpPr>
        <p:spPr>
          <a:xfrm>
            <a:off x="4842360" y="41911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ece1"/>
                </a:solidFill>
                <a:latin typeface="华文新魏"/>
                <a:ea typeface="华文新魏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14240" y="1857240"/>
          <a:ext cx="8178840" cy="1371600"/>
        </p:xfrm>
        <a:graphic>
          <a:graphicData uri="http://schemas.openxmlformats.org/drawingml/2006/table">
            <a:tbl>
              <a:tblPr/>
              <a:tblGrid>
                <a:gridCol w="2482920"/>
                <a:gridCol w="1022400"/>
                <a:gridCol w="949320"/>
                <a:gridCol w="949320"/>
                <a:gridCol w="949320"/>
                <a:gridCol w="876240"/>
                <a:gridCol w="94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高度</a:t>
                      </a: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楷体_GB2312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底面积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平方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楷体_GB2312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体积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立方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</a:tr>
            </a:tbl>
          </a:graphicData>
        </a:graphic>
      </p:graphicFrame>
      <p:sp>
        <p:nvSpPr>
          <p:cNvPr id="506" name="TextBox 6"/>
          <p:cNvSpPr/>
          <p:nvPr/>
        </p:nvSpPr>
        <p:spPr>
          <a:xfrm>
            <a:off x="539640" y="37861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表中你发现了什么？这个表同复习的表相比，有什么不同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1187280" y="443700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表中的两种量是水的高度和底面积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1116000" y="49417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底面积增加，水的高度反而降低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332000" y="54450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积减少，水的高度反而升高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1"/>
          <p:cNvSpPr/>
          <p:nvPr/>
        </p:nvSpPr>
        <p:spPr>
          <a:xfrm>
            <a:off x="1116000" y="602136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两个量相对应的两个数的乘积都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7000920" y="3143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3357720" y="3143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4"/>
          <p:cNvSpPr/>
          <p:nvPr/>
        </p:nvSpPr>
        <p:spPr>
          <a:xfrm>
            <a:off x="4286160" y="3143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5"/>
          <p:cNvSpPr/>
          <p:nvPr/>
        </p:nvSpPr>
        <p:spPr>
          <a:xfrm>
            <a:off x="5143680" y="31431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6"/>
          <p:cNvSpPr/>
          <p:nvPr/>
        </p:nvSpPr>
        <p:spPr>
          <a:xfrm>
            <a:off x="6072120" y="314316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7"/>
          <p:cNvSpPr/>
          <p:nvPr/>
        </p:nvSpPr>
        <p:spPr>
          <a:xfrm>
            <a:off x="3252960" y="404640"/>
            <a:ext cx="2520720" cy="2349720"/>
          </a:xfrm>
          <a:prstGeom prst="wedgeRoundRectCallout">
            <a:avLst>
              <a:gd name="adj1" fmla="val -55162"/>
              <a:gd name="adj2" fmla="val 12824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50880" y="-1170000"/>
            <a:ext cx="76320" cy="76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63"/>
          <p:cNvSpPr/>
          <p:nvPr/>
        </p:nvSpPr>
        <p:spPr>
          <a:xfrm>
            <a:off x="4842360" y="4464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ece1"/>
                </a:solidFill>
                <a:latin typeface="华文新魏"/>
                <a:ea typeface="华文新魏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428760" y="1773360"/>
          <a:ext cx="8246880" cy="1733400"/>
        </p:xfrm>
        <a:graphic>
          <a:graphicData uri="http://schemas.openxmlformats.org/drawingml/2006/table">
            <a:tbl>
              <a:tblPr/>
              <a:tblGrid>
                <a:gridCol w="2503440"/>
                <a:gridCol w="1031760"/>
                <a:gridCol w="957240"/>
                <a:gridCol w="957240"/>
                <a:gridCol w="957240"/>
                <a:gridCol w="882720"/>
                <a:gridCol w="95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高度</a:t>
                      </a: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eece1"/>
                          </a:solidFill>
                          <a:latin typeface="Calibri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体积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平方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华文新魏"/>
                          <a:ea typeface="华文新魏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63634"/>
                          </a:solidFill>
                          <a:latin typeface="Calibri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ef"/>
                    </a:solidFill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底面积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平方厘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f7"/>
                    </a:solidFill>
                  </a:tcPr>
                </a:tc>
              </a:tr>
            </a:tbl>
          </a:graphicData>
        </a:graphic>
      </p:graphicFrame>
      <p:sp>
        <p:nvSpPr>
          <p:cNvPr id="522" name="TextBox 6"/>
          <p:cNvSpPr/>
          <p:nvPr/>
        </p:nvSpPr>
        <p:spPr>
          <a:xfrm>
            <a:off x="642960" y="34876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的高度和底面积是两种相关联的量，它们与水 的体积有下面的关系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1214280" y="44164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的高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的体积（一定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714240" y="5202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水的体积一定，就是水的高度和底面积的乘积是一定的，所以水的体积和底面积成反比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AutoShape 36"/>
          <p:cNvSpPr/>
          <p:nvPr/>
        </p:nvSpPr>
        <p:spPr>
          <a:xfrm>
            <a:off x="333360" y="1484280"/>
            <a:ext cx="762120" cy="4572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想一想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63"/>
          <p:cNvSpPr/>
          <p:nvPr/>
        </p:nvSpPr>
        <p:spPr>
          <a:xfrm>
            <a:off x="4675320" y="5103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ece1"/>
                </a:solidFill>
                <a:latin typeface="华文新魏"/>
                <a:ea typeface="华文新魏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976320" y="227016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例子有什么特点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476280" y="319896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量变化，另一种量也随着变化，如果这两种量中相对应的两个数的积一定，这两种量就叫做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成反比例的量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们的关系叫做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反比例关系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619200" y="4842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ece1"/>
                </a:solidFill>
                <a:latin typeface="华文新魏"/>
                <a:ea typeface="华文新魏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1547640" y="5270400"/>
            <a:ext cx="64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×y=k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一定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同侧圆角矩形 4"/>
          <p:cNvSpPr/>
          <p:nvPr/>
        </p:nvSpPr>
        <p:spPr>
          <a:xfrm>
            <a:off x="395280" y="8301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线连接符 21"/>
          <p:cNvSpPr/>
          <p:nvPr/>
        </p:nvSpPr>
        <p:spPr>
          <a:xfrm flipV="1">
            <a:off x="39528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48436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一批货物，每天运的吨数和需要的天数如下表。根据表回答下面的问题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2346480" y="336852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表中有哪两种量？它们是不是相关联的量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658400" y="38257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中有每天运的吨数和需要的天数两种量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163520" y="48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写出几组这两种量中相对应的两个数的积，并比    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较积的大小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001960" y="5654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 ×1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241520" y="565452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 × 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6422760" y="565452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 × 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11"/>
          <p:cNvGrpSpPr/>
          <p:nvPr/>
        </p:nvGrpSpPr>
        <p:grpSpPr>
          <a:xfrm>
            <a:off x="1373400" y="2073240"/>
            <a:ext cx="6724440" cy="1066680"/>
            <a:chOff x="1373400" y="2073240"/>
            <a:chExt cx="6724440" cy="1066680"/>
          </a:xfrm>
        </p:grpSpPr>
        <p:sp>
          <p:nvSpPr>
            <p:cNvPr id="543" name="Line 12"/>
            <p:cNvSpPr/>
            <p:nvPr/>
          </p:nvSpPr>
          <p:spPr>
            <a:xfrm>
              <a:off x="1373400" y="313992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344988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421164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497376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573588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>
              <a:off x="649764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>
              <a:off x="7259760" y="2073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 Box 19"/>
            <p:cNvSpPr/>
            <p:nvPr/>
          </p:nvSpPr>
          <p:spPr>
            <a:xfrm>
              <a:off x="1626480" y="2093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天运的吨数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1579680" y="264780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需 要 的 天 数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1"/>
            <p:cNvSpPr/>
            <p:nvPr/>
          </p:nvSpPr>
          <p:spPr>
            <a:xfrm>
              <a:off x="1373400" y="260640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2"/>
            <p:cNvSpPr/>
            <p:nvPr/>
          </p:nvSpPr>
          <p:spPr>
            <a:xfrm>
              <a:off x="1373400" y="207324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Text Box 23"/>
            <p:cNvSpPr/>
            <p:nvPr/>
          </p:nvSpPr>
          <p:spPr>
            <a:xfrm>
              <a:off x="3529440" y="2169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 Box 24"/>
            <p:cNvSpPr/>
            <p:nvPr/>
          </p:nvSpPr>
          <p:spPr>
            <a:xfrm>
              <a:off x="7489080" y="26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Text Box 25"/>
            <p:cNvSpPr/>
            <p:nvPr/>
          </p:nvSpPr>
          <p:spPr>
            <a:xfrm>
              <a:off x="3643560" y="263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Text Box 26"/>
            <p:cNvSpPr/>
            <p:nvPr/>
          </p:nvSpPr>
          <p:spPr>
            <a:xfrm>
              <a:off x="4268160" y="21776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4434840" y="2638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 Box 28"/>
            <p:cNvSpPr/>
            <p:nvPr/>
          </p:nvSpPr>
          <p:spPr>
            <a:xfrm>
              <a:off x="4268160" y="2182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Text Box 29"/>
            <p:cNvSpPr/>
            <p:nvPr/>
          </p:nvSpPr>
          <p:spPr>
            <a:xfrm>
              <a:off x="5043600" y="21776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Text Box 30"/>
            <p:cNvSpPr/>
            <p:nvPr/>
          </p:nvSpPr>
          <p:spPr>
            <a:xfrm>
              <a:off x="5911920" y="21826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5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 Box 31"/>
            <p:cNvSpPr/>
            <p:nvPr/>
          </p:nvSpPr>
          <p:spPr>
            <a:xfrm>
              <a:off x="6671520" y="21776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Text Box 32"/>
            <p:cNvSpPr/>
            <p:nvPr/>
          </p:nvSpPr>
          <p:spPr>
            <a:xfrm>
              <a:off x="7433280" y="21776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Text Box 33"/>
            <p:cNvSpPr/>
            <p:nvPr/>
          </p:nvSpPr>
          <p:spPr>
            <a:xfrm>
              <a:off x="5234760" y="263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Text Box 34"/>
            <p:cNvSpPr/>
            <p:nvPr/>
          </p:nvSpPr>
          <p:spPr>
            <a:xfrm>
              <a:off x="5996880" y="263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 Box 35"/>
            <p:cNvSpPr/>
            <p:nvPr/>
          </p:nvSpPr>
          <p:spPr>
            <a:xfrm>
              <a:off x="6739920" y="2644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7" name="Text Box 36"/>
          <p:cNvSpPr/>
          <p:nvPr/>
        </p:nvSpPr>
        <p:spPr>
          <a:xfrm>
            <a:off x="2493360" y="4322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们是相关联的量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37"/>
          <p:cNvSpPr/>
          <p:nvPr/>
        </p:nvSpPr>
        <p:spPr>
          <a:xfrm>
            <a:off x="2001960" y="6035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 ×4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38"/>
          <p:cNvSpPr/>
          <p:nvPr/>
        </p:nvSpPr>
        <p:spPr>
          <a:xfrm>
            <a:off x="4267080" y="60213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 × 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39"/>
          <p:cNvSpPr/>
          <p:nvPr/>
        </p:nvSpPr>
        <p:spPr>
          <a:xfrm>
            <a:off x="6467400" y="600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 × 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4518000" y="5273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积相等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3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同侧圆角矩形 4"/>
          <p:cNvSpPr/>
          <p:nvPr/>
        </p:nvSpPr>
        <p:spPr>
          <a:xfrm>
            <a:off x="41292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线连接符 21"/>
          <p:cNvSpPr/>
          <p:nvPr/>
        </p:nvSpPr>
        <p:spPr>
          <a:xfrm flipV="1">
            <a:off x="412920" y="134136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2484360" y="1052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一批货物，每天运的吨数和需要的天数如下表。根据表回答下面的问题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115800" y="317664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说明这个积所表示的意义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561560" y="3586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个积表示的意义是这批货物的总吨数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1219320" y="4014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表中相关联的两种量成反比例吗？为什么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Group 8"/>
          <p:cNvGrpSpPr/>
          <p:nvPr/>
        </p:nvGrpSpPr>
        <p:grpSpPr>
          <a:xfrm>
            <a:off x="1428840" y="2033640"/>
            <a:ext cx="6724440" cy="1066680"/>
            <a:chOff x="1428840" y="2033640"/>
            <a:chExt cx="6724440" cy="1066680"/>
          </a:xfrm>
        </p:grpSpPr>
        <p:sp>
          <p:nvSpPr>
            <p:cNvPr id="579" name="Line 9"/>
            <p:cNvSpPr/>
            <p:nvPr/>
          </p:nvSpPr>
          <p:spPr>
            <a:xfrm>
              <a:off x="1428840" y="310032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350532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11"/>
            <p:cNvSpPr/>
            <p:nvPr/>
          </p:nvSpPr>
          <p:spPr>
            <a:xfrm>
              <a:off x="426708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502920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13"/>
            <p:cNvSpPr/>
            <p:nvPr/>
          </p:nvSpPr>
          <p:spPr>
            <a:xfrm>
              <a:off x="579132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14"/>
            <p:cNvSpPr/>
            <p:nvPr/>
          </p:nvSpPr>
          <p:spPr>
            <a:xfrm>
              <a:off x="655308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15"/>
            <p:cNvSpPr/>
            <p:nvPr/>
          </p:nvSpPr>
          <p:spPr>
            <a:xfrm>
              <a:off x="7315200" y="20336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 Box 16"/>
            <p:cNvSpPr/>
            <p:nvPr/>
          </p:nvSpPr>
          <p:spPr>
            <a:xfrm>
              <a:off x="1681920" y="20541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天运的吨数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Text Box 17"/>
            <p:cNvSpPr/>
            <p:nvPr/>
          </p:nvSpPr>
          <p:spPr>
            <a:xfrm>
              <a:off x="1635120" y="260820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需 要 的 天 数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1428840" y="256680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428840" y="203364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3584880" y="21301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Text Box 21"/>
            <p:cNvSpPr/>
            <p:nvPr/>
          </p:nvSpPr>
          <p:spPr>
            <a:xfrm>
              <a:off x="7544520" y="2609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 Box 22"/>
            <p:cNvSpPr/>
            <p:nvPr/>
          </p:nvSpPr>
          <p:spPr>
            <a:xfrm>
              <a:off x="3699000" y="26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23"/>
            <p:cNvSpPr/>
            <p:nvPr/>
          </p:nvSpPr>
          <p:spPr>
            <a:xfrm>
              <a:off x="4323600" y="2138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 Box 24"/>
            <p:cNvSpPr/>
            <p:nvPr/>
          </p:nvSpPr>
          <p:spPr>
            <a:xfrm>
              <a:off x="4490280" y="259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25"/>
            <p:cNvSpPr/>
            <p:nvPr/>
          </p:nvSpPr>
          <p:spPr>
            <a:xfrm>
              <a:off x="4323600" y="2143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Text Box 26"/>
            <p:cNvSpPr/>
            <p:nvPr/>
          </p:nvSpPr>
          <p:spPr>
            <a:xfrm>
              <a:off x="5099040" y="2138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 Box 27"/>
            <p:cNvSpPr/>
            <p:nvPr/>
          </p:nvSpPr>
          <p:spPr>
            <a:xfrm>
              <a:off x="5967360" y="21430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5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6726960" y="21380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7488720" y="21380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 Box 30"/>
            <p:cNvSpPr/>
            <p:nvPr/>
          </p:nvSpPr>
          <p:spPr>
            <a:xfrm>
              <a:off x="5290200" y="259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31"/>
            <p:cNvSpPr/>
            <p:nvPr/>
          </p:nvSpPr>
          <p:spPr>
            <a:xfrm>
              <a:off x="6052320" y="259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 Box 32"/>
            <p:cNvSpPr/>
            <p:nvPr/>
          </p:nvSpPr>
          <p:spPr>
            <a:xfrm>
              <a:off x="6795360" y="26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Text Box 33"/>
          <p:cNvSpPr/>
          <p:nvPr/>
        </p:nvSpPr>
        <p:spPr>
          <a:xfrm>
            <a:off x="5002920" y="4471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每天运的吨数和需要的天数是两种相关联的量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4"/>
          <p:cNvSpPr/>
          <p:nvPr/>
        </p:nvSpPr>
        <p:spPr>
          <a:xfrm>
            <a:off x="2134080" y="477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因为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5"/>
          <p:cNvSpPr/>
          <p:nvPr/>
        </p:nvSpPr>
        <p:spPr>
          <a:xfrm>
            <a:off x="2134080" y="553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以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3509640" y="515772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天运的吨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的天数＝货物总吨数（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7"/>
          <p:cNvSpPr/>
          <p:nvPr/>
        </p:nvSpPr>
        <p:spPr>
          <a:xfrm>
            <a:off x="4698000" y="59961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天运的吨数和需要的天数成反比例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3:42:31Z</dcterms:created>
  <dc:creator/>
  <dc:description/>
  <dc:language>en-US</dc:language>
  <cp:lastModifiedBy>User</cp:lastModifiedBy>
  <dcterms:modified xsi:type="dcterms:W3CDTF">2016-03-28T21:3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