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dt" idx="5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 type="ftr" idx="5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 type="sldNum" idx="6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3B8C-D2D7-4CA8-A0C5-4E9E8F2063F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06F7-1CF6-4AB1-B724-F9AFB64A9C8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7D05-C3AA-4518-9EFC-84288A6ABE4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22FB-3F43-4CB6-8244-0471F762B5A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EF08-33CB-4231-AADC-2EBE1B1569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5BB9-5E1C-40A6-8C6A-42F61ACDB03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DD9D-875E-4E71-9FE0-C0F20CB7C30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796A-D526-4538-833F-46B4B92D41B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A765-DF7D-4967-AEF7-4AB49481A38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D200-2245-452D-8960-40178D1C146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1173-D594-42EF-8B6E-032C4F8DBE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1A5C3-EC76-45E4-BEEF-06D63961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1EBE4-C83F-43FF-AD78-61664202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103F0-3B93-4F7F-AE7D-DC5D002A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33765-7275-4572-8005-D360CD7D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705F3-D621-4B39-BADC-521B7111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2BB18-B7BB-4175-A2A5-CC619DBD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AE5B5-9EFA-4926-912F-014F7B02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DF5DB-AF3D-4358-B289-852141D0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195C7-7A80-472D-86C6-79DC1D7A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51677-8725-4720-B513-0B73F77A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86932-BF26-4ACA-9F4B-AE75EAB2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C5133-A36B-43A1-BDAD-34E40955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846E3-9AA4-4E99-9ACE-D385FE6F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635FB-0DF9-43FF-A39F-ADD4F9A4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AC870-20A7-49F3-8DAA-9BC8E013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4CEB1-9252-4763-AC70-5A5E7DCA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8250D-1E90-40FA-8C27-AF5665CC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88B02-F500-43F0-A7C4-F0FA3A24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F9FF7-C35E-4978-846B-C58F8620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592F7-457F-4536-B646-96052ECD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0B8AA-CD9A-43F5-8261-DD14DC92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9F358-AA3D-4E1F-9452-4FBCB0C5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5D4D7-EFF1-4DFB-B666-DCFDB0F6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3873C-1653-4F6C-A7A4-50B5EF52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A9BD8-58FD-4341-85A3-615097BB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4D3E4-D162-41FE-BB5F-F08B9E31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0831F-7670-4699-A9B2-28D8D57B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156F2-6AC5-471A-A8AD-67CAC2A8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1931D-0F5A-4380-BFDC-C2054561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1E8AA-D46A-4320-9E0A-A2704053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A0A4-A334-405D-B887-60E0C65C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6103F-F3AD-4BF4-A6B4-4526C4E2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13C52-B9DE-4527-B44A-EA33CB57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48F1E-9169-4590-862C-ADF35383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03AF4-B22C-42E4-85DF-E94150F9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333E9-88EA-43F1-84E3-A04F8EA7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DBC4E-B7E2-4E6E-9A41-8E57A16E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BFF66-0C49-4000-8D0C-B93FFD1D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CFF54-898D-4F1C-9314-8DA61FE5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24A3B-B7EE-4044-BDF1-363B952E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CB4DF-21BC-420F-A113-2B0513DC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1271-78C8-4357-BB66-658897FB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CB57E-597B-4178-83F9-491E3E75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1C222-E069-48E9-A3B8-5C888A7C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2B7D3-7451-4AD7-A0FA-BAF5F82A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9928C-26B0-4D8D-8C09-ED525BE6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B17E8-C086-4E41-8F6E-58930529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6DA65-4C1C-4FFC-A6AE-638C6284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1B95E-CB8C-4C68-ADC0-BC265ED9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984AA-A9EA-41B7-8836-A4C631C9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5364E-2727-4E18-BF78-AA67A4BF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EED5A-77FE-49C8-83E6-7221376C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3F10-2160-453E-8390-AF2EFA47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9C832-591A-49EA-B945-F083D09C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F1BE6-EBC0-457F-9E8A-9873DB62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11E4F-7473-4676-A753-1ADAFFFB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DB453-3F1C-4A25-A792-669BB9DF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19804-DC6D-4D95-B79C-642EE473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7040B-3C72-4682-B807-D8725F03E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C07C1-54E8-4624-A19D-B1520692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C8B425-0853-4871-94EF-C56620AD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CD8EFA-995B-4357-B19F-CB58E460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D05F70-0DE7-4F1C-9943-6273F0CD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867E-0CBA-4FF5-A0F1-E290CF43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2B4AF-C09A-4C1A-86D9-E809F1C9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516B7-37D4-4C71-8D32-80EEB775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5F09B7-B50D-431B-94FD-057D711A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9CBFF1-ACE9-4946-ACEB-DA8734A8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807786-0C11-4D4E-A368-6B8B3B26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602917-A854-4BC3-A6A1-27EDC75B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D80B80-B477-4EF4-9D05-F8DC2664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FFEBE8-30F2-4400-857D-4390CA39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4F2CAB-CAA2-4EA1-8D79-DB14DAD5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8A2002-44CE-4E8A-9163-F5A17FD4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885C-56EC-415B-B5EB-C815563E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E37439-9EFF-4F81-9698-BB452CA7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133A2F-AB03-4CB4-9840-1C3E6CE9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8FAB09-1960-46B0-A8C1-29286629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2EC70F-690C-46CA-A374-991E1D5D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D5DCD3-38E8-4D57-AF46-CA199DFE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1CEE70-85D3-4F34-A2DB-7F0892C1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DD9611-CAFC-4F41-80E4-68C6D2B7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1C0862-FA33-4C4F-9417-62E08656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068856-FE6C-426A-B253-56D1ACA8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0C6D92-8C1F-4391-8CDC-9BFC3000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6E6F-C938-4728-8B95-BC901110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FFEE38-18F0-49CA-B718-075C9244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F43724-2E95-4A93-87DB-7BB5A767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A7840B-EA41-4AB9-A100-24B2ADC1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E6EB7C-73E9-47B3-A2C6-4FDC3A88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66207A-7A73-4DE5-BEC7-1E6D07EC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E358A1-8565-40CD-86C9-706BAF1B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41316B-94EB-415E-BBA4-2786F82E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96F140-DDC7-42AD-B247-0FAC0FAE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0AF9C4-C1F6-4824-9F2B-F6830B83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2BBF2C-4472-4E89-8621-6BABBEC8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FDB8-4CB6-4462-8764-9C3F4DD4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4B1BDB-F708-47B7-9DB4-9FC5A511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FAF1DC-E2B6-41D1-9502-EB438DD4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D71AA1-8BBB-43A6-B1CD-9A1B00D3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45AB7E-FCA9-4420-A169-91724738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98B57F-2AC4-4BB0-8816-90D1F988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791F54-7742-4EAA-BACA-8AEC478A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73DA52-0D8B-48A9-99C7-4EBE24A2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C6B64E-F9F3-494F-8C09-3F6C8EDA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E83703-5E3B-4E1A-828B-CAA7F0AD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876268-54EA-4470-8D4E-95FD055F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9885-C6D7-4E41-9100-354CDEF9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919E92-A1F5-494A-A7BD-4BCE8D09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8F7F30-AB32-4CB5-85B8-CF4CC375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90045A-5390-47DF-A958-965778F6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A641A3-C5E9-4771-A9B3-8FB48667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1B8F84-69B3-49DF-A1A0-71EA6089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8C006B-8DDD-4E19-8ED7-56E1F4C9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9E714E-B6F0-4AE5-9253-379B3A49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5EA436-F335-45FE-B91E-56984E9D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54CAA9-0FC6-4979-8F31-14A7BB4C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EEE604-4D25-4C71-88AF-D22C833C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42E5-FF2F-4E2B-BED0-48BEE31B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1719CB-BFEA-4201-A048-B76899A6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9187F7-CFC7-4ECC-BF90-B80E3B2F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422539-2733-46F7-82F7-8560A9DE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319BB7-1FC3-43E0-9374-A982F774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0105ED-BAF2-497C-BB42-D5C9FB96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F70700-DFD7-4783-8ADE-7A7A866C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C5300B-C235-4829-BCDA-88A808D4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1CF9A6-7BC5-4F20-BBB4-D8D50915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A819FE-43C4-4DD4-92C2-1AF4620C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A05C90-92AC-4650-A062-6BC0E54D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C07-E535-4E39-8D7E-95EA35D4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6D1B3F-9EE9-455C-AD31-FC997737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7D6460-A162-407A-BF1B-6BD6F043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2AF0EA-1E5F-439D-8EC0-1D48AB9F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C1DFCA-8741-46AF-818B-8B2A2178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3466A0-D1B3-466D-9677-DDD51B94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2687B9-16B4-491F-9B7C-058F41B4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BD8501-154D-4B8D-AFD6-801351CB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941F7F-716A-409C-B44B-2320023C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007854-7ABF-4BFC-BBBE-87F99B12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665CE3-B7F2-4A1F-8281-A3C9BD27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256D-5A5F-40D4-8B4B-7BD0A1BA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6B0EF1-269F-4413-93FD-36FD8B1C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1D164C-C6B3-4501-A483-BB94AEC3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5200C4-6A21-4544-94AF-109A6316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F65BE1-1B83-4BB7-B439-AA9E1F29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45B94C-4BF2-4AF2-BC90-25F397DC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686D17-A1FE-4FA6-849F-A8323A43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F59455-66A8-46E9-B322-DF63CF6B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6A4C8F-02B6-47F4-896E-97C330DE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5F660D-3085-458E-B89E-2994767A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554B9C-983B-4FFA-91A2-0E96F3AD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1427-9F4B-4A07-83E1-98C8C837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A8690D-598E-47DA-8CF0-4E944B28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15B6-99BF-40A7-942D-99A945A5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EF51-40DF-4D38-B04B-57163849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BF38-25EA-4B37-A719-9BD54EA3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D16D-188B-4E34-9AB5-6618674C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3A8A-2CE8-45A2-8D4C-6105C7DB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90C6-D03B-48B0-B40C-AB1340E0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1298-8498-423B-80A9-0BB81531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4EFD-2C13-4D0E-871B-93E1F893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083F-B9D8-4495-ADB8-06FB2CB1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2D4B-081C-427B-9542-5FF6D7DD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DDDD-DF9A-48A2-881E-7619909E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B571-24A7-4428-BA3B-0537174C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5CC78-8C8F-4698-87D7-638E701B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9F4D7-DB6F-48AD-9700-73C5FBD0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1ABCF-4460-44C2-B9F2-022A22EE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A1C9F-CD09-4EFF-A477-7EBCA19D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CBE2A-1C40-4FA5-B23F-26C215E1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AFF4F-6680-4103-A380-00E25758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9DAF5-B6F7-4D47-9695-5E064962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AC323-325C-4276-84CC-074845AC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944EE-A052-4F32-BFC6-A3FFAC30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B0D63-1BC2-4C93-A868-8CD55BB6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94035-2BFB-4865-9143-D28226E0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9EC97-E53B-4C66-B297-472D7779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1E3F8-8EB4-4891-890A-9770AD0E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2A2F1-C320-4C2E-8D78-E0C5B480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DDAE0-6A5F-468E-9CF0-28D4D60B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0B344-7A0A-4480-9E85-EB1C8650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1B65C-0F20-4E51-8224-24853007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828EB-F78E-420C-A686-5831C298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2841C-7093-4BF4-B1C9-4D6566CB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8442A-E44F-4CB2-8646-075E80E0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17503-AE6E-4EEC-9893-AE2134F9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74210-B7D6-4EDB-9096-C09ABD0E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B4536-C236-4672-A174-A249ED87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C8622-F031-4A34-93D4-BDF7CE31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E4460-B66D-4D3C-B510-C3E1E85C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79B2A-397B-4CDA-9216-8E098522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A5877-0128-475E-831D-54365737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91A78-AF4E-4971-80F5-154CBC7B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B9E21-8A18-4477-8714-5857001C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99171-B82B-4ED7-A70A-CA1BEB17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ADBA5-EF15-45CF-BB31-4612EF03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13352-64AE-4366-9B06-ADA9CA8D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BB563-40B2-4CB8-AF44-896C3C55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55CDA-EB43-47E6-B436-72AA9739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680C6-CAE1-4413-8016-35281468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0F6B4-AC08-4678-B5E3-DDD4B883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8CDF3-D975-4F50-86FA-30CE47CC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BF11A-9BAF-4BCB-83E3-E98CECD5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7EF6E-E78C-47A0-8BF1-8AAEC0D2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C31B5-1C83-41E3-9E82-0658917E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B1786-86D8-48E6-BDDF-08E159E9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4C937-0C55-42DA-9CDE-F3A0B868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53B9E-6130-4CC3-852B-414D7BD5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10D47-D416-4610-AA02-2D44E596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5A418-70FF-49BE-89A7-0D8556B9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95DE7-AAC1-4F26-88BF-420C3583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DB8E8-9D02-4166-A9BC-2CBAFA49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58527-44B9-4B13-903B-51477B7F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257A9-10FD-4419-861C-82105FF2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5BF65-9452-4D1B-A914-DEB76190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C161F-D436-49EF-BAEA-0E986DC3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7B671-BF6D-440D-81ED-7D4A98BB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51DD9-6874-4C70-9781-B5353C68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74B74-6A41-4C08-8052-E3C8E187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31536-8EFA-4A11-8222-13C41375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3B524-4C3E-4A58-AD96-C4565088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B29CE-A2B3-4380-B374-8615E0F3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865E2-FED1-4F98-BC33-151FBDFA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EB31F-89CD-4B17-974C-10C3B7F0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092C5-8E18-4780-AE1C-ECD17BD5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F3958-EC82-451F-B2E7-D48B348B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75E33-FD21-4CD6-9AD0-9E052C0D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BF158-6AC3-455A-A459-F18A181C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7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4DE4-85A0-41B1-9E78-74A8E0E3DA88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2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63DF-367A-4132-BD47-FAF73995569B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6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5BA9-716A-4493-9E9D-DBDB6B8CC5D7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504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0497-52F1-49A4-A826-EDB2A84FC1A6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54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59A3-0449-4511-BE25-8461718399FD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58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6C17-D93C-4768-AFAF-AF58D03124E8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63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B2F1-1313-461F-BF62-5EB2853EC5B6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67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958E-0F61-4EE1-B0AA-C43C1B00B09A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3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714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7774-4BA1-4867-ABB6-7CBF7F715D1F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75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7907-03F6-4817-BB6D-76C24ACA35E7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1D4E-3B13-4585-A0F5-F82FD0A66674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79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6C3B-CB00-4775-A314-E339536B15B2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4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A1BE-49B0-46AB-A74F-67BDB2F40667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2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8AEA-8E8F-4B85-8A43-D61E86F0A262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6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A893-5FD8-49E5-90F4-F9D9A9232067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1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42B7-BE31-4C6C-9F33-82D5168D581F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5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776C-3170-4950-B3C3-DDC2CC3E2E5E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94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BE63-2932-43E1-B256-29E99C172D02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3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DEB6-EE17-49F9-A8D0-D00607618947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9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Box 1"/>
          <p:cNvSpPr/>
          <p:nvPr/>
        </p:nvSpPr>
        <p:spPr>
          <a:xfrm>
            <a:off x="2556000" y="11556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1</a:t>
            </a:r>
            <a:r>
              <a:rPr b="1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	</a:t>
            </a:r>
            <a:r>
              <a:rPr b="1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生活中的负数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直线连接符 21"/>
          <p:cNvSpPr/>
          <p:nvPr/>
        </p:nvSpPr>
        <p:spPr>
          <a:xfrm>
            <a:off x="2700360" y="1989000"/>
            <a:ext cx="446400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9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684360" y="2421000"/>
            <a:ext cx="5167080" cy="3524040"/>
          </a:xfrm>
          <a:prstGeom prst="rect">
            <a:avLst/>
          </a:prstGeom>
          <a:ln w="0">
            <a:noFill/>
          </a:ln>
        </p:spPr>
      </p:pic>
      <p:sp>
        <p:nvSpPr>
          <p:cNvPr id="850" name="TextBox 1"/>
          <p:cNvSpPr/>
          <p:nvPr/>
        </p:nvSpPr>
        <p:spPr>
          <a:xfrm>
            <a:off x="3924360" y="3141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1.1 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天气预报中的负数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 txBox="1"/>
          <p:nvPr/>
        </p:nvSpPr>
        <p:spPr>
          <a:xfrm>
            <a:off x="1000080" y="1700280"/>
            <a:ext cx="7143840" cy="42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写出下面温度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零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零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零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内容占位符 3"/>
          <p:cNvSpPr/>
          <p:nvPr/>
        </p:nvSpPr>
        <p:spPr>
          <a:xfrm>
            <a:off x="4572000" y="2924280"/>
            <a:ext cx="3714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写作：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内容占位符 3"/>
          <p:cNvSpPr/>
          <p:nvPr/>
        </p:nvSpPr>
        <p:spPr>
          <a:xfrm>
            <a:off x="4572000" y="4010040"/>
            <a:ext cx="3714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写作：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-45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内容占位符 3"/>
          <p:cNvSpPr/>
          <p:nvPr/>
        </p:nvSpPr>
        <p:spPr>
          <a:xfrm>
            <a:off x="4572000" y="5162400"/>
            <a:ext cx="37148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写作：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-1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/>
          </p:nvPr>
        </p:nvSpPr>
        <p:spPr>
          <a:xfrm>
            <a:off x="340920" y="772920"/>
            <a:ext cx="4591080" cy="6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1000080" y="3071880"/>
            <a:ext cx="714384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通过这节课说一说你收获了什么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组合 10"/>
          <p:cNvGrpSpPr/>
          <p:nvPr/>
        </p:nvGrpSpPr>
        <p:grpSpPr>
          <a:xfrm>
            <a:off x="268200" y="914400"/>
            <a:ext cx="2255760" cy="569520"/>
            <a:chOff x="268200" y="914400"/>
            <a:chExt cx="2255760" cy="569520"/>
          </a:xfrm>
        </p:grpSpPr>
        <p:sp>
          <p:nvSpPr>
            <p:cNvPr id="852" name="直线连接符 21"/>
            <p:cNvSpPr/>
            <p:nvPr/>
          </p:nvSpPr>
          <p:spPr>
            <a:xfrm flipV="1">
              <a:off x="268200" y="1477800"/>
              <a:ext cx="225576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同侧圆角矩形 23"/>
            <p:cNvSpPr/>
            <p:nvPr/>
          </p:nvSpPr>
          <p:spPr>
            <a:xfrm>
              <a:off x="452160" y="914400"/>
              <a:ext cx="2000160" cy="515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1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4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855" name="TextBox 5"/>
          <p:cNvSpPr/>
          <p:nvPr/>
        </p:nvSpPr>
        <p:spPr>
          <a:xfrm>
            <a:off x="684360" y="1989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TextBox 5"/>
          <p:cNvSpPr/>
          <p:nvPr/>
        </p:nvSpPr>
        <p:spPr>
          <a:xfrm>
            <a:off x="684360" y="378936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Text Box 10"/>
          <p:cNvSpPr/>
          <p:nvPr/>
        </p:nvSpPr>
        <p:spPr>
          <a:xfrm>
            <a:off x="2050920" y="2276640"/>
            <a:ext cx="53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Rectangle 10"/>
          <p:cNvSpPr/>
          <p:nvPr/>
        </p:nvSpPr>
        <p:spPr>
          <a:xfrm>
            <a:off x="1619280" y="2133720"/>
            <a:ext cx="66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经历从天气预报中了解信息、表达信息并解决有关问题的过程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了解天气预报中数字信息的实际意义，能用数学符号表示气温，体会符号思想在温度中的应用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在解决问题的过程中，体会数学与日常生活的密切联系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124000" y="853560"/>
            <a:ext cx="71438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观察下图，你发现了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0" name="Picture 5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000080" y="1876320"/>
            <a:ext cx="7143840" cy="195444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6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966960" y="4019400"/>
            <a:ext cx="7210080" cy="1981440"/>
          </a:xfrm>
          <a:prstGeom prst="rect">
            <a:avLst/>
          </a:prstGeom>
          <a:ln w="0">
            <a:noFill/>
          </a:ln>
        </p:spPr>
      </p:pic>
      <p:sp>
        <p:nvSpPr>
          <p:cNvPr id="862" name="同侧圆角矩形 4"/>
          <p:cNvSpPr/>
          <p:nvPr/>
        </p:nvSpPr>
        <p:spPr>
          <a:xfrm>
            <a:off x="47628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直线连接符 21"/>
          <p:cNvSpPr/>
          <p:nvPr/>
        </p:nvSpPr>
        <p:spPr>
          <a:xfrm flipV="1">
            <a:off x="47628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5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624560" y="785880"/>
            <a:ext cx="3590640" cy="1914480"/>
          </a:xfrm>
          <a:prstGeom prst="rect">
            <a:avLst/>
          </a:prstGeom>
          <a:ln w="0">
            <a:noFill/>
          </a:ln>
        </p:spPr>
      </p:pic>
      <p:sp>
        <p:nvSpPr>
          <p:cNvPr id="865" name="矩形 8"/>
          <p:cNvSpPr/>
          <p:nvPr/>
        </p:nvSpPr>
        <p:spPr>
          <a:xfrm>
            <a:off x="1713960" y="2000160"/>
            <a:ext cx="291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AutoShape 27"/>
          <p:cNvSpPr/>
          <p:nvPr/>
        </p:nvSpPr>
        <p:spPr>
          <a:xfrm>
            <a:off x="1000080" y="2944800"/>
            <a:ext cx="1571760" cy="561600"/>
          </a:xfrm>
          <a:prstGeom prst="wedgeRoundRectCallout">
            <a:avLst>
              <a:gd name="adj1" fmla="val 34930"/>
              <a:gd name="adj2" fmla="val -116171"/>
              <a:gd name="adj3" fmla="val 16667"/>
            </a:avLst>
          </a:prstGeom>
          <a:solidFill>
            <a:srgbClr val="ffffff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地最低气温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AutoShape 27"/>
          <p:cNvSpPr/>
          <p:nvPr/>
        </p:nvSpPr>
        <p:spPr>
          <a:xfrm>
            <a:off x="3429000" y="2944800"/>
            <a:ext cx="1571760" cy="561600"/>
          </a:xfrm>
          <a:prstGeom prst="wedgeRoundRectCallout">
            <a:avLst>
              <a:gd name="adj1" fmla="val -32277"/>
              <a:gd name="adj2" fmla="val -116171"/>
              <a:gd name="adj3" fmla="val 16667"/>
            </a:avLst>
          </a:prstGeom>
          <a:solidFill>
            <a:srgbClr val="ffffff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地最高气温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圆角矩形 11"/>
          <p:cNvSpPr/>
          <p:nvPr/>
        </p:nvSpPr>
        <p:spPr>
          <a:xfrm>
            <a:off x="1870200" y="2027160"/>
            <a:ext cx="1000080" cy="484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圆角矩形 12"/>
          <p:cNvSpPr/>
          <p:nvPr/>
        </p:nvSpPr>
        <p:spPr>
          <a:xfrm>
            <a:off x="3487680" y="2016000"/>
            <a:ext cx="1000080" cy="484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矩形 13"/>
          <p:cNvSpPr/>
          <p:nvPr/>
        </p:nvSpPr>
        <p:spPr>
          <a:xfrm>
            <a:off x="928800" y="441648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气温：是指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空气的温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矩形 16"/>
          <p:cNvSpPr/>
          <p:nvPr/>
        </p:nvSpPr>
        <p:spPr>
          <a:xfrm>
            <a:off x="928800" y="520848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温度：表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冷热的程度，计量单位是摄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氏度，用符号“℃”表示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2" name="组合 14"/>
          <p:cNvGrpSpPr/>
          <p:nvPr/>
        </p:nvGrpSpPr>
        <p:grpSpPr>
          <a:xfrm>
            <a:off x="438120" y="900000"/>
            <a:ext cx="2071800" cy="661680"/>
            <a:chOff x="438120" y="900000"/>
            <a:chExt cx="2071800" cy="661680"/>
          </a:xfrm>
        </p:grpSpPr>
        <p:sp>
          <p:nvSpPr>
            <p:cNvPr id="873" name="直线连接符 21"/>
            <p:cNvSpPr/>
            <p:nvPr/>
          </p:nvSpPr>
          <p:spPr>
            <a:xfrm flipV="1">
              <a:off x="438120" y="155556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同侧圆角矩形 17"/>
            <p:cNvSpPr/>
            <p:nvPr/>
          </p:nvSpPr>
          <p:spPr>
            <a:xfrm>
              <a:off x="438120" y="900000"/>
              <a:ext cx="2000520" cy="516240"/>
            </a:xfrm>
            <a:custGeom>
              <a:avLst/>
              <a:gdLst>
                <a:gd name="textAreaLeft" fmla="*/ 24840 w 2000520"/>
                <a:gd name="textAreaRight" fmla="*/ 1975680 w 2000520"/>
                <a:gd name="textAreaTop" fmla="*/ 2520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lnTo>
                    <a:pt x="1914296" y="0"/>
                  </a:lnTo>
                  <a:arcTo wR="85968" hR="85968" stAng="-5400000" swAng="5400000"/>
                  <a:lnTo>
                    <a:pt x="2000264" y="515796"/>
                  </a:lnTo>
                  <a:lnTo>
                    <a:pt x="0" y="515796"/>
                  </a:lnTo>
                  <a:lnTo>
                    <a:pt x="0" y="85968"/>
                  </a:lnTo>
                  <a:lnTo>
                    <a:pt x="0" y="85968"/>
                  </a:lnTo>
                  <a:arcTo wR="85968" hR="85968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5" name="同侧圆角矩形 18"/>
          <p:cNvSpPr/>
          <p:nvPr/>
        </p:nvSpPr>
        <p:spPr>
          <a:xfrm>
            <a:off x="415800" y="88740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 txBox="1"/>
          <p:nvPr/>
        </p:nvSpPr>
        <p:spPr>
          <a:xfrm>
            <a:off x="846000" y="2071800"/>
            <a:ext cx="7583760" cy="421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低于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℃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的，在数值前添上“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”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如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表示比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低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，读作零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度或负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度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高于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℃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的，在数字前加“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+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”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，一般情况下省略不写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如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7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表示比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7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，读作零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7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度或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7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度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矩形 4"/>
          <p:cNvSpPr/>
          <p:nvPr/>
        </p:nvSpPr>
        <p:spPr>
          <a:xfrm>
            <a:off x="2939040" y="844560"/>
            <a:ext cx="37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温度叫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零下温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矩形 5"/>
          <p:cNvSpPr/>
          <p:nvPr/>
        </p:nvSpPr>
        <p:spPr>
          <a:xfrm>
            <a:off x="2937240" y="1441440"/>
            <a:ext cx="37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温度叫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零上温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000080" y="748800"/>
            <a:ext cx="71438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这天最高气温、最低气温各指的是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0" name="Picture 5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500120" y="1857240"/>
            <a:ext cx="6072120" cy="166068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6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1500120" y="3494160"/>
            <a:ext cx="6072120" cy="1668240"/>
          </a:xfrm>
          <a:prstGeom prst="rect">
            <a:avLst/>
          </a:prstGeom>
          <a:ln w="0">
            <a:noFill/>
          </a:ln>
        </p:spPr>
      </p:pic>
      <p:sp>
        <p:nvSpPr>
          <p:cNvPr id="882" name="矩形 6"/>
          <p:cNvSpPr/>
          <p:nvPr/>
        </p:nvSpPr>
        <p:spPr>
          <a:xfrm>
            <a:off x="1000080" y="520848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最高气温是指这天内温度的最高值；最低气温是指这天内温度的最低值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952560" y="928440"/>
            <a:ext cx="7286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1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摄氏度，哪个温度低，低多少度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矩形 6"/>
          <p:cNvSpPr/>
          <p:nvPr/>
        </p:nvSpPr>
        <p:spPr>
          <a:xfrm>
            <a:off x="1000080" y="4422600"/>
            <a:ext cx="714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-15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表示比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低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度；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-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表示比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低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度，所以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-15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温度低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5" name="Picture 5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000080" y="2260440"/>
            <a:ext cx="7143840" cy="1954440"/>
          </a:xfrm>
          <a:prstGeom prst="rect">
            <a:avLst/>
          </a:prstGeom>
          <a:ln w="0">
            <a:noFill/>
          </a:ln>
        </p:spPr>
      </p:pic>
      <p:sp>
        <p:nvSpPr>
          <p:cNvPr id="886" name="矩形 9"/>
          <p:cNvSpPr/>
          <p:nvPr/>
        </p:nvSpPr>
        <p:spPr>
          <a:xfrm>
            <a:off x="2928960" y="563076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低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000080" y="928440"/>
            <a:ext cx="71438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把北京、哈尔滨、昆明和海口四个城市的最低气温从低到高的顺序排一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1000080" y="5571720"/>
            <a:ext cx="7143840" cy="7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-15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℃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＜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-3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℃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＜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℃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＜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19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9" name="Picture 5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500120" y="2052720"/>
            <a:ext cx="6072120" cy="166032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6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1500120" y="3689280"/>
            <a:ext cx="607212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 txBox="1"/>
          <p:nvPr/>
        </p:nvSpPr>
        <p:spPr>
          <a:xfrm>
            <a:off x="1000080" y="2000160"/>
            <a:ext cx="7143840" cy="16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读出下面的温度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7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℃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1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9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℃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2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内容占位符 3"/>
          <p:cNvSpPr/>
          <p:nvPr/>
        </p:nvSpPr>
        <p:spPr>
          <a:xfrm>
            <a:off x="1000080" y="3786120"/>
            <a:ext cx="71438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℃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作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零上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7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度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内容占位符 3"/>
          <p:cNvSpPr/>
          <p:nvPr/>
        </p:nvSpPr>
        <p:spPr>
          <a:xfrm>
            <a:off x="928800" y="4394160"/>
            <a:ext cx="7143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℃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作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零下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度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内容占位符 3"/>
          <p:cNvSpPr/>
          <p:nvPr/>
        </p:nvSpPr>
        <p:spPr>
          <a:xfrm>
            <a:off x="1000080" y="5000760"/>
            <a:ext cx="7143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℃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作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零上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95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度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内容占位符 3"/>
          <p:cNvSpPr/>
          <p:nvPr/>
        </p:nvSpPr>
        <p:spPr>
          <a:xfrm>
            <a:off x="928800" y="5608800"/>
            <a:ext cx="7143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2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℃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作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零下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度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同侧圆角矩形 8"/>
          <p:cNvSpPr/>
          <p:nvPr/>
        </p:nvSpPr>
        <p:spPr>
          <a:xfrm>
            <a:off x="539640" y="907920"/>
            <a:ext cx="200052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直线连接符 21"/>
          <p:cNvSpPr/>
          <p:nvPr/>
        </p:nvSpPr>
        <p:spPr>
          <a:xfrm flipV="1">
            <a:off x="539640" y="1550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8T13:41:53Z</dcterms:created>
  <dc:creator/>
  <dc:description/>
  <dc:language>en-US</dc:language>
  <cp:lastModifiedBy>User</cp:lastModifiedBy>
  <dcterms:modified xsi:type="dcterms:W3CDTF">2016-03-28T21:35:2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