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C33E-099C-4323-AE24-E09935EB53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A3F8-C424-44B7-BBBF-70AF2F460B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97E8-24FA-4D71-B37C-827AC9C233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9D85-8F54-4953-A3A3-32F6068237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16A0-1656-4EEA-BE58-859CB7F24A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F7F5-BDCF-4DC6-B54C-A2D766096B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839B-861C-4C3A-9E08-3315E4FA24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FC2B-3D9D-40AA-BE24-10DCE7C37A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B567-D4C3-4369-B7A7-A9CB047157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7BDE-6004-44CD-A7C9-83ADA4FB16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42D9-E913-4EE8-B081-76FEA8A8D6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2E75-1AB0-4A85-A3B5-1E3ADFC8E9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28D4-DAAA-457E-9638-C907033233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C4F94-9ADF-4007-8450-8C21BE6C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260C7-ABA4-41A4-96CD-3A5727C2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7F57A-8419-4AAD-95D1-91721CD3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EFD49-99F7-48B3-9809-39895D4B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B6A5E-DFAF-4AA5-90BA-8246598E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D30E1-4936-4F28-A708-60D4DAFF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8F8BA-937C-4E97-987C-799BB43B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09BD9-8C93-4998-9C83-E1663046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0C934-EC79-4A0C-A78D-61991F4F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BCB68-3F7B-4863-9E40-B598DED3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22012-FAEC-44D0-B0D7-B3933BD2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3689B-7C7D-4DB0-87AC-9068C17F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F2FE0-E833-4A9D-8AB9-DD030E11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AE7E6-59A5-4EB4-AB63-A1FF5A8E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EE160-B621-4C91-8FCD-7A422AA9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C2798-773E-48F6-8AB5-B4848689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5F7D9-2EAB-463E-9745-7F2AAE79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3FDF9-C046-4203-840B-2D83B174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AB37A-662D-45B5-A71E-97F8E5D4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0BB5A-0B08-484C-A663-CBD50F25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EA2B3-ABB6-4102-B4F5-021D7FB8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A3DB9-A4B4-4F6E-A79D-A61AD694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C1538-1ACE-49E4-9FD4-4359B2FE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B7659-3D80-4527-95C9-17AC94A4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3F9D1-07F6-4057-A533-830809B4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2FF85-2051-4F6B-932A-8B3636FD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F9761-5717-44AC-A94C-9CF6C574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7AB53-7015-407E-AB3F-FE6EBE72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0F1D7-10BB-4CFB-B53A-FBD11DCE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0440B-8CC9-47B3-A736-7B96EC61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CEF-C80C-4985-9378-4A6DB8D8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188C5-1D9A-4177-855B-47009E81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B3EEA-1A8E-4942-9018-C4057764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1B215-EA1D-46A4-8861-B087E882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7487E-37EF-4C10-9DEC-75ABA3EF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49148-BE43-443A-A857-4CC21456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330F4-C94D-4738-86F6-425AD3D0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C18EF-92D2-42C7-841E-ED711439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E745D-5C52-4283-8083-65CBE821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F195B-6312-496D-B506-E2F4CF9C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6560E-8376-40D1-BD52-5381D31A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D83-809A-44AF-8A04-B26684F8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26C27-EB22-4178-8A03-877F3C58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271AB-3624-4715-BD97-CD708C49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A669E-8BBE-4D88-8233-902B6B01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B4E5F-2CE7-44A6-A2B6-E52EA95D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7D813-7007-422F-B82C-40F9CDA5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BA33B-FAB8-4F29-8902-5B67EC2E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482F3-95F7-48F8-9F2C-F1A3656A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5B4D3-D9BD-4C49-A1C3-97E90719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BB147-D957-492C-8F91-8C686DAB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4ADE5-2612-40C8-8169-AD510E90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AC1-0EEA-4913-A1E0-1D4D9754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B06E4-8E13-44D5-8110-69E418FD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63FC7-F56C-45C6-9096-1763B00C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C5671-63F9-4152-9D41-24BF65AE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EB274-17C7-4EEE-AB2B-25C06FEF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218EF-62A5-48C9-8B18-ECAE6B44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C8022-031B-4487-8797-5B40C23E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8A160-358C-4A2D-BF1A-303E3726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A7F36-A43F-4988-956A-58081DF6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0C137-0D99-4EC4-8177-7F035293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BCFAC-22FF-4DCC-A6E7-8E9FD159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139D-B49E-44C6-948B-E9782A9F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7B2ED-44B6-4818-8801-4DA59AB7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56EEF-5180-4A9F-AE24-757A75B4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0732E-5C2F-4E74-BA07-6536B2CB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3702F-559A-4274-8593-B6A13DC4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99059-E698-4289-980D-CD830D66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C1A0D-1A7D-4E77-9221-F7B106E2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E74D2-2ACA-416F-B378-A1C276D2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A1791-C996-49C8-8FCE-1A04F78E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EAB95-01D5-4018-8C30-7B58BF81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55C1C-3714-4618-85F5-B62B230C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A52-A043-4532-B662-CDFB29AF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A0F42-E71D-4A10-982A-344A08BB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BE6E5-0846-4D0D-8E45-7C0F03EF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765D34-FACD-43AE-A367-CC19B2F6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D65168-1066-46B9-8A84-62E8D450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25B10-57EF-42A8-805C-A6481688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DF009C-3194-4540-9F71-50505B92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7A4B96-AD17-4EA1-8BC6-DB71B1D6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9A8DCE-253F-497B-8577-9A3EB63E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593E4A-DB51-4B51-A1EA-EF3D5F65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31677-DD4F-4BFD-B670-A8FE9FF5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DDAA-E447-4812-BD88-F6BAA544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B95F27-889D-4F69-B803-834CF2E4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A2EFB-A537-45F5-A740-5FD4D3D9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F258B-D7DE-4FC6-BE26-278ADB1C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2E4167-E433-445F-8D18-D01374F7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40CA1-5EC5-4A76-B0E4-B2429B90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B6B116-1EB6-43A6-B04E-DC47FD76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71E742-03CD-468A-9B3C-16859EB5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AAF06C-2EB7-4A56-9D1B-A740611B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48429-F67A-4EAD-9E61-8ABEE645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C5FA93-17F2-4BE8-BEDF-373A70F1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897-10C9-4E8A-8DA7-60C0138B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87EDED-FF45-4CD7-9DB7-9A210FCC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23C209-D879-49A1-A77C-DB8F26B4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C4D190-8DFB-400D-B354-4A2E2679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66E5D8-4CFA-4930-BA2D-02FB54E2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D5F357-D6E8-4C57-8ED3-FE312341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137B1B-8FAC-4FB8-ADE9-8F208FA2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40B470-96EB-4B20-AFF7-39E79607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C36B7-986C-4199-9CCD-49729D0C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EAC308-0440-4C42-9A14-33640DA8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F1555-D56D-4409-9B81-0E1546E2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689-C5CD-4B60-B79A-641F68B4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E93913-AE25-4766-BA4D-4E3F59F2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BAFC7-852D-45FC-BA87-A7F9D0B6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55132F-6636-4C60-AF09-49014A91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0825DD-0F23-4504-A839-2E838537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66DF37-48FC-4344-97D9-99F96E2C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1D8751-D169-49D0-9AAD-A7359903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2453EE-245E-4215-B0DB-95CD4EFC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BC755C-439A-495F-98BC-10495E20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2F7919-76EB-45AB-AF50-8C4A450B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EE1060-5730-41B6-AEAA-41DB2DE8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C82-FC95-472C-9C25-8E2D45B6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1786E2-C3AF-4AC6-A728-9F0502D2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92FE3E-9AB7-4A98-B2FC-3B4BAD7F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DC0469-2097-45CA-89A8-506B88BD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E0C83-EB8A-4576-A97D-F98D2665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C6F0BD-651A-456B-8C34-852D6A2A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3E46E0-C049-4994-AEAE-1BB82609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176224-B68E-4F66-B8A0-D20C27F5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BCBF3E-94E0-4627-944F-3F3D77B1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DFF8C-49D0-487E-9CAD-1FBD1137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8A46F5-B024-4D7F-9AFC-2ADACE76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7FE-4A5F-493F-B138-E7801762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76966D-B03B-498A-A817-2F0D5CAF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F2C353-2931-4DC7-9A77-A9362D5A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DAF46A-1830-4A9F-89E1-8BE05AB1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740B64-6E31-4B71-A30B-2B2A2FE9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62A937-2009-4351-A0F5-6DAE652A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FCA07A-249D-48FB-98B8-FDA66810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6BB12A-2D97-4C56-AB26-C6F47370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992A35-16D2-473E-B095-0BEDB4EB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27AFBD-FD2E-4E0F-8AFE-ED4D6C66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1A306C-81EF-4811-A827-9FDEC5A7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A2B-50F1-4BAF-8BA9-4DAAA365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E4CFDC-4DDA-4A66-AFF0-712D5405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48B460-C58E-429B-9F07-3D5A6218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F3F3A5-CBF3-4BBB-A397-957AD7B7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022130-7F9B-49E5-933A-91675200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FB44EA-BD11-4B41-BFE3-F04FD24E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6D244C-01A6-4C64-AFBD-09E89ED2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B9FDBE-83B9-43C7-BC23-46F85286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63EDB9-F801-4CF6-BBC1-C6E790DA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0D8D26-D3B5-40A8-9D77-F57C0D1E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673857-5F2D-42DA-A132-235AB489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0C0-18C2-4F0D-95F9-CA80B088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CA9EBA-54DE-4873-86B9-4BE25CBA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25DA63-E59D-430E-BB06-78ED1B3D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CACF48-4C19-4A04-BD7C-3E994826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942271-A280-40B7-83D6-DE47CEED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01CCA4-B677-4D60-B250-ECB8BB04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93CEB-0846-467F-955D-ECD66606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A148B3-F681-4231-A8A3-66335F5D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9F6D5B-CB8B-494E-9A23-CC4F086D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10727D-013E-42BD-91C1-BF6C703C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A02B3E-1235-4697-A1F1-B3DB1B57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3BAA-797B-4D29-A179-B1BCB0CB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C6CB6B-D0AC-4B47-8855-B6A42104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0AEF11-874E-45D0-95B4-76CA71D7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994542-8C6C-46CB-9731-E82048F0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234FAE-E302-4914-A020-BCB9B41A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168085-2D5B-41B8-BD52-173E3A3F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4705AC-C705-4247-85F6-6E7CCAA5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5A7246-3A9D-47BA-8C5E-6A037758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81A216-E5AA-4542-B4DF-21AC5E87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1CA7E7-D2F8-4DBA-AC99-302AA2E6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EE66F5-6FA6-4527-A6DC-AC56DA08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FBE7-C461-4F95-BA29-C9A0D5FA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108B6E-421B-4792-84F3-41C0B61B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4ABD81-CC11-4FFF-AA7C-1D29C9DC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C7F4E4-E925-4EC6-A946-8EEEBA8F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8A4333-9FF6-485D-872A-B55985B6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9E4333-1B40-4801-9A05-4392050A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3B55-C6D2-45FC-93E5-2F281632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9BE6-556C-4D41-8CBE-EF7F6113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7C96-B06A-4667-B83F-84396A0B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6580-8CA7-4D3A-B73B-B8A9A527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7D58-6B0C-4E0F-BEF8-89A75B25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D62F-B05C-4467-8987-A36FCF4E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8BF3-7BC4-4600-8476-F3A38B87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C56E-A263-4225-A422-89DBFCEB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9EAE-DF94-4BAF-AC4F-61ECA3A5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89BB-66B1-4973-A66D-64505C28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C7D63-94E0-42E6-86D5-D7F9D2A2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DBB8D-A26E-48C0-A500-2F6BB492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AD69A-7AAD-43DD-A06C-F5FCC229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C6C26-5BD8-4F37-B06A-736DC358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19895-017C-43A8-A1F8-97DE3069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3EB55-A1CA-44D1-BEE6-59F9022C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54DB8-2636-4261-8A0E-B3994B99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F03D9-945E-4E16-A337-67AD4D85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64EB6-DB38-4690-A34D-60430812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40299-D62E-469E-8F26-A81E66A1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B60C0-DF9C-4559-B520-82C1C448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75F27-E9B7-40F6-B13D-7027B2C0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BC4AE-3006-435D-8184-4CDD0A66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B766E-6998-4BED-93CA-3EB67B44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B26CB-0644-442C-BF4A-14DC33AA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AD09E-2CAD-4877-86A7-EFDAB240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18909-E263-4260-8A90-79C35E48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7B5F8-EDFC-40DF-8ACE-5B8E39DC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5A7FB-4837-4DAC-913E-F8D57075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ED5C6-D99F-4CB8-B417-9E3A1F8A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C94E0-F973-415B-806D-39F6E21A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2DC0F-5110-4F3B-A850-69C5B073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DA879-AFBB-42DE-BC08-1A006B71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48255-6A12-45E6-897B-2D0B1159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81F6E-43EF-4591-B513-B2532AEE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8C258-2D13-49F1-987A-8413DD5D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40659-C188-4124-B16E-46005699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B1334-33AF-40D6-88E0-E5D0150E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50232-5EC0-4281-8D6A-01B5F213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684BB-2A62-489A-BD3A-DF7CB988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8C63E-949D-4195-B999-FE185E65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6D485-D8A9-439D-9083-57A8C8AE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DAC23-0172-44A2-AE79-DEE053DD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D3ADC-0FE1-4EB3-A126-0AAF76B4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CAB68-176A-4C27-A328-2256F0E7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5D4C3-E056-4AFB-8EB2-C7EC2875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3E29D-1FF7-4FA7-9F20-19F30298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C4BC6-37F3-4259-9F03-C768B24E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7FD76-4D31-4977-9FC9-FDDDFDB5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9EBD4-1503-4498-B2BC-D70E9C6A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8B977-BB74-4670-934E-6D9DF042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B2E52-8572-40AA-9959-696EA10C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DE038-613A-4216-86BA-954B51EE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3AC72-E2FA-49C0-B1CB-209DDF4C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445BF-6610-4A38-B4EA-79777800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AC9AE-5EAB-4C30-88C4-6D3AEEEB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3BCB4-C1DC-40AB-8CCC-ED5AD7A8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A2230-6F16-46CC-9712-FF1DC1B2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D8C01-9065-4BB5-854B-9FACC53F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D7934-381E-49B4-A74B-7A1D2374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22234-8B43-4EA0-8A81-88727B21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57244-C0E6-4C8E-A1D3-57C9880C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AD9D6-8474-474F-AD3E-7E15B267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257C5-0678-4730-B0BF-B27FA3C4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8F4F6-B639-42A4-9602-35DDBE02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B990A-A362-4A06-8E65-D95B807F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25982-38FC-49D3-8F87-2A69B617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E4116-2D35-4C67-A601-5468230E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AD2B1-1A9F-48E3-86C0-473D1495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51372-8E3F-4A0D-8406-A8722086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11E85-8BC3-463C-A91E-3B51ED98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F951C-2397-4913-9809-8B89D507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C2345-21B1-47BE-ABB7-7B67825B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7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166F-392D-46C6-8EE9-7CAD4542D990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2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0F0A-22AD-4067-87E1-A0F56CDF169D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6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3EC5-DE30-45A8-9151-A33ED038125D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0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F986-51D4-4701-8DC4-FA2E6B1182DD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4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B1A6-47DB-483A-AA6E-195A3ECC491B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9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3EDF-D4CA-4FD8-ACD6-0FA1B1F072AB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3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24AD-0544-4959-BDE6-D7231AE8A536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7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8F8E-5292-46FD-AE42-3580836198F6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1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55C7-1B7E-4885-81E0-1DEA19CDC46F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5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8CE7-D592-45A4-AAB7-F852594C668A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B56C-EB67-4185-8100-87C2A65786BC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0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B579-47FF-41F5-A530-ADC5EF888DDA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4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8044-5D46-4D8F-BD70-E0F35252F312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8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04A0-2A7B-409A-ABCC-260FD39E118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3E93-1D85-4D17-BAB7-CC01063F8F93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CC62-30B8-49C0-B951-37D79E96DAB9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6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D36C-BBF7-48C7-AD20-6834E85D47C3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1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C89D-F2EE-4207-8387-BD4451146B0F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5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7CE5-0792-46BA-8A75-E33A3EB730C7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9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66F4-B968-4B4B-AD55-3525F5F6DD9E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DB5E-6ACB-47C1-A521-BF95E663A985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Box 1"/>
          <p:cNvSpPr/>
          <p:nvPr/>
        </p:nvSpPr>
        <p:spPr>
          <a:xfrm>
            <a:off x="2556000" y="11556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1</a:t>
            </a:r>
            <a:r>
              <a:rPr b="1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生活中的负数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直线连接符 21"/>
          <p:cNvSpPr/>
          <p:nvPr/>
        </p:nvSpPr>
        <p:spPr>
          <a:xfrm>
            <a:off x="2700360" y="1989000"/>
            <a:ext cx="4464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934" name="TextBox 1"/>
          <p:cNvSpPr/>
          <p:nvPr/>
        </p:nvSpPr>
        <p:spPr>
          <a:xfrm>
            <a:off x="3924360" y="3141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1.3 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用负数表示实际问题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000080" y="891720"/>
            <a:ext cx="7143840" cy="89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生活中的正、负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1000080" y="1999800"/>
            <a:ext cx="7143840" cy="407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前进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米，记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5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米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后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米，记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5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米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赢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元，记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8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元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亏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元，记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8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元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水温上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摄氏度，记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1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水温下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摄氏度，记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1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6" name="图片 7" descr="7.jpg"/>
          <p:cNvPicPr/>
          <p:nvPr/>
        </p:nvPicPr>
        <p:blipFill>
          <a:blip r:embed="rId1"/>
          <a:stretch/>
        </p:blipFill>
        <p:spPr>
          <a:xfrm>
            <a:off x="1285920" y="4929120"/>
            <a:ext cx="1189080" cy="1619280"/>
          </a:xfrm>
          <a:prstGeom prst="rect">
            <a:avLst/>
          </a:prstGeom>
          <a:ln w="0">
            <a:noFill/>
          </a:ln>
        </p:spPr>
      </p:pic>
      <p:sp>
        <p:nvSpPr>
          <p:cNvPr id="1017" name="圆角矩形标注 8"/>
          <p:cNvSpPr/>
          <p:nvPr/>
        </p:nvSpPr>
        <p:spPr>
          <a:xfrm>
            <a:off x="2714760" y="5214960"/>
            <a:ext cx="5429160" cy="857160"/>
          </a:xfrm>
          <a:prstGeom prst="wedgeRoundRectCallout">
            <a:avLst>
              <a:gd name="adj1" fmla="val -55138"/>
              <a:gd name="adj2" fmla="val -8611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黑体"/>
                <a:ea typeface="黑体"/>
              </a:rPr>
              <a:t>你还知道生活中有哪些事情可以用正、负数表示？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8" name="组合 5"/>
          <p:cNvGrpSpPr/>
          <p:nvPr/>
        </p:nvGrpSpPr>
        <p:grpSpPr>
          <a:xfrm>
            <a:off x="396720" y="887400"/>
            <a:ext cx="2071800" cy="661680"/>
            <a:chOff x="396720" y="887400"/>
            <a:chExt cx="2071800" cy="661680"/>
          </a:xfrm>
        </p:grpSpPr>
        <p:sp>
          <p:nvSpPr>
            <p:cNvPr id="1019" name="直线连接符 21"/>
            <p:cNvSpPr/>
            <p:nvPr/>
          </p:nvSpPr>
          <p:spPr>
            <a:xfrm flipV="1">
              <a:off x="396720" y="154296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同侧圆角矩形 10"/>
            <p:cNvSpPr/>
            <p:nvPr/>
          </p:nvSpPr>
          <p:spPr>
            <a:xfrm>
              <a:off x="396720" y="887400"/>
              <a:ext cx="2000520" cy="51624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1" name="同侧圆角矩形 11"/>
          <p:cNvSpPr/>
          <p:nvPr/>
        </p:nvSpPr>
        <p:spPr>
          <a:xfrm>
            <a:off x="372960" y="87480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 txBox="1"/>
          <p:nvPr/>
        </p:nvSpPr>
        <p:spPr>
          <a:xfrm>
            <a:off x="713880" y="1999800"/>
            <a:ext cx="7858440" cy="428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填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体重减少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千克，可以记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；体重增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千克，可以记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河水下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毫米，可以记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；河水上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毫米，可以记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TextBox 4"/>
          <p:cNvSpPr/>
          <p:nvPr/>
        </p:nvSpPr>
        <p:spPr>
          <a:xfrm>
            <a:off x="6500880" y="24526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千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TextBox 5"/>
          <p:cNvSpPr/>
          <p:nvPr/>
        </p:nvSpPr>
        <p:spPr>
          <a:xfrm>
            <a:off x="5548320" y="2927520"/>
            <a:ext cx="14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+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千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TextBox 6"/>
          <p:cNvSpPr/>
          <p:nvPr/>
        </p:nvSpPr>
        <p:spPr>
          <a:xfrm>
            <a:off x="6715080" y="392904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1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毫米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TextBox 7"/>
          <p:cNvSpPr/>
          <p:nvPr/>
        </p:nvSpPr>
        <p:spPr>
          <a:xfrm>
            <a:off x="5691240" y="44038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+1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毫米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同侧圆角矩形 8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774360" y="1999800"/>
            <a:ext cx="792972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根据下表写出亮亮家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月份的收支情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0" name="组合 27"/>
          <p:cNvGrpSpPr/>
          <p:nvPr/>
        </p:nvGrpSpPr>
        <p:grpSpPr>
          <a:xfrm>
            <a:off x="1000080" y="2809800"/>
            <a:ext cx="7500960" cy="1813680"/>
            <a:chOff x="1000080" y="2809800"/>
            <a:chExt cx="7500960" cy="1813680"/>
          </a:xfrm>
        </p:grpSpPr>
        <p:sp>
          <p:nvSpPr>
            <p:cNvPr id="1031" name="直接连接符 6"/>
            <p:cNvSpPr/>
            <p:nvPr/>
          </p:nvSpPr>
          <p:spPr>
            <a:xfrm>
              <a:off x="1000080" y="3284280"/>
              <a:ext cx="7143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直接连接符 7"/>
            <p:cNvSpPr/>
            <p:nvPr/>
          </p:nvSpPr>
          <p:spPr>
            <a:xfrm>
              <a:off x="1000080" y="3784680"/>
              <a:ext cx="7143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直接连接符 8"/>
            <p:cNvSpPr/>
            <p:nvPr/>
          </p:nvSpPr>
          <p:spPr>
            <a:xfrm>
              <a:off x="1000080" y="4284720"/>
              <a:ext cx="7143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直接连接符 10"/>
            <p:cNvSpPr/>
            <p:nvPr/>
          </p:nvSpPr>
          <p:spPr>
            <a:xfrm flipH="1">
              <a:off x="1998360" y="3286080"/>
              <a:ext cx="1440" cy="10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直接连接符 11"/>
            <p:cNvSpPr/>
            <p:nvPr/>
          </p:nvSpPr>
          <p:spPr>
            <a:xfrm flipH="1">
              <a:off x="3141720" y="3286080"/>
              <a:ext cx="1440" cy="10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直接连接符 12"/>
            <p:cNvSpPr/>
            <p:nvPr/>
          </p:nvSpPr>
          <p:spPr>
            <a:xfrm flipH="1">
              <a:off x="4286160" y="3286080"/>
              <a:ext cx="1440" cy="10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直接连接符 13"/>
            <p:cNvSpPr/>
            <p:nvPr/>
          </p:nvSpPr>
          <p:spPr>
            <a:xfrm flipH="1">
              <a:off x="5499000" y="3286080"/>
              <a:ext cx="1440" cy="10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直接连接符 14"/>
            <p:cNvSpPr/>
            <p:nvPr/>
          </p:nvSpPr>
          <p:spPr>
            <a:xfrm flipH="1">
              <a:off x="6786720" y="3286080"/>
              <a:ext cx="1440" cy="10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TextBox 15"/>
            <p:cNvSpPr/>
            <p:nvPr/>
          </p:nvSpPr>
          <p:spPr>
            <a:xfrm>
              <a:off x="6715080" y="2809800"/>
              <a:ext cx="178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单位：元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TextBox 16"/>
            <p:cNvSpPr/>
            <p:nvPr/>
          </p:nvSpPr>
          <p:spPr>
            <a:xfrm>
              <a:off x="1000080" y="331020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工 资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TextBox 17"/>
            <p:cNvSpPr/>
            <p:nvPr/>
          </p:nvSpPr>
          <p:spPr>
            <a:xfrm>
              <a:off x="1000080" y="3798000"/>
              <a:ext cx="100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5800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TextBox 18"/>
            <p:cNvSpPr/>
            <p:nvPr/>
          </p:nvSpPr>
          <p:spPr>
            <a:xfrm>
              <a:off x="2000160" y="3309480"/>
              <a:ext cx="12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伙食费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TextBox 19"/>
            <p:cNvSpPr/>
            <p:nvPr/>
          </p:nvSpPr>
          <p:spPr>
            <a:xfrm>
              <a:off x="2000160" y="3797640"/>
              <a:ext cx="100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1850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TextBox 20"/>
            <p:cNvSpPr/>
            <p:nvPr/>
          </p:nvSpPr>
          <p:spPr>
            <a:xfrm>
              <a:off x="3286080" y="332208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奖 金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TextBox 21"/>
            <p:cNvSpPr/>
            <p:nvPr/>
          </p:nvSpPr>
          <p:spPr>
            <a:xfrm>
              <a:off x="3286080" y="38102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600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TextBox 22"/>
            <p:cNvSpPr/>
            <p:nvPr/>
          </p:nvSpPr>
          <p:spPr>
            <a:xfrm>
              <a:off x="4286160" y="3321720"/>
              <a:ext cx="12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水电费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TextBox 23"/>
            <p:cNvSpPr/>
            <p:nvPr/>
          </p:nvSpPr>
          <p:spPr>
            <a:xfrm>
              <a:off x="4429080" y="380952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240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TextBox 24"/>
            <p:cNvSpPr/>
            <p:nvPr/>
          </p:nvSpPr>
          <p:spPr>
            <a:xfrm>
              <a:off x="5643720" y="330948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买 书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TextBox 25"/>
            <p:cNvSpPr/>
            <p:nvPr/>
          </p:nvSpPr>
          <p:spPr>
            <a:xfrm>
              <a:off x="5643720" y="37976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200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TextBox 26"/>
            <p:cNvSpPr/>
            <p:nvPr/>
          </p:nvSpPr>
          <p:spPr>
            <a:xfrm>
              <a:off x="7000920" y="33242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 余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1" name="内容占位符 2"/>
          <p:cNvSpPr/>
          <p:nvPr/>
        </p:nvSpPr>
        <p:spPr>
          <a:xfrm>
            <a:off x="928800" y="4643280"/>
            <a:ext cx="721512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爸爸妈妈的工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伙食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奖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水电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买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TextBox 29"/>
          <p:cNvSpPr/>
          <p:nvPr/>
        </p:nvSpPr>
        <p:spPr>
          <a:xfrm>
            <a:off x="3965400" y="45957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80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TextBox 31"/>
          <p:cNvSpPr/>
          <p:nvPr/>
        </p:nvSpPr>
        <p:spPr>
          <a:xfrm>
            <a:off x="1106640" y="508320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85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TextBox 32"/>
          <p:cNvSpPr/>
          <p:nvPr/>
        </p:nvSpPr>
        <p:spPr>
          <a:xfrm>
            <a:off x="3929040" y="508320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60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TextBox 33"/>
          <p:cNvSpPr/>
          <p:nvPr/>
        </p:nvSpPr>
        <p:spPr>
          <a:xfrm>
            <a:off x="1108080" y="559260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4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TextBox 34"/>
          <p:cNvSpPr/>
          <p:nvPr/>
        </p:nvSpPr>
        <p:spPr>
          <a:xfrm>
            <a:off x="3929040" y="559440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/>
          </p:nvPr>
        </p:nvSpPr>
        <p:spPr>
          <a:xfrm>
            <a:off x="340920" y="1060200"/>
            <a:ext cx="459108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1000080" y="3071880"/>
            <a:ext cx="714384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通过这节课说一说你收获了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组合 10"/>
          <p:cNvGrpSpPr/>
          <p:nvPr/>
        </p:nvGrpSpPr>
        <p:grpSpPr>
          <a:xfrm>
            <a:off x="268200" y="914400"/>
            <a:ext cx="2255760" cy="569520"/>
            <a:chOff x="268200" y="914400"/>
            <a:chExt cx="2255760" cy="569520"/>
          </a:xfrm>
        </p:grpSpPr>
        <p:sp>
          <p:nvSpPr>
            <p:cNvPr id="936" name="直线连接符 21"/>
            <p:cNvSpPr/>
            <p:nvPr/>
          </p:nvSpPr>
          <p:spPr>
            <a:xfrm flipV="1">
              <a:off x="268200" y="147780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同侧圆角矩形 23"/>
            <p:cNvSpPr/>
            <p:nvPr/>
          </p:nvSpPr>
          <p:spPr>
            <a:xfrm>
              <a:off x="452160" y="91440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939" name="TextBox 5"/>
          <p:cNvSpPr/>
          <p:nvPr/>
        </p:nvSpPr>
        <p:spPr>
          <a:xfrm>
            <a:off x="684360" y="1413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5"/>
          <p:cNvSpPr/>
          <p:nvPr/>
        </p:nvSpPr>
        <p:spPr>
          <a:xfrm>
            <a:off x="684360" y="3809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 Box 10"/>
          <p:cNvSpPr/>
          <p:nvPr/>
        </p:nvSpPr>
        <p:spPr>
          <a:xfrm>
            <a:off x="2050920" y="227664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ectangle 10"/>
          <p:cNvSpPr/>
          <p:nvPr/>
        </p:nvSpPr>
        <p:spPr>
          <a:xfrm>
            <a:off x="1619280" y="162864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结合熟悉的事例，经历用正、负数表示生活中简单事物的过程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进一步认识负数，初步体会用正、负数可以表示具有相反意义的量并会运用 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感受数学与生活的密切联系，体会用正、负数表示事物在实际生活中的意义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1000080" y="1214280"/>
            <a:ext cx="7143840" cy="507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读数，哪些是正数，哪些是负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某日傍晚，黄山的气温由上午的零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摄氏度下降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摄氏度，这天傍晚黄山的气温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摄氏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同侧圆角矩形 2"/>
          <p:cNvSpPr/>
          <p:nvPr/>
        </p:nvSpPr>
        <p:spPr>
          <a:xfrm>
            <a:off x="447840" y="620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直线连接符 21"/>
          <p:cNvSpPr/>
          <p:nvPr/>
        </p:nvSpPr>
        <p:spPr>
          <a:xfrm flipV="1">
            <a:off x="447840" y="127620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457280" y="1550520"/>
            <a:ext cx="714384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吐鲁番盆地比海平面大约低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米，记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15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7" name="Picture 2" descr=""/>
          <p:cNvPicPr/>
          <p:nvPr/>
        </p:nvPicPr>
        <p:blipFill>
          <a:blip r:embed="rId1"/>
          <a:stretch/>
        </p:blipFill>
        <p:spPr>
          <a:xfrm>
            <a:off x="1309680" y="2571840"/>
            <a:ext cx="6559560" cy="2052720"/>
          </a:xfrm>
          <a:prstGeom prst="rect">
            <a:avLst/>
          </a:prstGeom>
          <a:ln w="0">
            <a:noFill/>
          </a:ln>
        </p:spPr>
      </p:pic>
      <p:sp>
        <p:nvSpPr>
          <p:cNvPr id="948" name="TextBox 5"/>
          <p:cNvSpPr/>
          <p:nvPr/>
        </p:nvSpPr>
        <p:spPr>
          <a:xfrm>
            <a:off x="928800" y="507204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图中你发现了什么？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同侧圆角矩形 4"/>
          <p:cNvSpPr/>
          <p:nvPr/>
        </p:nvSpPr>
        <p:spPr>
          <a:xfrm>
            <a:off x="420840" y="88884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直线连接符 21"/>
          <p:cNvSpPr/>
          <p:nvPr/>
        </p:nvSpPr>
        <p:spPr>
          <a:xfrm flipV="1">
            <a:off x="420840" y="1544400"/>
            <a:ext cx="2071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19280" y="1514160"/>
            <a:ext cx="7143840" cy="89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楼房的地下室可以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来表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TextBox 5"/>
          <p:cNvSpPr/>
          <p:nvPr/>
        </p:nvSpPr>
        <p:spPr>
          <a:xfrm>
            <a:off x="928800" y="507204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图中你发现了什么？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071880" y="2357280"/>
            <a:ext cx="2954160" cy="2376720"/>
          </a:xfrm>
          <a:prstGeom prst="rect">
            <a:avLst/>
          </a:prstGeom>
          <a:ln w="0">
            <a:noFill/>
          </a:ln>
        </p:spPr>
      </p:pic>
      <p:sp>
        <p:nvSpPr>
          <p:cNvPr id="954" name="同侧圆角矩形 8"/>
          <p:cNvSpPr/>
          <p:nvPr/>
        </p:nvSpPr>
        <p:spPr>
          <a:xfrm>
            <a:off x="420840" y="88884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直线连接符 21"/>
          <p:cNvSpPr/>
          <p:nvPr/>
        </p:nvSpPr>
        <p:spPr>
          <a:xfrm flipV="1">
            <a:off x="420840" y="1544400"/>
            <a:ext cx="2071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357200" y="748800"/>
            <a:ext cx="6786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帮妈妈设计记事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713880" y="1928880"/>
            <a:ext cx="792972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下面是红红妈妈做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月份家庭收支记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8" name="Picture 5" descr=""/>
          <p:cNvPicPr/>
          <p:nvPr/>
        </p:nvPicPr>
        <p:blipFill>
          <a:blip r:embed="rId1"/>
          <a:stretch/>
        </p:blipFill>
        <p:spPr>
          <a:xfrm>
            <a:off x="2000160" y="2571840"/>
            <a:ext cx="4997520" cy="3635280"/>
          </a:xfrm>
          <a:prstGeom prst="rect">
            <a:avLst/>
          </a:prstGeom>
          <a:ln w="0">
            <a:noFill/>
          </a:ln>
        </p:spPr>
      </p:pic>
      <p:sp>
        <p:nvSpPr>
          <p:cNvPr id="959" name="同侧圆角矩形 4"/>
          <p:cNvSpPr/>
          <p:nvPr/>
        </p:nvSpPr>
        <p:spPr>
          <a:xfrm>
            <a:off x="420840" y="88884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直线连接符 21"/>
          <p:cNvSpPr/>
          <p:nvPr/>
        </p:nvSpPr>
        <p:spPr>
          <a:xfrm flipV="1">
            <a:off x="420840" y="1544400"/>
            <a:ext cx="2071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834920" y="1412640"/>
            <a:ext cx="7143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怎样做家庭收支记录更简单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2" name="Picture 5" descr=""/>
          <p:cNvPicPr/>
          <p:nvPr/>
        </p:nvPicPr>
        <p:blipFill>
          <a:blip r:embed="rId1"/>
          <a:stretch/>
        </p:blipFill>
        <p:spPr>
          <a:xfrm>
            <a:off x="1625760" y="2000160"/>
            <a:ext cx="5892480" cy="4286520"/>
          </a:xfrm>
          <a:prstGeom prst="rect">
            <a:avLst/>
          </a:prstGeom>
          <a:ln w="0">
            <a:noFill/>
          </a:ln>
        </p:spPr>
      </p:pic>
      <p:grpSp>
        <p:nvGrpSpPr>
          <p:cNvPr id="963" name="组合 3"/>
          <p:cNvGrpSpPr/>
          <p:nvPr/>
        </p:nvGrpSpPr>
        <p:grpSpPr>
          <a:xfrm>
            <a:off x="396720" y="887400"/>
            <a:ext cx="2071800" cy="661680"/>
            <a:chOff x="396720" y="887400"/>
            <a:chExt cx="2071800" cy="661680"/>
          </a:xfrm>
        </p:grpSpPr>
        <p:sp>
          <p:nvSpPr>
            <p:cNvPr id="964" name="直线连接符 21"/>
            <p:cNvSpPr/>
            <p:nvPr/>
          </p:nvSpPr>
          <p:spPr>
            <a:xfrm flipV="1">
              <a:off x="396720" y="154296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同侧圆角矩形 5"/>
            <p:cNvSpPr/>
            <p:nvPr/>
          </p:nvSpPr>
          <p:spPr>
            <a:xfrm>
              <a:off x="396720" y="887400"/>
              <a:ext cx="2000520" cy="51624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6" name="同侧圆角矩形 6"/>
          <p:cNvSpPr/>
          <p:nvPr/>
        </p:nvSpPr>
        <p:spPr>
          <a:xfrm>
            <a:off x="372960" y="87480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357200" y="748800"/>
            <a:ext cx="6786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帮妈妈设计记事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928800" y="1928880"/>
            <a:ext cx="7286400" cy="29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目的：快捷记录家庭每月收支情况，使家庭每月收支情况一目了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方法：制作记事卡，收入的钱用正数表示，支出的钱用负数表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9" name="组合 3"/>
          <p:cNvGrpSpPr/>
          <p:nvPr/>
        </p:nvGrpSpPr>
        <p:grpSpPr>
          <a:xfrm>
            <a:off x="396720" y="887400"/>
            <a:ext cx="2071800" cy="661680"/>
            <a:chOff x="396720" y="887400"/>
            <a:chExt cx="2071800" cy="661680"/>
          </a:xfrm>
        </p:grpSpPr>
        <p:sp>
          <p:nvSpPr>
            <p:cNvPr id="970" name="直线连接符 21"/>
            <p:cNvSpPr/>
            <p:nvPr/>
          </p:nvSpPr>
          <p:spPr>
            <a:xfrm flipV="1">
              <a:off x="396720" y="154296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同侧圆角矩形 5"/>
            <p:cNvSpPr/>
            <p:nvPr/>
          </p:nvSpPr>
          <p:spPr>
            <a:xfrm>
              <a:off x="396720" y="887400"/>
              <a:ext cx="2000520" cy="51624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2" name="同侧圆角矩形 6"/>
          <p:cNvSpPr/>
          <p:nvPr/>
        </p:nvSpPr>
        <p:spPr>
          <a:xfrm>
            <a:off x="372960" y="87480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357200" y="748800"/>
            <a:ext cx="6786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帮妈妈设计记事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直接连接符 18"/>
          <p:cNvSpPr/>
          <p:nvPr/>
        </p:nvSpPr>
        <p:spPr>
          <a:xfrm>
            <a:off x="2451240" y="7499520"/>
            <a:ext cx="4356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5" name="组合 33"/>
          <p:cNvGrpSpPr/>
          <p:nvPr/>
        </p:nvGrpSpPr>
        <p:grpSpPr>
          <a:xfrm>
            <a:off x="2392200" y="1940040"/>
            <a:ext cx="4942080" cy="4348080"/>
            <a:chOff x="2392200" y="1940040"/>
            <a:chExt cx="4942080" cy="4348080"/>
          </a:xfrm>
        </p:grpSpPr>
        <p:grpSp>
          <p:nvGrpSpPr>
            <p:cNvPr id="976" name="组合 25"/>
            <p:cNvGrpSpPr/>
            <p:nvPr/>
          </p:nvGrpSpPr>
          <p:grpSpPr>
            <a:xfrm>
              <a:off x="2392200" y="1940040"/>
              <a:ext cx="4942080" cy="4348080"/>
              <a:chOff x="2392200" y="1940040"/>
              <a:chExt cx="4942080" cy="4348080"/>
            </a:xfrm>
          </p:grpSpPr>
          <p:grpSp>
            <p:nvGrpSpPr>
              <p:cNvPr id="977" name="组合 21"/>
              <p:cNvGrpSpPr/>
              <p:nvPr/>
            </p:nvGrpSpPr>
            <p:grpSpPr>
              <a:xfrm>
                <a:off x="2392200" y="1999440"/>
                <a:ext cx="4394160" cy="4288680"/>
                <a:chOff x="2392200" y="1999440"/>
                <a:chExt cx="4394160" cy="4288680"/>
              </a:xfrm>
            </p:grpSpPr>
            <p:sp>
              <p:nvSpPr>
                <p:cNvPr id="978" name="直接连接符 7"/>
                <p:cNvSpPr/>
                <p:nvPr/>
              </p:nvSpPr>
              <p:spPr>
                <a:xfrm>
                  <a:off x="2393640" y="1999440"/>
                  <a:ext cx="43578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9" name="直接连接符 8"/>
                <p:cNvSpPr/>
                <p:nvPr/>
              </p:nvSpPr>
              <p:spPr>
                <a:xfrm>
                  <a:off x="2392200" y="2427840"/>
                  <a:ext cx="43578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0" name="直接连接符 9"/>
                <p:cNvSpPr/>
                <p:nvPr/>
              </p:nvSpPr>
              <p:spPr>
                <a:xfrm>
                  <a:off x="2392200" y="2856600"/>
                  <a:ext cx="43578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1" name="直接连接符 10"/>
                <p:cNvSpPr/>
                <p:nvPr/>
              </p:nvSpPr>
              <p:spPr>
                <a:xfrm>
                  <a:off x="2414160" y="3285360"/>
                  <a:ext cx="43578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2" name="直接连接符 11"/>
                <p:cNvSpPr/>
                <p:nvPr/>
              </p:nvSpPr>
              <p:spPr>
                <a:xfrm>
                  <a:off x="2392200" y="3714120"/>
                  <a:ext cx="4356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3" name="直接连接符 12"/>
                <p:cNvSpPr/>
                <p:nvPr/>
              </p:nvSpPr>
              <p:spPr>
                <a:xfrm>
                  <a:off x="2414160" y="4142880"/>
                  <a:ext cx="4356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4" name="直接连接符 13"/>
                <p:cNvSpPr/>
                <p:nvPr/>
              </p:nvSpPr>
              <p:spPr>
                <a:xfrm>
                  <a:off x="2403000" y="4571640"/>
                  <a:ext cx="4356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5" name="直接连接符 14"/>
                <p:cNvSpPr/>
                <p:nvPr/>
              </p:nvSpPr>
              <p:spPr>
                <a:xfrm>
                  <a:off x="2401560" y="5000400"/>
                  <a:ext cx="4356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6" name="直接连接符 15"/>
                <p:cNvSpPr/>
                <p:nvPr/>
              </p:nvSpPr>
              <p:spPr>
                <a:xfrm>
                  <a:off x="2430000" y="5427720"/>
                  <a:ext cx="4356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7" name="直接连接符 16"/>
                <p:cNvSpPr/>
                <p:nvPr/>
              </p:nvSpPr>
              <p:spPr>
                <a:xfrm>
                  <a:off x="2428560" y="5857920"/>
                  <a:ext cx="4356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8" name="直接连接符 17"/>
                <p:cNvSpPr/>
                <p:nvPr/>
              </p:nvSpPr>
              <p:spPr>
                <a:xfrm>
                  <a:off x="2428560" y="6286680"/>
                  <a:ext cx="4356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9" name="直接连接符 20"/>
                <p:cNvSpPr/>
                <p:nvPr/>
              </p:nvSpPr>
              <p:spPr>
                <a:xfrm flipH="1">
                  <a:off x="4238280" y="2000880"/>
                  <a:ext cx="1440" cy="4285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90" name="TextBox 22"/>
              <p:cNvSpPr/>
              <p:nvPr/>
            </p:nvSpPr>
            <p:spPr>
              <a:xfrm>
                <a:off x="2642040" y="1940040"/>
                <a:ext cx="16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日  期</a:t>
                </a:r>
                <a:endParaRPr b="1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TextBox 23"/>
              <p:cNvSpPr/>
              <p:nvPr/>
            </p:nvSpPr>
            <p:spPr>
              <a:xfrm>
                <a:off x="4262040" y="1940040"/>
                <a:ext cx="307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收支情况（元）</a:t>
                </a:r>
                <a:endParaRPr b="1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2" name="TextBox 24"/>
            <p:cNvSpPr/>
            <p:nvPr/>
          </p:nvSpPr>
          <p:spPr>
            <a:xfrm>
              <a:off x="2570760" y="2356560"/>
              <a:ext cx="16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日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TextBox 26"/>
            <p:cNvSpPr/>
            <p:nvPr/>
          </p:nvSpPr>
          <p:spPr>
            <a:xfrm>
              <a:off x="4857480" y="2356560"/>
              <a:ext cx="16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+360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TextBox 27"/>
            <p:cNvSpPr/>
            <p:nvPr/>
          </p:nvSpPr>
          <p:spPr>
            <a:xfrm>
              <a:off x="2570760" y="2785680"/>
              <a:ext cx="16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日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TextBox 28"/>
            <p:cNvSpPr/>
            <p:nvPr/>
          </p:nvSpPr>
          <p:spPr>
            <a:xfrm>
              <a:off x="4857480" y="2785680"/>
              <a:ext cx="16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28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6" name="TextBox 29"/>
          <p:cNvSpPr/>
          <p:nvPr/>
        </p:nvSpPr>
        <p:spPr>
          <a:xfrm>
            <a:off x="2571840" y="3214800"/>
            <a:ext cx="16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30"/>
          <p:cNvSpPr/>
          <p:nvPr/>
        </p:nvSpPr>
        <p:spPr>
          <a:xfrm>
            <a:off x="4857840" y="32148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65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31"/>
          <p:cNvSpPr/>
          <p:nvPr/>
        </p:nvSpPr>
        <p:spPr>
          <a:xfrm>
            <a:off x="2571840" y="3643200"/>
            <a:ext cx="16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32"/>
          <p:cNvSpPr/>
          <p:nvPr/>
        </p:nvSpPr>
        <p:spPr>
          <a:xfrm>
            <a:off x="4857840" y="36432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+336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34"/>
          <p:cNvSpPr/>
          <p:nvPr/>
        </p:nvSpPr>
        <p:spPr>
          <a:xfrm>
            <a:off x="2571840" y="4071960"/>
            <a:ext cx="16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35"/>
          <p:cNvSpPr/>
          <p:nvPr/>
        </p:nvSpPr>
        <p:spPr>
          <a:xfrm>
            <a:off x="4857840" y="40719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24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36"/>
          <p:cNvSpPr/>
          <p:nvPr/>
        </p:nvSpPr>
        <p:spPr>
          <a:xfrm>
            <a:off x="2571840" y="4500720"/>
            <a:ext cx="16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TextBox 37"/>
          <p:cNvSpPr/>
          <p:nvPr/>
        </p:nvSpPr>
        <p:spPr>
          <a:xfrm>
            <a:off x="4857840" y="450072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13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38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38"/>
          <p:cNvSpPr/>
          <p:nvPr/>
        </p:nvSpPr>
        <p:spPr>
          <a:xfrm>
            <a:off x="2571840" y="4929120"/>
            <a:ext cx="16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39"/>
          <p:cNvSpPr/>
          <p:nvPr/>
        </p:nvSpPr>
        <p:spPr>
          <a:xfrm>
            <a:off x="4857840" y="49291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48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40"/>
          <p:cNvSpPr/>
          <p:nvPr/>
        </p:nvSpPr>
        <p:spPr>
          <a:xfrm>
            <a:off x="2571840" y="5357880"/>
            <a:ext cx="16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TextBox 41"/>
          <p:cNvSpPr/>
          <p:nvPr/>
        </p:nvSpPr>
        <p:spPr>
          <a:xfrm>
            <a:off x="4857840" y="5357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175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42"/>
          <p:cNvSpPr/>
          <p:nvPr/>
        </p:nvSpPr>
        <p:spPr>
          <a:xfrm>
            <a:off x="2643120" y="57862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  余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TextBox 43"/>
          <p:cNvSpPr/>
          <p:nvPr/>
        </p:nvSpPr>
        <p:spPr>
          <a:xfrm>
            <a:off x="4857840" y="57862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202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0" name="组合 44"/>
          <p:cNvGrpSpPr/>
          <p:nvPr/>
        </p:nvGrpSpPr>
        <p:grpSpPr>
          <a:xfrm>
            <a:off x="396720" y="887400"/>
            <a:ext cx="2071800" cy="661680"/>
            <a:chOff x="396720" y="887400"/>
            <a:chExt cx="2071800" cy="661680"/>
          </a:xfrm>
        </p:grpSpPr>
        <p:sp>
          <p:nvSpPr>
            <p:cNvPr id="1011" name="直线连接符 21"/>
            <p:cNvSpPr/>
            <p:nvPr/>
          </p:nvSpPr>
          <p:spPr>
            <a:xfrm flipV="1">
              <a:off x="396720" y="154296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同侧圆角矩形 46"/>
            <p:cNvSpPr/>
            <p:nvPr/>
          </p:nvSpPr>
          <p:spPr>
            <a:xfrm>
              <a:off x="396720" y="887400"/>
              <a:ext cx="2000520" cy="51624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3" name="同侧圆角矩形 47"/>
          <p:cNvSpPr/>
          <p:nvPr/>
        </p:nvSpPr>
        <p:spPr>
          <a:xfrm>
            <a:off x="372960" y="87480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8T13:41:54Z</dcterms:created>
  <dc:creator/>
  <dc:description/>
  <dc:language>en-US</dc:language>
  <cp:lastModifiedBy>User</cp:lastModifiedBy>
  <dcterms:modified xsi:type="dcterms:W3CDTF">2016-03-28T21:35:2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