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7563-34C6-40E2-88C8-28C75590CC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9A66-74FE-4D25-88AA-2439178EA7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FABF-7D0C-4667-B3BD-5050DD187B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35E-E608-4B4F-BBF6-C1C100C45A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B21F-DC75-4D34-8FDE-CCD0DC606C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5B7-0FD4-4AE2-A984-5F78FF0CB9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2841-DB7A-4BC0-95F1-763B990424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2A0E-1FE0-4531-B5FF-0C0AF92497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F0B1-E51E-4F5C-8C79-E1BE291D85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4BD4-EB35-45FF-A526-F0FCBCDFE0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270F-7F60-419C-8F2B-0993A97B9B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66A7-FBB2-4412-8487-A3DEF3D959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38EB-A40A-4182-96C3-F33977F213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A181D-1001-479E-B367-930A6B8B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89BE9-274D-423B-8712-4FF6DFC3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4F2C0-7524-446D-9CF7-2B9E83CA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6BAA5-BF41-4CBF-A4C9-7A6939ED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C779B-4CED-4342-8CE0-147E145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71847-9E4A-48F0-A76A-FA776D0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4AFC5-0CC6-45B7-A477-ABF3CA32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14F1-5A4F-41AA-9661-B40E16D4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3B7B-6A54-4D79-B33A-1EACB182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25BE5-4574-471F-A823-08408948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2C4AF-4B76-4545-97AB-BD245855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51FF0-8FD2-4A78-8F08-BB960512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19214-AFD5-4592-8EBC-07F7D327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AD17C-0E5F-4A00-B8FF-AFBE3DCC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0BD57-0BF8-4734-BF8E-2908BD89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86274-5462-4210-BF6F-7FD83CA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8D2C1-2F41-4240-99E2-4733250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ACC9A-52E5-41C7-997A-41EDCA5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AEF59-661C-4D8B-9D61-43454472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0EAE1-9C81-4090-A1FC-A2A26AC3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B6A30-1328-4249-93D8-62194AFB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7679F-8FF8-4135-8257-AF5D2AC4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3C1E7-794F-4542-AFC4-428AFD96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49670-0613-4632-817B-A10D4CE6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C48D7-611A-49F6-9941-80273F60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B9530-97AC-4A38-8AB8-93583563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7F642-DE28-489D-8D83-48B37999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9DFC0-5CC1-41C8-8EF3-259CFACD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087BC-4068-4784-8AA9-A30C6932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DF107-A7A1-4D8B-9627-B1BF9D9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4B4-23A2-448E-89AE-5DD8C3B1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582DF-7194-4FD6-89D0-20F32444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A544F-AB35-4B69-92B5-51322791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86B5D-CE0A-4633-8652-9248F167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AFB31-8AF3-4CDA-8B25-A169976B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53FC2-A93A-4803-AB3E-F3CECD9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2BD2E-37D3-4E63-9980-4C5EF38D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26036-CE42-4E33-837E-E1B296BA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0A81D-B125-4A2C-9953-4CBE2FEF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4BAC3-7C39-414B-A47F-D99CF78F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2D023-A060-4AF8-BF9E-C1B5AF01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15F-5D8A-488A-8E57-0E47A559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9012E-2A23-4E06-9388-765D70C8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E65A4-1A1F-4B4F-98E2-7CA4397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09E94-BCA5-409D-B3B1-7B4A1813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099F0-52ED-4708-9358-E6E41A7A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B85D1-43A5-4033-82F1-5BF4319A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158A1-6AE6-4A47-BC86-DA2BA883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C1331-0DA2-47BD-B599-23041D5B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47FA0-53DC-4250-ADF6-99F8E513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119C2-2D48-4BAD-86DC-A69C8554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D9C64-51AD-45B2-A260-7CBAA9FE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D16-4499-41D3-A0AB-83ABE3DC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1BFA0-61BB-44DD-A1FB-D2842857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B041F-D5BA-4750-8F8F-5E22968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B056B-38BA-4574-8275-C73A6BD0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0195B-9CDD-4ABC-AB31-AA70E8B5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4527D-A7D4-48FD-8DDC-2316FB74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C18E-7B44-4571-94A4-61131009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5CAE8-7B71-4B86-A79B-FF8EA7A5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AA54F-24E0-432B-BCCF-8B52EB76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47F5F-BE8C-461D-A8FC-2ED7EA1B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D96EC-F2EA-4916-9F25-E71D304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A16-46F8-453D-AD14-D81F3352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A6017-3067-4873-BE68-A1B278FB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3793E-F385-4D2B-AE83-0ECFF6B0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E17DD-E9A0-49EA-BFE5-A0DF74E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7C9B4-FBEE-470D-89DA-326828F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165D6-6FF8-40B0-9947-7EDCA301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7D3BC-17BA-42E3-82CD-BF007398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0BF94-EE58-4735-991A-E6980563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D84F2-BC56-4E63-9A48-D756F22A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8F417-F0D8-40A4-8016-C2229399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6E48A-442A-47F6-9E20-0B1813AB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875-1F62-4FFA-AD8C-F8C19FD1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3889F-C6B1-468D-89DF-1BFAEA7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3C198-CFEE-48E3-BA1E-A17CD459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1649A-B0BE-41BD-A2C7-630125B3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84F69-15EC-4F1E-80D7-AA71203B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5E91A-1377-440E-A92C-74ECF07B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8058F-E233-4976-9B66-BCC75AC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5D1E7-E1E6-442F-9F38-3DDD07A4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9FDBC-2712-4EA4-A4F9-7018DB37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1F016-DAB0-48F1-9F5D-7D5ED57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DFDAD-DF1E-492A-B215-5C0AACF7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68F-6594-423E-8FFA-27EC6151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7ED0A-045C-4CE3-8FD3-6178B348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2EA66-D7A7-40C1-B34D-D36F0E45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7D18A-2607-472B-8096-64BEB6B5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04839-DE5D-4B0D-A3A3-46A7D6D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2582A-FA97-4140-83E2-C1D3FC79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0E151-3414-4071-AAC2-06F4BAA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24CCB-B633-48CB-8981-BE1EA23A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57781-ED57-4F3C-B554-837BE51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F570D-539C-44CE-B36E-9A7692A6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48ECF-78E5-4A31-866D-3F82131D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1F4-6AD5-4D39-A1C3-D0A8CB5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5B754-C78C-4A7B-8E0D-6EA259F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CD006-5455-4EB2-841A-AA18088B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299DA-DF6B-4925-B04C-CF7FDB92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01FEC-5DC5-4752-B394-C8930C80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FDC02-020A-4ED3-BC8F-D1D70074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F8A36-13FE-480A-83DB-422D4823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BEAAC-CC08-4AB8-B010-D236A4B7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66322-FD47-402E-BA9F-6B4C9048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DCABE-C76E-4418-9446-642468A9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290F2-3D22-42A2-8526-6011987E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62B-6B25-487D-B2BC-CC7ACC3D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DA0FE-9D2D-48DF-BDF3-68A5453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DC70A-D90C-42AC-9665-89D436D8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45924-1307-4F74-8831-9F834DD9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67769-B70B-485E-B65E-76F19D77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BDF58E-A244-4E82-B5BE-356149EC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1A016-A503-44D8-9C0A-4A6E879B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1493F-11AA-44B2-80C4-61ACFB9B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675E9-DAD1-4BCF-AB87-F0B3F2AE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A0C8C-4430-4E7E-9130-61135F29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239EA-A96C-461F-9600-BA352FA7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041-DD21-4286-89CC-E575EB87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9872D-5C1A-4BB8-A58B-E56690D9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B0F46-8290-4FB9-AEBA-3B36D918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A2E58-A16A-49C6-AAB2-35094DAF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2DF90-85AA-4A50-91FD-480B7549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7FE43-B2B0-4A5E-AFD6-C3754CC0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27E2A-F83C-49A6-ACF3-8680DEE1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A7E3A-A6AD-4052-9E6B-D04DF62B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2ECC5-51B9-4F76-A985-56B9EC0C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7CA120-F4FC-43DA-85B1-3C6EA84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E886D-3BBB-45F9-8918-6C5B43CE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D32-FFB5-4060-BB91-A0D3C76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BFB66-7A7B-4029-81B1-30BEAE49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28E4C-4C04-4E2F-85E6-25EE982B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8F56C-F99E-4F79-A708-B21CAEC0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E9835-2706-4B4E-B620-D5652D1F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C781C-211F-42F6-BA97-FCF4F052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86E69-C1AB-4148-B9BE-1DDE4AA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5D251-89CC-4137-9361-01DA28F5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97CD5-FBB9-43B9-B82A-5CF471B3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C5A40-CE8F-48E6-84BA-C956807C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7CEB0-2F36-4202-A0BE-870FB4EC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810-06E0-45DB-A3E0-D31830FB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3444F-62F9-4674-A911-2D64A7F6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5D3E36-A8E2-4274-9613-4A451285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EB461-0D50-473C-B3A3-76E15F7B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4CA25-3364-4DA6-B370-F72A9F9D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47441-3DC3-4683-BA27-2082DB1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9F39B-7088-4723-A153-8BD22D4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E54BB-982F-44AE-ADE2-E8F238DA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6A87C-F84A-4BC1-9C0C-98C93C3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1B6DA-7DBA-4B7C-88AE-AF489097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734A6-8F97-449D-9262-33CE891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410-1029-4813-A8CE-BB4E1640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A5DA0B-96E9-4807-874C-D6EA9B79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B63846-ECA3-42E9-A4F4-81E4593B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C6B73-4345-46F7-8B77-D255622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54924-6C29-42F4-B8D1-C4359960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D021F5-BE12-4367-9416-ADCC18DE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91A16-989A-4740-935C-7FEE19D3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70BFA-38A6-46BC-9790-EED24843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7C457-EE95-46E3-B2A5-E5C4CB63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3426D-53D7-465A-99DE-5B628DC6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E7C24-58C4-448E-8717-02BC8E4B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5B97-196C-4D55-BDFC-B7221DFB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2A459-B8EA-4231-B9BC-1EF39FD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FBE20-8F77-4E0C-946A-A64C4CEA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0AED0-BF82-4681-B6AA-04042952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AC75-6761-49B1-BE6C-4782B821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229F-47EC-4C80-8935-D9906D5C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594B-9568-4EA6-94F9-1901960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EE9D-E5A4-48ED-8D67-5472960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CE1D-D57A-4454-81EA-90EFDD44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4D0C-F2B7-4050-B3CA-46C4895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0FA7-94D2-4734-AABF-6F10E97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F1E1-88D6-4E0F-B40B-279A54D1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269F-6D15-4DF3-9F7C-9BE508D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79E9-B778-4B24-9B94-F0E92A43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4F68-594A-4B24-B54A-01F3766A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B5FD-5E5F-41FF-9CEE-A09F247D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93EF-9CBF-416F-A64C-6FD7A64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8E09-DF54-4F96-B522-01306CBD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44D5-B219-4C21-A3F0-99D9222F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36AE-B928-4B29-8FC9-B79A535F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4D32-6965-4D49-8C86-EBF12F68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3C24-4108-43B6-AA1B-221B5ADB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FAA7-CAA5-4FD3-A383-1E4B8E0E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B015-6675-4C79-92D3-B765E0AB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3588-1D5A-4B03-85B1-CCD24ED7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8DA9-583E-45EB-901B-7B27AAA6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D294-5EAC-4EBA-AD6A-9C72EA26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D4C88-DD60-4681-BB86-2ADC4F66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4F7B-2BD7-4EA1-A790-E050B570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F7170-50C9-49A1-926F-8BFB1EEC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B492-9FCA-478A-8515-67C46DF7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2F36-E693-458D-BA34-CDBE3D8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656E-F8FC-4568-B36C-449C942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DB034-EC4D-4729-9E90-E1EEE6A2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F1E9-092E-4AC8-984A-1C9D3D58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D57E-25D1-4AD1-9836-4FD8D1B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5E13-E210-46C6-BA10-EC50020E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CA3D-6FDA-47AD-A45D-A051C2E2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3707-B99A-4B49-BCC7-78E15EC9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2D5F-F59C-42E4-821E-2D704707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EE79D-CC33-4DAD-989E-FDB9579A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79959-D08F-4E52-85FC-4D40C451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643F1-3711-4910-9D22-5491DC2E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1E64-F21C-43A3-B8E3-943DB1A5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05E4C-6F27-4217-ABB4-A55A947A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FB088-8E4D-491A-A2C1-DCE70EE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0DCBC-FF31-4957-94E3-FA7D436B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0303-9E41-41F3-809E-1DC9FEE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DC98-E316-48CD-A23D-52A8344D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AB492-43C6-40EB-92B8-495D111D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C358-7809-4337-B5C8-EEDB57FE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6E635-33BF-4B9B-A239-F6BDF9D5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164D9-B116-4BDB-A6C7-9B746C04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ED954-E44C-41E8-BCF9-C286E70C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6771-E8DA-4228-9318-A26EE734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396A0-A274-456A-BA41-61DB7ABE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38490-E74C-497D-84BA-779F59E9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50FC6-F589-4E9D-BCE3-DC53B90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F9225-0F15-4770-B21E-9C57F3F9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A963-D52E-4D94-A3F4-6CFD04D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EDE5B-588D-46B1-86D6-542997CB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1597-5AB8-47F2-A4EF-52248F37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563F1-4940-4181-92D9-437F8B28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BD182-14BC-4E4E-A95D-3882C019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AFD6-87CB-4869-B371-CA7EC444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C4066-F224-460C-8C20-CA28B98F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3696A-CFDE-4C38-8955-2FB7288D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F5EDF-B373-4249-A5CC-81C2F2E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9C29B-7A1F-4918-8756-10F93E98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4BB44-5583-43BF-BCB4-3AE6AAF1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72D73-B1B7-4814-AA56-59F8A266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58016-1F78-4381-A660-8DE49E1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7468-777A-4611-80E8-29E025A9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002C9-62A9-4069-8C6F-FECCE782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B6995-4781-4028-87ED-8F20762F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08B31-F944-42D1-9247-065C093B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F2EF7-AB18-4CE2-967C-5E34F0F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C4C96-F942-4B21-8EBF-75190566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7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4E8F-016B-4868-9119-9FCC22E43C2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722F-5CE6-4B74-A08A-A936A29C0EB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CABC-4DA7-4BDC-9B50-3EE09EE510D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3132-F8AD-4FBD-9F7F-D299259DD75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4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EEA2-F66F-4111-8A38-865EB8A2AF9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9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AF1B-ECE9-46D8-A129-EF69395C65A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3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95DC-E9BD-4AE9-AF1F-3BDE4FA6176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7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0188-CF82-47FE-962F-BD2BEE31FC0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1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D229-CD5E-4F02-9B63-0A8B4C38903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A12C-972F-4EB5-A1D2-38E8682F335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E626-390B-44CA-ACF5-3FB42CB9C23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0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3756-D38A-4A21-B53F-5E051E1AE09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C2B7-44E8-4E16-BE01-F3D1B6BFB1F3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96F-8637-4DBC-B983-17F46AF9872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9015-D460-47E2-B299-03EBEDF417AC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F61B-56A1-4B7E-9951-1BDF87A23A1C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2521-A530-48B0-9F9A-264CDB2D3FA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5910-D20B-4A5D-9E89-E048B24AC2C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6BE-A162-4F85-B748-D7D1DED4D80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7D29-D700-44B9-8DD9-4CDAA63B4D2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1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生活中的负数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直线连接符 21"/>
          <p:cNvSpPr/>
          <p:nvPr/>
        </p:nvSpPr>
        <p:spPr>
          <a:xfrm>
            <a:off x="2700360" y="1989000"/>
            <a:ext cx="4464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892" name="TextBox 1"/>
          <p:cNvSpPr/>
          <p:nvPr/>
        </p:nvSpPr>
        <p:spPr>
          <a:xfrm>
            <a:off x="3924360" y="3141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.4 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用正、负数表示变化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000080" y="2571480"/>
            <a:ext cx="7215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包装袋上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5g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示什么意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9" name="Picture 5" descr=""/>
          <p:cNvPicPr/>
          <p:nvPr/>
        </p:nvPicPr>
        <p:blipFill>
          <a:blip r:embed="rId1"/>
          <a:stretch/>
        </p:blipFill>
        <p:spPr>
          <a:xfrm>
            <a:off x="6858000" y="3571920"/>
            <a:ext cx="1609560" cy="180972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5" descr="6议一议.png"/>
          <p:cNvPicPr/>
          <p:nvPr/>
        </p:nvPicPr>
        <p:blipFill>
          <a:blip r:embed="rId2"/>
          <a:stretch/>
        </p:blipFill>
        <p:spPr>
          <a:xfrm>
            <a:off x="1214280" y="1068480"/>
            <a:ext cx="2519640" cy="1503360"/>
          </a:xfrm>
          <a:prstGeom prst="rect">
            <a:avLst/>
          </a:prstGeom>
          <a:ln w="0">
            <a:noFill/>
          </a:ln>
        </p:spPr>
      </p:pic>
      <p:sp>
        <p:nvSpPr>
          <p:cNvPr id="1111" name="TextBox 6"/>
          <p:cNvSpPr/>
          <p:nvPr/>
        </p:nvSpPr>
        <p:spPr>
          <a:xfrm>
            <a:off x="714240" y="35654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净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0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指这袋盐去掉包装袋，盐的质量是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Box 7"/>
          <p:cNvSpPr/>
          <p:nvPr/>
        </p:nvSpPr>
        <p:spPr>
          <a:xfrm>
            <a:off x="714240" y="4565520"/>
            <a:ext cx="635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±5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表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指这袋盐中盐的质量最多是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+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即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5g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；盐的质量最少是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-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即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95g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在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9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5g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范围内，这种袋装盐都是合格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857160" y="1999800"/>
            <a:ext cx="750096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六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班第一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名同学的体重如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4" name="图片 4" descr="QQ截图20150205112044.jpg"/>
          <p:cNvPicPr/>
          <p:nvPr/>
        </p:nvPicPr>
        <p:blipFill>
          <a:blip r:embed="rId1"/>
          <a:stretch/>
        </p:blipFill>
        <p:spPr>
          <a:xfrm>
            <a:off x="835200" y="2771640"/>
            <a:ext cx="7451640" cy="1229040"/>
          </a:xfrm>
          <a:prstGeom prst="rect">
            <a:avLst/>
          </a:prstGeom>
          <a:ln w="0">
            <a:noFill/>
          </a:ln>
        </p:spPr>
      </p:pic>
      <p:sp>
        <p:nvSpPr>
          <p:cNvPr id="1115" name="TextBox 5"/>
          <p:cNvSpPr/>
          <p:nvPr/>
        </p:nvSpPr>
        <p:spPr>
          <a:xfrm>
            <a:off x="1000080" y="407196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名同学的平均体重是多少千克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6"/>
          <p:cNvSpPr/>
          <p:nvPr/>
        </p:nvSpPr>
        <p:spPr>
          <a:xfrm>
            <a:off x="1000080" y="490536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2+36+37+40+38+3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千克）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7"/>
          <p:cNvSpPr/>
          <p:nvPr/>
        </p:nvSpPr>
        <p:spPr>
          <a:xfrm>
            <a:off x="1000080" y="56912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名同学的平均体重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同侧圆角矩形 8"/>
          <p:cNvSpPr/>
          <p:nvPr/>
        </p:nvSpPr>
        <p:spPr>
          <a:xfrm>
            <a:off x="539640" y="98100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线连接符 21"/>
          <p:cNvSpPr/>
          <p:nvPr/>
        </p:nvSpPr>
        <p:spPr>
          <a:xfrm flipV="1">
            <a:off x="53964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 txBox="1"/>
          <p:nvPr/>
        </p:nvSpPr>
        <p:spPr>
          <a:xfrm>
            <a:off x="857160" y="1999800"/>
            <a:ext cx="750096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六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班第一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名同学的体重如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图片 4" descr="QQ截图20150205112044.jpg"/>
          <p:cNvPicPr/>
          <p:nvPr/>
        </p:nvPicPr>
        <p:blipFill>
          <a:blip r:embed="rId1"/>
          <a:stretch/>
        </p:blipFill>
        <p:spPr>
          <a:xfrm>
            <a:off x="835200" y="2714760"/>
            <a:ext cx="7451640" cy="1228680"/>
          </a:xfrm>
          <a:prstGeom prst="rect">
            <a:avLst/>
          </a:prstGeom>
          <a:ln w="0">
            <a:noFill/>
          </a:ln>
        </p:spPr>
      </p:pic>
      <p:sp>
        <p:nvSpPr>
          <p:cNvPr id="1122" name="TextBox 5"/>
          <p:cNvSpPr/>
          <p:nvPr/>
        </p:nvSpPr>
        <p:spPr>
          <a:xfrm>
            <a:off x="1000080" y="40006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用正、负数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出每个人的体重与平均体重相比的结果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3" name="图片 8" descr="QQ截图20150205112054.jpg"/>
          <p:cNvPicPr/>
          <p:nvPr/>
        </p:nvPicPr>
        <p:blipFill>
          <a:blip r:embed="rId2"/>
          <a:stretch/>
        </p:blipFill>
        <p:spPr>
          <a:xfrm>
            <a:off x="928800" y="4869000"/>
            <a:ext cx="7343640" cy="148572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9"/>
          <p:cNvSpPr/>
          <p:nvPr/>
        </p:nvSpPr>
        <p:spPr>
          <a:xfrm>
            <a:off x="2643120" y="55166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+4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0"/>
          <p:cNvSpPr/>
          <p:nvPr/>
        </p:nvSpPr>
        <p:spPr>
          <a:xfrm>
            <a:off x="3571920" y="55166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1"/>
          <p:cNvSpPr/>
          <p:nvPr/>
        </p:nvSpPr>
        <p:spPr>
          <a:xfrm>
            <a:off x="4511520" y="55166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2"/>
          <p:cNvSpPr/>
          <p:nvPr/>
        </p:nvSpPr>
        <p:spPr>
          <a:xfrm>
            <a:off x="5500800" y="55166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+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6548400" y="55166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4"/>
          <p:cNvSpPr/>
          <p:nvPr/>
        </p:nvSpPr>
        <p:spPr>
          <a:xfrm>
            <a:off x="7429680" y="55166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/>
          </p:nvPr>
        </p:nvSpPr>
        <p:spPr>
          <a:xfrm>
            <a:off x="340920" y="1060200"/>
            <a:ext cx="459108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000080" y="3071880"/>
            <a:ext cx="71438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通过这节课说一说你收获了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组合 10"/>
          <p:cNvGrpSpPr/>
          <p:nvPr/>
        </p:nvGrpSpPr>
        <p:grpSpPr>
          <a:xfrm>
            <a:off x="268200" y="914400"/>
            <a:ext cx="2255760" cy="569520"/>
            <a:chOff x="268200" y="914400"/>
            <a:chExt cx="2255760" cy="569520"/>
          </a:xfrm>
        </p:grpSpPr>
        <p:sp>
          <p:nvSpPr>
            <p:cNvPr id="894" name="直线连接符 21"/>
            <p:cNvSpPr/>
            <p:nvPr/>
          </p:nvSpPr>
          <p:spPr>
            <a:xfrm flipV="1">
              <a:off x="268200" y="147780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同侧圆角矩形 23"/>
            <p:cNvSpPr/>
            <p:nvPr/>
          </p:nvSpPr>
          <p:spPr>
            <a:xfrm>
              <a:off x="452160" y="91440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897" name="TextBox 5"/>
          <p:cNvSpPr/>
          <p:nvPr/>
        </p:nvSpPr>
        <p:spPr>
          <a:xfrm>
            <a:off x="684360" y="1413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5"/>
          <p:cNvSpPr/>
          <p:nvPr/>
        </p:nvSpPr>
        <p:spPr>
          <a:xfrm>
            <a:off x="684360" y="3809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0"/>
          <p:cNvSpPr/>
          <p:nvPr/>
        </p:nvSpPr>
        <p:spPr>
          <a:xfrm>
            <a:off x="1619280" y="162864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结合熟悉的事例，经历用正、负数表示生活中简单事物的过程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进一步认识负数，初步体会用正、负数可以表示具有相反意义的量并会运用 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感受数学与生活的密切联系，体会用正、负数表示事物在实际生活中的意义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000080" y="748800"/>
            <a:ext cx="7143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选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1000080" y="1999800"/>
            <a:ext cx="714384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如果规定前进、收入、赢利为正，那么下列叙述错误的是（   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A. -18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米表示后退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B. -80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元表示赢利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</a:rPr>
              <a:t>C. -40000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元表示支出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40000</a:t>
            </a:r>
            <a:r>
              <a:rPr b="0" sz="3200" spc="-1" strike="noStrike">
                <a:solidFill>
                  <a:srgbClr val="000000"/>
                </a:solidFill>
                <a:latin typeface="Calibri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Box 4"/>
          <p:cNvSpPr/>
          <p:nvPr/>
        </p:nvSpPr>
        <p:spPr>
          <a:xfrm>
            <a:off x="4869000" y="25002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同侧圆角矩形 5"/>
          <p:cNvSpPr/>
          <p:nvPr/>
        </p:nvSpPr>
        <p:spPr>
          <a:xfrm>
            <a:off x="407880" y="83664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直线连接符 21"/>
          <p:cNvSpPr/>
          <p:nvPr/>
        </p:nvSpPr>
        <p:spPr>
          <a:xfrm flipV="1">
            <a:off x="407880" y="1492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523600" y="888480"/>
            <a:ext cx="54327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班利用课外活动时间举办“兔博士”数学竞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Picture 5" descr=""/>
          <p:cNvPicPr/>
          <p:nvPr/>
        </p:nvPicPr>
        <p:blipFill>
          <a:blip r:embed="rId1"/>
          <a:stretch/>
        </p:blipFill>
        <p:spPr>
          <a:xfrm>
            <a:off x="2214720" y="2117880"/>
            <a:ext cx="4781520" cy="3240000"/>
          </a:xfrm>
          <a:prstGeom prst="rect">
            <a:avLst/>
          </a:prstGeom>
          <a:ln w="0">
            <a:noFill/>
          </a:ln>
        </p:spPr>
      </p:pic>
      <p:sp>
        <p:nvSpPr>
          <p:cNvPr id="908" name="TextBox 5"/>
          <p:cNvSpPr/>
          <p:nvPr/>
        </p:nvSpPr>
        <p:spPr>
          <a:xfrm>
            <a:off x="1000080" y="52801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答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题得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，答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题扣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，不回答得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同侧圆角矩形 4"/>
          <p:cNvSpPr/>
          <p:nvPr/>
        </p:nvSpPr>
        <p:spPr>
          <a:xfrm>
            <a:off x="420840" y="88884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线连接符 21"/>
          <p:cNvSpPr/>
          <p:nvPr/>
        </p:nvSpPr>
        <p:spPr>
          <a:xfrm flipV="1">
            <a:off x="420840" y="154440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68160" y="928440"/>
            <a:ext cx="5675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下面是聪聪记录的三个队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道题的答题结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7143840" cy="2238480"/>
          </a:xfrm>
          <a:prstGeom prst="rect">
            <a:avLst/>
          </a:prstGeom>
          <a:ln w="0">
            <a:noFill/>
          </a:ln>
        </p:spPr>
      </p:pic>
      <p:sp>
        <p:nvSpPr>
          <p:cNvPr id="913" name="标题 2"/>
          <p:cNvSpPr/>
          <p:nvPr/>
        </p:nvSpPr>
        <p:spPr>
          <a:xfrm>
            <a:off x="1000080" y="5286240"/>
            <a:ext cx="714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用正数和负数表示每个队的答题结果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组合 43"/>
          <p:cNvGrpSpPr/>
          <p:nvPr/>
        </p:nvGrpSpPr>
        <p:grpSpPr>
          <a:xfrm>
            <a:off x="1143000" y="4429080"/>
            <a:ext cx="7429680" cy="1143000"/>
            <a:chOff x="1143000" y="4429080"/>
            <a:chExt cx="7429680" cy="1143000"/>
          </a:xfrm>
        </p:grpSpPr>
        <p:sp>
          <p:nvSpPr>
            <p:cNvPr id="915" name="标题 2"/>
            <p:cNvSpPr/>
            <p:nvPr/>
          </p:nvSpPr>
          <p:spPr>
            <a:xfrm>
              <a:off x="1143000" y="4429080"/>
              <a:ext cx="7429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表示答对了，  表示答错了，  表示不回答。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6" name="组合 12"/>
            <p:cNvGrpSpPr/>
            <p:nvPr/>
          </p:nvGrpSpPr>
          <p:grpSpPr>
            <a:xfrm>
              <a:off x="1285560" y="4857480"/>
              <a:ext cx="357120" cy="357120"/>
              <a:chOff x="1285560" y="4857480"/>
              <a:chExt cx="357120" cy="357120"/>
            </a:xfrm>
          </p:grpSpPr>
          <p:sp>
            <p:nvSpPr>
              <p:cNvPr id="917" name="椭圆 7"/>
              <p:cNvSpPr/>
              <p:nvPr/>
            </p:nvSpPr>
            <p:spPr>
              <a:xfrm>
                <a:off x="1285560" y="4857480"/>
                <a:ext cx="357120" cy="35712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椭圆 8"/>
              <p:cNvSpPr/>
              <p:nvPr/>
            </p:nvSpPr>
            <p:spPr>
              <a:xfrm>
                <a:off x="1356840" y="4963680"/>
                <a:ext cx="71280" cy="71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椭圆 9"/>
              <p:cNvSpPr/>
              <p:nvPr/>
            </p:nvSpPr>
            <p:spPr>
              <a:xfrm>
                <a:off x="1509480" y="4963680"/>
                <a:ext cx="71280" cy="71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任意多边形 11"/>
              <p:cNvSpPr/>
              <p:nvPr/>
            </p:nvSpPr>
            <p:spPr>
              <a:xfrm>
                <a:off x="1380600" y="5071680"/>
                <a:ext cx="179280" cy="61920"/>
              </a:xfrm>
              <a:custGeom>
                <a:avLst/>
                <a:gdLst/>
                <a:ahLst/>
                <a:rect l="l" t="t" r="r" b="b"/>
                <a:pathLst>
                  <a:path w="344384" h="61355">
                    <a:moveTo>
                      <a:pt x="0" y="0"/>
                    </a:moveTo>
                    <a:cubicBezTo>
                      <a:pt x="25729" y="18802"/>
                      <a:pt x="51459" y="37605"/>
                      <a:pt x="71251" y="47501"/>
                    </a:cubicBezTo>
                    <a:cubicBezTo>
                      <a:pt x="91043" y="57397"/>
                      <a:pt x="98961" y="57397"/>
                      <a:pt x="118753" y="59376"/>
                    </a:cubicBezTo>
                    <a:cubicBezTo>
                      <a:pt x="138545" y="61355"/>
                      <a:pt x="162296" y="61355"/>
                      <a:pt x="190005" y="59376"/>
                    </a:cubicBezTo>
                    <a:cubicBezTo>
                      <a:pt x="217714" y="57397"/>
                      <a:pt x="259277" y="57397"/>
                      <a:pt x="285007" y="47501"/>
                    </a:cubicBezTo>
                    <a:cubicBezTo>
                      <a:pt x="310737" y="37605"/>
                      <a:pt x="344384" y="0"/>
                      <a:pt x="344384" y="0"/>
                    </a:cubicBezTo>
                    <a:lnTo>
                      <a:pt x="344384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1" name="组合 18"/>
            <p:cNvGrpSpPr/>
            <p:nvPr/>
          </p:nvGrpSpPr>
          <p:grpSpPr>
            <a:xfrm>
              <a:off x="3429000" y="4857480"/>
              <a:ext cx="357120" cy="357120"/>
              <a:chOff x="3429000" y="4857480"/>
              <a:chExt cx="357120" cy="357120"/>
            </a:xfrm>
          </p:grpSpPr>
          <p:sp>
            <p:nvSpPr>
              <p:cNvPr id="922" name="椭圆 14"/>
              <p:cNvSpPr/>
              <p:nvPr/>
            </p:nvSpPr>
            <p:spPr>
              <a:xfrm>
                <a:off x="3429000" y="4857480"/>
                <a:ext cx="357120" cy="357120"/>
              </a:xfrm>
              <a:prstGeom prst="ellipse">
                <a:avLst/>
              </a:prstGeom>
              <a:solidFill>
                <a:srgbClr val="66ff6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椭圆 15"/>
              <p:cNvSpPr/>
              <p:nvPr/>
            </p:nvSpPr>
            <p:spPr>
              <a:xfrm>
                <a:off x="3500280" y="4963680"/>
                <a:ext cx="71280" cy="71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椭圆 16"/>
              <p:cNvSpPr/>
              <p:nvPr/>
            </p:nvSpPr>
            <p:spPr>
              <a:xfrm>
                <a:off x="3652920" y="4963680"/>
                <a:ext cx="71280" cy="71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任意多边形 17"/>
              <p:cNvSpPr/>
              <p:nvPr/>
            </p:nvSpPr>
            <p:spPr>
              <a:xfrm flipV="1">
                <a:off x="3510000" y="5105880"/>
                <a:ext cx="181080" cy="36360"/>
              </a:xfrm>
              <a:custGeom>
                <a:avLst/>
                <a:gdLst/>
                <a:ahLst/>
                <a:rect l="l" t="t" r="r" b="b"/>
                <a:pathLst>
                  <a:path w="344384" h="61355">
                    <a:moveTo>
                      <a:pt x="0" y="0"/>
                    </a:moveTo>
                    <a:cubicBezTo>
                      <a:pt x="25729" y="18802"/>
                      <a:pt x="51459" y="37605"/>
                      <a:pt x="71251" y="47501"/>
                    </a:cubicBezTo>
                    <a:cubicBezTo>
                      <a:pt x="91043" y="57397"/>
                      <a:pt x="98961" y="57397"/>
                      <a:pt x="118753" y="59376"/>
                    </a:cubicBezTo>
                    <a:cubicBezTo>
                      <a:pt x="138545" y="61355"/>
                      <a:pt x="162296" y="61355"/>
                      <a:pt x="190005" y="59376"/>
                    </a:cubicBezTo>
                    <a:cubicBezTo>
                      <a:pt x="217714" y="57397"/>
                      <a:pt x="259277" y="57397"/>
                      <a:pt x="285007" y="47501"/>
                    </a:cubicBezTo>
                    <a:cubicBezTo>
                      <a:pt x="310737" y="37605"/>
                      <a:pt x="344384" y="0"/>
                      <a:pt x="344384" y="0"/>
                    </a:cubicBezTo>
                    <a:lnTo>
                      <a:pt x="344384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6" name="组合 26"/>
            <p:cNvGrpSpPr/>
            <p:nvPr/>
          </p:nvGrpSpPr>
          <p:grpSpPr>
            <a:xfrm>
              <a:off x="5572440" y="4857480"/>
              <a:ext cx="357120" cy="357120"/>
              <a:chOff x="5572440" y="4857480"/>
              <a:chExt cx="357120" cy="357120"/>
            </a:xfrm>
          </p:grpSpPr>
          <p:sp>
            <p:nvSpPr>
              <p:cNvPr id="927" name="椭圆 20"/>
              <p:cNvSpPr/>
              <p:nvPr/>
            </p:nvSpPr>
            <p:spPr>
              <a:xfrm>
                <a:off x="5572440" y="4857480"/>
                <a:ext cx="357120" cy="357120"/>
              </a:xfrm>
              <a:prstGeom prst="ellipse">
                <a:avLst/>
              </a:prstGeom>
              <a:solidFill>
                <a:srgbClr val="66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椭圆 21"/>
              <p:cNvSpPr/>
              <p:nvPr/>
            </p:nvSpPr>
            <p:spPr>
              <a:xfrm>
                <a:off x="5643720" y="4963680"/>
                <a:ext cx="71280" cy="71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椭圆 22"/>
              <p:cNvSpPr/>
              <p:nvPr/>
            </p:nvSpPr>
            <p:spPr>
              <a:xfrm>
                <a:off x="5796360" y="4963680"/>
                <a:ext cx="71280" cy="71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直接连接符 25"/>
              <p:cNvSpPr/>
              <p:nvPr/>
            </p:nvSpPr>
            <p:spPr>
              <a:xfrm>
                <a:off x="5667480" y="5119560"/>
                <a:ext cx="179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1" name="组合 23"/>
          <p:cNvGrpSpPr/>
          <p:nvPr/>
        </p:nvGrpSpPr>
        <p:grpSpPr>
          <a:xfrm>
            <a:off x="396720" y="887400"/>
            <a:ext cx="2071800" cy="661680"/>
            <a:chOff x="396720" y="887400"/>
            <a:chExt cx="2071800" cy="661680"/>
          </a:xfrm>
        </p:grpSpPr>
        <p:sp>
          <p:nvSpPr>
            <p:cNvPr id="932" name="直线连接符 21"/>
            <p:cNvSpPr/>
            <p:nvPr/>
          </p:nvSpPr>
          <p:spPr>
            <a:xfrm flipV="1">
              <a:off x="396720" y="15429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同侧圆角矩形 26"/>
            <p:cNvSpPr/>
            <p:nvPr/>
          </p:nvSpPr>
          <p:spPr>
            <a:xfrm>
              <a:off x="396720" y="88740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4" name="同侧圆角矩形 27"/>
          <p:cNvSpPr/>
          <p:nvPr/>
        </p:nvSpPr>
        <p:spPr>
          <a:xfrm>
            <a:off x="372960" y="8748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7143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用正数和负数表示每个队的答题结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Picture 5" descr=""/>
          <p:cNvPicPr/>
          <p:nvPr/>
        </p:nvPicPr>
        <p:blipFill>
          <a:blip r:embed="rId1"/>
          <a:stretch/>
        </p:blipFill>
        <p:spPr>
          <a:xfrm>
            <a:off x="1523880" y="1797120"/>
            <a:ext cx="6120000" cy="1917720"/>
          </a:xfrm>
          <a:prstGeom prst="rect">
            <a:avLst/>
          </a:prstGeom>
          <a:ln w="0">
            <a:noFill/>
          </a:ln>
        </p:spPr>
      </p:pic>
      <p:grpSp>
        <p:nvGrpSpPr>
          <p:cNvPr id="937" name="组合 31"/>
          <p:cNvGrpSpPr/>
          <p:nvPr/>
        </p:nvGrpSpPr>
        <p:grpSpPr>
          <a:xfrm>
            <a:off x="1465200" y="4011480"/>
            <a:ext cx="6046920" cy="2205000"/>
            <a:chOff x="1465200" y="4011480"/>
            <a:chExt cx="6046920" cy="2205000"/>
          </a:xfrm>
        </p:grpSpPr>
        <p:grpSp>
          <p:nvGrpSpPr>
            <p:cNvPr id="938" name="组合 21"/>
            <p:cNvGrpSpPr/>
            <p:nvPr/>
          </p:nvGrpSpPr>
          <p:grpSpPr>
            <a:xfrm>
              <a:off x="1607760" y="4070880"/>
              <a:ext cx="5904360" cy="2145600"/>
              <a:chOff x="1607760" y="4070880"/>
              <a:chExt cx="5904360" cy="2145600"/>
            </a:xfrm>
          </p:grpSpPr>
          <p:sp>
            <p:nvSpPr>
              <p:cNvPr id="939" name="直接连接符 8"/>
              <p:cNvSpPr/>
              <p:nvPr/>
            </p:nvSpPr>
            <p:spPr>
              <a:xfrm>
                <a:off x="1607760" y="4070880"/>
                <a:ext cx="5904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直接连接符 9"/>
              <p:cNvSpPr/>
              <p:nvPr/>
            </p:nvSpPr>
            <p:spPr>
              <a:xfrm>
                <a:off x="1607760" y="4499640"/>
                <a:ext cx="5904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直接连接符 10"/>
              <p:cNvSpPr/>
              <p:nvPr/>
            </p:nvSpPr>
            <p:spPr>
              <a:xfrm>
                <a:off x="1607760" y="5069880"/>
                <a:ext cx="5904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直接连接符 11"/>
              <p:cNvSpPr/>
              <p:nvPr/>
            </p:nvSpPr>
            <p:spPr>
              <a:xfrm>
                <a:off x="1607760" y="5641560"/>
                <a:ext cx="5904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直接连接符 13"/>
              <p:cNvSpPr/>
              <p:nvPr/>
            </p:nvSpPr>
            <p:spPr>
              <a:xfrm>
                <a:off x="1607760" y="6215040"/>
                <a:ext cx="5904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直接连接符 15"/>
              <p:cNvSpPr/>
              <p:nvPr/>
            </p:nvSpPr>
            <p:spPr>
              <a:xfrm flipH="1">
                <a:off x="2569680" y="4072320"/>
                <a:ext cx="1440" cy="214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直接连接符 16"/>
              <p:cNvSpPr/>
              <p:nvPr/>
            </p:nvSpPr>
            <p:spPr>
              <a:xfrm flipH="1">
                <a:off x="3570120" y="4070880"/>
                <a:ext cx="1440" cy="214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直接连接符 17"/>
              <p:cNvSpPr/>
              <p:nvPr/>
            </p:nvSpPr>
            <p:spPr>
              <a:xfrm flipH="1">
                <a:off x="4570200" y="4070880"/>
                <a:ext cx="1440" cy="214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直接连接符 18"/>
              <p:cNvSpPr/>
              <p:nvPr/>
            </p:nvSpPr>
            <p:spPr>
              <a:xfrm flipH="1">
                <a:off x="5570640" y="4072320"/>
                <a:ext cx="1440" cy="214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直接连接符 19"/>
              <p:cNvSpPr/>
              <p:nvPr/>
            </p:nvSpPr>
            <p:spPr>
              <a:xfrm flipH="1">
                <a:off x="6570720" y="4070880"/>
                <a:ext cx="1440" cy="2144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9" name="TextBox 22"/>
            <p:cNvSpPr/>
            <p:nvPr/>
          </p:nvSpPr>
          <p:spPr>
            <a:xfrm>
              <a:off x="1548000" y="404712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题 号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TextBox 23"/>
            <p:cNvSpPr/>
            <p:nvPr/>
          </p:nvSpPr>
          <p:spPr>
            <a:xfrm>
              <a:off x="1488960" y="453816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一队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TextBox 24"/>
            <p:cNvSpPr/>
            <p:nvPr/>
          </p:nvSpPr>
          <p:spPr>
            <a:xfrm>
              <a:off x="1465200" y="510984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二队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TextBox 25"/>
            <p:cNvSpPr/>
            <p:nvPr/>
          </p:nvSpPr>
          <p:spPr>
            <a:xfrm>
              <a:off x="1465200" y="568188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三队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TextBox 26"/>
            <p:cNvSpPr/>
            <p:nvPr/>
          </p:nvSpPr>
          <p:spPr>
            <a:xfrm>
              <a:off x="2858040" y="401148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TextBox 27"/>
            <p:cNvSpPr/>
            <p:nvPr/>
          </p:nvSpPr>
          <p:spPr>
            <a:xfrm>
              <a:off x="3858120" y="401220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TextBox 28"/>
            <p:cNvSpPr/>
            <p:nvPr/>
          </p:nvSpPr>
          <p:spPr>
            <a:xfrm>
              <a:off x="4858560" y="401148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TextBox 29"/>
            <p:cNvSpPr/>
            <p:nvPr/>
          </p:nvSpPr>
          <p:spPr>
            <a:xfrm>
              <a:off x="5858640" y="401220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TextBox 30"/>
            <p:cNvSpPr/>
            <p:nvPr/>
          </p:nvSpPr>
          <p:spPr>
            <a:xfrm>
              <a:off x="6858720" y="402408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32"/>
          <p:cNvSpPr/>
          <p:nvPr/>
        </p:nvSpPr>
        <p:spPr>
          <a:xfrm>
            <a:off x="2786040" y="4500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33"/>
          <p:cNvSpPr/>
          <p:nvPr/>
        </p:nvSpPr>
        <p:spPr>
          <a:xfrm>
            <a:off x="3703680" y="45007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34"/>
          <p:cNvSpPr/>
          <p:nvPr/>
        </p:nvSpPr>
        <p:spPr>
          <a:xfrm>
            <a:off x="2786040" y="5072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35"/>
          <p:cNvSpPr/>
          <p:nvPr/>
        </p:nvSpPr>
        <p:spPr>
          <a:xfrm>
            <a:off x="2786040" y="5643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36"/>
          <p:cNvSpPr/>
          <p:nvPr/>
        </p:nvSpPr>
        <p:spPr>
          <a:xfrm>
            <a:off x="3703680" y="50846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37"/>
          <p:cNvSpPr/>
          <p:nvPr/>
        </p:nvSpPr>
        <p:spPr>
          <a:xfrm>
            <a:off x="3821040" y="56437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38"/>
          <p:cNvSpPr/>
          <p:nvPr/>
        </p:nvSpPr>
        <p:spPr>
          <a:xfrm>
            <a:off x="4786200" y="45007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39"/>
          <p:cNvSpPr/>
          <p:nvPr/>
        </p:nvSpPr>
        <p:spPr>
          <a:xfrm>
            <a:off x="4881600" y="50720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40"/>
          <p:cNvSpPr/>
          <p:nvPr/>
        </p:nvSpPr>
        <p:spPr>
          <a:xfrm>
            <a:off x="4667400" y="56563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41"/>
          <p:cNvSpPr/>
          <p:nvPr/>
        </p:nvSpPr>
        <p:spPr>
          <a:xfrm>
            <a:off x="5786280" y="45007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42"/>
          <p:cNvSpPr/>
          <p:nvPr/>
        </p:nvSpPr>
        <p:spPr>
          <a:xfrm>
            <a:off x="5786280" y="50720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43"/>
          <p:cNvSpPr/>
          <p:nvPr/>
        </p:nvSpPr>
        <p:spPr>
          <a:xfrm>
            <a:off x="5691240" y="56545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44"/>
          <p:cNvSpPr/>
          <p:nvPr/>
        </p:nvSpPr>
        <p:spPr>
          <a:xfrm>
            <a:off x="6643800" y="45007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45"/>
          <p:cNvSpPr/>
          <p:nvPr/>
        </p:nvSpPr>
        <p:spPr>
          <a:xfrm>
            <a:off x="6762600" y="50720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46"/>
          <p:cNvSpPr/>
          <p:nvPr/>
        </p:nvSpPr>
        <p:spPr>
          <a:xfrm>
            <a:off x="6858000" y="5643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7143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计算三个队先阶段的得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1000080" y="4643280"/>
            <a:ext cx="7143840" cy="12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队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分，第二队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分，第三队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5" name="组合 40"/>
          <p:cNvGrpSpPr/>
          <p:nvPr/>
        </p:nvGrpSpPr>
        <p:grpSpPr>
          <a:xfrm>
            <a:off x="1465200" y="2081160"/>
            <a:ext cx="6178680" cy="2205000"/>
            <a:chOff x="1465200" y="2081160"/>
            <a:chExt cx="6178680" cy="2205000"/>
          </a:xfrm>
        </p:grpSpPr>
        <p:grpSp>
          <p:nvGrpSpPr>
            <p:cNvPr id="976" name="组合 4"/>
            <p:cNvGrpSpPr/>
            <p:nvPr/>
          </p:nvGrpSpPr>
          <p:grpSpPr>
            <a:xfrm>
              <a:off x="1465200" y="2081160"/>
              <a:ext cx="6046560" cy="2205000"/>
              <a:chOff x="1465200" y="2081160"/>
              <a:chExt cx="6046560" cy="2205000"/>
            </a:xfrm>
          </p:grpSpPr>
          <p:grpSp>
            <p:nvGrpSpPr>
              <p:cNvPr id="977" name="组合 21"/>
              <p:cNvGrpSpPr/>
              <p:nvPr/>
            </p:nvGrpSpPr>
            <p:grpSpPr>
              <a:xfrm>
                <a:off x="1607760" y="2140560"/>
                <a:ext cx="5904000" cy="2145600"/>
                <a:chOff x="1607760" y="2140560"/>
                <a:chExt cx="5904000" cy="2145600"/>
              </a:xfrm>
            </p:grpSpPr>
            <p:sp>
              <p:nvSpPr>
                <p:cNvPr id="978" name="直接连接符 15"/>
                <p:cNvSpPr/>
                <p:nvPr/>
              </p:nvSpPr>
              <p:spPr>
                <a:xfrm>
                  <a:off x="1607760" y="2140560"/>
                  <a:ext cx="59040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9" name="直接连接符 16"/>
                <p:cNvSpPr/>
                <p:nvPr/>
              </p:nvSpPr>
              <p:spPr>
                <a:xfrm>
                  <a:off x="1607760" y="2569320"/>
                  <a:ext cx="59040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0" name="直接连接符 17"/>
                <p:cNvSpPr/>
                <p:nvPr/>
              </p:nvSpPr>
              <p:spPr>
                <a:xfrm>
                  <a:off x="1607760" y="3139560"/>
                  <a:ext cx="59040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1" name="直接连接符 18"/>
                <p:cNvSpPr/>
                <p:nvPr/>
              </p:nvSpPr>
              <p:spPr>
                <a:xfrm>
                  <a:off x="1607760" y="3711240"/>
                  <a:ext cx="59040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2" name="直接连接符 19"/>
                <p:cNvSpPr/>
                <p:nvPr/>
              </p:nvSpPr>
              <p:spPr>
                <a:xfrm>
                  <a:off x="1607760" y="4284720"/>
                  <a:ext cx="59040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3" name="直接连接符 20"/>
                <p:cNvSpPr/>
                <p:nvPr/>
              </p:nvSpPr>
              <p:spPr>
                <a:xfrm flipH="1">
                  <a:off x="2569680" y="2142000"/>
                  <a:ext cx="1440" cy="214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4" name="直接连接符 21"/>
                <p:cNvSpPr/>
                <p:nvPr/>
              </p:nvSpPr>
              <p:spPr>
                <a:xfrm flipH="1">
                  <a:off x="3569760" y="2140560"/>
                  <a:ext cx="1440" cy="2144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5" name="直接连接符 22"/>
                <p:cNvSpPr/>
                <p:nvPr/>
              </p:nvSpPr>
              <p:spPr>
                <a:xfrm flipH="1">
                  <a:off x="4570200" y="2140560"/>
                  <a:ext cx="1440" cy="2144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6" name="直接连接符 23"/>
                <p:cNvSpPr/>
                <p:nvPr/>
              </p:nvSpPr>
              <p:spPr>
                <a:xfrm flipH="1">
                  <a:off x="5570280" y="2142000"/>
                  <a:ext cx="1440" cy="214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7" name="直接连接符 24"/>
                <p:cNvSpPr/>
                <p:nvPr/>
              </p:nvSpPr>
              <p:spPr>
                <a:xfrm flipH="1">
                  <a:off x="6570360" y="2140560"/>
                  <a:ext cx="1440" cy="2144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88" name="TextBox 6"/>
              <p:cNvSpPr/>
              <p:nvPr/>
            </p:nvSpPr>
            <p:spPr>
              <a:xfrm>
                <a:off x="1548000" y="211680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题 号</a:t>
                </a:r>
                <a:endParaRPr b="1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TextBox 7"/>
              <p:cNvSpPr/>
              <p:nvPr/>
            </p:nvSpPr>
            <p:spPr>
              <a:xfrm>
                <a:off x="1488960" y="260784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第一队</a:t>
                </a:r>
                <a:endParaRPr b="1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TextBox 8"/>
              <p:cNvSpPr/>
              <p:nvPr/>
            </p:nvSpPr>
            <p:spPr>
              <a:xfrm>
                <a:off x="1465200" y="317952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第二队</a:t>
                </a:r>
                <a:endParaRPr b="1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TextBox 9"/>
              <p:cNvSpPr/>
              <p:nvPr/>
            </p:nvSpPr>
            <p:spPr>
              <a:xfrm>
                <a:off x="1465200" y="3751560"/>
                <a:ext cx="121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第三队</a:t>
                </a:r>
                <a:endParaRPr b="1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TextBox 10"/>
              <p:cNvSpPr/>
              <p:nvPr/>
            </p:nvSpPr>
            <p:spPr>
              <a:xfrm>
                <a:off x="2858040" y="208116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TextBox 11"/>
              <p:cNvSpPr/>
              <p:nvPr/>
            </p:nvSpPr>
            <p:spPr>
              <a:xfrm>
                <a:off x="3858120" y="208188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TextBox 12"/>
              <p:cNvSpPr/>
              <p:nvPr/>
            </p:nvSpPr>
            <p:spPr>
              <a:xfrm>
                <a:off x="4858200" y="208116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TextBox 13"/>
              <p:cNvSpPr/>
              <p:nvPr/>
            </p:nvSpPr>
            <p:spPr>
              <a:xfrm>
                <a:off x="5858280" y="208188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1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TextBox 14"/>
              <p:cNvSpPr/>
              <p:nvPr/>
            </p:nvSpPr>
            <p:spPr>
              <a:xfrm>
                <a:off x="6858360" y="2093760"/>
                <a:ext cx="50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7" name="TextBox 25"/>
            <p:cNvSpPr/>
            <p:nvPr/>
          </p:nvSpPr>
          <p:spPr>
            <a:xfrm>
              <a:off x="2786400" y="25693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TextBox 26"/>
            <p:cNvSpPr/>
            <p:nvPr/>
          </p:nvSpPr>
          <p:spPr>
            <a:xfrm>
              <a:off x="3703320" y="2569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-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TextBox 27"/>
            <p:cNvSpPr/>
            <p:nvPr/>
          </p:nvSpPr>
          <p:spPr>
            <a:xfrm>
              <a:off x="2786400" y="31413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TextBox 28"/>
            <p:cNvSpPr/>
            <p:nvPr/>
          </p:nvSpPr>
          <p:spPr>
            <a:xfrm>
              <a:off x="2786400" y="37130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TextBox 29"/>
            <p:cNvSpPr/>
            <p:nvPr/>
          </p:nvSpPr>
          <p:spPr>
            <a:xfrm>
              <a:off x="3703320" y="315396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-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TextBox 30"/>
            <p:cNvSpPr/>
            <p:nvPr/>
          </p:nvSpPr>
          <p:spPr>
            <a:xfrm>
              <a:off x="3822120" y="37130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TextBox 31"/>
            <p:cNvSpPr/>
            <p:nvPr/>
          </p:nvSpPr>
          <p:spPr>
            <a:xfrm>
              <a:off x="4786560" y="25693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TextBox 32"/>
            <p:cNvSpPr/>
            <p:nvPr/>
          </p:nvSpPr>
          <p:spPr>
            <a:xfrm>
              <a:off x="4881960" y="314136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TextBox 33"/>
            <p:cNvSpPr/>
            <p:nvPr/>
          </p:nvSpPr>
          <p:spPr>
            <a:xfrm>
              <a:off x="4667400" y="372564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-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TextBox 34"/>
            <p:cNvSpPr/>
            <p:nvPr/>
          </p:nvSpPr>
          <p:spPr>
            <a:xfrm>
              <a:off x="5786640" y="256932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TextBox 35"/>
            <p:cNvSpPr/>
            <p:nvPr/>
          </p:nvSpPr>
          <p:spPr>
            <a:xfrm>
              <a:off x="5786640" y="31413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TextBox 36"/>
            <p:cNvSpPr/>
            <p:nvPr/>
          </p:nvSpPr>
          <p:spPr>
            <a:xfrm>
              <a:off x="5691600" y="37249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-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TextBox 37"/>
            <p:cNvSpPr/>
            <p:nvPr/>
          </p:nvSpPr>
          <p:spPr>
            <a:xfrm>
              <a:off x="6643800" y="2569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-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TextBox 38"/>
            <p:cNvSpPr/>
            <p:nvPr/>
          </p:nvSpPr>
          <p:spPr>
            <a:xfrm>
              <a:off x="6762960" y="31413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TextBox 39"/>
            <p:cNvSpPr/>
            <p:nvPr/>
          </p:nvSpPr>
          <p:spPr>
            <a:xfrm>
              <a:off x="6858360" y="371304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2" name="TextBox 42"/>
          <p:cNvSpPr/>
          <p:nvPr/>
        </p:nvSpPr>
        <p:spPr>
          <a:xfrm>
            <a:off x="2963880" y="46083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43"/>
          <p:cNvSpPr/>
          <p:nvPr/>
        </p:nvSpPr>
        <p:spPr>
          <a:xfrm>
            <a:off x="6572160" y="4606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44"/>
          <p:cNvSpPr/>
          <p:nvPr/>
        </p:nvSpPr>
        <p:spPr>
          <a:xfrm>
            <a:off x="3524400" y="51069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00200" y="928440"/>
            <a:ext cx="5857920" cy="1571400"/>
          </a:xfrm>
          <a:prstGeom prst="rect">
            <a:avLst/>
          </a:prstGeom>
          <a:noFill/>
          <a:ln w="19080">
            <a:solidFill>
              <a:srgbClr val="4a7ebb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有一批袋装白糖，标准质量为每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克。质检员抽取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袋进行检测，结果如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1000080" y="4142880"/>
            <a:ext cx="714384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用正数表示超过标准质量的克数，用负数表示比标准质量少的克数，符合标准质量的用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表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34"/>
          <p:cNvGrpSpPr/>
          <p:nvPr/>
        </p:nvGrpSpPr>
        <p:grpSpPr>
          <a:xfrm>
            <a:off x="905040" y="2714760"/>
            <a:ext cx="7476840" cy="1542960"/>
            <a:chOff x="905040" y="2714760"/>
            <a:chExt cx="7476840" cy="1542960"/>
          </a:xfrm>
        </p:grpSpPr>
        <p:grpSp>
          <p:nvGrpSpPr>
            <p:cNvPr id="1018" name="组合 17"/>
            <p:cNvGrpSpPr/>
            <p:nvPr/>
          </p:nvGrpSpPr>
          <p:grpSpPr>
            <a:xfrm>
              <a:off x="905040" y="2714760"/>
              <a:ext cx="7415280" cy="1143000"/>
              <a:chOff x="905040" y="2714760"/>
              <a:chExt cx="7415280" cy="1143000"/>
            </a:xfrm>
          </p:grpSpPr>
          <p:sp>
            <p:nvSpPr>
              <p:cNvPr id="1019" name="直接连接符 5"/>
              <p:cNvSpPr/>
              <p:nvPr/>
            </p:nvSpPr>
            <p:spPr>
              <a:xfrm>
                <a:off x="905040" y="2714760"/>
                <a:ext cx="741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直接连接符 6"/>
              <p:cNvSpPr/>
              <p:nvPr/>
            </p:nvSpPr>
            <p:spPr>
              <a:xfrm>
                <a:off x="905040" y="3284640"/>
                <a:ext cx="741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直接连接符 7"/>
              <p:cNvSpPr/>
              <p:nvPr/>
            </p:nvSpPr>
            <p:spPr>
              <a:xfrm>
                <a:off x="905040" y="3856320"/>
                <a:ext cx="741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直接连接符 9"/>
              <p:cNvSpPr/>
              <p:nvPr/>
            </p:nvSpPr>
            <p:spPr>
              <a:xfrm flipH="1">
                <a:off x="271296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直接连接符 10"/>
              <p:cNvSpPr/>
              <p:nvPr/>
            </p:nvSpPr>
            <p:spPr>
              <a:xfrm flipH="1">
                <a:off x="357192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直接连接符 11"/>
              <p:cNvSpPr/>
              <p:nvPr/>
            </p:nvSpPr>
            <p:spPr>
              <a:xfrm flipH="1">
                <a:off x="442944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直接连接符 12"/>
              <p:cNvSpPr/>
              <p:nvPr/>
            </p:nvSpPr>
            <p:spPr>
              <a:xfrm flipH="1">
                <a:off x="521532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直接连接符 13"/>
              <p:cNvSpPr/>
              <p:nvPr/>
            </p:nvSpPr>
            <p:spPr>
              <a:xfrm flipH="1">
                <a:off x="599940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直接连接符 14"/>
              <p:cNvSpPr/>
              <p:nvPr/>
            </p:nvSpPr>
            <p:spPr>
              <a:xfrm flipH="1">
                <a:off x="678528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直接连接符 15"/>
              <p:cNvSpPr/>
              <p:nvPr/>
            </p:nvSpPr>
            <p:spPr>
              <a:xfrm flipH="1">
                <a:off x="757116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9" name="TextBox 18"/>
            <p:cNvSpPr/>
            <p:nvPr/>
          </p:nvSpPr>
          <p:spPr>
            <a:xfrm>
              <a:off x="1285920" y="277452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袋 号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TextBox 19"/>
            <p:cNvSpPr/>
            <p:nvPr/>
          </p:nvSpPr>
          <p:spPr>
            <a:xfrm>
              <a:off x="1083240" y="3346200"/>
              <a:ext cx="14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质量（克）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Box 20"/>
            <p:cNvSpPr/>
            <p:nvPr/>
          </p:nvSpPr>
          <p:spPr>
            <a:xfrm>
              <a:off x="2952000" y="272664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TextBox 21"/>
            <p:cNvSpPr/>
            <p:nvPr/>
          </p:nvSpPr>
          <p:spPr>
            <a:xfrm>
              <a:off x="3798000" y="272628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TextBox 22"/>
            <p:cNvSpPr/>
            <p:nvPr/>
          </p:nvSpPr>
          <p:spPr>
            <a:xfrm>
              <a:off x="4606920" y="272664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TextBox 23"/>
            <p:cNvSpPr/>
            <p:nvPr/>
          </p:nvSpPr>
          <p:spPr>
            <a:xfrm>
              <a:off x="5428800" y="272628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Box 24"/>
            <p:cNvSpPr/>
            <p:nvPr/>
          </p:nvSpPr>
          <p:spPr>
            <a:xfrm>
              <a:off x="6190920" y="271512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TextBox 25"/>
            <p:cNvSpPr/>
            <p:nvPr/>
          </p:nvSpPr>
          <p:spPr>
            <a:xfrm>
              <a:off x="6976080" y="271548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TextBox 26"/>
            <p:cNvSpPr/>
            <p:nvPr/>
          </p:nvSpPr>
          <p:spPr>
            <a:xfrm>
              <a:off x="7798320" y="271512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TextBox 27"/>
            <p:cNvSpPr/>
            <p:nvPr/>
          </p:nvSpPr>
          <p:spPr>
            <a:xfrm>
              <a:off x="2774520" y="3309480"/>
              <a:ext cx="9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6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TextBox 28"/>
            <p:cNvSpPr/>
            <p:nvPr/>
          </p:nvSpPr>
          <p:spPr>
            <a:xfrm>
              <a:off x="3643920" y="3309480"/>
              <a:ext cx="784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3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TextBox 29"/>
            <p:cNvSpPr/>
            <p:nvPr/>
          </p:nvSpPr>
          <p:spPr>
            <a:xfrm>
              <a:off x="4428720" y="3309480"/>
              <a:ext cx="77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TextBox 30"/>
            <p:cNvSpPr/>
            <p:nvPr/>
          </p:nvSpPr>
          <p:spPr>
            <a:xfrm>
              <a:off x="5227560" y="3309480"/>
              <a:ext cx="73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8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Box 31"/>
            <p:cNvSpPr/>
            <p:nvPr/>
          </p:nvSpPr>
          <p:spPr>
            <a:xfrm>
              <a:off x="6013080" y="3309840"/>
              <a:ext cx="76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Box 32"/>
            <p:cNvSpPr/>
            <p:nvPr/>
          </p:nvSpPr>
          <p:spPr>
            <a:xfrm>
              <a:off x="6786360" y="331056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4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TextBox 33"/>
            <p:cNvSpPr/>
            <p:nvPr/>
          </p:nvSpPr>
          <p:spPr>
            <a:xfrm>
              <a:off x="7584840" y="3309840"/>
              <a:ext cx="79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7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5" name="同侧圆角矩形 31"/>
          <p:cNvSpPr/>
          <p:nvPr/>
        </p:nvSpPr>
        <p:spPr>
          <a:xfrm>
            <a:off x="420840" y="88884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直线连接符 21"/>
          <p:cNvSpPr/>
          <p:nvPr/>
        </p:nvSpPr>
        <p:spPr>
          <a:xfrm flipV="1">
            <a:off x="420840" y="154440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00200" y="856800"/>
            <a:ext cx="639288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用正数表示超过标准质量的克数，用负数表示比标准质量少的克数，符合标准质量的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8" name="组合 5"/>
          <p:cNvGrpSpPr/>
          <p:nvPr/>
        </p:nvGrpSpPr>
        <p:grpSpPr>
          <a:xfrm>
            <a:off x="905040" y="2714760"/>
            <a:ext cx="7476840" cy="1542960"/>
            <a:chOff x="905040" y="2714760"/>
            <a:chExt cx="7476840" cy="1542960"/>
          </a:xfrm>
        </p:grpSpPr>
        <p:grpSp>
          <p:nvGrpSpPr>
            <p:cNvPr id="1049" name="组合 17"/>
            <p:cNvGrpSpPr/>
            <p:nvPr/>
          </p:nvGrpSpPr>
          <p:grpSpPr>
            <a:xfrm>
              <a:off x="905040" y="2714760"/>
              <a:ext cx="7415280" cy="1143000"/>
              <a:chOff x="905040" y="2714760"/>
              <a:chExt cx="7415280" cy="1143000"/>
            </a:xfrm>
          </p:grpSpPr>
          <p:sp>
            <p:nvSpPr>
              <p:cNvPr id="1050" name="直接连接符 23"/>
              <p:cNvSpPr/>
              <p:nvPr/>
            </p:nvSpPr>
            <p:spPr>
              <a:xfrm>
                <a:off x="905040" y="2714760"/>
                <a:ext cx="741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直接连接符 24"/>
              <p:cNvSpPr/>
              <p:nvPr/>
            </p:nvSpPr>
            <p:spPr>
              <a:xfrm>
                <a:off x="905040" y="3284640"/>
                <a:ext cx="741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直接连接符 25"/>
              <p:cNvSpPr/>
              <p:nvPr/>
            </p:nvSpPr>
            <p:spPr>
              <a:xfrm>
                <a:off x="905040" y="3856320"/>
                <a:ext cx="741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直接连接符 26"/>
              <p:cNvSpPr/>
              <p:nvPr/>
            </p:nvSpPr>
            <p:spPr>
              <a:xfrm flipH="1">
                <a:off x="271296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直接连接符 27"/>
              <p:cNvSpPr/>
              <p:nvPr/>
            </p:nvSpPr>
            <p:spPr>
              <a:xfrm flipH="1">
                <a:off x="357192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直接连接符 28"/>
              <p:cNvSpPr/>
              <p:nvPr/>
            </p:nvSpPr>
            <p:spPr>
              <a:xfrm flipH="1">
                <a:off x="442944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直接连接符 29"/>
              <p:cNvSpPr/>
              <p:nvPr/>
            </p:nvSpPr>
            <p:spPr>
              <a:xfrm flipH="1">
                <a:off x="521532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直接连接符 30"/>
              <p:cNvSpPr/>
              <p:nvPr/>
            </p:nvSpPr>
            <p:spPr>
              <a:xfrm flipH="1">
                <a:off x="599940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直接连接符 31"/>
              <p:cNvSpPr/>
              <p:nvPr/>
            </p:nvSpPr>
            <p:spPr>
              <a:xfrm flipH="1">
                <a:off x="678528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直接连接符 32"/>
              <p:cNvSpPr/>
              <p:nvPr/>
            </p:nvSpPr>
            <p:spPr>
              <a:xfrm flipH="1">
                <a:off x="7571160" y="2714760"/>
                <a:ext cx="1440" cy="11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0" name="TextBox 7"/>
            <p:cNvSpPr/>
            <p:nvPr/>
          </p:nvSpPr>
          <p:spPr>
            <a:xfrm>
              <a:off x="1285920" y="277452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袋 号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TextBox 8"/>
            <p:cNvSpPr/>
            <p:nvPr/>
          </p:nvSpPr>
          <p:spPr>
            <a:xfrm>
              <a:off x="1083240" y="3346200"/>
              <a:ext cx="14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质量（克）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TextBox 9"/>
            <p:cNvSpPr/>
            <p:nvPr/>
          </p:nvSpPr>
          <p:spPr>
            <a:xfrm>
              <a:off x="2952000" y="272664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10"/>
            <p:cNvSpPr/>
            <p:nvPr/>
          </p:nvSpPr>
          <p:spPr>
            <a:xfrm>
              <a:off x="3798000" y="272628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TextBox 11"/>
            <p:cNvSpPr/>
            <p:nvPr/>
          </p:nvSpPr>
          <p:spPr>
            <a:xfrm>
              <a:off x="4606920" y="272664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TextBox 12"/>
            <p:cNvSpPr/>
            <p:nvPr/>
          </p:nvSpPr>
          <p:spPr>
            <a:xfrm>
              <a:off x="5428800" y="272628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13"/>
            <p:cNvSpPr/>
            <p:nvPr/>
          </p:nvSpPr>
          <p:spPr>
            <a:xfrm>
              <a:off x="6190920" y="271512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TextBox 14"/>
            <p:cNvSpPr/>
            <p:nvPr/>
          </p:nvSpPr>
          <p:spPr>
            <a:xfrm>
              <a:off x="6976080" y="271548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TextBox 15"/>
            <p:cNvSpPr/>
            <p:nvPr/>
          </p:nvSpPr>
          <p:spPr>
            <a:xfrm>
              <a:off x="7798320" y="271512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16"/>
            <p:cNvSpPr/>
            <p:nvPr/>
          </p:nvSpPr>
          <p:spPr>
            <a:xfrm>
              <a:off x="2774520" y="3309480"/>
              <a:ext cx="92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6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TextBox 17"/>
            <p:cNvSpPr/>
            <p:nvPr/>
          </p:nvSpPr>
          <p:spPr>
            <a:xfrm>
              <a:off x="3643920" y="3309480"/>
              <a:ext cx="784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3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Box 18"/>
            <p:cNvSpPr/>
            <p:nvPr/>
          </p:nvSpPr>
          <p:spPr>
            <a:xfrm>
              <a:off x="4428720" y="3309480"/>
              <a:ext cx="77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TextBox 19"/>
            <p:cNvSpPr/>
            <p:nvPr/>
          </p:nvSpPr>
          <p:spPr>
            <a:xfrm>
              <a:off x="5227560" y="3309480"/>
              <a:ext cx="73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8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20"/>
            <p:cNvSpPr/>
            <p:nvPr/>
          </p:nvSpPr>
          <p:spPr>
            <a:xfrm>
              <a:off x="6013080" y="3309840"/>
              <a:ext cx="76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21"/>
            <p:cNvSpPr/>
            <p:nvPr/>
          </p:nvSpPr>
          <p:spPr>
            <a:xfrm>
              <a:off x="6786360" y="331056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4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TextBox 22"/>
            <p:cNvSpPr/>
            <p:nvPr/>
          </p:nvSpPr>
          <p:spPr>
            <a:xfrm>
              <a:off x="7584840" y="3309840"/>
              <a:ext cx="79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7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6" name="组合 61"/>
          <p:cNvGrpSpPr/>
          <p:nvPr/>
        </p:nvGrpSpPr>
        <p:grpSpPr>
          <a:xfrm>
            <a:off x="905040" y="4214880"/>
            <a:ext cx="7414920" cy="1714320"/>
            <a:chOff x="905040" y="4214880"/>
            <a:chExt cx="7414920" cy="1714320"/>
          </a:xfrm>
        </p:grpSpPr>
        <p:grpSp>
          <p:nvGrpSpPr>
            <p:cNvPr id="1077" name="组合 17"/>
            <p:cNvGrpSpPr/>
            <p:nvPr/>
          </p:nvGrpSpPr>
          <p:grpSpPr>
            <a:xfrm>
              <a:off x="905040" y="4214880"/>
              <a:ext cx="7414920" cy="1714320"/>
              <a:chOff x="905040" y="4214880"/>
              <a:chExt cx="7414920" cy="1714320"/>
            </a:xfrm>
          </p:grpSpPr>
          <p:sp>
            <p:nvSpPr>
              <p:cNvPr id="1078" name="直接连接符 51"/>
              <p:cNvSpPr/>
              <p:nvPr/>
            </p:nvSpPr>
            <p:spPr>
              <a:xfrm>
                <a:off x="905040" y="4214880"/>
                <a:ext cx="74149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直接连接符 52"/>
              <p:cNvSpPr/>
              <p:nvPr/>
            </p:nvSpPr>
            <p:spPr>
              <a:xfrm>
                <a:off x="905040" y="4784760"/>
                <a:ext cx="74149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直接连接符 53"/>
              <p:cNvSpPr/>
              <p:nvPr/>
            </p:nvSpPr>
            <p:spPr>
              <a:xfrm>
                <a:off x="905040" y="5927760"/>
                <a:ext cx="74149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直接连接符 54"/>
              <p:cNvSpPr/>
              <p:nvPr/>
            </p:nvSpPr>
            <p:spPr>
              <a:xfrm flipH="1">
                <a:off x="2712960" y="4225680"/>
                <a:ext cx="1440" cy="16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直接连接符 55"/>
              <p:cNvSpPr/>
              <p:nvPr/>
            </p:nvSpPr>
            <p:spPr>
              <a:xfrm flipH="1">
                <a:off x="3571920" y="4225680"/>
                <a:ext cx="1440" cy="16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直接连接符 56"/>
              <p:cNvSpPr/>
              <p:nvPr/>
            </p:nvSpPr>
            <p:spPr>
              <a:xfrm flipH="1">
                <a:off x="4429080" y="4225680"/>
                <a:ext cx="1440" cy="16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直接连接符 57"/>
              <p:cNvSpPr/>
              <p:nvPr/>
            </p:nvSpPr>
            <p:spPr>
              <a:xfrm flipH="1">
                <a:off x="5214960" y="4225680"/>
                <a:ext cx="1440" cy="16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直接连接符 58"/>
              <p:cNvSpPr/>
              <p:nvPr/>
            </p:nvSpPr>
            <p:spPr>
              <a:xfrm flipH="1">
                <a:off x="5999040" y="4225680"/>
                <a:ext cx="1440" cy="16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直接连接符 59"/>
              <p:cNvSpPr/>
              <p:nvPr/>
            </p:nvSpPr>
            <p:spPr>
              <a:xfrm flipH="1">
                <a:off x="6784920" y="4225680"/>
                <a:ext cx="1440" cy="16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直接连接符 60"/>
              <p:cNvSpPr/>
              <p:nvPr/>
            </p:nvSpPr>
            <p:spPr>
              <a:xfrm flipH="1">
                <a:off x="7570800" y="4225680"/>
                <a:ext cx="1440" cy="16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TextBox 35"/>
            <p:cNvSpPr/>
            <p:nvPr/>
          </p:nvSpPr>
          <p:spPr>
            <a:xfrm>
              <a:off x="1285920" y="427428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袋 号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TextBox 36"/>
            <p:cNvSpPr/>
            <p:nvPr/>
          </p:nvSpPr>
          <p:spPr>
            <a:xfrm>
              <a:off x="964440" y="4953240"/>
              <a:ext cx="191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标准质量相比（克）</a:t>
              </a:r>
              <a:endParaRPr b="1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TextBox 37"/>
            <p:cNvSpPr/>
            <p:nvPr/>
          </p:nvSpPr>
          <p:spPr>
            <a:xfrm>
              <a:off x="2952000" y="422676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TextBox 38"/>
            <p:cNvSpPr/>
            <p:nvPr/>
          </p:nvSpPr>
          <p:spPr>
            <a:xfrm>
              <a:off x="3797640" y="422640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TextBox 39"/>
            <p:cNvSpPr/>
            <p:nvPr/>
          </p:nvSpPr>
          <p:spPr>
            <a:xfrm>
              <a:off x="4630320" y="422676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TextBox 40"/>
            <p:cNvSpPr/>
            <p:nvPr/>
          </p:nvSpPr>
          <p:spPr>
            <a:xfrm>
              <a:off x="5428800" y="422640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TextBox 41"/>
            <p:cNvSpPr/>
            <p:nvPr/>
          </p:nvSpPr>
          <p:spPr>
            <a:xfrm>
              <a:off x="6190560" y="421524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TextBox 42"/>
            <p:cNvSpPr/>
            <p:nvPr/>
          </p:nvSpPr>
          <p:spPr>
            <a:xfrm>
              <a:off x="6975720" y="421560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TextBox 43"/>
            <p:cNvSpPr/>
            <p:nvPr/>
          </p:nvSpPr>
          <p:spPr>
            <a:xfrm>
              <a:off x="7797960" y="4215240"/>
              <a:ext cx="49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7" name="TextBox 44"/>
          <p:cNvSpPr/>
          <p:nvPr/>
        </p:nvSpPr>
        <p:spPr>
          <a:xfrm>
            <a:off x="2868480" y="5072040"/>
            <a:ext cx="5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Box 45"/>
          <p:cNvSpPr/>
          <p:nvPr/>
        </p:nvSpPr>
        <p:spPr>
          <a:xfrm>
            <a:off x="3679920" y="50720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TextBox 46"/>
          <p:cNvSpPr/>
          <p:nvPr/>
        </p:nvSpPr>
        <p:spPr>
          <a:xfrm>
            <a:off x="4654440" y="5072040"/>
            <a:ext cx="5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Box 47"/>
          <p:cNvSpPr/>
          <p:nvPr/>
        </p:nvSpPr>
        <p:spPr>
          <a:xfrm>
            <a:off x="5334120" y="5072040"/>
            <a:ext cx="7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3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Box 48"/>
          <p:cNvSpPr/>
          <p:nvPr/>
        </p:nvSpPr>
        <p:spPr>
          <a:xfrm>
            <a:off x="6215040" y="507204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Box 49"/>
          <p:cNvSpPr/>
          <p:nvPr/>
        </p:nvSpPr>
        <p:spPr>
          <a:xfrm>
            <a:off x="6905520" y="507348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50"/>
          <p:cNvSpPr/>
          <p:nvPr/>
        </p:nvSpPr>
        <p:spPr>
          <a:xfrm>
            <a:off x="7643880" y="5072040"/>
            <a:ext cx="55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2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4" name="组合 61"/>
          <p:cNvGrpSpPr/>
          <p:nvPr/>
        </p:nvGrpSpPr>
        <p:grpSpPr>
          <a:xfrm>
            <a:off x="396720" y="887400"/>
            <a:ext cx="2071800" cy="661680"/>
            <a:chOff x="396720" y="887400"/>
            <a:chExt cx="2071800" cy="661680"/>
          </a:xfrm>
        </p:grpSpPr>
        <p:sp>
          <p:nvSpPr>
            <p:cNvPr id="1105" name="直线连接符 21"/>
            <p:cNvSpPr/>
            <p:nvPr/>
          </p:nvSpPr>
          <p:spPr>
            <a:xfrm flipV="1">
              <a:off x="396720" y="15429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同侧圆角矩形 63"/>
            <p:cNvSpPr/>
            <p:nvPr/>
          </p:nvSpPr>
          <p:spPr>
            <a:xfrm>
              <a:off x="396720" y="88740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7" name="同侧圆角矩形 64"/>
          <p:cNvSpPr/>
          <p:nvPr/>
        </p:nvSpPr>
        <p:spPr>
          <a:xfrm>
            <a:off x="372960" y="87480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13:41:52Z</dcterms:created>
  <dc:creator/>
  <dc:description/>
  <dc:language>en-US</dc:language>
  <cp:lastModifiedBy>User</cp:lastModifiedBy>
  <dcterms:modified xsi:type="dcterms:W3CDTF">2016-03-28T21:35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