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8B1-4584-43F2-B540-DB246268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AF3-3CDA-4333-A2D9-6BC4350A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895-4A7D-4215-A4D0-CABCCFAF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2E35-0530-41A3-B367-CF63960E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2723-9057-4CC9-933D-5FEEAAFA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5BA9-0751-431A-9284-1B4F5285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8D92-867D-4DB9-B1BF-0D5D923C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8047-3F4C-47BB-AE2D-0F503966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6922-92BB-4E8B-9039-8973D563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58F0-2FA7-435B-BACE-BABD9603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E471-E427-4DA9-8062-41BB2F98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44C-54D2-46E3-8F02-3D3E4763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9638-0254-4B6F-BE8F-DE536D92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1348-91C0-4098-A3F6-CCD4CE13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F9D9-3C4D-48D5-B78B-D5F70D68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0F06-3640-40D8-8B51-337A51F3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D686-4524-4A09-A1FC-479AC93A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2C02D-975B-48AF-BB86-D6D544CB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90A6B-453D-4E2C-8E5B-5058D8E9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34DFA-2432-4765-8C6E-953C5B9B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E9F6-1C93-44C8-9C53-C34E01E5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0B426-04E0-45F3-8065-974B4112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755-D395-4FE8-89FC-39EAF3DD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0DC55-7C69-4853-97A7-1801205B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0697E-8FCE-49BC-AC0F-26CA72E4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5BA60-C3BE-451C-8ABC-7B84628D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FA46-8F46-4C96-8DFE-1470BB75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5FE60-8D0D-420D-80EC-C7BACFB5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6810-7DDF-47B3-9862-663EF109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C1146-4AE6-4072-9658-6E57B70B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B7D25-F99A-40AA-8BC5-EEA9DF22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8CC96-865C-4099-A244-B370D989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64A0B-FDFE-451D-B02C-7D567B54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4DB-7E65-405B-8F3C-30FFAD46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A5783-5F84-4BE5-B2A6-3403B966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5B86A-87B3-498E-B627-9EA216F8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19334-13CD-4811-93B2-58598AC9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118AC-C445-4CF0-AD76-85683595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73B53-0902-4594-8490-3CCB7AF0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2F2B-0AC7-45A6-A380-B018DCAF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2FF60-A8CC-4EFB-BA6E-A1F321A9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B9936-4F5D-4CA7-B907-A74C8183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BE8C1-EA28-42CB-BCE2-DDD913C5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55E-E09B-4532-9A14-F990BF06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AD6-0F06-4D29-8642-241EAA1A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B34-A144-4106-BC4E-077CD02E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91C-DEC7-42AC-B029-FB569330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830-9F8C-4A60-83B7-40F3F0B1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0927-959E-4833-B200-C929EBD09E2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25AE-D48B-44D1-B0EB-92865381CED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555D-B0EF-43E5-8D05-317614B5B459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32D0-1DC7-4DA3-8DCE-D666A2B6A4D9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908000" y="4653000"/>
            <a:ext cx="5446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庆市垫江县桂溪小学：雷 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763640" y="2565360"/>
            <a:ext cx="5473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百分数的认识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2"/>
          <p:cNvSpPr/>
          <p:nvPr/>
        </p:nvSpPr>
        <p:spPr>
          <a:xfrm>
            <a:off x="2052720" y="1484280"/>
            <a:ext cx="5040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宋体"/>
              </a:rPr>
              <a:t>百分数的认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76720" y="1268280"/>
            <a:ext cx="23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信息交流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25" name=""/>
          <p:cNvSpPr/>
          <p:nvPr/>
        </p:nvSpPr>
        <p:spPr>
          <a:xfrm>
            <a:off x="1403280" y="1844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要 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11280" y="404640"/>
            <a:ext cx="3028680" cy="642600"/>
            <a:chOff x="611280" y="404640"/>
            <a:chExt cx="3028680" cy="642600"/>
          </a:xfrm>
        </p:grpSpPr>
        <p:sp>
          <p:nvSpPr>
            <p:cNvPr id="327" name=""/>
            <p:cNvSpPr/>
            <p:nvPr/>
          </p:nvSpPr>
          <p:spPr>
            <a:xfrm>
              <a:off x="1185840" y="404640"/>
              <a:ext cx="24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课堂活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1280" y="404640"/>
              <a:ext cx="647640" cy="576000"/>
            </a:xfrm>
            <a:prstGeom prst="sun">
              <a:avLst>
                <a:gd name="adj" fmla="val 25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484360" y="3573360"/>
            <a:ext cx="53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、其中的百分数表示什么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84360" y="4292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３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、谈谈自己的感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84360" y="2781360"/>
            <a:ext cx="53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１、你的信息是什么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276720" y="1557360"/>
            <a:ext cx="23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信息交流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611280" y="404640"/>
            <a:ext cx="3028680" cy="642600"/>
            <a:chOff x="611280" y="404640"/>
            <a:chExt cx="3028680" cy="642600"/>
          </a:xfrm>
        </p:grpSpPr>
        <p:sp>
          <p:nvSpPr>
            <p:cNvPr id="334" name=""/>
            <p:cNvSpPr/>
            <p:nvPr/>
          </p:nvSpPr>
          <p:spPr>
            <a:xfrm>
              <a:off x="1185840" y="404640"/>
              <a:ext cx="24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课堂活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1280" y="404640"/>
              <a:ext cx="647640" cy="576000"/>
            </a:xfrm>
            <a:prstGeom prst="sun">
              <a:avLst>
                <a:gd name="adj" fmla="val 25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042920" y="2205000"/>
            <a:ext cx="64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一节课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分钟，现在大约过了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分钟，大约过了这一节课的（      ）﹪，还剩下这节课的（      ）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96560" y="30686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6560" y="3500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971640" y="1197000"/>
            <a:ext cx="41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、写出下面各百分数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0" name=""/>
          <p:cNvSpPr/>
          <p:nvPr/>
        </p:nvSpPr>
        <p:spPr>
          <a:xfrm>
            <a:off x="826920" y="1700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某小学参加课外小组的同学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，参加各小组的人数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71640" y="2708280"/>
          <a:ext cx="6985080" cy="2449080"/>
        </p:xfrm>
        <a:graphic>
          <a:graphicData uri="http://schemas.openxmlformats.org/drawingml/2006/table">
            <a:tbl>
              <a:tblPr/>
              <a:tblGrid>
                <a:gridCol w="2100240"/>
                <a:gridCol w="1133640"/>
                <a:gridCol w="1371600"/>
                <a:gridCol w="1212840"/>
                <a:gridCol w="1166760"/>
              </a:tblGrid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美术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体育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科技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手工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人  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占课外小组总人数的百分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2" name=""/>
          <p:cNvGrpSpPr/>
          <p:nvPr/>
        </p:nvGrpSpPr>
        <p:grpSpPr>
          <a:xfrm>
            <a:off x="611280" y="404640"/>
            <a:ext cx="3028680" cy="642600"/>
            <a:chOff x="611280" y="404640"/>
            <a:chExt cx="3028680" cy="642600"/>
          </a:xfrm>
        </p:grpSpPr>
        <p:sp>
          <p:nvSpPr>
            <p:cNvPr id="343" name=""/>
            <p:cNvSpPr/>
            <p:nvPr/>
          </p:nvSpPr>
          <p:spPr>
            <a:xfrm>
              <a:off x="1185840" y="404640"/>
              <a:ext cx="24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巩固运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1280" y="404640"/>
              <a:ext cx="647640" cy="576000"/>
            </a:xfrm>
            <a:prstGeom prst="sun">
              <a:avLst>
                <a:gd name="adj" fmla="val 25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971640" y="134136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、选择合适的数填在（  ）中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6" name=""/>
          <p:cNvSpPr/>
          <p:nvPr/>
        </p:nvSpPr>
        <p:spPr>
          <a:xfrm>
            <a:off x="1557000" y="2133720"/>
            <a:ext cx="45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5﹪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 ﹪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8 ﹪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71640" y="2924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一本书已经看了全书的（     ），还剩下全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7800" y="378936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根绳子长（       ）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00000" y="450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辆货车严重超载，装的货物是限载重的（      ），这个司机被吊扣了驾驶执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48360" y="2924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8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67280" y="3840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6720" y="49766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11280" y="476280"/>
            <a:ext cx="3028680" cy="642600"/>
            <a:chOff x="611280" y="476280"/>
            <a:chExt cx="3028680" cy="642600"/>
          </a:xfrm>
        </p:grpSpPr>
        <p:sp>
          <p:nvSpPr>
            <p:cNvPr id="354" name=""/>
            <p:cNvSpPr/>
            <p:nvPr/>
          </p:nvSpPr>
          <p:spPr>
            <a:xfrm>
              <a:off x="1185840" y="476280"/>
              <a:ext cx="24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巩固运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1280" y="476280"/>
              <a:ext cx="647640" cy="576000"/>
            </a:xfrm>
            <a:prstGeom prst="sun">
              <a:avLst>
                <a:gd name="adj" fmla="val 25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924360" y="3645000"/>
                <a:ext cx="611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156360" y="1916280"/>
                <a:ext cx="61272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696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成语联想百分数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11280" y="404640"/>
            <a:ext cx="3028680" cy="642600"/>
            <a:chOff x="611280" y="404640"/>
            <a:chExt cx="3028680" cy="642600"/>
          </a:xfrm>
        </p:grpSpPr>
        <p:sp>
          <p:nvSpPr>
            <p:cNvPr id="360" name=""/>
            <p:cNvSpPr/>
            <p:nvPr/>
          </p:nvSpPr>
          <p:spPr>
            <a:xfrm>
              <a:off x="1185840" y="404640"/>
              <a:ext cx="24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拓展运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1280" y="404640"/>
              <a:ext cx="647640" cy="576000"/>
            </a:xfrm>
            <a:prstGeom prst="sun">
              <a:avLst>
                <a:gd name="adj" fmla="val 25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340000" y="3213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战百胜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77600" y="4221000"/>
            <a:ext cx="43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里挑一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 )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94800" y="3213000"/>
            <a:ext cx="10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10440" y="422100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3011400" y="3384720"/>
            <a:ext cx="3166560" cy="1266120"/>
            <a:chOff x="3011400" y="3384720"/>
            <a:chExt cx="3166560" cy="1266120"/>
          </a:xfrm>
        </p:grpSpPr>
        <p:grpSp>
          <p:nvGrpSpPr>
            <p:cNvPr id="368" name=""/>
            <p:cNvGrpSpPr/>
            <p:nvPr/>
          </p:nvGrpSpPr>
          <p:grpSpPr>
            <a:xfrm>
              <a:off x="3011400" y="3384720"/>
              <a:ext cx="3166560" cy="633600"/>
              <a:chOff x="3011400" y="3384720"/>
              <a:chExt cx="3166560" cy="63360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3011400" y="3384720"/>
                <a:ext cx="3166560" cy="317520"/>
                <a:chOff x="3011400" y="3384720"/>
                <a:chExt cx="3166560" cy="31752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3011400" y="3384720"/>
                  <a:ext cx="1584000" cy="317520"/>
                  <a:chOff x="3011400" y="3384720"/>
                  <a:chExt cx="1584000" cy="31752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3645360" y="338472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961440" y="338472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011400" y="338472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329280" y="3384720"/>
                    <a:ext cx="31860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4277520" y="338472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4593960" y="3384720"/>
                  <a:ext cx="1584000" cy="317520"/>
                  <a:chOff x="4593960" y="3384720"/>
                  <a:chExt cx="1584000" cy="31752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5227920" y="338472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544000" y="338472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4593960" y="338472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4911840" y="3384720"/>
                    <a:ext cx="31860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5860080" y="338472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2" name=""/>
              <p:cNvGrpSpPr/>
              <p:nvPr/>
            </p:nvGrpSpPr>
            <p:grpSpPr>
              <a:xfrm>
                <a:off x="3011400" y="3700800"/>
                <a:ext cx="3166560" cy="317520"/>
                <a:chOff x="3011400" y="3700800"/>
                <a:chExt cx="3166560" cy="31752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3011400" y="3700800"/>
                  <a:ext cx="1584000" cy="317520"/>
                  <a:chOff x="3011400" y="3700800"/>
                  <a:chExt cx="1584000" cy="31752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3645360" y="370080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961440" y="370080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011400" y="370080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329280" y="3700800"/>
                    <a:ext cx="31860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277520" y="370080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4593960" y="3700800"/>
                  <a:ext cx="1584000" cy="317520"/>
                  <a:chOff x="4593960" y="3700800"/>
                  <a:chExt cx="1584000" cy="3175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5227920" y="370080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5544000" y="370080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593960" y="370080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4911840" y="3700800"/>
                    <a:ext cx="31860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5860080" y="370080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5" name=""/>
            <p:cNvGrpSpPr/>
            <p:nvPr/>
          </p:nvGrpSpPr>
          <p:grpSpPr>
            <a:xfrm>
              <a:off x="3011400" y="4017240"/>
              <a:ext cx="3166560" cy="633600"/>
              <a:chOff x="3011400" y="4017240"/>
              <a:chExt cx="3166560" cy="63360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3011400" y="4017240"/>
                <a:ext cx="3166560" cy="317520"/>
                <a:chOff x="3011400" y="4017240"/>
                <a:chExt cx="3166560" cy="31752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3011400" y="4017240"/>
                  <a:ext cx="1584000" cy="317520"/>
                  <a:chOff x="3011400" y="4017240"/>
                  <a:chExt cx="1584000" cy="31752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645360" y="401724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961440" y="401724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011400" y="401724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3329280" y="4017240"/>
                    <a:ext cx="31860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277520" y="401724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4593960" y="4017240"/>
                  <a:ext cx="1584000" cy="317520"/>
                  <a:chOff x="4593960" y="4017240"/>
                  <a:chExt cx="1584000" cy="31752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5227920" y="401724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5544000" y="401724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593960" y="401724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911840" y="4017240"/>
                    <a:ext cx="31860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5860080" y="401724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9" name=""/>
              <p:cNvGrpSpPr/>
              <p:nvPr/>
            </p:nvGrpSpPr>
            <p:grpSpPr>
              <a:xfrm>
                <a:off x="3011400" y="4333320"/>
                <a:ext cx="3166560" cy="317520"/>
                <a:chOff x="3011400" y="4333320"/>
                <a:chExt cx="3166560" cy="31752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3011400" y="4333320"/>
                  <a:ext cx="1584000" cy="317520"/>
                  <a:chOff x="3011400" y="4333320"/>
                  <a:chExt cx="1584000" cy="3175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3645360" y="433332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3961440" y="433332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011400" y="433332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329280" y="4333320"/>
                    <a:ext cx="31860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277520" y="433332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4593960" y="4333320"/>
                  <a:ext cx="1584000" cy="317520"/>
                  <a:chOff x="4593960" y="4333320"/>
                  <a:chExt cx="1584000" cy="31752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5227920" y="433332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544000" y="433332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4593960" y="433332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911840" y="4333320"/>
                    <a:ext cx="31860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860080" y="4333320"/>
                    <a:ext cx="317880" cy="317520"/>
                  </a:xfrm>
                  <a:prstGeom prst="rect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22" name=""/>
          <p:cNvGrpSpPr/>
          <p:nvPr/>
        </p:nvGrpSpPr>
        <p:grpSpPr>
          <a:xfrm>
            <a:off x="3011400" y="3068640"/>
            <a:ext cx="3167640" cy="318240"/>
            <a:chOff x="3011400" y="3068640"/>
            <a:chExt cx="3167640" cy="318240"/>
          </a:xfrm>
        </p:grpSpPr>
        <p:grpSp>
          <p:nvGrpSpPr>
            <p:cNvPr id="423" name=""/>
            <p:cNvGrpSpPr/>
            <p:nvPr/>
          </p:nvGrpSpPr>
          <p:grpSpPr>
            <a:xfrm>
              <a:off x="3011400" y="3068640"/>
              <a:ext cx="1584720" cy="318240"/>
              <a:chOff x="3011400" y="3068640"/>
              <a:chExt cx="1584720" cy="318240"/>
            </a:xfrm>
          </p:grpSpPr>
          <p:sp>
            <p:nvSpPr>
              <p:cNvPr id="424" name=""/>
              <p:cNvSpPr/>
              <p:nvPr/>
            </p:nvSpPr>
            <p:spPr>
              <a:xfrm>
                <a:off x="3645720" y="3068640"/>
                <a:ext cx="318240" cy="31824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961800" y="3068640"/>
                <a:ext cx="318240" cy="31824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011400" y="3068640"/>
                <a:ext cx="318240" cy="31824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329640" y="3068640"/>
                <a:ext cx="318600" cy="31824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277880" y="3068640"/>
                <a:ext cx="318240" cy="31824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4594320" y="3068640"/>
              <a:ext cx="1584720" cy="318240"/>
              <a:chOff x="4594320" y="3068640"/>
              <a:chExt cx="1584720" cy="318240"/>
            </a:xfrm>
          </p:grpSpPr>
          <p:sp>
            <p:nvSpPr>
              <p:cNvPr id="430" name=""/>
              <p:cNvSpPr/>
              <p:nvPr/>
            </p:nvSpPr>
            <p:spPr>
              <a:xfrm>
                <a:off x="5228640" y="3068640"/>
                <a:ext cx="318240" cy="31824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544720" y="3068640"/>
                <a:ext cx="318240" cy="31824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94320" y="3068640"/>
                <a:ext cx="318240" cy="31824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912560" y="3068640"/>
                <a:ext cx="318600" cy="31824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60800" y="3068640"/>
                <a:ext cx="318240" cy="31824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3011400" y="4649760"/>
            <a:ext cx="1270800" cy="318600"/>
            <a:chOff x="3011400" y="4649760"/>
            <a:chExt cx="1270800" cy="318600"/>
          </a:xfrm>
        </p:grpSpPr>
        <p:grpSp>
          <p:nvGrpSpPr>
            <p:cNvPr id="436" name=""/>
            <p:cNvGrpSpPr/>
            <p:nvPr/>
          </p:nvGrpSpPr>
          <p:grpSpPr>
            <a:xfrm>
              <a:off x="3011400" y="4649760"/>
              <a:ext cx="1270800" cy="318240"/>
              <a:chOff x="3011400" y="4649760"/>
              <a:chExt cx="1270800" cy="318240"/>
            </a:xfrm>
          </p:grpSpPr>
          <p:sp>
            <p:nvSpPr>
              <p:cNvPr id="437" name=""/>
              <p:cNvSpPr/>
              <p:nvPr/>
            </p:nvSpPr>
            <p:spPr>
              <a:xfrm>
                <a:off x="3647880" y="4649760"/>
                <a:ext cx="318240" cy="31824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963960" y="4649760"/>
                <a:ext cx="318240" cy="318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011400" y="4649760"/>
                <a:ext cx="318240" cy="31824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3327480" y="4649760"/>
              <a:ext cx="318240" cy="318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284720" y="4653000"/>
            <a:ext cx="1901160" cy="318600"/>
            <a:chOff x="4284720" y="4653000"/>
            <a:chExt cx="1901160" cy="318600"/>
          </a:xfrm>
        </p:grpSpPr>
        <p:sp>
          <p:nvSpPr>
            <p:cNvPr id="442" name=""/>
            <p:cNvSpPr/>
            <p:nvPr/>
          </p:nvSpPr>
          <p:spPr>
            <a:xfrm>
              <a:off x="4284720" y="4653000"/>
              <a:ext cx="318240" cy="31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600440" y="4653000"/>
              <a:ext cx="1585440" cy="318240"/>
              <a:chOff x="4600440" y="4653000"/>
              <a:chExt cx="1585440" cy="318240"/>
            </a:xfrm>
          </p:grpSpPr>
          <p:sp>
            <p:nvSpPr>
              <p:cNvPr id="444" name=""/>
              <p:cNvSpPr/>
              <p:nvPr/>
            </p:nvSpPr>
            <p:spPr>
              <a:xfrm>
                <a:off x="5234760" y="4653000"/>
                <a:ext cx="318240" cy="318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551200" y="4653000"/>
                <a:ext cx="318240" cy="318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600440" y="4653000"/>
                <a:ext cx="318240" cy="318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918680" y="4653000"/>
                <a:ext cx="318600" cy="318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67640" y="4653000"/>
                <a:ext cx="318240" cy="318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011400" y="4968720"/>
            <a:ext cx="3166560" cy="1264680"/>
            <a:chOff x="3011400" y="4968720"/>
            <a:chExt cx="3166560" cy="1264680"/>
          </a:xfrm>
        </p:grpSpPr>
        <p:grpSp>
          <p:nvGrpSpPr>
            <p:cNvPr id="450" name=""/>
            <p:cNvGrpSpPr/>
            <p:nvPr/>
          </p:nvGrpSpPr>
          <p:grpSpPr>
            <a:xfrm>
              <a:off x="3011400" y="4968720"/>
              <a:ext cx="3166560" cy="632880"/>
              <a:chOff x="3011400" y="4968720"/>
              <a:chExt cx="3166560" cy="63288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3011400" y="4968720"/>
                <a:ext cx="3166560" cy="317160"/>
                <a:chOff x="3011400" y="4968720"/>
                <a:chExt cx="3166560" cy="31716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3011400" y="4968720"/>
                  <a:ext cx="1584000" cy="317160"/>
                  <a:chOff x="3011400" y="4968720"/>
                  <a:chExt cx="1584000" cy="3171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3645360" y="496872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3961440" y="496872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3011400" y="496872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3329280" y="4968720"/>
                    <a:ext cx="31860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277520" y="496872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4593960" y="4968720"/>
                  <a:ext cx="1584000" cy="317160"/>
                  <a:chOff x="4593960" y="4968720"/>
                  <a:chExt cx="1584000" cy="3171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5227920" y="496872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5544000" y="496872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593960" y="496872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911840" y="4968720"/>
                    <a:ext cx="31860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860080" y="496872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4" name=""/>
              <p:cNvGrpSpPr/>
              <p:nvPr/>
            </p:nvGrpSpPr>
            <p:grpSpPr>
              <a:xfrm>
                <a:off x="3011400" y="5284440"/>
                <a:ext cx="3166560" cy="317160"/>
                <a:chOff x="3011400" y="5284440"/>
                <a:chExt cx="3166560" cy="317160"/>
              </a:xfrm>
            </p:grpSpPr>
            <p:grpSp>
              <p:nvGrpSpPr>
                <p:cNvPr id="465" name=""/>
                <p:cNvGrpSpPr/>
                <p:nvPr/>
              </p:nvGrpSpPr>
              <p:grpSpPr>
                <a:xfrm>
                  <a:off x="3011400" y="5284440"/>
                  <a:ext cx="1584000" cy="317160"/>
                  <a:chOff x="3011400" y="5284440"/>
                  <a:chExt cx="1584000" cy="31716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3645360" y="528444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961440" y="528444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3011400" y="528444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3329280" y="5284440"/>
                    <a:ext cx="31860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277520" y="528444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4593960" y="5284440"/>
                  <a:ext cx="1584000" cy="317160"/>
                  <a:chOff x="4593960" y="5284440"/>
                  <a:chExt cx="1584000" cy="31716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5227920" y="528444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544000" y="528444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593960" y="528444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4911840" y="5284440"/>
                    <a:ext cx="31860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860080" y="528444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7" name=""/>
            <p:cNvGrpSpPr/>
            <p:nvPr/>
          </p:nvGrpSpPr>
          <p:grpSpPr>
            <a:xfrm>
              <a:off x="3011400" y="5600520"/>
              <a:ext cx="3166560" cy="632880"/>
              <a:chOff x="3011400" y="5600520"/>
              <a:chExt cx="3166560" cy="63288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3011400" y="5600520"/>
                <a:ext cx="3166560" cy="317160"/>
                <a:chOff x="3011400" y="5600520"/>
                <a:chExt cx="3166560" cy="31716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3011400" y="5600520"/>
                  <a:ext cx="1584000" cy="317160"/>
                  <a:chOff x="3011400" y="5600520"/>
                  <a:chExt cx="1584000" cy="3171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3645360" y="560052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3961440" y="560052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3011400" y="560052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329280" y="5600520"/>
                    <a:ext cx="31860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4277520" y="560052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4593960" y="5600520"/>
                  <a:ext cx="1584000" cy="317160"/>
                  <a:chOff x="4593960" y="5600520"/>
                  <a:chExt cx="1584000" cy="3171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5227920" y="560052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544000" y="560052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4593960" y="560052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4911840" y="5600520"/>
                    <a:ext cx="31860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860080" y="560052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3011400" y="5916240"/>
                <a:ext cx="3166560" cy="317160"/>
                <a:chOff x="3011400" y="5916240"/>
                <a:chExt cx="3166560" cy="317160"/>
              </a:xfrm>
            </p:grpSpPr>
            <p:grpSp>
              <p:nvGrpSpPr>
                <p:cNvPr id="492" name=""/>
                <p:cNvGrpSpPr/>
                <p:nvPr/>
              </p:nvGrpSpPr>
              <p:grpSpPr>
                <a:xfrm>
                  <a:off x="3011400" y="5916240"/>
                  <a:ext cx="1584000" cy="317160"/>
                  <a:chOff x="3011400" y="5916240"/>
                  <a:chExt cx="1584000" cy="31716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3645360" y="591624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3961440" y="591624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3011400" y="591624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3329280" y="5916240"/>
                    <a:ext cx="31860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4277520" y="591624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"/>
                <p:cNvGrpSpPr/>
                <p:nvPr/>
              </p:nvGrpSpPr>
              <p:grpSpPr>
                <a:xfrm>
                  <a:off x="4593960" y="5916240"/>
                  <a:ext cx="1584000" cy="317160"/>
                  <a:chOff x="4593960" y="5916240"/>
                  <a:chExt cx="1584000" cy="3171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5227920" y="591624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5544000" y="591624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4593960" y="591624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4911840" y="5916240"/>
                    <a:ext cx="31860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5860080" y="5916240"/>
                    <a:ext cx="317880" cy="31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04" name=""/>
          <p:cNvSpPr/>
          <p:nvPr/>
        </p:nvSpPr>
        <p:spPr>
          <a:xfrm>
            <a:off x="1427040" y="1989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３、仔细观察下面的格子图，你能快速　　　　　　　　　　　　地联想到哪些百分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11280" y="404640"/>
            <a:ext cx="3028680" cy="642600"/>
            <a:chOff x="611280" y="404640"/>
            <a:chExt cx="3028680" cy="642600"/>
          </a:xfrm>
        </p:grpSpPr>
        <p:sp>
          <p:nvSpPr>
            <p:cNvPr id="506" name=""/>
            <p:cNvSpPr/>
            <p:nvPr/>
          </p:nvSpPr>
          <p:spPr>
            <a:xfrm>
              <a:off x="1185840" y="404640"/>
              <a:ext cx="24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拓展运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1280" y="404640"/>
              <a:ext cx="647640" cy="576000"/>
            </a:xfrm>
            <a:prstGeom prst="sun">
              <a:avLst>
                <a:gd name="adj" fmla="val 25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611280" y="404640"/>
            <a:ext cx="3028680" cy="642600"/>
            <a:chOff x="611280" y="404640"/>
            <a:chExt cx="3028680" cy="642600"/>
          </a:xfrm>
        </p:grpSpPr>
        <p:sp>
          <p:nvSpPr>
            <p:cNvPr id="509" name=""/>
            <p:cNvSpPr/>
            <p:nvPr/>
          </p:nvSpPr>
          <p:spPr>
            <a:xfrm>
              <a:off x="1185840" y="404640"/>
              <a:ext cx="24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评价升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1280" y="404640"/>
              <a:ext cx="647640" cy="576000"/>
            </a:xfrm>
            <a:prstGeom prst="sun">
              <a:avLst>
                <a:gd name="adj" fmla="val 25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1403280" y="3339000"/>
            <a:ext cx="655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你有什么收获？你对自己在这节课上的表现满意吗？用一个百分数来表示你的满意度是多少？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971640" y="2924280"/>
            <a:ext cx="727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天才＝１﹪的灵感＋９９﹪的勤奋</a:t>
            </a:r>
            <a:endParaRPr b="1" lang="en-US" sz="5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1341360"/>
            <a:ext cx="28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Comic Sans MS"/>
                <a:ea typeface="隶书"/>
              </a:rPr>
              <a:t>爱迪生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260360" y="1413000"/>
            <a:ext cx="7056720" cy="453708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611280" y="484200"/>
            <a:ext cx="3028680" cy="642600"/>
            <a:chOff x="611280" y="484200"/>
            <a:chExt cx="3028680" cy="642600"/>
          </a:xfrm>
        </p:grpSpPr>
        <p:sp>
          <p:nvSpPr>
            <p:cNvPr id="238" name=""/>
            <p:cNvSpPr/>
            <p:nvPr/>
          </p:nvSpPr>
          <p:spPr>
            <a:xfrm>
              <a:off x="1185840" y="484200"/>
              <a:ext cx="24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创设情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1280" y="484200"/>
              <a:ext cx="647640" cy="576000"/>
            </a:xfrm>
            <a:prstGeom prst="sun">
              <a:avLst>
                <a:gd name="adj" fmla="val 25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116000" y="1844640"/>
          <a:ext cx="7201080" cy="4032360"/>
        </p:xfrm>
        <a:graphic>
          <a:graphicData uri="http://schemas.openxmlformats.org/drawingml/2006/table">
            <a:tbl>
              <a:tblPr/>
              <a:tblGrid>
                <a:gridCol w="1380960"/>
                <a:gridCol w="5820120"/>
              </a:tblGrid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队　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罚中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３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５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２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７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１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852360" y="1125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队员基本情况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84360" y="549360"/>
            <a:ext cx="3028680" cy="642600"/>
            <a:chOff x="684360" y="549360"/>
            <a:chExt cx="3028680" cy="642600"/>
          </a:xfrm>
        </p:grpSpPr>
        <p:sp>
          <p:nvSpPr>
            <p:cNvPr id="243" name=""/>
            <p:cNvSpPr/>
            <p:nvPr/>
          </p:nvSpPr>
          <p:spPr>
            <a:xfrm>
              <a:off x="1258920" y="549360"/>
              <a:ext cx="24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创设情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360" y="549360"/>
              <a:ext cx="647640" cy="576000"/>
            </a:xfrm>
            <a:prstGeom prst="sun">
              <a:avLst>
                <a:gd name="adj" fmla="val 25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116000" y="1844640"/>
          <a:ext cx="7201080" cy="4032360"/>
        </p:xfrm>
        <a:graphic>
          <a:graphicData uri="http://schemas.openxmlformats.org/drawingml/2006/table">
            <a:tbl>
              <a:tblPr/>
              <a:tblGrid>
                <a:gridCol w="1380960"/>
                <a:gridCol w="2910240"/>
                <a:gridCol w="2909880"/>
              </a:tblGrid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队　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罚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罚点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３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１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５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２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２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７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１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２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852360" y="1125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队员基本情况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84360" y="549360"/>
            <a:ext cx="3028680" cy="642600"/>
            <a:chOff x="684360" y="549360"/>
            <a:chExt cx="3028680" cy="642600"/>
          </a:xfrm>
        </p:grpSpPr>
        <p:sp>
          <p:nvSpPr>
            <p:cNvPr id="248" name=""/>
            <p:cNvSpPr/>
            <p:nvPr/>
          </p:nvSpPr>
          <p:spPr>
            <a:xfrm>
              <a:off x="1258920" y="549360"/>
              <a:ext cx="24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创设情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4360" y="549360"/>
              <a:ext cx="647640" cy="576000"/>
            </a:xfrm>
            <a:prstGeom prst="sun">
              <a:avLst>
                <a:gd name="adj" fmla="val 25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116000" y="1844640"/>
          <a:ext cx="7201080" cy="4032360"/>
        </p:xfrm>
        <a:graphic>
          <a:graphicData uri="http://schemas.openxmlformats.org/drawingml/2006/table">
            <a:tbl>
              <a:tblPr/>
              <a:tblGrid>
                <a:gridCol w="1380960"/>
                <a:gridCol w="1427400"/>
                <a:gridCol w="1481040"/>
                <a:gridCol w="2911680"/>
              </a:tblGrid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队　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罚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罚点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罚中次数占总次数的几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３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１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５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２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２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７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１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２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3852360" y="1125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队员基本情况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84360" y="549360"/>
            <a:ext cx="3028680" cy="642600"/>
            <a:chOff x="684360" y="549360"/>
            <a:chExt cx="3028680" cy="642600"/>
          </a:xfrm>
        </p:grpSpPr>
        <p:sp>
          <p:nvSpPr>
            <p:cNvPr id="253" name=""/>
            <p:cNvSpPr/>
            <p:nvPr/>
          </p:nvSpPr>
          <p:spPr>
            <a:xfrm>
              <a:off x="1258920" y="549360"/>
              <a:ext cx="24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创设情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4360" y="549360"/>
              <a:ext cx="647640" cy="576000"/>
            </a:xfrm>
            <a:prstGeom prst="sun">
              <a:avLst>
                <a:gd name="adj" fmla="val 25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867280" y="3068640"/>
                <a:ext cx="4842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867280" y="4005360"/>
                <a:ext cx="5446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867280" y="4941720"/>
                <a:ext cx="544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8" name=""/>
          <p:cNvGrpSpPr/>
          <p:nvPr/>
        </p:nvGrpSpPr>
        <p:grpSpPr>
          <a:xfrm>
            <a:off x="6443640" y="3068640"/>
            <a:ext cx="1224000" cy="936720"/>
            <a:chOff x="6443640" y="3068640"/>
            <a:chExt cx="1224000" cy="936720"/>
          </a:xfrm>
        </p:grpSpPr>
        <p:sp>
          <p:nvSpPr>
            <p:cNvPr id="259" name=""/>
            <p:cNvSpPr/>
            <p:nvPr/>
          </p:nvSpPr>
          <p:spPr>
            <a:xfrm>
              <a:off x="6443640" y="357192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7000920" y="3068640"/>
                  <a:ext cx="66672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1" name=""/>
          <p:cNvGrpSpPr/>
          <p:nvPr/>
        </p:nvGrpSpPr>
        <p:grpSpPr>
          <a:xfrm>
            <a:off x="6443640" y="4005360"/>
            <a:ext cx="1316160" cy="936360"/>
            <a:chOff x="6443640" y="4005360"/>
            <a:chExt cx="1316160" cy="936360"/>
          </a:xfrm>
        </p:grpSpPr>
        <p:sp>
          <p:nvSpPr>
            <p:cNvPr id="262" name=""/>
            <p:cNvSpPr/>
            <p:nvPr/>
          </p:nvSpPr>
          <p:spPr>
            <a:xfrm>
              <a:off x="6443640" y="450828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7093080" y="4005360"/>
                  <a:ext cx="666720" cy="93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4" name=""/>
          <p:cNvGrpSpPr/>
          <p:nvPr/>
        </p:nvGrpSpPr>
        <p:grpSpPr>
          <a:xfrm>
            <a:off x="6516720" y="4941720"/>
            <a:ext cx="1243080" cy="936720"/>
            <a:chOff x="6516720" y="4941720"/>
            <a:chExt cx="1243080" cy="936720"/>
          </a:xfrm>
        </p:grpSpPr>
        <p:sp>
          <p:nvSpPr>
            <p:cNvPr id="265" name=""/>
            <p:cNvSpPr/>
            <p:nvPr/>
          </p:nvSpPr>
          <p:spPr>
            <a:xfrm>
              <a:off x="6516720" y="544500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093080" y="4941720"/>
                  <a:ext cx="66672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900000" y="1916280"/>
          <a:ext cx="7561440" cy="3960720"/>
        </p:xfrm>
        <a:graphic>
          <a:graphicData uri="http://schemas.openxmlformats.org/drawingml/2006/table">
            <a:tbl>
              <a:tblPr/>
              <a:tblGrid>
                <a:gridCol w="1297080"/>
                <a:gridCol w="1440000"/>
                <a:gridCol w="1728720"/>
                <a:gridCol w="309564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品 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发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种子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实验种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总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１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２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２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２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３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１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５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8" name=""/>
          <p:cNvGrpSpPr/>
          <p:nvPr/>
        </p:nvGrpSpPr>
        <p:grpSpPr>
          <a:xfrm>
            <a:off x="611280" y="404640"/>
            <a:ext cx="3028680" cy="642600"/>
            <a:chOff x="611280" y="404640"/>
            <a:chExt cx="3028680" cy="642600"/>
          </a:xfrm>
        </p:grpSpPr>
        <p:sp>
          <p:nvSpPr>
            <p:cNvPr id="269" name=""/>
            <p:cNvSpPr/>
            <p:nvPr/>
          </p:nvSpPr>
          <p:spPr>
            <a:xfrm>
              <a:off x="1185840" y="404640"/>
              <a:ext cx="24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探究新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1280" y="404640"/>
              <a:ext cx="647640" cy="576000"/>
            </a:xfrm>
            <a:prstGeom prst="sun">
              <a:avLst>
                <a:gd name="adj" fmla="val 25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899800" y="129708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科技小组做种子发芽实验情况如下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35640" y="198900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Comic Sans MS"/>
              </a:rPr>
              <a:t>发芽种子数占实验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Comic Sans MS"/>
              </a:rPr>
              <a:t>子总数的百分之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516720" y="4941720"/>
                <a:ext cx="665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6443640" y="2924280"/>
                <a:ext cx="6732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516720" y="4005360"/>
                <a:ext cx="6192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455840" y="163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11280" y="404640"/>
            <a:ext cx="3028680" cy="642600"/>
            <a:chOff x="611280" y="404640"/>
            <a:chExt cx="3028680" cy="642600"/>
          </a:xfrm>
        </p:grpSpPr>
        <p:sp>
          <p:nvSpPr>
            <p:cNvPr id="278" name=""/>
            <p:cNvSpPr/>
            <p:nvPr/>
          </p:nvSpPr>
          <p:spPr>
            <a:xfrm>
              <a:off x="1185840" y="404640"/>
              <a:ext cx="24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探究新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1280" y="404640"/>
              <a:ext cx="647640" cy="576000"/>
            </a:xfrm>
            <a:prstGeom prst="sun">
              <a:avLst>
                <a:gd name="adj" fmla="val 25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721240" y="1374840"/>
            <a:ext cx="30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说说下面各百分数的意义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55800" y="2349360"/>
            <a:ext cx="30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去年我校的用水量是前年的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95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681000" y="3022560"/>
            <a:ext cx="24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国每年约有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0.02﹪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的耕地被沙漠侵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1640" y="3789360"/>
            <a:ext cx="41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年，北京城市绿化覆盖率为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40.6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84200" y="450864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一次数学检测中我班的合格率是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00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403280" y="1557360"/>
            <a:ext cx="64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1280" y="404640"/>
            <a:ext cx="3028680" cy="642600"/>
            <a:chOff x="611280" y="404640"/>
            <a:chExt cx="3028680" cy="642600"/>
          </a:xfrm>
        </p:grpSpPr>
        <p:sp>
          <p:nvSpPr>
            <p:cNvPr id="287" name=""/>
            <p:cNvSpPr/>
            <p:nvPr/>
          </p:nvSpPr>
          <p:spPr>
            <a:xfrm>
              <a:off x="1185840" y="404640"/>
              <a:ext cx="24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新知拓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1280" y="404640"/>
              <a:ext cx="647640" cy="576000"/>
            </a:xfrm>
            <a:prstGeom prst="sun">
              <a:avLst>
                <a:gd name="adj" fmla="val 25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 txBox="1"/>
          <p:nvPr/>
        </p:nvSpPr>
        <p:spPr>
          <a:xfrm>
            <a:off x="3348000" y="1125360"/>
            <a:ext cx="237636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辨一辨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90" name=""/>
          <p:cNvSpPr/>
          <p:nvPr/>
        </p:nvSpPr>
        <p:spPr>
          <a:xfrm>
            <a:off x="3132000" y="1773360"/>
            <a:ext cx="280836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2500" spc="-1" strike="noStrike">
                <a:solidFill>
                  <a:srgbClr val="000000"/>
                </a:solidFill>
                <a:latin typeface="Comic Sans MS"/>
              </a:rPr>
              <a:t>在一次测量中，老师让明明和惠惠记录：“一根绳子长百分之九十九米”。老师看了他俩的记录，告诉他们只有一个写对了，可是他俩都觉得自己没有错。请你帮他们辨一辨谁对谁错，为什么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55640" y="3068640"/>
            <a:ext cx="2305080" cy="2015640"/>
            <a:chOff x="755640" y="3068640"/>
            <a:chExt cx="2305080" cy="2015640"/>
          </a:xfrm>
        </p:grpSpPr>
        <p:sp>
          <p:nvSpPr>
            <p:cNvPr id="292" name=""/>
            <p:cNvSpPr/>
            <p:nvPr/>
          </p:nvSpPr>
          <p:spPr>
            <a:xfrm>
              <a:off x="755640" y="3068640"/>
              <a:ext cx="2016000" cy="2015640"/>
            </a:xfrm>
            <a:prstGeom prst="upArrowCallout">
              <a:avLst>
                <a:gd name="adj1" fmla="val 25007"/>
                <a:gd name="adj2" fmla="val 25004"/>
                <a:gd name="adj3" fmla="val 16667"/>
                <a:gd name="adj4" fmla="val 6666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26920" y="3875400"/>
              <a:ext cx="223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一根绳子长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﹪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948360" y="5661000"/>
            <a:ext cx="863640" cy="576000"/>
            <a:chOff x="6948360" y="5661000"/>
            <a:chExt cx="863640" cy="576000"/>
          </a:xfrm>
        </p:grpSpPr>
        <p:sp>
          <p:nvSpPr>
            <p:cNvPr id="295" name=""/>
            <p:cNvSpPr/>
            <p:nvPr/>
          </p:nvSpPr>
          <p:spPr>
            <a:xfrm>
              <a:off x="6948360" y="5876640"/>
              <a:ext cx="216000" cy="36036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164360" y="5661000"/>
              <a:ext cx="647640" cy="57600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547280" y="5157720"/>
            <a:ext cx="647640" cy="504720"/>
            <a:chOff x="1547280" y="5157720"/>
            <a:chExt cx="647640" cy="504720"/>
          </a:xfrm>
        </p:grpSpPr>
        <p:sp>
          <p:nvSpPr>
            <p:cNvPr id="298" name=""/>
            <p:cNvSpPr/>
            <p:nvPr/>
          </p:nvSpPr>
          <p:spPr>
            <a:xfrm>
              <a:off x="1618920" y="5157720"/>
              <a:ext cx="505080" cy="50472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547280" y="5157720"/>
              <a:ext cx="647640" cy="4316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258920" y="1557360"/>
            <a:ext cx="1180800" cy="1822320"/>
            <a:chOff x="1258920" y="1557360"/>
            <a:chExt cx="1180800" cy="1822320"/>
          </a:xfrm>
        </p:grpSpPr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>
              <a:off x="1258920" y="1557360"/>
              <a:ext cx="118080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2122200" y="2636640"/>
              <a:ext cx="14472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1908000" y="1413000"/>
            <a:ext cx="9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明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6084720" y="3716280"/>
            <a:ext cx="1770120" cy="2104920"/>
            <a:chOff x="6084720" y="3716280"/>
            <a:chExt cx="1770120" cy="2104920"/>
          </a:xfrm>
        </p:grpSpPr>
        <p:pic>
          <p:nvPicPr>
            <p:cNvPr id="305" name="" descr=""/>
            <p:cNvPicPr/>
            <p:nvPr/>
          </p:nvPicPr>
          <p:blipFill>
            <a:blip r:embed="rId3"/>
            <a:stretch/>
          </p:blipFill>
          <p:spPr>
            <a:xfrm>
              <a:off x="6445080" y="3716280"/>
              <a:ext cx="140976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6661080" y="4797360"/>
              <a:ext cx="21564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45080" y="3789360"/>
              <a:ext cx="431640" cy="72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16360" y="3716280"/>
              <a:ext cx="79236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84720" y="530064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惠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156360" y="1773360"/>
            <a:ext cx="2556000" cy="2232000"/>
            <a:chOff x="6156360" y="1773360"/>
            <a:chExt cx="2556000" cy="2232000"/>
          </a:xfrm>
        </p:grpSpPr>
        <p:sp>
          <p:nvSpPr>
            <p:cNvPr id="311" name=""/>
            <p:cNvSpPr/>
            <p:nvPr/>
          </p:nvSpPr>
          <p:spPr>
            <a:xfrm>
              <a:off x="6156360" y="1773360"/>
              <a:ext cx="2089440" cy="2232000"/>
            </a:xfrm>
            <a:prstGeom prst="downArrowCallout">
              <a:avLst>
                <a:gd name="adj1" fmla="val 25002"/>
                <a:gd name="adj2" fmla="val 25000"/>
                <a:gd name="adj3" fmla="val 17804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56520" y="1773360"/>
              <a:ext cx="2355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一根绳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长         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6877080" y="2349720"/>
                  <a:ext cx="719280" cy="93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9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843280" y="1197000"/>
            <a:ext cx="410364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百分数与分数的区别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/>
          <p:nvPr/>
        </p:nvSpPr>
        <p:spPr>
          <a:xfrm>
            <a:off x="6856560" y="501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042920" y="1989000"/>
          <a:ext cx="7129440" cy="3571920"/>
        </p:xfrm>
        <a:graphic>
          <a:graphicData uri="http://schemas.openxmlformats.org/drawingml/2006/table">
            <a:tbl>
              <a:tblPr/>
              <a:tblGrid>
                <a:gridCol w="1060560"/>
                <a:gridCol w="2973240"/>
                <a:gridCol w="3095640"/>
              </a:tblGrid>
              <a:tr h="74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区　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联　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2556000" y="313308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表示某个具体的数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56000" y="450144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表示某个具体的数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11280" y="404640"/>
            <a:ext cx="3028680" cy="642600"/>
            <a:chOff x="611280" y="404640"/>
            <a:chExt cx="3028680" cy="642600"/>
          </a:xfrm>
        </p:grpSpPr>
        <p:sp>
          <p:nvSpPr>
            <p:cNvPr id="320" name=""/>
            <p:cNvSpPr/>
            <p:nvPr/>
          </p:nvSpPr>
          <p:spPr>
            <a:xfrm>
              <a:off x="1185840" y="404640"/>
              <a:ext cx="24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新知拓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1280" y="404640"/>
              <a:ext cx="647640" cy="576000"/>
            </a:xfrm>
            <a:prstGeom prst="sun">
              <a:avLst>
                <a:gd name="adj" fmla="val 25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558000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都可以表示两个数之间的倍数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80000" y="4365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百分数是特殊的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07:28:51Z</dcterms:created>
  <dc:creator>Administrators</dc:creator>
  <dc:description/>
  <dc:language>en-US</dc:language>
  <cp:lastModifiedBy>User</cp:lastModifiedBy>
  <dcterms:modified xsi:type="dcterms:W3CDTF">2016-01-27T10:51:06Z</dcterms:modified>
  <cp:revision>52</cp:revision>
  <dc:subject/>
  <dc:title>幻灯片 1</dc:title>
</cp:coreProperties>
</file>