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1158-EC09-4F6C-AF8F-C909171016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24A7-140E-45FA-937B-2B42F895DB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9B44-DCDE-4469-8A67-6E87FED09AD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785E-FFD5-48F0-9FF3-EA9375C73A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5E2-9612-4D38-A63E-99A324A8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49D-209B-4B23-B80A-8C3DFBB7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048-7790-40FE-83EE-25DEB189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A5F-F41E-4D2F-A27C-17A3F88D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4F4-E287-4C03-B4D1-7F6D57D4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CFB-3F3D-40D7-9BEE-8C4D47BE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9B4-AA91-4660-ADB4-8560C275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C6A-A1F8-4EC8-8767-EE02EA03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CFA-E387-42F6-9765-BFCACCCB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122-57A9-42C2-912F-4182DFCF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DEB-8FB4-4EBB-8AF6-1AF745FA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49F-4BB1-4859-BBFE-882356E0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0DF2-7AFC-4FF0-994D-75DC55EA9A6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8"/>
          <p:cNvSpPr/>
          <p:nvPr/>
        </p:nvSpPr>
        <p:spPr>
          <a:xfrm>
            <a:off x="3276720" y="243828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.1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扇形统计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线连接符 21"/>
          <p:cNvSpPr/>
          <p:nvPr/>
        </p:nvSpPr>
        <p:spPr>
          <a:xfrm>
            <a:off x="4067280" y="3357720"/>
            <a:ext cx="388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826920" y="119700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单元   扇形统计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组合 15"/>
          <p:cNvGrpSpPr/>
          <p:nvPr/>
        </p:nvGrpSpPr>
        <p:grpSpPr>
          <a:xfrm>
            <a:off x="826920" y="2133720"/>
            <a:ext cx="1297080" cy="574560"/>
            <a:chOff x="826920" y="2133720"/>
            <a:chExt cx="1297080" cy="574560"/>
          </a:xfrm>
        </p:grpSpPr>
        <p:sp>
          <p:nvSpPr>
            <p:cNvPr id="146" name="椭圆 12"/>
            <p:cNvSpPr/>
            <p:nvPr/>
          </p:nvSpPr>
          <p:spPr>
            <a:xfrm>
              <a:off x="826920" y="2133720"/>
              <a:ext cx="1297080" cy="57456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d996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970920" y="2211840"/>
              <a:ext cx="1009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归纳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Text Box 7"/>
          <p:cNvSpPr/>
          <p:nvPr/>
        </p:nvSpPr>
        <p:spPr>
          <a:xfrm>
            <a:off x="2124000" y="2627280"/>
            <a:ext cx="4824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扇形统计图有什么特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332000" y="33577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扇形统计图中能清楚地看出各部分数量和总数量之间的关系。便于反映部分和整体之间的关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合 13"/>
          <p:cNvGrpSpPr/>
          <p:nvPr/>
        </p:nvGrpSpPr>
        <p:grpSpPr>
          <a:xfrm>
            <a:off x="826920" y="2133720"/>
            <a:ext cx="1297080" cy="574560"/>
            <a:chOff x="826920" y="2133720"/>
            <a:chExt cx="1297080" cy="574560"/>
          </a:xfrm>
        </p:grpSpPr>
        <p:sp>
          <p:nvSpPr>
            <p:cNvPr id="153" name="椭圆 14"/>
            <p:cNvSpPr/>
            <p:nvPr/>
          </p:nvSpPr>
          <p:spPr>
            <a:xfrm>
              <a:off x="826920" y="2133720"/>
              <a:ext cx="1297080" cy="57456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d996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 Box 7"/>
            <p:cNvSpPr/>
            <p:nvPr/>
          </p:nvSpPr>
          <p:spPr>
            <a:xfrm>
              <a:off x="898920" y="2211840"/>
              <a:ext cx="1225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试一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 Box 7"/>
          <p:cNvSpPr/>
          <p:nvPr/>
        </p:nvSpPr>
        <p:spPr>
          <a:xfrm>
            <a:off x="2340000" y="2276640"/>
            <a:ext cx="4824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扇形统计图，并填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547640" y="3600360"/>
            <a:ext cx="2664000" cy="24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1187280" y="2781360"/>
            <a:ext cx="3529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六（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班同学参加课外活动      情况统计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908000" y="4005360"/>
            <a:ext cx="1008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美术类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916360" y="4149720"/>
            <a:ext cx="1150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文娱类 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411280" y="5229360"/>
            <a:ext cx="1081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育类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直接箭头连接符 22"/>
          <p:cNvCxnSpPr/>
          <p:nvPr/>
        </p:nvCxnSpPr>
        <p:spPr>
          <a:xfrm flipV="1">
            <a:off x="1402920" y="5373000"/>
            <a:ext cx="361080" cy="143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2" name="Text Box 7"/>
          <p:cNvSpPr/>
          <p:nvPr/>
        </p:nvSpPr>
        <p:spPr>
          <a:xfrm>
            <a:off x="755640" y="5157720"/>
            <a:ext cx="720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他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211640" y="3789360"/>
            <a:ext cx="4032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参加文娱类活动的有（  ）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211640" y="4354560"/>
            <a:ext cx="4105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参加体育类活动的有（  ）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356000" y="5084640"/>
            <a:ext cx="3888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还能提出并解决哪些数学问题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33"/>
          <p:cNvGrpSpPr/>
          <p:nvPr/>
        </p:nvGrpSpPr>
        <p:grpSpPr>
          <a:xfrm>
            <a:off x="539640" y="2162160"/>
            <a:ext cx="3456000" cy="2490840"/>
            <a:chOff x="539640" y="2162160"/>
            <a:chExt cx="3456000" cy="2490840"/>
          </a:xfrm>
        </p:grpSpPr>
        <p:pic>
          <p:nvPicPr>
            <p:cNvPr id="169" name="Picture 5" descr=""/>
            <p:cNvPicPr/>
            <p:nvPr/>
          </p:nvPicPr>
          <p:blipFill>
            <a:blip r:embed="rId1"/>
            <a:stretch/>
          </p:blipFill>
          <p:spPr>
            <a:xfrm>
              <a:off x="1331640" y="2162160"/>
              <a:ext cx="266400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7"/>
            <p:cNvSpPr/>
            <p:nvPr/>
          </p:nvSpPr>
          <p:spPr>
            <a:xfrm>
              <a:off x="1691640" y="2566080"/>
              <a:ext cx="1008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美术类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5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2699640" y="2710080"/>
              <a:ext cx="1152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文娱类 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7"/>
            <p:cNvSpPr/>
            <p:nvPr/>
          </p:nvSpPr>
          <p:spPr>
            <a:xfrm>
              <a:off x="2195640" y="3790440"/>
              <a:ext cx="1080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体育类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5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3" name="直接箭头连接符 22"/>
            <p:cNvCxnSpPr/>
            <p:nvPr/>
          </p:nvCxnSpPr>
          <p:spPr>
            <a:xfrm flipV="1">
              <a:off x="1187640" y="3934080"/>
              <a:ext cx="360720" cy="1447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74" name="Text Box 7"/>
            <p:cNvSpPr/>
            <p:nvPr/>
          </p:nvSpPr>
          <p:spPr>
            <a:xfrm>
              <a:off x="539640" y="3718440"/>
              <a:ext cx="720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其他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Text Box 7"/>
          <p:cNvSpPr/>
          <p:nvPr/>
        </p:nvSpPr>
        <p:spPr>
          <a:xfrm>
            <a:off x="4211640" y="2421000"/>
            <a:ext cx="4032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参加文娱类活动的有（  ）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组合 32"/>
          <p:cNvGrpSpPr/>
          <p:nvPr/>
        </p:nvGrpSpPr>
        <p:grpSpPr>
          <a:xfrm>
            <a:off x="4788000" y="1125360"/>
            <a:ext cx="1655640" cy="432000"/>
            <a:chOff x="4788000" y="1125360"/>
            <a:chExt cx="1655640" cy="432000"/>
          </a:xfrm>
        </p:grpSpPr>
        <p:sp>
          <p:nvSpPr>
            <p:cNvPr id="177" name="圆角矩形标注 25"/>
            <p:cNvSpPr/>
            <p:nvPr/>
          </p:nvSpPr>
          <p:spPr>
            <a:xfrm>
              <a:off x="4788000" y="1125360"/>
              <a:ext cx="1655640" cy="432000"/>
            </a:xfrm>
            <a:prstGeom prst="wedgeRoundRectCallout">
              <a:avLst>
                <a:gd name="adj1" fmla="val -72055"/>
                <a:gd name="adj2" fmla="val 37907"/>
                <a:gd name="adj3" fmla="val 16667"/>
              </a:avLst>
            </a:prstGeom>
            <a:solidFill>
              <a:srgbClr val="fdeada"/>
            </a:solidFill>
            <a:ln w="25560">
              <a:solidFill>
                <a:srgbClr val="d996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4788000" y="1125360"/>
              <a:ext cx="16556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总人数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人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Text Box 7"/>
          <p:cNvSpPr/>
          <p:nvPr/>
        </p:nvSpPr>
        <p:spPr>
          <a:xfrm>
            <a:off x="4211640" y="2997360"/>
            <a:ext cx="4105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已知总人数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人，参加文娱类活动的占总人数的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%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求参加文娱类活动的人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851280" y="4292640"/>
            <a:ext cx="4465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人数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应分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文娱类人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284720" y="5013360"/>
            <a:ext cx="3024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×30%=1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995640" y="5589720"/>
            <a:ext cx="3745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参加文娱类的有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7164360" y="2409840"/>
            <a:ext cx="503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组合 33"/>
          <p:cNvGrpSpPr/>
          <p:nvPr/>
        </p:nvGrpSpPr>
        <p:grpSpPr>
          <a:xfrm>
            <a:off x="539640" y="2162160"/>
            <a:ext cx="3456000" cy="2490840"/>
            <a:chOff x="539640" y="2162160"/>
            <a:chExt cx="3456000" cy="2490840"/>
          </a:xfrm>
        </p:grpSpPr>
        <p:pic>
          <p:nvPicPr>
            <p:cNvPr id="187" name="Picture 5" descr=""/>
            <p:cNvPicPr/>
            <p:nvPr/>
          </p:nvPicPr>
          <p:blipFill>
            <a:blip r:embed="rId1"/>
            <a:stretch/>
          </p:blipFill>
          <p:spPr>
            <a:xfrm>
              <a:off x="1331640" y="2162160"/>
              <a:ext cx="266400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691640" y="2566080"/>
              <a:ext cx="1008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美术类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5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 Box 7"/>
            <p:cNvSpPr/>
            <p:nvPr/>
          </p:nvSpPr>
          <p:spPr>
            <a:xfrm>
              <a:off x="2699640" y="2710080"/>
              <a:ext cx="1152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文娱类 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 Box 7"/>
            <p:cNvSpPr/>
            <p:nvPr/>
          </p:nvSpPr>
          <p:spPr>
            <a:xfrm>
              <a:off x="2195640" y="3790440"/>
              <a:ext cx="1080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体育类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5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91" name="直接箭头连接符 22"/>
            <p:cNvCxnSpPr/>
            <p:nvPr/>
          </p:nvCxnSpPr>
          <p:spPr>
            <a:xfrm flipV="1">
              <a:off x="1187640" y="3934080"/>
              <a:ext cx="360720" cy="1447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92" name="Text Box 7"/>
            <p:cNvSpPr/>
            <p:nvPr/>
          </p:nvSpPr>
          <p:spPr>
            <a:xfrm>
              <a:off x="539640" y="3718440"/>
              <a:ext cx="720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其他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Text Box 7"/>
          <p:cNvSpPr/>
          <p:nvPr/>
        </p:nvSpPr>
        <p:spPr>
          <a:xfrm>
            <a:off x="4211640" y="2421000"/>
            <a:ext cx="4032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参加体育类活动的有（  ）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组合 32"/>
          <p:cNvGrpSpPr/>
          <p:nvPr/>
        </p:nvGrpSpPr>
        <p:grpSpPr>
          <a:xfrm>
            <a:off x="4788000" y="1125360"/>
            <a:ext cx="1655640" cy="432000"/>
            <a:chOff x="4788000" y="1125360"/>
            <a:chExt cx="1655640" cy="432000"/>
          </a:xfrm>
        </p:grpSpPr>
        <p:sp>
          <p:nvSpPr>
            <p:cNvPr id="195" name="圆角矩形标注 25"/>
            <p:cNvSpPr/>
            <p:nvPr/>
          </p:nvSpPr>
          <p:spPr>
            <a:xfrm>
              <a:off x="4788000" y="1125360"/>
              <a:ext cx="1655640" cy="432000"/>
            </a:xfrm>
            <a:prstGeom prst="wedgeRoundRectCallout">
              <a:avLst>
                <a:gd name="adj1" fmla="val -72055"/>
                <a:gd name="adj2" fmla="val 37907"/>
                <a:gd name="adj3" fmla="val 16667"/>
              </a:avLst>
            </a:prstGeom>
            <a:solidFill>
              <a:srgbClr val="fdeada"/>
            </a:solidFill>
            <a:ln w="25560">
              <a:solidFill>
                <a:srgbClr val="d996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4788000" y="1125360"/>
              <a:ext cx="16556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总人数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人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Text Box 7"/>
          <p:cNvSpPr/>
          <p:nvPr/>
        </p:nvSpPr>
        <p:spPr>
          <a:xfrm>
            <a:off x="4211640" y="2997360"/>
            <a:ext cx="4105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已知总人数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人，参加体育类活动的占总人数的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5%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求参加体育类活动的人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3851280" y="4292640"/>
            <a:ext cx="4465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人数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应分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育类人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284720" y="5013360"/>
            <a:ext cx="3024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×35%=1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995640" y="5589720"/>
            <a:ext cx="3745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参加文娱类的有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7164360" y="2409840"/>
            <a:ext cx="503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33"/>
          <p:cNvGrpSpPr/>
          <p:nvPr/>
        </p:nvGrpSpPr>
        <p:grpSpPr>
          <a:xfrm>
            <a:off x="539640" y="2162160"/>
            <a:ext cx="3456000" cy="2490840"/>
            <a:chOff x="539640" y="2162160"/>
            <a:chExt cx="3456000" cy="2490840"/>
          </a:xfrm>
        </p:grpSpPr>
        <p:pic>
          <p:nvPicPr>
            <p:cNvPr id="205" name="Picture 5" descr=""/>
            <p:cNvPicPr/>
            <p:nvPr/>
          </p:nvPicPr>
          <p:blipFill>
            <a:blip r:embed="rId1"/>
            <a:stretch/>
          </p:blipFill>
          <p:spPr>
            <a:xfrm>
              <a:off x="1331640" y="2162160"/>
              <a:ext cx="266400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7"/>
            <p:cNvSpPr/>
            <p:nvPr/>
          </p:nvSpPr>
          <p:spPr>
            <a:xfrm>
              <a:off x="1691640" y="2566080"/>
              <a:ext cx="1008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美术类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5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2699640" y="2710080"/>
              <a:ext cx="1152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文娱类 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 Box 7"/>
            <p:cNvSpPr/>
            <p:nvPr/>
          </p:nvSpPr>
          <p:spPr>
            <a:xfrm>
              <a:off x="2195640" y="3790440"/>
              <a:ext cx="1080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体育类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5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9" name="直接箭头连接符 22"/>
            <p:cNvCxnSpPr/>
            <p:nvPr/>
          </p:nvCxnSpPr>
          <p:spPr>
            <a:xfrm flipV="1">
              <a:off x="1187640" y="3934080"/>
              <a:ext cx="360720" cy="1447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210" name="Text Box 7"/>
            <p:cNvSpPr/>
            <p:nvPr/>
          </p:nvSpPr>
          <p:spPr>
            <a:xfrm>
              <a:off x="539640" y="3718440"/>
              <a:ext cx="720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其他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32"/>
          <p:cNvGrpSpPr/>
          <p:nvPr/>
        </p:nvGrpSpPr>
        <p:grpSpPr>
          <a:xfrm>
            <a:off x="4788000" y="1125360"/>
            <a:ext cx="1655640" cy="432000"/>
            <a:chOff x="4788000" y="1125360"/>
            <a:chExt cx="1655640" cy="432000"/>
          </a:xfrm>
        </p:grpSpPr>
        <p:sp>
          <p:nvSpPr>
            <p:cNvPr id="212" name="圆角矩形标注 25"/>
            <p:cNvSpPr/>
            <p:nvPr/>
          </p:nvSpPr>
          <p:spPr>
            <a:xfrm>
              <a:off x="4788000" y="1125360"/>
              <a:ext cx="1655640" cy="432000"/>
            </a:xfrm>
            <a:prstGeom prst="wedgeRoundRectCallout">
              <a:avLst>
                <a:gd name="adj1" fmla="val -72055"/>
                <a:gd name="adj2" fmla="val 37907"/>
                <a:gd name="adj3" fmla="val 16667"/>
              </a:avLst>
            </a:prstGeom>
            <a:solidFill>
              <a:srgbClr val="fdeada"/>
            </a:solidFill>
            <a:ln w="25560">
              <a:solidFill>
                <a:srgbClr val="d996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4788000" y="1125360"/>
              <a:ext cx="16556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总人数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人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Text Box 7"/>
          <p:cNvSpPr/>
          <p:nvPr/>
        </p:nvSpPr>
        <p:spPr>
          <a:xfrm>
            <a:off x="4211640" y="2492280"/>
            <a:ext cx="3889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还能提出并解决哪些数学问题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211640" y="3789360"/>
            <a:ext cx="4176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组合作完成，之后汇报结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1187280" y="2205000"/>
            <a:ext cx="3529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六（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班同学参加课外活动      情况统计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组合 32"/>
          <p:cNvGrpSpPr/>
          <p:nvPr/>
        </p:nvGrpSpPr>
        <p:grpSpPr>
          <a:xfrm>
            <a:off x="684360" y="3213000"/>
            <a:ext cx="3456000" cy="2490840"/>
            <a:chOff x="684360" y="3213000"/>
            <a:chExt cx="3456000" cy="2490840"/>
          </a:xfrm>
        </p:grpSpPr>
        <p:pic>
          <p:nvPicPr>
            <p:cNvPr id="220" name="Picture 5" descr=""/>
            <p:cNvPicPr/>
            <p:nvPr/>
          </p:nvPicPr>
          <p:blipFill>
            <a:blip r:embed="rId1"/>
            <a:stretch/>
          </p:blipFill>
          <p:spPr>
            <a:xfrm>
              <a:off x="1476360" y="3213000"/>
              <a:ext cx="266400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7"/>
            <p:cNvSpPr/>
            <p:nvPr/>
          </p:nvSpPr>
          <p:spPr>
            <a:xfrm>
              <a:off x="1836360" y="3616920"/>
              <a:ext cx="1008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美术类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5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 Box 7"/>
            <p:cNvSpPr/>
            <p:nvPr/>
          </p:nvSpPr>
          <p:spPr>
            <a:xfrm>
              <a:off x="2844360" y="3760920"/>
              <a:ext cx="1152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文娱类 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2340360" y="4841280"/>
              <a:ext cx="1080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体育类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5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4" name="直接箭头连接符 22"/>
            <p:cNvCxnSpPr/>
            <p:nvPr/>
          </p:nvCxnSpPr>
          <p:spPr>
            <a:xfrm flipV="1">
              <a:off x="1332360" y="4984920"/>
              <a:ext cx="360720" cy="1447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225" name="Text Box 7"/>
            <p:cNvSpPr/>
            <p:nvPr/>
          </p:nvSpPr>
          <p:spPr>
            <a:xfrm>
              <a:off x="684360" y="4769280"/>
              <a:ext cx="720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其他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Text Box 7"/>
          <p:cNvSpPr/>
          <p:nvPr/>
        </p:nvSpPr>
        <p:spPr>
          <a:xfrm>
            <a:off x="4284720" y="3500280"/>
            <a:ext cx="3887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这道题的解答过程你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什么收获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284720" y="4437000"/>
            <a:ext cx="3743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总数的百分之几是多少的方法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4211640" y="5445000"/>
            <a:ext cx="4105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数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应分率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部分数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组合 20"/>
          <p:cNvGrpSpPr/>
          <p:nvPr/>
        </p:nvGrpSpPr>
        <p:grpSpPr>
          <a:xfrm>
            <a:off x="5940360" y="2997360"/>
            <a:ext cx="2320920" cy="2232000"/>
            <a:chOff x="5940360" y="2997360"/>
            <a:chExt cx="2320920" cy="2232000"/>
          </a:xfrm>
        </p:grpSpPr>
        <p:pic>
          <p:nvPicPr>
            <p:cNvPr id="232" name="Picture 5" descr=""/>
            <p:cNvPicPr/>
            <p:nvPr/>
          </p:nvPicPr>
          <p:blipFill>
            <a:blip r:embed="rId1"/>
            <a:stretch/>
          </p:blipFill>
          <p:spPr>
            <a:xfrm>
              <a:off x="5940360" y="2997360"/>
              <a:ext cx="232092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7"/>
            <p:cNvSpPr/>
            <p:nvPr/>
          </p:nvSpPr>
          <p:spPr>
            <a:xfrm>
              <a:off x="6943680" y="4221360"/>
              <a:ext cx="108036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康乃馨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0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Text Box 7"/>
            <p:cNvSpPr/>
            <p:nvPr/>
          </p:nvSpPr>
          <p:spPr>
            <a:xfrm>
              <a:off x="7159680" y="3285360"/>
              <a:ext cx="792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玫瑰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5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 Box 7"/>
            <p:cNvSpPr/>
            <p:nvPr/>
          </p:nvSpPr>
          <p:spPr>
            <a:xfrm>
              <a:off x="6295680" y="3285360"/>
              <a:ext cx="792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百合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 Box 7"/>
            <p:cNvSpPr/>
            <p:nvPr/>
          </p:nvSpPr>
          <p:spPr>
            <a:xfrm>
              <a:off x="6079320" y="3933360"/>
              <a:ext cx="792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其他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Text Box 7"/>
          <p:cNvSpPr/>
          <p:nvPr/>
        </p:nvSpPr>
        <p:spPr>
          <a:xfrm>
            <a:off x="826920" y="2133720"/>
            <a:ext cx="51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百合乡去年花卉销售额共计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，各种花卉的销售情况如右图所示，百合的销售额是多少万元？康乃馨比玫瑰多卖了多少万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971640" y="4437000"/>
            <a:ext cx="165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思路分析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042920" y="5013360"/>
            <a:ext cx="56898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销售总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和各种花卉相当总金额的百分率，求部分数量，实际就是求总数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应分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部分数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组合 20"/>
          <p:cNvGrpSpPr/>
          <p:nvPr/>
        </p:nvGrpSpPr>
        <p:grpSpPr>
          <a:xfrm>
            <a:off x="5940360" y="2997360"/>
            <a:ext cx="2320920" cy="2232000"/>
            <a:chOff x="5940360" y="2997360"/>
            <a:chExt cx="2320920" cy="2232000"/>
          </a:xfrm>
        </p:grpSpPr>
        <p:pic>
          <p:nvPicPr>
            <p:cNvPr id="243" name="Picture 5" descr=""/>
            <p:cNvPicPr/>
            <p:nvPr/>
          </p:nvPicPr>
          <p:blipFill>
            <a:blip r:embed="rId1"/>
            <a:stretch/>
          </p:blipFill>
          <p:spPr>
            <a:xfrm>
              <a:off x="5940360" y="2997360"/>
              <a:ext cx="232092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7"/>
            <p:cNvSpPr/>
            <p:nvPr/>
          </p:nvSpPr>
          <p:spPr>
            <a:xfrm>
              <a:off x="6943680" y="4221360"/>
              <a:ext cx="108036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康乃馨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0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Text Box 7"/>
            <p:cNvSpPr/>
            <p:nvPr/>
          </p:nvSpPr>
          <p:spPr>
            <a:xfrm>
              <a:off x="7159680" y="3285360"/>
              <a:ext cx="792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玫瑰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5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 Box 7"/>
            <p:cNvSpPr/>
            <p:nvPr/>
          </p:nvSpPr>
          <p:spPr>
            <a:xfrm>
              <a:off x="6295680" y="3285360"/>
              <a:ext cx="792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百合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 Box 7"/>
            <p:cNvSpPr/>
            <p:nvPr/>
          </p:nvSpPr>
          <p:spPr>
            <a:xfrm>
              <a:off x="6079320" y="3933360"/>
              <a:ext cx="792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其他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Text Box 7"/>
          <p:cNvSpPr/>
          <p:nvPr/>
        </p:nvSpPr>
        <p:spPr>
          <a:xfrm>
            <a:off x="826920" y="21337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百合的销售额是多少万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187280" y="2840040"/>
            <a:ext cx="4105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已知销售总额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900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元，百合占总数的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%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百合的销售额是多少万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42920" y="4149720"/>
            <a:ext cx="4824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销售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应分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百合销售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1332000" y="4869000"/>
            <a:ext cx="4319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0×20%=18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万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332000" y="5589720"/>
            <a:ext cx="4464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百合的销售额是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组合 20"/>
          <p:cNvGrpSpPr/>
          <p:nvPr/>
        </p:nvGrpSpPr>
        <p:grpSpPr>
          <a:xfrm>
            <a:off x="5940360" y="2997360"/>
            <a:ext cx="2320920" cy="2232000"/>
            <a:chOff x="5940360" y="2997360"/>
            <a:chExt cx="2320920" cy="2232000"/>
          </a:xfrm>
        </p:grpSpPr>
        <p:pic>
          <p:nvPicPr>
            <p:cNvPr id="256" name="Picture 5" descr=""/>
            <p:cNvPicPr/>
            <p:nvPr/>
          </p:nvPicPr>
          <p:blipFill>
            <a:blip r:embed="rId1"/>
            <a:stretch/>
          </p:blipFill>
          <p:spPr>
            <a:xfrm>
              <a:off x="5940360" y="2997360"/>
              <a:ext cx="232092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7"/>
            <p:cNvSpPr/>
            <p:nvPr/>
          </p:nvSpPr>
          <p:spPr>
            <a:xfrm>
              <a:off x="6943680" y="4221360"/>
              <a:ext cx="108036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康乃馨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0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 Box 7"/>
            <p:cNvSpPr/>
            <p:nvPr/>
          </p:nvSpPr>
          <p:spPr>
            <a:xfrm>
              <a:off x="7159680" y="3285360"/>
              <a:ext cx="792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玫瑰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5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6295680" y="3285360"/>
              <a:ext cx="792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百合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 Box 7"/>
            <p:cNvSpPr/>
            <p:nvPr/>
          </p:nvSpPr>
          <p:spPr>
            <a:xfrm>
              <a:off x="6079320" y="3933360"/>
              <a:ext cx="7920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其他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Text Box 7"/>
          <p:cNvSpPr/>
          <p:nvPr/>
        </p:nvSpPr>
        <p:spPr>
          <a:xfrm>
            <a:off x="826920" y="213372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乃馨比玫瑰多卖了多少万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971640" y="2852640"/>
            <a:ext cx="1368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康乃馨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2268360" y="2852640"/>
            <a:ext cx="3240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0×50%=45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042920" y="3645000"/>
            <a:ext cx="1368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玫   瑰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2340000" y="3645000"/>
            <a:ext cx="3168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0×25%=22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971640" y="4437000"/>
            <a:ext cx="1296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多卖的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2268360" y="4437000"/>
            <a:ext cx="3167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0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5=22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547640" y="5373720"/>
            <a:ext cx="4824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康乃馨比玫瑰多卖了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6"/>
          <p:cNvSpPr/>
          <p:nvPr/>
        </p:nvSpPr>
        <p:spPr>
          <a:xfrm>
            <a:off x="611280" y="191628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公司有员工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举行元旦活动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别表示参加各种活动的人数百分比，规定每人只参加一项且每人都要参加，则不下围棋的人共有（         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6012000" y="4325760"/>
            <a:ext cx="2016000" cy="19116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8"/>
          <p:cNvSpPr/>
          <p:nvPr/>
        </p:nvSpPr>
        <p:spPr>
          <a:xfrm>
            <a:off x="755640" y="4653000"/>
            <a:ext cx="53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9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        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       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9"/>
          <p:cNvSpPr/>
          <p:nvPr/>
        </p:nvSpPr>
        <p:spPr>
          <a:xfrm>
            <a:off x="6875640" y="35733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59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20"/>
          <p:cNvSpPr/>
          <p:nvPr/>
        </p:nvSpPr>
        <p:spPr>
          <a:xfrm rot="18297600">
            <a:off x="6313320" y="2898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2" name="直线连接符 21"/>
            <p:cNvSpPr/>
            <p:nvPr/>
          </p:nvSpPr>
          <p:spPr>
            <a:xfrm flipV="1">
              <a:off x="268200" y="1689840"/>
              <a:ext cx="225576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同侧圆角矩形 23"/>
            <p:cNvSpPr/>
            <p:nvPr/>
          </p:nvSpPr>
          <p:spPr>
            <a:xfrm>
              <a:off x="452520" y="1125360"/>
              <a:ext cx="199980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1052640" y="3195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52640" y="1712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2124000" y="19018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识扇形统计图的特点，了解扇形统计图的作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2124000" y="33400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会扇形统计图，能根据扇形统计图提出问题并解决问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684360" y="21337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题分析：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题是考查与扇形统计图有关的计算，因为下围棋人数所占百分比为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7%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可求出不下围棋人数所占的百分比为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3%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再用“公司员工总数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下围棋人数所占的百分比”得出结果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395280" y="191628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公司有员工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举行元旦活动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别表示参加各种活动的人数百分比，规定每人只参加一项且每人都要参加，则不下围棋的人共有（       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6012000" y="4325760"/>
            <a:ext cx="2016000" cy="19116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755640" y="4653000"/>
            <a:ext cx="53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9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        ②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        ④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5940360" y="3573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9"/>
          <p:cNvSpPr/>
          <p:nvPr/>
        </p:nvSpPr>
        <p:spPr>
          <a:xfrm rot="18297600">
            <a:off x="4667040" y="28908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2268360" y="2133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扇形统计图有哪些特点和作用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13"/>
          <p:cNvGrpSpPr/>
          <p:nvPr/>
        </p:nvGrpSpPr>
        <p:grpSpPr>
          <a:xfrm>
            <a:off x="826920" y="2133720"/>
            <a:ext cx="1297080" cy="574560"/>
            <a:chOff x="826920" y="2133720"/>
            <a:chExt cx="1297080" cy="574560"/>
          </a:xfrm>
        </p:grpSpPr>
        <p:sp>
          <p:nvSpPr>
            <p:cNvPr id="290" name="椭圆 12"/>
            <p:cNvSpPr/>
            <p:nvPr/>
          </p:nvSpPr>
          <p:spPr>
            <a:xfrm>
              <a:off x="826920" y="2133720"/>
              <a:ext cx="1297080" cy="57456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d996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Text Box 7"/>
            <p:cNvSpPr/>
            <p:nvPr/>
          </p:nvSpPr>
          <p:spPr>
            <a:xfrm>
              <a:off x="898920" y="2211840"/>
              <a:ext cx="1225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议一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Text Box 7"/>
          <p:cNvSpPr/>
          <p:nvPr/>
        </p:nvSpPr>
        <p:spPr>
          <a:xfrm>
            <a:off x="1403280" y="4076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从扇形统计图中能清楚地看出各部分数量和总数量之间的关系。便于反映部分和整体之间的关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15"/>
          <p:cNvSpPr/>
          <p:nvPr/>
        </p:nvSpPr>
        <p:spPr>
          <a:xfrm>
            <a:off x="2268360" y="278136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它和我们学过的条形统计图、折线统计图有哪些不同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58920" y="2492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条形统计图更容易看出数量的多少。折线统计图的优点是更容易看出数量的增减变化。扇形统计图的优点是更清楚地看出各部分量和总数量之间的关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826920" y="206064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通过这节课的学习，你有什么收获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图片 17" descr="男孩-1.gif"/>
          <p:cNvPicPr/>
          <p:nvPr/>
        </p:nvPicPr>
        <p:blipFill>
          <a:blip r:embed="rId1"/>
          <a:stretch/>
        </p:blipFill>
        <p:spPr>
          <a:xfrm>
            <a:off x="7308720" y="4869000"/>
            <a:ext cx="1295640" cy="1274760"/>
          </a:xfrm>
          <a:prstGeom prst="rect">
            <a:avLst/>
          </a:prstGeom>
          <a:ln w="0">
            <a:noFill/>
          </a:ln>
        </p:spPr>
      </p:pic>
      <p:grpSp>
        <p:nvGrpSpPr>
          <p:cNvPr id="301" name="组合 21"/>
          <p:cNvGrpSpPr/>
          <p:nvPr/>
        </p:nvGrpSpPr>
        <p:grpSpPr>
          <a:xfrm>
            <a:off x="1547640" y="3357720"/>
            <a:ext cx="2232360" cy="2232000"/>
            <a:chOff x="1547640" y="3357720"/>
            <a:chExt cx="2232360" cy="2232000"/>
          </a:xfrm>
        </p:grpSpPr>
        <p:sp>
          <p:nvSpPr>
            <p:cNvPr id="302" name="竖卷形 12"/>
            <p:cNvSpPr/>
            <p:nvPr/>
          </p:nvSpPr>
          <p:spPr>
            <a:xfrm>
              <a:off x="1547640" y="3357720"/>
              <a:ext cx="2232360" cy="2232000"/>
            </a:xfrm>
            <a:prstGeom prst="verticalScroll">
              <a:avLst>
                <a:gd name="adj" fmla="val 12500"/>
              </a:avLst>
            </a:prstGeom>
            <a:solidFill>
              <a:srgbClr val="4f6228"/>
            </a:solidFill>
            <a:ln w="2556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Text Box 7"/>
            <p:cNvSpPr/>
            <p:nvPr/>
          </p:nvSpPr>
          <p:spPr>
            <a:xfrm>
              <a:off x="1835640" y="3789720"/>
              <a:ext cx="16563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条形统计图：便于了解数量大小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组合 23"/>
          <p:cNvGrpSpPr/>
          <p:nvPr/>
        </p:nvGrpSpPr>
        <p:grpSpPr>
          <a:xfrm>
            <a:off x="3492360" y="3068640"/>
            <a:ext cx="2232000" cy="2232000"/>
            <a:chOff x="3492360" y="3068640"/>
            <a:chExt cx="2232000" cy="2232000"/>
          </a:xfrm>
        </p:grpSpPr>
        <p:sp>
          <p:nvSpPr>
            <p:cNvPr id="305" name="竖卷形 13"/>
            <p:cNvSpPr/>
            <p:nvPr/>
          </p:nvSpPr>
          <p:spPr>
            <a:xfrm>
              <a:off x="3492360" y="3068640"/>
              <a:ext cx="2232000" cy="2232000"/>
            </a:xfrm>
            <a:prstGeom prst="verticalScroll">
              <a:avLst>
                <a:gd name="adj" fmla="val 12500"/>
              </a:avLst>
            </a:prstGeom>
            <a:solidFill>
              <a:srgbClr val="00b050"/>
            </a:solidFill>
            <a:ln w="2556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Text Box 7"/>
            <p:cNvSpPr/>
            <p:nvPr/>
          </p:nvSpPr>
          <p:spPr>
            <a:xfrm>
              <a:off x="3780360" y="3716640"/>
              <a:ext cx="1656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折线统计图：便于反映数量变化趋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组合 24"/>
          <p:cNvGrpSpPr/>
          <p:nvPr/>
        </p:nvGrpSpPr>
        <p:grpSpPr>
          <a:xfrm>
            <a:off x="5435640" y="2852640"/>
            <a:ext cx="2232000" cy="2232000"/>
            <a:chOff x="5435640" y="2852640"/>
            <a:chExt cx="2232000" cy="2232000"/>
          </a:xfrm>
        </p:grpSpPr>
        <p:sp>
          <p:nvSpPr>
            <p:cNvPr id="308" name="竖卷形 14"/>
            <p:cNvSpPr/>
            <p:nvPr/>
          </p:nvSpPr>
          <p:spPr>
            <a:xfrm>
              <a:off x="5435640" y="2852640"/>
              <a:ext cx="2232000" cy="2232000"/>
            </a:xfrm>
            <a:prstGeom prst="verticalScroll">
              <a:avLst>
                <a:gd name="adj" fmla="val 12500"/>
              </a:avLst>
            </a:prstGeom>
            <a:solidFill>
              <a:srgbClr val="6dff44"/>
            </a:solidFill>
            <a:ln w="2556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 Box 7"/>
            <p:cNvSpPr/>
            <p:nvPr/>
          </p:nvSpPr>
          <p:spPr>
            <a:xfrm>
              <a:off x="5795640" y="3356640"/>
              <a:ext cx="1656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扇形统计图：便于反映部分与整体关系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>
              <a:gd name="textAreaLeft" fmla="*/ 0 w 31680"/>
              <a:gd name="textAreaRight" fmla="*/ 32040 w 31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>
              <a:gd name="textAreaLeft" fmla="*/ 0 w 72720"/>
              <a:gd name="textAreaRight" fmla="*/ 72720 w 72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>
              <a:gd name="textAreaLeft" fmla="*/ 0 w 754200"/>
              <a:gd name="textAreaRight" fmla="*/ 754560 w 7542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>
              <a:gd name="textAreaLeft" fmla="*/ 0 w 88560"/>
              <a:gd name="textAreaRight" fmla="*/ 88920 w 88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>
              <a:gd name="textAreaLeft" fmla="*/ 0 w 7920"/>
              <a:gd name="textAreaRight" fmla="*/ 8280 w 7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>
              <a:gd name="textAreaLeft" fmla="*/ 0 w 31680"/>
              <a:gd name="textAreaRight" fmla="*/ 32040 w 31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>
              <a:gd name="textAreaLeft" fmla="*/ 0 w 39960"/>
              <a:gd name="textAreaRight" fmla="*/ 40320 w 39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>
              <a:gd name="textAreaLeft" fmla="*/ 0 w 322200"/>
              <a:gd name="textAreaRight" fmla="*/ 322560 w 3222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>
              <a:gd name="textAreaLeft" fmla="*/ 0 w 72720"/>
              <a:gd name="textAreaRight" fmla="*/ 72720 w 72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>
              <a:gd name="textAreaLeft" fmla="*/ 0 w 47520"/>
              <a:gd name="textAreaRight" fmla="*/ 47880 w 47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>
              <a:gd name="textAreaLeft" fmla="*/ 0 w 39600"/>
              <a:gd name="textAreaRight" fmla="*/ 39960 w 396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>
              <a:gd name="textAreaLeft" fmla="*/ 0 w 760320"/>
              <a:gd name="textAreaRight" fmla="*/ 760680 w 7603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>
              <a:gd name="textAreaLeft" fmla="*/ 0 w 112680"/>
              <a:gd name="textAreaRight" fmla="*/ 113040 w 112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引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84360" y="2205000"/>
            <a:ext cx="4248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学过哪几种统计图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332000" y="2924280"/>
            <a:ext cx="4535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条形统计图、折线统计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11280" y="3660840"/>
            <a:ext cx="7200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形统计图有什么特点？适合在什么情况下使用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755640" y="4941720"/>
            <a:ext cx="7129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条形统计图中可以清楚地看出数量的多少。便于直观了解数据的大小及不同数据的差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引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755640" y="2637000"/>
            <a:ext cx="7201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折线统计图有什么特点？适合在什么情况下使用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55640" y="3716280"/>
            <a:ext cx="7129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折线统计图中不仅能看出数量的多少，而且能清楚地看出数量增减变化的情况，便于直观了解数据的变化趋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262080" y="2000160"/>
            <a:ext cx="6151320" cy="45468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6227640" y="2276640"/>
            <a:ext cx="2089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这张图片中你看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6227640" y="3444840"/>
            <a:ext cx="2089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彩虹漂亮吗 ？它主要有哪些颜色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6227640" y="5013360"/>
            <a:ext cx="2089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这些颜色中你最喜欢的是哪种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16040" cy="57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547640" y="2205000"/>
            <a:ext cx="6337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六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班同学也开展了“我最喜好的颜色”调查活动，规定每人限选一种，下面是他们统计的结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组合 100"/>
          <p:cNvGrpSpPr/>
          <p:nvPr/>
        </p:nvGrpSpPr>
        <p:grpSpPr>
          <a:xfrm>
            <a:off x="1692360" y="3715920"/>
            <a:ext cx="5111640" cy="1640880"/>
            <a:chOff x="1692360" y="3715920"/>
            <a:chExt cx="5111640" cy="1640880"/>
          </a:xfrm>
        </p:grpSpPr>
        <p:sp>
          <p:nvSpPr>
            <p:cNvPr id="79" name="直接连接符 15"/>
            <p:cNvSpPr/>
            <p:nvPr/>
          </p:nvSpPr>
          <p:spPr>
            <a:xfrm>
              <a:off x="1836000" y="3716280"/>
              <a:ext cx="49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接连接符 16"/>
            <p:cNvSpPr/>
            <p:nvPr/>
          </p:nvSpPr>
          <p:spPr>
            <a:xfrm>
              <a:off x="1836000" y="5301360"/>
              <a:ext cx="49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接连接符 17"/>
            <p:cNvSpPr/>
            <p:nvPr/>
          </p:nvSpPr>
          <p:spPr>
            <a:xfrm>
              <a:off x="1836000" y="4220640"/>
              <a:ext cx="49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18"/>
            <p:cNvSpPr/>
            <p:nvPr/>
          </p:nvSpPr>
          <p:spPr>
            <a:xfrm>
              <a:off x="1836000" y="4653000"/>
              <a:ext cx="496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接连接符 19"/>
            <p:cNvSpPr/>
            <p:nvPr/>
          </p:nvSpPr>
          <p:spPr>
            <a:xfrm flipV="1">
              <a:off x="3356640" y="3715920"/>
              <a:ext cx="0" cy="158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直接连接符 23"/>
            <p:cNvSpPr/>
            <p:nvPr/>
          </p:nvSpPr>
          <p:spPr>
            <a:xfrm flipV="1">
              <a:off x="4068000" y="3715920"/>
              <a:ext cx="0" cy="158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直接连接符 24"/>
            <p:cNvSpPr/>
            <p:nvPr/>
          </p:nvSpPr>
          <p:spPr>
            <a:xfrm flipV="1">
              <a:off x="4724640" y="3715920"/>
              <a:ext cx="0" cy="158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直接连接符 25"/>
            <p:cNvSpPr/>
            <p:nvPr/>
          </p:nvSpPr>
          <p:spPr>
            <a:xfrm flipV="1">
              <a:off x="5372640" y="3715920"/>
              <a:ext cx="0" cy="158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接连接符 26"/>
            <p:cNvSpPr/>
            <p:nvPr/>
          </p:nvSpPr>
          <p:spPr>
            <a:xfrm flipV="1">
              <a:off x="6020640" y="3715920"/>
              <a:ext cx="0" cy="158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 Box 7"/>
            <p:cNvSpPr/>
            <p:nvPr/>
          </p:nvSpPr>
          <p:spPr>
            <a:xfrm>
              <a:off x="2412360" y="3716280"/>
              <a:ext cx="7196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颜色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 Box 7"/>
            <p:cNvSpPr/>
            <p:nvPr/>
          </p:nvSpPr>
          <p:spPr>
            <a:xfrm>
              <a:off x="1908360" y="4220640"/>
              <a:ext cx="14313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人数（人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7"/>
            <p:cNvSpPr/>
            <p:nvPr/>
          </p:nvSpPr>
          <p:spPr>
            <a:xfrm>
              <a:off x="1692360" y="4653000"/>
              <a:ext cx="171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占全班人数的百分比（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%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 Box 7"/>
            <p:cNvSpPr/>
            <p:nvPr/>
          </p:nvSpPr>
          <p:spPr>
            <a:xfrm>
              <a:off x="3492000" y="3716280"/>
              <a:ext cx="4953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4140000" y="3716280"/>
              <a:ext cx="432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黄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7"/>
            <p:cNvSpPr/>
            <p:nvPr/>
          </p:nvSpPr>
          <p:spPr>
            <a:xfrm>
              <a:off x="4788000" y="3716280"/>
              <a:ext cx="5036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蓝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5364000" y="3716280"/>
              <a:ext cx="720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其他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6084000" y="3716280"/>
              <a:ext cx="720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合计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3500640" y="4220640"/>
              <a:ext cx="4953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 Box 7"/>
            <p:cNvSpPr/>
            <p:nvPr/>
          </p:nvSpPr>
          <p:spPr>
            <a:xfrm>
              <a:off x="4212000" y="4220640"/>
              <a:ext cx="4316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 Box 7"/>
            <p:cNvSpPr/>
            <p:nvPr/>
          </p:nvSpPr>
          <p:spPr>
            <a:xfrm>
              <a:off x="4788000" y="4220640"/>
              <a:ext cx="5756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5508000" y="4220640"/>
              <a:ext cx="3596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6156000" y="4220640"/>
              <a:ext cx="5756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3492000" y="4725000"/>
              <a:ext cx="5036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4212000" y="4725000"/>
              <a:ext cx="4316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4788000" y="4725000"/>
              <a:ext cx="5036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 Box 7"/>
            <p:cNvSpPr/>
            <p:nvPr/>
          </p:nvSpPr>
          <p:spPr>
            <a:xfrm>
              <a:off x="5436000" y="4725000"/>
              <a:ext cx="576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6084000" y="4725000"/>
              <a:ext cx="720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39640" y="2355840"/>
            <a:ext cx="4248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六（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班同学最喜好的颜色统计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37"/>
          <p:cNvGrpSpPr/>
          <p:nvPr/>
        </p:nvGrpSpPr>
        <p:grpSpPr>
          <a:xfrm>
            <a:off x="5148360" y="2852640"/>
            <a:ext cx="2730240" cy="863640"/>
            <a:chOff x="5148360" y="2852640"/>
            <a:chExt cx="2730240" cy="863640"/>
          </a:xfrm>
        </p:grpSpPr>
        <p:sp>
          <p:nvSpPr>
            <p:cNvPr id="110" name="圆角矩形标注 23"/>
            <p:cNvSpPr/>
            <p:nvPr/>
          </p:nvSpPr>
          <p:spPr>
            <a:xfrm>
              <a:off x="5148360" y="2852640"/>
              <a:ext cx="2658600" cy="863640"/>
            </a:xfrm>
            <a:prstGeom prst="wedgeRoundRectCallout">
              <a:avLst>
                <a:gd name="adj1" fmla="val -1273"/>
                <a:gd name="adj2" fmla="val 100731"/>
                <a:gd name="adj3" fmla="val 16667"/>
              </a:avLst>
            </a:prstGeom>
            <a:solidFill>
              <a:srgbClr val="fdeada"/>
            </a:solidFill>
            <a:ln w="25560">
              <a:solidFill>
                <a:srgbClr val="d996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5214960" y="2924640"/>
              <a:ext cx="26636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们还可以用这样的统计图来表示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1262160" cy="151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547640" y="2997360"/>
            <a:ext cx="1944720" cy="1882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1692360" y="3500280"/>
            <a:ext cx="7920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蓝色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556000" y="3213000"/>
            <a:ext cx="7920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色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484360" y="4038480"/>
            <a:ext cx="792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它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直接箭头连接符 33"/>
          <p:cNvCxnSpPr/>
          <p:nvPr/>
        </p:nvCxnSpPr>
        <p:spPr>
          <a:xfrm flipH="1">
            <a:off x="3203280" y="4005000"/>
            <a:ext cx="5054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Text Box 7"/>
          <p:cNvSpPr/>
          <p:nvPr/>
        </p:nvSpPr>
        <p:spPr>
          <a:xfrm>
            <a:off x="3635280" y="3795840"/>
            <a:ext cx="115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黄色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00000" y="5146560"/>
            <a:ext cx="5256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像这样的统计图叫做扇形统计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组合 21"/>
          <p:cNvGrpSpPr/>
          <p:nvPr/>
        </p:nvGrpSpPr>
        <p:grpSpPr>
          <a:xfrm>
            <a:off x="826920" y="2133720"/>
            <a:ext cx="1297080" cy="574560"/>
            <a:chOff x="826920" y="2133720"/>
            <a:chExt cx="1297080" cy="574560"/>
          </a:xfrm>
        </p:grpSpPr>
        <p:sp>
          <p:nvSpPr>
            <p:cNvPr id="123" name="椭圆 15"/>
            <p:cNvSpPr/>
            <p:nvPr/>
          </p:nvSpPr>
          <p:spPr>
            <a:xfrm>
              <a:off x="826920" y="2133720"/>
              <a:ext cx="1297080" cy="57456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d996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898920" y="2211840"/>
              <a:ext cx="1225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说一说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Text Box 7"/>
          <p:cNvSpPr/>
          <p:nvPr/>
        </p:nvSpPr>
        <p:spPr>
          <a:xfrm>
            <a:off x="2268360" y="2205000"/>
            <a:ext cx="4824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这个统计图中发现了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图片 23" descr="女孩-2.gif"/>
          <p:cNvPicPr/>
          <p:nvPr/>
        </p:nvPicPr>
        <p:blipFill>
          <a:blip r:embed="rId1"/>
          <a:stretch/>
        </p:blipFill>
        <p:spPr>
          <a:xfrm>
            <a:off x="5435640" y="4149720"/>
            <a:ext cx="936720" cy="976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4140360" y="4149720"/>
            <a:ext cx="672840" cy="110808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34"/>
          <p:cNvGrpSpPr/>
          <p:nvPr/>
        </p:nvGrpSpPr>
        <p:grpSpPr>
          <a:xfrm>
            <a:off x="755640" y="2924280"/>
            <a:ext cx="3168720" cy="1441440"/>
            <a:chOff x="755640" y="2924280"/>
            <a:chExt cx="3168720" cy="1441440"/>
          </a:xfrm>
        </p:grpSpPr>
        <p:sp>
          <p:nvSpPr>
            <p:cNvPr id="129" name="圆角矩形标注 27"/>
            <p:cNvSpPr/>
            <p:nvPr/>
          </p:nvSpPr>
          <p:spPr>
            <a:xfrm>
              <a:off x="755640" y="2924280"/>
              <a:ext cx="3168720" cy="1441440"/>
            </a:xfrm>
            <a:prstGeom prst="wedgeRoundRectCallout">
              <a:avLst>
                <a:gd name="adj1" fmla="val 47074"/>
                <a:gd name="adj2" fmla="val 62055"/>
                <a:gd name="adj3" fmla="val 16667"/>
              </a:avLst>
            </a:prstGeom>
            <a:solidFill>
              <a:srgbClr val="fdeada"/>
            </a:solidFill>
            <a:ln w="25560">
              <a:solidFill>
                <a:srgbClr val="d996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827640" y="2938320"/>
              <a:ext cx="309672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发现整个圆代表总人数，喜欢红色的人数占总人数的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5%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就用占这个圆的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/4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扇形来表示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35"/>
          <p:cNvGrpSpPr/>
          <p:nvPr/>
        </p:nvGrpSpPr>
        <p:grpSpPr>
          <a:xfrm>
            <a:off x="6012000" y="3357720"/>
            <a:ext cx="1944720" cy="502920"/>
            <a:chOff x="6012000" y="3357720"/>
            <a:chExt cx="1944720" cy="502920"/>
          </a:xfrm>
        </p:grpSpPr>
        <p:sp>
          <p:nvSpPr>
            <p:cNvPr id="132" name="圆角矩形标注 31"/>
            <p:cNvSpPr/>
            <p:nvPr/>
          </p:nvSpPr>
          <p:spPr>
            <a:xfrm>
              <a:off x="6012000" y="3357720"/>
              <a:ext cx="1944720" cy="502920"/>
            </a:xfrm>
            <a:prstGeom prst="wedgeRoundRectCallout">
              <a:avLst>
                <a:gd name="adj1" fmla="val -47120"/>
                <a:gd name="adj2" fmla="val 111726"/>
                <a:gd name="adj3" fmla="val 16667"/>
              </a:avLst>
            </a:prstGeom>
            <a:solidFill>
              <a:srgbClr val="fdeada"/>
            </a:solidFill>
            <a:ln w="25560">
              <a:solidFill>
                <a:srgbClr val="d996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 Box 7"/>
            <p:cNvSpPr/>
            <p:nvPr/>
          </p:nvSpPr>
          <p:spPr>
            <a:xfrm>
              <a:off x="6084000" y="3357720"/>
              <a:ext cx="1728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发现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340000" y="2205000"/>
            <a:ext cx="2736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发现了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25"/>
          <p:cNvGrpSpPr/>
          <p:nvPr/>
        </p:nvGrpSpPr>
        <p:grpSpPr>
          <a:xfrm>
            <a:off x="971640" y="2133720"/>
            <a:ext cx="1296720" cy="574560"/>
            <a:chOff x="971640" y="2133720"/>
            <a:chExt cx="1296720" cy="574560"/>
          </a:xfrm>
        </p:grpSpPr>
        <p:sp>
          <p:nvSpPr>
            <p:cNvPr id="138" name="椭圆 26"/>
            <p:cNvSpPr/>
            <p:nvPr/>
          </p:nvSpPr>
          <p:spPr>
            <a:xfrm>
              <a:off x="971640" y="2133720"/>
              <a:ext cx="1296720" cy="57456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d996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 Box 7"/>
            <p:cNvSpPr/>
            <p:nvPr/>
          </p:nvSpPr>
          <p:spPr>
            <a:xfrm>
              <a:off x="1043640" y="2211840"/>
              <a:ext cx="1224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说一说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Text Box 7"/>
          <p:cNvSpPr/>
          <p:nvPr/>
        </p:nvSpPr>
        <p:spPr>
          <a:xfrm>
            <a:off x="1403280" y="3083040"/>
            <a:ext cx="3097440" cy="7542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个圆代表总人数，喜欢蓝色的人数占总人数的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就用占这个圆的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扇形来表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859280" y="3068640"/>
            <a:ext cx="3097440" cy="7542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个圆代表总人数，喜欢其他色的人数占总人数的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就用占这个圆的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/5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扇形来表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771640" y="4856040"/>
            <a:ext cx="3745080" cy="7542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个圆代表总人数，喜欢黄色的人数占总人数的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就用占这个圆的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/20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扇形来表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7-12-23T10:08:52Z</dcterms:modified>
  <cp:revision>448</cp:revision>
  <dc:subject/>
  <dc:title>幻灯片 1</dc:title>
</cp:coreProperties>
</file>