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DDE4-667B-49AC-9A79-AE6B54C3E7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703D-EBC8-4B59-9052-9B5E63AE2D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CA5-BAF3-46F1-9D72-385C6B5A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928-7D7B-433F-BB71-C08C70A1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E5F-8FF0-4BF6-9D70-2A3B8119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29C-F04C-48F2-9CD0-00CD0D84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189-11D7-4229-85E0-6ACF1B15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673-185A-4912-9C2B-0C984AC9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C62-F46A-4087-80CC-10F3E096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78A-9FF5-4D79-88A6-83FAACDC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1F0-AEF3-419F-B7AC-1956C20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F5E-93DE-4BD4-929A-D6548EE9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6AB-ACA5-46BA-9A41-C20AD96B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C17-1FC2-4C20-A6DA-0538737D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F961-1B71-4259-90D4-1FACEF6BC6E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7"/>
          <p:cNvGrpSpPr/>
          <p:nvPr/>
        </p:nvGrpSpPr>
        <p:grpSpPr>
          <a:xfrm>
            <a:off x="3780000" y="2060640"/>
            <a:ext cx="5688000" cy="720720"/>
            <a:chOff x="3780000" y="2060640"/>
            <a:chExt cx="5688000" cy="720720"/>
          </a:xfrm>
        </p:grpSpPr>
        <p:sp>
          <p:nvSpPr>
            <p:cNvPr id="49" name="TextBox 1"/>
            <p:cNvSpPr/>
            <p:nvPr/>
          </p:nvSpPr>
          <p:spPr>
            <a:xfrm>
              <a:off x="3780000" y="2060640"/>
              <a:ext cx="568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f0"/>
                  </a:solidFill>
                  <a:latin typeface="华文新魏"/>
                  <a:ea typeface="华文新魏"/>
                </a:rPr>
                <a:t>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.6</a:t>
              </a:r>
              <a:r>
                <a:rPr b="1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等式与方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线连接符 21"/>
            <p:cNvSpPr/>
            <p:nvPr/>
          </p:nvSpPr>
          <p:spPr>
            <a:xfrm>
              <a:off x="4284000" y="2781360"/>
              <a:ext cx="3894480" cy="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TextBox 8"/>
          <p:cNvSpPr/>
          <p:nvPr/>
        </p:nvSpPr>
        <p:spPr>
          <a:xfrm>
            <a:off x="539640" y="83664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总复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图片 5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900360" cy="5904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3"/>
          <p:cNvSpPr/>
          <p:nvPr/>
        </p:nvSpPr>
        <p:spPr>
          <a:xfrm>
            <a:off x="1547640" y="2060640"/>
            <a:ext cx="72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下列方程，并说一说解的过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2195640" y="31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X+6X=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2916360" y="36640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X=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2340000" y="43862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X÷9=7 ÷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TextBox 18" descr=""/>
          <p:cNvPicPr/>
          <p:nvPr/>
        </p:nvPicPr>
        <p:blipFill>
          <a:blip r:embed="rId2"/>
          <a:stretch/>
        </p:blipFill>
        <p:spPr>
          <a:xfrm>
            <a:off x="2981160" y="5145120"/>
            <a:ext cx="1882800" cy="749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3"/>
          <p:cNvSpPr/>
          <p:nvPr/>
        </p:nvSpPr>
        <p:spPr>
          <a:xfrm>
            <a:off x="1096920" y="299736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线形标注 1 2"/>
          <p:cNvSpPr/>
          <p:nvPr/>
        </p:nvSpPr>
        <p:spPr>
          <a:xfrm>
            <a:off x="5605560" y="3144960"/>
            <a:ext cx="2732040" cy="523800"/>
          </a:xfrm>
          <a:prstGeom prst="borderCallout1">
            <a:avLst>
              <a:gd name="adj1" fmla="val 18750"/>
              <a:gd name="adj2" fmla="val -8333"/>
              <a:gd name="adj3" fmla="val 127398"/>
              <a:gd name="adj4" fmla="val -48657"/>
            </a:avLst>
          </a:prstGeom>
          <a:solidFill>
            <a:srgbClr val="ffff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法分配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线形标注 1 24"/>
          <p:cNvSpPr/>
          <p:nvPr/>
        </p:nvSpPr>
        <p:spPr>
          <a:xfrm>
            <a:off x="5626080" y="4087800"/>
            <a:ext cx="2732040" cy="1120680"/>
          </a:xfrm>
          <a:prstGeom prst="borderCallout1">
            <a:avLst>
              <a:gd name="adj1" fmla="val 18750"/>
              <a:gd name="adj2" fmla="val -8333"/>
              <a:gd name="adj3" fmla="val 48462"/>
              <a:gd name="adj4" fmla="val -35027"/>
            </a:avLst>
          </a:prstGeom>
          <a:solidFill>
            <a:srgbClr val="ffff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式两边同时除以同一个不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数，等式仍然成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900360" cy="5904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3"/>
          <p:cNvSpPr/>
          <p:nvPr/>
        </p:nvSpPr>
        <p:spPr>
          <a:xfrm>
            <a:off x="1547640" y="2060640"/>
            <a:ext cx="72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下列方程，并说一说解的过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1763640" y="28782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÷5-1.5=1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1103400" y="33796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÷5-1.5+1.5=1.5+1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2411280" y="388152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÷5=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1863720" y="4381560"/>
            <a:ext cx="28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÷5×5=3×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2411280" y="53848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÷2=15÷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809640" y="270828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线形标注 1 2"/>
          <p:cNvSpPr/>
          <p:nvPr/>
        </p:nvSpPr>
        <p:spPr>
          <a:xfrm>
            <a:off x="5659560" y="2828880"/>
            <a:ext cx="2733480" cy="1114560"/>
          </a:xfrm>
          <a:prstGeom prst="borderCallout1">
            <a:avLst>
              <a:gd name="adj1" fmla="val 18750"/>
              <a:gd name="adj2" fmla="val -8333"/>
              <a:gd name="adj3" fmla="val 71912"/>
              <a:gd name="adj4" fmla="val -26763"/>
            </a:avLst>
          </a:prstGeom>
          <a:solidFill>
            <a:srgbClr val="ffff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式两边同时加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一个数，等式仍然成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线形标注 1 24"/>
          <p:cNvSpPr/>
          <p:nvPr/>
        </p:nvSpPr>
        <p:spPr>
          <a:xfrm>
            <a:off x="5651640" y="4005360"/>
            <a:ext cx="2733480" cy="1120680"/>
          </a:xfrm>
          <a:prstGeom prst="borderCallout1">
            <a:avLst>
              <a:gd name="adj1" fmla="val 18750"/>
              <a:gd name="adj2" fmla="val -8333"/>
              <a:gd name="adj3" fmla="val 57523"/>
              <a:gd name="adj4" fmla="val -36268"/>
            </a:avLst>
          </a:prstGeom>
          <a:solidFill>
            <a:srgbClr val="ffff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式两边同时乘以同一个数，等式仍然成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2924280" y="4883040"/>
            <a:ext cx="28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=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3203640" y="5886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7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线形标注 1 27"/>
          <p:cNvSpPr/>
          <p:nvPr/>
        </p:nvSpPr>
        <p:spPr>
          <a:xfrm>
            <a:off x="5651640" y="5203800"/>
            <a:ext cx="2733480" cy="1122480"/>
          </a:xfrm>
          <a:prstGeom prst="borderCallout1">
            <a:avLst>
              <a:gd name="adj1" fmla="val 18750"/>
              <a:gd name="adj2" fmla="val -8333"/>
              <a:gd name="adj3" fmla="val 38393"/>
              <a:gd name="adj4" fmla="val -33787"/>
            </a:avLst>
          </a:prstGeom>
          <a:solidFill>
            <a:srgbClr val="ffff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式两边同时除以同一个不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数，等式仍然成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1692360" y="2090880"/>
            <a:ext cx="676728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、乙两种衬衣原价相同。去年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，甲种衬衣按五折销售，乙种衬衣按六折销售，爸爸购买这两种衬衣各一件，共用去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求衬衣的原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603360" y="2043000"/>
            <a:ext cx="914400" cy="6192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"/>
          <p:cNvPicPr/>
          <p:nvPr/>
        </p:nvPicPr>
        <p:blipFill>
          <a:blip r:embed="rId2"/>
          <a:stretch/>
        </p:blipFill>
        <p:spPr>
          <a:xfrm>
            <a:off x="4575240" y="4610160"/>
            <a:ext cx="1314360" cy="13269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4" descr=""/>
          <p:cNvPicPr/>
          <p:nvPr/>
        </p:nvPicPr>
        <p:blipFill>
          <a:blip r:embed="rId3"/>
          <a:stretch/>
        </p:blipFill>
        <p:spPr>
          <a:xfrm>
            <a:off x="3203640" y="4635360"/>
            <a:ext cx="1371600" cy="1428840"/>
          </a:xfrm>
          <a:prstGeom prst="rect">
            <a:avLst/>
          </a:prstGeom>
          <a:ln w="0">
            <a:noFill/>
          </a:ln>
        </p:spPr>
      </p:pic>
      <p:sp>
        <p:nvSpPr>
          <p:cNvPr id="148" name="圆角矩形标注 5"/>
          <p:cNvSpPr/>
          <p:nvPr/>
        </p:nvSpPr>
        <p:spPr>
          <a:xfrm>
            <a:off x="963720" y="4649760"/>
            <a:ext cx="2239920" cy="992160"/>
          </a:xfrm>
          <a:prstGeom prst="wedgeRoundRectCallout">
            <a:avLst>
              <a:gd name="adj1" fmla="val 57986"/>
              <a:gd name="adj2" fmla="val 7870"/>
              <a:gd name="adj3" fmla="val 16667"/>
            </a:avLst>
          </a:prstGeom>
          <a:solidFill>
            <a:srgbClr val="ffff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用方程解决这个问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圆角矩形标注 13"/>
          <p:cNvSpPr/>
          <p:nvPr/>
        </p:nvSpPr>
        <p:spPr>
          <a:xfrm>
            <a:off x="6084720" y="5025960"/>
            <a:ext cx="2303640" cy="495360"/>
          </a:xfrm>
          <a:prstGeom prst="wedgeRoundRectCallout">
            <a:avLst>
              <a:gd name="adj1" fmla="val -61217"/>
              <a:gd name="adj2" fmla="val 11287"/>
              <a:gd name="adj3" fmla="val 16667"/>
            </a:avLst>
          </a:prstGeom>
          <a:solidFill>
            <a:srgbClr val="ffff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样找等量关系呢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73200" y="2205000"/>
            <a:ext cx="67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这两种衬衣的原价为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图片 2" descr=""/>
          <p:cNvPicPr/>
          <p:nvPr/>
        </p:nvPicPr>
        <p:blipFill>
          <a:blip r:embed="rId1"/>
          <a:stretch/>
        </p:blipFill>
        <p:spPr>
          <a:xfrm>
            <a:off x="603360" y="2043000"/>
            <a:ext cx="914400" cy="6192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2268360" y="2852640"/>
            <a:ext cx="417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%x+60%x=1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692360" y="3429000"/>
            <a:ext cx="621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%+60%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1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113360" y="4076640"/>
            <a:ext cx="621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1x=1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348000" y="4705200"/>
            <a:ext cx="6219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1x÷1.1=132÷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4687920" y="5280120"/>
            <a:ext cx="6221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1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2050920" y="5732640"/>
            <a:ext cx="67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这两种衬衣的原价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1573200" y="2133720"/>
            <a:ext cx="6769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方程解应用题的一般步骤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图片 2" descr=""/>
          <p:cNvPicPr/>
          <p:nvPr/>
        </p:nvPicPr>
        <p:blipFill>
          <a:blip r:embed="rId1"/>
          <a:stretch/>
        </p:blipFill>
        <p:spPr>
          <a:xfrm>
            <a:off x="603360" y="2043000"/>
            <a:ext cx="914400" cy="619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912960" y="2619360"/>
            <a:ext cx="789444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弄清题意，找出未知数，并用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找出应用题中数量之间的相等关系，列方程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解方程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检验，写出答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173240" y="342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题思路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2038320" y="4017960"/>
            <a:ext cx="67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管是亏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，还是盈利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，单位“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是这件商品的成本。所以要先求这件商品的成本。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亏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，说明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比成本少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，即是成本的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- 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）。盈利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，说明盈利的是原来成本的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，实际售价是原来成本的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+ 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33"/>
          <p:cNvSpPr/>
          <p:nvPr/>
        </p:nvSpPr>
        <p:spPr>
          <a:xfrm>
            <a:off x="1224000" y="19242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商品如果按现价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出售，则亏了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，原来成本是多少元？如果想盈利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，应按多少元出售该商品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971640" y="20098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2340000" y="242100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原来成本是ｘ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7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 ×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+ 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）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3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原来成本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应按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出售该商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39528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3"/>
          <p:cNvSpPr/>
          <p:nvPr/>
        </p:nvSpPr>
        <p:spPr>
          <a:xfrm>
            <a:off x="692280" y="1851120"/>
            <a:ext cx="791028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六年级男生比女生少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六年级女生人数相当于男生人数的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，六年级男生有多少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法：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：女生有ｘ人，男生就有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ｘ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ｘ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ｘ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00 × 1.4 = 1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1086120" y="4273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易错分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811080" y="4359240"/>
            <a:ext cx="77742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“六年级女生人数相当于男生人数的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”，可以把男生人数看作单位“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量，设男生人数为ｘ人，女生人数就是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ｘ人，再根据“六年级男生比女生少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”，可以得出数量关系式：“女生人数 – 男生人数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40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根据此数量关系式列出方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2601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9502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203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4004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205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线连接符 21"/>
          <p:cNvSpPr/>
          <p:nvPr/>
        </p:nvSpPr>
        <p:spPr>
          <a:xfrm flipV="1">
            <a:off x="39528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92280" y="1851120"/>
            <a:ext cx="79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六年级男生比女生少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六年级女生人数相当于男生人数的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，六年级男生有多少人？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942480" y="3357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920880" y="371628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男生有ｘ人，女生就有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ｘ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男生有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8"/>
          <p:cNvSpPr/>
          <p:nvPr/>
        </p:nvSpPr>
        <p:spPr>
          <a:xfrm>
            <a:off x="755640" y="210492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果批发部要运进一批水果，第一次运进总量的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，第二次运进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，两次共运进这批水果的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，这批水果一共有多少吨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2050920" y="3683160"/>
            <a:ext cx="900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这批水果一共有ｘ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2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3.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这批水果一共有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7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3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Box 5"/>
          <p:cNvSpPr/>
          <p:nvPr/>
        </p:nvSpPr>
        <p:spPr>
          <a:xfrm>
            <a:off x="1014480" y="1916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101680" y="2205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具体情境中会用字母表示数，会用方程表示简单情境中的等量关系。进一步理解等式的性质，会用等式的性质解简易的方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108080" y="342900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2087640" y="35971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运用方程解决实际问题的过程中，体会到列方程解决问题在某些情况下的优越性，从中感受到数学的应用价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755640" y="177336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张课桌比一把椅子贵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如果椅子的单价是课桌单价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课桌和椅子的单价各是多少元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2700360" y="2852640"/>
            <a:ext cx="4896000" cy="35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课桌的单价是ｘ元，椅子的单价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%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%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 × 60% = 1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 – 10 = 1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课桌的单价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椅子的单价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468360" y="19162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国庆”商场促销，一套西服打八五折出售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2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这套西服原价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2468520" y="3141720"/>
            <a:ext cx="5543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这套西服原价ｘ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 8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020 ÷ 8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这套西服原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468360" y="19162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果园里的梨树和苹果树共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，其中的苹果树的棵树是梨树的棵树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苹果树和梨树各有多少棵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8"/>
          <p:cNvSpPr/>
          <p:nvPr/>
        </p:nvSpPr>
        <p:spPr>
          <a:xfrm>
            <a:off x="2468520" y="3141720"/>
            <a:ext cx="554364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梨树的棵树是ｘ棵，苹果树的棵树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3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3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 × 20% = 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0 – 300 = 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梨树的棵树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，苹果树的棵树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84200" y="1773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套桌椅的价格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8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其中椅子的价格是桌子的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%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桌子和椅子的价格各是多少元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8"/>
          <p:cNvSpPr/>
          <p:nvPr/>
        </p:nvSpPr>
        <p:spPr>
          <a:xfrm>
            <a:off x="2587680" y="2852640"/>
            <a:ext cx="48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课桌的单价是ｘ元，椅子的单价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3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7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ｘ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 × 30% = 1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8 – 60 = 1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课桌的单价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椅子的单价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16720" y="4437000"/>
            <a:ext cx="2368440" cy="1656000"/>
          </a:xfrm>
          <a:prstGeom prst="rect">
            <a:avLst/>
          </a:prstGeom>
          <a:ln w="0">
            <a:noFill/>
          </a:ln>
        </p:spPr>
      </p:pic>
      <p:sp>
        <p:nvSpPr>
          <p:cNvPr id="205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1219320" y="22050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这节课的学习，你学会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竖卷形 1"/>
          <p:cNvSpPr/>
          <p:nvPr/>
        </p:nvSpPr>
        <p:spPr>
          <a:xfrm>
            <a:off x="1189080" y="2997360"/>
            <a:ext cx="3097080" cy="287964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字母表示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方程表示简单情境的等量关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竖卷形 7"/>
          <p:cNvSpPr/>
          <p:nvPr/>
        </p:nvSpPr>
        <p:spPr>
          <a:xfrm>
            <a:off x="4067280" y="2997360"/>
            <a:ext cx="3097080" cy="287964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等式的性质解简易的方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用方程解决实际问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2" descr=""/>
          <p:cNvPicPr/>
          <p:nvPr/>
        </p:nvPicPr>
        <p:blipFill>
          <a:blip r:embed="rId1"/>
          <a:stretch/>
        </p:blipFill>
        <p:spPr>
          <a:xfrm>
            <a:off x="0" y="1200240"/>
            <a:ext cx="7459560" cy="5235480"/>
          </a:xfrm>
          <a:prstGeom prst="rect">
            <a:avLst/>
          </a:prstGeom>
          <a:ln w="0">
            <a:noFill/>
          </a:ln>
        </p:spPr>
      </p:pic>
      <p:sp>
        <p:nvSpPr>
          <p:cNvPr id="6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4" descr=""/>
          <p:cNvPicPr/>
          <p:nvPr/>
        </p:nvPicPr>
        <p:blipFill>
          <a:blip r:embed="rId2"/>
          <a:stretch/>
        </p:blipFill>
        <p:spPr>
          <a:xfrm>
            <a:off x="6864480" y="5002200"/>
            <a:ext cx="998280" cy="961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" descr=""/>
          <p:cNvPicPr/>
          <p:nvPr/>
        </p:nvPicPr>
        <p:blipFill>
          <a:blip r:embed="rId3"/>
          <a:stretch/>
        </p:blipFill>
        <p:spPr>
          <a:xfrm>
            <a:off x="6415200" y="3817800"/>
            <a:ext cx="898560" cy="8953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6" descr=""/>
          <p:cNvPicPr/>
          <p:nvPr/>
        </p:nvPicPr>
        <p:blipFill>
          <a:blip r:embed="rId4"/>
          <a:stretch/>
        </p:blipFill>
        <p:spPr>
          <a:xfrm>
            <a:off x="5580000" y="5126040"/>
            <a:ext cx="111924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7" descr=""/>
          <p:cNvPicPr/>
          <p:nvPr/>
        </p:nvPicPr>
        <p:blipFill>
          <a:blip r:embed="rId5"/>
          <a:stretch/>
        </p:blipFill>
        <p:spPr>
          <a:xfrm>
            <a:off x="5516640" y="4235400"/>
            <a:ext cx="1004760" cy="885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3535200" y="2598840"/>
            <a:ext cx="35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，上节课我们复习与存款有关的知识，这节课我们来复习与方程有关的知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07960" y="2637000"/>
            <a:ext cx="82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0e14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e0e14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e0e14"/>
                </a:solidFill>
                <a:latin typeface="华文新魏"/>
                <a:ea typeface="华文新魏"/>
              </a:rPr>
              <a:t>）你能举出一些用字母表示数和数量关系的式子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片 6" descr=""/>
          <p:cNvPicPr/>
          <p:nvPr/>
        </p:nvPicPr>
        <p:blipFill>
          <a:blip r:embed="rId1"/>
          <a:stretch/>
        </p:blipFill>
        <p:spPr>
          <a:xfrm>
            <a:off x="460440" y="1851120"/>
            <a:ext cx="1652400" cy="895320"/>
          </a:xfrm>
          <a:prstGeom prst="rect">
            <a:avLst/>
          </a:prstGeom>
          <a:ln w="0">
            <a:noFill/>
          </a:ln>
        </p:spPr>
      </p:pic>
      <p:pic>
        <p:nvPicPr>
          <p:cNvPr id="71" name="矩形 2" descr=""/>
          <p:cNvPicPr/>
          <p:nvPr/>
        </p:nvPicPr>
        <p:blipFill>
          <a:blip r:embed="rId2"/>
          <a:stretch/>
        </p:blipFill>
        <p:spPr>
          <a:xfrm>
            <a:off x="1962000" y="5065560"/>
            <a:ext cx="6639120" cy="1006560"/>
          </a:xfrm>
          <a:prstGeom prst="rect">
            <a:avLst/>
          </a:prstGeom>
          <a:ln w="0">
            <a:noFill/>
          </a:ln>
        </p:spPr>
      </p:pic>
      <p:sp>
        <p:nvSpPr>
          <p:cNvPr id="72" name="矩形 3"/>
          <p:cNvSpPr/>
          <p:nvPr/>
        </p:nvSpPr>
        <p:spPr>
          <a:xfrm>
            <a:off x="2410200" y="3700440"/>
            <a:ext cx="47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v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t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程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矩形 4" descr=""/>
          <p:cNvPicPr/>
          <p:nvPr/>
        </p:nvPicPr>
        <p:blipFill>
          <a:blip r:embed="rId3"/>
          <a:stretch/>
        </p:blipFill>
        <p:spPr>
          <a:xfrm>
            <a:off x="4979880" y="5626080"/>
            <a:ext cx="11098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矩形 5"/>
          <p:cNvSpPr/>
          <p:nvPr/>
        </p:nvSpPr>
        <p:spPr>
          <a:xfrm>
            <a:off x="2327400" y="4365720"/>
            <a:ext cx="12078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=vt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73120" y="360684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例如：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矩形 8" descr=""/>
          <p:cNvPicPr/>
          <p:nvPr/>
        </p:nvPicPr>
        <p:blipFill>
          <a:blip r:embed="rId4"/>
          <a:stretch/>
        </p:blipFill>
        <p:spPr>
          <a:xfrm>
            <a:off x="4237200" y="432288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77" name="矩形 9" descr=""/>
          <p:cNvPicPr/>
          <p:nvPr/>
        </p:nvPicPr>
        <p:blipFill>
          <a:blip r:embed="rId5"/>
          <a:stretch/>
        </p:blipFill>
        <p:spPr>
          <a:xfrm>
            <a:off x="6291360" y="4363920"/>
            <a:ext cx="877680" cy="684360"/>
          </a:xfrm>
          <a:prstGeom prst="rect">
            <a:avLst/>
          </a:prstGeom>
          <a:ln w="0">
            <a:noFill/>
          </a:ln>
        </p:spPr>
      </p:pic>
      <p:pic>
        <p:nvPicPr>
          <p:cNvPr id="78" name="矩形 11" descr=""/>
          <p:cNvPicPr/>
          <p:nvPr/>
        </p:nvPicPr>
        <p:blipFill>
          <a:blip r:embed="rId6"/>
          <a:stretch/>
        </p:blipFill>
        <p:spPr>
          <a:xfrm>
            <a:off x="2828880" y="5638680"/>
            <a:ext cx="141444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187280" y="2852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0e14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e0e14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e0e14"/>
                </a:solidFill>
                <a:latin typeface="华文新魏"/>
                <a:ea typeface="华文新魏"/>
              </a:rPr>
              <a:t>）什么是方程？方程与等式有什么联系和区别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641520" y="2060640"/>
            <a:ext cx="1652400" cy="89676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2918520" y="3986280"/>
            <a:ext cx="29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含有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未知数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等式叫做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2929680" y="463392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是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3110040" y="528156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式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一定是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87280" y="2852640"/>
            <a:ext cx="7272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华文新魏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0e0e14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e0e14"/>
                </a:solidFill>
                <a:latin typeface="华文新魏"/>
                <a:ea typeface="华文新魏"/>
              </a:rPr>
              <a:t>）你对等式的性质有哪些了解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6" descr=""/>
          <p:cNvPicPr/>
          <p:nvPr/>
        </p:nvPicPr>
        <p:blipFill>
          <a:blip r:embed="rId1"/>
          <a:stretch/>
        </p:blipFill>
        <p:spPr>
          <a:xfrm>
            <a:off x="641520" y="2060640"/>
            <a:ext cx="1652400" cy="896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162080" y="3860640"/>
            <a:ext cx="7273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0e14"/>
                </a:solidFill>
                <a:latin typeface="华文新魏"/>
                <a:ea typeface="华文新魏"/>
              </a:rPr>
              <a:t>性质</a:t>
            </a:r>
            <a:r>
              <a:rPr b="1" lang="en-US" sz="2400" spc="-1" strike="noStrike">
                <a:solidFill>
                  <a:srgbClr val="0e0e14"/>
                </a:solidFill>
                <a:latin typeface="华文新魏"/>
                <a:ea typeface="华文新魏"/>
              </a:rPr>
              <a:t>1:</a:t>
            </a:r>
            <a:r>
              <a:rPr b="1" lang="zh-CN" sz="2400" spc="-1" strike="noStrike">
                <a:solidFill>
                  <a:srgbClr val="0e0e14"/>
                </a:solidFill>
                <a:latin typeface="华文新魏"/>
                <a:ea typeface="华文新魏"/>
              </a:rPr>
              <a:t>等式两边同时加上（或减去）同一个数，等式仍然成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143000" y="5013360"/>
            <a:ext cx="727380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0e14"/>
                </a:solidFill>
                <a:latin typeface="华文新魏"/>
                <a:ea typeface="华文新魏"/>
              </a:rPr>
              <a:t>性质</a:t>
            </a:r>
            <a:r>
              <a:rPr b="1" lang="en-US" sz="2400" spc="-1" strike="noStrike">
                <a:solidFill>
                  <a:srgbClr val="0e0e14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e0e14"/>
                </a:solidFill>
                <a:latin typeface="华文新魏"/>
                <a:ea typeface="华文新魏"/>
              </a:rPr>
              <a:t>：等式两边同时乘或除以同一个数（</a:t>
            </a:r>
            <a:r>
              <a:rPr b="1" lang="en-US" sz="2400" spc="-1" strike="noStrike">
                <a:solidFill>
                  <a:srgbClr val="0e0e14"/>
                </a:solidFill>
                <a:latin typeface="华文新魏"/>
                <a:ea typeface="华文新魏"/>
              </a:rPr>
              <a:t>0</a:t>
            </a:r>
            <a:r>
              <a:rPr b="1" lang="zh-CN" sz="2400" spc="-1" strike="noStrike">
                <a:solidFill>
                  <a:srgbClr val="0e0e14"/>
                </a:solidFill>
                <a:latin typeface="华文新魏"/>
                <a:ea typeface="华文新魏"/>
              </a:rPr>
              <a:t>除外），等式仍然成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5" descr=""/>
          <p:cNvPicPr/>
          <p:nvPr/>
        </p:nvPicPr>
        <p:blipFill>
          <a:blip r:embed="rId1"/>
          <a:stretch/>
        </p:blipFill>
        <p:spPr>
          <a:xfrm>
            <a:off x="468360" y="2087640"/>
            <a:ext cx="898560" cy="565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3"/>
          <p:cNvSpPr/>
          <p:nvPr/>
        </p:nvSpPr>
        <p:spPr>
          <a:xfrm>
            <a:off x="1332000" y="206064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刘老师今年暑假准备去北京旅游，费用支出预计如下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268360" y="5510160"/>
            <a:ext cx="3816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16×2+4a+6b+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58920" y="3105000"/>
          <a:ext cx="7200720" cy="109548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000"/>
              </a:tblGrid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火车票（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张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住宿费（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天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伙食费（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天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其他开支（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Box 15"/>
          <p:cNvSpPr/>
          <p:nvPr/>
        </p:nvSpPr>
        <p:spPr>
          <a:xfrm>
            <a:off x="1042920" y="4005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刘老师计划在北京游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，用含有字母的式子表示他这次北京之行所需费用。（伙食费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计算。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201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5" descr=""/>
          <p:cNvPicPr/>
          <p:nvPr/>
        </p:nvPicPr>
        <p:blipFill>
          <a:blip r:embed="rId1"/>
          <a:stretch/>
        </p:blipFill>
        <p:spPr>
          <a:xfrm>
            <a:off x="468360" y="2087640"/>
            <a:ext cx="898560" cy="565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3"/>
          <p:cNvSpPr/>
          <p:nvPr/>
        </p:nvSpPr>
        <p:spPr>
          <a:xfrm>
            <a:off x="1332000" y="206064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刘老师今年暑假准备去北京旅游，费用支出预计如下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1076400" y="40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自己确定住宿及伙食标准，算出刘老师这次旅游一共需要多少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3105000"/>
          <a:ext cx="7200720" cy="109548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000"/>
              </a:tblGrid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火车票（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张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住宿费（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天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伙食费（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天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其他开支（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15"/>
          <p:cNvSpPr/>
          <p:nvPr/>
        </p:nvSpPr>
        <p:spPr>
          <a:xfrm>
            <a:off x="1133640" y="4959360"/>
            <a:ext cx="76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定每天住宿费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每天伙食费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那么刘老师这次旅游需要的钱数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16×2+4×80+6×20+600=187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5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900360" cy="5904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3"/>
          <p:cNvSpPr/>
          <p:nvPr/>
        </p:nvSpPr>
        <p:spPr>
          <a:xfrm>
            <a:off x="1547640" y="2060640"/>
            <a:ext cx="72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下列方程，并说一说解的过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1547640" y="314172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X+6X=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4608360" y="3141720"/>
            <a:ext cx="36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÷5-1.5=1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图片 14" descr=""/>
          <p:cNvPicPr/>
          <p:nvPr/>
        </p:nvPicPr>
        <p:blipFill>
          <a:blip r:embed="rId2"/>
          <a:stretch/>
        </p:blipFill>
        <p:spPr>
          <a:xfrm>
            <a:off x="4764240" y="4181400"/>
            <a:ext cx="1314360" cy="13273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6" descr=""/>
          <p:cNvPicPr/>
          <p:nvPr/>
        </p:nvPicPr>
        <p:blipFill>
          <a:blip r:embed="rId3"/>
          <a:stretch/>
        </p:blipFill>
        <p:spPr>
          <a:xfrm>
            <a:off x="3422520" y="4221000"/>
            <a:ext cx="1371600" cy="1428840"/>
          </a:xfrm>
          <a:prstGeom prst="rect">
            <a:avLst/>
          </a:prstGeom>
          <a:ln w="0">
            <a:noFill/>
          </a:ln>
        </p:spPr>
      </p:pic>
      <p:sp>
        <p:nvSpPr>
          <p:cNvPr id="114" name="圆角矩形标注 17"/>
          <p:cNvSpPr/>
          <p:nvPr/>
        </p:nvSpPr>
        <p:spPr>
          <a:xfrm>
            <a:off x="1003320" y="4140360"/>
            <a:ext cx="2449440" cy="992160"/>
          </a:xfrm>
          <a:prstGeom prst="wedgeRoundRectCallout">
            <a:avLst>
              <a:gd name="adj1" fmla="val 57986"/>
              <a:gd name="adj2" fmla="val 7870"/>
              <a:gd name="adj3" fmla="val 16667"/>
            </a:avLst>
          </a:prstGeom>
          <a:solidFill>
            <a:srgbClr val="ffff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X+6X=7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先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·····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圆角矩形标注 18"/>
          <p:cNvSpPr/>
          <p:nvPr/>
        </p:nvSpPr>
        <p:spPr>
          <a:xfrm>
            <a:off x="6078600" y="4221000"/>
            <a:ext cx="2303280" cy="911520"/>
          </a:xfrm>
          <a:prstGeom prst="wedgeRoundRectCallout">
            <a:avLst>
              <a:gd name="adj1" fmla="val -61217"/>
              <a:gd name="adj2" fmla="val 11287"/>
              <a:gd name="adj3" fmla="val 16667"/>
            </a:avLst>
          </a:prstGeom>
          <a:solidFill>
            <a:srgbClr val="ffff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÷5-1.5=1.5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可以先将方程两边同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·····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7-12-23T12:12:05Z</dcterms:modified>
  <cp:revision>911</cp:revision>
  <dc:subject/>
  <dc:title>幻灯片 1</dc:title>
</cp:coreProperties>
</file>