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F9644-7E0B-4922-A394-D2B3E397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E3D2A-16C9-41F7-8FED-AD029582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71168-0ED4-473A-B5B0-8CF78F6E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D2F15-938A-47EC-8119-003EE076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12EDA-7CFF-4222-9EB9-A26CD8EE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BFE4E-0728-4ED0-9AFF-88A15034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AFB5F-F913-44F0-8EE6-1D8CEBA0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0780D-4168-4B79-B410-A671CFF1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00B7B-A15C-4EF0-8A97-366517B4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92439-227E-43E2-A46A-F49E3A4A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D8187-7F36-4393-AAA0-CC5818D9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DD97A-FD1C-48B4-9293-5D41159E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72505-638C-407C-AB42-ED0B01CE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62874-4985-46BB-984F-DB6890DD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09E82-19BF-4C94-A3FA-92F97A4B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EB764-66E6-4D08-8E15-290384E9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E4717-0132-4FE6-8CC6-2DC89F5A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FBAB9-5F55-411A-AC72-E5B2765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4670A-A6AC-4236-BCC4-0505869E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23AFE-3387-4182-8101-1EA1833F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6E0B7-B7FD-4870-A914-7BB93B93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58CE8-E754-481A-B7CF-DDF39263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55DA9-9FF8-44EA-906C-B49E9CC7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C0713-1684-4687-9136-E79C7D09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FF792-E044-4391-913F-402E6C59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B3037-5DC6-4083-97DB-AE28C345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9689C-8965-4A7B-AA93-99B14D69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DB48F-F370-4227-A307-46C71D2A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60944-5A44-412A-BA2F-60F9EDD8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6C020-59D5-49E1-8345-3FDC4C18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788-66F4-4F56-906F-8EA6D56E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8DE8A-52AB-4CFB-AD56-2C7F181C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268DD-3F2A-4262-9A95-AD8075D5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A533E-05E1-47C0-86F2-A0D8EE17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C2C21-B005-44FB-B1A2-46EB2703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9149A-C819-43E1-A874-D24D54B7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32690-48D1-4C4B-AC80-32EABADF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04A06-D2F4-4195-AA63-C16B9A7B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810E1-D49F-492A-8D80-4BBA0E9D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9A133-9867-4BA7-8B2D-1353C2F9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07698-8FF6-433C-A049-1FA6C233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D23-9B2B-4192-BB83-5F72AFA4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4D19D-23C1-4C2A-A455-0792D74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F34D3-F34E-40EF-BD93-DEFB21CF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C61AE-57C9-4D61-AB72-B7482B9C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7EA2D-FD08-40A7-A23B-212C0982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C33E4-F573-422E-BB43-BBB1BFA0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882-8BE1-4169-BB97-883E7E35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D99-AEA2-4F0F-8BF4-BE205BAB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7F9-7E7E-4913-B420-71ADD585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768-1312-49E8-B4A5-3324A4B2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03A-F81B-4B6D-B206-B586E18C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FAF-F861-49AE-A348-D04DAD2F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2F5-0DB8-477E-A8CE-E8C5E9EA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782-0407-4814-90B3-6CB8E996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3E7-2356-4594-908A-6CEAE8A2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5D1-A11B-4ADF-9417-BFC39786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4A1D-ECFD-4DC6-BC7A-30B07137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7557-04C0-4B80-8E91-19E16CAA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F716-2A5D-435B-A059-2C7982DA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D172-E6C8-4CB4-BE7E-AF82421D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3EE7-BCD4-498D-B14A-58847752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15D2-3463-4314-8AA5-22481C9B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D670-3ABB-4C13-B627-CB643CB6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AEDA-3281-4C0B-AF97-7039EF86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3C9B-3691-48D6-AB32-5D05FC5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6E76-652C-4B6C-8E0C-7F498E92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5307-FBB9-445E-A549-D449568F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76D9-6358-4BFA-8984-9D81B89F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D720-3113-4889-9686-EF506C19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BA62-8E3F-454D-97A3-65539781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3B43B-F331-4BB5-A42D-07431BB3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A705-469C-447D-8B59-6D5C195B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0B50-AF78-4CA1-A9C7-FE8FFADF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E021-B36B-4AB5-A309-1531D9CE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2781-759C-4070-ADE8-DDD34EB9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D58D9-7EFA-4370-96A5-E5A1C358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6801E-1E16-44C1-BE3F-E1127DEE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8A4A2-E1CE-40CF-9554-76502E64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D385-90E0-4C1C-AC1F-FA20F4BC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5B36-052B-48D9-8357-C8F95BDA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20E94-A8F0-42DC-97C9-CA65417A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4029-CE82-4C27-9989-C1EE54FE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6769B-5673-4A77-806A-6243024F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E39CD-01E2-4E46-AEA8-10A8C80E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3BD7-9761-43AD-B05F-686AED66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835EA-B1D9-41A2-94CC-FC586587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D3B3A-11E5-49CB-87C2-35084755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01F0-0F88-4E0F-BF8D-806EA935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C5F3F-F7DC-4396-B1D0-E6F1D88A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EDC99-F4CB-4CA4-AF18-C1280DE3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54A44-FB8F-4106-B653-50249A0F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A5189-CB87-4E46-A3E1-FC7AF335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2AD07-E213-4586-B7AE-423C1615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F8BE5-5059-4070-99DB-A215CC81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B4F54-40D5-40BE-82E3-879E3554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B44BD-743D-4691-B8F4-4FA43781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8C043-C9ED-45C1-AC24-DB829AD3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E99E8-D324-480B-99C6-50C80BC0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0F499-0B8D-4F7C-A6A3-67111509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BE35F-4859-40F9-AF52-1211099C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A5BB-6D54-468C-8CA9-DCD530E6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2FF0D-DC00-4955-B0FA-500923CB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15E35-4E0B-41BD-B627-D6A36FC7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575FF-3EDF-4C11-A351-3D7F04C5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D28A4-5018-4C15-A00B-40C2B01F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FA6DD-84AE-435C-AF78-42504EEC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FF9A7-483E-4B76-92B8-2E293F00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DA877-F538-41C1-8955-6D7AD26E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23157-7D90-4470-9A29-D3291032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0A89C-4338-4AE6-A811-884807F6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11038-9B6D-43CE-9BCA-4CF1BE1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8D4E6-2078-4CF4-9762-4E7F8920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3E769-32BD-4454-8BE3-F5BCA9E6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C7816-D58E-46E3-BF6C-BD1FD88A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EA404-F81C-4305-80EC-7B53CEC9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4DA99-D3EF-4533-9BBE-647DC118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E0B98-D12F-4A1E-9867-B54605FA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3649B-A5EC-41ED-B253-0B2BBA08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D68B7-6979-4EAD-BD9F-66D5FA0E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01C36-D12D-490D-A1D2-A36E3993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62AAD-5E73-41D7-96C3-AEE63433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32FCC-C3CC-4F06-A7AF-60CADF2D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B205D-644E-430F-9760-C494D3EC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DC674-B8A5-45E5-A3F0-72F6B2D6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D8F58-28D0-4F14-A60B-002CA43F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46817-649F-4063-AE96-B3C0157C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221D7-E5E7-4D9F-AEF4-D963DD8F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1AF11-A071-432D-A1C7-E6E33DA6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C82DE-00C5-4FDC-9690-929A1F9C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4EF7E-0990-4125-BB79-EDC6ACD1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8E3E6-76C6-4E97-9233-E9F4E375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CE9D-FE4F-41B3-BEF4-4E204D97992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62EC-908B-444B-A31D-8A60D9D82FE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2431-2121-4501-B720-1B99D5EE500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3060-29FB-4691-909D-BCEEC9DF41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96B9-6729-4AE0-82A6-FA285A83C7F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4310-1903-47E4-A1AE-B778476E017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D2F4-6FD5-4DD2-8C5C-B242BB2ABF9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1647-B9E7-469A-B639-DD4632D41D3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0A1C-E1AC-4142-9F80-5DEB3960947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AAFF-2694-4EF8-8FC9-C2761DA41E3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D82E-BF69-4C6C-AFDA-A10892A6587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0" y="1882800"/>
            <a:ext cx="2205000" cy="7081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1844640" y="1884240"/>
            <a:ext cx="609480" cy="69696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0"/>
          <p:cNvSpPr/>
          <p:nvPr/>
        </p:nvSpPr>
        <p:spPr>
          <a:xfrm flipV="1">
            <a:off x="1488960" y="2542680"/>
            <a:ext cx="360072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2073240" y="2146320"/>
            <a:ext cx="380880" cy="43488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5"/>
          <p:cNvSpPr/>
          <p:nvPr/>
        </p:nvSpPr>
        <p:spPr>
          <a:xfrm>
            <a:off x="97632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-25560" y="33526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百分数和分数、小数的互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748440" y="1955880"/>
            <a:ext cx="26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分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11268" descr=""/>
          <p:cNvPicPr/>
          <p:nvPr/>
        </p:nvPicPr>
        <p:blipFill>
          <a:blip r:embed="rId1"/>
          <a:srcRect l="11826" t="19413" r="0" b="0"/>
          <a:stretch/>
        </p:blipFill>
        <p:spPr>
          <a:xfrm>
            <a:off x="957240" y="3182760"/>
            <a:ext cx="7122960" cy="2492640"/>
          </a:xfrm>
          <a:prstGeom prst="rect">
            <a:avLst/>
          </a:prstGeom>
          <a:ln w="0">
            <a:noFill/>
          </a:ln>
        </p:spPr>
      </p:pic>
      <p:sp>
        <p:nvSpPr>
          <p:cNvPr id="581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活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3"/>
          <p:cNvSpPr/>
          <p:nvPr/>
        </p:nvSpPr>
        <p:spPr>
          <a:xfrm>
            <a:off x="1677600" y="2363760"/>
            <a:ext cx="8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口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18436" descr=""/>
          <p:cNvPicPr/>
          <p:nvPr/>
        </p:nvPicPr>
        <p:blipFill>
          <a:blip r:embed="rId1"/>
          <a:srcRect l="5262" t="18063" r="5300" b="0"/>
          <a:stretch/>
        </p:blipFill>
        <p:spPr>
          <a:xfrm>
            <a:off x="878040" y="3451320"/>
            <a:ext cx="7443720" cy="2930400"/>
          </a:xfrm>
          <a:prstGeom prst="rect">
            <a:avLst/>
          </a:prstGeom>
          <a:ln w="0">
            <a:noFill/>
          </a:ln>
        </p:spPr>
      </p:pic>
      <p:sp>
        <p:nvSpPr>
          <p:cNvPr id="585" name="文本框 3"/>
          <p:cNvSpPr/>
          <p:nvPr/>
        </p:nvSpPr>
        <p:spPr>
          <a:xfrm>
            <a:off x="1936800" y="2363760"/>
            <a:ext cx="501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百分数在格子里涂色，再用小数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涂色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活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19459" descr=""/>
          <p:cNvPicPr/>
          <p:nvPr/>
        </p:nvPicPr>
        <p:blipFill>
          <a:blip r:embed="rId1"/>
          <a:srcRect l="0" t="14394" r="0" b="0"/>
          <a:stretch/>
        </p:blipFill>
        <p:spPr>
          <a:xfrm>
            <a:off x="816120" y="2992320"/>
            <a:ext cx="7386480" cy="33386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3"/>
          <p:cNvSpPr/>
          <p:nvPr/>
        </p:nvSpPr>
        <p:spPr>
          <a:xfrm>
            <a:off x="1983240" y="2363760"/>
            <a:ext cx="52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用小数、分数、百分数表示涂色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3"/>
          <p:cNvSpPr/>
          <p:nvPr/>
        </p:nvSpPr>
        <p:spPr>
          <a:xfrm>
            <a:off x="1365840" y="2363760"/>
            <a:ext cx="33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空格里填上适当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905040" y="3151080"/>
          <a:ext cx="7526160" cy="2654280"/>
        </p:xfrm>
        <a:graphic>
          <a:graphicData uri="http://schemas.openxmlformats.org/drawingml/2006/table">
            <a:tbl>
              <a:tblPr/>
              <a:tblGrid>
                <a:gridCol w="1253880"/>
                <a:gridCol w="1254240"/>
                <a:gridCol w="1255680"/>
                <a:gridCol w="1254240"/>
                <a:gridCol w="1253880"/>
                <a:gridCol w="1254240"/>
              </a:tblGrid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分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小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百分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2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96" name="对象 5"/>
              <p:cNvSpPr txBox="1"/>
              <p:nvPr/>
            </p:nvSpPr>
            <p:spPr>
              <a:xfrm>
                <a:off x="2639880" y="3170160"/>
                <a:ext cx="3938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对象 9"/>
              <p:cNvSpPr txBox="1"/>
              <p:nvPr/>
            </p:nvSpPr>
            <p:spPr>
              <a:xfrm>
                <a:off x="5019840" y="3176640"/>
                <a:ext cx="5205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图片 23556" descr="PE02604_"/>
          <p:cNvPicPr/>
          <p:nvPr/>
        </p:nvPicPr>
        <p:blipFill>
          <a:blip r:embed="rId1"/>
          <a:stretch/>
        </p:blipFill>
        <p:spPr>
          <a:xfrm>
            <a:off x="6186600" y="612720"/>
            <a:ext cx="1955520" cy="1602000"/>
          </a:xfrm>
          <a:prstGeom prst="rect">
            <a:avLst/>
          </a:prstGeom>
          <a:ln w="0">
            <a:noFill/>
          </a:ln>
        </p:spPr>
      </p:pic>
      <p:sp>
        <p:nvSpPr>
          <p:cNvPr id="599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3"/>
          <p:cNvSpPr/>
          <p:nvPr/>
        </p:nvSpPr>
        <p:spPr>
          <a:xfrm>
            <a:off x="2018520" y="2363760"/>
            <a:ext cx="52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科技小组进行种子发芽实验，结果如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192240" y="3251160"/>
          <a:ext cx="8759520" cy="2990880"/>
        </p:xfrm>
        <a:graphic>
          <a:graphicData uri="http://schemas.openxmlformats.org/drawingml/2006/table">
            <a:tbl>
              <a:tblPr/>
              <a:tblGrid>
                <a:gridCol w="1180800"/>
                <a:gridCol w="2022480"/>
                <a:gridCol w="2022480"/>
                <a:gridCol w="2022480"/>
                <a:gridCol w="1511280"/>
              </a:tblGrid>
              <a:tr h="90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实验种子数（粒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发芽种子数（粒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未发芽种子数（粒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发芽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水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黄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根据以上信息，将上表填完整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对象 10244"/>
              <p:cNvSpPr txBox="1"/>
              <p:nvPr/>
            </p:nvSpPr>
            <p:spPr>
              <a:xfrm>
                <a:off x="1760400" y="5556240"/>
                <a:ext cx="1764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图片 10249" descr=""/>
          <p:cNvPicPr/>
          <p:nvPr/>
        </p:nvPicPr>
        <p:blipFill>
          <a:blip r:embed="rId1"/>
          <a:stretch/>
        </p:blipFill>
        <p:spPr>
          <a:xfrm>
            <a:off x="533520" y="2271600"/>
            <a:ext cx="7619760" cy="20876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3049560" y="816120"/>
            <a:ext cx="2008080" cy="1403280"/>
          </a:xfrm>
          <a:prstGeom prst="rect">
            <a:avLst/>
          </a:prstGeom>
          <a:ln w="0">
            <a:noFill/>
          </a:ln>
        </p:spPr>
      </p:pic>
      <p:sp>
        <p:nvSpPr>
          <p:cNvPr id="48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文本框 4" descr=""/>
          <p:cNvPicPr/>
          <p:nvPr/>
        </p:nvPicPr>
        <p:blipFill>
          <a:blip r:embed="rId3"/>
          <a:stretch/>
        </p:blipFill>
        <p:spPr>
          <a:xfrm>
            <a:off x="438120" y="4334040"/>
            <a:ext cx="4603680" cy="117144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0248" descr=""/>
          <p:cNvPicPr/>
          <p:nvPr/>
        </p:nvPicPr>
        <p:blipFill>
          <a:blip r:embed="rId4"/>
          <a:srcRect l="64186" t="0" r="0" b="14052"/>
          <a:stretch/>
        </p:blipFill>
        <p:spPr>
          <a:xfrm>
            <a:off x="5456160" y="3560760"/>
            <a:ext cx="917640" cy="140508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10247" descr=""/>
          <p:cNvPicPr/>
          <p:nvPr/>
        </p:nvPicPr>
        <p:blipFill>
          <a:blip r:embed="rId5"/>
          <a:srcRect l="0" t="0" r="75762" b="0"/>
          <a:stretch/>
        </p:blipFill>
        <p:spPr>
          <a:xfrm>
            <a:off x="7746840" y="5027760"/>
            <a:ext cx="9036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494" name="组合 1"/>
          <p:cNvGrpSpPr/>
          <p:nvPr/>
        </p:nvGrpSpPr>
        <p:grpSpPr>
          <a:xfrm>
            <a:off x="6575400" y="3970440"/>
            <a:ext cx="2085480" cy="636480"/>
            <a:chOff x="6575400" y="3970440"/>
            <a:chExt cx="2085480" cy="636480"/>
          </a:xfrm>
        </p:grpSpPr>
        <p:sp>
          <p:nvSpPr>
            <p:cNvPr id="495" name="圆角矩形标注 10251"/>
            <p:cNvSpPr/>
            <p:nvPr/>
          </p:nvSpPr>
          <p:spPr>
            <a:xfrm>
              <a:off x="6575400" y="3970440"/>
              <a:ext cx="2085480" cy="636480"/>
            </a:xfrm>
            <a:prstGeom prst="wedgeRoundRectCallout">
              <a:avLst>
                <a:gd name="adj1" fmla="val -64138"/>
                <a:gd name="adj2" fmla="val -26402"/>
                <a:gd name="adj3" fmla="val 16667"/>
              </a:avLst>
            </a:prstGeom>
            <a:solidFill>
              <a:srgbClr val="a1dc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文本框 10254"/>
            <p:cNvSpPr/>
            <p:nvPr/>
          </p:nvSpPr>
          <p:spPr>
            <a:xfrm>
              <a:off x="7026840" y="4065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怎样计算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1"/>
          <p:cNvGrpSpPr/>
          <p:nvPr/>
        </p:nvGrpSpPr>
        <p:grpSpPr>
          <a:xfrm>
            <a:off x="5103720" y="5189400"/>
            <a:ext cx="2681280" cy="903600"/>
            <a:chOff x="5103720" y="5189400"/>
            <a:chExt cx="2681280" cy="903600"/>
          </a:xfrm>
        </p:grpSpPr>
        <p:sp>
          <p:nvSpPr>
            <p:cNvPr id="498" name="圆角矩形标注 10251"/>
            <p:cNvSpPr/>
            <p:nvPr/>
          </p:nvSpPr>
          <p:spPr>
            <a:xfrm>
              <a:off x="5103720" y="5189400"/>
              <a:ext cx="2681280" cy="903600"/>
            </a:xfrm>
            <a:prstGeom prst="wedgeRoundRectCallout">
              <a:avLst>
                <a:gd name="adj1" fmla="val 42578"/>
                <a:gd name="adj2" fmla="val 67995"/>
                <a:gd name="adj3" fmla="val 16667"/>
              </a:avLst>
            </a:prstGeom>
            <a:solidFill>
              <a:srgbClr val="a1dc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文本框 10254"/>
            <p:cNvSpPr/>
            <p:nvPr/>
          </p:nvSpPr>
          <p:spPr>
            <a:xfrm>
              <a:off x="5567400" y="5246640"/>
              <a:ext cx="186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把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5%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写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分数或小数计算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10249" descr=""/>
          <p:cNvPicPr/>
          <p:nvPr/>
        </p:nvPicPr>
        <p:blipFill>
          <a:blip r:embed="rId1"/>
          <a:stretch/>
        </p:blipFill>
        <p:spPr>
          <a:xfrm>
            <a:off x="533520" y="2271600"/>
            <a:ext cx="7619760" cy="208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1" name="对象 14337"/>
              <p:cNvSpPr txBox="1"/>
              <p:nvPr/>
            </p:nvSpPr>
            <p:spPr>
              <a:xfrm>
                <a:off x="6246720" y="3522600"/>
                <a:ext cx="17654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对象 14342"/>
              <p:cNvSpPr txBox="1"/>
              <p:nvPr/>
            </p:nvSpPr>
            <p:spPr>
              <a:xfrm>
                <a:off x="5842080" y="4143240"/>
                <a:ext cx="19080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对象 14345"/>
              <p:cNvSpPr txBox="1"/>
              <p:nvPr/>
            </p:nvSpPr>
            <p:spPr>
              <a:xfrm>
                <a:off x="5881680" y="5214960"/>
                <a:ext cx="1449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t xml:space="preserve">(</m:t>
                    </m:r>
                    <m:r>
                      <m:t xml:space="preserve">个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对象 14346"/>
              <p:cNvSpPr txBox="1"/>
              <p:nvPr/>
            </p:nvSpPr>
            <p:spPr>
              <a:xfrm>
                <a:off x="1255680" y="5945040"/>
                <a:ext cx="6823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答：空气质量达到二级标准的城市有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个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文本框 4" descr=""/>
          <p:cNvPicPr/>
          <p:nvPr/>
        </p:nvPicPr>
        <p:blipFill>
          <a:blip r:embed="rId2"/>
          <a:stretch/>
        </p:blipFill>
        <p:spPr>
          <a:xfrm>
            <a:off x="285840" y="4334040"/>
            <a:ext cx="4603680" cy="1171440"/>
          </a:xfrm>
          <a:prstGeom prst="rect">
            <a:avLst/>
          </a:prstGeom>
          <a:ln w="0">
            <a:noFill/>
          </a:ln>
        </p:spPr>
      </p:pic>
      <p:pic>
        <p:nvPicPr>
          <p:cNvPr id="508" name="文本框 1" descr=""/>
          <p:cNvPicPr/>
          <p:nvPr/>
        </p:nvPicPr>
        <p:blipFill>
          <a:blip r:embed="rId3"/>
          <a:stretch/>
        </p:blipFill>
        <p:spPr>
          <a:xfrm>
            <a:off x="1096920" y="5383080"/>
            <a:ext cx="29322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图片 10249" descr=""/>
          <p:cNvPicPr/>
          <p:nvPr/>
        </p:nvPicPr>
        <p:blipFill>
          <a:blip r:embed="rId1"/>
          <a:stretch/>
        </p:blipFill>
        <p:spPr>
          <a:xfrm>
            <a:off x="533520" y="2271600"/>
            <a:ext cx="7619760" cy="208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0" name="对象 14337"/>
              <p:cNvSpPr txBox="1"/>
              <p:nvPr/>
            </p:nvSpPr>
            <p:spPr>
              <a:xfrm>
                <a:off x="6138720" y="3522600"/>
                <a:ext cx="17640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对象 1"/>
              <p:cNvSpPr txBox="1"/>
              <p:nvPr/>
            </p:nvSpPr>
            <p:spPr>
              <a:xfrm>
                <a:off x="5805360" y="4373640"/>
                <a:ext cx="1981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对象 2"/>
              <p:cNvSpPr txBox="1"/>
              <p:nvPr/>
            </p:nvSpPr>
            <p:spPr>
              <a:xfrm>
                <a:off x="5803920" y="5195880"/>
                <a:ext cx="1449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t xml:space="preserve">(</m:t>
                    </m:r>
                    <m:r>
                      <m:t xml:space="preserve">个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对象 3"/>
              <p:cNvSpPr txBox="1"/>
              <p:nvPr/>
            </p:nvSpPr>
            <p:spPr>
              <a:xfrm>
                <a:off x="1255680" y="5945040"/>
                <a:ext cx="68230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答：空气质量达到二级标准的城市有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个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文本框 6" descr=""/>
          <p:cNvPicPr/>
          <p:nvPr/>
        </p:nvPicPr>
        <p:blipFill>
          <a:blip r:embed="rId2"/>
          <a:stretch/>
        </p:blipFill>
        <p:spPr>
          <a:xfrm>
            <a:off x="285840" y="4334040"/>
            <a:ext cx="4603680" cy="1171440"/>
          </a:xfrm>
          <a:prstGeom prst="rect">
            <a:avLst/>
          </a:prstGeom>
          <a:ln w="0">
            <a:noFill/>
          </a:ln>
        </p:spPr>
      </p:pic>
      <p:pic>
        <p:nvPicPr>
          <p:cNvPr id="517" name="文本框 7" descr=""/>
          <p:cNvPicPr/>
          <p:nvPr/>
        </p:nvPicPr>
        <p:blipFill>
          <a:blip r:embed="rId3"/>
          <a:stretch/>
        </p:blipFill>
        <p:spPr>
          <a:xfrm>
            <a:off x="1096920" y="5383080"/>
            <a:ext cx="29322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8" name="对象 8205"/>
              <p:cNvSpPr txBox="1"/>
              <p:nvPr/>
            </p:nvSpPr>
            <p:spPr>
              <a:xfrm>
                <a:off x="1695600" y="3070080"/>
                <a:ext cx="18000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对象 8207"/>
              <p:cNvSpPr txBox="1"/>
              <p:nvPr/>
            </p:nvSpPr>
            <p:spPr>
              <a:xfrm>
                <a:off x="5072040" y="3067200"/>
                <a:ext cx="18702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矩形 8209"/>
          <p:cNvSpPr/>
          <p:nvPr/>
        </p:nvSpPr>
        <p:spPr>
          <a:xfrm>
            <a:off x="2053440" y="4298040"/>
            <a:ext cx="473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分数化分数，先把百分数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写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母是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100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的分数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再通过约分得到最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图片 8203" descr=""/>
          <p:cNvPicPr/>
          <p:nvPr/>
        </p:nvPicPr>
        <p:blipFill>
          <a:blip r:embed="rId1"/>
          <a:srcRect l="4240" t="0" r="78300" b="0"/>
          <a:stretch/>
        </p:blipFill>
        <p:spPr>
          <a:xfrm>
            <a:off x="836640" y="2259000"/>
            <a:ext cx="658800" cy="566640"/>
          </a:xfrm>
          <a:prstGeom prst="rect">
            <a:avLst/>
          </a:prstGeom>
          <a:ln w="0">
            <a:noFill/>
          </a:ln>
        </p:spPr>
      </p:pic>
      <p:sp>
        <p:nvSpPr>
          <p:cNvPr id="524" name="文本框 14"/>
          <p:cNvSpPr/>
          <p:nvPr/>
        </p:nvSpPr>
        <p:spPr>
          <a:xfrm>
            <a:off x="2007000" y="2193840"/>
            <a:ext cx="38854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%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%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化成分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对象 1"/>
              <p:cNvSpPr txBox="1"/>
              <p:nvPr/>
            </p:nvSpPr>
            <p:spPr>
              <a:xfrm>
                <a:off x="6959520" y="3057480"/>
                <a:ext cx="67176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6" name="对象 16386"/>
              <p:cNvSpPr txBox="1"/>
              <p:nvPr/>
            </p:nvSpPr>
            <p:spPr>
              <a:xfrm>
                <a:off x="2054160" y="3289320"/>
                <a:ext cx="9176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对象 16387"/>
              <p:cNvSpPr txBox="1"/>
              <p:nvPr/>
            </p:nvSpPr>
            <p:spPr>
              <a:xfrm>
                <a:off x="3005280" y="3095640"/>
                <a:ext cx="29318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　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对象 16388"/>
              <p:cNvSpPr txBox="1"/>
              <p:nvPr/>
            </p:nvSpPr>
            <p:spPr>
              <a:xfrm>
                <a:off x="2141640" y="4503600"/>
                <a:ext cx="10238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9" name="图片 16392" descr=""/>
          <p:cNvPicPr/>
          <p:nvPr/>
        </p:nvPicPr>
        <p:blipFill>
          <a:blip r:embed="rId1"/>
          <a:srcRect l="0" t="0" r="83368" b="0"/>
          <a:stretch/>
        </p:blipFill>
        <p:spPr>
          <a:xfrm>
            <a:off x="990720" y="2208240"/>
            <a:ext cx="549000" cy="58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0" name="对象 16393"/>
              <p:cNvSpPr txBox="1"/>
              <p:nvPr/>
            </p:nvSpPr>
            <p:spPr>
              <a:xfrm>
                <a:off x="6189840" y="3324240"/>
                <a:ext cx="11300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对象 16394"/>
              <p:cNvSpPr txBox="1"/>
              <p:nvPr/>
            </p:nvSpPr>
            <p:spPr>
              <a:xfrm>
                <a:off x="3182760" y="4221000"/>
                <a:ext cx="332136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对象 16395"/>
              <p:cNvSpPr txBox="1"/>
              <p:nvPr/>
            </p:nvSpPr>
            <p:spPr>
              <a:xfrm>
                <a:off x="6594480" y="4538520"/>
                <a:ext cx="10238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33" name=""/>
          <p:cNvGraphicFramePr/>
          <p:nvPr/>
        </p:nvGraphicFramePr>
        <p:xfrm>
          <a:off x="3502080" y="3078000"/>
          <a:ext cx="2506680" cy="952560"/>
        </p:xfrm>
        <a:graphic>
          <a:graphicData uri="http://schemas.openxmlformats.org/drawingml/2006/table">
            <a:tbl>
              <a:tblPr/>
              <a:tblGrid>
                <a:gridCol w="250668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3575160" y="4221000"/>
          <a:ext cx="2928960" cy="103212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矩形 16411"/>
          <p:cNvSpPr/>
          <p:nvPr/>
        </p:nvSpPr>
        <p:spPr>
          <a:xfrm>
            <a:off x="2329920" y="5406120"/>
            <a:ext cx="49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分数化小数，可以直接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去掉百分号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时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将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小数点向左移动两位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"/>
          <p:cNvSpPr/>
          <p:nvPr/>
        </p:nvSpPr>
        <p:spPr>
          <a:xfrm>
            <a:off x="2470680" y="23144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%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8%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化成小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直线连接符 21"/>
          <p:cNvSpPr/>
          <p:nvPr/>
        </p:nvSpPr>
        <p:spPr>
          <a:xfrm flipV="1">
            <a:off x="468360" y="2000160"/>
            <a:ext cx="2071800" cy="648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图片 9221" descr=""/>
          <p:cNvPicPr/>
          <p:nvPr/>
        </p:nvPicPr>
        <p:blipFill>
          <a:blip r:embed="rId1"/>
          <a:srcRect l="0" t="0" r="82099" b="0"/>
          <a:stretch/>
        </p:blipFill>
        <p:spPr>
          <a:xfrm>
            <a:off x="469800" y="2198520"/>
            <a:ext cx="669960" cy="669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0" name="对象 9227"/>
              <p:cNvSpPr txBox="1"/>
              <p:nvPr/>
            </p:nvSpPr>
            <p:spPr>
              <a:xfrm>
                <a:off x="1446120" y="3186000"/>
                <a:ext cx="9478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对象 9229"/>
              <p:cNvSpPr txBox="1"/>
              <p:nvPr/>
            </p:nvSpPr>
            <p:spPr>
              <a:xfrm>
                <a:off x="5699160" y="3186000"/>
                <a:ext cx="9478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对象 9231"/>
              <p:cNvSpPr txBox="1"/>
              <p:nvPr/>
            </p:nvSpPr>
            <p:spPr>
              <a:xfrm>
                <a:off x="1181160" y="4375080"/>
                <a:ext cx="17319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对象 9233"/>
              <p:cNvSpPr txBox="1"/>
              <p:nvPr/>
            </p:nvSpPr>
            <p:spPr>
              <a:xfrm>
                <a:off x="6054840" y="4367160"/>
                <a:ext cx="2415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5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44" name=""/>
          <p:cNvGraphicFramePr/>
          <p:nvPr/>
        </p:nvGraphicFramePr>
        <p:xfrm>
          <a:off x="1386000" y="3111480"/>
          <a:ext cx="1066680" cy="9907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5648400" y="3111480"/>
          <a:ext cx="1066680" cy="9907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1139760" y="4302000"/>
          <a:ext cx="1978200" cy="990720"/>
        </p:xfrm>
        <a:graphic>
          <a:graphicData uri="http://schemas.openxmlformats.org/drawingml/2006/table">
            <a:tbl>
              <a:tblPr/>
              <a:tblGrid>
                <a:gridCol w="19782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975280" y="4294080"/>
          <a:ext cx="2540160" cy="990720"/>
        </p:xfrm>
        <a:graphic>
          <a:graphicData uri="http://schemas.openxmlformats.org/drawingml/2006/table">
            <a:tbl>
              <a:tblPr/>
              <a:tblGrid>
                <a:gridCol w="25401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矩形 9259"/>
          <p:cNvSpPr/>
          <p:nvPr/>
        </p:nvSpPr>
        <p:spPr>
          <a:xfrm>
            <a:off x="101520" y="5895360"/>
            <a:ext cx="879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数化成百分数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小数点向右移动两位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然后再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添上百分号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%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"/>
          <p:cNvSpPr/>
          <p:nvPr/>
        </p:nvSpPr>
        <p:spPr>
          <a:xfrm>
            <a:off x="434520" y="3348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"/>
          <p:cNvSpPr/>
          <p:nvPr/>
        </p:nvSpPr>
        <p:spPr>
          <a:xfrm>
            <a:off x="2523960" y="3424320"/>
            <a:ext cx="168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 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3"/>
          <p:cNvSpPr/>
          <p:nvPr/>
        </p:nvSpPr>
        <p:spPr>
          <a:xfrm>
            <a:off x="4806720" y="3348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4"/>
          <p:cNvSpPr/>
          <p:nvPr/>
        </p:nvSpPr>
        <p:spPr>
          <a:xfrm>
            <a:off x="6781680" y="3424320"/>
            <a:ext cx="19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 13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"/>
          <p:cNvSpPr/>
          <p:nvPr/>
        </p:nvSpPr>
        <p:spPr>
          <a:xfrm>
            <a:off x="428760" y="45370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6"/>
          <p:cNvSpPr/>
          <p:nvPr/>
        </p:nvSpPr>
        <p:spPr>
          <a:xfrm>
            <a:off x="3151080" y="4537080"/>
            <a:ext cx="14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5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7"/>
          <p:cNvSpPr/>
          <p:nvPr/>
        </p:nvSpPr>
        <p:spPr>
          <a:xfrm>
            <a:off x="4833000" y="453060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0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8"/>
          <p:cNvSpPr/>
          <p:nvPr/>
        </p:nvSpPr>
        <p:spPr>
          <a:xfrm>
            <a:off x="5981760" y="532908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5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1"/>
          <p:cNvSpPr/>
          <p:nvPr/>
        </p:nvSpPr>
        <p:spPr>
          <a:xfrm>
            <a:off x="3259440" y="22892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数化成百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0" name="对象 17411"/>
              <p:cNvSpPr txBox="1"/>
              <p:nvPr/>
            </p:nvSpPr>
            <p:spPr>
              <a:xfrm>
                <a:off x="1901880" y="3090960"/>
                <a:ext cx="4255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对象 17412"/>
              <p:cNvSpPr txBox="1"/>
              <p:nvPr/>
            </p:nvSpPr>
            <p:spPr>
              <a:xfrm>
                <a:off x="1792440" y="4148280"/>
                <a:ext cx="566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矩形 17417"/>
          <p:cNvSpPr/>
          <p:nvPr/>
        </p:nvSpPr>
        <p:spPr>
          <a:xfrm>
            <a:off x="534960" y="5115600"/>
            <a:ext cx="810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数化成百分数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先把分数化成小数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化成百分数（除不尽时，通常百分号前保留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小数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9221" descr=""/>
          <p:cNvPicPr/>
          <p:nvPr/>
        </p:nvPicPr>
        <p:blipFill>
          <a:blip r:embed="rId1"/>
          <a:srcRect l="0" t="0" r="82099" b="0"/>
          <a:stretch/>
        </p:blipFill>
        <p:spPr>
          <a:xfrm>
            <a:off x="279360" y="2144880"/>
            <a:ext cx="914400" cy="866520"/>
          </a:xfrm>
          <a:prstGeom prst="rect">
            <a:avLst/>
          </a:prstGeom>
          <a:ln w="0">
            <a:noFill/>
          </a:ln>
        </p:spPr>
      </p:pic>
      <p:sp>
        <p:nvSpPr>
          <p:cNvPr id="56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1"/>
          <p:cNvSpPr/>
          <p:nvPr/>
        </p:nvSpPr>
        <p:spPr>
          <a:xfrm>
            <a:off x="3259440" y="22892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数化成百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4"/>
          <p:cNvSpPr/>
          <p:nvPr/>
        </p:nvSpPr>
        <p:spPr>
          <a:xfrm>
            <a:off x="2255760" y="3289320"/>
            <a:ext cx="13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2"/>
          <p:cNvSpPr/>
          <p:nvPr/>
        </p:nvSpPr>
        <p:spPr>
          <a:xfrm>
            <a:off x="3476520" y="3289320"/>
            <a:ext cx="31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.75 = 1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3"/>
          <p:cNvSpPr/>
          <p:nvPr/>
        </p:nvSpPr>
        <p:spPr>
          <a:xfrm>
            <a:off x="2265480" y="4346640"/>
            <a:ext cx="19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 1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5"/>
          <p:cNvSpPr/>
          <p:nvPr/>
        </p:nvSpPr>
        <p:spPr>
          <a:xfrm>
            <a:off x="3781440" y="4346640"/>
            <a:ext cx="31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173 = 17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12291"/>
          <p:cNvSpPr/>
          <p:nvPr/>
        </p:nvSpPr>
        <p:spPr>
          <a:xfrm>
            <a:off x="590400" y="2740680"/>
            <a:ext cx="80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分数化分数，先把百分数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写成分母为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的分数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再通过约分得到最简分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2292"/>
          <p:cNvSpPr/>
          <p:nvPr/>
        </p:nvSpPr>
        <p:spPr>
          <a:xfrm>
            <a:off x="614520" y="3693240"/>
            <a:ext cx="80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分数化小数，可以直接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去掉百分号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同时将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小数点向左移动两位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2293"/>
          <p:cNvSpPr/>
          <p:nvPr/>
        </p:nvSpPr>
        <p:spPr>
          <a:xfrm>
            <a:off x="601560" y="4634640"/>
            <a:ext cx="80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数化成百分数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小数点向右移动两位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然后再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添上百分号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%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2294"/>
          <p:cNvSpPr/>
          <p:nvPr/>
        </p:nvSpPr>
        <p:spPr>
          <a:xfrm>
            <a:off x="555480" y="5645160"/>
            <a:ext cx="81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数化成百分数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先把分数化成小数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然后再化成百分数（当除不尽时，通常百分号前保留一位小数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1f8ff"/>
              </a:gs>
              <a:gs pos="100000">
                <a:srgbClr val="a1dc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线连接符 21"/>
          <p:cNvSpPr/>
          <p:nvPr/>
        </p:nvSpPr>
        <p:spPr>
          <a:xfrm flipV="1">
            <a:off x="468360" y="2074680"/>
            <a:ext cx="2071800" cy="6120"/>
          </a:xfrm>
          <a:prstGeom prst="line">
            <a:avLst/>
          </a:prstGeom>
          <a:ln w="38160">
            <a:solidFill>
              <a:srgbClr val="90adc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11"/>
          <p:cNvGrpSpPr/>
          <p:nvPr/>
        </p:nvGrpSpPr>
        <p:grpSpPr>
          <a:xfrm>
            <a:off x="5364000" y="1420920"/>
            <a:ext cx="1741680" cy="645840"/>
            <a:chOff x="5364000" y="1420920"/>
            <a:chExt cx="1741680" cy="645840"/>
          </a:xfrm>
        </p:grpSpPr>
        <p:sp>
          <p:nvSpPr>
            <p:cNvPr id="578" name="椭圆 1"/>
            <p:cNvSpPr/>
            <p:nvPr/>
          </p:nvSpPr>
          <p:spPr>
            <a:xfrm>
              <a:off x="5364000" y="1420920"/>
              <a:ext cx="1741680" cy="645840"/>
            </a:xfrm>
            <a:prstGeom prst="ellipse">
              <a:avLst/>
            </a:prstGeom>
            <a:solidFill>
              <a:srgbClr val="fbd8b0"/>
            </a:solidFill>
            <a:ln w="12600">
              <a:solidFill>
                <a:srgbClr val="f599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文本框 10"/>
            <p:cNvSpPr/>
            <p:nvPr/>
          </p:nvSpPr>
          <p:spPr>
            <a:xfrm>
              <a:off x="5772240" y="1454400"/>
              <a:ext cx="112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小 结 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41-10-25T12:40:07Z</dcterms:created>
  <dc:creator/>
  <dc:description/>
  <cp:keywords/>
  <dc:language>en-US</dc:language>
  <cp:lastModifiedBy/>
  <dcterms:modified xsi:type="dcterms:W3CDTF">2018-01-26T11:59:26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