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BF4B-5C49-4B56-A9F7-35002094C1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D8E1-DB9B-41CB-BB75-50C33B0B54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F89-CF38-462E-ADFB-DDBF05E6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99D-78DF-4A56-92EF-8B3CB9F0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0D5-434E-4DC7-8580-96CFCFA3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2B3-708D-4DB8-A893-50013DAA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A8F-E32C-4276-9425-37C8FB23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3D9-D06C-459D-A44B-F457E372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912-BC3E-4D0E-A27D-EE76D2A9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1AA-9508-4468-B5BA-66CA43A8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C09-3130-4873-A489-0D5373BB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A5A-6207-40D4-8ADE-8E4C3F0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02B-07DE-4975-AE91-752A1116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FBB-6876-48DC-82FE-5BA9833A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828D-829A-4959-AAAA-951E5DA7E43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4211640" y="24382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百分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4067280" y="3357720"/>
            <a:ext cx="388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826920" y="1197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单元   百分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1332000" y="213372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道数学题，全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做对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做错，则正确率是多少？错误率是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1332000" y="342108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思路点拨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是百分数意义在日常生活中的应用。首先要正确理解正确率，错误率的含义，其分别表示做对的人数，做错的人数各占全班人数的百分之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332000" y="213372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道数学题，全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做对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做错，则正确率是多少？错误率是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332000" y="342108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与分析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1332000" y="393372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：做对人数：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         做错人数：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2771640" y="4581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班总人数：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5=4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下箭头 11"/>
          <p:cNvSpPr/>
          <p:nvPr/>
        </p:nvSpPr>
        <p:spPr>
          <a:xfrm>
            <a:off x="4284720" y="4365720"/>
            <a:ext cx="71280" cy="287280"/>
          </a:xfrm>
          <a:prstGeom prst="downArrow">
            <a:avLst>
              <a:gd name="adj1" fmla="val 50000"/>
              <a:gd name="adj2" fmla="val 5037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24000" y="508464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：正确率是多少？错误率是多少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332000" y="213372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道数学题，全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做对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做错，则正确率是多少？错误率是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1332000" y="3421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率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2050920" y="400536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5=4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人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2268360" y="450864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÷40×100%=87.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3780000" y="5084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正确率是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.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1332000" y="213372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道数学题，全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做对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做错，则正确率是多少？错误率是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1332000" y="3421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率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2050920" y="400536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5=4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人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2268360" y="450864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÷40×100%=12.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3780000" y="5084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正确率是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.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55640" y="213372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糖和水的比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配制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种糖水，这种水的含糖率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（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826920" y="342900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易错分析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已知的是糖与水的比，即糖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，水为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，学生容易忽视所求的实际是糖与糖水的百分比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将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÷19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近似值大于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百分数，故很容易判断此题是误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8"/>
          <p:cNvSpPr/>
          <p:nvPr/>
        </p:nvSpPr>
        <p:spPr>
          <a:xfrm rot="18297600">
            <a:off x="3289320" y="3539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2411280" y="3789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+19=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1042920" y="3500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2556000" y="4365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÷20×100%=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2771640" y="50259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种水的含糖率是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此题是正确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2"/>
          <p:cNvSpPr/>
          <p:nvPr/>
        </p:nvSpPr>
        <p:spPr>
          <a:xfrm rot="18297600">
            <a:off x="3289320" y="3539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755640" y="2133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判断）按糖和水的比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配制一种糖水，这种水的含糖率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55640" y="2133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判断）按糖和水的比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配制一种糖水，这种水的含糖率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411280" y="3789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+19=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1042920" y="3500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2556000" y="43657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÷20×100%=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771640" y="50259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种水的含糖率是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此题是正确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755640" y="21128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种产品的合格率高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5" descr="练习1-5.gif"/>
          <p:cNvPicPr/>
          <p:nvPr/>
        </p:nvPicPr>
        <p:blipFill>
          <a:blip r:embed="rId1"/>
          <a:stretch/>
        </p:blipFill>
        <p:spPr>
          <a:xfrm>
            <a:off x="1598760" y="2852640"/>
            <a:ext cx="5294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755640" y="21128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种产品的合格率高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1042920" y="2852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：甲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，合格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4716360" y="28526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，不合格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下箭头 9"/>
          <p:cNvSpPr/>
          <p:nvPr/>
        </p:nvSpPr>
        <p:spPr>
          <a:xfrm>
            <a:off x="6516720" y="3284640"/>
            <a:ext cx="71280" cy="28872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5796000" y="3676680"/>
            <a:ext cx="14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格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97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1187280" y="4076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合格率：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÷50×100%=9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5"/>
          <p:cNvSpPr/>
          <p:nvPr/>
        </p:nvSpPr>
        <p:spPr>
          <a:xfrm>
            <a:off x="1187280" y="4778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合格率：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100×100%=9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6"/>
          <p:cNvSpPr/>
          <p:nvPr/>
        </p:nvSpPr>
        <p:spPr>
          <a:xfrm>
            <a:off x="1467000" y="5516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甲种产品的合格率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116000" y="24210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勤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勤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1187280" y="30495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勤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勤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187280" y="362592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格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格产品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产品总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87280" y="4202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油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油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187280" y="4778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活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活棵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棵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1258920" y="528156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2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5"/>
          <p:cNvSpPr/>
          <p:nvPr/>
        </p:nvSpPr>
        <p:spPr>
          <a:xfrm>
            <a:off x="1052640" y="378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1916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124000" y="213372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学生理解出勤率、成活率、合格率等百分率的意义，掌握常用的百分率的计算方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195640" y="398772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确百分率在实际生活中的应用，提高运用数学知识解决问题的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755640" y="21128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14"/>
          <p:cNvGrpSpPr/>
          <p:nvPr/>
        </p:nvGrpSpPr>
        <p:grpSpPr>
          <a:xfrm>
            <a:off x="755640" y="2940120"/>
            <a:ext cx="6408720" cy="2533320"/>
            <a:chOff x="755640" y="2940120"/>
            <a:chExt cx="6408720" cy="2533320"/>
          </a:xfrm>
        </p:grpSpPr>
        <p:sp>
          <p:nvSpPr>
            <p:cNvPr id="196" name="TextBox 8"/>
            <p:cNvSpPr/>
            <p:nvPr/>
          </p:nvSpPr>
          <p:spPr>
            <a:xfrm>
              <a:off x="755640" y="2940120"/>
              <a:ext cx="64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、某种奖券的中奖率为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%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每购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张肯定能中奖一次。                （       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9"/>
            <p:cNvSpPr/>
            <p:nvPr/>
          </p:nvSpPr>
          <p:spPr>
            <a:xfrm>
              <a:off x="755640" y="3933720"/>
              <a:ext cx="64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、某车间有工人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8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，某天全部出勤，出勤率为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8%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（       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Box 10"/>
            <p:cNvSpPr/>
            <p:nvPr/>
          </p:nvSpPr>
          <p:spPr>
            <a:xfrm>
              <a:off x="755640" y="5013720"/>
              <a:ext cx="64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吨的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5%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就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吨。（       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Box 11"/>
          <p:cNvSpPr/>
          <p:nvPr/>
        </p:nvSpPr>
        <p:spPr>
          <a:xfrm>
            <a:off x="414036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2627280" y="42228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4572000" y="486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826920" y="220500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决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林场去年种植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树苗，死亡率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%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林场种植的这批树苗死亡了多少棵？成活了多少棵？成活率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1187280" y="3860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死亡棵数：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×2%=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1116000" y="472428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活率：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80÷1000×100%=9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9"/>
          <p:cNvSpPr/>
          <p:nvPr/>
        </p:nvSpPr>
        <p:spPr>
          <a:xfrm>
            <a:off x="1116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活棵数：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8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"/>
          <p:cNvSpPr/>
          <p:nvPr/>
        </p:nvSpPr>
        <p:spPr>
          <a:xfrm>
            <a:off x="1692360" y="5199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这批树苗死亡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1"/>
          <p:cNvSpPr/>
          <p:nvPr/>
        </p:nvSpPr>
        <p:spPr>
          <a:xfrm>
            <a:off x="5219640" y="5229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活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8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1763640" y="5661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成活率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8%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116000" y="2781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这节课我们学习了什么？你学会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1042920" y="2205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公司要招聘一名技术工人，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人进入决赛。下表是他们的决赛成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58920" y="3429000"/>
          <a:ext cx="5905440" cy="122544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生产零件个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合格零件个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1042920" y="2205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公司要招聘一名技术工人，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人进入决赛。下表是他们的决赛成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58920" y="3429000"/>
          <a:ext cx="5905440" cy="122544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生产零件个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合格零件个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TextBox 13"/>
          <p:cNvSpPr/>
          <p:nvPr/>
        </p:nvSpPr>
        <p:spPr>
          <a:xfrm>
            <a:off x="1195560" y="4851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果你是公司的总经理，你会录用谁？为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68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10" descr="例2-2.gif"/>
          <p:cNvPicPr/>
          <p:nvPr/>
        </p:nvPicPr>
        <p:blipFill>
          <a:blip r:embed="rId1"/>
          <a:stretch/>
        </p:blipFill>
        <p:spPr>
          <a:xfrm>
            <a:off x="684360" y="4724280"/>
            <a:ext cx="2143080" cy="144144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  <p:pic>
        <p:nvPicPr>
          <p:cNvPr id="72" name="图片 11" descr="例2-3.gif"/>
          <p:cNvPicPr/>
          <p:nvPr/>
        </p:nvPicPr>
        <p:blipFill>
          <a:blip r:embed="rId2"/>
          <a:stretch/>
        </p:blipFill>
        <p:spPr>
          <a:xfrm>
            <a:off x="4500720" y="4365720"/>
            <a:ext cx="3808080" cy="1711080"/>
          </a:xfrm>
          <a:prstGeom prst="rect">
            <a:avLst/>
          </a:prstGeom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</p:pic>
      <p:grpSp>
        <p:nvGrpSpPr>
          <p:cNvPr id="73" name="组合 14"/>
          <p:cNvGrpSpPr/>
          <p:nvPr/>
        </p:nvGrpSpPr>
        <p:grpSpPr>
          <a:xfrm>
            <a:off x="684360" y="2205000"/>
            <a:ext cx="6912000" cy="577800"/>
            <a:chOff x="684360" y="2205000"/>
            <a:chExt cx="6912000" cy="577800"/>
          </a:xfrm>
        </p:grpSpPr>
        <p:pic>
          <p:nvPicPr>
            <p:cNvPr id="74" name="图片 8" descr="例2-1.gif"/>
            <p:cNvPicPr/>
            <p:nvPr/>
          </p:nvPicPr>
          <p:blipFill>
            <a:blip r:embed="rId3"/>
            <a:stretch/>
          </p:blipFill>
          <p:spPr>
            <a:xfrm>
              <a:off x="684360" y="2205000"/>
              <a:ext cx="55584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Box 12"/>
            <p:cNvSpPr/>
            <p:nvPr/>
          </p:nvSpPr>
          <p:spPr>
            <a:xfrm>
              <a:off x="1188360" y="2205000"/>
              <a:ext cx="64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比较两个年级某天的出勤率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1332000" y="2781360"/>
          <a:ext cx="4680000" cy="1369800"/>
        </p:xfrm>
        <a:graphic>
          <a:graphicData uri="http://schemas.openxmlformats.org/drawingml/2006/table">
            <a:tbl>
              <a:tblPr/>
              <a:tblGrid>
                <a:gridCol w="1560600"/>
                <a:gridCol w="1558800"/>
                <a:gridCol w="15606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应到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实到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年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78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17"/>
          <p:cNvGrpSpPr/>
          <p:nvPr/>
        </p:nvGrpSpPr>
        <p:grpSpPr>
          <a:xfrm>
            <a:off x="1187280" y="2060640"/>
            <a:ext cx="4176720" cy="770040"/>
            <a:chOff x="1187280" y="2060640"/>
            <a:chExt cx="4176720" cy="770040"/>
          </a:xfrm>
        </p:grpSpPr>
        <p:sp>
          <p:nvSpPr>
            <p:cNvPr id="82" name="TextBox 14"/>
            <p:cNvSpPr/>
            <p:nvPr/>
          </p:nvSpPr>
          <p:spPr>
            <a:xfrm>
              <a:off x="1187280" y="220464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6÷10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9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987640" y="2060640"/>
              <a:ext cx="504000" cy="7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组合 23"/>
          <p:cNvGrpSpPr/>
          <p:nvPr/>
        </p:nvGrpSpPr>
        <p:grpSpPr>
          <a:xfrm>
            <a:off x="1187280" y="2924280"/>
            <a:ext cx="5040360" cy="853920"/>
            <a:chOff x="1187280" y="2924280"/>
            <a:chExt cx="5040360" cy="853920"/>
          </a:xfrm>
        </p:grpSpPr>
        <p:sp>
          <p:nvSpPr>
            <p:cNvPr id="85" name="TextBox 19"/>
            <p:cNvSpPr/>
            <p:nvPr/>
          </p:nvSpPr>
          <p:spPr>
            <a:xfrm>
              <a:off x="1187280" y="3140280"/>
              <a:ext cx="50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96÷200=        =        =98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3131280" y="2996280"/>
              <a:ext cx="603720" cy="7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4139640" y="2924280"/>
              <a:ext cx="605880" cy="85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24"/>
          <p:cNvSpPr/>
          <p:nvPr/>
        </p:nvSpPr>
        <p:spPr>
          <a:xfrm>
            <a:off x="971640" y="407664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8%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%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所以这天六年级的出勤率要高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25" descr="例2-4.gif"/>
          <p:cNvPicPr/>
          <p:nvPr/>
        </p:nvPicPr>
        <p:blipFill>
          <a:blip r:embed="rId4"/>
          <a:stretch/>
        </p:blipFill>
        <p:spPr>
          <a:xfrm>
            <a:off x="4643280" y="5084640"/>
            <a:ext cx="38498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91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71640" y="278136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勤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勤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1042920" y="37162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五年级与六年级出勤人数不同，总人数也不同，所以六年级的出勤率要高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97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1332000" y="2330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勤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勤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476360" y="2852640"/>
            <a:ext cx="4175280" cy="770040"/>
            <a:chOff x="1476360" y="2852640"/>
            <a:chExt cx="4175280" cy="770040"/>
          </a:xfrm>
        </p:grpSpPr>
        <p:sp>
          <p:nvSpPr>
            <p:cNvPr id="102" name="TextBox 10"/>
            <p:cNvSpPr/>
            <p:nvPr/>
          </p:nvSpPr>
          <p:spPr>
            <a:xfrm>
              <a:off x="1476360" y="2996640"/>
              <a:ext cx="41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÷10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4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3060000" y="2852640"/>
              <a:ext cx="503640" cy="7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组合 12"/>
          <p:cNvGrpSpPr/>
          <p:nvPr/>
        </p:nvGrpSpPr>
        <p:grpSpPr>
          <a:xfrm>
            <a:off x="1403280" y="3716280"/>
            <a:ext cx="5040360" cy="854280"/>
            <a:chOff x="1403280" y="3716280"/>
            <a:chExt cx="5040360" cy="854280"/>
          </a:xfrm>
        </p:grpSpPr>
        <p:sp>
          <p:nvSpPr>
            <p:cNvPr id="105" name="TextBox 13"/>
            <p:cNvSpPr/>
            <p:nvPr/>
          </p:nvSpPr>
          <p:spPr>
            <a:xfrm>
              <a:off x="1403280" y="3932280"/>
              <a:ext cx="50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÷200=        =        =2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3059280" y="3788280"/>
              <a:ext cx="603720" cy="78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4139640" y="3716280"/>
              <a:ext cx="605880" cy="85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Box 17"/>
          <p:cNvSpPr/>
          <p:nvPr/>
        </p:nvSpPr>
        <p:spPr>
          <a:xfrm>
            <a:off x="1116000" y="4797360"/>
            <a:ext cx="63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%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缺勤越高出勤率越低，所以这天六年级的出勤率要高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110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>
                <a:gd name="textAreaLeft" fmla="*/ 25200 w 2000880"/>
                <a:gd name="textAreaRight" fmla="*/ 1975680 w 2000880"/>
                <a:gd name="textAreaTop" fmla="*/ 2520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lnTo>
                    <a:pt x="1914537" y="0"/>
                  </a:lnTo>
                  <a:arcTo wR="86072" hR="86072" stAng="-5400000" swAng="5400000"/>
                  <a:lnTo>
                    <a:pt x="2000609" y="516419"/>
                  </a:lnTo>
                  <a:lnTo>
                    <a:pt x="0" y="516419"/>
                  </a:lnTo>
                  <a:lnTo>
                    <a:pt x="0" y="86072"/>
                  </a:lnTo>
                  <a:lnTo>
                    <a:pt x="0" y="86072"/>
                  </a:lnTo>
                  <a:arcTo wR="86072" hR="86072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33"/>
          <p:cNvGrpSpPr/>
          <p:nvPr/>
        </p:nvGrpSpPr>
        <p:grpSpPr>
          <a:xfrm>
            <a:off x="468360" y="2421000"/>
            <a:ext cx="7704000" cy="648000"/>
            <a:chOff x="468360" y="2421000"/>
            <a:chExt cx="7704000" cy="648000"/>
          </a:xfrm>
        </p:grpSpPr>
        <p:pic>
          <p:nvPicPr>
            <p:cNvPr id="114" name="图片 14" descr="例2-5.gif"/>
            <p:cNvPicPr/>
            <p:nvPr/>
          </p:nvPicPr>
          <p:blipFill>
            <a:blip r:embed="rId1"/>
            <a:stretch/>
          </p:blipFill>
          <p:spPr>
            <a:xfrm>
              <a:off x="468360" y="2493000"/>
              <a:ext cx="1350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24"/>
            <p:cNvSpPr/>
            <p:nvPr/>
          </p:nvSpPr>
          <p:spPr>
            <a:xfrm>
              <a:off x="1836360" y="2421000"/>
              <a:ext cx="63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合格率、成活率、出油率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……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分别表示什么意思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组合 34"/>
          <p:cNvGrpSpPr/>
          <p:nvPr/>
        </p:nvGrpSpPr>
        <p:grpSpPr>
          <a:xfrm>
            <a:off x="684360" y="3789360"/>
            <a:ext cx="3311280" cy="1449360"/>
            <a:chOff x="684360" y="3789360"/>
            <a:chExt cx="3311280" cy="1449360"/>
          </a:xfrm>
        </p:grpSpPr>
        <p:pic>
          <p:nvPicPr>
            <p:cNvPr id="117" name="图片 26" descr="例2-6.gif"/>
            <p:cNvPicPr/>
            <p:nvPr/>
          </p:nvPicPr>
          <p:blipFill>
            <a:blip r:embed="rId2"/>
            <a:stretch/>
          </p:blipFill>
          <p:spPr>
            <a:xfrm>
              <a:off x="2700000" y="3861360"/>
              <a:ext cx="1295640" cy="137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圆角矩形标注 29"/>
            <p:cNvSpPr/>
            <p:nvPr/>
          </p:nvSpPr>
          <p:spPr>
            <a:xfrm>
              <a:off x="756000" y="3789360"/>
              <a:ext cx="2015640" cy="1008360"/>
            </a:xfrm>
            <a:prstGeom prst="wedgeRoundRectCallout">
              <a:avLst>
                <a:gd name="adj1" fmla="val 76365"/>
                <a:gd name="adj2" fmla="val -5912"/>
                <a:gd name="adj3" fmla="val 16667"/>
              </a:avLst>
            </a:prstGeom>
            <a:noFill/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31"/>
            <p:cNvSpPr/>
            <p:nvPr/>
          </p:nvSpPr>
          <p:spPr>
            <a:xfrm>
              <a:off x="684360" y="3861360"/>
              <a:ext cx="208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合格率表示合格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总数的百分之几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35"/>
          <p:cNvGrpSpPr/>
          <p:nvPr/>
        </p:nvGrpSpPr>
        <p:grpSpPr>
          <a:xfrm>
            <a:off x="4859280" y="4005360"/>
            <a:ext cx="3313080" cy="1214280"/>
            <a:chOff x="4859280" y="4005360"/>
            <a:chExt cx="3313080" cy="1214280"/>
          </a:xfrm>
        </p:grpSpPr>
        <p:pic>
          <p:nvPicPr>
            <p:cNvPr id="121" name="图片 25" descr="例2-7.gif"/>
            <p:cNvPicPr/>
            <p:nvPr/>
          </p:nvPicPr>
          <p:blipFill>
            <a:blip r:embed="rId3"/>
            <a:stretch/>
          </p:blipFill>
          <p:spPr>
            <a:xfrm>
              <a:off x="4859280" y="4005360"/>
              <a:ext cx="93636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圆角矩形标注 30"/>
            <p:cNvSpPr/>
            <p:nvPr/>
          </p:nvSpPr>
          <p:spPr>
            <a:xfrm>
              <a:off x="6083640" y="4005360"/>
              <a:ext cx="2088720" cy="936360"/>
            </a:xfrm>
            <a:prstGeom prst="wedgeRoundRectCallout">
              <a:avLst>
                <a:gd name="adj1" fmla="val -67037"/>
                <a:gd name="adj2" fmla="val -14462"/>
                <a:gd name="adj3" fmla="val 16667"/>
              </a:avLst>
            </a:prstGeom>
            <a:noFill/>
            <a:ln w="25560">
              <a:solidFill>
                <a:srgbClr val="d996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32"/>
            <p:cNvSpPr/>
            <p:nvPr/>
          </p:nvSpPr>
          <p:spPr>
            <a:xfrm>
              <a:off x="6083640" y="4038120"/>
              <a:ext cx="208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成活率表示成活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总数的百分之几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7-12-23T12:25:33Z</dcterms:modified>
  <cp:revision>128</cp:revision>
  <dc:subject/>
  <dc:title>幻灯片 1</dc:title>
</cp:coreProperties>
</file>