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0163-AD55-4FFF-878B-0AEBD68684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C44-FB47-43C5-9361-C260A6C1A4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A05-B186-421A-9AE3-EA96C3B2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F44-D465-4751-9DD9-44CD01B9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547-2F38-4596-ACC9-BAF38299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4E2-4649-4122-BD4C-1FB65BAF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8BF-1881-475F-8055-75AD2174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A6C-CE09-474B-B11C-151600B0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47E-9A11-4963-9CBE-BABC5331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1FC-8E1E-43BD-9D64-B2AB7609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48E-AA8F-47FA-BFE8-FBF59CD3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AF7-98E3-42C7-8AEA-F38896A7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FE8-6E1E-4688-A368-E2D3C2D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A4D-9482-4785-B171-28A7A1B5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A46D-01D2-48BE-868E-F68F5869101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3564000" y="243828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问题解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>
            <a:off x="3635280" y="3357720"/>
            <a:ext cx="388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826920" y="1197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单元   百分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539640" y="2295360"/>
            <a:ext cx="1195560" cy="576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1763640" y="229536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去年比今年减少了百分之几？（百分号前面保留一位小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55640" y="416880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3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826920" y="47242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0÷3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5157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6.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84360" y="33764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一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211640" y="31939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二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859280" y="398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÷3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.3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859280" y="45435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3.3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.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079640" y="56991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今年的台数是去年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.7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1414440" cy="72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1908000" y="21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何计算一个数比另一个数多（或者少）百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042920" y="364500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一个数－另一个数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另一个数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的百分之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332000" y="4292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42920" y="494172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另一个数－一个数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的百分之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时小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332000" y="227664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数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乙数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甲数比乙数多百分之几？乙数比甲数少百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258920" y="37162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多百分之几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771640" y="42735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843280" y="48308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÷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843280" y="542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时小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26920" y="357336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少百分之几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916360" y="36259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987640" y="41832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÷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987640" y="4778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187280" y="227664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数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乙数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甲数比乙数多百分之几？乙数比甲数少百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979640" y="53737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甲数比乙数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乙数比甲数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755640" y="1989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东北虎的体重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猴子的体重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企鹅的体重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猴子的体重比东北虎少百分之几，企鹅的体重比猴子多百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826920" y="3429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思路分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403280" y="3933720"/>
            <a:ext cx="66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关键句“猴子的体重比东北虎少”可以列出关系式：（东北虎体重－猴子体重）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东北虎体重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00%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求出猴子的体重比东北虎少的百分数，通过关键句“企鹅的体重比猴子多”可以列出关系式：（企鹅－ 猴子）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猴子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00%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求出企鹅的体重比猴子多的百分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755640" y="1989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东北虎的体重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猴子的体重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企鹅的体重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猴子的体重比东北虎少百分之几，企鹅的体重比猴子多百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116000" y="350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971640" y="40575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猴子比东北虎：    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6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708360" y="4653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588÷6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708360" y="5300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3.3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755640" y="1989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东北虎的体重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猴子的体重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企鹅的体重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猴子的体重比东北虎少百分之几，企鹅的体重比猴子多百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116000" y="3284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916360" y="3500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企鹅比猴子：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5076720" y="4095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8÷4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148360" y="4581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6.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68360" y="514044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猴子的体重比东北虎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3.3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企鹅的体重比猴子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6.7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487880" y="2638440"/>
            <a:ext cx="57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克水中加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克盐，盐占盐水的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。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√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831600" y="198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判断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2"/>
          <p:cNvSpPr/>
          <p:nvPr/>
        </p:nvSpPr>
        <p:spPr>
          <a:xfrm rot="18297600">
            <a:off x="3870000" y="2754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84360" y="364500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分析：该题是此内容当中一道容易出错的典型题，错误的原因是比较量和标准量对应得不对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盐和水的百分率，可这里问的却是盐和盐水的百分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4440" y="2638440"/>
            <a:ext cx="57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克水中加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克盐，盐占盐水的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。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  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×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831600" y="198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判断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6"/>
          <p:cNvSpPr/>
          <p:nvPr/>
        </p:nvSpPr>
        <p:spPr>
          <a:xfrm rot="18297600">
            <a:off x="3870000" y="30762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368960" y="217656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971640" y="227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青山村去年计划造林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，实际造林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，实际比计划造林多百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116000" y="342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1547640" y="42735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一：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987640" y="483084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÷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987640" y="54259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" descr=""/>
          <p:cNvPicPr/>
          <p:nvPr/>
        </p:nvPicPr>
        <p:blipFill>
          <a:blip r:embed="rId1"/>
          <a:stretch/>
        </p:blipFill>
        <p:spPr>
          <a:xfrm>
            <a:off x="1036800" y="2341440"/>
            <a:ext cx="72118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368960" y="217656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971640" y="227664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青山村去年计划造林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，实际造林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，实际比计划造林多百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116000" y="342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547640" y="42735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二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÷16=12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2987640" y="48308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% =2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987640" y="54259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实际比计划造林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187280" y="184464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巧克力糖每千克售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奶糖每千克售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奶糖的售价比巧克力糖低百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332000" y="3284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843280" y="384192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916360" y="43988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5÷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916360" y="499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042920" y="5624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奶糖的售价比巧克力糖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图片 6" descr="总结.jpg"/>
          <p:cNvPicPr/>
          <p:nvPr/>
        </p:nvPicPr>
        <p:blipFill>
          <a:blip r:embed="rId1"/>
          <a:stretch/>
        </p:blipFill>
        <p:spPr>
          <a:xfrm>
            <a:off x="900000" y="2421000"/>
            <a:ext cx="727236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4" name="Text Box 7"/>
          <p:cNvSpPr/>
          <p:nvPr/>
        </p:nvSpPr>
        <p:spPr>
          <a:xfrm>
            <a:off x="2843280" y="263700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堂课我们学习了什么？你学会了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700360" y="5084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我们学习了已知两个数，求多或少百分之几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227640" y="2781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可以先用多的减去少的求差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084720" y="422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再用差数除以单位一的量，然后写成百分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3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5"/>
          <p:cNvSpPr/>
          <p:nvPr/>
        </p:nvSpPr>
        <p:spPr>
          <a:xfrm>
            <a:off x="1052640" y="4149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052640" y="1712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124000" y="19018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学生经历求一个数比另一个数增加（或减少）百分之几的过程，掌握求一个数比另一个数（或减少）百分之几的方法，能综合运用所学知识解决相关的实际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2124000" y="4292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解决问题中感受百分数与现实生活的联系，体会百分数的生活价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39640" y="2185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指出下列各题中哪些数量是单位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762120" y="3973680"/>
            <a:ext cx="9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组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组合 27"/>
          <p:cNvGrpSpPr/>
          <p:nvPr/>
        </p:nvGrpSpPr>
        <p:grpSpPr>
          <a:xfrm>
            <a:off x="684360" y="2844720"/>
            <a:ext cx="4246560" cy="800280"/>
            <a:chOff x="684360" y="2844720"/>
            <a:chExt cx="4246560" cy="800280"/>
          </a:xfrm>
        </p:grpSpPr>
        <p:sp>
          <p:nvSpPr>
            <p:cNvPr id="64" name="Line 61"/>
            <p:cNvSpPr/>
            <p:nvPr/>
          </p:nvSpPr>
          <p:spPr>
            <a:xfrm>
              <a:off x="2772720" y="3645000"/>
              <a:ext cx="304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 Box 50"/>
            <p:cNvSpPr/>
            <p:nvPr/>
          </p:nvSpPr>
          <p:spPr>
            <a:xfrm>
              <a:off x="684360" y="2992680"/>
              <a:ext cx="424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组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： ⑴  甲的       是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2772720" y="2844720"/>
              <a:ext cx="432000" cy="72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22720" y="2282760"/>
            <a:ext cx="114480" cy="17784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28"/>
          <p:cNvGrpSpPr/>
          <p:nvPr/>
        </p:nvGrpSpPr>
        <p:grpSpPr>
          <a:xfrm>
            <a:off x="5117400" y="2565360"/>
            <a:ext cx="2584080" cy="1008000"/>
            <a:chOff x="5117400" y="2565360"/>
            <a:chExt cx="2584080" cy="1008000"/>
          </a:xfrm>
        </p:grpSpPr>
        <p:sp>
          <p:nvSpPr>
            <p:cNvPr id="69" name="Line 62"/>
            <p:cNvSpPr/>
            <p:nvPr/>
          </p:nvSpPr>
          <p:spPr>
            <a:xfrm>
              <a:off x="5923800" y="3573360"/>
              <a:ext cx="3045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66"/>
            <p:cNvSpPr/>
            <p:nvPr/>
          </p:nvSpPr>
          <p:spPr>
            <a:xfrm>
              <a:off x="5117400" y="2978280"/>
              <a:ext cx="25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⑵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乙的      相当于甲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5868360" y="2565360"/>
              <a:ext cx="432360" cy="89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组合 29"/>
          <p:cNvGrpSpPr/>
          <p:nvPr/>
        </p:nvGrpSpPr>
        <p:grpSpPr>
          <a:xfrm>
            <a:off x="1710360" y="3789360"/>
            <a:ext cx="4708440" cy="863640"/>
            <a:chOff x="1710360" y="3789360"/>
            <a:chExt cx="4708440" cy="863640"/>
          </a:xfrm>
        </p:grpSpPr>
        <p:sp>
          <p:nvSpPr>
            <p:cNvPr id="73" name="Line 37"/>
            <p:cNvSpPr/>
            <p:nvPr/>
          </p:nvSpPr>
          <p:spPr>
            <a:xfrm>
              <a:off x="5580720" y="4653000"/>
              <a:ext cx="838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77"/>
            <p:cNvGrpSpPr/>
            <p:nvPr/>
          </p:nvGrpSpPr>
          <p:grpSpPr>
            <a:xfrm>
              <a:off x="1710360" y="3963600"/>
              <a:ext cx="3504240" cy="547200"/>
              <a:chOff x="1710360" y="3963600"/>
              <a:chExt cx="3504240" cy="547200"/>
            </a:xfrm>
          </p:grpSpPr>
          <p:sp>
            <p:nvSpPr>
              <p:cNvPr id="75" name="Rectangle 6"/>
              <p:cNvSpPr/>
              <p:nvPr/>
            </p:nvSpPr>
            <p:spPr>
              <a:xfrm>
                <a:off x="3903120" y="3963600"/>
                <a:ext cx="131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梨树的棵数是桃树的        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Rectangle 39"/>
              <p:cNvSpPr/>
              <p:nvPr/>
            </p:nvSpPr>
            <p:spPr>
              <a:xfrm>
                <a:off x="1710360" y="399024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⑴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5724720" y="3789360"/>
              <a:ext cx="576000" cy="79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30"/>
          <p:cNvGrpSpPr/>
          <p:nvPr/>
        </p:nvGrpSpPr>
        <p:grpSpPr>
          <a:xfrm>
            <a:off x="1687680" y="4633920"/>
            <a:ext cx="4802040" cy="811080"/>
            <a:chOff x="1687680" y="4633920"/>
            <a:chExt cx="4802040" cy="811080"/>
          </a:xfrm>
        </p:grpSpPr>
        <p:sp>
          <p:nvSpPr>
            <p:cNvPr id="79" name="Line 47"/>
            <p:cNvSpPr/>
            <p:nvPr/>
          </p:nvSpPr>
          <p:spPr>
            <a:xfrm>
              <a:off x="5651640" y="5425560"/>
              <a:ext cx="838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" name="组合 76"/>
            <p:cNvGrpSpPr/>
            <p:nvPr/>
          </p:nvGrpSpPr>
          <p:grpSpPr>
            <a:xfrm>
              <a:off x="1687680" y="4904640"/>
              <a:ext cx="3614400" cy="529920"/>
              <a:chOff x="1687680" y="4904640"/>
              <a:chExt cx="3614400" cy="5299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3990600" y="4904640"/>
                <a:ext cx="131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桃树的棵数比梨树多        。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Rectangle 40"/>
              <p:cNvSpPr/>
              <p:nvPr/>
            </p:nvSpPr>
            <p:spPr>
              <a:xfrm>
                <a:off x="1687680" y="49140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5867640" y="4633920"/>
              <a:ext cx="504000" cy="81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17"/>
          <p:cNvGrpSpPr/>
          <p:nvPr/>
        </p:nvGrpSpPr>
        <p:grpSpPr>
          <a:xfrm>
            <a:off x="539640" y="2060640"/>
            <a:ext cx="7315200" cy="1497960"/>
            <a:chOff x="539640" y="2060640"/>
            <a:chExt cx="7315200" cy="1497960"/>
          </a:xfrm>
        </p:grpSpPr>
        <p:sp>
          <p:nvSpPr>
            <p:cNvPr id="87" name="Text Box 7"/>
            <p:cNvSpPr/>
            <p:nvPr/>
          </p:nvSpPr>
          <p:spPr>
            <a:xfrm>
              <a:off x="539640" y="2185200"/>
              <a:ext cx="73152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将        和         化乘百分数之后将刚才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组改成用百分数表示的短句，并理解其意义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043640" y="2060640"/>
              <a:ext cx="720000" cy="93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2123640" y="2070720"/>
              <a:ext cx="648000" cy="92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258920" y="3573360"/>
            <a:ext cx="720720" cy="936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197964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356000" y="3573360"/>
            <a:ext cx="647640" cy="925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485928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33"/>
          <p:cNvGrpSpPr/>
          <p:nvPr/>
        </p:nvGrpSpPr>
        <p:grpSpPr>
          <a:xfrm>
            <a:off x="1248480" y="4611600"/>
            <a:ext cx="4736520" cy="547200"/>
            <a:chOff x="1248480" y="4611600"/>
            <a:chExt cx="4736520" cy="547200"/>
          </a:xfrm>
        </p:grpSpPr>
        <p:sp>
          <p:nvSpPr>
            <p:cNvPr id="95" name="Rectangle 6"/>
            <p:cNvSpPr/>
            <p:nvPr/>
          </p:nvSpPr>
          <p:spPr>
            <a:xfrm>
              <a:off x="2535480" y="4611600"/>
              <a:ext cx="34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梨树的棵数是桃树的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%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1248480" y="4638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⑴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组合 35"/>
          <p:cNvGrpSpPr/>
          <p:nvPr/>
        </p:nvGrpSpPr>
        <p:grpSpPr>
          <a:xfrm>
            <a:off x="1226160" y="5553000"/>
            <a:ext cx="4850640" cy="529920"/>
            <a:chOff x="1226160" y="5553000"/>
            <a:chExt cx="4850640" cy="529920"/>
          </a:xfrm>
        </p:grpSpPr>
        <p:sp>
          <p:nvSpPr>
            <p:cNvPr id="98" name="Rectangle 5"/>
            <p:cNvSpPr/>
            <p:nvPr/>
          </p:nvSpPr>
          <p:spPr>
            <a:xfrm>
              <a:off x="2627280" y="5553000"/>
              <a:ext cx="34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桃树的棵数比梨树多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%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40"/>
            <p:cNvSpPr/>
            <p:nvPr/>
          </p:nvSpPr>
          <p:spPr>
            <a:xfrm>
              <a:off x="1226160" y="5562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⑵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58104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403280" y="220500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年比去年增加了百分之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7089840" cy="237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1871640" cy="158760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10"/>
          <p:cNvGrpSpPr/>
          <p:nvPr/>
        </p:nvGrpSpPr>
        <p:grpSpPr>
          <a:xfrm>
            <a:off x="3276720" y="2781360"/>
            <a:ext cx="3095640" cy="934920"/>
            <a:chOff x="3276720" y="2781360"/>
            <a:chExt cx="3095640" cy="934920"/>
          </a:xfrm>
        </p:grpSpPr>
        <p:sp>
          <p:nvSpPr>
            <p:cNvPr id="109" name="圆角矩形标注 7"/>
            <p:cNvSpPr/>
            <p:nvPr/>
          </p:nvSpPr>
          <p:spPr>
            <a:xfrm>
              <a:off x="3420720" y="2781360"/>
              <a:ext cx="2951640" cy="934920"/>
            </a:xfrm>
            <a:prstGeom prst="wedgeRoundRectCallout">
              <a:avLst>
                <a:gd name="adj1" fmla="val -61282"/>
                <a:gd name="adj2" fmla="val -10537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3276720" y="2853000"/>
              <a:ext cx="30956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增加了百分之几是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1998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什么意思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 Box 7"/>
          <p:cNvSpPr/>
          <p:nvPr/>
        </p:nvSpPr>
        <p:spPr>
          <a:xfrm>
            <a:off x="971640" y="4653000"/>
            <a:ext cx="669600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年比去年增加的台数是去年的百分之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484360" y="4149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3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556000" y="470520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0÷3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530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13"/>
          <p:cNvGrpSpPr/>
          <p:nvPr/>
        </p:nvGrpSpPr>
        <p:grpSpPr>
          <a:xfrm>
            <a:off x="684360" y="2205000"/>
            <a:ext cx="5256000" cy="1367640"/>
            <a:chOff x="684360" y="2205000"/>
            <a:chExt cx="5256000" cy="1367640"/>
          </a:xfrm>
        </p:grpSpPr>
        <p:pic>
          <p:nvPicPr>
            <p:cNvPr id="118" name="Picture 3" descr=""/>
            <p:cNvPicPr/>
            <p:nvPr/>
          </p:nvPicPr>
          <p:blipFill>
            <a:blip r:embed="rId1"/>
            <a:stretch/>
          </p:blipFill>
          <p:spPr>
            <a:xfrm>
              <a:off x="684360" y="2348640"/>
              <a:ext cx="1066680" cy="90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圆角矩形标注 10"/>
            <p:cNvSpPr/>
            <p:nvPr/>
          </p:nvSpPr>
          <p:spPr>
            <a:xfrm>
              <a:off x="2772360" y="2205000"/>
              <a:ext cx="3168000" cy="1367640"/>
            </a:xfrm>
            <a:prstGeom prst="wedgeRoundRectCallout">
              <a:avLst>
                <a:gd name="adj1" fmla="val -68365"/>
                <a:gd name="adj2" fmla="val -4643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2772360" y="2205000"/>
              <a:ext cx="309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算增加了多少台，再算比去年增加了百分之几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Text Box 7"/>
          <p:cNvSpPr/>
          <p:nvPr/>
        </p:nvSpPr>
        <p:spPr>
          <a:xfrm>
            <a:off x="684360" y="32130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一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1297080" cy="12556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042920" y="342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二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484360" y="4149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0÷300=1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484360" y="47052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%=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组合 10"/>
          <p:cNvGrpSpPr/>
          <p:nvPr/>
        </p:nvGrpSpPr>
        <p:grpSpPr>
          <a:xfrm>
            <a:off x="2771640" y="2133720"/>
            <a:ext cx="3168720" cy="1438560"/>
            <a:chOff x="2771640" y="2133720"/>
            <a:chExt cx="3168720" cy="1438560"/>
          </a:xfrm>
        </p:grpSpPr>
        <p:sp>
          <p:nvSpPr>
            <p:cNvPr id="129" name="圆角矩形标注 8"/>
            <p:cNvSpPr/>
            <p:nvPr/>
          </p:nvSpPr>
          <p:spPr>
            <a:xfrm>
              <a:off x="2771640" y="2205360"/>
              <a:ext cx="3168720" cy="1366920"/>
            </a:xfrm>
            <a:prstGeom prst="wedgeRoundRectCallout">
              <a:avLst>
                <a:gd name="adj1" fmla="val -68365"/>
                <a:gd name="adj2" fmla="val -4643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2843640" y="2133720"/>
              <a:ext cx="30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还可以先算今年的台数是去年的百分之几，再算今年比去年增加的百分之几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Text Box 7"/>
          <p:cNvSpPr/>
          <p:nvPr/>
        </p:nvSpPr>
        <p:spPr>
          <a:xfrm>
            <a:off x="2378160" y="53053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今年的台数是去年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7-12-23T12:26:57Z</dcterms:modified>
  <cp:revision>283</cp:revision>
  <dc:subject/>
  <dc:title>幻灯片 1</dc:title>
</cp:coreProperties>
</file>