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7510-BA40-484D-823D-320CEAA4BBA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6B8F-3070-48F0-8F11-20D3CFDF284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33DD-5045-495C-8DF7-89540AF0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A8EA-BB51-4233-95C0-E0004C44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8DA4-8975-43EB-9A60-BD8534CA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7121-4336-4989-A0EB-BEE2FFF9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9433-1C16-45BF-9A87-26C084F3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13A5-EF47-48CB-9F50-D1E6C0CE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DF14-0DF3-4D41-98FE-1DF78D41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6C15-FA9D-4DC0-A4D1-6CF55328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A243-1575-4D98-90A7-CF9F9CF8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9519-0164-4212-B9C2-C9562809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B79D-448D-4A42-8D34-381662F4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DA7A-EEC9-4713-8514-5FB1CFCE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9E93-93FD-4A1A-8AE2-E891E0AA9D8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6"/>
          <p:cNvSpPr/>
          <p:nvPr/>
        </p:nvSpPr>
        <p:spPr>
          <a:xfrm>
            <a:off x="2484360" y="243828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.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问题解决（例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线连接符 21"/>
          <p:cNvSpPr/>
          <p:nvPr/>
        </p:nvSpPr>
        <p:spPr>
          <a:xfrm>
            <a:off x="3348000" y="3357720"/>
            <a:ext cx="475308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826920" y="1197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楷体"/>
              </a:rPr>
              <a:t>单元   百分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042920" y="3429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方法二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484360" y="364500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 ×1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484360" y="4202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3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组合 15"/>
          <p:cNvGrpSpPr/>
          <p:nvPr/>
        </p:nvGrpSpPr>
        <p:grpSpPr>
          <a:xfrm>
            <a:off x="2771640" y="1773360"/>
            <a:ext cx="3168720" cy="1438560"/>
            <a:chOff x="2771640" y="1773360"/>
            <a:chExt cx="3168720" cy="1438560"/>
          </a:xfrm>
        </p:grpSpPr>
        <p:sp>
          <p:nvSpPr>
            <p:cNvPr id="117" name="圆角矩形标注 8"/>
            <p:cNvSpPr/>
            <p:nvPr/>
          </p:nvSpPr>
          <p:spPr>
            <a:xfrm>
              <a:off x="2771640" y="1845000"/>
              <a:ext cx="3168720" cy="1366920"/>
            </a:xfrm>
            <a:prstGeom prst="wedgeRoundRectCallout">
              <a:avLst>
                <a:gd name="adj1" fmla="val 66564"/>
                <a:gd name="adj2" fmla="val 36152"/>
                <a:gd name="adj3" fmla="val 16667"/>
              </a:avLst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2843640" y="1773360"/>
              <a:ext cx="309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先想今年底毕业生人数比去年增加了多少人，再用去年的加上增加人数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" name="Text Box 7"/>
          <p:cNvSpPr/>
          <p:nvPr/>
        </p:nvSpPr>
        <p:spPr>
          <a:xfrm>
            <a:off x="1584360" y="5327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今年的毕业生有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3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6659640" y="2446200"/>
            <a:ext cx="1297080" cy="14925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2484360" y="470520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3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1763640" y="229536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明年的毕业生人数比今年减少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学校明年有毕业生多少人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755640" y="416880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3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826920" y="472428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30 ×0.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826920" y="515772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07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84360" y="337644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方法一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4211640" y="33577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方法二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859280" y="3986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30 ×10%=2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4859280" y="454356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3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3=207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468440" y="56800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学校明年有毕业生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7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10731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58920" y="21337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何求比一个数多（或者少）百分之几的数是多少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042920" y="364500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数＋一个数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多的百分之几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求的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332000" y="42926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或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042920" y="494172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数－一个数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少的百分之几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求的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时小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32000" y="227664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乙数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甲数比乙数多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甲数是多少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258920" y="342900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计算过程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276720" y="350028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 ×2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2987640" y="405756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8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2987640" y="4653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2376360" y="5229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甲数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时小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332000" y="227664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甲数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乙数比甲数少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乙数是多少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258920" y="342900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计算过程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3276720" y="35002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 ×2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987640" y="40575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987640" y="4653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259000" y="5300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乙数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755640" y="198900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件衣服原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如果先提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后来又降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那么这件衣服的价格还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吗？为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826920" y="3429000"/>
            <a:ext cx="22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思路分析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403280" y="3933720"/>
            <a:ext cx="698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提价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指提高原价的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也就是相当于原价的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%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可以列出关系式：原价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求出第一次 变价的价格，“又降价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%”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是指降第一次提价后的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%,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列出关系式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价价格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(1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%),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出第二次变价的价格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与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5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对比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发现比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5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少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755640" y="198900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件衣服原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如果先提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后来又降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那么这件衣服的价格还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吗？为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826920" y="3429000"/>
            <a:ext cx="22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答过程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3708360" y="40575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5×2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3419640" y="46148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2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419640" y="5210280"/>
            <a:ext cx="23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5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1835280" y="40053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变价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755640" y="198900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件衣服原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如果先提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后来又降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那么这件衣服的价格还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吗？为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826920" y="3429000"/>
            <a:ext cx="22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答过程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708360" y="40575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×2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419640" y="46148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5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419640" y="5210280"/>
            <a:ext cx="23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2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835280" y="40053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变价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492360" y="5732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＜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755640" y="198900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件衣服原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如果先提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后来又降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那么这件衣服的价格还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吗？为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1547640" y="3500280"/>
            <a:ext cx="59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这件衣服最后的价格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而不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原因是衣服两次价格调动的单位“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量不相同，第一次变价的单位“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第二次变价的单位“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题分析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539640" y="2281680"/>
            <a:ext cx="80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种家电，提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，又降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现在的价格与原来相比（    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与原价相同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比原价低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比原价高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不能确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484360" y="24937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1"/>
          <p:cNvSpPr/>
          <p:nvPr/>
        </p:nvSpPr>
        <p:spPr>
          <a:xfrm rot="18297600">
            <a:off x="3073320" y="20350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extBox 1" descr=""/>
          <p:cNvPicPr/>
          <p:nvPr/>
        </p:nvPicPr>
        <p:blipFill>
          <a:blip r:embed="rId1"/>
          <a:stretch/>
        </p:blipFill>
        <p:spPr>
          <a:xfrm>
            <a:off x="1036800" y="2341440"/>
            <a:ext cx="72118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题分析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539640" y="2914200"/>
            <a:ext cx="80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析原因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此题关键是弄清楚提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降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到底是提谁的价降谁的价，从题目当中仔细分析我们不难发现，提的是原价的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降的却是提价之后的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单位一的量已经发生了变化，所以现在的价格不可能与原价相同，选择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错误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题分析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539640" y="2281680"/>
            <a:ext cx="80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种家电，提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，又降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现在的价格与原来相比（    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与原价相同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比原价低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比原价高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不能确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2484360" y="24937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5"/>
          <p:cNvSpPr/>
          <p:nvPr/>
        </p:nvSpPr>
        <p:spPr>
          <a:xfrm rot="18297600">
            <a:off x="3073320" y="20350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368960" y="2176560"/>
            <a:ext cx="152280" cy="3934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971640" y="206064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列火车原来每时行驶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km,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现在速度提高了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这列火车现在每时行驶多少千米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116000" y="342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答过程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547640" y="4076640"/>
            <a:ext cx="51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法一：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 ×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987640" y="46339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80 × 1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2987640" y="5229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1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千米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368960" y="2176560"/>
            <a:ext cx="152280" cy="3934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"/>
          <p:cNvSpPr/>
          <p:nvPr/>
        </p:nvSpPr>
        <p:spPr>
          <a:xfrm>
            <a:off x="1116000" y="342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答过程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1547640" y="407664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法二：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 ×40%=3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千米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2987640" y="46148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2=11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千米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595520" y="521028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这列火车现在每时行驶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971640" y="206064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列火车原来每时行驶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km,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现在速度提高了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这列火车现在每时行驶多少千米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18728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本书原价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现降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这本书现价是多少元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1332000" y="3284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答过程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2843280" y="384192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 ×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2916360" y="439884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8 × 0.8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2916360" y="499428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5.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1359000" y="56023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这本书现价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.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图片 6" descr="总结.jpg"/>
          <p:cNvPicPr/>
          <p:nvPr/>
        </p:nvPicPr>
        <p:blipFill>
          <a:blip r:embed="rId1"/>
          <a:stretch/>
        </p:blipFill>
        <p:spPr>
          <a:xfrm>
            <a:off x="900000" y="2421000"/>
            <a:ext cx="7272360" cy="38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2" name="Text Box 7"/>
          <p:cNvSpPr/>
          <p:nvPr/>
        </p:nvSpPr>
        <p:spPr>
          <a:xfrm>
            <a:off x="2843280" y="2637000"/>
            <a:ext cx="187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这堂课我们学习了什么？你学会了什么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5867280" y="2565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华文新魏"/>
                <a:ea typeface="华文新魏"/>
              </a:rPr>
              <a:t>我们学习了求比一个数多或少百分之几的数是多少的问题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2843280" y="508464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华文新魏"/>
                <a:ea typeface="华文新魏"/>
              </a:rPr>
              <a:t>可以先算出相当于单位“</a:t>
            </a:r>
            <a:r>
              <a:rPr b="1" lang="en-US" sz="1800" spc="-1" strike="noStrike">
                <a:solidFill>
                  <a:srgbClr val="00b050"/>
                </a:solidFill>
                <a:latin typeface="华文新魏"/>
                <a:ea typeface="华文新魏"/>
              </a:rPr>
              <a:t>1</a:t>
            </a:r>
            <a:r>
              <a:rPr b="1" lang="zh-CN" sz="1800" spc="-1" strike="noStrike">
                <a:solidFill>
                  <a:srgbClr val="00b050"/>
                </a:solidFill>
                <a:latin typeface="华文新魏"/>
                <a:ea typeface="华文新魏"/>
              </a:rPr>
              <a:t>”</a:t>
            </a:r>
            <a:r>
              <a:rPr b="1" lang="zh-CN" sz="1800" spc="-1" strike="noStrike">
                <a:solidFill>
                  <a:srgbClr val="00b050"/>
                </a:solidFill>
                <a:latin typeface="华文新魏"/>
                <a:ea typeface="华文新魏"/>
              </a:rPr>
              <a:t>的百分数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6084720" y="4221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华文新魏"/>
                <a:ea typeface="华文新魏"/>
              </a:rPr>
              <a:t>再用单位“</a:t>
            </a:r>
            <a:r>
              <a:rPr b="1" lang="en-US" sz="1800" spc="-1" strike="noStrike">
                <a:solidFill>
                  <a:srgbClr val="00b050"/>
                </a:solidFill>
                <a:latin typeface="华文新魏"/>
                <a:ea typeface="华文新魏"/>
              </a:rPr>
              <a:t>1</a:t>
            </a:r>
            <a:r>
              <a:rPr b="1" lang="zh-CN" sz="1800" spc="-1" strike="noStrike">
                <a:solidFill>
                  <a:srgbClr val="00b050"/>
                </a:solidFill>
                <a:latin typeface="华文新魏"/>
                <a:ea typeface="华文新魏"/>
              </a:rPr>
              <a:t>”</a:t>
            </a:r>
            <a:r>
              <a:rPr b="1" lang="zh-CN" sz="1800" spc="-1" strike="noStrike">
                <a:solidFill>
                  <a:srgbClr val="00b050"/>
                </a:solidFill>
                <a:latin typeface="华文新魏"/>
                <a:ea typeface="华文新魏"/>
              </a:rPr>
              <a:t>的量乘以百分数，得到所求的数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reeform 93"/>
          <p:cNvSpPr/>
          <p:nvPr/>
        </p:nvSpPr>
        <p:spPr>
          <a:xfrm>
            <a:off x="3430440" y="2671920"/>
            <a:ext cx="2592360" cy="412560"/>
          </a:xfrm>
          <a:custGeom>
            <a:avLst/>
            <a:gdLst>
              <a:gd name="textAreaLeft" fmla="*/ 0 w 2592360"/>
              <a:gd name="textAreaRight" fmla="*/ 2592720 w 259236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94"/>
          <p:cNvSpPr/>
          <p:nvPr/>
        </p:nvSpPr>
        <p:spPr>
          <a:xfrm>
            <a:off x="3430440" y="2671920"/>
            <a:ext cx="2600640" cy="412560"/>
          </a:xfrm>
          <a:custGeom>
            <a:avLst/>
            <a:gdLst>
              <a:gd name="textAreaLeft" fmla="*/ 0 w 2600640"/>
              <a:gd name="textAreaRight" fmla="*/ 2601000 w 260064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95"/>
          <p:cNvSpPr/>
          <p:nvPr/>
        </p:nvSpPr>
        <p:spPr>
          <a:xfrm>
            <a:off x="2835360" y="3765600"/>
            <a:ext cx="2359080" cy="406440"/>
          </a:xfrm>
          <a:custGeom>
            <a:avLst/>
            <a:gdLst>
              <a:gd name="textAreaLeft" fmla="*/ 0 w 2359080"/>
              <a:gd name="textAreaRight" fmla="*/ 2359080 w 2359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96"/>
          <p:cNvSpPr/>
          <p:nvPr/>
        </p:nvSpPr>
        <p:spPr>
          <a:xfrm>
            <a:off x="2825640" y="3765600"/>
            <a:ext cx="2359080" cy="406440"/>
          </a:xfrm>
          <a:custGeom>
            <a:avLst/>
            <a:gdLst>
              <a:gd name="textAreaLeft" fmla="*/ 0 w 2359080"/>
              <a:gd name="textAreaRight" fmla="*/ 2359080 w 2359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reeform 97"/>
          <p:cNvSpPr/>
          <p:nvPr/>
        </p:nvSpPr>
        <p:spPr>
          <a:xfrm>
            <a:off x="3443400" y="4584600"/>
            <a:ext cx="1481040" cy="57312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Freeform 98"/>
          <p:cNvSpPr/>
          <p:nvPr/>
        </p:nvSpPr>
        <p:spPr>
          <a:xfrm>
            <a:off x="3430440" y="4584600"/>
            <a:ext cx="1481400" cy="573120"/>
          </a:xfrm>
          <a:custGeom>
            <a:avLst/>
            <a:gdLst>
              <a:gd name="textAreaLeft" fmla="*/ 0 w 1481400"/>
              <a:gd name="textAreaRight" fmla="*/ 1481760 w 148140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Freeform 100"/>
          <p:cNvSpPr/>
          <p:nvPr/>
        </p:nvSpPr>
        <p:spPr>
          <a:xfrm>
            <a:off x="2825640" y="2671920"/>
            <a:ext cx="3205440" cy="1500120"/>
          </a:xfrm>
          <a:custGeom>
            <a:avLst/>
            <a:gdLst>
              <a:gd name="textAreaLeft" fmla="*/ 0 w 3205440"/>
              <a:gd name="textAreaRight" fmla="*/ 3205800 w 320544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2019" h="1050">
                <a:moveTo>
                  <a:pt x="2014" y="0"/>
                </a:moveTo>
                <a:lnTo>
                  <a:pt x="0" y="594"/>
                </a:lnTo>
                <a:lnTo>
                  <a:pt x="5" y="1050"/>
                </a:lnTo>
                <a:lnTo>
                  <a:pt x="2019" y="457"/>
                </a:lnTo>
                <a:lnTo>
                  <a:pt x="2014" y="0"/>
                </a:lnTo>
              </a:path>
            </a:pathLst>
          </a:custGeom>
          <a:solidFill>
            <a:srgbClr val="579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102"/>
          <p:cNvSpPr/>
          <p:nvPr/>
        </p:nvSpPr>
        <p:spPr>
          <a:xfrm>
            <a:off x="2825640" y="2671920"/>
            <a:ext cx="3197160" cy="942840"/>
          </a:xfrm>
          <a:custGeom>
            <a:avLst/>
            <a:gdLst>
              <a:gd name="textAreaLeft" fmla="*/ 0 w 3197160"/>
              <a:gd name="textAreaRight" fmla="*/ 3197520 w 319716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014" h="660">
                <a:moveTo>
                  <a:pt x="2014" y="0"/>
                </a:moveTo>
                <a:lnTo>
                  <a:pt x="2014" y="0"/>
                </a:lnTo>
                <a:lnTo>
                  <a:pt x="1162" y="254"/>
                </a:lnTo>
                <a:lnTo>
                  <a:pt x="0" y="594"/>
                </a:lnTo>
                <a:lnTo>
                  <a:pt x="0" y="660"/>
                </a:lnTo>
                <a:lnTo>
                  <a:pt x="2014" y="76"/>
                </a:lnTo>
                <a:lnTo>
                  <a:pt x="20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reeform 104"/>
          <p:cNvSpPr/>
          <p:nvPr/>
        </p:nvSpPr>
        <p:spPr>
          <a:xfrm>
            <a:off x="2825640" y="3230640"/>
            <a:ext cx="3205440" cy="941400"/>
          </a:xfrm>
          <a:custGeom>
            <a:avLst/>
            <a:gdLst>
              <a:gd name="textAreaLeft" fmla="*/ 0 w 3205440"/>
              <a:gd name="textAreaRight" fmla="*/ 3205800 w 320544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w="2019" h="659">
                <a:moveTo>
                  <a:pt x="2019" y="0"/>
                </a:moveTo>
                <a:lnTo>
                  <a:pt x="0" y="598"/>
                </a:lnTo>
                <a:lnTo>
                  <a:pt x="5" y="659"/>
                </a:lnTo>
                <a:lnTo>
                  <a:pt x="2019" y="66"/>
                </a:lnTo>
                <a:lnTo>
                  <a:pt x="201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Freeform 105"/>
          <p:cNvSpPr/>
          <p:nvPr/>
        </p:nvSpPr>
        <p:spPr>
          <a:xfrm>
            <a:off x="2762280" y="3359160"/>
            <a:ext cx="31680" cy="160200"/>
          </a:xfrm>
          <a:custGeom>
            <a:avLst/>
            <a:gdLst>
              <a:gd name="textAreaLeft" fmla="*/ 0 w 31680"/>
              <a:gd name="textAreaRight" fmla="*/ 32040 w 316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20" h="112">
                <a:moveTo>
                  <a:pt x="0" y="112"/>
                </a:moveTo>
                <a:lnTo>
                  <a:pt x="10" y="0"/>
                </a:lnTo>
                <a:lnTo>
                  <a:pt x="20" y="0"/>
                </a:lnTo>
                <a:lnTo>
                  <a:pt x="1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Freeform 106"/>
          <p:cNvSpPr/>
          <p:nvPr/>
        </p:nvSpPr>
        <p:spPr>
          <a:xfrm>
            <a:off x="2857680" y="3344760"/>
            <a:ext cx="72720" cy="158760"/>
          </a:xfrm>
          <a:custGeom>
            <a:avLst/>
            <a:gdLst>
              <a:gd name="textAreaLeft" fmla="*/ 0 w 72720"/>
              <a:gd name="textAreaRight" fmla="*/ 72720 w 727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46" h="111">
                <a:moveTo>
                  <a:pt x="16" y="101"/>
                </a:moveTo>
                <a:lnTo>
                  <a:pt x="0" y="0"/>
                </a:lnTo>
                <a:lnTo>
                  <a:pt x="11" y="0"/>
                </a:lnTo>
                <a:lnTo>
                  <a:pt x="26" y="96"/>
                </a:lnTo>
                <a:lnTo>
                  <a:pt x="46" y="101"/>
                </a:lnTo>
                <a:lnTo>
                  <a:pt x="46" y="111"/>
                </a:lnTo>
                <a:lnTo>
                  <a:pt x="16" y="101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Freeform 107"/>
          <p:cNvSpPr/>
          <p:nvPr/>
        </p:nvSpPr>
        <p:spPr>
          <a:xfrm>
            <a:off x="2770200" y="3503520"/>
            <a:ext cx="47520" cy="44640"/>
          </a:xfrm>
          <a:custGeom>
            <a:avLst/>
            <a:gdLst>
              <a:gd name="textAreaLeft" fmla="*/ 0 w 47520"/>
              <a:gd name="textAreaRight" fmla="*/ 47880 w 475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0" h="31">
                <a:moveTo>
                  <a:pt x="0" y="11"/>
                </a:moveTo>
                <a:lnTo>
                  <a:pt x="5" y="0"/>
                </a:lnTo>
                <a:lnTo>
                  <a:pt x="30" y="21"/>
                </a:lnTo>
                <a:lnTo>
                  <a:pt x="20" y="31"/>
                </a:lnTo>
                <a:lnTo>
                  <a:pt x="0" y="11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任意多边形 38"/>
          <p:cNvSpPr/>
          <p:nvPr/>
        </p:nvSpPr>
        <p:spPr>
          <a:xfrm>
            <a:off x="2347920" y="2887560"/>
            <a:ext cx="754200" cy="490680"/>
          </a:xfrm>
          <a:custGeom>
            <a:avLst/>
            <a:gdLst>
              <a:gd name="textAreaLeft" fmla="*/ 0 w 754200"/>
              <a:gd name="textAreaRight" fmla="*/ 754560 w 7542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753252" h="544174">
                <a:moveTo>
                  <a:pt x="570635" y="682"/>
                </a:moveTo>
                <a:cubicBezTo>
                  <a:pt x="604065" y="3701"/>
                  <a:pt x="638249" y="16784"/>
                  <a:pt x="670422" y="40937"/>
                </a:cubicBezTo>
                <a:cubicBezTo>
                  <a:pt x="678465" y="32886"/>
                  <a:pt x="694552" y="24835"/>
                  <a:pt x="710639" y="16784"/>
                </a:cubicBezTo>
                <a:cubicBezTo>
                  <a:pt x="710639" y="32886"/>
                  <a:pt x="710639" y="57038"/>
                  <a:pt x="710639" y="81191"/>
                </a:cubicBezTo>
                <a:cubicBezTo>
                  <a:pt x="839332" y="234158"/>
                  <a:pt x="686509" y="733314"/>
                  <a:pt x="115432" y="467635"/>
                </a:cubicBezTo>
                <a:lnTo>
                  <a:pt x="119687" y="466730"/>
                </a:lnTo>
                <a:lnTo>
                  <a:pt x="104790" y="459986"/>
                </a:lnTo>
                <a:cubicBezTo>
                  <a:pt x="86393" y="455057"/>
                  <a:pt x="66869" y="458090"/>
                  <a:pt x="42840" y="452024"/>
                </a:cubicBezTo>
                <a:cubicBezTo>
                  <a:pt x="2792" y="443935"/>
                  <a:pt x="-5218" y="403491"/>
                  <a:pt x="2792" y="379225"/>
                </a:cubicBezTo>
                <a:cubicBezTo>
                  <a:pt x="18811" y="346870"/>
                  <a:pt x="58860" y="338782"/>
                  <a:pt x="82889" y="371137"/>
                </a:cubicBezTo>
                <a:cubicBezTo>
                  <a:pt x="66869" y="338782"/>
                  <a:pt x="90898" y="298338"/>
                  <a:pt x="122937" y="306427"/>
                </a:cubicBezTo>
                <a:cubicBezTo>
                  <a:pt x="146966" y="306427"/>
                  <a:pt x="170995" y="338782"/>
                  <a:pt x="154976" y="379225"/>
                </a:cubicBezTo>
                <a:cubicBezTo>
                  <a:pt x="150971" y="395403"/>
                  <a:pt x="144964" y="409558"/>
                  <a:pt x="138956" y="423713"/>
                </a:cubicBezTo>
                <a:lnTo>
                  <a:pt x="123781" y="465859"/>
                </a:lnTo>
                <a:lnTo>
                  <a:pt x="125486" y="465496"/>
                </a:lnTo>
                <a:cubicBezTo>
                  <a:pt x="170353" y="454929"/>
                  <a:pt x="350700" y="401215"/>
                  <a:pt x="364775" y="218056"/>
                </a:cubicBezTo>
                <a:cubicBezTo>
                  <a:pt x="376840" y="73140"/>
                  <a:pt x="470344" y="-8375"/>
                  <a:pt x="570635" y="682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reeform 110"/>
          <p:cNvSpPr/>
          <p:nvPr/>
        </p:nvSpPr>
        <p:spPr>
          <a:xfrm>
            <a:off x="2865600" y="2960640"/>
            <a:ext cx="88560" cy="66600"/>
          </a:xfrm>
          <a:custGeom>
            <a:avLst/>
            <a:gdLst>
              <a:gd name="textAreaLeft" fmla="*/ 0 w 88560"/>
              <a:gd name="textAreaRight" fmla="*/ 88920 w 885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1" h="9">
                <a:moveTo>
                  <a:pt x="0" y="7"/>
                </a:moveTo>
                <a:cubicBezTo>
                  <a:pt x="0" y="7"/>
                  <a:pt x="7" y="9"/>
                  <a:pt x="9" y="0"/>
                </a:cubicBezTo>
                <a:cubicBezTo>
                  <a:pt x="9" y="0"/>
                  <a:pt x="11" y="4"/>
                  <a:pt x="6" y="7"/>
                </a:cubicBezTo>
                <a:cubicBezTo>
                  <a:pt x="4" y="9"/>
                  <a:pt x="2" y="8"/>
                  <a:pt x="0" y="7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Freeform 111"/>
          <p:cNvSpPr/>
          <p:nvPr/>
        </p:nvSpPr>
        <p:spPr>
          <a:xfrm>
            <a:off x="2882880" y="3013200"/>
            <a:ext cx="7920" cy="56880"/>
          </a:xfrm>
          <a:custGeom>
            <a:avLst/>
            <a:gdLst>
              <a:gd name="textAreaLeft" fmla="*/ 0 w 7920"/>
              <a:gd name="textAreaRight" fmla="*/ 8280 w 79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" h="8">
                <a:moveTo>
                  <a:pt x="0" y="1"/>
                </a:moveTo>
                <a:cubicBezTo>
                  <a:pt x="0" y="1"/>
                  <a:pt x="0" y="8"/>
                  <a:pt x="1" y="1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Freeform 112"/>
          <p:cNvSpPr/>
          <p:nvPr/>
        </p:nvSpPr>
        <p:spPr>
          <a:xfrm>
            <a:off x="2898720" y="3013200"/>
            <a:ext cx="23760" cy="48960"/>
          </a:xfrm>
          <a:custGeom>
            <a:avLst/>
            <a:gdLst>
              <a:gd name="textAreaLeft" fmla="*/ 0 w 23760"/>
              <a:gd name="textAreaRight" fmla="*/ 24120 w 23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" h="7">
                <a:moveTo>
                  <a:pt x="0" y="1"/>
                </a:moveTo>
                <a:cubicBezTo>
                  <a:pt x="0" y="1"/>
                  <a:pt x="3" y="7"/>
                  <a:pt x="1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reeform 113"/>
          <p:cNvSpPr/>
          <p:nvPr/>
        </p:nvSpPr>
        <p:spPr>
          <a:xfrm>
            <a:off x="2922480" y="2997360"/>
            <a:ext cx="31680" cy="44280"/>
          </a:xfrm>
          <a:custGeom>
            <a:avLst/>
            <a:gdLst>
              <a:gd name="textAreaLeft" fmla="*/ 0 w 31680"/>
              <a:gd name="textAreaRight" fmla="*/ 32040 w 316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" h="6">
                <a:moveTo>
                  <a:pt x="0" y="1"/>
                </a:moveTo>
                <a:cubicBezTo>
                  <a:pt x="0" y="1"/>
                  <a:pt x="4" y="6"/>
                  <a:pt x="1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Freeform 114"/>
          <p:cNvSpPr/>
          <p:nvPr/>
        </p:nvSpPr>
        <p:spPr>
          <a:xfrm>
            <a:off x="2938320" y="2975040"/>
            <a:ext cx="39960" cy="38160"/>
          </a:xfrm>
          <a:custGeom>
            <a:avLst/>
            <a:gdLst>
              <a:gd name="textAreaLeft" fmla="*/ 0 w 39960"/>
              <a:gd name="textAreaRight" fmla="*/ 40320 w 399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5" h="5">
                <a:moveTo>
                  <a:pt x="0" y="2"/>
                </a:moveTo>
                <a:cubicBezTo>
                  <a:pt x="0" y="2"/>
                  <a:pt x="5" y="5"/>
                  <a:pt x="0" y="0"/>
                </a:cubicBezTo>
                <a:cubicBezTo>
                  <a:pt x="0" y="1"/>
                  <a:pt x="0" y="1"/>
                  <a:pt x="0" y="1"/>
                </a:cubicBezTo>
                <a:lnTo>
                  <a:pt x="0" y="2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reeform 115"/>
          <p:cNvSpPr/>
          <p:nvPr/>
        </p:nvSpPr>
        <p:spPr>
          <a:xfrm>
            <a:off x="2728800" y="3027240"/>
            <a:ext cx="322200" cy="231840"/>
          </a:xfrm>
          <a:custGeom>
            <a:avLst/>
            <a:gdLst>
              <a:gd name="textAreaLeft" fmla="*/ 0 w 322200"/>
              <a:gd name="textAreaRight" fmla="*/ 322560 w 3222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40" h="32">
                <a:moveTo>
                  <a:pt x="0" y="32"/>
                </a:moveTo>
                <a:cubicBezTo>
                  <a:pt x="0" y="32"/>
                  <a:pt x="12" y="25"/>
                  <a:pt x="13" y="13"/>
                </a:cubicBezTo>
                <a:cubicBezTo>
                  <a:pt x="13" y="0"/>
                  <a:pt x="40" y="25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reeform 116"/>
          <p:cNvSpPr/>
          <p:nvPr/>
        </p:nvSpPr>
        <p:spPr>
          <a:xfrm>
            <a:off x="5853240" y="2570040"/>
            <a:ext cx="72720" cy="146160"/>
          </a:xfrm>
          <a:custGeom>
            <a:avLst/>
            <a:gdLst>
              <a:gd name="textAreaLeft" fmla="*/ 0 w 72720"/>
              <a:gd name="textAreaRight" fmla="*/ 72720 w 727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46" h="102">
                <a:moveTo>
                  <a:pt x="0" y="5"/>
                </a:moveTo>
                <a:lnTo>
                  <a:pt x="11" y="0"/>
                </a:lnTo>
                <a:lnTo>
                  <a:pt x="46" y="96"/>
                </a:lnTo>
                <a:lnTo>
                  <a:pt x="36" y="102"/>
                </a:lnTo>
                <a:lnTo>
                  <a:pt x="0" y="5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reeform 117"/>
          <p:cNvSpPr/>
          <p:nvPr/>
        </p:nvSpPr>
        <p:spPr>
          <a:xfrm>
            <a:off x="5765760" y="2576520"/>
            <a:ext cx="47520" cy="160200"/>
          </a:xfrm>
          <a:custGeom>
            <a:avLst/>
            <a:gdLst>
              <a:gd name="textAreaLeft" fmla="*/ 0 w 47520"/>
              <a:gd name="textAreaRight" fmla="*/ 47880 w 4752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0" h="112">
                <a:moveTo>
                  <a:pt x="0" y="107"/>
                </a:moveTo>
                <a:lnTo>
                  <a:pt x="15" y="91"/>
                </a:lnTo>
                <a:lnTo>
                  <a:pt x="5" y="0"/>
                </a:lnTo>
                <a:lnTo>
                  <a:pt x="15" y="0"/>
                </a:lnTo>
                <a:lnTo>
                  <a:pt x="30" y="97"/>
                </a:lnTo>
                <a:lnTo>
                  <a:pt x="5" y="112"/>
                </a:lnTo>
                <a:lnTo>
                  <a:pt x="0" y="107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reeform 118"/>
          <p:cNvSpPr/>
          <p:nvPr/>
        </p:nvSpPr>
        <p:spPr>
          <a:xfrm>
            <a:off x="5886360" y="2700360"/>
            <a:ext cx="39600" cy="44280"/>
          </a:xfrm>
          <a:custGeom>
            <a:avLst/>
            <a:gdLst>
              <a:gd name="textAreaLeft" fmla="*/ 0 w 39600"/>
              <a:gd name="textAreaRight" fmla="*/ 39960 w 3960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5" h="31">
                <a:moveTo>
                  <a:pt x="0" y="26"/>
                </a:moveTo>
                <a:lnTo>
                  <a:pt x="15" y="0"/>
                </a:lnTo>
                <a:lnTo>
                  <a:pt x="25" y="5"/>
                </a:lnTo>
                <a:lnTo>
                  <a:pt x="10" y="31"/>
                </a:lnTo>
                <a:lnTo>
                  <a:pt x="0" y="26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任意多边形 37"/>
          <p:cNvSpPr/>
          <p:nvPr/>
        </p:nvSpPr>
        <p:spPr>
          <a:xfrm>
            <a:off x="5467320" y="2158920"/>
            <a:ext cx="760320" cy="441360"/>
          </a:xfrm>
          <a:custGeom>
            <a:avLst/>
            <a:gdLst>
              <a:gd name="textAreaLeft" fmla="*/ 0 w 760320"/>
              <a:gd name="textAreaRight" fmla="*/ 760680 w 76032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760238" h="489328">
                <a:moveTo>
                  <a:pt x="639381" y="161933"/>
                </a:moveTo>
                <a:cubicBezTo>
                  <a:pt x="658701" y="165725"/>
                  <a:pt x="676885" y="189991"/>
                  <a:pt x="676885" y="214257"/>
                </a:cubicBezTo>
                <a:cubicBezTo>
                  <a:pt x="684967" y="181902"/>
                  <a:pt x="725376" y="181902"/>
                  <a:pt x="749622" y="206168"/>
                </a:cubicBezTo>
                <a:cubicBezTo>
                  <a:pt x="765785" y="230434"/>
                  <a:pt x="765785" y="262789"/>
                  <a:pt x="733458" y="278967"/>
                </a:cubicBezTo>
                <a:cubicBezTo>
                  <a:pt x="709213" y="295144"/>
                  <a:pt x="684967" y="295144"/>
                  <a:pt x="660722" y="319410"/>
                </a:cubicBezTo>
                <a:cubicBezTo>
                  <a:pt x="644558" y="287055"/>
                  <a:pt x="620313" y="270878"/>
                  <a:pt x="604149" y="238523"/>
                </a:cubicBezTo>
                <a:cubicBezTo>
                  <a:pt x="587985" y="206168"/>
                  <a:pt x="596067" y="173813"/>
                  <a:pt x="620313" y="165725"/>
                </a:cubicBezTo>
                <a:cubicBezTo>
                  <a:pt x="626374" y="161680"/>
                  <a:pt x="632940" y="160669"/>
                  <a:pt x="639381" y="161933"/>
                </a:cubicBezTo>
                <a:close/>
                <a:moveTo>
                  <a:pt x="170779" y="516"/>
                </a:moveTo>
                <a:cubicBezTo>
                  <a:pt x="250352" y="-5933"/>
                  <a:pt x="333467" y="48174"/>
                  <a:pt x="378802" y="158907"/>
                </a:cubicBezTo>
                <a:cubicBezTo>
                  <a:pt x="451339" y="344132"/>
                  <a:pt x="668948" y="319972"/>
                  <a:pt x="668948" y="319972"/>
                </a:cubicBezTo>
                <a:cubicBezTo>
                  <a:pt x="217610" y="722635"/>
                  <a:pt x="-64477" y="303866"/>
                  <a:pt x="16119" y="126694"/>
                </a:cubicBezTo>
                <a:cubicBezTo>
                  <a:pt x="8060" y="110587"/>
                  <a:pt x="8060" y="78374"/>
                  <a:pt x="0" y="70321"/>
                </a:cubicBezTo>
                <a:cubicBezTo>
                  <a:pt x="16119" y="70321"/>
                  <a:pt x="32239" y="78374"/>
                  <a:pt x="40298" y="78374"/>
                </a:cubicBezTo>
                <a:cubicBezTo>
                  <a:pt x="76567" y="30055"/>
                  <a:pt x="123035" y="4385"/>
                  <a:pt x="170779" y="516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reeform 121"/>
          <p:cNvSpPr/>
          <p:nvPr/>
        </p:nvSpPr>
        <p:spPr>
          <a:xfrm>
            <a:off x="5572080" y="2279520"/>
            <a:ext cx="306360" cy="217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38" h="30">
                <a:moveTo>
                  <a:pt x="38" y="25"/>
                </a:moveTo>
                <a:cubicBezTo>
                  <a:pt x="38" y="25"/>
                  <a:pt x="25" y="22"/>
                  <a:pt x="21" y="11"/>
                </a:cubicBezTo>
                <a:cubicBezTo>
                  <a:pt x="17" y="0"/>
                  <a:pt x="0" y="30"/>
                  <a:pt x="3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reeform 122"/>
          <p:cNvSpPr/>
          <p:nvPr/>
        </p:nvSpPr>
        <p:spPr>
          <a:xfrm>
            <a:off x="5587920" y="2244600"/>
            <a:ext cx="112680" cy="57240"/>
          </a:xfrm>
          <a:custGeom>
            <a:avLst/>
            <a:gdLst>
              <a:gd name="textAreaLeft" fmla="*/ 0 w 112680"/>
              <a:gd name="textAreaRight" fmla="*/ 113040 w 1126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" h="8">
                <a:moveTo>
                  <a:pt x="0" y="0"/>
                </a:moveTo>
                <a:cubicBezTo>
                  <a:pt x="0" y="0"/>
                  <a:pt x="5" y="8"/>
                  <a:pt x="14" y="2"/>
                </a:cubicBezTo>
                <a:cubicBezTo>
                  <a:pt x="14" y="2"/>
                  <a:pt x="12" y="7"/>
                  <a:pt x="6" y="6"/>
                </a:cubicBezTo>
                <a:cubicBezTo>
                  <a:pt x="2" y="5"/>
                  <a:pt x="1" y="3"/>
                  <a:pt x="0" y="0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reeform 123"/>
          <p:cNvSpPr/>
          <p:nvPr/>
        </p:nvSpPr>
        <p:spPr>
          <a:xfrm>
            <a:off x="3703680" y="1641600"/>
            <a:ext cx="1481040" cy="72360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723600"/>
              <a:gd name="textAreaBottom" fmla="*/ 723960 h 723600"/>
            </a:gdLst>
            <a:ahLst/>
            <a:rect l="textAreaLeft" t="textAreaTop" r="textAreaRight" b="textAreaBottom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reeform 124"/>
          <p:cNvSpPr/>
          <p:nvPr/>
        </p:nvSpPr>
        <p:spPr>
          <a:xfrm>
            <a:off x="3703680" y="1649520"/>
            <a:ext cx="1481040" cy="72396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reeform 126"/>
          <p:cNvSpPr/>
          <p:nvPr/>
        </p:nvSpPr>
        <p:spPr>
          <a:xfrm>
            <a:off x="3421080" y="1974960"/>
            <a:ext cx="1771560" cy="110952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9520"/>
              <a:gd name="textAreaBottom" fmla="*/ 1109880 h 1109520"/>
            </a:gdLst>
            <a:ahLst/>
            <a:rect l="textAreaLeft" t="textAreaTop" r="textAreaRight" b="textAreaBottom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129"/>
          <p:cNvSpPr/>
          <p:nvPr/>
        </p:nvSpPr>
        <p:spPr>
          <a:xfrm>
            <a:off x="3430440" y="2556000"/>
            <a:ext cx="1762200" cy="528480"/>
          </a:xfrm>
          <a:custGeom>
            <a:avLst/>
            <a:gdLst>
              <a:gd name="textAreaLeft" fmla="*/ 0 w 1762200"/>
              <a:gd name="textAreaRight" fmla="*/ 1762560 w 176220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1110" h="370">
                <a:moveTo>
                  <a:pt x="1110" y="0"/>
                </a:moveTo>
                <a:lnTo>
                  <a:pt x="0" y="314"/>
                </a:lnTo>
                <a:lnTo>
                  <a:pt x="0" y="370"/>
                </a:lnTo>
                <a:lnTo>
                  <a:pt x="1110" y="51"/>
                </a:lnTo>
                <a:lnTo>
                  <a:pt x="111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131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133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1116" h="776">
                <a:moveTo>
                  <a:pt x="1116" y="406"/>
                </a:moveTo>
                <a:lnTo>
                  <a:pt x="6" y="720"/>
                </a:lnTo>
                <a:lnTo>
                  <a:pt x="6" y="776"/>
                </a:lnTo>
                <a:lnTo>
                  <a:pt x="1116" y="457"/>
                </a:lnTo>
                <a:lnTo>
                  <a:pt x="1116" y="406"/>
                </a:lnTo>
                <a:moveTo>
                  <a:pt x="1111" y="0"/>
                </a:moveTo>
                <a:lnTo>
                  <a:pt x="1111" y="0"/>
                </a:lnTo>
                <a:lnTo>
                  <a:pt x="0" y="320"/>
                </a:lnTo>
                <a:lnTo>
                  <a:pt x="0" y="345"/>
                </a:lnTo>
                <a:lnTo>
                  <a:pt x="0" y="370"/>
                </a:lnTo>
                <a:lnTo>
                  <a:pt x="1111" y="51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任意多边形 163"/>
          <p:cNvSpPr/>
          <p:nvPr/>
        </p:nvSpPr>
        <p:spPr>
          <a:xfrm rot="20657400">
            <a:off x="2666880" y="3087720"/>
            <a:ext cx="3522960" cy="668160"/>
          </a:xfrm>
          <a:prstGeom prst="pie">
            <a:avLst/>
          </a:pr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任意多边形 167"/>
          <p:cNvSpPr/>
          <p:nvPr/>
        </p:nvSpPr>
        <p:spPr>
          <a:xfrm rot="20721600">
            <a:off x="3303720" y="2192040"/>
            <a:ext cx="2008080" cy="67464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08511" h="748757">
                <a:moveTo>
                  <a:pt x="2008511" y="0"/>
                </a:moveTo>
                <a:lnTo>
                  <a:pt x="1832903" y="703958"/>
                </a:lnTo>
                <a:lnTo>
                  <a:pt x="0" y="748757"/>
                </a:lnTo>
                <a:lnTo>
                  <a:pt x="173672" y="45934"/>
                </a:lnTo>
                <a:lnTo>
                  <a:pt x="2008511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任意多边形 171"/>
          <p:cNvSpPr/>
          <p:nvPr/>
        </p:nvSpPr>
        <p:spPr>
          <a:xfrm rot="20849400">
            <a:off x="3330720" y="3949560"/>
            <a:ext cx="1979640" cy="7398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1979334" h="822792">
                <a:moveTo>
                  <a:pt x="1979334" y="0"/>
                </a:moveTo>
                <a:lnTo>
                  <a:pt x="1829976" y="709991"/>
                </a:lnTo>
                <a:lnTo>
                  <a:pt x="0" y="822792"/>
                </a:lnTo>
                <a:lnTo>
                  <a:pt x="147465" y="114007"/>
                </a:lnTo>
                <a:lnTo>
                  <a:pt x="1979334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sp>
          <p:nvSpPr>
            <p:cNvPr id="53" name="直线连接符 21"/>
            <p:cNvSpPr/>
            <p:nvPr/>
          </p:nvSpPr>
          <p:spPr>
            <a:xfrm flipV="1">
              <a:off x="268200" y="1689840"/>
              <a:ext cx="225576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同侧圆角矩形 23"/>
            <p:cNvSpPr/>
            <p:nvPr/>
          </p:nvSpPr>
          <p:spPr>
            <a:xfrm>
              <a:off x="452520" y="1125360"/>
              <a:ext cx="1999800" cy="5158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TextBox 5"/>
          <p:cNvSpPr/>
          <p:nvPr/>
        </p:nvSpPr>
        <p:spPr>
          <a:xfrm>
            <a:off x="1052640" y="41497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1052640" y="1712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2124000" y="19018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让学生经历求比一个数多（或者少）百分之几的数是多少的过程，掌握这种题型的解题方法，能综合运用所学知识解决相关的实际问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2124000" y="429264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解决问题中感受百分数与现实生活的联系，体会百分数的生活价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4859280" y="3789360"/>
            <a:ext cx="3457800" cy="238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Text Box 7"/>
          <p:cNvSpPr/>
          <p:nvPr/>
        </p:nvSpPr>
        <p:spPr>
          <a:xfrm>
            <a:off x="826920" y="2205000"/>
            <a:ext cx="71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某地区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前三季度农村居民人均现金收入比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同期增加百分之几。（用计算器计算，百分号前保留一位小数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927000" y="3645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理解题意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826920" y="4221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知：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1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908000" y="479736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6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826920" y="530064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问题：同期增加百分之几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826920" y="2205000"/>
            <a:ext cx="71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某地区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前三季度农村居民人均现金收入比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同期增加百分之几。（用计算器计算，百分号前保留一位小数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971640" y="3645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答过程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2916360" y="371628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6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1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21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987640" y="42735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652÷21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987640" y="4869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30.9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901800" y="5445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比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同期增加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.9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境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403280" y="220500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今年毕业生有多少人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5329440" cy="2857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5954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971640" y="4653000"/>
            <a:ext cx="7056360" cy="5205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今年的毕业生相当于去年毕业生人数的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组合 12"/>
          <p:cNvGrpSpPr/>
          <p:nvPr/>
        </p:nvGrpSpPr>
        <p:grpSpPr>
          <a:xfrm>
            <a:off x="2700360" y="2349360"/>
            <a:ext cx="3240000" cy="976320"/>
            <a:chOff x="2700360" y="2349360"/>
            <a:chExt cx="3240000" cy="976320"/>
          </a:xfrm>
        </p:grpSpPr>
        <p:sp>
          <p:nvSpPr>
            <p:cNvPr id="84" name="圆角矩形标注 7"/>
            <p:cNvSpPr/>
            <p:nvPr/>
          </p:nvSpPr>
          <p:spPr>
            <a:xfrm>
              <a:off x="2772360" y="2349360"/>
              <a:ext cx="2952000" cy="935640"/>
            </a:xfrm>
            <a:prstGeom prst="wedgeRoundRectCallout">
              <a:avLst>
                <a:gd name="adj1" fmla="val -61282"/>
                <a:gd name="adj2" fmla="val -10537"/>
                <a:gd name="adj3" fmla="val 16667"/>
              </a:avLst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 Box 7"/>
            <p:cNvSpPr/>
            <p:nvPr/>
          </p:nvSpPr>
          <p:spPr>
            <a:xfrm>
              <a:off x="2700360" y="2349360"/>
              <a:ext cx="324000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今年比去年增加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2599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5%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是什么意思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13683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908000" y="320364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去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979640" y="4140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今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接连接符 13"/>
          <p:cNvSpPr/>
          <p:nvPr/>
        </p:nvSpPr>
        <p:spPr>
          <a:xfrm>
            <a:off x="3348000" y="3564000"/>
            <a:ext cx="2087640" cy="0"/>
          </a:xfrm>
          <a:prstGeom prst="line">
            <a:avLst/>
          </a:prstGeom>
          <a:ln w="19080">
            <a:solidFill>
              <a:srgbClr val="4a7ebb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接连接符 14"/>
          <p:cNvSpPr/>
          <p:nvPr/>
        </p:nvSpPr>
        <p:spPr>
          <a:xfrm>
            <a:off x="3348000" y="4427640"/>
            <a:ext cx="2808360" cy="0"/>
          </a:xfrm>
          <a:prstGeom prst="line">
            <a:avLst/>
          </a:prstGeom>
          <a:ln w="19080">
            <a:solidFill>
              <a:srgbClr val="4a7ebb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接连接符 17"/>
          <p:cNvSpPr/>
          <p:nvPr/>
        </p:nvSpPr>
        <p:spPr>
          <a:xfrm>
            <a:off x="5435640" y="3419640"/>
            <a:ext cx="0" cy="1008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左大括号 19"/>
          <p:cNvSpPr/>
          <p:nvPr/>
        </p:nvSpPr>
        <p:spPr>
          <a:xfrm rot="16200000">
            <a:off x="4537080" y="3311640"/>
            <a:ext cx="358560" cy="2736720"/>
          </a:xfrm>
          <a:custGeom>
            <a:avLst/>
            <a:gdLst>
              <a:gd name="textAreaLeft" fmla="*/ 228960 w 358560"/>
              <a:gd name="textAreaRight" fmla="*/ 358560 w 358560"/>
              <a:gd name="textAreaTop" fmla="*/ 91440 h 2736720"/>
              <a:gd name="textAreaBottom" fmla="*/ 264528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57"/>
                  <a:pt x="10800" y="2313"/>
                </a:cubicBezTo>
                <a:lnTo>
                  <a:pt x="10800" y="9110"/>
                </a:lnTo>
                <a:cubicBezTo>
                  <a:pt x="10800" y="10267"/>
                  <a:pt x="5400" y="11423"/>
                  <a:pt x="0" y="11423"/>
                </a:cubicBezTo>
                <a:cubicBezTo>
                  <a:pt x="5400" y="11423"/>
                  <a:pt x="10800" y="12580"/>
                  <a:pt x="10800" y="13736"/>
                </a:cubicBezTo>
                <a:lnTo>
                  <a:pt x="10800" y="19287"/>
                </a:lnTo>
                <a:cubicBezTo>
                  <a:pt x="10800" y="204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左大括号 20"/>
          <p:cNvSpPr/>
          <p:nvPr/>
        </p:nvSpPr>
        <p:spPr>
          <a:xfrm rot="16200000">
            <a:off x="4248000" y="2663640"/>
            <a:ext cx="287280" cy="2087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73080 h 2087640"/>
              <a:gd name="textAreaBottom" fmla="*/ 201456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12"/>
                  <a:pt x="10800" y="2424"/>
                </a:cubicBezTo>
                <a:lnTo>
                  <a:pt x="10800" y="8999"/>
                </a:lnTo>
                <a:cubicBezTo>
                  <a:pt x="10800" y="10211"/>
                  <a:pt x="5400" y="11423"/>
                  <a:pt x="0" y="11423"/>
                </a:cubicBezTo>
                <a:cubicBezTo>
                  <a:pt x="5400" y="11423"/>
                  <a:pt x="10800" y="12635"/>
                  <a:pt x="10800" y="13847"/>
                </a:cubicBezTo>
                <a:lnTo>
                  <a:pt x="10800" y="19176"/>
                </a:lnTo>
                <a:cubicBezTo>
                  <a:pt x="10800" y="2038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左大括号 21"/>
          <p:cNvSpPr/>
          <p:nvPr/>
        </p:nvSpPr>
        <p:spPr>
          <a:xfrm rot="5400000">
            <a:off x="5723640" y="3923280"/>
            <a:ext cx="144360" cy="72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36720 h 720720"/>
              <a:gd name="textAreaBottom" fmla="*/ 684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58"/>
                  <a:pt x="10800" y="3515"/>
                </a:cubicBezTo>
                <a:lnTo>
                  <a:pt x="10800" y="7196"/>
                </a:lnTo>
                <a:cubicBezTo>
                  <a:pt x="10800" y="8954"/>
                  <a:pt x="5400" y="10711"/>
                  <a:pt x="0" y="10711"/>
                </a:cubicBezTo>
                <a:cubicBezTo>
                  <a:pt x="5400" y="10711"/>
                  <a:pt x="10800" y="12469"/>
                  <a:pt x="10800" y="14226"/>
                </a:cubicBezTo>
                <a:lnTo>
                  <a:pt x="10800" y="18085"/>
                </a:lnTo>
                <a:cubicBezTo>
                  <a:pt x="10800" y="1984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4067280" y="3851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500720" y="478800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？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435640" y="36352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增加了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187280" y="2349360"/>
            <a:ext cx="22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绘制线段图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771640" y="414972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×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484360" y="47052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00 ×1.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484360" y="5300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3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组合 14"/>
          <p:cNvGrpSpPr/>
          <p:nvPr/>
        </p:nvGrpSpPr>
        <p:grpSpPr>
          <a:xfrm>
            <a:off x="2771640" y="2205000"/>
            <a:ext cx="3168720" cy="1584360"/>
            <a:chOff x="2771640" y="2205000"/>
            <a:chExt cx="3168720" cy="1584360"/>
          </a:xfrm>
        </p:grpSpPr>
        <p:sp>
          <p:nvSpPr>
            <p:cNvPr id="107" name="圆角矩形标注 10"/>
            <p:cNvSpPr/>
            <p:nvPr/>
          </p:nvSpPr>
          <p:spPr>
            <a:xfrm>
              <a:off x="2771640" y="2205000"/>
              <a:ext cx="3168720" cy="1584360"/>
            </a:xfrm>
            <a:prstGeom prst="wedgeRoundRectCallout">
              <a:avLst>
                <a:gd name="adj1" fmla="val -68365"/>
                <a:gd name="adj2" fmla="val -4643"/>
                <a:gd name="adj3" fmla="val 16667"/>
              </a:avLst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 Box 7"/>
            <p:cNvSpPr/>
            <p:nvPr/>
          </p:nvSpPr>
          <p:spPr>
            <a:xfrm>
              <a:off x="2771640" y="2205000"/>
              <a:ext cx="309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把去年毕业生人数看成单位“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”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今年的毕业生人数是去年的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15%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Text Box 7"/>
          <p:cNvSpPr/>
          <p:nvPr/>
        </p:nvSpPr>
        <p:spPr>
          <a:xfrm>
            <a:off x="684360" y="321300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方法一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10796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7-12-23T12:27:50Z</dcterms:modified>
  <cp:revision>311</cp:revision>
  <dc:subject/>
  <dc:title>幻灯片 1</dc:title>
</cp:coreProperties>
</file>