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375F8-9B65-427E-8E75-CD224DF3ED0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6E31F-C673-4998-97BF-0A849D7EB8A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36E1F-4D73-405B-ABF6-39F10949152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683D8-1D7D-4312-86FE-9FCDE73BB91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E464-4D98-4C8E-8949-11BAAA8F4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E4EB-8516-4999-91D9-82D76175A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76F8-B5BE-4AC0-A8DA-37B9D237E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7C6D-A31A-49EE-B144-9DAA95965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4DF6-EC42-4A50-B18F-28A3D9EB3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DDFB-8751-4C97-A8C1-5D8D82E4C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C981-7F8F-499F-A5DA-6A44207F2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FF8A-BEBB-44D7-AB46-E9C591F91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C19D-0F4A-4F20-9CF9-E79F60582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6440-F3FE-4B7F-BD32-83BA5D0C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DEF8-12D7-4ABD-8F01-F94A9EC6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9885-1E51-48BE-B97C-FB9A93F4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0F639-4607-44BA-973E-4698689A7268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6"/>
          <p:cNvSpPr/>
          <p:nvPr/>
        </p:nvSpPr>
        <p:spPr>
          <a:xfrm>
            <a:off x="2556000" y="2438280"/>
            <a:ext cx="611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1.6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问题解决（例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直线连接符 21"/>
          <p:cNvSpPr/>
          <p:nvPr/>
        </p:nvSpPr>
        <p:spPr>
          <a:xfrm>
            <a:off x="3708360" y="3357720"/>
            <a:ext cx="424836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0"/>
          <p:cNvSpPr/>
          <p:nvPr/>
        </p:nvSpPr>
        <p:spPr>
          <a:xfrm>
            <a:off x="826920" y="11970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楷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楷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楷体"/>
              </a:rPr>
              <a:t>单元   百分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7"/>
          <p:cNvSpPr/>
          <p:nvPr/>
        </p:nvSpPr>
        <p:spPr>
          <a:xfrm>
            <a:off x="1403280" y="2276640"/>
            <a:ext cx="59054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餐馆上月盈利多少元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1042920" y="2924280"/>
            <a:ext cx="18734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解答过程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1403280" y="3490920"/>
            <a:ext cx="13683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应纳税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2843280" y="3500280"/>
            <a:ext cx="3960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000 ×5% =400(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1403280" y="4076640"/>
            <a:ext cx="13683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开支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2556000" y="4076640"/>
            <a:ext cx="59036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500+800 +585 +600 =548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1476360" y="4714920"/>
            <a:ext cx="13669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盈利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2627280" y="4714920"/>
            <a:ext cx="58323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00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48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0 =211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1403280" y="5445000"/>
            <a:ext cx="5184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小餐馆上月盈利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211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1258920" y="213372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怎样计算应纳税额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1332000" y="299736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营业额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税率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应纳税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1187280" y="378936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怎样计算盈利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1332000" y="450864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营业额－开支－应纳税额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盈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即时小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900000" y="2060640"/>
            <a:ext cx="720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某风景区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6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“十一”黄金周接待游客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万人次，门票收入达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60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万元，按门票收入的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%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缴纳营业税，这个黄金周该风景区应缴纳营业税多少万元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971640" y="400536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计算过程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2843280" y="4076640"/>
            <a:ext cx="4392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应纳税额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营业额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税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2987640" y="4730760"/>
            <a:ext cx="42483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600 ×3% =108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万元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3059280" y="5373720"/>
            <a:ext cx="468144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这个黄金周该风景区应缴纳营业税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8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万元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755640" y="1989000"/>
            <a:ext cx="770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果个人月收入在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600~210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之间，超过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60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的部分应按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%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税率缴纳个人所得税税，方方的爸爸月收入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80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，他每月应缴纳个人所得税多少元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900000" y="3860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解题思路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2700360" y="3933720"/>
            <a:ext cx="554364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人所得税在本题当中是指超过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600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的部分才要缴纳，即超过部分的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5%,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方方爸爸月收入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800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可分为两部分，其中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600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是一定可以拿到的，另外超出部分只能拿到超出部分的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95%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还有超出部分的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5%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需要缴纳个人所得税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755640" y="1989000"/>
            <a:ext cx="770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果个人月收入在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600~210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之间，超过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60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的部分应按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%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税率缴纳个人所得税税，方方的爸爸月收入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80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，他每月应缴纳个人所得税多少元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900000" y="371628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解答过程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2484360" y="4156200"/>
            <a:ext cx="57596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超出部分：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80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600 =20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4067280" y="4653000"/>
            <a:ext cx="42498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 ×5% =1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2451240" y="5345280"/>
            <a:ext cx="46814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方方爸爸每月应缴纳个人所得税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2556000" y="4643280"/>
            <a:ext cx="13683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应纳税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9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0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6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7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错题分析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矩形 10"/>
          <p:cNvSpPr/>
          <p:nvPr/>
        </p:nvSpPr>
        <p:spPr>
          <a:xfrm>
            <a:off x="3590280" y="3068640"/>
            <a:ext cx="103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华文楷体"/>
              </a:rPr>
              <a:t>税率是永远不变的。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华文楷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华文楷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11"/>
          <p:cNvSpPr/>
          <p:nvPr/>
        </p:nvSpPr>
        <p:spPr>
          <a:xfrm>
            <a:off x="1120680" y="2349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华文楷体"/>
              </a:rPr>
              <a:t>判断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矩形 12"/>
          <p:cNvSpPr/>
          <p:nvPr/>
        </p:nvSpPr>
        <p:spPr>
          <a:xfrm rot="18297600">
            <a:off x="3870000" y="307620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矩形 3"/>
          <p:cNvSpPr/>
          <p:nvPr/>
        </p:nvSpPr>
        <p:spPr>
          <a:xfrm>
            <a:off x="5556960" y="3146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Calibri"/>
                <a:ea typeface="华文楷体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错题分析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2288520" y="2492280"/>
            <a:ext cx="4874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分析原因：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税率是由各种收入与应纳税额的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率组成，例如，同开餐馆店的税率是相同的，但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馆与商场 、服装店他们的税率却可能不相同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错题分析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矩形 4"/>
          <p:cNvSpPr/>
          <p:nvPr/>
        </p:nvSpPr>
        <p:spPr>
          <a:xfrm>
            <a:off x="3620160" y="306864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华文楷体"/>
              </a:rPr>
              <a:t>税率是永远不变的。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华文楷体"/>
              </a:rPr>
              <a:t>×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华文楷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矩形 5"/>
          <p:cNvSpPr/>
          <p:nvPr/>
        </p:nvSpPr>
        <p:spPr>
          <a:xfrm>
            <a:off x="1120680" y="2349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华文楷体"/>
              </a:rPr>
              <a:t>判断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矩形 6"/>
          <p:cNvSpPr/>
          <p:nvPr/>
        </p:nvSpPr>
        <p:spPr>
          <a:xfrm rot="18297600">
            <a:off x="3870000" y="307620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368960" y="2176560"/>
            <a:ext cx="152280" cy="3934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7"/>
          <p:cNvSpPr/>
          <p:nvPr/>
        </p:nvSpPr>
        <p:spPr>
          <a:xfrm>
            <a:off x="971640" y="206064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东方宾馆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月份营业额为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万元，如果按营业额的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%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缴纳营业税，东方宾馆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月份应缴纳营业税多少元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971640" y="37162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计算过程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2843280" y="3789360"/>
            <a:ext cx="4392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应纳税额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营业额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税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2987640" y="4443480"/>
            <a:ext cx="42483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0 ×5% =2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万元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3059280" y="5084640"/>
            <a:ext cx="468144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东方宾馆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月份应缴纳营业税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万元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368960" y="2176560"/>
            <a:ext cx="152280" cy="39348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7"/>
          <p:cNvSpPr/>
          <p:nvPr/>
        </p:nvSpPr>
        <p:spPr>
          <a:xfrm>
            <a:off x="971640" y="206064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张叔叔在一次购买体育彩票时中了一等奖，奖金是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万元，按国家的税率规定，应缴纳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个人所得税。张叔叔实际得到奖金是多少万元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971640" y="393372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计算过程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2843280" y="4005360"/>
            <a:ext cx="4392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应纳税额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奖金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税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2987640" y="4659480"/>
            <a:ext cx="42483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8 ×20% =3.6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万元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1979640" y="5732640"/>
            <a:ext cx="58323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张叔叔实际得到奖金是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4.4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万元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1476360" y="5218200"/>
            <a:ext cx="16556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实得奖金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3348000" y="5218200"/>
            <a:ext cx="38880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6 =14.4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万元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extBox 3" descr=""/>
          <p:cNvPicPr/>
          <p:nvPr/>
        </p:nvPicPr>
        <p:blipFill>
          <a:blip r:embed="rId1"/>
          <a:stretch/>
        </p:blipFill>
        <p:spPr>
          <a:xfrm>
            <a:off x="2762280" y="2523960"/>
            <a:ext cx="4046400" cy="2206800"/>
          </a:xfrm>
          <a:prstGeom prst="rect">
            <a:avLst/>
          </a:prstGeom>
          <a:ln w="0">
            <a:noFill/>
          </a:ln>
        </p:spPr>
      </p:pic>
      <p:sp>
        <p:nvSpPr>
          <p:cNvPr id="52" name="流程图: 资料带 4"/>
          <p:cNvSpPr/>
          <p:nvPr/>
        </p:nvSpPr>
        <p:spPr>
          <a:xfrm>
            <a:off x="2700360" y="2349360"/>
            <a:ext cx="4032360" cy="1871640"/>
          </a:xfrm>
          <a:prstGeom prst="flowChartPunchedTape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611280" y="1989000"/>
            <a:ext cx="75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李叔叔购买了一套新房，总价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万元，按规定，李叔叔还要按购房总价的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5%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缴纳契税，按购房总价的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.03%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缴纳印花税，他一共要缴纳多少税费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684360" y="3789360"/>
            <a:ext cx="16556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交流探讨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1979640" y="4149720"/>
            <a:ext cx="33130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什么是契税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1979640" y="5084640"/>
            <a:ext cx="30970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什么是印花税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矩形 13"/>
          <p:cNvSpPr/>
          <p:nvPr/>
        </p:nvSpPr>
        <p:spPr>
          <a:xfrm>
            <a:off x="1835280" y="458136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华文新魏"/>
                <a:ea typeface="华文新魏"/>
              </a:rPr>
              <a:t>契税属于财产转移税由财产承受人缴纳</a:t>
            </a:r>
            <a:r>
              <a:rPr b="0" lang="zh-CN" sz="1800" spc="-1" strike="noStrike">
                <a:solidFill>
                  <a:srgbClr val="00b050"/>
                </a:solidFill>
                <a:latin typeface="Calibri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1763640" y="544500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华文新魏"/>
                <a:ea typeface="华文新魏"/>
              </a:rPr>
              <a:t>这里的印花税是指办产权、销售房屋等、签立合同时缴纳的税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4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6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611280" y="1989000"/>
            <a:ext cx="75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李叔叔购买了一套新房，总价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万元，按规定，李叔叔还要按购房总价的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5%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缴纳契税，按购房总价的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.03%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缴纳印花税，他一共要缴纳多少税费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611280" y="3716280"/>
            <a:ext cx="10810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解答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1547640" y="3716280"/>
            <a:ext cx="52563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契税：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5×1.5% =0.37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万元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971640" y="4221000"/>
            <a:ext cx="6192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印花税：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5 ×0.03% =0.007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万元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1727280" y="5732640"/>
            <a:ext cx="53290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他一共要缴纳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82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税费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971640" y="4724280"/>
            <a:ext cx="13683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应纳税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2411280" y="4797360"/>
            <a:ext cx="52563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.375 +0.0075 =0.382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万元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4932360" y="5229360"/>
            <a:ext cx="22320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382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同侧圆角矩形 3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总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826920" y="2060640"/>
            <a:ext cx="56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通过这节课的学习，你有什么收获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8" name="组合 24"/>
          <p:cNvGrpSpPr/>
          <p:nvPr/>
        </p:nvGrpSpPr>
        <p:grpSpPr>
          <a:xfrm>
            <a:off x="716040" y="2997360"/>
            <a:ext cx="2560680" cy="3219120"/>
            <a:chOff x="716040" y="2997360"/>
            <a:chExt cx="2560680" cy="3219120"/>
          </a:xfrm>
        </p:grpSpPr>
        <p:sp>
          <p:nvSpPr>
            <p:cNvPr id="189" name="竖卷形 13"/>
            <p:cNvSpPr/>
            <p:nvPr/>
          </p:nvSpPr>
          <p:spPr>
            <a:xfrm>
              <a:off x="1332000" y="2997360"/>
              <a:ext cx="1944720" cy="2448000"/>
            </a:xfrm>
            <a:prstGeom prst="verticalScroll">
              <a:avLst>
                <a:gd name="adj" fmla="val 12500"/>
              </a:avLst>
            </a:prstGeom>
            <a:solidFill>
              <a:srgbClr val="ffffbb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90" name="图片 18" descr="女孩-1.gif"/>
            <p:cNvPicPr/>
            <p:nvPr/>
          </p:nvPicPr>
          <p:blipFill>
            <a:blip r:embed="rId1"/>
            <a:stretch/>
          </p:blipFill>
          <p:spPr>
            <a:xfrm>
              <a:off x="716040" y="4869360"/>
              <a:ext cx="1048320" cy="134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Text Box 7"/>
            <p:cNvSpPr/>
            <p:nvPr/>
          </p:nvSpPr>
          <p:spPr>
            <a:xfrm>
              <a:off x="1548360" y="3285360"/>
              <a:ext cx="1512360" cy="10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599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税率是指应纳税额与各种收入的比率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2" name="组合 23"/>
          <p:cNvGrpSpPr/>
          <p:nvPr/>
        </p:nvGrpSpPr>
        <p:grpSpPr>
          <a:xfrm>
            <a:off x="3492360" y="2997360"/>
            <a:ext cx="2592360" cy="3168360"/>
            <a:chOff x="3492360" y="2997360"/>
            <a:chExt cx="2592360" cy="3168360"/>
          </a:xfrm>
        </p:grpSpPr>
        <p:sp>
          <p:nvSpPr>
            <p:cNvPr id="193" name="竖卷形 14"/>
            <p:cNvSpPr/>
            <p:nvPr/>
          </p:nvSpPr>
          <p:spPr>
            <a:xfrm>
              <a:off x="3492360" y="2997360"/>
              <a:ext cx="1944360" cy="2448360"/>
            </a:xfrm>
            <a:prstGeom prst="verticalScroll">
              <a:avLst>
                <a:gd name="adj" fmla="val 12500"/>
              </a:avLst>
            </a:prstGeom>
            <a:solidFill>
              <a:srgbClr val="ffffbb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94" name="图片 19" descr="女孩-2.gif"/>
            <p:cNvPicPr/>
            <p:nvPr/>
          </p:nvPicPr>
          <p:blipFill>
            <a:blip r:embed="rId2"/>
            <a:stretch/>
          </p:blipFill>
          <p:spPr>
            <a:xfrm>
              <a:off x="4923360" y="4725720"/>
              <a:ext cx="116136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Text Box 7"/>
            <p:cNvSpPr/>
            <p:nvPr/>
          </p:nvSpPr>
          <p:spPr>
            <a:xfrm>
              <a:off x="3708360" y="3285360"/>
              <a:ext cx="151236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599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应纳税额是要指缴纳的税款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6" name="组合 25"/>
          <p:cNvGrpSpPr/>
          <p:nvPr/>
        </p:nvGrpSpPr>
        <p:grpSpPr>
          <a:xfrm>
            <a:off x="5580000" y="2997360"/>
            <a:ext cx="2376720" cy="3073320"/>
            <a:chOff x="5580000" y="2997360"/>
            <a:chExt cx="2376720" cy="3073320"/>
          </a:xfrm>
        </p:grpSpPr>
        <p:sp>
          <p:nvSpPr>
            <p:cNvPr id="197" name="竖卷形 15"/>
            <p:cNvSpPr/>
            <p:nvPr/>
          </p:nvSpPr>
          <p:spPr>
            <a:xfrm>
              <a:off x="5580000" y="2997360"/>
              <a:ext cx="1944720" cy="2448000"/>
            </a:xfrm>
            <a:prstGeom prst="verticalScroll">
              <a:avLst>
                <a:gd name="adj" fmla="val 12500"/>
              </a:avLst>
            </a:prstGeom>
            <a:solidFill>
              <a:srgbClr val="ffffbb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98" name="图片 17" descr="男孩-1.gif"/>
            <p:cNvPicPr/>
            <p:nvPr/>
          </p:nvPicPr>
          <p:blipFill>
            <a:blip r:embed="rId3"/>
            <a:stretch/>
          </p:blipFill>
          <p:spPr>
            <a:xfrm>
              <a:off x="6660360" y="4797360"/>
              <a:ext cx="1296360" cy="12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Text Box 7"/>
            <p:cNvSpPr/>
            <p:nvPr/>
          </p:nvSpPr>
          <p:spPr>
            <a:xfrm>
              <a:off x="5796000" y="3437640"/>
              <a:ext cx="1512360" cy="10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599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应纳税额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=</a:t>
              </a:r>
              <a:r>
                <a:rPr b="1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各种收入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×</a:t>
              </a:r>
              <a:r>
                <a:rPr b="1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税率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矩形 3" descr=""/>
          <p:cNvPicPr/>
          <p:nvPr/>
        </p:nvPicPr>
        <p:blipFill>
          <a:blip r:embed="rId1"/>
          <a:stretch/>
        </p:blipFill>
        <p:spPr>
          <a:xfrm>
            <a:off x="2408400" y="2309760"/>
            <a:ext cx="4267080" cy="3505320"/>
          </a:xfrm>
          <a:prstGeom prst="rect">
            <a:avLst/>
          </a:prstGeom>
          <a:ln w="0">
            <a:noFill/>
          </a:ln>
        </p:spPr>
      </p:pic>
      <p:sp>
        <p:nvSpPr>
          <p:cNvPr id="201" name="直接连接符 10"/>
          <p:cNvSpPr/>
          <p:nvPr/>
        </p:nvSpPr>
        <p:spPr>
          <a:xfrm>
            <a:off x="5076720" y="4437000"/>
            <a:ext cx="1727280" cy="0"/>
          </a:xfrm>
          <a:prstGeom prst="line">
            <a:avLst/>
          </a:prstGeom>
          <a:ln w="19080">
            <a:solidFill>
              <a:srgbClr val="4a7ebb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直接连接符 16"/>
          <p:cNvSpPr/>
          <p:nvPr/>
        </p:nvSpPr>
        <p:spPr>
          <a:xfrm>
            <a:off x="1908000" y="2637000"/>
            <a:ext cx="1727280" cy="0"/>
          </a:xfrm>
          <a:prstGeom prst="line">
            <a:avLst/>
          </a:prstGeom>
          <a:ln w="19080">
            <a:solidFill>
              <a:srgbClr val="4a7ebb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组合 10"/>
          <p:cNvGrpSpPr/>
          <p:nvPr/>
        </p:nvGrpSpPr>
        <p:grpSpPr>
          <a:xfrm>
            <a:off x="268200" y="1125360"/>
            <a:ext cx="2255760" cy="569880"/>
            <a:chOff x="268200" y="1125360"/>
            <a:chExt cx="2255760" cy="569880"/>
          </a:xfrm>
        </p:grpSpPr>
        <p:sp>
          <p:nvSpPr>
            <p:cNvPr id="54" name="直线连接符 21"/>
            <p:cNvSpPr/>
            <p:nvPr/>
          </p:nvSpPr>
          <p:spPr>
            <a:xfrm flipV="1">
              <a:off x="268200" y="1689840"/>
              <a:ext cx="225576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同侧圆角矩形 23"/>
            <p:cNvSpPr/>
            <p:nvPr/>
          </p:nvSpPr>
          <p:spPr>
            <a:xfrm>
              <a:off x="452520" y="1125360"/>
              <a:ext cx="1999800" cy="515880"/>
            </a:xfrm>
            <a:prstGeom prst="pi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习目标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" name="TextBox 5"/>
          <p:cNvSpPr/>
          <p:nvPr/>
        </p:nvSpPr>
        <p:spPr>
          <a:xfrm>
            <a:off x="1052640" y="414972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1052640" y="17128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8"/>
          <p:cNvSpPr/>
          <p:nvPr/>
        </p:nvSpPr>
        <p:spPr>
          <a:xfrm>
            <a:off x="2124000" y="190188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初步认识税收的意义，了解主要的税收种类。理解应纳税额和税率的含义，会正确计算应纳税额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9"/>
          <p:cNvSpPr/>
          <p:nvPr/>
        </p:nvSpPr>
        <p:spPr>
          <a:xfrm>
            <a:off x="2122560" y="425916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使学生体验数学与生活的紧密联系，感受数学的价值，培养学生初步的实践能力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谈话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755640" y="2205000"/>
            <a:ext cx="7129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知道创建这些美丽的城市需要的钱款从哪儿来的吗 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1187280" y="3716280"/>
            <a:ext cx="2376720" cy="2262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3564000" y="2924280"/>
            <a:ext cx="2087640" cy="2252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3"/>
          <a:stretch/>
        </p:blipFill>
        <p:spPr>
          <a:xfrm>
            <a:off x="5651640" y="3789360"/>
            <a:ext cx="244764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境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1547640" y="422100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国家的税收政策是取之于民，用之于民。因此，根据国家规定，应纳税的集体或个人都有依法纳税的义务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" name="组合 11"/>
          <p:cNvGrpSpPr/>
          <p:nvPr/>
        </p:nvGrpSpPr>
        <p:grpSpPr>
          <a:xfrm>
            <a:off x="3419640" y="2492280"/>
            <a:ext cx="2952720" cy="1152720"/>
            <a:chOff x="3419640" y="2492280"/>
            <a:chExt cx="2952720" cy="1152720"/>
          </a:xfrm>
        </p:grpSpPr>
        <p:sp>
          <p:nvSpPr>
            <p:cNvPr id="70" name="Text Box 7"/>
            <p:cNvSpPr/>
            <p:nvPr/>
          </p:nvSpPr>
          <p:spPr>
            <a:xfrm>
              <a:off x="3419640" y="2546280"/>
              <a:ext cx="2952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什么是税收？国家为什么要征税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圆角矩形标注 7"/>
            <p:cNvSpPr/>
            <p:nvPr/>
          </p:nvSpPr>
          <p:spPr>
            <a:xfrm>
              <a:off x="3419640" y="2492280"/>
              <a:ext cx="2952720" cy="1152720"/>
            </a:xfrm>
            <a:prstGeom prst="wedgeRoundRectCallout">
              <a:avLst>
                <a:gd name="adj1" fmla="val -61282"/>
                <a:gd name="adj2" fmla="val -10537"/>
                <a:gd name="adj3" fmla="val 16667"/>
              </a:avLst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2" name="Picture 1" descr=""/>
          <p:cNvPicPr/>
          <p:nvPr/>
        </p:nvPicPr>
        <p:blipFill>
          <a:blip r:embed="rId1"/>
          <a:stretch/>
        </p:blipFill>
        <p:spPr>
          <a:xfrm>
            <a:off x="1547640" y="2349360"/>
            <a:ext cx="136872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境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1547640" y="422100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税收主要分为消费税、增值税、营业税和个人所得税几类。缴纳的税款叫应纳税额，应纳税额与各种收入（销售额、营业额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的比率叫税率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" name="组合 11"/>
          <p:cNvGrpSpPr/>
          <p:nvPr/>
        </p:nvGrpSpPr>
        <p:grpSpPr>
          <a:xfrm>
            <a:off x="3419640" y="2276640"/>
            <a:ext cx="3673440" cy="1081080"/>
            <a:chOff x="3419640" y="2276640"/>
            <a:chExt cx="3673440" cy="1081080"/>
          </a:xfrm>
        </p:grpSpPr>
        <p:sp>
          <p:nvSpPr>
            <p:cNvPr id="77" name="Text Box 7"/>
            <p:cNvSpPr/>
            <p:nvPr/>
          </p:nvSpPr>
          <p:spPr>
            <a:xfrm>
              <a:off x="3419640" y="2330640"/>
              <a:ext cx="3673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税收有哪几种？什么叫应纳税额和税率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圆角矩形标注 7"/>
            <p:cNvSpPr/>
            <p:nvPr/>
          </p:nvSpPr>
          <p:spPr>
            <a:xfrm>
              <a:off x="3419640" y="2276640"/>
              <a:ext cx="3601440" cy="1081080"/>
            </a:xfrm>
            <a:prstGeom prst="wedgeRoundRectCallout">
              <a:avLst>
                <a:gd name="adj1" fmla="val -61282"/>
                <a:gd name="adj2" fmla="val -10537"/>
                <a:gd name="adj3" fmla="val 16667"/>
              </a:avLst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9" name="Picture 1" descr=""/>
          <p:cNvPicPr/>
          <p:nvPr/>
        </p:nvPicPr>
        <p:blipFill>
          <a:blip r:embed="rId1"/>
          <a:stretch/>
        </p:blipFill>
        <p:spPr>
          <a:xfrm>
            <a:off x="1547640" y="2349360"/>
            <a:ext cx="136872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2268360" y="3284640"/>
            <a:ext cx="4803840" cy="241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4" name="Text Box 7"/>
          <p:cNvSpPr/>
          <p:nvPr/>
        </p:nvSpPr>
        <p:spPr>
          <a:xfrm>
            <a:off x="1403280" y="2276640"/>
            <a:ext cx="59054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餐馆上月盈利多少元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1042920" y="2492280"/>
            <a:ext cx="12970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说一说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1835280" y="3075120"/>
            <a:ext cx="32414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什么是营业额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1835280" y="3722760"/>
            <a:ext cx="62658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这里的应缴纳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%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营业额叫什么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1835280" y="4365720"/>
            <a:ext cx="58323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小餐馆开店除纳税外还会产生哪些开支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7"/>
          <p:cNvSpPr/>
          <p:nvPr/>
        </p:nvSpPr>
        <p:spPr>
          <a:xfrm>
            <a:off x="1403280" y="2276640"/>
            <a:ext cx="59054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餐馆上月盈利多少元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1476360" y="3789360"/>
            <a:ext cx="49672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餐馆上月的开支情况如下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403280" y="4292640"/>
          <a:ext cx="6337440" cy="1011240"/>
        </p:xfrm>
        <a:graphic>
          <a:graphicData uri="http://schemas.openxmlformats.org/drawingml/2006/table">
            <a:tbl>
              <a:tblPr/>
              <a:tblGrid>
                <a:gridCol w="1584360"/>
                <a:gridCol w="1409760"/>
                <a:gridCol w="1758960"/>
                <a:gridCol w="1584360"/>
              </a:tblGrid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成本（元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房租（元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水电气费（元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其他开支（元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Administrator</cp:lastModifiedBy>
  <dcterms:modified xsi:type="dcterms:W3CDTF">2017-12-23T12:30:30Z</dcterms:modified>
  <cp:revision>357</cp:revision>
  <dc:subject/>
  <dc:title>幻灯片 1</dc:title>
</cp:coreProperties>
</file>