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949-BEB0-4C21-940E-FEB378D4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A48-B047-49D9-BEB0-0594F754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20E-57A4-4943-A599-AC40A1F9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741-4768-4584-AB5D-A2D8DCDE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83C-23D7-44FD-AA04-9853CAA7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0D9-1366-41F2-BAE7-7E91C716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94F-3A78-400C-BC71-70E51E3D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329B-C8AC-443A-A4E8-6BFF0459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73F-8776-403B-87F6-D907E0D5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845-4DC2-42B8-9A02-8914A2F2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7D89-3624-44B3-A8F7-E2ADE9FB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416-FD3F-4CD3-A9B2-C7039C01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FC17-B0F2-4792-8B35-A39D81D12C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扇形统计图应用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5280" y="0"/>
            <a:ext cx="39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黑体"/>
              </a:rPr>
              <a:t>填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63840" y="1219320"/>
            <a:ext cx="8089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和桥村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年种粮食作物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4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顷，棉花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公顷，油料作物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顷，总种植面积是（       ）公顷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其 中 粮食作物占总种植面积 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（       ）％，棉花占（       ）％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油料作物占（       ）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6800" y="266688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2520" y="41148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7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0920" y="41292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16600" y="48769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374840" y="1157400"/>
          <a:ext cx="4416480" cy="44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1157400"/>
                    <a:ext cx="4416480" cy="44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" name=""/>
          <p:cNvGrpSpPr/>
          <p:nvPr/>
        </p:nvGrpSpPr>
        <p:grpSpPr>
          <a:xfrm>
            <a:off x="3925800" y="2981160"/>
            <a:ext cx="3735720" cy="1668960"/>
            <a:chOff x="3925800" y="2981160"/>
            <a:chExt cx="3735720" cy="1668960"/>
          </a:xfrm>
        </p:grpSpPr>
        <p:graphicFrame>
          <p:nvGraphicFramePr>
            <p:cNvPr id="51" name=""/>
            <p:cNvGraphicFramePr/>
            <p:nvPr/>
          </p:nvGraphicFramePr>
          <p:xfrm>
            <a:off x="4016520" y="2981160"/>
            <a:ext cx="29052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520" y="2981160"/>
                      <a:ext cx="29052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 flipH="1" flipV="1">
              <a:off x="3925800" y="3276000"/>
              <a:ext cx="2438640" cy="6858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74960" y="388584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bbe0e3"/>
                  </a:solidFill>
                  <a:latin typeface="Times New Roman"/>
                </a:rPr>
                <a:t>圆心角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895480" y="2882880"/>
            <a:ext cx="1270080" cy="1691280"/>
            <a:chOff x="2895480" y="2882880"/>
            <a:chExt cx="1270080" cy="1691280"/>
          </a:xfrm>
        </p:grpSpPr>
        <p:graphicFrame>
          <p:nvGraphicFramePr>
            <p:cNvPr id="56" name=""/>
            <p:cNvGraphicFramePr/>
            <p:nvPr/>
          </p:nvGraphicFramePr>
          <p:xfrm>
            <a:off x="3124080" y="2882880"/>
            <a:ext cx="1041480" cy="1003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24080" y="2882880"/>
                      <a:ext cx="1041480" cy="10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2895480" y="3809880"/>
              <a:ext cx="121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36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62520" y="3962520"/>
              <a:ext cx="152280" cy="152280"/>
            </a:xfrm>
            <a:prstGeom prst="ellipse">
              <a:avLst/>
            </a:prstGeom>
            <a:noFill/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071000" y="1828800"/>
            <a:ext cx="7694280" cy="2837160"/>
            <a:chOff x="1071000" y="1828800"/>
            <a:chExt cx="7694280" cy="2837160"/>
          </a:xfrm>
        </p:grpSpPr>
        <p:sp>
          <p:nvSpPr>
            <p:cNvPr id="61" name=""/>
            <p:cNvSpPr/>
            <p:nvPr/>
          </p:nvSpPr>
          <p:spPr>
            <a:xfrm>
              <a:off x="1071000" y="1828800"/>
              <a:ext cx="76942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0   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的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0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％是（        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0   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的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％是（        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0   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的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60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％是（        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86000" y="3048120"/>
              <a:ext cx="152640" cy="152280"/>
            </a:xfrm>
            <a:prstGeom prst="ellipse">
              <a:avLst/>
            </a:prstGeom>
            <a:noFill/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2133720"/>
              <a:ext cx="152640" cy="152280"/>
            </a:xfrm>
            <a:prstGeom prst="ellipse">
              <a:avLst/>
            </a:prstGeom>
            <a:noFill/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86000" y="3886200"/>
              <a:ext cx="152640" cy="152280"/>
            </a:xfrm>
            <a:prstGeom prst="ellipse">
              <a:avLst/>
            </a:prstGeom>
            <a:noFill/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355760" y="5335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黑体"/>
              </a:rPr>
              <a:t>口答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521400" y="3641760"/>
            <a:ext cx="1555920" cy="1008360"/>
            <a:chOff x="6521400" y="3641760"/>
            <a:chExt cx="1555920" cy="1008360"/>
          </a:xfrm>
        </p:grpSpPr>
        <p:sp>
          <p:nvSpPr>
            <p:cNvPr id="67" name=""/>
            <p:cNvSpPr/>
            <p:nvPr/>
          </p:nvSpPr>
          <p:spPr>
            <a:xfrm>
              <a:off x="6521400" y="3641760"/>
              <a:ext cx="1327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3300"/>
                  </a:solidFill>
                  <a:latin typeface="Times New Roman"/>
                </a:rPr>
                <a:t>21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5040" y="3870360"/>
              <a:ext cx="152280" cy="152640"/>
            </a:xfrm>
            <a:prstGeom prst="ellipse">
              <a:avLst/>
            </a:prstGeom>
            <a:noFill/>
            <a:ln w="604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783120" y="2666880"/>
            <a:ext cx="1141560" cy="1008360"/>
            <a:chOff x="6783120" y="2666880"/>
            <a:chExt cx="1141560" cy="1008360"/>
          </a:xfrm>
        </p:grpSpPr>
        <p:sp>
          <p:nvSpPr>
            <p:cNvPr id="70" name=""/>
            <p:cNvSpPr/>
            <p:nvPr/>
          </p:nvSpPr>
          <p:spPr>
            <a:xfrm>
              <a:off x="6783120" y="26668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3300"/>
                  </a:solidFill>
                  <a:latin typeface="Times New Roman"/>
                </a:rPr>
                <a:t>3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772400" y="2895480"/>
              <a:ext cx="152280" cy="152280"/>
            </a:xfrm>
            <a:prstGeom prst="ellipse">
              <a:avLst/>
            </a:prstGeom>
            <a:noFill/>
            <a:ln w="604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554880" y="1752480"/>
            <a:ext cx="1522080" cy="1008360"/>
            <a:chOff x="6554880" y="1752480"/>
            <a:chExt cx="1522080" cy="1008360"/>
          </a:xfrm>
        </p:grpSpPr>
        <p:sp>
          <p:nvSpPr>
            <p:cNvPr id="73" name=""/>
            <p:cNvSpPr/>
            <p:nvPr/>
          </p:nvSpPr>
          <p:spPr>
            <a:xfrm>
              <a:off x="6554880" y="1752480"/>
              <a:ext cx="1323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3300"/>
                  </a:solidFill>
                  <a:latin typeface="Times New Roman"/>
                </a:rPr>
                <a:t>10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24680" y="1974600"/>
              <a:ext cx="152280" cy="152280"/>
            </a:xfrm>
            <a:prstGeom prst="ellipse">
              <a:avLst/>
            </a:prstGeom>
            <a:noFill/>
            <a:ln w="604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438280" y="2133720"/>
          <a:ext cx="4496040" cy="446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133720"/>
                    <a:ext cx="4496040" cy="44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177640" y="425520"/>
            <a:ext cx="521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在这个圆里共有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(      )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个扇形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48320" y="3081240"/>
          <a:ext cx="2286000" cy="14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081240"/>
                    <a:ext cx="228600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819520" y="2125800"/>
          <a:ext cx="3733560" cy="23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2125800"/>
                    <a:ext cx="3733560" cy="23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438280" y="3048120"/>
          <a:ext cx="4496040" cy="359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3048120"/>
                    <a:ext cx="4496040" cy="35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819520" y="2133720"/>
          <a:ext cx="4114800" cy="2363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19520" y="2133720"/>
                    <a:ext cx="411480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438280" y="2133720"/>
          <a:ext cx="4496040" cy="4495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8280" y="2133720"/>
                    <a:ext cx="44960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438280" y="3048120"/>
          <a:ext cx="4496040" cy="3590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3048120"/>
                    <a:ext cx="4496040" cy="35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488200" y="380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2438280" y="2133720"/>
          <a:ext cx="4496040" cy="446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133720"/>
                    <a:ext cx="4496040" cy="44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" name=""/>
          <p:cNvGrpSpPr/>
          <p:nvPr/>
        </p:nvGrpSpPr>
        <p:grpSpPr>
          <a:xfrm>
            <a:off x="1859760" y="304920"/>
            <a:ext cx="6931440" cy="1431360"/>
            <a:chOff x="1859760" y="304920"/>
            <a:chExt cx="6931440" cy="1431360"/>
          </a:xfrm>
        </p:grpSpPr>
        <p:sp>
          <p:nvSpPr>
            <p:cNvPr id="94" name=""/>
            <p:cNvSpPr/>
            <p:nvPr/>
          </p:nvSpPr>
          <p:spPr>
            <a:xfrm>
              <a:off x="1859760" y="304920"/>
              <a:ext cx="536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某班学生参加课外活动小组情况统计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45760" y="1093680"/>
              <a:ext cx="374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001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年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月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日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819240" y="2639880"/>
            <a:ext cx="2953080" cy="3077280"/>
            <a:chOff x="3819240" y="2639880"/>
            <a:chExt cx="2953080" cy="3077280"/>
          </a:xfrm>
        </p:grpSpPr>
        <p:sp>
          <p:nvSpPr>
            <p:cNvPr id="97" name=""/>
            <p:cNvSpPr/>
            <p:nvPr/>
          </p:nvSpPr>
          <p:spPr>
            <a:xfrm>
              <a:off x="4200120" y="2639880"/>
              <a:ext cx="987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文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84480" y="3429000"/>
              <a:ext cx="987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美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19240" y="4648320"/>
              <a:ext cx="987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体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438280" y="2133720"/>
            <a:ext cx="4419720" cy="4419360"/>
          </a:xfrm>
          <a:prstGeom prst="ellipse">
            <a:avLst/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821760" y="2639880"/>
            <a:ext cx="2952720" cy="3077280"/>
            <a:chOff x="3821760" y="2639880"/>
            <a:chExt cx="2952720" cy="3077280"/>
          </a:xfrm>
        </p:grpSpPr>
        <p:sp>
          <p:nvSpPr>
            <p:cNvPr id="102" name=""/>
            <p:cNvSpPr/>
            <p:nvPr/>
          </p:nvSpPr>
          <p:spPr>
            <a:xfrm>
              <a:off x="4202280" y="2639880"/>
              <a:ext cx="987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文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30</a:t>
              </a: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86640" y="3429000"/>
              <a:ext cx="987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美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0</a:t>
              </a: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21760" y="4648320"/>
              <a:ext cx="987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体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60</a:t>
              </a: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716440" y="3519360"/>
            <a:ext cx="942840" cy="825120"/>
            <a:chOff x="5716440" y="3519360"/>
            <a:chExt cx="942840" cy="825120"/>
          </a:xfrm>
        </p:grpSpPr>
        <p:sp>
          <p:nvSpPr>
            <p:cNvPr id="106" name=""/>
            <p:cNvSpPr/>
            <p:nvPr/>
          </p:nvSpPr>
          <p:spPr>
            <a:xfrm>
              <a:off x="5716440" y="3519360"/>
              <a:ext cx="942840" cy="8251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36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7120" y="3695400"/>
              <a:ext cx="142920" cy="128520"/>
            </a:xfrm>
            <a:prstGeom prst="ellipse">
              <a:avLst/>
            </a:prstGeom>
            <a:solidFill>
              <a:srgbClr val="ffff66"/>
            </a:solidFill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963960" y="2666880"/>
            <a:ext cx="1522440" cy="1008360"/>
            <a:chOff x="3963960" y="2666880"/>
            <a:chExt cx="1522440" cy="1008360"/>
          </a:xfrm>
        </p:grpSpPr>
        <p:sp>
          <p:nvSpPr>
            <p:cNvPr id="109" name=""/>
            <p:cNvSpPr/>
            <p:nvPr/>
          </p:nvSpPr>
          <p:spPr>
            <a:xfrm>
              <a:off x="3963960" y="2666880"/>
              <a:ext cx="1323720" cy="100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10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34120" y="2889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809880" y="4632480"/>
            <a:ext cx="1555920" cy="1008360"/>
            <a:chOff x="3809880" y="4632480"/>
            <a:chExt cx="1555920" cy="1008360"/>
          </a:xfrm>
        </p:grpSpPr>
        <p:sp>
          <p:nvSpPr>
            <p:cNvPr id="112" name=""/>
            <p:cNvSpPr/>
            <p:nvPr/>
          </p:nvSpPr>
          <p:spPr>
            <a:xfrm>
              <a:off x="3809880" y="4632480"/>
              <a:ext cx="1327320" cy="10083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21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13160" y="4860720"/>
              <a:ext cx="152640" cy="151920"/>
            </a:xfrm>
            <a:prstGeom prst="ellipse">
              <a:avLst/>
            </a:prstGeom>
            <a:solidFill>
              <a:srgbClr val="00ff00"/>
            </a:solidFill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1866240" y="304920"/>
            <a:ext cx="6924960" cy="1431360"/>
            <a:chOff x="1866240" y="304920"/>
            <a:chExt cx="6924960" cy="1431360"/>
          </a:xfrm>
        </p:grpSpPr>
        <p:sp>
          <p:nvSpPr>
            <p:cNvPr id="115" name=""/>
            <p:cNvSpPr/>
            <p:nvPr/>
          </p:nvSpPr>
          <p:spPr>
            <a:xfrm>
              <a:off x="1866240" y="304920"/>
              <a:ext cx="536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李明班上同学参加球类活动情况统计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45760" y="1093680"/>
              <a:ext cx="374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001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年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月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日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" name=""/>
          <p:cNvGraphicFramePr/>
          <p:nvPr/>
        </p:nvGraphicFramePr>
        <p:xfrm>
          <a:off x="2209680" y="1712880"/>
          <a:ext cx="4800600" cy="47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712880"/>
                    <a:ext cx="4800600" cy="47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352680" y="236232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篮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2514600"/>
            <a:ext cx="1600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羽毛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4556160"/>
            <a:ext cx="1524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乒乓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426708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足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35812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581280" y="4083120"/>
          <a:ext cx="3429000" cy="24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4083120"/>
                    <a:ext cx="34290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182680" y="1676520"/>
          <a:ext cx="2541600" cy="464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82680" y="1676520"/>
                    <a:ext cx="25416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419720" y="1676520"/>
          <a:ext cx="2590560" cy="25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1676520"/>
                    <a:ext cx="259056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09680" y="3290760"/>
          <a:ext cx="2590920" cy="90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3290760"/>
                    <a:ext cx="259092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9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47640" y="2060640"/>
            <a:ext cx="3481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6:56:57Z</dcterms:created>
  <dc:creator>wujianhua</dc:creator>
  <dc:description/>
  <dc:language>en-US</dc:language>
  <cp:lastModifiedBy>User</cp:lastModifiedBy>
  <dcterms:modified xsi:type="dcterms:W3CDTF">2016-01-26T10:46:27Z</dcterms:modified>
  <cp:revision>3</cp:revision>
  <dc:subject/>
  <dc:title>幻灯片 1</dc:title>
</cp:coreProperties>
</file>