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type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89A7-59DD-48C0-BF91-6D7D18B50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EC89-A136-4D9F-962E-B7453804C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A82A-EFAA-43B9-96B1-AEC425C23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F9B6-5204-4D30-843F-9219E9D16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8855-F74C-4661-AFA5-294C74058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92EE-F0A5-421D-84FB-243D226E5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6695-9C92-4B43-A5A8-6EAEE1AFD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F985-58EF-4F70-A1DF-05BAC928B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B085-C543-4055-8298-02A5A0949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001C-984D-4642-A2E8-90B5A073F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EB96-9DB5-4571-9BD9-734D35D15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11A7-EAB1-4F86-9B48-3F198C60E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98837-8E68-4F28-8786-3A9EDFC53A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27280" y="2133720"/>
            <a:ext cx="4191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33399"/>
                </a:solidFill>
                <a:latin typeface="Times New Roman"/>
                <a:ea typeface="隶书"/>
              </a:rPr>
              <a:t>税    收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124080" y="0"/>
            <a:ext cx="2895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333399"/>
                </a:solidFill>
                <a:latin typeface="Times New Roman"/>
                <a:ea typeface="隶书"/>
              </a:rPr>
              <a:t>税  收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295280"/>
            <a:ext cx="8458200" cy="52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讨论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：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什么是税收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为什么要税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某汽车制造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00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生产小汽车销售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6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万元，向国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缴税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万元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某老师去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对外讲演收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8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元，向国家缴税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元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00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全国财政收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637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亿元，其中税收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517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亿元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00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，中央财政用于养老保险基金补贴、国有企业下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职工基本生活费补助、居民生活保障费等社会保障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9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亿元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00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，中央财政的教育支出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亿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0"/>
            <a:ext cx="2895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333399"/>
                </a:solidFill>
                <a:latin typeface="Times New Roman"/>
                <a:ea typeface="隶书"/>
              </a:rPr>
              <a:t>纳  税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114300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税的种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81080" y="18288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增值税、消费税、营业税、个人所得税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2286000"/>
            <a:ext cx="51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应纳税额：就是缴纳的税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2971800"/>
            <a:ext cx="8229600" cy="35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请您说说下面的应纳税额各是多少？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南海水泥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00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向国家缴纳增值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万元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华胜宾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00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的营业额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94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万元，应向国家缴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营业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万元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重庆卷烟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00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销售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0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万元，应缴纳消费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2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万元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张老师的月工资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4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元，每月应缴纳个人所得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24080" y="0"/>
            <a:ext cx="2895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333399"/>
                </a:solidFill>
                <a:latin typeface="Times New Roman"/>
                <a:ea typeface="隶书"/>
              </a:rPr>
              <a:t>纳  税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28600" y="1143000"/>
            <a:ext cx="7543800" cy="1663560"/>
            <a:chOff x="228600" y="1143000"/>
            <a:chExt cx="7543800" cy="1663560"/>
          </a:xfrm>
        </p:grpSpPr>
        <p:sp>
          <p:nvSpPr>
            <p:cNvPr id="51" name=""/>
            <p:cNvSpPr/>
            <p:nvPr/>
          </p:nvSpPr>
          <p:spPr>
            <a:xfrm>
              <a:off x="228600" y="1143000"/>
              <a:ext cx="2362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税的种类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981080" y="1828800"/>
              <a:ext cx="579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增值税、消费税、营业税、个人所得税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981080" y="2286000"/>
              <a:ext cx="518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应纳税额：就是缴纳的税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685800" y="2819520"/>
            <a:ext cx="74674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根据纳税种类的不同，应缴纳额的计算方法也有所不同，应缴纳额与各种收入（销售额、营业额等）的比率叫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税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根据税率的定义你能写出计算税率的公式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057400" y="5181480"/>
            <a:ext cx="4267080" cy="1187640"/>
            <a:chOff x="2057400" y="5181480"/>
            <a:chExt cx="4267080" cy="1187640"/>
          </a:xfrm>
        </p:grpSpPr>
        <p:sp>
          <p:nvSpPr>
            <p:cNvPr id="56" name=""/>
            <p:cNvSpPr/>
            <p:nvPr/>
          </p:nvSpPr>
          <p:spPr>
            <a:xfrm>
              <a:off x="2057400" y="5181480"/>
              <a:ext cx="4267080" cy="11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            </a:t>
              </a:r>
              <a:r>
                <a:rPr b="1" lang="zh-CN" sz="2400" spc="-1" strike="noStrike">
                  <a:solidFill>
                    <a:srgbClr val="660033"/>
                  </a:solidFill>
                  <a:latin typeface="Times New Roman"/>
                </a:rPr>
                <a:t>应纳税额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6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660033"/>
                  </a:solidFill>
                  <a:latin typeface="Times New Roman"/>
                </a:rPr>
                <a:t>税率</a:t>
              </a:r>
              <a:r>
                <a:rPr b="1" lang="zh-CN" sz="2400" spc="-1" strike="noStrike">
                  <a:solidFill>
                    <a:srgbClr val="660033"/>
                  </a:solidFill>
                  <a:latin typeface="Times New Roman"/>
                </a:rPr>
                <a:t>=                       ×10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6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660033"/>
                  </a:solidFill>
                  <a:latin typeface="Times New Roman"/>
                </a:rPr>
                <a:t>             </a:t>
              </a:r>
              <a:r>
                <a:rPr b="1" lang="zh-CN" sz="2400" spc="-1" strike="noStrike">
                  <a:solidFill>
                    <a:srgbClr val="660033"/>
                  </a:solidFill>
                  <a:latin typeface="Times New Roman"/>
                </a:rPr>
                <a:t>各种收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047760" y="57150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124080" y="0"/>
            <a:ext cx="2895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333399"/>
                </a:solidFill>
                <a:latin typeface="Times New Roman"/>
                <a:ea typeface="隶书"/>
              </a:rPr>
              <a:t>纳  税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28600" y="1143000"/>
            <a:ext cx="7543800" cy="1663560"/>
            <a:chOff x="228600" y="1143000"/>
            <a:chExt cx="7543800" cy="1663560"/>
          </a:xfrm>
        </p:grpSpPr>
        <p:sp>
          <p:nvSpPr>
            <p:cNvPr id="60" name=""/>
            <p:cNvSpPr/>
            <p:nvPr/>
          </p:nvSpPr>
          <p:spPr>
            <a:xfrm>
              <a:off x="228600" y="1143000"/>
              <a:ext cx="2362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税的种类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81080" y="1828800"/>
              <a:ext cx="579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增值税、消费税、营业税、个人所得税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981080" y="2286000"/>
              <a:ext cx="518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应纳税额：就是缴纳的税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2514600" y="3048120"/>
            <a:ext cx="4267080" cy="1187640"/>
            <a:chOff x="2514600" y="3048120"/>
            <a:chExt cx="4267080" cy="1187640"/>
          </a:xfrm>
        </p:grpSpPr>
        <p:sp>
          <p:nvSpPr>
            <p:cNvPr id="64" name=""/>
            <p:cNvSpPr/>
            <p:nvPr/>
          </p:nvSpPr>
          <p:spPr>
            <a:xfrm>
              <a:off x="2514600" y="3048120"/>
              <a:ext cx="4267080" cy="11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            </a:t>
              </a:r>
              <a:r>
                <a:rPr b="1" lang="zh-CN" sz="2400" spc="-1" strike="noStrike">
                  <a:solidFill>
                    <a:srgbClr val="660033"/>
                  </a:solidFill>
                  <a:latin typeface="Times New Roman"/>
                </a:rPr>
                <a:t>应纳税额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6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660033"/>
                  </a:solidFill>
                  <a:latin typeface="Times New Roman"/>
                </a:rPr>
                <a:t>税率</a:t>
              </a:r>
              <a:r>
                <a:rPr b="1" lang="zh-CN" sz="2400" spc="-1" strike="noStrike">
                  <a:solidFill>
                    <a:srgbClr val="660033"/>
                  </a:solidFill>
                  <a:latin typeface="Times New Roman"/>
                </a:rPr>
                <a:t>=                       ×10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6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660033"/>
                  </a:solidFill>
                  <a:latin typeface="Times New Roman"/>
                </a:rPr>
                <a:t>             </a:t>
              </a:r>
              <a:r>
                <a:rPr b="1" lang="zh-CN" sz="2400" spc="-1" strike="noStrike">
                  <a:solidFill>
                    <a:srgbClr val="660033"/>
                  </a:solidFill>
                  <a:latin typeface="Times New Roman"/>
                </a:rPr>
                <a:t>各种收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04960" y="358164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685800" y="4191120"/>
            <a:ext cx="7772400" cy="24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、增值税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17%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或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13%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、消费税根据消费品种的不同从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3%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到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50%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不等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、营业税分行业从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3%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到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20%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不等，如交通业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5%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，娱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行业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20%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、个人所得税按收入的高低从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5%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到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45%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不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24080" y="0"/>
            <a:ext cx="2895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333399"/>
                </a:solidFill>
                <a:latin typeface="Times New Roman"/>
                <a:ea typeface="隶书"/>
              </a:rPr>
              <a:t>纳  税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129528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例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1905120"/>
            <a:ext cx="73152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家大型饭店七月份的营业额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0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万元。如果按营业额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缴纳营业税，这家饭店七月份应缴纳税款多少万元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90920" y="419112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3000×5%=15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万元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52480" y="510552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：这家饭店七月份应缴纳税款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15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万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124080" y="0"/>
            <a:ext cx="2895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333399"/>
                </a:solidFill>
                <a:latin typeface="Times New Roman"/>
                <a:ea typeface="隶书"/>
              </a:rPr>
              <a:t>纳  税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380880" y="1371600"/>
            <a:ext cx="1828800" cy="533520"/>
            <a:chOff x="380880" y="1371600"/>
            <a:chExt cx="1828800" cy="533520"/>
          </a:xfrm>
        </p:grpSpPr>
        <p:sp>
          <p:nvSpPr>
            <p:cNvPr id="74" name=""/>
            <p:cNvSpPr/>
            <p:nvPr/>
          </p:nvSpPr>
          <p:spPr>
            <a:xfrm>
              <a:off x="380880" y="1447920"/>
              <a:ext cx="1828800" cy="457200"/>
            </a:xfrm>
            <a:custGeom>
              <a:avLst/>
              <a:gdLst>
                <a:gd name="textAreaLeft" fmla="*/ 0 w 1828800"/>
                <a:gd name="textAreaRight" fmla="*/ 1829160 w 18288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57200" y="13716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bbe0e3"/>
                  </a:solidFill>
                  <a:latin typeface="Times New Roman"/>
                </a:rPr>
                <a:t>做一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1219320" y="2209680"/>
            <a:ext cx="7010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家汽车运输公司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月份的营业额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60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元。如果按营业额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缴纳营业税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月份应缴纳营业税多少元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42670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26000×3%=78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181480"/>
            <a:ext cx="55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答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月份应缴纳营业税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78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1835280" y="1628640"/>
            <a:ext cx="3193920" cy="202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再见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0T11:15:13Z</dcterms:created>
  <dc:creator>User</dc:creator>
  <dc:description/>
  <dc:language>en-US</dc:language>
  <cp:lastModifiedBy>User</cp:lastModifiedBy>
  <dcterms:modified xsi:type="dcterms:W3CDTF">2016-01-23T04:58:13Z</dcterms:modified>
  <cp:revision>2</cp:revision>
  <dc:subject/>
  <dc:title>幻灯片 1</dc:title>
</cp:coreProperties>
</file>