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F7C-FEF4-49F0-8963-2D47B2AC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30A-0846-440C-92A5-F3A6A377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39C-A493-42B6-B2EA-35F30ED6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4EE-4B7B-4522-B484-3C124CC2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B74-EC41-42FF-9FA9-D453D4FE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FE2-795B-49BB-BA25-7FE21CF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548-4D7C-4E9D-AC91-CEFC743D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99E-0B54-45DA-8B58-F3AD0EC4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ECA-635B-4A37-89E8-409F4ABD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293-23F0-41EE-ACF9-B0584B7B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41B-5442-468A-855F-65FE1365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D78-A09C-4C70-8B2F-90232655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C80F-A1D1-47BE-A3CB-0F8B6C7C67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圆锥的认识和体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00000" y="2133720"/>
          <a:ext cx="7488360" cy="3024000"/>
        </p:xfrm>
        <a:graphic>
          <a:graphicData uri="http://schemas.openxmlformats.org/drawingml/2006/table">
            <a:tbl>
              <a:tblPr/>
              <a:tblGrid>
                <a:gridCol w="1871640"/>
                <a:gridCol w="1729080"/>
                <a:gridCol w="1726920"/>
                <a:gridCol w="2160720"/>
              </a:tblGrid>
              <a:tr h="60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         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锥的体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半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直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周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3340080" y="1397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表：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24000" y="90792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体底面是什么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19280" y="2205000"/>
            <a:ext cx="1440000" cy="2160720"/>
            <a:chOff x="1619280" y="2205000"/>
            <a:chExt cx="1440000" cy="2160720"/>
          </a:xfrm>
        </p:grpSpPr>
        <p:sp>
          <p:nvSpPr>
            <p:cNvPr id="44" name=""/>
            <p:cNvSpPr/>
            <p:nvPr/>
          </p:nvSpPr>
          <p:spPr>
            <a:xfrm>
              <a:off x="1619280" y="2205000"/>
              <a:ext cx="1440000" cy="187344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19280" y="3789360"/>
              <a:ext cx="1440000" cy="57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835280" y="378936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3789360"/>
            <a:ext cx="1440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78936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789360"/>
            <a:ext cx="1440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787920"/>
            <a:ext cx="1439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3716280"/>
            <a:ext cx="1440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3645000"/>
            <a:ext cx="1440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3573360"/>
            <a:ext cx="1440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3500280"/>
            <a:ext cx="1440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429000"/>
            <a:ext cx="1439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357720"/>
            <a:ext cx="143964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357720"/>
            <a:ext cx="143964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9980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19280" y="2205000"/>
            <a:ext cx="1440000" cy="18734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3789360"/>
            <a:ext cx="144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220500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205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40766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348000" y="342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42080" y="285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500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只有一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2276640"/>
            <a:ext cx="4753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圆锥顶点到底面的距离叫做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35280" y="1844640"/>
            <a:ext cx="1296720" cy="2305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133720"/>
            <a:ext cx="1296720" cy="15843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09040" y="29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357192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371628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860640"/>
            <a:ext cx="1295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4005360"/>
            <a:ext cx="12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4148280"/>
            <a:ext cx="129564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4292640"/>
            <a:ext cx="1295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4437000"/>
            <a:ext cx="1295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364500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3789360"/>
            <a:ext cx="1295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3860640"/>
            <a:ext cx="12952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5080" y="3933720"/>
            <a:ext cx="129564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4005360"/>
            <a:ext cx="1295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4149720"/>
            <a:ext cx="1295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4221000"/>
            <a:ext cx="136836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4292640"/>
            <a:ext cx="1368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4437000"/>
            <a:ext cx="136872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35280" y="1844640"/>
            <a:ext cx="1296720" cy="2305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205000"/>
            <a:ext cx="0" cy="158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2133720"/>
            <a:ext cx="1296720" cy="15843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429000"/>
            <a:ext cx="1295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339640" y="213192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2133720"/>
            <a:ext cx="0" cy="158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68000" y="371628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9304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66000" y="220500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等底、等高的圆柱体和圆锥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它们之间具有怎样的关系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43720" y="1844640"/>
            <a:ext cx="14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锥的体积等于和它等底、等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柱体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24800" y="4076640"/>
            <a:ext cx="4362840" cy="1046520"/>
            <a:chOff x="2224800" y="4076640"/>
            <a:chExt cx="4362840" cy="1046520"/>
          </a:xfrm>
        </p:grpSpPr>
        <p:grpSp>
          <p:nvGrpSpPr>
            <p:cNvPr id="103" name=""/>
            <p:cNvGrpSpPr/>
            <p:nvPr/>
          </p:nvGrpSpPr>
          <p:grpSpPr>
            <a:xfrm>
              <a:off x="5632560" y="4076640"/>
              <a:ext cx="955080" cy="1046520"/>
              <a:chOff x="5632560" y="4076640"/>
              <a:chExt cx="955080" cy="1046520"/>
            </a:xfrm>
          </p:grpSpPr>
          <p:sp>
            <p:nvSpPr>
              <p:cNvPr id="104" name=""/>
              <p:cNvSpPr/>
              <p:nvPr/>
            </p:nvSpPr>
            <p:spPr>
              <a:xfrm>
                <a:off x="5684760" y="4076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03840" y="4541760"/>
                <a:ext cx="883800" cy="581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2560" y="4613400"/>
                <a:ext cx="57456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224800" y="4316400"/>
              <a:ext cx="39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用字母可表示为：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556000" y="2735280"/>
            <a:ext cx="955080" cy="1046520"/>
            <a:chOff x="2556000" y="2735280"/>
            <a:chExt cx="955080" cy="1046520"/>
          </a:xfrm>
        </p:grpSpPr>
        <p:sp>
          <p:nvSpPr>
            <p:cNvPr id="109" name=""/>
            <p:cNvSpPr/>
            <p:nvPr/>
          </p:nvSpPr>
          <p:spPr>
            <a:xfrm>
              <a:off x="2608200" y="2735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27280" y="3200400"/>
              <a:ext cx="88380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0" y="3272040"/>
              <a:ext cx="57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1268280"/>
            <a:ext cx="8354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 等底等高的圆柱体和圆锥体，圆柱体的体积是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这个圆锥体体积的（        ）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一个圆柱体和一个圆锥体等底等高。已知圆柱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体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米，圆锥的体积（      ）立方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一个圆锥的体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分米。和这个圆锥的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面直径相等，高也相等的圆柱的体积是（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立方分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把一个圆柱体木块削成一个和它同底等高的圆锥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体，体积减少了（            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5640" y="5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852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97760" y="2900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82520" y="40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427640" y="5516640"/>
            <a:ext cx="955080" cy="873720"/>
            <a:chOff x="4427640" y="5516640"/>
            <a:chExt cx="955080" cy="873720"/>
          </a:xfrm>
        </p:grpSpPr>
        <p:sp>
          <p:nvSpPr>
            <p:cNvPr id="118" name=""/>
            <p:cNvSpPr/>
            <p:nvPr/>
          </p:nvSpPr>
          <p:spPr>
            <a:xfrm>
              <a:off x="4479840" y="5516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8920" y="5930640"/>
              <a:ext cx="8838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27640" y="6002280"/>
              <a:ext cx="57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7360" y="1773360"/>
            <a:ext cx="29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一个圆锥形状的石膏模型，底面积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2.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方厘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高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厘米。这个石膏模型的体积是多少立方厘米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72040" y="3068640"/>
            <a:ext cx="2199960" cy="1299240"/>
            <a:chOff x="3272040" y="3068640"/>
            <a:chExt cx="2199960" cy="1299240"/>
          </a:xfrm>
        </p:grpSpPr>
        <p:sp>
          <p:nvSpPr>
            <p:cNvPr id="123" name=""/>
            <p:cNvSpPr/>
            <p:nvPr/>
          </p:nvSpPr>
          <p:spPr>
            <a:xfrm>
              <a:off x="3272040" y="3176640"/>
              <a:ext cx="219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.3×5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0.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立方厘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572000" y="3068640"/>
              <a:ext cx="433440" cy="657000"/>
              <a:chOff x="4572000" y="3068640"/>
              <a:chExt cx="433440" cy="657000"/>
            </a:xfrm>
          </p:grpSpPr>
          <p:sp>
            <p:nvSpPr>
              <p:cNvPr id="125" name=""/>
              <p:cNvSpPr/>
              <p:nvPr/>
            </p:nvSpPr>
            <p:spPr>
              <a:xfrm>
                <a:off x="4575240" y="306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72000" y="3357360"/>
                <a:ext cx="433440" cy="36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3440" y="3429000"/>
                <a:ext cx="36036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51120" y="443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这个石膏模型的体积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1:09:14Z</dcterms:created>
  <dc:creator>User</dc:creator>
  <dc:description/>
  <dc:language>en-US</dc:language>
  <cp:lastModifiedBy>User</cp:lastModifiedBy>
  <dcterms:modified xsi:type="dcterms:W3CDTF">2016-01-23T05:16:09Z</dcterms:modified>
  <cp:revision>2</cp:revision>
  <dc:subject/>
  <dc:title>幻灯片 1</dc:title>
</cp:coreProperties>
</file>