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5.jpeg" ContentType="image/jpeg"/>
  <Override PartName="/ppt/media/image4.png" ContentType="image/png"/>
  <Override PartName="/ppt/media/image2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6.png" ContentType="image/png"/>
  <Override PartName="/ppt/media/chimes.wav" ContentType="audio/x-wav"/>
  <Override PartName="/ppt/media/image8.png" ContentType="image/png"/>
  <Override PartName="/ppt/media/image2.png" ContentType="image/png"/>
  <Override PartName="/ppt/media/image3.png" ContentType="image/png"/>
  <Override PartName="/ppt/media/image6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445-4E62-419C-94D7-024AA638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F46-B210-4AE6-83CB-C092017C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43D-6A31-4EEF-8D9E-1EF3A98C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AE8-5A0D-4D1D-B82C-35CC932D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E494-0A60-4B31-8DC6-C9FA642A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DBF1-8252-4357-BB8E-51843BA6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BBAD-9B57-40A4-AF00-8B26E1D7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868E-A66F-4530-BF7C-00A3B718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0FE4-575A-45C3-BF36-AADEF602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610E-A6DB-4059-A03E-DC790DCD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B988-AFE9-496E-BA31-FE27402A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A61-0974-4F2A-BCCD-666D3CF6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6A1D-1A9D-4635-8DC5-E8FC119B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817E-A427-4BF3-A537-85A8585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7652-6387-4257-A283-1984548B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3FDC-A72B-4DDC-9B11-8A49C9B4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2F50-EF80-47A2-BDC4-AE594D37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8FB4-BC28-4BDA-80EE-E0D0E8F2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92901-FEDA-4B77-95B6-BB5A07CA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31B5-28C7-453E-8616-E268CF2D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88847-06DD-4A30-8DD2-43AB9665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8623-5205-40B7-85BF-5FF3BA1C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1FF-732E-4324-9D08-723088E3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670B-6E6F-4237-ACE6-E32707A6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93E9-4306-490B-A865-750D097E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ED5E-F25A-4ADA-8700-CF628650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C7BF-D26C-40CA-97BD-7C2A67A1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D86E-0307-4D28-9F0F-F713FF07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1AC6D-9736-4714-AF03-77580BC9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F03B-637B-4AEA-AE5F-943BC1FB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C8D-B8F5-4C1A-8F91-18646E9A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AE4-99FA-4A41-A717-FA7140C3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DCE-9CA4-412A-AAEC-833B4EF6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301-8963-42A2-B76C-509D4532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978-61A6-4465-AC35-AC3CD55F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674-36EF-41FB-8E9C-BA158546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BDB7-3117-426B-93FA-98137CA8B1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99A6-89C4-4AD8-905B-D26B180676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6A59-3BAD-4076-A435-942A6544BF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0440" y="471600"/>
            <a:ext cx="8761320" cy="591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44080" y="241632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新宋体"/>
              </a:rPr>
              <a:t>成正比例的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820360" cy="7248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760" y="1133640"/>
            <a:ext cx="87343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一看是不是（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二看是不是（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三看是不是（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69920" y="1230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相关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73520" y="4486320"/>
            <a:ext cx="26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商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3960" y="176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判定两个量是不是成正比例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73160" y="2712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能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822920" y="5850000"/>
            <a:ext cx="3529080" cy="1010520"/>
            <a:chOff x="4822920" y="5850000"/>
            <a:chExt cx="3529080" cy="1010520"/>
          </a:xfrm>
        </p:grpSpPr>
        <p:sp>
          <p:nvSpPr>
            <p:cNvPr id="396" name="未知"/>
            <p:cNvSpPr/>
            <p:nvPr/>
          </p:nvSpPr>
          <p:spPr>
            <a:xfrm>
              <a:off x="4822920" y="5850000"/>
              <a:ext cx="3313080" cy="1008000"/>
            </a:xfrm>
            <a:custGeom>
              <a:avLst/>
              <a:gdLst/>
              <a:ahLst/>
              <a:rect l="l" t="t" r="r" b="b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83280" y="6096240"/>
              <a:ext cx="31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99"/>
                  </a:solidFill>
                  <a:latin typeface="Arial"/>
                  <a:ea typeface="华文新魏"/>
                </a:rPr>
                <a:t>我的收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639200" y="5013360"/>
            <a:ext cx="1504800" cy="1495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87280" y="809640"/>
            <a:ext cx="88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8120" y="871560"/>
            <a:ext cx="82296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、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水的体积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）和（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）是相关联的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又是能变化的量，而且（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比值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）是一定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所以水的体积和高是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成正比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）的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3840" y="4179960"/>
            <a:ext cx="741060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☞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排球的总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数量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是相关联的量，又是能变化的量，而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比值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是一定的，所以排球的总价和数量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成正比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的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79280" y="654120"/>
            <a:ext cx="8796600" cy="5943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-87480" y="-1477800"/>
            <a:ext cx="17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340000" y="3498840"/>
            <a:ext cx="4751280" cy="1227240"/>
            <a:chOff x="2340000" y="3498840"/>
            <a:chExt cx="4751280" cy="1227240"/>
          </a:xfrm>
        </p:grpSpPr>
        <p:sp>
          <p:nvSpPr>
            <p:cNvPr id="405" name=""/>
            <p:cNvSpPr/>
            <p:nvPr/>
          </p:nvSpPr>
          <p:spPr>
            <a:xfrm>
              <a:off x="2340000" y="3641760"/>
              <a:ext cx="4751280" cy="1077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62880" y="3498840"/>
              <a:ext cx="46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Monotype Corsiva"/>
                  <a:ea typeface="华文新魏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86920" y="40226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Monotype Corsiva"/>
                  <a:ea typeface="华文新魏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86200" y="4194000"/>
              <a:ext cx="64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61640" y="3902040"/>
              <a:ext cx="921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＝</a:t>
              </a:r>
              <a:r>
                <a:rPr b="1" lang="en-US" sz="4000" spc="-1" strike="noStrike">
                  <a:solidFill>
                    <a:srgbClr val="ff3300"/>
                  </a:solidFill>
                  <a:latin typeface="Monotype Corsiva"/>
                  <a:ea typeface="华文新魏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35720" y="387684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（一定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84360" y="1268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如果用字母</a:t>
            </a:r>
            <a:r>
              <a:rPr b="0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和</a:t>
            </a:r>
            <a:r>
              <a:rPr b="0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y</a:t>
            </a:r>
            <a:r>
              <a:rPr b="0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表示两种相关联的量，用</a:t>
            </a:r>
            <a:r>
              <a:rPr b="0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k</a:t>
            </a:r>
            <a:r>
              <a:rPr b="0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表示它们的比值（一定），正比例关系可以用下面的式子表示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810640" cy="5904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288160" y="12254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  <a:ea typeface="华文彩云"/>
              </a:rPr>
              <a:t>智慧城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977720" y="3213000"/>
            <a:ext cx="3447000" cy="2519280"/>
            <a:chOff x="4977720" y="3213000"/>
            <a:chExt cx="3447000" cy="2519280"/>
          </a:xfrm>
        </p:grpSpPr>
        <p:sp>
          <p:nvSpPr>
            <p:cNvPr id="415" name="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加油啊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" descr=""/>
            <p:cNvPicPr/>
            <p:nvPr/>
          </p:nvPicPr>
          <p:blipFill>
            <a:blip r:embed="rId3"/>
            <a:stretch/>
          </p:blipFill>
          <p:spPr>
            <a:xfrm>
              <a:off x="7164360" y="3213000"/>
              <a:ext cx="126036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713800" cy="48434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1763640" y="765000"/>
            <a:ext cx="547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猜我猜大家猜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1557360"/>
            <a:ext cx="8642160" cy="482436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258920" y="4797360"/>
            <a:ext cx="6624720" cy="1512720"/>
            <a:chOff x="1258920" y="4797360"/>
            <a:chExt cx="6624720" cy="1512720"/>
          </a:xfrm>
        </p:grpSpPr>
        <p:sp>
          <p:nvSpPr>
            <p:cNvPr id="421" name=""/>
            <p:cNvSpPr/>
            <p:nvPr/>
          </p:nvSpPr>
          <p:spPr>
            <a:xfrm>
              <a:off x="1260360" y="4797360"/>
              <a:ext cx="6264360" cy="151272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58920" y="4825800"/>
              <a:ext cx="66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3300"/>
                  </a:solidFill>
                  <a:latin typeface="Arial"/>
                  <a:ea typeface="华文新魏"/>
                </a:rPr>
                <a:t>轮船行驶的速度一定，行驶的路程和时间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24000" y="155736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面每题中的两种量是不是成正比例，并说明理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763640" y="765000"/>
            <a:ext cx="547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猜我猜大家猜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5" name=""/>
          <p:cNvSpPr/>
          <p:nvPr/>
        </p:nvSpPr>
        <p:spPr>
          <a:xfrm>
            <a:off x="250920" y="1557360"/>
            <a:ext cx="8642160" cy="4824360"/>
          </a:xfrm>
          <a:prstGeom prst="rect">
            <a:avLst/>
          </a:prstGeom>
          <a:solidFill>
            <a:srgbClr val="bfebc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90520" y="5489640"/>
            <a:ext cx="8853120" cy="880920"/>
            <a:chOff x="290520" y="5489640"/>
            <a:chExt cx="8853120" cy="880920"/>
          </a:xfrm>
        </p:grpSpPr>
        <p:sp>
          <p:nvSpPr>
            <p:cNvPr id="427" name=""/>
            <p:cNvSpPr/>
            <p:nvPr/>
          </p:nvSpPr>
          <p:spPr>
            <a:xfrm>
              <a:off x="483120" y="5489640"/>
              <a:ext cx="8371440" cy="88092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0520" y="5489640"/>
              <a:ext cx="8853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3300"/>
                  </a:solidFill>
                  <a:latin typeface="Arial"/>
                  <a:ea typeface="华文新魏"/>
                </a:rPr>
                <a:t>长方形的宽一定</a:t>
              </a:r>
              <a:r>
                <a:rPr b="1" lang="en-US" sz="4400" spc="-1" strike="noStrike">
                  <a:solidFill>
                    <a:srgbClr val="993300"/>
                  </a:solidFill>
                  <a:latin typeface="Arial"/>
                  <a:ea typeface="华文新魏"/>
                </a:rPr>
                <a:t>,</a:t>
              </a:r>
              <a:r>
                <a:rPr b="1" lang="zh-CN" sz="4400" spc="-1" strike="noStrike">
                  <a:solidFill>
                    <a:srgbClr val="993300"/>
                  </a:solidFill>
                  <a:latin typeface="Arial"/>
                  <a:ea typeface="华文新魏"/>
                </a:rPr>
                <a:t>长和它的面积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2452680" y="1800360"/>
            <a:ext cx="4267080" cy="2743200"/>
          </a:xfrm>
          <a:prstGeom prst="rect">
            <a:avLst/>
          </a:prstGeom>
          <a:solidFill>
            <a:srgbClr val="ff99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5400000">
            <a:off x="4397400" y="2609280"/>
            <a:ext cx="347760" cy="4237200"/>
          </a:xfrm>
          <a:custGeom>
            <a:avLst/>
            <a:gdLst>
              <a:gd name="textAreaLeft" fmla="*/ 0 w 347760"/>
              <a:gd name="textAreaRight" fmla="*/ 125640 w 347760"/>
              <a:gd name="textAreaTop" fmla="*/ 110160 h 4237200"/>
              <a:gd name="textAreaBottom" fmla="*/ 4127040 h 423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61040" y="4830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763640" y="765000"/>
            <a:ext cx="547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猜我猜大家猜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3" name=""/>
          <p:cNvSpPr/>
          <p:nvPr/>
        </p:nvSpPr>
        <p:spPr>
          <a:xfrm>
            <a:off x="250920" y="1557360"/>
            <a:ext cx="8642160" cy="482436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92000" y="2000160"/>
            <a:ext cx="7451640" cy="3632760"/>
            <a:chOff x="792000" y="2000160"/>
            <a:chExt cx="7451640" cy="3632760"/>
          </a:xfrm>
        </p:grpSpPr>
        <p:sp>
          <p:nvSpPr>
            <p:cNvPr id="435" name=""/>
            <p:cNvSpPr/>
            <p:nvPr/>
          </p:nvSpPr>
          <p:spPr>
            <a:xfrm>
              <a:off x="954360" y="2000160"/>
              <a:ext cx="7046280" cy="363276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2000" y="2000160"/>
              <a:ext cx="7451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3300"/>
                  </a:solidFill>
                  <a:latin typeface="Arial"/>
                  <a:ea typeface="华文新魏"/>
                </a:rPr>
                <a:t>《小学生作文》的单价一定，总价和订阅的数量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50920" y="1557360"/>
            <a:ext cx="8642160" cy="4824360"/>
          </a:xfrm>
          <a:prstGeom prst="rect">
            <a:avLst/>
          </a:prstGeom>
          <a:solidFill>
            <a:srgbClr val="bfebc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5239080" cy="4714920"/>
          </a:xfrm>
          <a:prstGeom prst="rect">
            <a:avLst/>
          </a:prstGeom>
          <a:ln w="0">
            <a:noFill/>
          </a:ln>
        </p:spPr>
      </p:pic>
      <p:grpSp>
        <p:nvGrpSpPr>
          <p:cNvPr id="439" name=""/>
          <p:cNvGrpSpPr/>
          <p:nvPr/>
        </p:nvGrpSpPr>
        <p:grpSpPr>
          <a:xfrm>
            <a:off x="1908000" y="4753080"/>
            <a:ext cx="5616720" cy="1512360"/>
            <a:chOff x="1908000" y="4753080"/>
            <a:chExt cx="5616720" cy="1512360"/>
          </a:xfrm>
        </p:grpSpPr>
        <p:sp>
          <p:nvSpPr>
            <p:cNvPr id="440" name=""/>
            <p:cNvSpPr/>
            <p:nvPr/>
          </p:nvSpPr>
          <p:spPr>
            <a:xfrm>
              <a:off x="2030040" y="4753080"/>
              <a:ext cx="5311080" cy="151236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08000" y="4753080"/>
              <a:ext cx="561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3300"/>
                  </a:solidFill>
                  <a:latin typeface="Arial"/>
                  <a:ea typeface="华文新魏"/>
                </a:rPr>
                <a:t>小新跳高的高度和他的身高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 txBox="1"/>
          <p:nvPr/>
        </p:nvSpPr>
        <p:spPr>
          <a:xfrm>
            <a:off x="1763640" y="765000"/>
            <a:ext cx="547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猜我猜大家猜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250" autoRev="1" fill="hold"/>
                                        <p:tgtEl>
                                          <p:spTgt spid="4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763640" y="765000"/>
            <a:ext cx="547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猜我猜大家猜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4" name=""/>
          <p:cNvSpPr/>
          <p:nvPr/>
        </p:nvSpPr>
        <p:spPr>
          <a:xfrm>
            <a:off x="250920" y="1557360"/>
            <a:ext cx="8642160" cy="482436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4824360"/>
          </a:xfrm>
          <a:prstGeom prst="rect">
            <a:avLst/>
          </a:prstGeom>
          <a:ln w="0">
            <a:noFill/>
          </a:ln>
        </p:spPr>
      </p:pic>
      <p:grpSp>
        <p:nvGrpSpPr>
          <p:cNvPr id="446" name=""/>
          <p:cNvGrpSpPr/>
          <p:nvPr/>
        </p:nvGrpSpPr>
        <p:grpSpPr>
          <a:xfrm>
            <a:off x="1332000" y="4724280"/>
            <a:ext cx="7343280" cy="1512720"/>
            <a:chOff x="1332000" y="4724280"/>
            <a:chExt cx="7343280" cy="1512720"/>
          </a:xfrm>
        </p:grpSpPr>
        <p:sp>
          <p:nvSpPr>
            <p:cNvPr id="447" name=""/>
            <p:cNvSpPr/>
            <p:nvPr/>
          </p:nvSpPr>
          <p:spPr>
            <a:xfrm>
              <a:off x="1491840" y="4724280"/>
              <a:ext cx="6944040" cy="151272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32000" y="4724280"/>
              <a:ext cx="734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3300"/>
                  </a:solidFill>
                  <a:latin typeface="Arial"/>
                  <a:ea typeface="华文新魏"/>
                </a:rPr>
                <a:t>小麦每公顷的产量一定，小麦的公顷数和总产量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4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1763640" y="765000"/>
            <a:ext cx="547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猜我猜大家猜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50" name=""/>
          <p:cNvSpPr/>
          <p:nvPr/>
        </p:nvSpPr>
        <p:spPr>
          <a:xfrm>
            <a:off x="250920" y="1557360"/>
            <a:ext cx="8642160" cy="4824360"/>
          </a:xfrm>
          <a:prstGeom prst="rect">
            <a:avLst/>
          </a:prstGeom>
          <a:solidFill>
            <a:srgbClr val="c7e3f5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84200" y="2394000"/>
            <a:ext cx="8154720" cy="2351520"/>
            <a:chOff x="484200" y="2394000"/>
            <a:chExt cx="8154720" cy="2351520"/>
          </a:xfrm>
        </p:grpSpPr>
        <p:sp>
          <p:nvSpPr>
            <p:cNvPr id="452" name=""/>
            <p:cNvSpPr/>
            <p:nvPr/>
          </p:nvSpPr>
          <p:spPr>
            <a:xfrm>
              <a:off x="661680" y="2394000"/>
              <a:ext cx="7711200" cy="235152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4200" y="2394000"/>
              <a:ext cx="815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3300"/>
                  </a:solidFill>
                  <a:latin typeface="Arial"/>
                  <a:ea typeface="华文新魏"/>
                </a:rPr>
                <a:t>书的总页数一定，已经看的页数和未看的页数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4320" y="638280"/>
            <a:ext cx="8766000" cy="59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4200" y="4443480"/>
            <a:ext cx="7154640" cy="1936800"/>
            <a:chOff x="754200" y="4443480"/>
            <a:chExt cx="7154640" cy="1936800"/>
          </a:xfrm>
        </p:grpSpPr>
        <p:grpSp>
          <p:nvGrpSpPr>
            <p:cNvPr id="127" name=""/>
            <p:cNvGrpSpPr/>
            <p:nvPr/>
          </p:nvGrpSpPr>
          <p:grpSpPr>
            <a:xfrm>
              <a:off x="754200" y="4443480"/>
              <a:ext cx="7154640" cy="1936800"/>
              <a:chOff x="754200" y="4443480"/>
              <a:chExt cx="7154640" cy="1936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037280" y="5730840"/>
                <a:ext cx="8712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67160" y="5730840"/>
                <a:ext cx="8697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95600" y="5730840"/>
                <a:ext cx="8712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25840" y="5730840"/>
                <a:ext cx="8694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54280" y="5730840"/>
                <a:ext cx="8712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53920" y="5730840"/>
                <a:ext cx="9000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54200" y="5730840"/>
                <a:ext cx="189972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底面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37280" y="5081760"/>
                <a:ext cx="8712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67160" y="5081760"/>
                <a:ext cx="8697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95600" y="5081760"/>
                <a:ext cx="8712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25840" y="5081760"/>
                <a:ext cx="8694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54280" y="5081760"/>
                <a:ext cx="8712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53920" y="5081760"/>
                <a:ext cx="9000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4200" y="5081760"/>
                <a:ext cx="189972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体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m 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37280" y="4443480"/>
                <a:ext cx="8712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67160" y="4443480"/>
                <a:ext cx="8697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95600" y="4443480"/>
                <a:ext cx="8712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25840" y="4443480"/>
                <a:ext cx="8694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54280" y="4443480"/>
                <a:ext cx="8712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53920" y="4443480"/>
                <a:ext cx="9000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4200" y="4443480"/>
                <a:ext cx="18997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高度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54200" y="4443480"/>
                <a:ext cx="71546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54200" y="5081760"/>
                <a:ext cx="715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54200" y="5730840"/>
                <a:ext cx="715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54200" y="6380280"/>
                <a:ext cx="71546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54200" y="4443480"/>
                <a:ext cx="0" cy="1936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65392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55428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2584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9560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6716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3728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908840" y="4443480"/>
                <a:ext cx="0" cy="1936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129760" y="5113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833920" y="5776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16640" y="5789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3800" y="5775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43920" y="5789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9880" y="5789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85240" y="58183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27200" y="641520"/>
            <a:ext cx="7064280" cy="3800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13240" y="1030320"/>
            <a:ext cx="3295440" cy="1146240"/>
          </a:xfrm>
          <a:prstGeom prst="wedgeRoundRectCallout">
            <a:avLst>
              <a:gd name="adj1" fmla="val -62282"/>
              <a:gd name="adj2" fmla="val 8573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杯子都是相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763640" y="765000"/>
            <a:ext cx="547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猜我猜大家猜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1557360"/>
            <a:ext cx="8642160" cy="4824360"/>
          </a:xfrm>
          <a:prstGeom prst="rect">
            <a:avLst/>
          </a:prstGeom>
          <a:solidFill>
            <a:srgbClr val="bfebc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56000" y="1773360"/>
            <a:ext cx="4248000" cy="4248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56000" y="1773360"/>
            <a:ext cx="4248000" cy="4248000"/>
          </a:xfrm>
          <a:prstGeom prst="ellipse">
            <a:avLst/>
          </a:prstGeom>
          <a:solidFill>
            <a:srgbClr val="ffd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403280" y="5373720"/>
            <a:ext cx="6840360" cy="880920"/>
            <a:chOff x="1403280" y="5373720"/>
            <a:chExt cx="6840360" cy="880920"/>
          </a:xfrm>
        </p:grpSpPr>
        <p:sp>
          <p:nvSpPr>
            <p:cNvPr id="459" name=""/>
            <p:cNvSpPr/>
            <p:nvPr/>
          </p:nvSpPr>
          <p:spPr>
            <a:xfrm>
              <a:off x="1552320" y="5373720"/>
              <a:ext cx="6468480" cy="88092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03280" y="5373720"/>
              <a:ext cx="684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3300"/>
                  </a:solidFill>
                  <a:latin typeface="Arial"/>
                  <a:ea typeface="华文新魏"/>
                </a:rPr>
                <a:t>圆的半径和它的面积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 flipH="1">
            <a:off x="4716000" y="3933720"/>
            <a:ext cx="2087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561280" y="32320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250" autoRev="1" fill="hold"/>
                                        <p:tgtEl>
                                          <p:spTgt spid="4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84320" y="638280"/>
            <a:ext cx="8766000" cy="59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116000" y="2787480"/>
            <a:ext cx="7155000" cy="1936800"/>
            <a:chOff x="1116000" y="2787480"/>
            <a:chExt cx="7155000" cy="1936800"/>
          </a:xfrm>
        </p:grpSpPr>
        <p:grpSp>
          <p:nvGrpSpPr>
            <p:cNvPr id="465" name=""/>
            <p:cNvGrpSpPr/>
            <p:nvPr/>
          </p:nvGrpSpPr>
          <p:grpSpPr>
            <a:xfrm>
              <a:off x="1116000" y="2787480"/>
              <a:ext cx="7155000" cy="1936800"/>
              <a:chOff x="1116000" y="2787480"/>
              <a:chExt cx="7155000" cy="1936800"/>
            </a:xfrm>
          </p:grpSpPr>
          <p:sp>
            <p:nvSpPr>
              <p:cNvPr id="466" name=""/>
              <p:cNvSpPr/>
              <p:nvPr/>
            </p:nvSpPr>
            <p:spPr>
              <a:xfrm>
                <a:off x="7399440" y="4074840"/>
                <a:ext cx="8715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29320" y="4074840"/>
                <a:ext cx="87012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657760" y="4074840"/>
                <a:ext cx="8715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88000" y="4074840"/>
                <a:ext cx="8697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16440" y="4074840"/>
                <a:ext cx="8715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16080" y="4074840"/>
                <a:ext cx="90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116000" y="4074840"/>
                <a:ext cx="190008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底面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99440" y="3425760"/>
                <a:ext cx="8715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29320" y="3425760"/>
                <a:ext cx="87012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57760" y="3425760"/>
                <a:ext cx="8715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788000" y="3425760"/>
                <a:ext cx="8697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16440" y="3425760"/>
                <a:ext cx="8715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016080" y="3425760"/>
                <a:ext cx="90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116000" y="3425760"/>
                <a:ext cx="190008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体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m 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99440" y="2787480"/>
                <a:ext cx="8715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529320" y="2787480"/>
                <a:ext cx="8701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657760" y="2787480"/>
                <a:ext cx="8715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88000" y="2787480"/>
                <a:ext cx="8697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916440" y="2787480"/>
                <a:ext cx="8715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016080" y="2787480"/>
                <a:ext cx="9003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116000" y="2787480"/>
                <a:ext cx="19000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高度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116000" y="2787480"/>
                <a:ext cx="71550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116000" y="3425760"/>
                <a:ext cx="715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16000" y="4074840"/>
                <a:ext cx="715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116000" y="4724280"/>
                <a:ext cx="71550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116000" y="2787480"/>
                <a:ext cx="0" cy="1936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016080" y="2787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916440" y="2787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788000" y="2787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57760" y="2787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29320" y="2787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399440" y="2787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271000" y="2787480"/>
                <a:ext cx="0" cy="1936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2491920" y="34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196080" y="4121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078800" y="413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35960" y="4119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805720" y="413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691680" y="413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547400" y="41623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25280" y="1317600"/>
            <a:ext cx="31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把实验结果用图像表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7156440" y="4867200"/>
            <a:ext cx="1419120" cy="150516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chimes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500"/>
                            </p:stCondLst>
                            <p:childTnLst>
                              <p:par>
                                <p:cTn id="40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84320" y="638280"/>
            <a:ext cx="8766000" cy="59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252080" y="590400"/>
            <a:ext cx="7500960" cy="5722920"/>
            <a:chOff x="1252080" y="590400"/>
            <a:chExt cx="7500960" cy="5722920"/>
          </a:xfrm>
        </p:grpSpPr>
        <p:sp>
          <p:nvSpPr>
            <p:cNvPr id="510" name=""/>
            <p:cNvSpPr/>
            <p:nvPr/>
          </p:nvSpPr>
          <p:spPr>
            <a:xfrm>
              <a:off x="7662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8208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00840" y="54514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19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3908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57840" y="54514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76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9608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14840" y="54514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33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5308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71840" y="54514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90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1008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28840" y="54514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47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62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8208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00840" y="50925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19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3908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57840" y="50925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76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9608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14840" y="50925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33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5308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71840" y="50925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90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008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28840" y="50925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47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62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8208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00840" y="4732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19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3908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57840" y="4732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76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9608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14840" y="4732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33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5308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71840" y="4732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90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1008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328840" y="4732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47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62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8208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900840" y="4373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519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3908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57840" y="4373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76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9608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14840" y="4373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33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5308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71840" y="4373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90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71008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28840" y="4373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947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62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8208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00840" y="40129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19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13908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57840" y="40129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76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9608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14840" y="40129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33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5308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71840" y="40129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90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1008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28840" y="40129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47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62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8208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900840" y="36543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19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3908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57840" y="36543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76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9608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14840" y="36543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33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5308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71840" y="36543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90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1008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28840" y="36543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947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62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8208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00840" y="32954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19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3908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57840" y="32954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6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9608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14840" y="32954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33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5308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471840" y="32954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90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1008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28840" y="32954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47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62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8208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00840" y="293688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19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908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7840" y="293688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76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9608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14840" y="293688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33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5308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293688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90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1008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28840" y="293688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47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62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8208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00840" y="25765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19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3908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57840" y="25765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76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9608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14840" y="25765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5308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471840" y="25765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90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1008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28840" y="25765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47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62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8208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00840" y="221760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19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13908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57840" y="221760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76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9608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14840" y="221760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33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5308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71840" y="221760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90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1008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28840" y="221760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47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62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28208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00840" y="185724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9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13908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57840" y="185724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76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9608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14840" y="185724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3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5308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71840" y="185724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090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71008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28840" y="185724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47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62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8208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00840" y="149832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19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3908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57840" y="149832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76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9608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14840" y="149832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33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5308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71840" y="149832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90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1008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28840" y="149832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47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62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208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00840" y="116352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19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3908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57840" y="116352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76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9608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14840" y="116352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33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5308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71840" y="116352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90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1008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28840" y="116352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947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47960" y="1163520"/>
              <a:ext cx="609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47960" y="14983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47960" y="185724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47960" y="22176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47960" y="25765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947960" y="29368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47960" y="329544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47960" y="365436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47960" y="40129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47960" y="43732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47960" y="47322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47960" y="509256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47960" y="54514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2884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1008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9096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7184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5308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23396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484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9608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7696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5784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3908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1996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90084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8208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6296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043840" y="1163520"/>
              <a:ext cx="0" cy="4648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43760" y="5792760"/>
              <a:ext cx="503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  4      6      8    10    12    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56760" y="1255680"/>
              <a:ext cx="6883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55320" y="2706480"/>
              <a:ext cx="6883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52080" y="4117680"/>
              <a:ext cx="6883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>
              <a:off x="1933560" y="771480"/>
              <a:ext cx="14400" cy="502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33560" y="5808600"/>
              <a:ext cx="653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1949760" y="590400"/>
              <a:ext cx="1176480" cy="444960"/>
              <a:chOff x="1949760" y="590400"/>
              <a:chExt cx="1176480" cy="444960"/>
            </a:xfrm>
          </p:grpSpPr>
          <p:sp>
            <p:nvSpPr>
              <p:cNvPr id="754" name=""/>
              <p:cNvSpPr/>
              <p:nvPr/>
            </p:nvSpPr>
            <p:spPr>
              <a:xfrm>
                <a:off x="1949760" y="636480"/>
                <a:ext cx="95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体积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/c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860200" y="590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7796520" y="5789520"/>
              <a:ext cx="95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高度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 flipV="1">
            <a:off x="2638440" y="5030640"/>
            <a:ext cx="11736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406680" y="4332240"/>
            <a:ext cx="11772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175280" y="3606120"/>
            <a:ext cx="117360" cy="106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4944960" y="2880720"/>
            <a:ext cx="117720" cy="106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5699160" y="2139840"/>
            <a:ext cx="11736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454800" y="1442880"/>
            <a:ext cx="11736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1944720" y="1380600"/>
            <a:ext cx="4687920" cy="441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0" y="5195880"/>
            <a:ext cx="1165320" cy="144468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822960" y="0"/>
            <a:ext cx="30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从图中你发现了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184320" y="638280"/>
            <a:ext cx="8766000" cy="59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252080" y="590400"/>
            <a:ext cx="7500960" cy="5722920"/>
            <a:chOff x="1252080" y="590400"/>
            <a:chExt cx="7500960" cy="5722920"/>
          </a:xfrm>
        </p:grpSpPr>
        <p:sp>
          <p:nvSpPr>
            <p:cNvPr id="768" name=""/>
            <p:cNvSpPr/>
            <p:nvPr/>
          </p:nvSpPr>
          <p:spPr>
            <a:xfrm>
              <a:off x="7662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8208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00840" y="54514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19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3908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57840" y="54514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376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99608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14840" y="54514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233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5308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71840" y="54514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90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1008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28840" y="54514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47960" y="54514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62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8208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00840" y="50925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519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3908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57840" y="50925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76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9608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14840" y="50925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33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85308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71840" y="50925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90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1008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28840" y="50925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47960" y="50925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662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8208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900840" y="4732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19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3908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57840" y="4732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76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9608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4840" y="4732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233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5308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471840" y="4732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90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1008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8840" y="4732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47960" y="4732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62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8208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00840" y="4373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19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3908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757840" y="4373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76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9608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14840" y="4373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233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85308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471840" y="4373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90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1008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28840" y="4373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47960" y="4373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662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8208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00840" y="40129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19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13908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57840" y="40129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76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9608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14840" y="40129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33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5308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71840" y="40129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90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1008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328840" y="40129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47960" y="40129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62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8208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900840" y="36543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19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3908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57840" y="36543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76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9608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14840" y="36543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33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5308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71840" y="36543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90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1008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28840" y="36543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947960" y="36543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62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8208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00840" y="32954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519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13908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57840" y="32954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76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99608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14840" y="32954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33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5308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71840" y="32954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90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71008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28840" y="32954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947960" y="32954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62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28208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00840" y="293688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519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13908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57840" y="293688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76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9608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14840" y="293688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33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85308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71840" y="293688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090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1008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28840" y="293688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47960" y="293688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62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8208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00840" y="25765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19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3908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757840" y="25765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76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99608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4840" y="25765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33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308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71840" y="25765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090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1008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28840" y="25765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47960" y="25765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62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8208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00840" y="221760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519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13908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757840" y="221760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76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9608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614840" y="221760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33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5308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71840" y="221760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090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1008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28840" y="221760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947960" y="221760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62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8208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00840" y="185724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19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3908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757840" y="185724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76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99608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614840" y="185724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33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85308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71840" y="185724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90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1008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328840" y="185724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947960" y="185724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662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8208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00840" y="149832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19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13908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57840" y="149832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76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99608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14840" y="149832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233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5308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471840" y="149832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90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71008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28840" y="149832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947960" y="149832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62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8208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00840" y="116352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19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13908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757840" y="116352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76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9608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14840" y="116352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33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5308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471840" y="116352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090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71008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28840" y="116352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947960" y="116352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947960" y="1163520"/>
              <a:ext cx="609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947960" y="14983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947960" y="185724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947960" y="22176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947960" y="25765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47960" y="29368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47960" y="329544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47960" y="365436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947960" y="40129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947960" y="43732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947960" y="47322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947960" y="509256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947960" y="54514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32884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1008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9096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47184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5308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23396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1484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99608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37696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5784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13908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51996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90084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8208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662960" y="1163520"/>
              <a:ext cx="0" cy="46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043840" y="1163520"/>
              <a:ext cx="0" cy="4648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543760" y="5792760"/>
              <a:ext cx="503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  4      6      8    10    12    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256760" y="1255680"/>
              <a:ext cx="6883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55320" y="2706480"/>
              <a:ext cx="6883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252080" y="4117680"/>
              <a:ext cx="6883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flipV="1">
              <a:off x="1933560" y="771480"/>
              <a:ext cx="14400" cy="502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33560" y="5808600"/>
              <a:ext cx="653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1949760" y="590400"/>
              <a:ext cx="1176480" cy="444960"/>
              <a:chOff x="1949760" y="590400"/>
              <a:chExt cx="1176480" cy="444960"/>
            </a:xfrm>
          </p:grpSpPr>
          <p:sp>
            <p:nvSpPr>
              <p:cNvPr id="1012" name=""/>
              <p:cNvSpPr/>
              <p:nvPr/>
            </p:nvSpPr>
            <p:spPr>
              <a:xfrm>
                <a:off x="1949760" y="636480"/>
                <a:ext cx="95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体积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/c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860200" y="590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7796520" y="5789520"/>
              <a:ext cx="95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高度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"/>
          <p:cNvSpPr/>
          <p:nvPr/>
        </p:nvSpPr>
        <p:spPr>
          <a:xfrm flipV="1">
            <a:off x="2638440" y="5030640"/>
            <a:ext cx="11736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06680" y="4332240"/>
            <a:ext cx="11772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175280" y="3606120"/>
            <a:ext cx="117360" cy="106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944960" y="2880720"/>
            <a:ext cx="117720" cy="106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5699160" y="2139840"/>
            <a:ext cx="11736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6454800" y="1442880"/>
            <a:ext cx="11736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1944720" y="1380600"/>
            <a:ext cx="4687920" cy="441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0" y="5195880"/>
            <a:ext cx="1165320" cy="144468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 flipH="1" flipV="1">
            <a:off x="4600440" y="3294000"/>
            <a:ext cx="14400" cy="2511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527720" y="3251160"/>
            <a:ext cx="1155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 flipV="1">
            <a:off x="1944360" y="3279600"/>
            <a:ext cx="2554200" cy="3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397400" y="587844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276200" y="3105000"/>
            <a:ext cx="7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1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276200" y="2365200"/>
            <a:ext cx="7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959120" y="2583000"/>
            <a:ext cx="34113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297400" y="2540160"/>
            <a:ext cx="115920" cy="115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383080" y="2627280"/>
            <a:ext cx="0" cy="31780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165640" y="586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46280" y="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(2)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不计算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根据图像判断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如果杯中水的高度是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7cm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那么水的体积是多少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?  22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立方厘米的水有多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2"/>
          <a:stretch/>
        </p:blipFill>
        <p:spPr>
          <a:xfrm>
            <a:off x="-1803240" y="603360"/>
            <a:ext cx="11905920" cy="5921280"/>
          </a:xfrm>
          <a:prstGeom prst="rect">
            <a:avLst/>
          </a:prstGeom>
          <a:ln w="0">
            <a:noFill/>
          </a:ln>
        </p:spPr>
      </p:pic>
      <p:grpSp>
        <p:nvGrpSpPr>
          <p:cNvPr id="1035" name=""/>
          <p:cNvGrpSpPr/>
          <p:nvPr/>
        </p:nvGrpSpPr>
        <p:grpSpPr>
          <a:xfrm>
            <a:off x="6588000" y="3860640"/>
            <a:ext cx="5699160" cy="3214800"/>
            <a:chOff x="6588000" y="3860640"/>
            <a:chExt cx="5699160" cy="3214800"/>
          </a:xfrm>
        </p:grpSpPr>
        <p:pic>
          <p:nvPicPr>
            <p:cNvPr id="1036" name="" descr=""/>
            <p:cNvPicPr/>
            <p:nvPr/>
          </p:nvPicPr>
          <p:blipFill>
            <a:blip r:embed="rId3"/>
            <a:stretch/>
          </p:blipFill>
          <p:spPr>
            <a:xfrm>
              <a:off x="6588000" y="3860640"/>
              <a:ext cx="569916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" descr=""/>
            <p:cNvPicPr/>
            <p:nvPr/>
          </p:nvPicPr>
          <p:blipFill>
            <a:blip r:embed="rId4"/>
            <a:stretch/>
          </p:blipFill>
          <p:spPr>
            <a:xfrm flipH="1">
              <a:off x="9621360" y="5163840"/>
              <a:ext cx="43164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8" name=""/>
          <p:cNvSpPr/>
          <p:nvPr/>
        </p:nvSpPr>
        <p:spPr>
          <a:xfrm>
            <a:off x="3891960" y="8953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一辆汽车行驶的时间和所行路程如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7800" y="1917720"/>
            <a:ext cx="3093840" cy="1871640"/>
            <a:chOff x="37800" y="1917720"/>
            <a:chExt cx="3093840" cy="1871640"/>
          </a:xfrm>
        </p:grpSpPr>
        <p:grpSp>
          <p:nvGrpSpPr>
            <p:cNvPr id="1040" name=""/>
            <p:cNvGrpSpPr/>
            <p:nvPr/>
          </p:nvGrpSpPr>
          <p:grpSpPr>
            <a:xfrm>
              <a:off x="37800" y="1917720"/>
              <a:ext cx="3093840" cy="1871640"/>
              <a:chOff x="37800" y="1917720"/>
              <a:chExt cx="3093840" cy="1871640"/>
            </a:xfrm>
          </p:grpSpPr>
          <p:sp>
            <p:nvSpPr>
              <p:cNvPr id="1041" name=""/>
              <p:cNvSpPr/>
              <p:nvPr/>
            </p:nvSpPr>
            <p:spPr>
              <a:xfrm>
                <a:off x="37800" y="1917720"/>
                <a:ext cx="30938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7800" y="3789360"/>
                <a:ext cx="30938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7800" y="2854440"/>
                <a:ext cx="30938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268720" y="1917720"/>
                <a:ext cx="0" cy="1871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31640" y="1917720"/>
                <a:ext cx="0" cy="1871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6" name=""/>
            <p:cNvSpPr/>
            <p:nvPr/>
          </p:nvSpPr>
          <p:spPr>
            <a:xfrm>
              <a:off x="531000" y="211284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时间（时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86280" y="30654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路程（千米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484360" y="2133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97600" y="306540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3106800" y="1917720"/>
            <a:ext cx="888840" cy="1871640"/>
            <a:chOff x="3106800" y="1917720"/>
            <a:chExt cx="888840" cy="1871640"/>
          </a:xfrm>
        </p:grpSpPr>
        <p:grpSp>
          <p:nvGrpSpPr>
            <p:cNvPr id="1051" name=""/>
            <p:cNvGrpSpPr/>
            <p:nvPr/>
          </p:nvGrpSpPr>
          <p:grpSpPr>
            <a:xfrm>
              <a:off x="3132360" y="1917720"/>
              <a:ext cx="863280" cy="1871640"/>
              <a:chOff x="3132360" y="1917720"/>
              <a:chExt cx="863280" cy="1871640"/>
            </a:xfrm>
          </p:grpSpPr>
          <p:sp>
            <p:nvSpPr>
              <p:cNvPr id="1052" name=""/>
              <p:cNvSpPr/>
              <p:nvPr/>
            </p:nvSpPr>
            <p:spPr>
              <a:xfrm>
                <a:off x="3132360" y="1917720"/>
                <a:ext cx="8632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132360" y="3789360"/>
                <a:ext cx="8632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132360" y="2854440"/>
                <a:ext cx="8632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995640" y="1917720"/>
                <a:ext cx="0" cy="1871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"/>
            <p:cNvSpPr/>
            <p:nvPr/>
          </p:nvSpPr>
          <p:spPr>
            <a:xfrm>
              <a:off x="3306960" y="2133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106800" y="306540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1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3868560" y="1916280"/>
            <a:ext cx="970200" cy="1871640"/>
            <a:chOff x="3868560" y="1916280"/>
            <a:chExt cx="970200" cy="1871640"/>
          </a:xfrm>
        </p:grpSpPr>
        <p:grpSp>
          <p:nvGrpSpPr>
            <p:cNvPr id="1059" name=""/>
            <p:cNvGrpSpPr/>
            <p:nvPr/>
          </p:nvGrpSpPr>
          <p:grpSpPr>
            <a:xfrm>
              <a:off x="3949560" y="1916280"/>
              <a:ext cx="863640" cy="1871640"/>
              <a:chOff x="3949560" y="1916280"/>
              <a:chExt cx="863640" cy="1871640"/>
            </a:xfrm>
          </p:grpSpPr>
          <p:sp>
            <p:nvSpPr>
              <p:cNvPr id="1060" name=""/>
              <p:cNvSpPr/>
              <p:nvPr/>
            </p:nvSpPr>
            <p:spPr>
              <a:xfrm>
                <a:off x="3949560" y="191628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949560" y="378792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949560" y="285300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813200" y="1916280"/>
                <a:ext cx="0" cy="1871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4124160" y="2132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868560" y="306396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2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716360" y="1916280"/>
            <a:ext cx="970200" cy="1871640"/>
            <a:chOff x="4716360" y="1916280"/>
            <a:chExt cx="970200" cy="1871640"/>
          </a:xfrm>
        </p:grpSpPr>
        <p:grpSp>
          <p:nvGrpSpPr>
            <p:cNvPr id="1067" name=""/>
            <p:cNvGrpSpPr/>
            <p:nvPr/>
          </p:nvGrpSpPr>
          <p:grpSpPr>
            <a:xfrm>
              <a:off x="4797360" y="1916280"/>
              <a:ext cx="863640" cy="1871640"/>
              <a:chOff x="4797360" y="1916280"/>
              <a:chExt cx="863640" cy="1871640"/>
            </a:xfrm>
          </p:grpSpPr>
          <p:sp>
            <p:nvSpPr>
              <p:cNvPr id="1068" name=""/>
              <p:cNvSpPr/>
              <p:nvPr/>
            </p:nvSpPr>
            <p:spPr>
              <a:xfrm>
                <a:off x="4797360" y="191628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797360" y="378792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797360" y="285300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661000" y="1916280"/>
                <a:ext cx="0" cy="1871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>
              <a:off x="4971960" y="2132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716360" y="306396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3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580000" y="1916280"/>
            <a:ext cx="970200" cy="1871640"/>
            <a:chOff x="5580000" y="1916280"/>
            <a:chExt cx="970200" cy="1871640"/>
          </a:xfrm>
        </p:grpSpPr>
        <p:grpSp>
          <p:nvGrpSpPr>
            <p:cNvPr id="1075" name=""/>
            <p:cNvGrpSpPr/>
            <p:nvPr/>
          </p:nvGrpSpPr>
          <p:grpSpPr>
            <a:xfrm>
              <a:off x="5661000" y="1916280"/>
              <a:ext cx="863640" cy="1871640"/>
              <a:chOff x="5661000" y="1916280"/>
              <a:chExt cx="863640" cy="1871640"/>
            </a:xfrm>
          </p:grpSpPr>
          <p:sp>
            <p:nvSpPr>
              <p:cNvPr id="1076" name=""/>
              <p:cNvSpPr/>
              <p:nvPr/>
            </p:nvSpPr>
            <p:spPr>
              <a:xfrm>
                <a:off x="5661000" y="191628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661000" y="378792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661000" y="285300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524640" y="1916280"/>
                <a:ext cx="0" cy="1871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835600" y="2132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580000" y="306396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4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6443640" y="1916280"/>
            <a:ext cx="970200" cy="1871640"/>
            <a:chOff x="6443640" y="1916280"/>
            <a:chExt cx="970200" cy="1871640"/>
          </a:xfrm>
        </p:grpSpPr>
        <p:grpSp>
          <p:nvGrpSpPr>
            <p:cNvPr id="1083" name=""/>
            <p:cNvGrpSpPr/>
            <p:nvPr/>
          </p:nvGrpSpPr>
          <p:grpSpPr>
            <a:xfrm>
              <a:off x="6524640" y="1916280"/>
              <a:ext cx="863640" cy="1871640"/>
              <a:chOff x="6524640" y="1916280"/>
              <a:chExt cx="863640" cy="1871640"/>
            </a:xfrm>
          </p:grpSpPr>
          <p:sp>
            <p:nvSpPr>
              <p:cNvPr id="1084" name=""/>
              <p:cNvSpPr/>
              <p:nvPr/>
            </p:nvSpPr>
            <p:spPr>
              <a:xfrm>
                <a:off x="6524640" y="191628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524640" y="378792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524640" y="285300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388280" y="1916280"/>
                <a:ext cx="0" cy="1871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6699240" y="2132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43640" y="306396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4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7308720" y="1916280"/>
            <a:ext cx="970200" cy="1871640"/>
            <a:chOff x="7308720" y="1916280"/>
            <a:chExt cx="970200" cy="1871640"/>
          </a:xfrm>
        </p:grpSpPr>
        <p:grpSp>
          <p:nvGrpSpPr>
            <p:cNvPr id="1091" name=""/>
            <p:cNvGrpSpPr/>
            <p:nvPr/>
          </p:nvGrpSpPr>
          <p:grpSpPr>
            <a:xfrm>
              <a:off x="7389720" y="1916280"/>
              <a:ext cx="863640" cy="1871640"/>
              <a:chOff x="7389720" y="1916280"/>
              <a:chExt cx="863640" cy="1871640"/>
            </a:xfrm>
          </p:grpSpPr>
          <p:sp>
            <p:nvSpPr>
              <p:cNvPr id="1092" name=""/>
              <p:cNvSpPr/>
              <p:nvPr/>
            </p:nvSpPr>
            <p:spPr>
              <a:xfrm>
                <a:off x="7389720" y="191628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389720" y="378792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389720" y="2853000"/>
                <a:ext cx="863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253360" y="1916280"/>
                <a:ext cx="0" cy="1871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7564320" y="2132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308720" y="306396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5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8245440" y="1917720"/>
            <a:ext cx="863640" cy="1871640"/>
            <a:chOff x="8245440" y="1917720"/>
            <a:chExt cx="863640" cy="1871640"/>
          </a:xfrm>
        </p:grpSpPr>
        <p:sp>
          <p:nvSpPr>
            <p:cNvPr id="1099" name=""/>
            <p:cNvSpPr/>
            <p:nvPr/>
          </p:nvSpPr>
          <p:spPr>
            <a:xfrm>
              <a:off x="8245440" y="1917720"/>
              <a:ext cx="863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245440" y="3789360"/>
              <a:ext cx="863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245440" y="2854440"/>
              <a:ext cx="863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62800" y="198612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380440" y="292572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25400" y="4354560"/>
            <a:ext cx="7986960" cy="31147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表中有哪两种量？它们是不是相关联的量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写出几组这两种量中相对应的两个数的比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并比较比值的大小。说一说这个比值表示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表中相关联的两种量成正比例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在图中描出表示路程和相应时间的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然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把它们按顺序连起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并估计下行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0k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大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要用多长时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2222E-006 L -0.18107 -2.22222E-006 E">
                                      <p:cBhvr>
                                        <p:cTn id="524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-2.22222E-006 L -0.33524 -2.22222E-006 E">
                                      <p:cBhvr>
                                        <p:cTn id="532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524 4.07407E-006 L -0.49271 4.07407E-006 E">
                                      <p:cBhvr>
                                        <p:cTn id="540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71 7.40741E-007 L -0.62656 7.40741E-007 E">
                                      <p:cBhvr>
                                        <p:cTn id="548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656 7.40741E-007 L -0.76042 7.40741E-007 E">
                                      <p:cBhvr>
                                        <p:cTn id="556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6042 7.40741E-007 L -0.87865 7.40741E-007 E">
                                      <p:cBhvr>
                                        <p:cTn id="564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865 -2.22222E-006 L -1.23299 -2.22222E-006 E">
                                      <p:cBhvr>
                                        <p:cTn id="572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4320" y="638280"/>
            <a:ext cx="8766000" cy="59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1237680" y="569880"/>
            <a:ext cx="7436880" cy="5699160"/>
            <a:chOff x="1237680" y="569880"/>
            <a:chExt cx="7436880" cy="5699160"/>
          </a:xfrm>
        </p:grpSpPr>
        <p:sp>
          <p:nvSpPr>
            <p:cNvPr id="1107" name=""/>
            <p:cNvSpPr/>
            <p:nvPr/>
          </p:nvSpPr>
          <p:spPr>
            <a:xfrm>
              <a:off x="7648560" y="54370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67680" y="54370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886440" y="54370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505560" y="54370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124680" y="54370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43440" y="54370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362560" y="54370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981680" y="54370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00440" y="54370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19560" y="54370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838680" y="54370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457440" y="54370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076560" y="54370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695680" y="54370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314440" y="54370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933560" y="54370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48560" y="507852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267680" y="507852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6440" y="507852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505560" y="507852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124680" y="507852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43440" y="507852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362560" y="507852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981680" y="507852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00440" y="507852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219560" y="507852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38680" y="507852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457440" y="507852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76560" y="507852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695680" y="507852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314440" y="507852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933560" y="507852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48560" y="471816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67680" y="471816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86440" y="471816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505560" y="471816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124680" y="471816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743440" y="471816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362560" y="471816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981680" y="471816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00440" y="471816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219560" y="471816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38680" y="471816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457440" y="471816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076560" y="471816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695680" y="471816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314440" y="471816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933560" y="471816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648560" y="43592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267680" y="43592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886440" y="43592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505560" y="43592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24680" y="43592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743440" y="43592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62560" y="43592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981680" y="43592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00440" y="43592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219560" y="43592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8680" y="43592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457440" y="43592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076560" y="43592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95680" y="43592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314440" y="435924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33560" y="435924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48560" y="39988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67680" y="39988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886440" y="39988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505560" y="39988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124680" y="39988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43440" y="39988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62560" y="39988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981680" y="39988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600440" y="39988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19560" y="39988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38680" y="39988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57440" y="39988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076560" y="39988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695680" y="39988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14440" y="399888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33560" y="399888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648560" y="36399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267680" y="36399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86440" y="36399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05560" y="36399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124680" y="36399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743440" y="36399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62560" y="36399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81680" y="36399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600440" y="36399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9560" y="36399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38680" y="36399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57440" y="36399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76560" y="36399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695680" y="36399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314440" y="363996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33560" y="363996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648560" y="328140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267680" y="328140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886440" y="328140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505560" y="328140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124680" y="328140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43440" y="328140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362560" y="328140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981680" y="328140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600440" y="328140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19560" y="328140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838680" y="328140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57440" y="328140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76560" y="328140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95680" y="328140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314440" y="328140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933560" y="328140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648560" y="29224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267680" y="29224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886440" y="29224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05560" y="29224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24680" y="29224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43440" y="29224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62560" y="29224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981680" y="29224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600440" y="29224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219560" y="29224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38680" y="29224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457440" y="29224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076560" y="29224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95680" y="29224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314440" y="29224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933560" y="29224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648560" y="25621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267680" y="25621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886440" y="25621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505560" y="25621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24680" y="25621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3440" y="25621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362560" y="25621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981680" y="25621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600440" y="25621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219560" y="25621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38680" y="25621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457440" y="25621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076560" y="25621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95680" y="25621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314440" y="256212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933560" y="256212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648560" y="22035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267680" y="22035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886440" y="22035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505560" y="22035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124680" y="22035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43440" y="22035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362560" y="22035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81680" y="22035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00440" y="22035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219560" y="22035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38680" y="22035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457440" y="22035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076560" y="22035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695680" y="22035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314440" y="2203560"/>
              <a:ext cx="381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933560" y="2203560"/>
              <a:ext cx="3808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648560" y="1843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267680" y="1843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886440" y="1843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05560" y="1843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124680" y="1843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43440" y="1843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362560" y="1843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981680" y="1843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00440" y="1843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19560" y="1843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38680" y="1843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457440" y="1843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76560" y="1843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95680" y="1843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14440" y="1843200"/>
              <a:ext cx="381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933560" y="1843200"/>
              <a:ext cx="380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648560" y="1484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267680" y="1484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886440" y="1484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505560" y="1484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124680" y="1484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43440" y="1484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62560" y="1484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1680" y="1484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600440" y="1484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219560" y="1484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38680" y="1484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457440" y="1484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076560" y="1484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695680" y="1484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314440" y="1484280"/>
              <a:ext cx="381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933560" y="1484280"/>
              <a:ext cx="3808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48560" y="114948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67680" y="114948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86440" y="114948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505560" y="114948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124680" y="114948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43440" y="114948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362560" y="114948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981680" y="114948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600440" y="114948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19560" y="114948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38680" y="114948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457440" y="114948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076560" y="114948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695680" y="114948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314440" y="1149480"/>
              <a:ext cx="381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933560" y="1149480"/>
              <a:ext cx="3808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33560" y="1149480"/>
              <a:ext cx="609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33560" y="14842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933560" y="18432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933560" y="220356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933560" y="25621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933560" y="29224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933560" y="32814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33560" y="363996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33560" y="39988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33560" y="435924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933560" y="471816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933560" y="50785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933560" y="54370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31444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69568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7656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45744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83868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21956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60044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98168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6256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74344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12468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50556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88644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26768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648560" y="114948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029440" y="1149480"/>
              <a:ext cx="0" cy="4647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372760" y="5748480"/>
              <a:ext cx="51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     2      3      4      5      6     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242360" y="1241280"/>
              <a:ext cx="6883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240920" y="2692440"/>
              <a:ext cx="6883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237680" y="4103640"/>
              <a:ext cx="6883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>
              <a:off x="1919160" y="756720"/>
              <a:ext cx="14400" cy="502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933560" y="5794200"/>
              <a:ext cx="653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"/>
            <p:cNvGrpSpPr/>
            <p:nvPr/>
          </p:nvGrpSpPr>
          <p:grpSpPr>
            <a:xfrm>
              <a:off x="1935360" y="569880"/>
              <a:ext cx="1133280" cy="451440"/>
              <a:chOff x="1935360" y="569880"/>
              <a:chExt cx="1133280" cy="451440"/>
            </a:xfrm>
          </p:grpSpPr>
          <p:sp>
            <p:nvSpPr>
              <p:cNvPr id="1351" name=""/>
              <p:cNvSpPr/>
              <p:nvPr/>
            </p:nvSpPr>
            <p:spPr>
              <a:xfrm>
                <a:off x="1935360" y="622440"/>
                <a:ext cx="95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路程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/k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887560" y="569880"/>
                <a:ext cx="18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7844760" y="57751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时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4" name="" descr=""/>
          <p:cNvPicPr/>
          <p:nvPr/>
        </p:nvPicPr>
        <p:blipFill>
          <a:blip r:embed="rId2"/>
          <a:stretch/>
        </p:blipFill>
        <p:spPr>
          <a:xfrm>
            <a:off x="0" y="5195880"/>
            <a:ext cx="1165320" cy="1444680"/>
          </a:xfrm>
          <a:prstGeom prst="rect">
            <a:avLst/>
          </a:prstGeom>
          <a:ln w="0">
            <a:noFill/>
          </a:ln>
        </p:spPr>
      </p:pic>
      <p:sp>
        <p:nvSpPr>
          <p:cNvPr id="1355" name=""/>
          <p:cNvSpPr/>
          <p:nvPr/>
        </p:nvSpPr>
        <p:spPr>
          <a:xfrm flipV="1">
            <a:off x="2638440" y="5030640"/>
            <a:ext cx="11736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406680" y="4332240"/>
            <a:ext cx="11772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4175280" y="3606120"/>
            <a:ext cx="117360" cy="106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4944960" y="2880720"/>
            <a:ext cx="117720" cy="106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5699160" y="2139840"/>
            <a:ext cx="11736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6454800" y="1442880"/>
            <a:ext cx="117360" cy="106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944720" y="1380600"/>
            <a:ext cx="4687920" cy="441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916280" y="4701960"/>
            <a:ext cx="1233360" cy="14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019320" y="4645080"/>
            <a:ext cx="130320" cy="129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090960" y="4716360"/>
            <a:ext cx="0" cy="1074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612880" y="5805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楷体_GB2312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320840" y="45417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楷体_GB2312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5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" descr=""/>
          <p:cNvPicPr/>
          <p:nvPr/>
        </p:nvPicPr>
        <p:blipFill>
          <a:blip r:embed="rId2"/>
          <a:stretch/>
        </p:blipFill>
        <p:spPr>
          <a:xfrm>
            <a:off x="187200" y="241200"/>
            <a:ext cx="87696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820360" cy="597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4320" y="638280"/>
            <a:ext cx="8766000" cy="59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54200" y="4443480"/>
            <a:ext cx="7154640" cy="1936800"/>
            <a:chOff x="754200" y="4443480"/>
            <a:chExt cx="7154640" cy="1936800"/>
          </a:xfrm>
        </p:grpSpPr>
        <p:grpSp>
          <p:nvGrpSpPr>
            <p:cNvPr id="172" name=""/>
            <p:cNvGrpSpPr/>
            <p:nvPr/>
          </p:nvGrpSpPr>
          <p:grpSpPr>
            <a:xfrm>
              <a:off x="754200" y="4443480"/>
              <a:ext cx="7154640" cy="1936800"/>
              <a:chOff x="754200" y="4443480"/>
              <a:chExt cx="7154640" cy="1936800"/>
            </a:xfrm>
          </p:grpSpPr>
          <p:sp>
            <p:nvSpPr>
              <p:cNvPr id="173" name=""/>
              <p:cNvSpPr/>
              <p:nvPr/>
            </p:nvSpPr>
            <p:spPr>
              <a:xfrm>
                <a:off x="7037280" y="5730840"/>
                <a:ext cx="8712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67160" y="5730840"/>
                <a:ext cx="8697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95600" y="5730840"/>
                <a:ext cx="8712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25840" y="5730840"/>
                <a:ext cx="8694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54280" y="5730840"/>
                <a:ext cx="8712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53920" y="5730840"/>
                <a:ext cx="9000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4200" y="5730840"/>
                <a:ext cx="189972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底面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37280" y="5081760"/>
                <a:ext cx="8712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7160" y="5081760"/>
                <a:ext cx="8697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95600" y="5081760"/>
                <a:ext cx="8712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25840" y="5081760"/>
                <a:ext cx="8694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54280" y="5081760"/>
                <a:ext cx="8712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53920" y="5081760"/>
                <a:ext cx="9000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54200" y="5081760"/>
                <a:ext cx="189972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体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m 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37280" y="4443480"/>
                <a:ext cx="8712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67160" y="4443480"/>
                <a:ext cx="8697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95600" y="4443480"/>
                <a:ext cx="8712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25840" y="4443480"/>
                <a:ext cx="8694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54280" y="4443480"/>
                <a:ext cx="8712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53920" y="4443480"/>
                <a:ext cx="9000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54200" y="4443480"/>
                <a:ext cx="18997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高度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4200" y="4443480"/>
                <a:ext cx="71546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54200" y="5081760"/>
                <a:ext cx="715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4200" y="5730840"/>
                <a:ext cx="715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4200" y="6380280"/>
                <a:ext cx="71546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4200" y="4443480"/>
                <a:ext cx="0" cy="1936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65392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5428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2584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9560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16716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037280" y="4443480"/>
                <a:ext cx="0" cy="19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08840" y="4443480"/>
                <a:ext cx="0" cy="1936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129760" y="5113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833920" y="5776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16640" y="5789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3800" y="5775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43920" y="5789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9880" y="5789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85240" y="58183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6200" y="1003320"/>
            <a:ext cx="8373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水的体积和高度有关系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水的体积是怎样随着高度变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水的体积和高度的变化有什么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4724280"/>
            <a:ext cx="8820360" cy="180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7440" y="1230480"/>
            <a:ext cx="26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是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体积是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08040" y="1949400"/>
            <a:ext cx="28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是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体积是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54120" y="2627280"/>
            <a:ext cx="28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是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体积是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50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81120" y="3397320"/>
            <a:ext cx="28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是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体积是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046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积随着高的变化而变化。像这样的两个量我们把它叫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相关联的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354560" y="4076640"/>
            <a:ext cx="74520" cy="504720"/>
            <a:chOff x="4354560" y="4076640"/>
            <a:chExt cx="74520" cy="504720"/>
          </a:xfrm>
        </p:grpSpPr>
        <p:sp>
          <p:nvSpPr>
            <p:cNvPr id="222" name=""/>
            <p:cNvSpPr/>
            <p:nvPr/>
          </p:nvSpPr>
          <p:spPr>
            <a:xfrm>
              <a:off x="4354560" y="4076640"/>
              <a:ext cx="7308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6000" y="4292640"/>
              <a:ext cx="7308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56000" y="4508280"/>
              <a:ext cx="7308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244600" y="1413000"/>
            <a:ext cx="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1773360"/>
            <a:ext cx="18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度增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积也增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116840" y="1412640"/>
            <a:ext cx="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31160" y="1728720"/>
            <a:ext cx="18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度减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积也减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6440" y="4729320"/>
            <a:ext cx="83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水的体积和高度有关系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7440" y="711360"/>
            <a:ext cx="83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水的体积是怎样随着高度变化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132440" y="1440"/>
            <a:ext cx="4924080" cy="1119240"/>
            <a:chOff x="4132440" y="1440"/>
            <a:chExt cx="4924080" cy="1119240"/>
          </a:xfrm>
        </p:grpSpPr>
        <p:grpSp>
          <p:nvGrpSpPr>
            <p:cNvPr id="232" name=""/>
            <p:cNvGrpSpPr/>
            <p:nvPr/>
          </p:nvGrpSpPr>
          <p:grpSpPr>
            <a:xfrm>
              <a:off x="4132440" y="1440"/>
              <a:ext cx="4924080" cy="1119240"/>
              <a:chOff x="4132440" y="1440"/>
              <a:chExt cx="4924080" cy="1119240"/>
            </a:xfrm>
          </p:grpSpPr>
          <p:sp>
            <p:nvSpPr>
              <p:cNvPr id="233" name=""/>
              <p:cNvSpPr/>
              <p:nvPr/>
            </p:nvSpPr>
            <p:spPr>
              <a:xfrm>
                <a:off x="8456760" y="745200"/>
                <a:ext cx="5997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57720" y="745200"/>
                <a:ext cx="59868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57960" y="745200"/>
                <a:ext cx="5997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659280" y="745200"/>
                <a:ext cx="59832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59520" y="745200"/>
                <a:ext cx="5997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39960" y="745200"/>
                <a:ext cx="6195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132440" y="745200"/>
                <a:ext cx="130752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底面积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/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56760" y="370080"/>
                <a:ext cx="5997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57720" y="370080"/>
                <a:ext cx="59868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257960" y="370080"/>
                <a:ext cx="5997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59280" y="370080"/>
                <a:ext cx="59832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59520" y="370080"/>
                <a:ext cx="5997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39960" y="370080"/>
                <a:ext cx="6195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132440" y="370080"/>
                <a:ext cx="130752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体积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/cm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56760" y="1440"/>
                <a:ext cx="599760" cy="36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57720" y="1440"/>
                <a:ext cx="598680" cy="36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57960" y="1440"/>
                <a:ext cx="599760" cy="36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59280" y="1440"/>
                <a:ext cx="598320" cy="36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59520" y="1440"/>
                <a:ext cx="599760" cy="36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39960" y="1440"/>
                <a:ext cx="619560" cy="36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32440" y="1440"/>
                <a:ext cx="1307520" cy="36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高度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/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32440" y="1440"/>
                <a:ext cx="49240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32440" y="370080"/>
                <a:ext cx="492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132440" y="745200"/>
                <a:ext cx="492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132440" y="1120680"/>
                <a:ext cx="49240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32440" y="1440"/>
                <a:ext cx="0" cy="1119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39960" y="1440"/>
                <a:ext cx="0" cy="11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59520" y="1440"/>
                <a:ext cx="0" cy="11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59280" y="1440"/>
                <a:ext cx="0" cy="11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257960" y="1440"/>
                <a:ext cx="0" cy="11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57720" y="1440"/>
                <a:ext cx="0" cy="11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456760" y="1440"/>
                <a:ext cx="0" cy="11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9056520" y="1440"/>
                <a:ext cx="0" cy="1119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5017320" y="388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79280" y="1913040"/>
            <a:ext cx="8820360" cy="46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3267000"/>
            <a:ext cx="75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的体积和高的比值总是一定的，都等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55280" y="1989000"/>
            <a:ext cx="1707480" cy="1133280"/>
            <a:chOff x="755280" y="1989000"/>
            <a:chExt cx="1707480" cy="1133280"/>
          </a:xfrm>
        </p:grpSpPr>
        <p:grpSp>
          <p:nvGrpSpPr>
            <p:cNvPr id="270" name=""/>
            <p:cNvGrpSpPr/>
            <p:nvPr/>
          </p:nvGrpSpPr>
          <p:grpSpPr>
            <a:xfrm>
              <a:off x="755280" y="1989000"/>
              <a:ext cx="689760" cy="1133280"/>
              <a:chOff x="755280" y="1989000"/>
              <a:chExt cx="689760" cy="1133280"/>
            </a:xfrm>
          </p:grpSpPr>
          <p:sp>
            <p:nvSpPr>
              <p:cNvPr id="271" name=""/>
              <p:cNvSpPr/>
              <p:nvPr/>
            </p:nvSpPr>
            <p:spPr>
              <a:xfrm>
                <a:off x="755280" y="1989000"/>
                <a:ext cx="6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66880" y="2479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11080" y="2550960"/>
                <a:ext cx="57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303920" y="2133360"/>
              <a:ext cx="115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052080" y="1989000"/>
            <a:ext cx="1834920" cy="1133280"/>
            <a:chOff x="3052080" y="1989000"/>
            <a:chExt cx="1834920" cy="1133280"/>
          </a:xfrm>
        </p:grpSpPr>
        <p:grpSp>
          <p:nvGrpSpPr>
            <p:cNvPr id="276" name=""/>
            <p:cNvGrpSpPr/>
            <p:nvPr/>
          </p:nvGrpSpPr>
          <p:grpSpPr>
            <a:xfrm>
              <a:off x="3052080" y="1989000"/>
              <a:ext cx="944280" cy="1133280"/>
              <a:chOff x="3052080" y="1989000"/>
              <a:chExt cx="944280" cy="1133280"/>
            </a:xfrm>
          </p:grpSpPr>
          <p:sp>
            <p:nvSpPr>
              <p:cNvPr id="277" name=""/>
              <p:cNvSpPr/>
              <p:nvPr/>
            </p:nvSpPr>
            <p:spPr>
              <a:xfrm>
                <a:off x="3052080" y="1989000"/>
                <a:ext cx="94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90760" y="2479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35320" y="2550960"/>
                <a:ext cx="57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728160" y="2133360"/>
              <a:ext cx="115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428440" y="1989000"/>
            <a:ext cx="1834920" cy="1133280"/>
            <a:chOff x="5428440" y="1989000"/>
            <a:chExt cx="1834920" cy="1133280"/>
          </a:xfrm>
        </p:grpSpPr>
        <p:grpSp>
          <p:nvGrpSpPr>
            <p:cNvPr id="282" name=""/>
            <p:cNvGrpSpPr/>
            <p:nvPr/>
          </p:nvGrpSpPr>
          <p:grpSpPr>
            <a:xfrm>
              <a:off x="5428440" y="1989000"/>
              <a:ext cx="944280" cy="1133280"/>
              <a:chOff x="5428440" y="1989000"/>
              <a:chExt cx="944280" cy="1133280"/>
            </a:xfrm>
          </p:grpSpPr>
          <p:sp>
            <p:nvSpPr>
              <p:cNvPr id="283" name=""/>
              <p:cNvSpPr/>
              <p:nvPr/>
            </p:nvSpPr>
            <p:spPr>
              <a:xfrm>
                <a:off x="5428440" y="1989000"/>
                <a:ext cx="94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5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67120" y="2479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11680" y="2550960"/>
                <a:ext cx="57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104520" y="2133360"/>
              <a:ext cx="115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58200" y="2133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411280" y="4508640"/>
            <a:ext cx="2656080" cy="1227240"/>
            <a:chOff x="2411280" y="4508640"/>
            <a:chExt cx="2656080" cy="1227240"/>
          </a:xfrm>
        </p:grpSpPr>
        <p:sp>
          <p:nvSpPr>
            <p:cNvPr id="289" name=""/>
            <p:cNvSpPr/>
            <p:nvPr/>
          </p:nvSpPr>
          <p:spPr>
            <a:xfrm>
              <a:off x="2543400" y="4508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华文新魏"/>
                </a:rPr>
                <a:t>体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95680" y="5032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华文新魏"/>
                </a:rPr>
                <a:t>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11280" y="5105520"/>
              <a:ext cx="10810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67320" y="47437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华文新魏"/>
                </a:rPr>
                <a:t>＝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底面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5985000" y="47721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新魏"/>
              </a:rPr>
              <a:t>（一定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79640" y="4292640"/>
            <a:ext cx="531180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000" y="96840"/>
            <a:ext cx="840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水的体积和高度的变化有什么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77960" y="598320"/>
            <a:ext cx="7157160" cy="1249560"/>
            <a:chOff x="777960" y="598320"/>
            <a:chExt cx="7157160" cy="1249560"/>
          </a:xfrm>
        </p:grpSpPr>
        <p:grpSp>
          <p:nvGrpSpPr>
            <p:cNvPr id="297" name=""/>
            <p:cNvGrpSpPr/>
            <p:nvPr/>
          </p:nvGrpSpPr>
          <p:grpSpPr>
            <a:xfrm>
              <a:off x="777960" y="598320"/>
              <a:ext cx="7157160" cy="1249560"/>
              <a:chOff x="777960" y="598320"/>
              <a:chExt cx="7157160" cy="1249560"/>
            </a:xfrm>
          </p:grpSpPr>
          <p:sp>
            <p:nvSpPr>
              <p:cNvPr id="298" name=""/>
              <p:cNvSpPr/>
              <p:nvPr/>
            </p:nvSpPr>
            <p:spPr>
              <a:xfrm>
                <a:off x="7063560" y="1428840"/>
                <a:ext cx="8715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193080" y="1428840"/>
                <a:ext cx="87012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321160" y="1428840"/>
                <a:ext cx="8715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51040" y="1428840"/>
                <a:ext cx="8697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79120" y="1428840"/>
                <a:ext cx="8715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678400" y="1428840"/>
                <a:ext cx="9003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7960" y="1428840"/>
                <a:ext cx="1900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底面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63560" y="1009800"/>
                <a:ext cx="87156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193080" y="1009800"/>
                <a:ext cx="8701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21160" y="1009800"/>
                <a:ext cx="87156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451040" y="1009800"/>
                <a:ext cx="86976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79120" y="1009800"/>
                <a:ext cx="87156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678400" y="1009800"/>
                <a:ext cx="90036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77960" y="1009800"/>
                <a:ext cx="19004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体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m 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063560" y="598320"/>
                <a:ext cx="8715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93080" y="598320"/>
                <a:ext cx="87012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321160" y="598320"/>
                <a:ext cx="8715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51040" y="598320"/>
                <a:ext cx="8697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9120" y="598320"/>
                <a:ext cx="8715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678400" y="598320"/>
                <a:ext cx="900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77960" y="598320"/>
                <a:ext cx="190044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高度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/c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7960" y="598320"/>
                <a:ext cx="7157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77960" y="1009800"/>
                <a:ext cx="715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77960" y="1428840"/>
                <a:ext cx="715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77960" y="1847880"/>
                <a:ext cx="7157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77960" y="598320"/>
                <a:ext cx="0" cy="1249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678400" y="598320"/>
                <a:ext cx="0" cy="124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79120" y="598320"/>
                <a:ext cx="0" cy="124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51040" y="598320"/>
                <a:ext cx="0" cy="124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321160" y="598320"/>
                <a:ext cx="0" cy="124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93080" y="598320"/>
                <a:ext cx="0" cy="124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63560" y="598320"/>
                <a:ext cx="0" cy="124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35120" y="598320"/>
                <a:ext cx="0" cy="1249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154240" y="1030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5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18960" y="2523960"/>
            <a:ext cx="8324640" cy="3855960"/>
            <a:chOff x="318960" y="2523960"/>
            <a:chExt cx="8324640" cy="3855960"/>
          </a:xfrm>
        </p:grpSpPr>
        <p:sp>
          <p:nvSpPr>
            <p:cNvPr id="333" name=""/>
            <p:cNvSpPr/>
            <p:nvPr/>
          </p:nvSpPr>
          <p:spPr>
            <a:xfrm>
              <a:off x="318960" y="2523960"/>
              <a:ext cx="8324640" cy="38559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4080" y="3658680"/>
              <a:ext cx="7799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水的体积随着高度的变化而变化；水的体积和高度是相关联的量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水的高度增加，体积也增加；水的高度减少，体积也减少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水的体积和高的比值总是一定的，都是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也就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99880" y="717480"/>
            <a:ext cx="8576640" cy="1254240"/>
            <a:chOff x="299880" y="717480"/>
            <a:chExt cx="8576640" cy="1254240"/>
          </a:xfrm>
        </p:grpSpPr>
        <p:grpSp>
          <p:nvGrpSpPr>
            <p:cNvPr id="336" name=""/>
            <p:cNvGrpSpPr/>
            <p:nvPr/>
          </p:nvGrpSpPr>
          <p:grpSpPr>
            <a:xfrm>
              <a:off x="299880" y="717480"/>
              <a:ext cx="8576640" cy="1254240"/>
              <a:chOff x="299880" y="717480"/>
              <a:chExt cx="8576640" cy="1254240"/>
            </a:xfrm>
          </p:grpSpPr>
          <p:sp>
            <p:nvSpPr>
              <p:cNvPr id="337" name=""/>
              <p:cNvSpPr/>
              <p:nvPr/>
            </p:nvSpPr>
            <p:spPr>
              <a:xfrm>
                <a:off x="7831800" y="1550880"/>
                <a:ext cx="104472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88880" y="1550880"/>
                <a:ext cx="104292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44160" y="1550880"/>
                <a:ext cx="104472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01600" y="1550880"/>
                <a:ext cx="104256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656520" y="1550880"/>
                <a:ext cx="104472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77240" y="1550880"/>
                <a:ext cx="107928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9880" y="1550880"/>
                <a:ext cx="227736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底面积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/c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831800" y="1130760"/>
                <a:ext cx="104472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88880" y="1130760"/>
                <a:ext cx="104292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44160" y="1130760"/>
                <a:ext cx="104472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01600" y="1130760"/>
                <a:ext cx="104256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56520" y="1130760"/>
                <a:ext cx="104472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77240" y="1130760"/>
                <a:ext cx="107928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6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9880" y="1130760"/>
                <a:ext cx="227736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体积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/cm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831800" y="717480"/>
                <a:ext cx="104472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5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88880" y="717480"/>
                <a:ext cx="104292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5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44160" y="717480"/>
                <a:ext cx="104472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5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01600" y="717480"/>
                <a:ext cx="104256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5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656520" y="717480"/>
                <a:ext cx="104472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5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77240" y="717480"/>
                <a:ext cx="107928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5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9880" y="717480"/>
                <a:ext cx="227736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高度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/c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9880" y="717480"/>
                <a:ext cx="85766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9880" y="1130760"/>
                <a:ext cx="857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9880" y="1550880"/>
                <a:ext cx="857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9880" y="1971720"/>
                <a:ext cx="85766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9880" y="717480"/>
                <a:ext cx="0" cy="1254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77240" y="717480"/>
                <a:ext cx="0" cy="125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56520" y="717480"/>
                <a:ext cx="0" cy="125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01600" y="717480"/>
                <a:ext cx="0" cy="125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44160" y="717480"/>
                <a:ext cx="0" cy="125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788880" y="717480"/>
                <a:ext cx="0" cy="125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831800" y="717480"/>
                <a:ext cx="0" cy="125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876520" y="717480"/>
                <a:ext cx="0" cy="1254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1975680" y="1151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" descr=""/>
          <p:cNvPicPr/>
          <p:nvPr/>
        </p:nvPicPr>
        <p:blipFill>
          <a:blip r:embed="rId3"/>
          <a:srcRect l="15706" t="13799" r="24040" b="72901"/>
          <a:stretch/>
        </p:blipFill>
        <p:spPr>
          <a:xfrm>
            <a:off x="3753000" y="5397480"/>
            <a:ext cx="358128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9040" y="70488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买排球的数量和总价如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781200" y="1371600"/>
          <a:ext cx="7623000" cy="1109520"/>
        </p:xfrm>
        <a:graphic>
          <a:graphicData uri="http://schemas.openxmlformats.org/drawingml/2006/table">
            <a:tbl>
              <a:tblPr/>
              <a:tblGrid>
                <a:gridCol w="1089000"/>
                <a:gridCol w="1089000"/>
                <a:gridCol w="1089000"/>
                <a:gridCol w="1089000"/>
                <a:gridCol w="1089000"/>
                <a:gridCol w="1089000"/>
                <a:gridCol w="1089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84200" y="2700360"/>
            <a:ext cx="7859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、排球的总价和数量有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、排球的总价是怎样随着数量变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、排球的总价和数量的变化有什么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31622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排球的总价随着数量变化，排球的总价和数量是相关联的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4400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排球的数量增加，排球的总价也增加。排球的数量减少，排球的总价也减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5791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排球的总价和数量的比值总是一定的，也就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17632" t="13498" r="28849" b="72306"/>
          <a:stretch/>
        </p:blipFill>
        <p:spPr>
          <a:xfrm>
            <a:off x="6610320" y="5664240"/>
            <a:ext cx="21099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79280" y="353880"/>
            <a:ext cx="8820360" cy="61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82760" y="2867040"/>
            <a:ext cx="80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两种相关联的量，一种量变化，另一种量也随着变化，如果这两种量中相对应的两个数的比值（也就是商）一定，这两种量就叫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成正比例的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它们的关系叫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正比例关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rcRect l="15706" t="13799" r="24040" b="72901"/>
          <a:stretch/>
        </p:blipFill>
        <p:spPr>
          <a:xfrm>
            <a:off x="343080" y="882720"/>
            <a:ext cx="3581280" cy="1301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rcRect l="17632" t="13498" r="28849" b="72306"/>
          <a:stretch/>
        </p:blipFill>
        <p:spPr>
          <a:xfrm>
            <a:off x="4648320" y="920880"/>
            <a:ext cx="3848040" cy="129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82760" y="536400"/>
            <a:ext cx="809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两种相关联的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种量变化，另一种量也随着变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这两种量中相对应的两个数的比值（也就是商）一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两种量就叫做成正比例的量，它们的关系叫做正比例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15920" y="1085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相关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72360" y="2228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能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89360" y="3965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商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/>
  <dc:language>en-US</dc:language>
  <cp:lastModifiedBy>微软用户</cp:lastModifiedBy>
  <cp:lastPrinted>1899-12-30T00:00:00Z</cp:lastPrinted>
  <dcterms:modified xsi:type="dcterms:W3CDTF">2014-04-11T00:37:32Z</dcterms:modified>
  <cp:revision>14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