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9DE-0574-4172-8F6D-0E00FFD0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4E1-1330-4A31-93EB-F1C1FC9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B4B-BDBE-459A-96F0-C72A384E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AA1-C337-4897-A2A7-E3881781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187-735E-4D92-881E-51704C21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28F-F5EF-4A90-81F1-C15D1348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A1E-D021-4A37-8CB6-29B29296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D84-CE43-4A83-97E3-C303C606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C19-CF38-4180-9FCA-4C68548A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31A-6423-44A0-B629-BDC5FBF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FC3-608E-41C5-9B22-170903C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C61-162E-4E0D-B18A-57421C3D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F70-9D16-435B-842C-31A76DDDF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21160" y="50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六年级数学下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00200" y="1752480"/>
            <a:ext cx="56386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反比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318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851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89764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36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73572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120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57380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57416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412240" y="2362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33628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7467480" cy="64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1981080" y="5029200"/>
                <a:ext cx="35229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面积</m:t>
                        </m:r>
                      </m:num>
                      <m:den>
                        <m:r>
                          <m:t xml:space="preserve">长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宽（一定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369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851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289800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89764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736080" y="3352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81204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80276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95504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6934320" cy="547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168640" y="5398920"/>
            <a:ext cx="483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与宽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乘积不是定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比值也不是定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，周长 一定时，长与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成比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8305920" cy="5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8305920" cy="59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15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E02604_"/>
          <p:cNvPicPr/>
          <p:nvPr/>
        </p:nvPicPr>
        <p:blipFill>
          <a:blip r:embed="rId2"/>
          <a:stretch/>
        </p:blipFill>
        <p:spPr>
          <a:xfrm>
            <a:off x="5867280" y="4176720"/>
            <a:ext cx="3276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446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E02604_"/>
          <p:cNvPicPr/>
          <p:nvPr/>
        </p:nvPicPr>
        <p:blipFill>
          <a:blip r:embed="rId2"/>
          <a:stretch/>
        </p:blipFill>
        <p:spPr>
          <a:xfrm>
            <a:off x="5867280" y="4176720"/>
            <a:ext cx="3276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80880" y="380880"/>
            <a:ext cx="76964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849320" y="13705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样的面包单价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∕个。老师说个数，学生对总价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80880" y="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04920" y="2362320"/>
          <a:ext cx="8229600" cy="1447560"/>
        </p:xfrm>
        <a:graphic>
          <a:graphicData uri="http://schemas.openxmlformats.org/drawingml/2006/table">
            <a:tbl>
              <a:tblPr/>
              <a:tblGrid>
                <a:gridCol w="1827000"/>
                <a:gridCol w="885960"/>
                <a:gridCol w="885960"/>
                <a:gridCol w="884160"/>
                <a:gridCol w="885600"/>
                <a:gridCol w="885960"/>
                <a:gridCol w="885960"/>
                <a:gridCol w="108900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价（元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36"/>
          <p:cNvSpPr/>
          <p:nvPr/>
        </p:nvSpPr>
        <p:spPr>
          <a:xfrm>
            <a:off x="228744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7"/>
          <p:cNvSpPr/>
          <p:nvPr/>
        </p:nvSpPr>
        <p:spPr>
          <a:xfrm>
            <a:off x="31255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8"/>
          <p:cNvSpPr/>
          <p:nvPr/>
        </p:nvSpPr>
        <p:spPr>
          <a:xfrm>
            <a:off x="4039920" y="3048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1"/>
          <p:cNvSpPr/>
          <p:nvPr/>
        </p:nvSpPr>
        <p:spPr>
          <a:xfrm>
            <a:off x="4954320" y="312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5716080" y="312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3"/>
          <p:cNvSpPr/>
          <p:nvPr/>
        </p:nvSpPr>
        <p:spPr>
          <a:xfrm>
            <a:off x="6782760" y="312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4"/>
          <p:cNvSpPr/>
          <p:nvPr/>
        </p:nvSpPr>
        <p:spPr>
          <a:xfrm>
            <a:off x="2175840" y="4114800"/>
            <a:ext cx="487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包的总价与个数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因为它们是两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相关联的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面包个数扩大或缩小若干倍，总价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着扩大或缩小相同的倍数，并且它们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比值（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价）一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521880" y="1447560"/>
            <a:ext cx="208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苹果分给小朋友。老师说出小朋友的人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回答分得的苹果个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80880" y="228600"/>
            <a:ext cx="190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引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2438280"/>
          <a:ext cx="8991720" cy="1447920"/>
        </p:xfrm>
        <a:graphic>
          <a:graphicData uri="http://schemas.openxmlformats.org/drawingml/2006/table">
            <a:tbl>
              <a:tblPr/>
              <a:tblGrid>
                <a:gridCol w="2589480"/>
                <a:gridCol w="885600"/>
                <a:gridCol w="885960"/>
                <a:gridCol w="884160"/>
                <a:gridCol w="885960"/>
                <a:gridCol w="885600"/>
                <a:gridCol w="885960"/>
                <a:gridCol w="108900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朋友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人分得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35"/>
          <p:cNvSpPr/>
          <p:nvPr/>
        </p:nvSpPr>
        <p:spPr>
          <a:xfrm>
            <a:off x="2896560" y="3200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6"/>
          <p:cNvSpPr/>
          <p:nvPr/>
        </p:nvSpPr>
        <p:spPr>
          <a:xfrm>
            <a:off x="3735000" y="3200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4649400" y="31240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556416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632592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7392960" y="3200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4"/>
          <p:cNvSpPr/>
          <p:nvPr/>
        </p:nvSpPr>
        <p:spPr>
          <a:xfrm>
            <a:off x="1749600" y="4113360"/>
            <a:ext cx="52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朋友的人数与每个小朋友分的个数是相关联的两种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朋友的人数越多，每个小朋友分得的苹果个数就越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5"/>
          <p:cNvSpPr/>
          <p:nvPr/>
        </p:nvSpPr>
        <p:spPr>
          <a:xfrm>
            <a:off x="1866960" y="510444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朋友的人数与每个小朋友分得的苹果个数成正比例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6"/>
          <p:cNvSpPr/>
          <p:nvPr/>
        </p:nvSpPr>
        <p:spPr>
          <a:xfrm>
            <a:off x="3807000" y="571356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那么这两种量到底是一种什么关系呢？今天我们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起来学习新的知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838080" y="1676520"/>
          <a:ext cx="6534360" cy="1419120"/>
        </p:xfrm>
        <a:graphic>
          <a:graphicData uri="http://schemas.openxmlformats.org/drawingml/2006/table">
            <a:tbl>
              <a:tblPr/>
              <a:tblGrid>
                <a:gridCol w="1903680"/>
                <a:gridCol w="885600"/>
                <a:gridCol w="885960"/>
                <a:gridCol w="884160"/>
                <a:gridCol w="851040"/>
                <a:gridCol w="1123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组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组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37"/>
          <p:cNvSpPr/>
          <p:nvPr/>
        </p:nvSpPr>
        <p:spPr>
          <a:xfrm>
            <a:off x="5564160" y="243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6249600" y="17524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4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7772400" cy="94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3505320" cy="142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"/>
          <p:cNvPicPr/>
          <p:nvPr/>
        </p:nvPicPr>
        <p:blipFill>
          <a:blip r:embed="rId4"/>
          <a:stretch/>
        </p:blipFill>
        <p:spPr>
          <a:xfrm>
            <a:off x="5105520" y="5181480"/>
            <a:ext cx="3657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95280" y="0"/>
            <a:ext cx="7620120" cy="30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066680" y="3124080"/>
          <a:ext cx="6369120" cy="1419480"/>
        </p:xfrm>
        <a:graphic>
          <a:graphicData uri="http://schemas.openxmlformats.org/drawingml/2006/table">
            <a:tbl>
              <a:tblPr/>
              <a:tblGrid>
                <a:gridCol w="2589480"/>
                <a:gridCol w="885600"/>
                <a:gridCol w="885960"/>
                <a:gridCol w="884160"/>
                <a:gridCol w="1123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每分打字（个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所需时间（分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Rectangle 54"/>
          <p:cNvSpPr/>
          <p:nvPr/>
        </p:nvSpPr>
        <p:spPr>
          <a:xfrm>
            <a:off x="5487480" y="3886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5"/>
          <p:cNvSpPr/>
          <p:nvPr/>
        </p:nvSpPr>
        <p:spPr>
          <a:xfrm>
            <a:off x="6554160" y="3200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577400" y="4952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分打字个数减少，所需时间反而增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2030040" y="5638680"/>
            <a:ext cx="4970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稿子总字数不变，每分打字和所需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积一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00100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3581280" cy="18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4867200" y="2209680"/>
            <a:ext cx="4276800" cy="17431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4737600" y="1219320"/>
            <a:ext cx="2743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分打字和所需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积一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108520" y="4570560"/>
            <a:ext cx="4691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一种量扩大或缩小若干倍，另一种量反而缩小或扩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同的倍数。两种量相对应的两个数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乘积是一定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947960" y="563724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像这样的两种量，叫做成反比例的量，它们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叫做反比例关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101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PE02604_"/>
          <p:cNvPicPr/>
          <p:nvPr/>
        </p:nvPicPr>
        <p:blipFill>
          <a:blip r:embed="rId2"/>
          <a:stretch/>
        </p:blipFill>
        <p:spPr>
          <a:xfrm>
            <a:off x="0" y="3886200"/>
            <a:ext cx="3276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80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3810240" cy="178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4343400" cy="52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1828800" y="4038480"/>
            <a:ext cx="2057400" cy="52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1981080" y="4572000"/>
            <a:ext cx="1981440" cy="118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2666880" y="5943600"/>
            <a:ext cx="4572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851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68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609480" y="4724280"/>
            <a:ext cx="7162920" cy="627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1983600" y="327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05920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973960" y="327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297360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812040" y="3276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88800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726440" y="3352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80240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746800" y="5715000"/>
            <a:ext cx="19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面积（一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1-11T11:47:01Z</dcterms:created>
  <dc:creator/>
  <dc:description/>
  <dc:language>en-US</dc:language>
  <cp:lastModifiedBy>Administrator</cp:lastModifiedBy>
  <dcterms:modified xsi:type="dcterms:W3CDTF">2014-05-09T03:01:3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