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C56-0675-4C62-B656-7814BFD10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7254-EB7A-4B36-8D8B-7557A522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D21-FEEF-40A0-83F1-896DC83E9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003B-8253-4D14-A032-EF13C7C62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E5F-C06F-4DFB-A333-38266605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65A-53EF-4D60-A919-E6220DA0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327A-D1FE-4CCE-AC6E-78C36A4F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0B4E-F4FD-4C86-85A9-6E11F800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D731-9408-4ACC-A729-9E2DC920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97B-4E1A-4A66-9D26-B42C3FC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373-7D48-4C24-9BC4-570E126F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53B-1B11-4D83-86AF-5F96F492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9F4C-336B-4107-8F28-31FE00CBBD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76320" y="5638680"/>
            <a:ext cx="1866960" cy="1066680"/>
            <a:chOff x="76320" y="5638680"/>
            <a:chExt cx="1866960" cy="1066680"/>
          </a:xfrm>
        </p:grpSpPr>
        <p:sp>
          <p:nvSpPr>
            <p:cNvPr id="43" name=""/>
            <p:cNvSpPr/>
            <p:nvPr/>
          </p:nvSpPr>
          <p:spPr>
            <a:xfrm rot="5400000">
              <a:off x="1181160" y="50670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5400000">
              <a:off x="952560" y="52956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5400000">
              <a:off x="647640" y="55242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5400000">
              <a:off x="952560" y="575280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5400000">
              <a:off x="1181160" y="5943240"/>
              <a:ext cx="190440" cy="1333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-124560" y="404640"/>
            <a:ext cx="1366560" cy="4608360"/>
            <a:chOff x="-124560" y="404640"/>
            <a:chExt cx="1366560" cy="4608360"/>
          </a:xfrm>
        </p:grpSpPr>
        <p:sp>
          <p:nvSpPr>
            <p:cNvPr id="50" name=""/>
            <p:cNvSpPr/>
            <p:nvPr/>
          </p:nvSpPr>
          <p:spPr>
            <a:xfrm>
              <a:off x="400320" y="41904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01280" y="191448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1520" y="40464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-124560" y="759240"/>
              <a:ext cx="1366560" cy="4253760"/>
              <a:chOff x="-124560" y="759240"/>
              <a:chExt cx="1366560" cy="4253760"/>
            </a:xfrm>
          </p:grpSpPr>
          <p:sp>
            <p:nvSpPr>
              <p:cNvPr id="54" name=""/>
              <p:cNvSpPr/>
              <p:nvPr/>
            </p:nvSpPr>
            <p:spPr>
              <a:xfrm>
                <a:off x="170640" y="207504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19818600">
                <a:off x="884520" y="2034720"/>
                <a:ext cx="195120" cy="706680"/>
              </a:xfrm>
              <a:custGeom>
                <a:avLst/>
                <a:gdLst>
                  <a:gd name="textAreaLeft" fmla="*/ 45720 w 195120"/>
                  <a:gd name="textAreaRight" fmla="*/ 149400 w 19512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9818600">
                <a:off x="496800" y="3093840"/>
                <a:ext cx="122040" cy="706320"/>
              </a:xfrm>
              <a:custGeom>
                <a:avLst/>
                <a:gdLst>
                  <a:gd name="textAreaLeft" fmla="*/ 28440 w 122040"/>
                  <a:gd name="textAreaRight" fmla="*/ 93240 w 1220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663000">
                <a:off x="432000" y="1471680"/>
                <a:ext cx="84960" cy="705960"/>
              </a:xfrm>
              <a:custGeom>
                <a:avLst/>
                <a:gdLst>
                  <a:gd name="textAreaLeft" fmla="*/ 19800 w 84960"/>
                  <a:gd name="textAreaRight" fmla="*/ 65160 w 84960"/>
                  <a:gd name="textAreaTop" fmla="*/ 82800 h 705960"/>
                  <a:gd name="textAreaBottom" fmla="*/ 442800 h 70596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0752200">
                <a:off x="676800" y="4302000"/>
                <a:ext cx="122400" cy="706320"/>
              </a:xfrm>
              <a:custGeom>
                <a:avLst/>
                <a:gdLst>
                  <a:gd name="textAreaLeft" fmla="*/ 28800 w 122400"/>
                  <a:gd name="textAreaRight" fmla="*/ 93600 w 1224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330800">
                <a:off x="0" y="2065320"/>
                <a:ext cx="244440" cy="706680"/>
              </a:xfrm>
              <a:custGeom>
                <a:avLst/>
                <a:gdLst>
                  <a:gd name="textAreaLeft" fmla="*/ 57240 w 244440"/>
                  <a:gd name="textAreaRight" fmla="*/ 186840 w 2444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379200">
                <a:off x="676800" y="2309400"/>
                <a:ext cx="96840" cy="706680"/>
              </a:xfrm>
              <a:custGeom>
                <a:avLst/>
                <a:gdLst>
                  <a:gd name="textAreaLeft" fmla="*/ 22680 w 96840"/>
                  <a:gd name="textAreaRight" fmla="*/ 74160 w 96840"/>
                  <a:gd name="textAreaTop" fmla="*/ 82800 h 706680"/>
                  <a:gd name="textAreaBottom" fmla="*/ 443160 h 70668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19691400">
                <a:off x="370800" y="4290840"/>
                <a:ext cx="61200" cy="706320"/>
              </a:xfrm>
              <a:custGeom>
                <a:avLst/>
                <a:gdLst>
                  <a:gd name="textAreaLeft" fmla="*/ 14400 w 61200"/>
                  <a:gd name="textAreaRight" fmla="*/ 46800 w 6120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0752200">
                <a:off x="3240" y="785520"/>
                <a:ext cx="305640" cy="706320"/>
              </a:xfrm>
              <a:custGeom>
                <a:avLst/>
                <a:gdLst>
                  <a:gd name="textAreaLeft" fmla="*/ 71640 w 305640"/>
                  <a:gd name="textAreaRight" fmla="*/ 233640 w 30564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1171600">
                <a:off x="185760" y="3376800"/>
                <a:ext cx="123120" cy="706320"/>
              </a:xfrm>
              <a:custGeom>
                <a:avLst/>
                <a:gdLst>
                  <a:gd name="textAreaLeft" fmla="*/ 28800 w 123120"/>
                  <a:gd name="textAreaRight" fmla="*/ 94320 w 123120"/>
                  <a:gd name="textAreaTop" fmla="*/ 82800 h 706320"/>
                  <a:gd name="textAreaBottom" fmla="*/ 443160 h 706320"/>
                </a:gdLst>
                <a:ahLst/>
                <a:rect l="textAreaLeft" t="textAreaTop" r="textAreaRight" b="textAreaBottom"/>
                <a:pathLst>
                  <a:path w="21615" h="21602">
                    <a:moveTo>
                      <a:pt x="10800" y="21599"/>
                    </a:moveTo>
                    <a:lnTo>
                      <a:pt x="321" y="6886"/>
                    </a:lnTo>
                    <a:lnTo>
                      <a:pt x="70" y="6036"/>
                    </a:lnTo>
                    <a:cubicBezTo>
                      <a:pt x="-9" y="5766"/>
                      <a:pt x="-1" y="5474"/>
                      <a:pt x="2" y="5192"/>
                    </a:cubicBezTo>
                    <a:cubicBezTo>
                      <a:pt x="6" y="4918"/>
                      <a:pt x="43" y="4641"/>
                      <a:pt x="101" y="4370"/>
                    </a:cubicBezTo>
                    <a:cubicBezTo>
                      <a:pt x="159" y="4103"/>
                      <a:pt x="245" y="3837"/>
                      <a:pt x="353" y="3582"/>
                    </a:cubicBezTo>
                    <a:cubicBezTo>
                      <a:pt x="460" y="3326"/>
                      <a:pt x="591" y="3077"/>
                      <a:pt x="741" y="2839"/>
                    </a:cubicBezTo>
                    <a:cubicBezTo>
                      <a:pt x="892" y="2598"/>
                      <a:pt x="1066" y="2369"/>
                      <a:pt x="1253" y="2155"/>
                    </a:cubicBezTo>
                    <a:cubicBezTo>
                      <a:pt x="1443" y="1938"/>
                      <a:pt x="1651" y="1732"/>
                      <a:pt x="1874" y="1543"/>
                    </a:cubicBezTo>
                    <a:cubicBezTo>
                      <a:pt x="2097" y="1351"/>
                      <a:pt x="2337" y="1174"/>
                      <a:pt x="2587" y="1014"/>
                    </a:cubicBezTo>
                    <a:cubicBezTo>
                      <a:pt x="2839" y="854"/>
                      <a:pt x="3106" y="708"/>
                      <a:pt x="3380" y="584"/>
                    </a:cubicBezTo>
                    <a:cubicBezTo>
                      <a:pt x="3656" y="459"/>
                      <a:pt x="3945" y="350"/>
                      <a:pt x="4237" y="264"/>
                    </a:cubicBezTo>
                    <a:cubicBezTo>
                      <a:pt x="4533" y="176"/>
                      <a:pt x="4838" y="108"/>
                      <a:pt x="5144" y="66"/>
                    </a:cubicBezTo>
                    <a:cubicBezTo>
                      <a:pt x="5454" y="22"/>
                      <a:pt x="5771" y="1"/>
                      <a:pt x="6086" y="3"/>
                    </a:cubicBezTo>
                    <a:cubicBezTo>
                      <a:pt x="6407" y="7"/>
                      <a:pt x="6731" y="35"/>
                      <a:pt x="7048" y="89"/>
                    </a:cubicBezTo>
                    <a:cubicBezTo>
                      <a:pt x="7374" y="144"/>
                      <a:pt x="7700" y="226"/>
                      <a:pt x="8015" y="335"/>
                    </a:cubicBezTo>
                    <a:cubicBezTo>
                      <a:pt x="8344" y="447"/>
                      <a:pt x="8667" y="590"/>
                      <a:pt x="8972" y="756"/>
                    </a:cubicBezTo>
                    <a:cubicBezTo>
                      <a:pt x="9297" y="932"/>
                      <a:pt x="9613" y="1135"/>
                      <a:pt x="9907" y="1363"/>
                    </a:cubicBezTo>
                    <a:cubicBezTo>
                      <a:pt x="10224" y="1609"/>
                      <a:pt x="10504" y="1900"/>
                      <a:pt x="10802" y="2169"/>
                    </a:cubicBezTo>
                    <a:lnTo>
                      <a:pt x="11697" y="1363"/>
                    </a:lnTo>
                    <a:cubicBezTo>
                      <a:pt x="11971" y="1116"/>
                      <a:pt x="12304" y="934"/>
                      <a:pt x="12630" y="756"/>
                    </a:cubicBezTo>
                    <a:cubicBezTo>
                      <a:pt x="12935" y="590"/>
                      <a:pt x="13528" y="450"/>
                      <a:pt x="13589" y="335"/>
                    </a:cubicBezTo>
                    <a:cubicBezTo>
                      <a:pt x="13901" y="226"/>
                      <a:pt x="14227" y="144"/>
                      <a:pt x="14556" y="89"/>
                    </a:cubicBezTo>
                    <a:cubicBezTo>
                      <a:pt x="14872" y="35"/>
                      <a:pt x="15195" y="7"/>
                      <a:pt x="15517" y="3"/>
                    </a:cubicBezTo>
                    <a:cubicBezTo>
                      <a:pt x="15830" y="0"/>
                      <a:pt x="16147" y="22"/>
                      <a:pt x="16458" y="66"/>
                    </a:cubicBezTo>
                    <a:cubicBezTo>
                      <a:pt x="16764" y="109"/>
                      <a:pt x="17068" y="177"/>
                      <a:pt x="17365" y="264"/>
                    </a:cubicBezTo>
                    <a:cubicBezTo>
                      <a:pt x="17658" y="349"/>
                      <a:pt x="17946" y="458"/>
                      <a:pt x="18222" y="584"/>
                    </a:cubicBezTo>
                    <a:cubicBezTo>
                      <a:pt x="18496" y="708"/>
                      <a:pt x="18762" y="854"/>
                      <a:pt x="19015" y="1014"/>
                    </a:cubicBezTo>
                    <a:cubicBezTo>
                      <a:pt x="19264" y="1172"/>
                      <a:pt x="19504" y="1349"/>
                      <a:pt x="19730" y="1543"/>
                    </a:cubicBezTo>
                    <a:cubicBezTo>
                      <a:pt x="19950" y="1731"/>
                      <a:pt x="20158" y="1937"/>
                      <a:pt x="20350" y="2155"/>
                    </a:cubicBezTo>
                    <a:cubicBezTo>
                      <a:pt x="20536" y="2369"/>
                      <a:pt x="20710" y="2598"/>
                      <a:pt x="20861" y="2839"/>
                    </a:cubicBezTo>
                    <a:cubicBezTo>
                      <a:pt x="21010" y="3074"/>
                      <a:pt x="21143" y="3323"/>
                      <a:pt x="21251" y="3582"/>
                    </a:cubicBezTo>
                    <a:cubicBezTo>
                      <a:pt x="21357" y="3835"/>
                      <a:pt x="21443" y="4099"/>
                      <a:pt x="21502" y="4370"/>
                    </a:cubicBezTo>
                    <a:cubicBezTo>
                      <a:pt x="21561" y="4639"/>
                      <a:pt x="21595" y="4916"/>
                      <a:pt x="21600" y="5192"/>
                    </a:cubicBezTo>
                    <a:cubicBezTo>
                      <a:pt x="21606" y="5474"/>
                      <a:pt x="21584" y="5760"/>
                      <a:pt x="21532" y="6036"/>
                    </a:cubicBezTo>
                    <a:cubicBezTo>
                      <a:pt x="21478" y="6326"/>
                      <a:pt x="21366" y="6603"/>
                      <a:pt x="21282" y="6887"/>
                    </a:cubicBezTo>
                    <a:lnTo>
                      <a:pt x="10802" y="21602"/>
                    </a:ln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"/>
          <p:cNvGrpSpPr/>
          <p:nvPr/>
        </p:nvGrpSpPr>
        <p:grpSpPr>
          <a:xfrm>
            <a:off x="8153280" y="404640"/>
            <a:ext cx="990720" cy="1523880"/>
            <a:chOff x="8153280" y="404640"/>
            <a:chExt cx="990720" cy="1523880"/>
          </a:xfrm>
        </p:grpSpPr>
        <p:sp>
          <p:nvSpPr>
            <p:cNvPr id="65" name=""/>
            <p:cNvSpPr/>
            <p:nvPr/>
          </p:nvSpPr>
          <p:spPr>
            <a:xfrm>
              <a:off x="8153280" y="404640"/>
              <a:ext cx="990720" cy="1523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305920" y="480960"/>
              <a:ext cx="685800" cy="1295280"/>
            </a:xfrm>
            <a:prstGeom prst="rect">
              <a:avLst/>
            </a:prstGeom>
            <a:gradFill rotWithShape="0">
              <a:gsLst>
                <a:gs pos="0">
                  <a:srgbClr val="00ff00"/>
                </a:gs>
                <a:gs pos="100000">
                  <a:srgbClr val="66ffff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3c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c9900"/>
                  </a:solidFill>
                  <a:latin typeface="Times New Roman"/>
                  <a:ea typeface="华文楷体"/>
                </a:rPr>
                <a:t>学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2050920" y="2421000"/>
            <a:ext cx="4571640" cy="1523880"/>
            <a:chOff x="2050920" y="2421000"/>
            <a:chExt cx="4571640" cy="1523880"/>
          </a:xfrm>
        </p:grpSpPr>
        <p:sp>
          <p:nvSpPr>
            <p:cNvPr id="68" name=""/>
            <p:cNvSpPr/>
            <p:nvPr/>
          </p:nvSpPr>
          <p:spPr>
            <a:xfrm>
              <a:off x="2268360" y="2573280"/>
              <a:ext cx="4208760" cy="1219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0920" y="3639960"/>
              <a:ext cx="289800" cy="3049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50920" y="2421000"/>
              <a:ext cx="289800" cy="304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32400" y="3639960"/>
              <a:ext cx="29016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332400" y="2421000"/>
              <a:ext cx="290160" cy="3045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3c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340720" y="2496960"/>
              <a:ext cx="399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195640" y="27255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40720" y="3868560"/>
              <a:ext cx="40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550200" y="272556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411280" y="2781360"/>
            <a:ext cx="3962520" cy="8251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zh-CN" sz="4800" spc="-1" strike="noStrike">
                <a:solidFill>
                  <a:srgbClr val="ffcc00"/>
                </a:solidFill>
                <a:latin typeface="Times New Roman"/>
              </a:rPr>
              <a:t>解    比     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1768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面的比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933640" y="1752480"/>
            <a:ext cx="2857680" cy="782280"/>
            <a:chOff x="2933640" y="1752480"/>
            <a:chExt cx="2857680" cy="782280"/>
          </a:xfrm>
        </p:grpSpPr>
        <p:sp>
          <p:nvSpPr>
            <p:cNvPr id="283" name=""/>
            <p:cNvSpPr/>
            <p:nvPr/>
          </p:nvSpPr>
          <p:spPr>
            <a:xfrm>
              <a:off x="293364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02760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005280" y="207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4328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3724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814920" y="207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734000" y="2133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827600" y="175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805640" y="2075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357720" y="190512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04520" y="1892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10200" y="190512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5" name=""/>
                <p:cNvSpPr txBox="1"/>
                <p:nvPr/>
              </p:nvSpPr>
              <p:spPr>
                <a:xfrm>
                  <a:off x="5484960" y="19764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6" name=""/>
          <p:cNvSpPr/>
          <p:nvPr/>
        </p:nvSpPr>
        <p:spPr>
          <a:xfrm>
            <a:off x="2530080" y="274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75160" y="2649600"/>
            <a:ext cx="2544480" cy="799560"/>
            <a:chOff x="3575160" y="2649600"/>
            <a:chExt cx="2544480" cy="799560"/>
          </a:xfrm>
        </p:grpSpPr>
        <p:sp>
          <p:nvSpPr>
            <p:cNvPr id="298" name=""/>
            <p:cNvSpPr/>
            <p:nvPr/>
          </p:nvSpPr>
          <p:spPr>
            <a:xfrm>
              <a:off x="3575160" y="30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6876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46800" y="29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1" name=""/>
                <p:cNvSpPr txBox="1"/>
                <p:nvPr/>
              </p:nvSpPr>
              <p:spPr>
                <a:xfrm>
                  <a:off x="4008600" y="288612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02" name=""/>
            <p:cNvSpPr/>
            <p:nvPr/>
          </p:nvSpPr>
          <p:spPr>
            <a:xfrm>
              <a:off x="4299840" y="28018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72080" y="303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765680" y="264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74372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62440" y="303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56400" y="264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34080" y="2971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38360" y="2789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019400" y="3587760"/>
            <a:ext cx="2781360" cy="781920"/>
            <a:chOff x="4019400" y="3587760"/>
            <a:chExt cx="2781360" cy="781920"/>
          </a:xfrm>
        </p:grpSpPr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4019400" y="380988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12" name=""/>
            <p:cNvSpPr/>
            <p:nvPr/>
          </p:nvSpPr>
          <p:spPr>
            <a:xfrm>
              <a:off x="4301280" y="3726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73520" y="3968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67480" y="358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45160" y="39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64240" y="3968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58200" y="3587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735880" y="390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49520" y="3727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163920" y="3733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67760" y="3732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38480" y="4387680"/>
            <a:ext cx="1135080" cy="782280"/>
            <a:chOff x="4038480" y="4387680"/>
            <a:chExt cx="1135080" cy="782280"/>
          </a:xfrm>
        </p:grpSpPr>
        <mc:AlternateContent>
          <mc:Choice xmlns:a14="http://schemas.microsoft.com/office/drawing/2010/main" Requires="a14">
            <p:sp>
              <p:nvSpPr>
                <p:cNvPr id="323" name=""/>
                <p:cNvSpPr txBox="1"/>
                <p:nvPr/>
              </p:nvSpPr>
              <p:spPr>
                <a:xfrm>
                  <a:off x="4038480" y="460044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"/>
            <p:cNvSpPr/>
            <p:nvPr/>
          </p:nvSpPr>
          <p:spPr>
            <a:xfrm>
              <a:off x="4315680" y="4525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87920" y="4768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81880" y="4387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7920" y="4710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6477120" y="38098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62520" y="39909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46880" y="339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761080" y="42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988000" y="990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依照下面的条件列出比例，并且解比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68236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019400" y="378144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"/>
          <p:cNvSpPr/>
          <p:nvPr/>
        </p:nvSpPr>
        <p:spPr>
          <a:xfrm>
            <a:off x="4301280" y="36972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078520" y="4202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2162520" y="1503360"/>
            <a:ext cx="4221720" cy="485640"/>
            <a:chOff x="2162520" y="1503360"/>
            <a:chExt cx="4221720" cy="485640"/>
          </a:xfrm>
        </p:grpSpPr>
        <p:sp>
          <p:nvSpPr>
            <p:cNvPr id="339" name=""/>
            <p:cNvSpPr/>
            <p:nvPr/>
          </p:nvSpPr>
          <p:spPr>
            <a:xfrm>
              <a:off x="2162520" y="1523880"/>
              <a:ext cx="29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比等于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"/>
                <p:cNvSpPr txBox="1"/>
                <p:nvPr/>
              </p:nvSpPr>
              <p:spPr>
                <a:xfrm>
                  <a:off x="5195880" y="1616040"/>
                  <a:ext cx="3240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1" name=""/>
            <p:cNvSpPr/>
            <p:nvPr/>
          </p:nvSpPr>
          <p:spPr>
            <a:xfrm>
              <a:off x="5654880" y="150336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比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3291120" y="2131920"/>
            <a:ext cx="2419200" cy="477360"/>
            <a:chOff x="3291120" y="2131920"/>
            <a:chExt cx="2419200" cy="477360"/>
          </a:xfrm>
        </p:grpSpPr>
        <p:sp>
          <p:nvSpPr>
            <p:cNvPr id="343" name=""/>
            <p:cNvSpPr/>
            <p:nvPr/>
          </p:nvSpPr>
          <p:spPr>
            <a:xfrm>
              <a:off x="3510000" y="21337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301280" y="2149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213372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403960" y="223344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47" name=""/>
            <p:cNvSpPr/>
            <p:nvPr/>
          </p:nvSpPr>
          <p:spPr>
            <a:xfrm>
              <a:off x="3291120" y="2131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19680" y="2146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09880" y="2146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760920" y="2806560"/>
            <a:ext cx="2050560" cy="472680"/>
            <a:chOff x="3760920" y="2806560"/>
            <a:chExt cx="2050560" cy="472680"/>
          </a:xfrm>
        </p:grpSpPr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4008600" y="29034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52" name=""/>
            <p:cNvSpPr/>
            <p:nvPr/>
          </p:nvSpPr>
          <p:spPr>
            <a:xfrm>
              <a:off x="4299840" y="28195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72608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25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20920" y="2806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6092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4667400" y="39546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37240" y="354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7000" y="3530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046480" y="353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46840" y="3925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376960" y="367812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424480" y="3243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076720" y="40640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4024440" y="4581360"/>
            <a:ext cx="1142640" cy="472680"/>
            <a:chOff x="4024440" y="4581360"/>
            <a:chExt cx="1142640" cy="472680"/>
          </a:xfrm>
        </p:grpSpPr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4024440" y="465624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7" name=""/>
            <p:cNvSpPr/>
            <p:nvPr/>
          </p:nvSpPr>
          <p:spPr>
            <a:xfrm>
              <a:off x="4302720" y="4581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81440" y="4594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500"/>
                            </p:stCondLst>
                            <p:childTnLst>
                              <p:par>
                                <p:cTn id="5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988000" y="990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依照下面的条件列出比例，并且解比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8580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4033800" y="452592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4315680" y="4441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83720" y="1495440"/>
            <a:ext cx="5402520" cy="916920"/>
            <a:chOff x="1683720" y="1495440"/>
            <a:chExt cx="5402520" cy="916920"/>
          </a:xfrm>
        </p:grpSpPr>
        <p:sp>
          <p:nvSpPr>
            <p:cNvPr id="375" name=""/>
            <p:cNvSpPr/>
            <p:nvPr/>
          </p:nvSpPr>
          <p:spPr>
            <a:xfrm>
              <a:off x="1683720" y="1724040"/>
              <a:ext cx="455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  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       的比等于      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6" name=""/>
                <p:cNvSpPr txBox="1"/>
                <p:nvPr/>
              </p:nvSpPr>
              <p:spPr>
                <a:xfrm>
                  <a:off x="2676600" y="1785960"/>
                  <a:ext cx="32364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77" name=""/>
            <p:cNvSpPr/>
            <p:nvPr/>
          </p:nvSpPr>
          <p:spPr>
            <a:xfrm>
              <a:off x="6356880" y="17240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比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3405240" y="1560600"/>
              <a:ext cx="371520" cy="837360"/>
              <a:chOff x="3405240" y="1560600"/>
              <a:chExt cx="371520" cy="837360"/>
            </a:xfrm>
          </p:grpSpPr>
          <p:sp>
            <p:nvSpPr>
              <p:cNvPr id="379" name=""/>
              <p:cNvSpPr/>
              <p:nvPr/>
            </p:nvSpPr>
            <p:spPr>
              <a:xfrm>
                <a:off x="3405240" y="19810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443400" y="1560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430800" y="1938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5867280" y="1504800"/>
              <a:ext cx="371520" cy="907560"/>
              <a:chOff x="5867280" y="1504800"/>
              <a:chExt cx="371520" cy="907560"/>
            </a:xfrm>
          </p:grpSpPr>
          <p:sp>
            <p:nvSpPr>
              <p:cNvPr id="383" name=""/>
              <p:cNvSpPr/>
              <p:nvPr/>
            </p:nvSpPr>
            <p:spPr>
              <a:xfrm>
                <a:off x="5867280" y="19954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905800" y="1574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92840" y="1952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978520" y="150480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5089680" y="1495440"/>
              <a:ext cx="371160" cy="907560"/>
              <a:chOff x="5089680" y="1495440"/>
              <a:chExt cx="371160" cy="907560"/>
            </a:xfrm>
          </p:grpSpPr>
          <p:sp>
            <p:nvSpPr>
              <p:cNvPr id="388" name=""/>
              <p:cNvSpPr/>
              <p:nvPr/>
            </p:nvSpPr>
            <p:spPr>
              <a:xfrm>
                <a:off x="5089680" y="1986120"/>
                <a:ext cx="37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127840" y="156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115240" y="1943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57800" y="14954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2" name=""/>
          <p:cNvGrpSpPr/>
          <p:nvPr/>
        </p:nvGrpSpPr>
        <p:grpSpPr>
          <a:xfrm>
            <a:off x="3200400" y="2471760"/>
            <a:ext cx="2665440" cy="916920"/>
            <a:chOff x="3200400" y="2471760"/>
            <a:chExt cx="2665440" cy="916920"/>
          </a:xfrm>
        </p:grpSpPr>
        <p:sp>
          <p:nvSpPr>
            <p:cNvPr id="393" name=""/>
            <p:cNvSpPr/>
            <p:nvPr/>
          </p:nvSpPr>
          <p:spPr>
            <a:xfrm>
              <a:off x="3413160" y="269892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53760" y="2700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57640" y="2728800"/>
              <a:ext cx="53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6" name=""/>
                <p:cNvSpPr txBox="1"/>
                <p:nvPr/>
              </p:nvSpPr>
              <p:spPr>
                <a:xfrm>
                  <a:off x="3200400" y="27432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grpSp>
          <p:nvGrpSpPr>
            <p:cNvPr id="397" name=""/>
            <p:cNvGrpSpPr/>
            <p:nvPr/>
          </p:nvGrpSpPr>
          <p:grpSpPr>
            <a:xfrm>
              <a:off x="3786120" y="2517840"/>
              <a:ext cx="371520" cy="837360"/>
              <a:chOff x="3786120" y="2517840"/>
              <a:chExt cx="371520" cy="837360"/>
            </a:xfrm>
          </p:grpSpPr>
          <p:sp>
            <p:nvSpPr>
              <p:cNvPr id="398" name=""/>
              <p:cNvSpPr/>
              <p:nvPr/>
            </p:nvSpPr>
            <p:spPr>
              <a:xfrm>
                <a:off x="3786120" y="293832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24280" y="2517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811680" y="289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494320" y="2481120"/>
              <a:ext cx="371520" cy="907560"/>
              <a:chOff x="5494320" y="2481120"/>
              <a:chExt cx="371520" cy="907560"/>
            </a:xfrm>
          </p:grpSpPr>
          <p:sp>
            <p:nvSpPr>
              <p:cNvPr id="402" name=""/>
              <p:cNvSpPr/>
              <p:nvPr/>
            </p:nvSpPr>
            <p:spPr>
              <a:xfrm>
                <a:off x="5494320" y="297180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532480" y="2550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519880" y="2928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605560" y="24811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4716360" y="2471760"/>
              <a:ext cx="371520" cy="907200"/>
              <a:chOff x="4716360" y="2471760"/>
              <a:chExt cx="371520" cy="907200"/>
            </a:xfrm>
          </p:grpSpPr>
          <p:sp>
            <p:nvSpPr>
              <p:cNvPr id="407" name=""/>
              <p:cNvSpPr/>
              <p:nvPr/>
            </p:nvSpPr>
            <p:spPr>
              <a:xfrm>
                <a:off x="4716360" y="296244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754880" y="2541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741920" y="291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884840" y="24717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1" name=""/>
          <p:cNvGrpSpPr/>
          <p:nvPr/>
        </p:nvGrpSpPr>
        <p:grpSpPr>
          <a:xfrm>
            <a:off x="3672000" y="3305160"/>
            <a:ext cx="2061720" cy="921600"/>
            <a:chOff x="3672000" y="3305160"/>
            <a:chExt cx="2061720" cy="921600"/>
          </a:xfrm>
        </p:grpSpPr>
        <mc:AlternateContent>
          <mc:Choice xmlns:a14="http://schemas.microsoft.com/office/drawing/2010/main" Requires="a14">
            <p:sp>
              <p:nvSpPr>
                <p:cNvPr id="412" name=""/>
                <p:cNvSpPr txBox="1"/>
                <p:nvPr/>
              </p:nvSpPr>
              <p:spPr>
                <a:xfrm>
                  <a:off x="4008600" y="36432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13" name=""/>
            <p:cNvSpPr/>
            <p:nvPr/>
          </p:nvSpPr>
          <p:spPr>
            <a:xfrm>
              <a:off x="4299840" y="3559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3672000" y="3319560"/>
              <a:ext cx="371520" cy="907200"/>
              <a:chOff x="3672000" y="3319560"/>
              <a:chExt cx="371520" cy="907200"/>
            </a:xfrm>
          </p:grpSpPr>
          <p:sp>
            <p:nvSpPr>
              <p:cNvPr id="415" name=""/>
              <p:cNvSpPr/>
              <p:nvPr/>
            </p:nvSpPr>
            <p:spPr>
              <a:xfrm>
                <a:off x="3672000" y="38098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710160" y="3389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697560" y="3767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783240" y="331956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662360" y="3305160"/>
              <a:ext cx="1071360" cy="918360"/>
              <a:chOff x="4662360" y="3305160"/>
              <a:chExt cx="1071360" cy="918360"/>
            </a:xfrm>
          </p:grpSpPr>
          <p:sp>
            <p:nvSpPr>
              <p:cNvPr id="420" name=""/>
              <p:cNvSpPr/>
              <p:nvPr/>
            </p:nvSpPr>
            <p:spPr>
              <a:xfrm>
                <a:off x="5020920" y="35463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4662360" y="3386160"/>
                <a:ext cx="371520" cy="837360"/>
                <a:chOff x="4662360" y="3386160"/>
                <a:chExt cx="371520" cy="83736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662360" y="3806640"/>
                  <a:ext cx="371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700520" y="3386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687920" y="3763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5362560" y="3305160"/>
                <a:ext cx="371160" cy="907200"/>
                <a:chOff x="5362560" y="3305160"/>
                <a:chExt cx="371160" cy="907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5362560" y="3795840"/>
                  <a:ext cx="37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5400360" y="3375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5387400" y="3752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530680" y="3305160"/>
                  <a:ext cx="18360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30" name=""/>
          <p:cNvSpPr/>
          <p:nvPr/>
        </p:nvSpPr>
        <p:spPr>
          <a:xfrm>
            <a:off x="5062320" y="4432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703760" y="4272120"/>
            <a:ext cx="371520" cy="837360"/>
            <a:chOff x="4703760" y="4272120"/>
            <a:chExt cx="371520" cy="837360"/>
          </a:xfrm>
        </p:grpSpPr>
        <p:sp>
          <p:nvSpPr>
            <p:cNvPr id="432" name=""/>
            <p:cNvSpPr/>
            <p:nvPr/>
          </p:nvSpPr>
          <p:spPr>
            <a:xfrm>
              <a:off x="4703760" y="469260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41920" y="4272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29320" y="4649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5403960" y="4191120"/>
            <a:ext cx="371160" cy="907200"/>
            <a:chOff x="5403960" y="4191120"/>
            <a:chExt cx="371160" cy="907200"/>
          </a:xfrm>
        </p:grpSpPr>
        <p:sp>
          <p:nvSpPr>
            <p:cNvPr id="436" name=""/>
            <p:cNvSpPr/>
            <p:nvPr/>
          </p:nvSpPr>
          <p:spPr>
            <a:xfrm>
              <a:off x="5403960" y="4681800"/>
              <a:ext cx="37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441760" y="426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28800" y="463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72080" y="419112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5795640" y="4448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132600" y="4200480"/>
            <a:ext cx="371520" cy="907560"/>
            <a:chOff x="6132600" y="4200480"/>
            <a:chExt cx="371520" cy="907560"/>
          </a:xfrm>
        </p:grpSpPr>
        <p:sp>
          <p:nvSpPr>
            <p:cNvPr id="442" name=""/>
            <p:cNvSpPr/>
            <p:nvPr/>
          </p:nvSpPr>
          <p:spPr>
            <a:xfrm>
              <a:off x="6132600" y="4691160"/>
              <a:ext cx="37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70760" y="4270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58160" y="464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243840" y="42004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6172200" y="44197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38880" y="4738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70760" y="4032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59400" y="4919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4024440" y="5218200"/>
            <a:ext cx="1050840" cy="837360"/>
            <a:chOff x="4024440" y="5218200"/>
            <a:chExt cx="1050840" cy="837360"/>
          </a:xfrm>
        </p:grpSpPr>
        <mc:AlternateContent>
          <mc:Choice xmlns:a14="http://schemas.microsoft.com/office/drawing/2010/main" Requires="a14">
            <p:sp>
              <p:nvSpPr>
                <p:cNvPr id="451" name=""/>
                <p:cNvSpPr txBox="1"/>
                <p:nvPr/>
              </p:nvSpPr>
              <p:spPr>
                <a:xfrm>
                  <a:off x="4024440" y="54720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52" name=""/>
            <p:cNvSpPr/>
            <p:nvPr/>
          </p:nvSpPr>
          <p:spPr>
            <a:xfrm>
              <a:off x="4302720" y="5397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4703760" y="5218200"/>
              <a:ext cx="371520" cy="837360"/>
              <a:chOff x="4703760" y="5218200"/>
              <a:chExt cx="371520" cy="837360"/>
            </a:xfrm>
          </p:grpSpPr>
          <p:sp>
            <p:nvSpPr>
              <p:cNvPr id="454" name=""/>
              <p:cNvSpPr/>
              <p:nvPr/>
            </p:nvSpPr>
            <p:spPr>
              <a:xfrm>
                <a:off x="4703760" y="5638680"/>
                <a:ext cx="37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741920" y="5218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729320" y="5595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988000" y="990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依照下面的条件列出比例，并且解比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30080" y="2286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0" name=""/>
              <p:cNvSpPr txBox="1"/>
              <p:nvPr/>
            </p:nvSpPr>
            <p:spPr>
              <a:xfrm>
                <a:off x="3959280" y="408132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"/>
          <p:cNvSpPr/>
          <p:nvPr/>
        </p:nvSpPr>
        <p:spPr>
          <a:xfrm>
            <a:off x="4240800" y="3997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355120" y="1539720"/>
            <a:ext cx="4846680" cy="825480"/>
            <a:chOff x="2355120" y="1539720"/>
            <a:chExt cx="4846680" cy="825480"/>
          </a:xfrm>
        </p:grpSpPr>
        <p:sp>
          <p:nvSpPr>
            <p:cNvPr id="463" name=""/>
            <p:cNvSpPr/>
            <p:nvPr/>
          </p:nvSpPr>
          <p:spPr>
            <a:xfrm>
              <a:off x="2355120" y="1539720"/>
              <a:ext cx="4846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等号左端的比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.5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∶  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等号右端比的前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后项分别是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.6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.8</a:t>
              </a:r>
              <a:r>
                <a:rPr b="0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4" name=""/>
                <p:cNvSpPr txBox="1"/>
                <p:nvPr/>
              </p:nvSpPr>
              <p:spPr>
                <a:xfrm>
                  <a:off x="5002200" y="1596960"/>
                  <a:ext cx="324000" cy="372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65" name=""/>
          <p:cNvGrpSpPr/>
          <p:nvPr/>
        </p:nvGrpSpPr>
        <p:grpSpPr>
          <a:xfrm>
            <a:off x="3049920" y="2438280"/>
            <a:ext cx="2692440" cy="467640"/>
            <a:chOff x="3049920" y="2438280"/>
            <a:chExt cx="2692440" cy="467640"/>
          </a:xfrm>
        </p:grpSpPr>
        <p:sp>
          <p:nvSpPr>
            <p:cNvPr id="466" name=""/>
            <p:cNvSpPr/>
            <p:nvPr/>
          </p:nvSpPr>
          <p:spPr>
            <a:xfrm>
              <a:off x="3429000" y="2438280"/>
              <a:ext cx="5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7440" y="2440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8" name=""/>
                <p:cNvSpPr txBox="1"/>
                <p:nvPr/>
              </p:nvSpPr>
              <p:spPr>
                <a:xfrm>
                  <a:off x="3781440" y="251604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69" name=""/>
            <p:cNvSpPr/>
            <p:nvPr/>
          </p:nvSpPr>
          <p:spPr>
            <a:xfrm>
              <a:off x="3049920" y="243828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563360" y="244620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6 ∶4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354480" y="3048120"/>
            <a:ext cx="2474640" cy="475560"/>
            <a:chOff x="3354480" y="3048120"/>
            <a:chExt cx="2474640" cy="475560"/>
          </a:xfrm>
        </p:grpSpPr>
        <mc:AlternateContent>
          <mc:Choice xmlns:a14="http://schemas.microsoft.com/office/drawing/2010/main" Requires="a14">
            <p:sp>
              <p:nvSpPr>
                <p:cNvPr id="472" name=""/>
                <p:cNvSpPr txBox="1"/>
                <p:nvPr/>
              </p:nvSpPr>
              <p:spPr>
                <a:xfrm>
                  <a:off x="3809880" y="31338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3" name=""/>
            <p:cNvSpPr/>
            <p:nvPr/>
          </p:nvSpPr>
          <p:spPr>
            <a:xfrm>
              <a:off x="4196520" y="3049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354480" y="30495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008320" y="3049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97480" y="306396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267520" y="30481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.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591080" y="42386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122800" y="38336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11960" y="3848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381640" y="3832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983480" y="41958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10080" y="39625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633920" y="397656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014800" y="431964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81720" y="354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100840" y="4489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043600" y="4586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08760" y="4770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605480" y="3589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3949560" y="5181480"/>
            <a:ext cx="960480" cy="467640"/>
            <a:chOff x="3949560" y="5181480"/>
            <a:chExt cx="960480" cy="467640"/>
          </a:xfrm>
        </p:grpSpPr>
        <mc:AlternateContent>
          <mc:Choice xmlns:a14="http://schemas.microsoft.com/office/drawing/2010/main" Requires="a14">
            <p:sp>
              <p:nvSpPr>
                <p:cNvPr id="492" name=""/>
                <p:cNvSpPr txBox="1"/>
                <p:nvPr/>
              </p:nvSpPr>
              <p:spPr>
                <a:xfrm>
                  <a:off x="3949560" y="525636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3" name=""/>
            <p:cNvSpPr/>
            <p:nvPr/>
          </p:nvSpPr>
          <p:spPr>
            <a:xfrm>
              <a:off x="4228200" y="51814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577040" y="5189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500"/>
                            </p:stCondLst>
                            <p:childTnLst>
                              <p:par>
                                <p:cTn id="6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000"/>
                            </p:stCondLst>
                            <p:childTnLst>
                              <p:par>
                                <p:cTn id="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30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布置作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1287360" y="2276640"/>
            <a:ext cx="681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业：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页练习十一，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WordArt 4"/>
          <p:cNvSpPr txBox="1"/>
          <p:nvPr/>
        </p:nvSpPr>
        <p:spPr>
          <a:xfrm>
            <a:off x="1763640" y="2349360"/>
            <a:ext cx="504036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！再见！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8" name="">
            <a:hlinkClick r:id="" action="ppaction://hlinkshowjump?jump=firstslide"/>
          </p:cNvPr>
          <p:cNvSpPr/>
          <p:nvPr/>
        </p:nvSpPr>
        <p:spPr>
          <a:xfrm>
            <a:off x="8244000" y="5805360"/>
            <a:ext cx="900000" cy="1052640"/>
          </a:xfrm>
          <a:custGeom>
            <a:avLst/>
            <a:gdLst>
              <a:gd name="textAreaLeft" fmla="*/ 58320 w 900000"/>
              <a:gd name="textAreaRight" fmla="*/ 841680 w 900000"/>
              <a:gd name="textAreaTop" fmla="*/ 58320 h 1052640"/>
              <a:gd name="textAreaBottom" fmla="*/ 994320 h 1052640"/>
            </a:gdLst>
            <a:ahLst/>
            <a:rect l="textAreaLeft" t="textAreaTop" r="textAreaRight" b="textAreaBottom"/>
            <a:pathLst>
              <a:path w="21600" h="25262">
                <a:moveTo>
                  <a:pt x="0" y="0"/>
                </a:moveTo>
                <a:lnTo>
                  <a:pt x="21600" y="0"/>
                </a:lnTo>
                <a:lnTo>
                  <a:pt x="21600" y="25262"/>
                </a:lnTo>
                <a:lnTo>
                  <a:pt x="0" y="25262"/>
                </a:lnTo>
                <a:close/>
              </a:path>
              <a:path fill="lightenLess" w="21600" h="252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62">
                <a:moveTo>
                  <a:pt x="21600" y="0"/>
                </a:moveTo>
                <a:lnTo>
                  <a:pt x="21600" y="25262"/>
                </a:lnTo>
                <a:lnTo>
                  <a:pt x="20200" y="23862"/>
                </a:lnTo>
                <a:lnTo>
                  <a:pt x="20200" y="1400"/>
                </a:lnTo>
                <a:close/>
              </a:path>
              <a:path fill="darkenLess" w="21600" h="25262">
                <a:moveTo>
                  <a:pt x="21600" y="25262"/>
                </a:moveTo>
                <a:lnTo>
                  <a:pt x="0" y="25262"/>
                </a:lnTo>
                <a:lnTo>
                  <a:pt x="1400" y="23862"/>
                </a:lnTo>
                <a:lnTo>
                  <a:pt x="20200" y="23862"/>
                </a:lnTo>
                <a:close/>
              </a:path>
              <a:path fill="lighten" w="21600" h="25262">
                <a:moveTo>
                  <a:pt x="0" y="252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6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713" dur="1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6" dur="2000" fill="hold"/>
                                        <p:tgtEl>
                                          <p:spTgt spid="4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19" dur="1" fill="hold"/>
                                  <p:tgtEl>
                                    <p:spTgt spid="49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ff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1640" y="62064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90920" y="10666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列简易方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410080" y="1590840"/>
            <a:ext cx="1779480" cy="771480"/>
            <a:chOff x="5410080" y="1590840"/>
            <a:chExt cx="1779480" cy="771480"/>
          </a:xfrm>
        </p:grpSpPr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5410080" y="1600200"/>
                  <a:ext cx="35100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6300720" y="1600200"/>
                  <a:ext cx="27936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6865920" y="1590840"/>
                  <a:ext cx="3236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5603760" y="1800360"/>
                  <a:ext cx="3016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6540120" y="1743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4800" y="1752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1920600" y="2362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24080" y="243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959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424240" y="1757520"/>
            <a:ext cx="1991520" cy="520560"/>
            <a:chOff x="2424240" y="1757520"/>
            <a:chExt cx="1991520" cy="520560"/>
          </a:xfrm>
        </p:grpSpPr>
        <p:sp>
          <p:nvSpPr>
            <p:cNvPr id="91" name=""/>
            <p:cNvSpPr/>
            <p:nvPr/>
          </p:nvSpPr>
          <p:spPr>
            <a:xfrm>
              <a:off x="2424240" y="1757520"/>
              <a:ext cx="36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97720" y="1757520"/>
              <a:ext cx="14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 × 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2666880" y="1828800"/>
                  <a:ext cx="3016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"/>
          <p:cNvGrpSpPr/>
          <p:nvPr/>
        </p:nvGrpSpPr>
        <p:grpSpPr>
          <a:xfrm>
            <a:off x="2377800" y="2424240"/>
            <a:ext cx="1405080" cy="529920"/>
            <a:chOff x="2377800" y="2424240"/>
            <a:chExt cx="1405080" cy="529920"/>
          </a:xfrm>
        </p:grpSpPr>
        <p:sp>
          <p:nvSpPr>
            <p:cNvPr id="95" name=""/>
            <p:cNvSpPr/>
            <p:nvPr/>
          </p:nvSpPr>
          <p:spPr>
            <a:xfrm>
              <a:off x="2377800" y="24336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57400" y="242424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7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" name=""/>
                <p:cNvSpPr txBox="1"/>
                <p:nvPr/>
              </p:nvSpPr>
              <p:spPr>
                <a:xfrm>
                  <a:off x="2624040" y="2500200"/>
                  <a:ext cx="3016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8" name=""/>
          <p:cNvGrpSpPr/>
          <p:nvPr/>
        </p:nvGrpSpPr>
        <p:grpSpPr>
          <a:xfrm>
            <a:off x="2633760" y="3276720"/>
            <a:ext cx="1783440" cy="520560"/>
            <a:chOff x="2633760" y="3276720"/>
            <a:chExt cx="1783440" cy="520560"/>
          </a:xfrm>
        </p:grpSpPr>
        <p:sp>
          <p:nvSpPr>
            <p:cNvPr id="99" name=""/>
            <p:cNvSpPr/>
            <p:nvPr/>
          </p:nvSpPr>
          <p:spPr>
            <a:xfrm>
              <a:off x="3034080" y="3276720"/>
              <a:ext cx="1383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72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2633760" y="3338640"/>
                  <a:ext cx="3016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" name=""/>
          <p:cNvGrpSpPr/>
          <p:nvPr/>
        </p:nvGrpSpPr>
        <p:grpSpPr>
          <a:xfrm>
            <a:off x="2633760" y="4105440"/>
            <a:ext cx="1153800" cy="520560"/>
            <a:chOff x="2633760" y="4105440"/>
            <a:chExt cx="1153800" cy="520560"/>
          </a:xfrm>
        </p:grpSpPr>
        <p:sp>
          <p:nvSpPr>
            <p:cNvPr id="102" name=""/>
            <p:cNvSpPr/>
            <p:nvPr/>
          </p:nvSpPr>
          <p:spPr>
            <a:xfrm>
              <a:off x="2962080" y="4105440"/>
              <a:ext cx="82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= 3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2633760" y="4162320"/>
                  <a:ext cx="3016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5715000" y="3186000"/>
            <a:ext cx="1755720" cy="762120"/>
            <a:chOff x="5715000" y="3186000"/>
            <a:chExt cx="1755720" cy="762120"/>
          </a:xfrm>
        </p:grpSpPr>
        <p:sp>
          <p:nvSpPr>
            <p:cNvPr id="105" name=""/>
            <p:cNvSpPr/>
            <p:nvPr/>
          </p:nvSpPr>
          <p:spPr>
            <a:xfrm>
              <a:off x="6018120" y="335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6353280" y="3200400"/>
                  <a:ext cx="30456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6691680" y="328464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" name=""/>
                <p:cNvSpPr txBox="1"/>
                <p:nvPr/>
              </p:nvSpPr>
              <p:spPr>
                <a:xfrm>
                  <a:off x="7120080" y="3186000"/>
                  <a:ext cx="350640" cy="76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5715000" y="3371760"/>
                  <a:ext cx="3016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" name=""/>
          <p:cNvGrpSpPr/>
          <p:nvPr/>
        </p:nvGrpSpPr>
        <p:grpSpPr>
          <a:xfrm>
            <a:off x="5762520" y="4010040"/>
            <a:ext cx="976320" cy="685800"/>
            <a:chOff x="5762520" y="4010040"/>
            <a:chExt cx="976320" cy="685800"/>
          </a:xfrm>
        </p:grpSpPr>
        <p:sp>
          <p:nvSpPr>
            <p:cNvPr id="111" name=""/>
            <p:cNvSpPr/>
            <p:nvPr/>
          </p:nvSpPr>
          <p:spPr>
            <a:xfrm>
              <a:off x="6046560" y="414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" name=""/>
                <p:cNvSpPr txBox="1"/>
                <p:nvPr/>
              </p:nvSpPr>
              <p:spPr>
                <a:xfrm>
                  <a:off x="6386400" y="4010040"/>
                  <a:ext cx="352440" cy="685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3" name=""/>
                <p:cNvSpPr txBox="1"/>
                <p:nvPr/>
              </p:nvSpPr>
              <p:spPr>
                <a:xfrm>
                  <a:off x="5762520" y="4191120"/>
                  <a:ext cx="301680" cy="42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" name=""/>
          <p:cNvGrpSpPr/>
          <p:nvPr/>
        </p:nvGrpSpPr>
        <p:grpSpPr>
          <a:xfrm>
            <a:off x="5457960" y="2362320"/>
            <a:ext cx="1171440" cy="761760"/>
            <a:chOff x="5457960" y="2362320"/>
            <a:chExt cx="1171440" cy="761760"/>
          </a:xfrm>
        </p:grpSpPr>
        <mc:AlternateContent>
          <mc:Choice xmlns:a14="http://schemas.microsoft.com/office/drawing/2010/main" Requires="a14">
            <p:sp>
              <p:nvSpPr>
                <p:cNvPr id="115" name=""/>
                <p:cNvSpPr txBox="1"/>
                <p:nvPr/>
              </p:nvSpPr>
              <p:spPr>
                <a:xfrm>
                  <a:off x="5457960" y="2362320"/>
                  <a:ext cx="350640" cy="76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6" name=""/>
            <p:cNvSpPr/>
            <p:nvPr/>
          </p:nvSpPr>
          <p:spPr>
            <a:xfrm>
              <a:off x="5973480" y="2514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" name=""/>
                <p:cNvSpPr txBox="1"/>
                <p:nvPr/>
              </p:nvSpPr>
              <p:spPr>
                <a:xfrm>
                  <a:off x="6324480" y="2367000"/>
                  <a:ext cx="30492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2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8" name=""/>
                <p:cNvSpPr txBox="1"/>
                <p:nvPr/>
              </p:nvSpPr>
              <p:spPr>
                <a:xfrm>
                  <a:off x="5653080" y="2562120"/>
                  <a:ext cx="301680" cy="42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5840" y="11667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叫做比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9596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45000" y="18525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示两个比相等的式子叫做比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607480" y="25588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什么叫做比例的基本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76640" y="339264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在比例里，两个外项的积等于两个内项的积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609480"/>
            <a:ext cx="76176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23560" y="2349360"/>
            <a:ext cx="247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∶8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15∶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63560" y="10666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根据比例的基本性质，将下列各比例改写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他等式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258880" y="2328840"/>
            <a:ext cx="271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40 = 8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2309760" y="3233880"/>
            <a:ext cx="1603440" cy="1143000"/>
            <a:chOff x="2309760" y="3233880"/>
            <a:chExt cx="1603440" cy="1143000"/>
          </a:xfrm>
        </p:grpSpPr>
        <mc:AlternateContent>
          <mc:Choice xmlns:a14="http://schemas.microsoft.com/office/drawing/2010/main" Requires="a14">
            <p:sp>
              <p:nvSpPr>
                <p:cNvPr id="130" name=""/>
                <p:cNvSpPr txBox="1"/>
                <p:nvPr/>
              </p:nvSpPr>
              <p:spPr>
                <a:xfrm>
                  <a:off x="2309760" y="3233880"/>
                  <a:ext cx="501840" cy="114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9</m:t>
                          </m:r>
                        </m:num>
                        <m:den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314880" y="3262320"/>
                  <a:ext cx="598320" cy="106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32" name=""/>
            <p:cNvSpPr/>
            <p:nvPr/>
          </p:nvSpPr>
          <p:spPr>
            <a:xfrm>
              <a:off x="2880720" y="352440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5275080" y="3571920"/>
            <a:ext cx="29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×0.8=1.6×4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920" y="105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您知道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几吗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您是怎么想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357720"/>
            <a:ext cx="741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900000" y="2565360"/>
            <a:ext cx="7417080" cy="374328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37"/>
          <p:cNvGrpSpPr/>
          <p:nvPr/>
        </p:nvGrpSpPr>
        <p:grpSpPr>
          <a:xfrm>
            <a:off x="971640" y="260280"/>
            <a:ext cx="2661840" cy="921240"/>
            <a:chOff x="971640" y="260280"/>
            <a:chExt cx="2661840" cy="921240"/>
          </a:xfrm>
        </p:grpSpPr>
        <p:grpSp>
          <p:nvGrpSpPr>
            <p:cNvPr id="138" name="Group 45"/>
            <p:cNvGrpSpPr/>
            <p:nvPr/>
          </p:nvGrpSpPr>
          <p:grpSpPr>
            <a:xfrm>
              <a:off x="971640" y="260280"/>
              <a:ext cx="1938240" cy="909720"/>
              <a:chOff x="971640" y="260280"/>
              <a:chExt cx="1938240" cy="909720"/>
            </a:xfrm>
          </p:grpSpPr>
          <p:sp>
            <p:nvSpPr>
              <p:cNvPr id="139" name="Text Box 37"/>
              <p:cNvSpPr/>
              <p:nvPr/>
            </p:nvSpPr>
            <p:spPr>
              <a:xfrm>
                <a:off x="971640" y="710280"/>
                <a:ext cx="1340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 Box 38"/>
              <p:cNvSpPr/>
              <p:nvPr/>
            </p:nvSpPr>
            <p:spPr>
              <a:xfrm>
                <a:off x="987840" y="260280"/>
                <a:ext cx="192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.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39"/>
              <p:cNvSpPr/>
              <p:nvPr/>
            </p:nvSpPr>
            <p:spPr>
              <a:xfrm>
                <a:off x="1129320" y="790920"/>
                <a:ext cx="906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Text Box 40"/>
            <p:cNvSpPr/>
            <p:nvPr/>
          </p:nvSpPr>
          <p:spPr>
            <a:xfrm>
              <a:off x="1846080" y="531360"/>
              <a:ext cx="91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41"/>
            <p:cNvGrpSpPr/>
            <p:nvPr/>
          </p:nvGrpSpPr>
          <p:grpSpPr>
            <a:xfrm>
              <a:off x="2575800" y="271800"/>
              <a:ext cx="1057680" cy="909720"/>
              <a:chOff x="2575800" y="271800"/>
              <a:chExt cx="1057680" cy="909720"/>
            </a:xfrm>
          </p:grpSpPr>
          <p:sp>
            <p:nvSpPr>
              <p:cNvPr id="144" name="Text Box 42"/>
              <p:cNvSpPr/>
              <p:nvPr/>
            </p:nvSpPr>
            <p:spPr>
              <a:xfrm>
                <a:off x="2589120" y="721800"/>
                <a:ext cx="104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43"/>
              <p:cNvSpPr/>
              <p:nvPr/>
            </p:nvSpPr>
            <p:spPr>
              <a:xfrm>
                <a:off x="2575800" y="271800"/>
                <a:ext cx="74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4"/>
              <p:cNvSpPr/>
              <p:nvPr/>
            </p:nvSpPr>
            <p:spPr>
              <a:xfrm>
                <a:off x="2608560" y="802440"/>
                <a:ext cx="595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46"/>
            <p:cNvSpPr/>
            <p:nvPr/>
          </p:nvSpPr>
          <p:spPr>
            <a:xfrm>
              <a:off x="3227040" y="535680"/>
              <a:ext cx="1839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684360" y="620640"/>
            <a:ext cx="3311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4"/>
          <p:cNvSpPr/>
          <p:nvPr/>
        </p:nvSpPr>
        <p:spPr>
          <a:xfrm>
            <a:off x="1474920" y="20707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</a:rPr>
              <a:t>解比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7"/>
          <p:cNvSpPr/>
          <p:nvPr/>
        </p:nvSpPr>
        <p:spPr>
          <a:xfrm>
            <a:off x="3348000" y="292428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4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4"/>
          <p:cNvSpPr/>
          <p:nvPr/>
        </p:nvSpPr>
        <p:spPr>
          <a:xfrm>
            <a:off x="2266920" y="2608920"/>
            <a:ext cx="7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：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268360" y="371808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274920" y="4400640"/>
            <a:ext cx="123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3733920" y="4417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.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3851280" y="351792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4417920" y="395136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4211640" y="3933720"/>
            <a:ext cx="16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981600" y="35337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1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5105520" y="35352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303800" y="3967200"/>
            <a:ext cx="135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7"/>
          <p:cNvGrpSpPr/>
          <p:nvPr/>
        </p:nvGrpSpPr>
        <p:grpSpPr>
          <a:xfrm>
            <a:off x="2556000" y="1916280"/>
            <a:ext cx="1485000" cy="824400"/>
            <a:chOff x="2556000" y="1916280"/>
            <a:chExt cx="1485000" cy="824400"/>
          </a:xfrm>
        </p:grpSpPr>
        <p:grpSp>
          <p:nvGrpSpPr>
            <p:cNvPr id="162" name="Group 45"/>
            <p:cNvGrpSpPr/>
            <p:nvPr/>
          </p:nvGrpSpPr>
          <p:grpSpPr>
            <a:xfrm>
              <a:off x="2556000" y="1916280"/>
              <a:ext cx="957240" cy="815040"/>
              <a:chOff x="2556000" y="1916280"/>
              <a:chExt cx="957240" cy="815040"/>
            </a:xfrm>
          </p:grpSpPr>
          <p:sp>
            <p:nvSpPr>
              <p:cNvPr id="163" name="Text Box 37"/>
              <p:cNvSpPr/>
              <p:nvPr/>
            </p:nvSpPr>
            <p:spPr>
              <a:xfrm>
                <a:off x="2556000" y="2271600"/>
                <a:ext cx="662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.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 Box 38"/>
              <p:cNvSpPr/>
              <p:nvPr/>
            </p:nvSpPr>
            <p:spPr>
              <a:xfrm>
                <a:off x="2563920" y="1916280"/>
                <a:ext cx="949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.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2633760" y="2335320"/>
                <a:ext cx="447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40"/>
            <p:cNvSpPr/>
            <p:nvPr/>
          </p:nvSpPr>
          <p:spPr>
            <a:xfrm>
              <a:off x="2987640" y="2130480"/>
              <a:ext cx="4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41"/>
            <p:cNvGrpSpPr/>
            <p:nvPr/>
          </p:nvGrpSpPr>
          <p:grpSpPr>
            <a:xfrm>
              <a:off x="3348360" y="1925640"/>
              <a:ext cx="522360" cy="815040"/>
              <a:chOff x="3348360" y="1925640"/>
              <a:chExt cx="522360" cy="815040"/>
            </a:xfrm>
          </p:grpSpPr>
          <p:sp>
            <p:nvSpPr>
              <p:cNvPr id="168" name="Text Box 42"/>
              <p:cNvSpPr/>
              <p:nvPr/>
            </p:nvSpPr>
            <p:spPr>
              <a:xfrm>
                <a:off x="3354840" y="2280960"/>
                <a:ext cx="515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3"/>
              <p:cNvSpPr/>
              <p:nvPr/>
            </p:nvSpPr>
            <p:spPr>
              <a:xfrm>
                <a:off x="3348360" y="192564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44"/>
              <p:cNvSpPr/>
              <p:nvPr/>
            </p:nvSpPr>
            <p:spPr>
              <a:xfrm>
                <a:off x="3364200" y="2344680"/>
                <a:ext cx="293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Text Box 46"/>
            <p:cNvSpPr/>
            <p:nvPr/>
          </p:nvSpPr>
          <p:spPr>
            <a:xfrm>
              <a:off x="3736800" y="2133720"/>
              <a:ext cx="30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</a:rPr>
                <a:t>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52"/>
          <p:cNvGrpSpPr/>
          <p:nvPr/>
        </p:nvGrpSpPr>
        <p:grpSpPr>
          <a:xfrm>
            <a:off x="3635280" y="5300640"/>
            <a:ext cx="3049560" cy="577800"/>
            <a:chOff x="3635280" y="5300640"/>
            <a:chExt cx="3049560" cy="577800"/>
          </a:xfrm>
        </p:grpSpPr>
        <p:sp>
          <p:nvSpPr>
            <p:cNvPr id="173" name="AutoShape 27"/>
            <p:cNvSpPr/>
            <p:nvPr/>
          </p:nvSpPr>
          <p:spPr>
            <a:xfrm>
              <a:off x="3635280" y="5300640"/>
              <a:ext cx="3049560" cy="577800"/>
            </a:xfrm>
            <a:prstGeom prst="wedgeRoundRectCallout">
              <a:avLst>
                <a:gd name="adj1" fmla="val 62856"/>
                <a:gd name="adj2" fmla="val 142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1"/>
            <p:cNvSpPr/>
            <p:nvPr/>
          </p:nvSpPr>
          <p:spPr>
            <a:xfrm>
              <a:off x="5001840" y="537336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想一想括号里应该填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63"/>
          <p:cNvGrpSpPr/>
          <p:nvPr/>
        </p:nvGrpSpPr>
        <p:grpSpPr>
          <a:xfrm>
            <a:off x="250920" y="3381480"/>
            <a:ext cx="3192480" cy="1199880"/>
            <a:chOff x="250920" y="3381480"/>
            <a:chExt cx="3192480" cy="1199880"/>
          </a:xfrm>
        </p:grpSpPr>
        <p:sp>
          <p:nvSpPr>
            <p:cNvPr id="176" name="AutoShape 27"/>
            <p:cNvSpPr/>
            <p:nvPr/>
          </p:nvSpPr>
          <p:spPr>
            <a:xfrm>
              <a:off x="250920" y="3429000"/>
              <a:ext cx="3168720" cy="1152360"/>
            </a:xfrm>
            <a:prstGeom prst="wedgeRoundRectCallout">
              <a:avLst>
                <a:gd name="adj1" fmla="val 3657"/>
                <a:gd name="adj2" fmla="val 964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4"/>
            <p:cNvSpPr/>
            <p:nvPr/>
          </p:nvSpPr>
          <p:spPr>
            <a:xfrm>
              <a:off x="274680" y="3381480"/>
              <a:ext cx="31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将分数形式的比例改写成等式时，一般要把含有</a:t>
              </a:r>
              <a:r>
                <a:rPr b="1" i="1" lang="zh-CN" sz="2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x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乘积写在等号的左边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8" name="Picture 58" descr="92副本"/>
          <p:cNvPicPr/>
          <p:nvPr/>
        </p:nvPicPr>
        <p:blipFill>
          <a:blip r:embed="rId2"/>
          <a:stretch/>
        </p:blipFill>
        <p:spPr>
          <a:xfrm>
            <a:off x="7164360" y="4292640"/>
            <a:ext cx="1428840" cy="2208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4" descr="100副本"/>
          <p:cNvPicPr/>
          <p:nvPr/>
        </p:nvPicPr>
        <p:blipFill>
          <a:blip r:embed="rId3"/>
          <a:stretch/>
        </p:blipFill>
        <p:spPr>
          <a:xfrm>
            <a:off x="528480" y="4643280"/>
            <a:ext cx="1739880" cy="209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5" descr="82副本"/>
          <p:cNvPicPr/>
          <p:nvPr/>
        </p:nvPicPr>
        <p:blipFill>
          <a:blip r:embed="rId4"/>
          <a:stretch/>
        </p:blipFill>
        <p:spPr>
          <a:xfrm>
            <a:off x="755640" y="1989000"/>
            <a:ext cx="7970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68360" y="549360"/>
            <a:ext cx="1636560" cy="874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38000" y="1916280"/>
            <a:ext cx="3273480" cy="520560"/>
            <a:chOff x="2538000" y="1916280"/>
            <a:chExt cx="3273480" cy="520560"/>
          </a:xfrm>
        </p:grpSpPr>
        <p:sp>
          <p:nvSpPr>
            <p:cNvPr id="183" name=""/>
            <p:cNvSpPr/>
            <p:nvPr/>
          </p:nvSpPr>
          <p:spPr>
            <a:xfrm>
              <a:off x="2538000" y="1916280"/>
              <a:ext cx="27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比例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3∶8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15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" name=""/>
                <p:cNvSpPr txBox="1"/>
                <p:nvPr/>
              </p:nvSpPr>
              <p:spPr>
                <a:xfrm>
                  <a:off x="5440320" y="1997280"/>
                  <a:ext cx="371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" name=""/>
          <p:cNvSpPr/>
          <p:nvPr/>
        </p:nvSpPr>
        <p:spPr>
          <a:xfrm>
            <a:off x="3124080" y="26398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02440" y="3614760"/>
            <a:ext cx="38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53160" y="38718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954680" y="339552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24320" y="391464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38680" y="3500280"/>
            <a:ext cx="457200" cy="26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10280" y="4071960"/>
            <a:ext cx="380880" cy="2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61080" y="307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4680" y="4246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716280" y="2619360"/>
            <a:ext cx="2307960" cy="525240"/>
            <a:chOff x="3716280" y="2619360"/>
            <a:chExt cx="2307960" cy="525240"/>
          </a:xfrm>
        </p:grpSpPr>
        <p:sp>
          <p:nvSpPr>
            <p:cNvPr id="195" name=""/>
            <p:cNvSpPr/>
            <p:nvPr/>
          </p:nvSpPr>
          <p:spPr>
            <a:xfrm>
              <a:off x="4392720" y="2624040"/>
              <a:ext cx="38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29120" y="2619360"/>
              <a:ext cx="109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2800" spc="-1" strike="noStrike">
                  <a:solidFill>
                    <a:srgbClr val="000000"/>
                  </a:solidFill>
                  <a:latin typeface="宋体"/>
                </a:rPr>
                <a:t>×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1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716280" y="26240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3971880" y="2695680"/>
                  <a:ext cx="3715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005360" y="3681360"/>
                <a:ext cx="3715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00" name=""/>
          <p:cNvGrpSpPr/>
          <p:nvPr/>
        </p:nvGrpSpPr>
        <p:grpSpPr>
          <a:xfrm>
            <a:off x="4038480" y="4809960"/>
            <a:ext cx="1282320" cy="520560"/>
            <a:chOff x="4038480" y="4809960"/>
            <a:chExt cx="1282320" cy="520560"/>
          </a:xfrm>
        </p:grpSpPr>
        <p:sp>
          <p:nvSpPr>
            <p:cNvPr id="201" name=""/>
            <p:cNvSpPr/>
            <p:nvPr/>
          </p:nvSpPr>
          <p:spPr>
            <a:xfrm>
              <a:off x="4407120" y="480996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  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4038480" y="4876920"/>
                  <a:ext cx="37152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3" name=""/>
          <p:cNvGrpSpPr/>
          <p:nvPr/>
        </p:nvGrpSpPr>
        <p:grpSpPr>
          <a:xfrm>
            <a:off x="2538000" y="1916280"/>
            <a:ext cx="3273480" cy="520560"/>
            <a:chOff x="2538000" y="1916280"/>
            <a:chExt cx="3273480" cy="520560"/>
          </a:xfrm>
        </p:grpSpPr>
        <p:sp>
          <p:nvSpPr>
            <p:cNvPr id="204" name=""/>
            <p:cNvSpPr/>
            <p:nvPr/>
          </p:nvSpPr>
          <p:spPr>
            <a:xfrm>
              <a:off x="2538000" y="1916280"/>
              <a:ext cx="277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解比例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3∶8  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=</a:t>
              </a:r>
              <a:r>
                <a:rPr b="0" lang="zh-CN" sz="2800" spc="-1" strike="noStrike">
                  <a:solidFill>
                    <a:srgbClr val="000000"/>
                  </a:solidFill>
                  <a:latin typeface="Times New Roman"/>
                </a:rPr>
                <a:t>  15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5" name=""/>
                <p:cNvSpPr txBox="1"/>
                <p:nvPr/>
              </p:nvSpPr>
              <p:spPr>
                <a:xfrm>
                  <a:off x="5440320" y="1997280"/>
                  <a:ext cx="371160" cy="42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95280" y="836640"/>
            <a:ext cx="367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归纳总结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755640" y="429084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比例中的未知项，叫做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解比例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3"/>
          <p:cNvSpPr/>
          <p:nvPr/>
        </p:nvSpPr>
        <p:spPr>
          <a:xfrm>
            <a:off x="762120" y="4924080"/>
            <a:ext cx="817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比例的方法：根据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比例的基本性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解比例，先把比例转化成外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乘积与内项乘积相等的形式（即方程），再通过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方程求出未知项的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468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4"/>
          <p:cNvGrpSpPr/>
          <p:nvPr/>
        </p:nvGrpSpPr>
        <p:grpSpPr>
          <a:xfrm>
            <a:off x="406440" y="2185920"/>
            <a:ext cx="2581200" cy="809640"/>
            <a:chOff x="406440" y="2185920"/>
            <a:chExt cx="2581200" cy="809640"/>
          </a:xfrm>
        </p:grpSpPr>
        <p:sp>
          <p:nvSpPr>
            <p:cNvPr id="211" name="AutoShape 27"/>
            <p:cNvSpPr/>
            <p:nvPr/>
          </p:nvSpPr>
          <p:spPr>
            <a:xfrm>
              <a:off x="406440" y="2276640"/>
              <a:ext cx="2581200" cy="718920"/>
            </a:xfrm>
            <a:prstGeom prst="wedgeRoundRectCallout">
              <a:avLst>
                <a:gd name="adj1" fmla="val 61129"/>
                <a:gd name="adj2" fmla="val -408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"/>
            <p:cNvSpPr/>
            <p:nvPr/>
          </p:nvSpPr>
          <p:spPr>
            <a:xfrm>
              <a:off x="428760" y="2185920"/>
              <a:ext cx="25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大家想一想，什么叫</a:t>
              </a: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解比例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1"/>
          <p:cNvGrpSpPr/>
          <p:nvPr/>
        </p:nvGrpSpPr>
        <p:grpSpPr>
          <a:xfrm>
            <a:off x="6264360" y="2276640"/>
            <a:ext cx="2700360" cy="576000"/>
            <a:chOff x="6264360" y="2276640"/>
            <a:chExt cx="2700360" cy="576000"/>
          </a:xfrm>
        </p:grpSpPr>
        <p:sp>
          <p:nvSpPr>
            <p:cNvPr id="214" name="AutoShape 27"/>
            <p:cNvSpPr/>
            <p:nvPr/>
          </p:nvSpPr>
          <p:spPr>
            <a:xfrm>
              <a:off x="6264360" y="2276640"/>
              <a:ext cx="2700360" cy="576000"/>
            </a:xfrm>
            <a:prstGeom prst="wedgeRoundRectCallout">
              <a:avLst>
                <a:gd name="adj1" fmla="val -61226"/>
                <a:gd name="adj2" fmla="val -1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"/>
            <p:cNvSpPr/>
            <p:nvPr/>
          </p:nvSpPr>
          <p:spPr>
            <a:xfrm>
              <a:off x="6805800" y="23493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解比例的方法是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3"/>
          <p:cNvGrpSpPr/>
          <p:nvPr/>
        </p:nvGrpSpPr>
        <p:grpSpPr>
          <a:xfrm>
            <a:off x="3276720" y="1989000"/>
            <a:ext cx="3095640" cy="2232000"/>
            <a:chOff x="3276720" y="1989000"/>
            <a:chExt cx="3095640" cy="2232000"/>
          </a:xfrm>
        </p:grpSpPr>
        <p:pic>
          <p:nvPicPr>
            <p:cNvPr id="217" name="Picture 10" descr="76副本"/>
            <p:cNvPicPr/>
            <p:nvPr/>
          </p:nvPicPr>
          <p:blipFill>
            <a:blip r:embed="rId2"/>
            <a:stretch/>
          </p:blipFill>
          <p:spPr>
            <a:xfrm>
              <a:off x="4735800" y="1989000"/>
              <a:ext cx="163656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22" descr="95副本"/>
            <p:cNvPicPr/>
            <p:nvPr/>
          </p:nvPicPr>
          <p:blipFill>
            <a:blip r:embed="rId3"/>
            <a:stretch/>
          </p:blipFill>
          <p:spPr>
            <a:xfrm>
              <a:off x="3276720" y="2142720"/>
              <a:ext cx="1625760" cy="1800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14400" y="53352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ff00"/>
              </a:gs>
              <a:gs pos="100000">
                <a:srgbClr val="66ffff"/>
              </a:gs>
            </a:gsLst>
            <a:lin ang="135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317680" y="9907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下面的比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81080" y="1498680"/>
            <a:ext cx="1143000" cy="789840"/>
            <a:chOff x="1981080" y="1498680"/>
            <a:chExt cx="1143000" cy="789840"/>
          </a:xfrm>
        </p:grpSpPr>
        <p:sp>
          <p:nvSpPr>
            <p:cNvPr id="222" name=""/>
            <p:cNvSpPr/>
            <p:nvPr/>
          </p:nvSpPr>
          <p:spPr>
            <a:xfrm>
              <a:off x="1981080" y="1905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09880" y="1519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95480" y="18288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361960" y="1670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743200" y="1905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73440" y="1498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2771640" y="191916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29" name=""/>
          <p:cNvSpPr/>
          <p:nvPr/>
        </p:nvSpPr>
        <p:spPr>
          <a:xfrm>
            <a:off x="141876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905120" y="2362320"/>
            <a:ext cx="1752480" cy="473760"/>
            <a:chOff x="1905120" y="2362320"/>
            <a:chExt cx="1752480" cy="473760"/>
          </a:xfrm>
        </p:grpSpPr>
        <p:sp>
          <p:nvSpPr>
            <p:cNvPr id="231" name=""/>
            <p:cNvSpPr/>
            <p:nvPr/>
          </p:nvSpPr>
          <p:spPr>
            <a:xfrm>
              <a:off x="1905120" y="2362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2" name=""/>
                <p:cNvSpPr txBox="1"/>
                <p:nvPr/>
              </p:nvSpPr>
              <p:spPr>
                <a:xfrm>
                  <a:off x="2114640" y="243828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3" name=""/>
            <p:cNvSpPr/>
            <p:nvPr/>
          </p:nvSpPr>
          <p:spPr>
            <a:xfrm>
              <a:off x="2363400" y="2376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5200" y="2362320"/>
              <a:ext cx="102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×9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2103480" y="349740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2360520" y="34401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66880" y="3683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638440" y="331632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×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847960" y="3616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5480" y="376884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463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65600" y="3962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633760" y="2971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03480" y="4483080"/>
            <a:ext cx="1035000" cy="472320"/>
            <a:chOff x="2103480" y="4483080"/>
            <a:chExt cx="1035000" cy="472320"/>
          </a:xfrm>
        </p:grpSpPr>
        <mc:AlternateContent>
          <mc:Choice xmlns:a14="http://schemas.microsoft.com/office/drawing/2010/main" Requires="a14">
            <p:sp>
              <p:nvSpPr>
                <p:cNvPr id="245" name=""/>
                <p:cNvSpPr txBox="1"/>
                <p:nvPr/>
              </p:nvSpPr>
              <p:spPr>
                <a:xfrm>
                  <a:off x="2103480" y="45450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46" name=""/>
            <p:cNvSpPr/>
            <p:nvPr/>
          </p:nvSpPr>
          <p:spPr>
            <a:xfrm>
              <a:off x="2368440" y="4483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76520" y="449568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5381640" y="1504800"/>
            <a:ext cx="1305000" cy="783720"/>
            <a:chOff x="5381640" y="1504800"/>
            <a:chExt cx="1305000" cy="783720"/>
          </a:xfrm>
        </p:grpSpPr>
        <p:sp>
          <p:nvSpPr>
            <p:cNvPr id="249" name=""/>
            <p:cNvSpPr/>
            <p:nvPr/>
          </p:nvSpPr>
          <p:spPr>
            <a:xfrm>
              <a:off x="5381640" y="182880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5410080" y="1504800"/>
              <a:ext cx="1225440" cy="617040"/>
              <a:chOff x="5410080" y="1504800"/>
              <a:chExt cx="1225440" cy="617040"/>
            </a:xfrm>
          </p:grpSpPr>
          <p:sp>
            <p:nvSpPr>
              <p:cNvPr id="251" name=""/>
              <p:cNvSpPr/>
              <p:nvPr/>
            </p:nvSpPr>
            <p:spPr>
              <a:xfrm>
                <a:off x="5410080" y="1897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790960" y="166212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72200" y="18972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073920" y="150480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.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55" name=""/>
                  <p:cNvSpPr txBox="1"/>
                  <p:nvPr/>
                </p:nvSpPr>
                <p:spPr>
                  <a:xfrm>
                    <a:off x="5481720" y="1595520"/>
                    <a:ext cx="306360" cy="352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256" name=""/>
            <p:cNvSpPr/>
            <p:nvPr/>
          </p:nvSpPr>
          <p:spPr>
            <a:xfrm>
              <a:off x="6105600" y="182880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4847760" y="2133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181480" y="2424240"/>
            <a:ext cx="2133720" cy="473760"/>
            <a:chOff x="5181480" y="2424240"/>
            <a:chExt cx="2133720" cy="473760"/>
          </a:xfrm>
        </p:grpSpPr>
        <p:sp>
          <p:nvSpPr>
            <p:cNvPr id="259" name=""/>
            <p:cNvSpPr/>
            <p:nvPr/>
          </p:nvSpPr>
          <p:spPr>
            <a:xfrm>
              <a:off x="5181480" y="2424240"/>
              <a:ext cx="53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5591160" y="250020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61" name=""/>
            <p:cNvSpPr/>
            <p:nvPr/>
          </p:nvSpPr>
          <p:spPr>
            <a:xfrm>
              <a:off x="5840280" y="2438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11720" y="2424240"/>
              <a:ext cx="120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×1.2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5638680" y="3435480"/>
                <a:ext cx="306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5895720" y="3378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73640" y="3230640"/>
            <a:ext cx="13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×1.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77120" y="3540240"/>
            <a:ext cx="5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567480" y="3699000"/>
            <a:ext cx="322200" cy="20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281640" y="33400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51640" y="384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69040" y="296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19720" y="3611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3685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786720" y="294804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553080" y="397836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548760" y="411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5668920" y="4635360"/>
            <a:ext cx="1110960" cy="472680"/>
            <a:chOff x="5668920" y="4635360"/>
            <a:chExt cx="1110960" cy="472680"/>
          </a:xfrm>
        </p:grpSpPr>
        <mc:AlternateContent>
          <mc:Choice xmlns:a14="http://schemas.microsoft.com/office/drawing/2010/main" Requires="a14">
            <p:sp>
              <p:nvSpPr>
                <p:cNvPr id="277" name=""/>
                <p:cNvSpPr txBox="1"/>
                <p:nvPr/>
              </p:nvSpPr>
              <p:spPr>
                <a:xfrm>
                  <a:off x="5668920" y="4697280"/>
                  <a:ext cx="306360" cy="35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78" name=""/>
            <p:cNvSpPr/>
            <p:nvPr/>
          </p:nvSpPr>
          <p:spPr>
            <a:xfrm>
              <a:off x="5857560" y="463536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41960" y="46483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0.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50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500"/>
                            </p:stCondLst>
                            <p:childTnLst>
                              <p:par>
                                <p:cTn id="4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04:00:35Z</dcterms:created>
  <dc:creator/>
  <dc:description/>
  <dc:language>en-US</dc:language>
  <cp:lastModifiedBy/>
  <dcterms:modified xsi:type="dcterms:W3CDTF">2016-03-27T04:22:29Z</dcterms:modified>
  <cp:revision>3</cp:revision>
  <dc:subject/>
  <dc:title/>
</cp:coreProperties>
</file>