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cashreg.wav" ContentType="audio/x-wav"/>
  <Override PartName="/ppt/media/image5.png" ContentType="image/png"/>
  <Override PartName="/ppt/media/image6.wmf" ContentType="image/x-wmf"/>
  <Override PartName="/ppt/media/type.wav" ContentType="audio/x-wav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F71-87D4-44DD-9E1B-CAA43F29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08C0-3D0C-422E-B953-4575F298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48C-6FEE-4D72-9352-CDA6E665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AAB-68A1-4ACD-B87A-479E67EE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01C0-8D4C-444C-8240-75BABE8E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623A-9E94-4102-81A2-D07C1DA0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B2D4-786D-4F67-897D-6ADC83E1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2FA3-786A-4EB1-B79E-A5E1E6D3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8594-6A7E-4333-9ACA-32EB2576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2D10-717E-464C-9366-E0703A1B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C255-E958-4490-A9B2-8F83D1E4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3E9-3C82-4BE9-84B8-E1571B45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C6B1-0418-40BD-8E00-DC108DB9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A115-7D78-4AE4-AF65-88B54AD9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42F6-2D5B-4CE1-850D-67B69C5B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E46B-85EC-40D8-9F4B-2D6E4F4D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0229-B52F-4A43-85F3-1480AF5C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979-7C18-4206-A66C-2A25AACE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56D-A493-415E-BDCC-04738CB0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378-C038-4185-BFFB-4D7D1475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319D-3E76-466F-8214-57B7C15F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3B9-A1ED-4220-A5E1-08DEFBC3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FF4-11BB-4A69-A163-EB8AF605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FB4-0070-41EF-9293-435B238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7146-6304-4598-B7E1-4AD596232EC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1D54-86D0-45DA-A62B-57982F490F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4"/>
          <p:cNvSpPr/>
          <p:nvPr/>
        </p:nvSpPr>
        <p:spPr>
          <a:xfrm>
            <a:off x="1332000" y="3068640"/>
            <a:ext cx="2016000" cy="287964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31680">
            <a:solidFill>
              <a:srgbClr val="000000"/>
            </a:solidFill>
            <a:miter/>
          </a:ln>
          <a:effectLst>
            <a:outerShdw dist="153753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816200" y="5810400"/>
            <a:ext cx="491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642960" y="1500120"/>
            <a:ext cx="777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圆柱的表面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4"/>
          <p:cNvSpPr/>
          <p:nvPr/>
        </p:nvSpPr>
        <p:spPr>
          <a:xfrm flipV="1">
            <a:off x="4154400" y="684720"/>
            <a:ext cx="1676520" cy="16002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611600" y="1371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"/>
          <p:cNvGrpSpPr/>
          <p:nvPr/>
        </p:nvGrpSpPr>
        <p:grpSpPr>
          <a:xfrm>
            <a:off x="1182600" y="685440"/>
            <a:ext cx="1676160" cy="1600200"/>
            <a:chOff x="1182600" y="685440"/>
            <a:chExt cx="1676160" cy="1600200"/>
          </a:xfrm>
        </p:grpSpPr>
        <p:sp>
          <p:nvSpPr>
            <p:cNvPr id="205" name="Oval 6"/>
            <p:cNvSpPr/>
            <p:nvPr/>
          </p:nvSpPr>
          <p:spPr>
            <a:xfrm flipV="1">
              <a:off x="1182600" y="684720"/>
              <a:ext cx="1676160" cy="160020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1639800" y="1371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底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2021040" y="1981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1525320" y="265320"/>
            <a:ext cx="2363400" cy="2363400"/>
            <a:chOff x="1525320" y="265320"/>
            <a:chExt cx="2363400" cy="2363400"/>
          </a:xfrm>
        </p:grpSpPr>
        <p:grpSp>
          <p:nvGrpSpPr>
            <p:cNvPr id="213" name="Group 6"/>
            <p:cNvGrpSpPr/>
            <p:nvPr/>
          </p:nvGrpSpPr>
          <p:grpSpPr>
            <a:xfrm>
              <a:off x="1525320" y="265320"/>
              <a:ext cx="2363400" cy="2363400"/>
              <a:chOff x="1525320" y="265320"/>
              <a:chExt cx="2363400" cy="2363400"/>
            </a:xfrm>
          </p:grpSpPr>
          <p:sp>
            <p:nvSpPr>
              <p:cNvPr id="214" name="Oval 7"/>
              <p:cNvSpPr/>
              <p:nvPr/>
            </p:nvSpPr>
            <p:spPr>
              <a:xfrm flipV="1" rot="2437200">
                <a:off x="1868760" y="608400"/>
                <a:ext cx="167616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8"/>
              <p:cNvSpPr/>
              <p:nvPr/>
            </p:nvSpPr>
            <p:spPr>
              <a:xfrm rot="2437200">
                <a:off x="2244600" y="13255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Line 9"/>
            <p:cNvSpPr/>
            <p:nvPr/>
          </p:nvSpPr>
          <p:spPr>
            <a:xfrm flipH="1">
              <a:off x="2160720" y="1841400"/>
              <a:ext cx="208080" cy="24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10"/>
          <p:cNvSpPr/>
          <p:nvPr/>
        </p:nvSpPr>
        <p:spPr>
          <a:xfrm>
            <a:off x="2021040" y="22860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1"/>
          <p:cNvSpPr/>
          <p:nvPr/>
        </p:nvSpPr>
        <p:spPr>
          <a:xfrm>
            <a:off x="2127240" y="2075040"/>
            <a:ext cx="539640" cy="203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2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2136240" y="343080"/>
            <a:ext cx="2208600" cy="2208600"/>
            <a:chOff x="2136240" y="343080"/>
            <a:chExt cx="2208600" cy="2208600"/>
          </a:xfrm>
        </p:grpSpPr>
        <p:grpSp>
          <p:nvGrpSpPr>
            <p:cNvPr id="224" name="Group 6"/>
            <p:cNvGrpSpPr/>
            <p:nvPr/>
          </p:nvGrpSpPr>
          <p:grpSpPr>
            <a:xfrm>
              <a:off x="2136240" y="343080"/>
              <a:ext cx="2208600" cy="2208600"/>
              <a:chOff x="2136240" y="343080"/>
              <a:chExt cx="2208600" cy="2208600"/>
            </a:xfrm>
          </p:grpSpPr>
          <p:sp>
            <p:nvSpPr>
              <p:cNvPr id="225" name="Oval 7"/>
              <p:cNvSpPr/>
              <p:nvPr/>
            </p:nvSpPr>
            <p:spPr>
              <a:xfrm flipV="1" rot="3976200">
                <a:off x="2402280" y="609120"/>
                <a:ext cx="167616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8"/>
              <p:cNvSpPr/>
              <p:nvPr/>
            </p:nvSpPr>
            <p:spPr>
              <a:xfrm rot="3976800">
                <a:off x="2735280" y="12967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Line 9"/>
            <p:cNvSpPr/>
            <p:nvPr/>
          </p:nvSpPr>
          <p:spPr>
            <a:xfrm flipH="1">
              <a:off x="2472840" y="1656360"/>
              <a:ext cx="292320" cy="12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10"/>
          <p:cNvSpPr/>
          <p:nvPr/>
        </p:nvSpPr>
        <p:spPr>
          <a:xfrm>
            <a:off x="2021040" y="2286000"/>
            <a:ext cx="1218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2478240" y="1785960"/>
            <a:ext cx="682560" cy="507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2841840" y="591480"/>
            <a:ext cx="1712160" cy="1712520"/>
            <a:chOff x="2841840" y="591480"/>
            <a:chExt cx="1712160" cy="1712520"/>
          </a:xfrm>
        </p:grpSpPr>
        <p:grpSp>
          <p:nvGrpSpPr>
            <p:cNvPr id="235" name="Group 6"/>
            <p:cNvGrpSpPr/>
            <p:nvPr/>
          </p:nvGrpSpPr>
          <p:grpSpPr>
            <a:xfrm>
              <a:off x="2841840" y="591480"/>
              <a:ext cx="1712160" cy="1712520"/>
              <a:chOff x="2841840" y="591480"/>
              <a:chExt cx="1712160" cy="1712520"/>
            </a:xfrm>
          </p:grpSpPr>
          <p:sp>
            <p:nvSpPr>
              <p:cNvPr id="236" name="Oval 7"/>
              <p:cNvSpPr/>
              <p:nvPr/>
            </p:nvSpPr>
            <p:spPr>
              <a:xfrm flipV="1" rot="5324400">
                <a:off x="2859840" y="609480"/>
                <a:ext cx="167616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8"/>
              <p:cNvSpPr/>
              <p:nvPr/>
            </p:nvSpPr>
            <p:spPr>
              <a:xfrm rot="5324400">
                <a:off x="3169080" y="12582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Line 9"/>
            <p:cNvSpPr/>
            <p:nvPr/>
          </p:nvSpPr>
          <p:spPr>
            <a:xfrm flipH="1">
              <a:off x="2859480" y="1459080"/>
              <a:ext cx="318960" cy="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10"/>
          <p:cNvSpPr/>
          <p:nvPr/>
        </p:nvSpPr>
        <p:spPr>
          <a:xfrm>
            <a:off x="2021040" y="228600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1"/>
          <p:cNvSpPr/>
          <p:nvPr/>
        </p:nvSpPr>
        <p:spPr>
          <a:xfrm>
            <a:off x="2844720" y="1486080"/>
            <a:ext cx="781200" cy="7905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2974680" y="267840"/>
            <a:ext cx="2359800" cy="2360160"/>
            <a:chOff x="2974680" y="267840"/>
            <a:chExt cx="2359800" cy="2360160"/>
          </a:xfrm>
        </p:grpSpPr>
        <p:grpSp>
          <p:nvGrpSpPr>
            <p:cNvPr id="246" name="Group 6"/>
            <p:cNvGrpSpPr/>
            <p:nvPr/>
          </p:nvGrpSpPr>
          <p:grpSpPr>
            <a:xfrm>
              <a:off x="2974680" y="267840"/>
              <a:ext cx="2359800" cy="2360160"/>
              <a:chOff x="2974680" y="267840"/>
              <a:chExt cx="2359800" cy="2360160"/>
            </a:xfrm>
          </p:grpSpPr>
          <p:sp>
            <p:nvSpPr>
              <p:cNvPr id="247" name="Oval 7"/>
              <p:cNvSpPr/>
              <p:nvPr/>
            </p:nvSpPr>
            <p:spPr>
              <a:xfrm flipV="1" rot="7779600">
                <a:off x="3316320" y="609840"/>
                <a:ext cx="167616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8"/>
              <p:cNvSpPr/>
              <p:nvPr/>
            </p:nvSpPr>
            <p:spPr>
              <a:xfrm rot="7780200">
                <a:off x="3626280" y="11764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Line 9"/>
            <p:cNvSpPr/>
            <p:nvPr/>
          </p:nvSpPr>
          <p:spPr>
            <a:xfrm flipH="1" flipV="1">
              <a:off x="3509280" y="912600"/>
              <a:ext cx="2458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Line 10"/>
          <p:cNvSpPr/>
          <p:nvPr/>
        </p:nvSpPr>
        <p:spPr>
          <a:xfrm>
            <a:off x="2021040" y="2286000"/>
            <a:ext cx="213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"/>
          <p:cNvSpPr/>
          <p:nvPr/>
        </p:nvSpPr>
        <p:spPr>
          <a:xfrm>
            <a:off x="3316320" y="928800"/>
            <a:ext cx="795240" cy="13572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5"/>
          <p:cNvGrpSpPr/>
          <p:nvPr/>
        </p:nvGrpSpPr>
        <p:grpSpPr>
          <a:xfrm>
            <a:off x="3999960" y="608400"/>
            <a:ext cx="1680120" cy="1679760"/>
            <a:chOff x="3999960" y="608400"/>
            <a:chExt cx="1680120" cy="1679760"/>
          </a:xfrm>
        </p:grpSpPr>
        <p:grpSp>
          <p:nvGrpSpPr>
            <p:cNvPr id="257" name="Group 6"/>
            <p:cNvGrpSpPr/>
            <p:nvPr/>
          </p:nvGrpSpPr>
          <p:grpSpPr>
            <a:xfrm>
              <a:off x="3999960" y="608400"/>
              <a:ext cx="1680120" cy="1679760"/>
              <a:chOff x="3999960" y="608400"/>
              <a:chExt cx="1680120" cy="1679760"/>
            </a:xfrm>
          </p:grpSpPr>
          <p:sp>
            <p:nvSpPr>
              <p:cNvPr id="258" name="Oval 7"/>
              <p:cNvSpPr/>
              <p:nvPr/>
            </p:nvSpPr>
            <p:spPr>
              <a:xfrm flipV="1" rot="10791600">
                <a:off x="4001760" y="610200"/>
                <a:ext cx="1676160" cy="167580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8"/>
              <p:cNvSpPr/>
              <p:nvPr/>
            </p:nvSpPr>
            <p:spPr>
              <a:xfrm rot="10791600">
                <a:off x="4382640" y="11073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底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Line 9"/>
            <p:cNvSpPr/>
            <p:nvPr/>
          </p:nvSpPr>
          <p:spPr>
            <a:xfrm flipH="1" flipV="1">
              <a:off x="4838040" y="609480"/>
              <a:ext cx="720" cy="3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Line 10"/>
          <p:cNvSpPr/>
          <p:nvPr/>
        </p:nvSpPr>
        <p:spPr>
          <a:xfrm>
            <a:off x="2021040" y="2286000"/>
            <a:ext cx="2819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1"/>
          <p:cNvSpPr/>
          <p:nvPr/>
        </p:nvSpPr>
        <p:spPr>
          <a:xfrm>
            <a:off x="3997440" y="619200"/>
            <a:ext cx="838080" cy="16574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 flipV="1" rot="13211400">
            <a:off x="4763880" y="608400"/>
            <a:ext cx="167616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 rot="13210800">
            <a:off x="5224680" y="110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7"/>
          <p:cNvSpPr/>
          <p:nvPr/>
        </p:nvSpPr>
        <p:spPr>
          <a:xfrm flipV="1">
            <a:off x="5937480" y="805680"/>
            <a:ext cx="205920" cy="24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8"/>
          <p:cNvSpPr/>
          <p:nvPr/>
        </p:nvSpPr>
        <p:spPr>
          <a:xfrm>
            <a:off x="2021040" y="2286000"/>
            <a:ext cx="358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5602320" y="814320"/>
            <a:ext cx="842760" cy="14716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5"/>
          <p:cNvSpPr/>
          <p:nvPr/>
        </p:nvSpPr>
        <p:spPr>
          <a:xfrm flipV="1" rot="16178400">
            <a:off x="5525640" y="608760"/>
            <a:ext cx="167652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 rot="16178400">
            <a:off x="6053760" y="117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 flipV="1">
            <a:off x="6881760" y="1441800"/>
            <a:ext cx="319320" cy="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2021040" y="2286000"/>
            <a:ext cx="4343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9"/>
          <p:cNvSpPr/>
          <p:nvPr/>
        </p:nvSpPr>
        <p:spPr>
          <a:xfrm>
            <a:off x="6343560" y="1452600"/>
            <a:ext cx="858960" cy="8334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2021040" y="2286000"/>
            <a:ext cx="579096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415440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461160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 flipV="1" rot="18407400">
            <a:off x="6059160" y="609120"/>
            <a:ext cx="167652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 rot="18406800">
            <a:off x="6589080" y="125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7311960" y="1758960"/>
            <a:ext cx="255600" cy="19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2021040" y="2286000"/>
            <a:ext cx="4876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9"/>
          <p:cNvSpPr/>
          <p:nvPr/>
        </p:nvSpPr>
        <p:spPr>
          <a:xfrm>
            <a:off x="6902280" y="1947960"/>
            <a:ext cx="662040" cy="338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0"/>
          <p:cNvSpPr/>
          <p:nvPr/>
        </p:nvSpPr>
        <p:spPr>
          <a:xfrm>
            <a:off x="25236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矩形 3" descr=""/>
          <p:cNvPicPr/>
          <p:nvPr/>
        </p:nvPicPr>
        <p:blipFill>
          <a:blip r:embed="rId1"/>
          <a:stretch/>
        </p:blipFill>
        <p:spPr>
          <a:xfrm>
            <a:off x="378000" y="152280"/>
            <a:ext cx="3639960" cy="1957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000080" y="2214720"/>
            <a:ext cx="6929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理解圆柱的侧面积和表面积的含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掌握圆柱侧面积和表面积的计算方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能灵活运用求表面积、侧面积的有关知识解决一些实际问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2019240" y="2286000"/>
            <a:ext cx="579132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"/>
          <p:cNvSpPr/>
          <p:nvPr/>
        </p:nvSpPr>
        <p:spPr>
          <a:xfrm>
            <a:off x="415296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461016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5"/>
          <p:cNvSpPr/>
          <p:nvPr/>
        </p:nvSpPr>
        <p:spPr>
          <a:xfrm flipV="1" rot="15600">
            <a:off x="6972120" y="609480"/>
            <a:ext cx="167616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 rot="15000">
            <a:off x="7427880" y="1328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 flipH="1">
            <a:off x="7806600" y="1965240"/>
            <a:ext cx="1440" cy="3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>
            <a:off x="2019240" y="2286000"/>
            <a:ext cx="5791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25092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2019240" y="2286000"/>
            <a:ext cx="5791320" cy="1957320"/>
          </a:xfrm>
          <a:prstGeom prst="rect">
            <a:avLst/>
          </a:prstGeom>
          <a:solidFill>
            <a:srgbClr val="99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"/>
          <p:cNvSpPr/>
          <p:nvPr/>
        </p:nvSpPr>
        <p:spPr>
          <a:xfrm>
            <a:off x="4152960" y="4248000"/>
            <a:ext cx="1676520" cy="16750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2018880" y="2286000"/>
            <a:ext cx="5715360" cy="459720"/>
            <a:chOff x="2018880" y="2286000"/>
            <a:chExt cx="5715360" cy="459720"/>
          </a:xfrm>
        </p:grpSpPr>
        <p:sp>
          <p:nvSpPr>
            <p:cNvPr id="302" name="Text Box 5"/>
            <p:cNvSpPr/>
            <p:nvPr/>
          </p:nvSpPr>
          <p:spPr>
            <a:xfrm>
              <a:off x="4076640" y="2286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底面的周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5829120" y="2514600"/>
              <a:ext cx="190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 flipH="1">
              <a:off x="2018880" y="251460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8"/>
          <p:cNvSpPr/>
          <p:nvPr/>
        </p:nvSpPr>
        <p:spPr>
          <a:xfrm>
            <a:off x="461016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81056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 flipV="1" rot="15600">
            <a:off x="6972120" y="609480"/>
            <a:ext cx="1676160" cy="16765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 rot="15000">
            <a:off x="7427880" y="1328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 flipH="1">
            <a:off x="7806600" y="1965240"/>
            <a:ext cx="1440" cy="3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2019240" y="2286000"/>
            <a:ext cx="5791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4"/>
          <p:cNvSpPr/>
          <p:nvPr/>
        </p:nvSpPr>
        <p:spPr>
          <a:xfrm>
            <a:off x="7667640" y="595008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5"/>
          <p:cNvSpPr/>
          <p:nvPr/>
        </p:nvSpPr>
        <p:spPr>
          <a:xfrm>
            <a:off x="250920" y="1916280"/>
            <a:ext cx="1728720" cy="25923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1371600" y="5089680"/>
            <a:ext cx="7304040" cy="70344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圆柱的侧面积＝底面周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4343400" y="152280"/>
            <a:ext cx="3733920" cy="4114800"/>
            <a:chOff x="4343400" y="152280"/>
            <a:chExt cx="3733920" cy="4114800"/>
          </a:xfrm>
        </p:grpSpPr>
        <p:sp>
          <p:nvSpPr>
            <p:cNvPr id="315" name="Rectangle 4"/>
            <p:cNvSpPr/>
            <p:nvPr/>
          </p:nvSpPr>
          <p:spPr>
            <a:xfrm>
              <a:off x="4343400" y="1523880"/>
              <a:ext cx="3733920" cy="13716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5"/>
            <p:cNvSpPr/>
            <p:nvPr/>
          </p:nvSpPr>
          <p:spPr>
            <a:xfrm>
              <a:off x="5562720" y="152280"/>
              <a:ext cx="1371600" cy="1371600"/>
            </a:xfrm>
            <a:prstGeom prst="ellipse">
              <a:avLst/>
            </a:prstGeom>
            <a:solidFill>
              <a:srgbClr val="ffbd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底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"/>
            <p:cNvSpPr/>
            <p:nvPr/>
          </p:nvSpPr>
          <p:spPr>
            <a:xfrm>
              <a:off x="5638680" y="2895480"/>
              <a:ext cx="1371600" cy="1371600"/>
            </a:xfrm>
            <a:prstGeom prst="ellipse">
              <a:avLst/>
            </a:prstGeom>
            <a:solidFill>
              <a:srgbClr val="ffbd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底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AutoShape 7"/>
          <p:cNvSpPr/>
          <p:nvPr/>
        </p:nvSpPr>
        <p:spPr>
          <a:xfrm>
            <a:off x="914400" y="1447920"/>
            <a:ext cx="1219320" cy="144756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2743200" y="2209680"/>
            <a:ext cx="10666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8153280" y="1600200"/>
            <a:ext cx="152640" cy="129528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8368560" y="2021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11"/>
          <p:cNvGrpSpPr/>
          <p:nvPr/>
        </p:nvGrpSpPr>
        <p:grpSpPr>
          <a:xfrm>
            <a:off x="4343400" y="2209680"/>
            <a:ext cx="3733920" cy="0"/>
            <a:chOff x="4343400" y="2209680"/>
            <a:chExt cx="3733920" cy="0"/>
          </a:xfrm>
        </p:grpSpPr>
        <p:sp>
          <p:nvSpPr>
            <p:cNvPr id="323" name="Line 12"/>
            <p:cNvSpPr/>
            <p:nvPr/>
          </p:nvSpPr>
          <p:spPr>
            <a:xfrm>
              <a:off x="7086600" y="22096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3"/>
            <p:cNvSpPr/>
            <p:nvPr/>
          </p:nvSpPr>
          <p:spPr>
            <a:xfrm flipH="1">
              <a:off x="4343400" y="220968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14"/>
          <p:cNvSpPr/>
          <p:nvPr/>
        </p:nvSpPr>
        <p:spPr>
          <a:xfrm>
            <a:off x="5720400" y="1962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底面的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9"/>
          <p:cNvGrpSpPr/>
          <p:nvPr/>
        </p:nvGrpSpPr>
        <p:grpSpPr>
          <a:xfrm>
            <a:off x="2052720" y="3009960"/>
            <a:ext cx="2952720" cy="1656720"/>
            <a:chOff x="2052720" y="3009960"/>
            <a:chExt cx="2952720" cy="1656720"/>
          </a:xfrm>
        </p:grpSpPr>
        <p:sp>
          <p:nvSpPr>
            <p:cNvPr id="328" name="AutoShape 8"/>
            <p:cNvSpPr/>
            <p:nvPr/>
          </p:nvSpPr>
          <p:spPr>
            <a:xfrm>
              <a:off x="2052720" y="3009960"/>
              <a:ext cx="2879640" cy="1081080"/>
            </a:xfrm>
            <a:prstGeom prst="downArrowCallout">
              <a:avLst>
                <a:gd name="adj1" fmla="val 66598"/>
                <a:gd name="adj2" fmla="val 66592"/>
                <a:gd name="adj3" fmla="val 16667"/>
                <a:gd name="adj4" fmla="val 6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2052720" y="4024080"/>
              <a:ext cx="29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</a:rPr>
                <a:t>底面周长</a:t>
              </a: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×</a:t>
              </a:r>
              <a:r>
                <a:rPr b="1" lang="zh-CN" sz="3600" spc="-1" strike="noStrike">
                  <a:solidFill>
                    <a:srgbClr val="ffff00"/>
                  </a:solidFill>
                  <a:latin typeface="Arial"/>
                </a:rPr>
                <a:t>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052360" y="3009960"/>
            <a:ext cx="705636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圆柱的侧面积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+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两个底面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1116000" y="207324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圆柱的表面积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4"/>
          <p:cNvGrpSpPr/>
          <p:nvPr/>
        </p:nvGrpSpPr>
        <p:grpSpPr>
          <a:xfrm>
            <a:off x="1070640" y="3657600"/>
            <a:ext cx="6554880" cy="2725920"/>
            <a:chOff x="1070640" y="3657600"/>
            <a:chExt cx="6554880" cy="2725920"/>
          </a:xfrm>
        </p:grpSpPr>
        <p:sp>
          <p:nvSpPr>
            <p:cNvPr id="333" name="AutoShape 11"/>
            <p:cNvSpPr/>
            <p:nvPr/>
          </p:nvSpPr>
          <p:spPr>
            <a:xfrm>
              <a:off x="3348000" y="4737240"/>
              <a:ext cx="360360" cy="718920"/>
            </a:xfrm>
            <a:prstGeom prst="downArrow">
              <a:avLst>
                <a:gd name="adj1" fmla="val 50000"/>
                <a:gd name="adj2" fmla="val 4987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2"/>
            <p:cNvSpPr/>
            <p:nvPr/>
          </p:nvSpPr>
          <p:spPr>
            <a:xfrm>
              <a:off x="6804000" y="3657600"/>
              <a:ext cx="360360" cy="1800360"/>
            </a:xfrm>
            <a:prstGeom prst="downArrow">
              <a:avLst>
                <a:gd name="adj1" fmla="val 50000"/>
                <a:gd name="adj2" fmla="val 1249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3"/>
            <p:cNvSpPr/>
            <p:nvPr/>
          </p:nvSpPr>
          <p:spPr>
            <a:xfrm>
              <a:off x="1070640" y="5375160"/>
              <a:ext cx="6554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宋体"/>
                </a:rPr>
                <a:t>S</a:t>
              </a:r>
              <a:r>
                <a:rPr b="0" lang="zh-CN" sz="3200" spc="-1" strike="noStrike">
                  <a:solidFill>
                    <a:srgbClr val="ffff00"/>
                  </a:solidFill>
                  <a:latin typeface="宋体"/>
                </a:rPr>
                <a:t>表面积</a:t>
              </a:r>
              <a:r>
                <a:rPr b="0" lang="en-US" sz="5400" spc="-1" strike="noStrike">
                  <a:solidFill>
                    <a:srgbClr val="ffff00"/>
                  </a:solidFill>
                  <a:latin typeface="Arial"/>
                </a:rPr>
                <a:t>=</a:t>
              </a:r>
              <a:r>
                <a:rPr b="0" lang="en-US" sz="4800" spc="-1" strike="noStrike">
                  <a:solidFill>
                    <a:srgbClr val="ffff00"/>
                  </a:solidFill>
                  <a:latin typeface="Arial"/>
                </a:rPr>
                <a:t>2πr×h   +   2×πr</a:t>
              </a:r>
              <a:r>
                <a:rPr b="0" lang="en-US" sz="48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35"/>
          <p:cNvSpPr/>
          <p:nvPr/>
        </p:nvSpPr>
        <p:spPr>
          <a:xfrm>
            <a:off x="5076720" y="765000"/>
            <a:ext cx="2519640" cy="1008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侧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7"/>
          <p:cNvSpPr/>
          <p:nvPr/>
        </p:nvSpPr>
        <p:spPr>
          <a:xfrm>
            <a:off x="6012000" y="1773360"/>
            <a:ext cx="720720" cy="718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8"/>
          <p:cNvSpPr/>
          <p:nvPr/>
        </p:nvSpPr>
        <p:spPr>
          <a:xfrm>
            <a:off x="4067280" y="620640"/>
            <a:ext cx="865080" cy="1295640"/>
          </a:xfrm>
          <a:prstGeom prst="ca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42"/>
          <p:cNvSpPr/>
          <p:nvPr/>
        </p:nvSpPr>
        <p:spPr>
          <a:xfrm>
            <a:off x="7236000" y="46080"/>
            <a:ext cx="720720" cy="718920"/>
          </a:xfrm>
          <a:prstGeom prst="ellipse">
            <a:avLst/>
          </a:prstGeom>
          <a:solidFill>
            <a:srgbClr val="3399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3"/>
          <p:cNvSpPr/>
          <p:nvPr/>
        </p:nvSpPr>
        <p:spPr>
          <a:xfrm>
            <a:off x="5076720" y="7650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0" y="4581360"/>
            <a:ext cx="968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计算各圆柱的表面积。（图中单位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762120" y="1447920"/>
            <a:ext cx="1523880" cy="2457360"/>
            <a:chOff x="762120" y="1447920"/>
            <a:chExt cx="1523880" cy="2457360"/>
          </a:xfrm>
        </p:grpSpPr>
        <p:graphicFrame>
          <p:nvGraphicFramePr>
            <p:cNvPr id="343" name="Object 4"/>
            <p:cNvGraphicFramePr/>
            <p:nvPr/>
          </p:nvGraphicFramePr>
          <p:xfrm>
            <a:off x="762120" y="1523880"/>
            <a:ext cx="1260360" cy="238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523880"/>
                      <a:ext cx="1260360" cy="238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WordArt 5"/>
            <p:cNvSpPr txBox="1"/>
            <p:nvPr/>
          </p:nvSpPr>
          <p:spPr>
            <a:xfrm>
              <a:off x="1295280" y="144792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46" name="WordArt 6"/>
            <p:cNvSpPr txBox="1"/>
            <p:nvPr/>
          </p:nvSpPr>
          <p:spPr>
            <a:xfrm>
              <a:off x="2057400" y="259092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347" name="Group 7"/>
          <p:cNvGrpSpPr/>
          <p:nvPr/>
        </p:nvGrpSpPr>
        <p:grpSpPr>
          <a:xfrm>
            <a:off x="6172200" y="1371600"/>
            <a:ext cx="2209680" cy="2666880"/>
            <a:chOff x="6172200" y="1371600"/>
            <a:chExt cx="2209680" cy="2666880"/>
          </a:xfrm>
        </p:grpSpPr>
        <p:graphicFrame>
          <p:nvGraphicFramePr>
            <p:cNvPr id="348" name="Object 8"/>
            <p:cNvGraphicFramePr/>
            <p:nvPr/>
          </p:nvGraphicFramePr>
          <p:xfrm>
            <a:off x="6172200" y="1371600"/>
            <a:ext cx="1981080" cy="266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9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1371600"/>
                      <a:ext cx="1981080" cy="266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0" name="WordArt 9"/>
            <p:cNvSpPr txBox="1"/>
            <p:nvPr/>
          </p:nvSpPr>
          <p:spPr>
            <a:xfrm>
              <a:off x="8153280" y="281952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51" name="WordArt 10"/>
            <p:cNvSpPr txBox="1"/>
            <p:nvPr/>
          </p:nvSpPr>
          <p:spPr>
            <a:xfrm>
              <a:off x="7010280" y="137160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1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352" name="Group 11"/>
          <p:cNvGrpSpPr/>
          <p:nvPr/>
        </p:nvGrpSpPr>
        <p:grpSpPr>
          <a:xfrm>
            <a:off x="2971800" y="1905120"/>
            <a:ext cx="2611440" cy="838080"/>
            <a:chOff x="2971800" y="1905120"/>
            <a:chExt cx="2611440" cy="838080"/>
          </a:xfrm>
        </p:grpSpPr>
        <p:graphicFrame>
          <p:nvGraphicFramePr>
            <p:cNvPr id="353" name="Object 12"/>
            <p:cNvGraphicFramePr/>
            <p:nvPr/>
          </p:nvGraphicFramePr>
          <p:xfrm>
            <a:off x="3048120" y="1905120"/>
            <a:ext cx="2535120" cy="5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8120" y="1905120"/>
                      <a:ext cx="2535120" cy="5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WordArt 13"/>
            <p:cNvSpPr txBox="1"/>
            <p:nvPr/>
          </p:nvSpPr>
          <p:spPr>
            <a:xfrm>
              <a:off x="4267080" y="251460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2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356" name="WordArt 14"/>
            <p:cNvSpPr txBox="1"/>
            <p:nvPr/>
          </p:nvSpPr>
          <p:spPr>
            <a:xfrm>
              <a:off x="2971800" y="2133720"/>
              <a:ext cx="1522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p:transition>
    <p:random/>
    <p:sndAc>
      <p:stSnd>
        <p:snd r:embed="rId7" name="cashreg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9280" y="199800"/>
            <a:ext cx="5346720" cy="492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966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Garamond"/>
                <a:ea typeface="隶书"/>
              </a:rPr>
              <a:t>牛刀小试：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612720" y="12682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一张长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宽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长方形纸围成一个圆柱体，这个圆柱体的侧面积是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611280" y="3429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根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长的圆柱形排水钢管，量得横截面圆的半径是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0.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，如果在钢管的表面喷上防锈油漆，喷漆面积是（          ）平方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3203640" y="2421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5076720" y="5229360"/>
            <a:ext cx="151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3492360" y="530064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250920" y="1700280"/>
            <a:ext cx="2808360" cy="3024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24000" y="765000"/>
            <a:ext cx="2808000" cy="64800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u=1099516015,270753660&amp;fm=0&amp;gp=26"/>
          <p:cNvPicPr/>
          <p:nvPr/>
        </p:nvPicPr>
        <p:blipFill>
          <a:blip r:embed="rId1"/>
          <a:stretch/>
        </p:blipFill>
        <p:spPr>
          <a:xfrm>
            <a:off x="776160" y="2235240"/>
            <a:ext cx="1824120" cy="19796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6"/>
          <p:cNvSpPr/>
          <p:nvPr/>
        </p:nvSpPr>
        <p:spPr>
          <a:xfrm>
            <a:off x="3203640" y="549360"/>
            <a:ext cx="55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现在有一个罐头厂计划用铁皮制作一批底面半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厘米，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厘米的圆柱形罐头盒。你能不能帮厂长算一算制作一个至少需要多少平方厘米铁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24000" y="76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应用与实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867280" y="1916280"/>
            <a:ext cx="2808360" cy="34574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4560" y="259920"/>
            <a:ext cx="8209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顶圆柱形厨师帽，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，帽顶直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，做这样一顶帽子需要用多少面料（得数保留整十平方厘米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611280" y="2206800"/>
            <a:ext cx="7777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：帽子的侧面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14×20×2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75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帽顶的面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14×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÷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需要用的面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758.4+314=207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做这样一顶帽子需要用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8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平方厘米的面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001"/>
          <p:cNvPicPr/>
          <p:nvPr/>
        </p:nvPicPr>
        <p:blipFill>
          <a:blip r:embed="rId1"/>
          <a:stretch/>
        </p:blipFill>
        <p:spPr>
          <a:xfrm>
            <a:off x="6012000" y="2060640"/>
            <a:ext cx="2573280" cy="31687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4500720" y="4940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9"/>
          <p:cNvSpPr/>
          <p:nvPr/>
        </p:nvSpPr>
        <p:spPr>
          <a:xfrm>
            <a:off x="7236000" y="6093000"/>
            <a:ext cx="1439640" cy="50472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1582" h="21600">
                <a:moveTo>
                  <a:pt x="0" y="0"/>
                </a:moveTo>
                <a:lnTo>
                  <a:pt x="61582" y="0"/>
                </a:lnTo>
                <a:lnTo>
                  <a:pt x="61582" y="21600"/>
                </a:lnTo>
                <a:lnTo>
                  <a:pt x="0" y="21600"/>
                </a:lnTo>
                <a:close/>
              </a:path>
              <a:path fill="lightenLess" w="61582" h="21600">
                <a:moveTo>
                  <a:pt x="0" y="0"/>
                </a:moveTo>
                <a:lnTo>
                  <a:pt x="61582" y="0"/>
                </a:lnTo>
                <a:lnTo>
                  <a:pt x="60182" y="1400"/>
                </a:lnTo>
                <a:lnTo>
                  <a:pt x="1400" y="1400"/>
                </a:lnTo>
                <a:close/>
              </a:path>
              <a:path fill="darken" w="61582" h="21600">
                <a:moveTo>
                  <a:pt x="61582" y="0"/>
                </a:moveTo>
                <a:lnTo>
                  <a:pt x="61582" y="21600"/>
                </a:lnTo>
                <a:lnTo>
                  <a:pt x="60182" y="20200"/>
                </a:lnTo>
                <a:lnTo>
                  <a:pt x="60182" y="1400"/>
                </a:lnTo>
                <a:close/>
              </a:path>
              <a:path fill="darkenLess" w="61582" h="21600">
                <a:moveTo>
                  <a:pt x="61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82" y="20200"/>
                </a:lnTo>
                <a:close/>
              </a:path>
              <a:path fill="lighten" w="61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582" h="21600">
                <a:moveTo>
                  <a:pt x="23785" y="3794"/>
                </a:moveTo>
                <a:lnTo>
                  <a:pt x="37798" y="10800"/>
                </a:lnTo>
                <a:lnTo>
                  <a:pt x="23785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611280" y="98100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圆柱形的无盖铁皮水桶，底面直径是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米，高是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4.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米，为了防止生锈，要在水桶里外两面都涂上防锈漆，涂漆的 面积是多少平方分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6012000" y="4076640"/>
            <a:ext cx="1657080" cy="2232000"/>
          </a:xfrm>
          <a:prstGeom prst="ca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7"/>
          <p:cNvSpPr/>
          <p:nvPr/>
        </p:nvSpPr>
        <p:spPr>
          <a:xfrm>
            <a:off x="6300720" y="3357720"/>
            <a:ext cx="1150920" cy="12236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468360" y="11592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再接再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424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圆柱体的侧面展开是个边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42 c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正方形，这个圆柱体的表面积是多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（得数保留两位小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431640" y="3068640"/>
            <a:ext cx="871236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解：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.42×9.42+3.14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9.42÷3.1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0" lang="en-US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×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=88.728+14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≈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02.86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答：这个圆柱体的表面积是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02.86 cm</a:t>
            </a:r>
            <a:r>
              <a:rPr b="0" lang="en-US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7524720" y="5950080"/>
            <a:ext cx="1079640" cy="50328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19" h="21600">
                <a:moveTo>
                  <a:pt x="0" y="0"/>
                </a:moveTo>
                <a:lnTo>
                  <a:pt x="46319" y="0"/>
                </a:lnTo>
                <a:lnTo>
                  <a:pt x="46319" y="21600"/>
                </a:lnTo>
                <a:lnTo>
                  <a:pt x="0" y="21600"/>
                </a:lnTo>
                <a:close/>
              </a:path>
              <a:path fill="lightenLess" w="46319" h="21600">
                <a:moveTo>
                  <a:pt x="0" y="0"/>
                </a:moveTo>
                <a:lnTo>
                  <a:pt x="46319" y="0"/>
                </a:lnTo>
                <a:lnTo>
                  <a:pt x="44919" y="1400"/>
                </a:lnTo>
                <a:lnTo>
                  <a:pt x="1400" y="1400"/>
                </a:lnTo>
                <a:close/>
              </a:path>
              <a:path fill="darken" w="46319" h="21600">
                <a:moveTo>
                  <a:pt x="46319" y="0"/>
                </a:moveTo>
                <a:lnTo>
                  <a:pt x="46319" y="21600"/>
                </a:lnTo>
                <a:lnTo>
                  <a:pt x="44919" y="20200"/>
                </a:lnTo>
                <a:lnTo>
                  <a:pt x="44919" y="1400"/>
                </a:lnTo>
                <a:close/>
              </a:path>
              <a:path fill="darkenLess" w="46319" h="21600">
                <a:moveTo>
                  <a:pt x="46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19" y="20200"/>
                </a:lnTo>
                <a:close/>
              </a:path>
              <a:path fill="lighten" w="46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19" h="21600">
                <a:moveTo>
                  <a:pt x="16153" y="3794"/>
                </a:moveTo>
                <a:lnTo>
                  <a:pt x="30166" y="10800"/>
                </a:lnTo>
                <a:lnTo>
                  <a:pt x="16153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95280" y="260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挑战自我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计算下面圆的周长和面积。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6cm  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5dm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87680" y="227664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周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763640" y="2276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6×3.1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18.8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m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476360" y="3213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6÷2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r>
              <a:rPr b="1" lang="en-US" sz="32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×3.1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28.26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87680" y="450864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周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763640" y="4508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2×5×3.1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31.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m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1763640" y="5445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5</a:t>
            </a:r>
            <a:r>
              <a:rPr b="1" lang="en-US" sz="32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×3.14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＝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78.5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m</a:t>
            </a:r>
            <a:r>
              <a:rPr b="1" lang="en-US" sz="32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>
            <a:hlinkClick r:id="" action="ppaction://hlinkshowjump?jump=firstslide"/>
          </p:cNvPr>
          <p:cNvSpPr/>
          <p:nvPr/>
        </p:nvSpPr>
        <p:spPr>
          <a:xfrm>
            <a:off x="856764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-2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Garamond"/>
                <a:ea typeface="隶书"/>
              </a:rPr>
              <a:t>挑战自我：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468360" y="3933720"/>
            <a:ext cx="820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611280" y="981000"/>
            <a:ext cx="82072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圆柱体的侧面积是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72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底面半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它的高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1403280" y="2565360"/>
            <a:ext cx="684072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解：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72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÷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2×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×4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=72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π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÷8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=9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m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答：它的高是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 cm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4"/>
          <p:cNvSpPr/>
          <p:nvPr/>
        </p:nvSpPr>
        <p:spPr>
          <a:xfrm>
            <a:off x="1332000" y="141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隶书"/>
              </a:rPr>
              <a:t>应用本节课你所学到的知识，结合生活中实际问题，能否编写一道你认为合理的应用题并与同学交流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312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Garamond"/>
                <a:ea typeface="隶书"/>
              </a:rPr>
              <a:t>创新与实践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要牢记下面的计算公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黑体"/>
              </a:rPr>
              <a:t>圆的周长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黑体"/>
              </a:rPr>
              <a:t>圆的面积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2378520"/>
            <a:ext cx="57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C=πd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C=2π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71640" y="39625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=πr</a:t>
            </a:r>
            <a:r>
              <a:rPr b="1" lang="en-US" sz="4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>
            <a:hlinkClick r:id="" action="ppaction://hlinkshowjump?jump=firstslide"/>
          </p:cNvPr>
          <p:cNvSpPr/>
          <p:nvPr/>
        </p:nvSpPr>
        <p:spPr>
          <a:xfrm>
            <a:off x="856764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1692360" y="1628640"/>
          <a:ext cx="312408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31240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Line 3"/>
          <p:cNvSpPr/>
          <p:nvPr/>
        </p:nvSpPr>
        <p:spPr>
          <a:xfrm flipV="1">
            <a:off x="4206960" y="23907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3216240" y="2543040"/>
            <a:ext cx="0" cy="2819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2835360" y="261936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仿宋_GB2312"/>
              </a:rPr>
              <a:t>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  <p:sp>
        <p:nvSpPr>
          <p:cNvPr id="111" name="WordArt 6"/>
          <p:cNvSpPr txBox="1"/>
          <p:nvPr/>
        </p:nvSpPr>
        <p:spPr>
          <a:xfrm>
            <a:off x="2835360" y="513396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仿宋_GB2312"/>
              </a:rPr>
              <a:t>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759040" y="19335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759040" y="52862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4359240" y="2467080"/>
            <a:ext cx="1190520" cy="2935080"/>
            <a:chOff x="4359240" y="2467080"/>
            <a:chExt cx="1190520" cy="2935080"/>
          </a:xfrm>
        </p:grpSpPr>
        <p:sp>
          <p:nvSpPr>
            <p:cNvPr id="115" name="Line 10"/>
            <p:cNvSpPr/>
            <p:nvPr/>
          </p:nvSpPr>
          <p:spPr>
            <a:xfrm flipH="1" flipV="1">
              <a:off x="5044680" y="2467080"/>
              <a:ext cx="18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1"/>
            <p:cNvSpPr/>
            <p:nvPr/>
          </p:nvSpPr>
          <p:spPr>
            <a:xfrm>
              <a:off x="5045040" y="4143240"/>
              <a:ext cx="18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2"/>
            <p:cNvSpPr/>
            <p:nvPr/>
          </p:nvSpPr>
          <p:spPr>
            <a:xfrm>
              <a:off x="4359240" y="24670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>
              <a:off x="4406760" y="5400720"/>
              <a:ext cx="1143000" cy="14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4740120" y="3610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5"/>
          <p:cNvSpPr/>
          <p:nvPr/>
        </p:nvSpPr>
        <p:spPr>
          <a:xfrm>
            <a:off x="2073240" y="3533760"/>
            <a:ext cx="533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圆柱的各部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">
            <a:hlinkClick r:id="" action="ppaction://hlinkshowjump?jump=firstslide"/>
          </p:cNvPr>
          <p:cNvSpPr/>
          <p:nvPr/>
        </p:nvSpPr>
        <p:spPr>
          <a:xfrm>
            <a:off x="856764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2"/>
          <p:cNvSpPr/>
          <p:nvPr/>
        </p:nvSpPr>
        <p:spPr>
          <a:xfrm>
            <a:off x="250920" y="1700280"/>
            <a:ext cx="2808360" cy="302400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324000" y="765000"/>
            <a:ext cx="2808000" cy="64800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u=1099516015,270753660&amp;fm=0&amp;gp=26"/>
          <p:cNvPicPr/>
          <p:nvPr/>
        </p:nvPicPr>
        <p:blipFill>
          <a:blip r:embed="rId1"/>
          <a:stretch/>
        </p:blipFill>
        <p:spPr>
          <a:xfrm>
            <a:off x="395280" y="1846440"/>
            <a:ext cx="2519280" cy="2734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203640" y="549360"/>
            <a:ext cx="554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现在有一个罐头厂计划用铁皮制作一批底面半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厘米，高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厘米的圆柱形罐头盒。你能不能帮厂长算一算制作一个至少需要多少平方厘米铁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24000" y="76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实 际 问 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4"/>
          <p:cNvGrpSpPr/>
          <p:nvPr/>
        </p:nvGrpSpPr>
        <p:grpSpPr>
          <a:xfrm>
            <a:off x="971640" y="1530360"/>
            <a:ext cx="2305080" cy="3024000"/>
            <a:chOff x="971640" y="1530360"/>
            <a:chExt cx="2305080" cy="3024000"/>
          </a:xfrm>
        </p:grpSpPr>
        <p:sp>
          <p:nvSpPr>
            <p:cNvPr id="130" name="AutoShape 5"/>
            <p:cNvSpPr/>
            <p:nvPr/>
          </p:nvSpPr>
          <p:spPr>
            <a:xfrm>
              <a:off x="971640" y="1530360"/>
              <a:ext cx="2305080" cy="3024000"/>
            </a:xfrm>
            <a:prstGeom prst="can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>
              <a:off x="971640" y="1530360"/>
              <a:ext cx="230508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7"/>
          <p:cNvSpPr/>
          <p:nvPr/>
        </p:nvSpPr>
        <p:spPr>
          <a:xfrm>
            <a:off x="1981080" y="2322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356000" y="1890720"/>
            <a:ext cx="3745080" cy="23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356000" y="4265640"/>
            <a:ext cx="3745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148360" y="4410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</a:rPr>
              <a:t>底面周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8101080" y="1890720"/>
            <a:ext cx="0" cy="237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8028000" y="2754360"/>
            <a:ext cx="8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>
            <a:hlinkClick r:id="" action="ppaction://hlinkshowjump?jump=previousslide"/>
          </p:cNvPr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4">
            <a:hlinkClick r:id="" action="ppaction://hlinkshowjump?jump=firstslide"/>
          </p:cNvPr>
          <p:cNvSpPr/>
          <p:nvPr/>
        </p:nvSpPr>
        <p:spPr>
          <a:xfrm>
            <a:off x="7812000" y="6093000"/>
            <a:ext cx="576360" cy="765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65000"/>
              <a:gd name="textAreaBottom" fmla="*/ 727920 h 765000"/>
            </a:gdLst>
            <a:ahLst/>
            <a:rect l="textAreaLeft" t="textAreaTop" r="textAreaRight" b="textAreaBottom"/>
            <a:pathLst>
              <a:path w="21600" h="28665">
                <a:moveTo>
                  <a:pt x="0" y="0"/>
                </a:moveTo>
                <a:lnTo>
                  <a:pt x="21600" y="0"/>
                </a:lnTo>
                <a:lnTo>
                  <a:pt x="21600" y="28665"/>
                </a:lnTo>
                <a:lnTo>
                  <a:pt x="0" y="28665"/>
                </a:lnTo>
                <a:close/>
              </a:path>
              <a:path fill="lightenLess" w="21600" h="286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665">
                <a:moveTo>
                  <a:pt x="21600" y="0"/>
                </a:moveTo>
                <a:lnTo>
                  <a:pt x="21600" y="28665"/>
                </a:lnTo>
                <a:lnTo>
                  <a:pt x="20200" y="27265"/>
                </a:lnTo>
                <a:lnTo>
                  <a:pt x="20200" y="1400"/>
                </a:lnTo>
                <a:close/>
              </a:path>
              <a:path fill="darkenLess" w="21600" h="28665">
                <a:moveTo>
                  <a:pt x="21600" y="28665"/>
                </a:moveTo>
                <a:lnTo>
                  <a:pt x="0" y="28665"/>
                </a:lnTo>
                <a:lnTo>
                  <a:pt x="1400" y="27265"/>
                </a:lnTo>
                <a:lnTo>
                  <a:pt x="20200" y="27265"/>
                </a:lnTo>
                <a:close/>
              </a:path>
              <a:path fill="lighten" w="21600" h="28665">
                <a:moveTo>
                  <a:pt x="0" y="286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7265"/>
                </a:lnTo>
                <a:close/>
              </a:path>
              <a:path fill="darken" w="21600" h="28665">
                <a:moveTo>
                  <a:pt x="10800" y="7370"/>
                </a:moveTo>
                <a:lnTo>
                  <a:pt x="13376" y="9981"/>
                </a:ln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lnTo>
                  <a:pt x="17763" y="14333"/>
                </a:lnTo>
                <a:lnTo>
                  <a:pt x="16109" y="14333"/>
                </a:lnTo>
                <a:lnTo>
                  <a:pt x="16109" y="21522"/>
                </a:lnTo>
                <a:lnTo>
                  <a:pt x="5491" y="21522"/>
                </a:lnTo>
                <a:lnTo>
                  <a:pt x="5491" y="14333"/>
                </a:lnTo>
                <a:lnTo>
                  <a:pt x="3837" y="14333"/>
                </a:lnTo>
                <a:close/>
              </a:path>
              <a:path fill="darkenLess" w="21600" h="28665">
                <a:moveTo>
                  <a:pt x="13376" y="9981"/>
                </a:moveTo>
                <a:lnTo>
                  <a:pt x="13376" y="8240"/>
                </a:lnTo>
                <a:lnTo>
                  <a:pt x="15152" y="8240"/>
                </a:lnTo>
                <a:lnTo>
                  <a:pt x="15152" y="11756"/>
                </a:lnTo>
                <a:close/>
              </a:path>
              <a:path fill="darkenLess" w="21600" h="28665">
                <a:moveTo>
                  <a:pt x="9877" y="17831"/>
                </a:moveTo>
                <a:lnTo>
                  <a:pt x="11723" y="17831"/>
                </a:lnTo>
                <a:lnTo>
                  <a:pt x="11723" y="21522"/>
                </a:lnTo>
                <a:lnTo>
                  <a:pt x="16109" y="21522"/>
                </a:lnTo>
                <a:lnTo>
                  <a:pt x="16109" y="14333"/>
                </a:lnTo>
                <a:lnTo>
                  <a:pt x="5491" y="14333"/>
                </a:lnTo>
                <a:lnTo>
                  <a:pt x="5491" y="21522"/>
                </a:lnTo>
                <a:lnTo>
                  <a:pt x="9877" y="215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4"/>
          <p:cNvGraphicFramePr/>
          <p:nvPr/>
        </p:nvGraphicFramePr>
        <p:xfrm>
          <a:off x="1330200" y="2635200"/>
          <a:ext cx="35892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2635200"/>
                    <a:ext cx="3589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Oval 6"/>
          <p:cNvSpPr/>
          <p:nvPr/>
        </p:nvSpPr>
        <p:spPr>
          <a:xfrm>
            <a:off x="395280" y="692280"/>
            <a:ext cx="1655640" cy="57456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395280" y="2203560"/>
            <a:ext cx="1655640" cy="574560"/>
          </a:xfrm>
          <a:prstGeom prst="ellipse">
            <a:avLst/>
          </a:prstGeom>
          <a:solidFill>
            <a:srgbClr val="cc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95280" y="979560"/>
            <a:ext cx="1440" cy="149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2050920" y="907920"/>
            <a:ext cx="1800" cy="160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10"/>
          <p:cNvGraphicFramePr/>
          <p:nvPr/>
        </p:nvGraphicFramePr>
        <p:xfrm>
          <a:off x="2914560" y="692280"/>
          <a:ext cx="2714760" cy="22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692280"/>
                    <a:ext cx="271476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Oval 11"/>
          <p:cNvSpPr/>
          <p:nvPr/>
        </p:nvSpPr>
        <p:spPr>
          <a:xfrm>
            <a:off x="3490920" y="2419200"/>
            <a:ext cx="1657440" cy="5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3490920" y="763560"/>
            <a:ext cx="1657440" cy="576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3"/>
          <p:cNvSpPr txBox="1"/>
          <p:nvPr/>
        </p:nvSpPr>
        <p:spPr>
          <a:xfrm>
            <a:off x="3911760" y="895320"/>
            <a:ext cx="77940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1" name="WordArt 14"/>
          <p:cNvSpPr txBox="1"/>
          <p:nvPr/>
        </p:nvSpPr>
        <p:spPr>
          <a:xfrm>
            <a:off x="3911760" y="2506680"/>
            <a:ext cx="77940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2124000" y="184464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4067280" y="3571920"/>
            <a:ext cx="4378320" cy="158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8"/>
          <p:cNvSpPr/>
          <p:nvPr/>
        </p:nvSpPr>
        <p:spPr>
          <a:xfrm>
            <a:off x="6083280" y="2274840"/>
            <a:ext cx="1297080" cy="12794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9"/>
          <p:cNvSpPr/>
          <p:nvPr/>
        </p:nvSpPr>
        <p:spPr>
          <a:xfrm>
            <a:off x="6083280" y="5156280"/>
            <a:ext cx="1152720" cy="1152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20"/>
          <p:cNvSpPr txBox="1"/>
          <p:nvPr/>
        </p:nvSpPr>
        <p:spPr>
          <a:xfrm>
            <a:off x="6299280" y="2635200"/>
            <a:ext cx="79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7" name="WordArt 21"/>
          <p:cNvSpPr txBox="1"/>
          <p:nvPr/>
        </p:nvSpPr>
        <p:spPr>
          <a:xfrm>
            <a:off x="6299280" y="551664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8" name="WordArt 23"/>
          <p:cNvSpPr txBox="1"/>
          <p:nvPr/>
        </p:nvSpPr>
        <p:spPr>
          <a:xfrm>
            <a:off x="5651640" y="1627200"/>
            <a:ext cx="33156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9" name="WordArt 24"/>
          <p:cNvSpPr txBox="1"/>
          <p:nvPr/>
        </p:nvSpPr>
        <p:spPr>
          <a:xfrm>
            <a:off x="8531280" y="4148280"/>
            <a:ext cx="43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60" name="Group 28"/>
          <p:cNvGrpSpPr/>
          <p:nvPr/>
        </p:nvGrpSpPr>
        <p:grpSpPr>
          <a:xfrm>
            <a:off x="4354560" y="3211560"/>
            <a:ext cx="864720" cy="1080720"/>
            <a:chOff x="4354560" y="3211560"/>
            <a:chExt cx="864720" cy="1080720"/>
          </a:xfrm>
        </p:grpSpPr>
        <p:sp>
          <p:nvSpPr>
            <p:cNvPr id="161" name="Line 29"/>
            <p:cNvSpPr/>
            <p:nvPr/>
          </p:nvSpPr>
          <p:spPr>
            <a:xfrm>
              <a:off x="4354560" y="3211560"/>
              <a:ext cx="0" cy="108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0"/>
            <p:cNvSpPr/>
            <p:nvPr/>
          </p:nvSpPr>
          <p:spPr>
            <a:xfrm>
              <a:off x="4354560" y="4292280"/>
              <a:ext cx="8647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34"/>
          <p:cNvSpPr/>
          <p:nvPr/>
        </p:nvSpPr>
        <p:spPr>
          <a:xfrm>
            <a:off x="1547640" y="1266840"/>
            <a:ext cx="0" cy="151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5"/>
          <p:cNvSpPr/>
          <p:nvPr/>
        </p:nvSpPr>
        <p:spPr>
          <a:xfrm>
            <a:off x="5219640" y="39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柱的侧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6"/>
          <p:cNvSpPr/>
          <p:nvPr/>
        </p:nvSpPr>
        <p:spPr>
          <a:xfrm>
            <a:off x="3348000" y="1557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柱的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5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72d"/>
            </a:gs>
            <a:gs pos="50000">
              <a:srgbClr val="ffffe1"/>
            </a:gs>
            <a:gs pos="100000">
              <a:srgbClr val="ffd7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3924360" y="1197000"/>
            <a:ext cx="4895640" cy="532764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684360" y="1484280"/>
            <a:ext cx="2798280" cy="2832480"/>
            <a:chOff x="684360" y="1484280"/>
            <a:chExt cx="2798280" cy="2832480"/>
          </a:xfrm>
        </p:grpSpPr>
        <p:grpSp>
          <p:nvGrpSpPr>
            <p:cNvPr id="169" name="Group 3"/>
            <p:cNvGrpSpPr/>
            <p:nvPr/>
          </p:nvGrpSpPr>
          <p:grpSpPr>
            <a:xfrm>
              <a:off x="684360" y="1484280"/>
              <a:ext cx="2797920" cy="2832480"/>
              <a:chOff x="684360" y="1484280"/>
              <a:chExt cx="2797920" cy="2832480"/>
            </a:xfrm>
          </p:grpSpPr>
          <p:sp>
            <p:nvSpPr>
              <p:cNvPr id="170" name="Oval 4"/>
              <p:cNvSpPr/>
              <p:nvPr/>
            </p:nvSpPr>
            <p:spPr>
              <a:xfrm>
                <a:off x="684360" y="1484280"/>
                <a:ext cx="2797920" cy="68688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5"/>
              <p:cNvGrpSpPr/>
              <p:nvPr/>
            </p:nvGrpSpPr>
            <p:grpSpPr>
              <a:xfrm>
                <a:off x="684360" y="3630600"/>
                <a:ext cx="2797560" cy="686160"/>
                <a:chOff x="684360" y="3630600"/>
                <a:chExt cx="2797560" cy="686160"/>
              </a:xfrm>
            </p:grpSpPr>
            <p:sp>
              <p:nvSpPr>
                <p:cNvPr id="172" name="Oval 6"/>
                <p:cNvSpPr/>
                <p:nvPr/>
              </p:nvSpPr>
              <p:spPr>
                <a:xfrm>
                  <a:off x="684360" y="3630600"/>
                  <a:ext cx="2797560" cy="686160"/>
                </a:xfrm>
                <a:prstGeom prst="ellipse">
                  <a:avLst/>
                </a:prstGeom>
                <a:solidFill>
                  <a:srgbClr val="ffcc99"/>
                </a:solidFill>
                <a:ln w="381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7"/>
                <p:cNvSpPr/>
                <p:nvPr/>
              </p:nvSpPr>
              <p:spPr>
                <a:xfrm>
                  <a:off x="684360" y="3924720"/>
                  <a:ext cx="2797560" cy="392040"/>
                </a:xfrm>
                <a:prstGeom prst="pie">
                  <a:avLst/>
                </a:prstGeom>
                <a:solidFill>
                  <a:srgbClr val="ffcc99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Line 8"/>
              <p:cNvSpPr/>
              <p:nvPr/>
            </p:nvSpPr>
            <p:spPr>
              <a:xfrm>
                <a:off x="3482280" y="1827720"/>
                <a:ext cx="0" cy="214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9"/>
              <p:cNvSpPr/>
              <p:nvPr/>
            </p:nvSpPr>
            <p:spPr>
              <a:xfrm>
                <a:off x="684360" y="1827720"/>
                <a:ext cx="0" cy="214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10"/>
            <p:cNvSpPr/>
            <p:nvPr/>
          </p:nvSpPr>
          <p:spPr>
            <a:xfrm>
              <a:off x="684360" y="1827720"/>
              <a:ext cx="2798280" cy="2486520"/>
            </a:xfrm>
            <a:prstGeom prst="pi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1"/>
            <p:cNvSpPr/>
            <p:nvPr/>
          </p:nvSpPr>
          <p:spPr>
            <a:xfrm>
              <a:off x="938880" y="1569960"/>
              <a:ext cx="2289240" cy="51516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2"/>
            <p:cNvSpPr/>
            <p:nvPr/>
          </p:nvSpPr>
          <p:spPr>
            <a:xfrm>
              <a:off x="1702080" y="1741680"/>
              <a:ext cx="762840" cy="17172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"/>
            <p:cNvSpPr/>
            <p:nvPr/>
          </p:nvSpPr>
          <p:spPr>
            <a:xfrm>
              <a:off x="684360" y="1999440"/>
              <a:ext cx="2798280" cy="391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"/>
            <p:cNvSpPr/>
            <p:nvPr/>
          </p:nvSpPr>
          <p:spPr>
            <a:xfrm>
              <a:off x="684360" y="2171160"/>
              <a:ext cx="2798280" cy="391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>
              <a:off x="684360" y="3717000"/>
              <a:ext cx="2798280" cy="391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6"/>
            <p:cNvSpPr/>
            <p:nvPr/>
          </p:nvSpPr>
          <p:spPr>
            <a:xfrm>
              <a:off x="684360" y="3802320"/>
              <a:ext cx="2798280" cy="3916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>
              <a:off x="1129320" y="2972520"/>
              <a:ext cx="1674360" cy="471960"/>
            </a:xfrm>
            <a:prstGeom prst="pi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afbf39"/>
                </a:gs>
              </a:gsLst>
              <a:lin ang="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>
              <a:off x="1264680" y="3144600"/>
              <a:ext cx="161640" cy="928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1468800" y="3087000"/>
              <a:ext cx="108000" cy="275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0"/>
            <p:cNvSpPr/>
            <p:nvPr/>
          </p:nvSpPr>
          <p:spPr>
            <a:xfrm>
              <a:off x="1638360" y="2986920"/>
              <a:ext cx="550800" cy="997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>
              <a:off x="1572480" y="3359160"/>
              <a:ext cx="333360" cy="1231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507400" y="3129840"/>
              <a:ext cx="267840" cy="202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Freeform 24"/>
          <p:cNvSpPr/>
          <p:nvPr/>
        </p:nvSpPr>
        <p:spPr>
          <a:xfrm>
            <a:off x="1214280" y="2084400"/>
            <a:ext cx="1397160" cy="2279520"/>
          </a:xfrm>
          <a:prstGeom prst="pie">
            <a:avLst/>
          </a:prstGeom>
          <a:solidFill>
            <a:srgbClr val="c7ac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25"/>
          <p:cNvSpPr/>
          <p:nvPr/>
        </p:nvSpPr>
        <p:spPr>
          <a:xfrm>
            <a:off x="2414520" y="2093760"/>
            <a:ext cx="312840" cy="2511720"/>
          </a:xfrm>
          <a:prstGeom prst="pie">
            <a:avLst/>
          </a:prstGeom>
          <a:solidFill>
            <a:srgbClr val="9966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6"/>
          <p:cNvSpPr/>
          <p:nvPr/>
        </p:nvSpPr>
        <p:spPr>
          <a:xfrm flipV="1" rot="10800000">
            <a:off x="998280" y="2115000"/>
            <a:ext cx="423720" cy="2489400"/>
          </a:xfrm>
          <a:prstGeom prst="pie">
            <a:avLst/>
          </a:prstGeom>
          <a:solidFill>
            <a:srgbClr val="6666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1935000" y="2157480"/>
            <a:ext cx="3240" cy="2222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643280" y="-3668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919760" y="167328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问题：圆柱的侧面展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图中的长与圆柱底面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周长有什么关系，宽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圆柱的高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1:16:53Z</dcterms:created>
  <dc:creator>为您服务教育网　http://www.wsbedu.com/</dc:creator>
  <dc:description/>
  <dc:language>en-US</dc:language>
  <cp:lastModifiedBy>为您服务教育网</cp:lastModifiedBy>
  <dcterms:modified xsi:type="dcterms:W3CDTF">2013-03-07T09:45:59Z</dcterms:modified>
  <cp:revision>50</cp:revision>
  <dc:subject/>
  <dc:title>圆柱的表面积</dc:title>
</cp:coreProperties>
</file>