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1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13.png" ContentType="image/png"/>
  <Override PartName="/ppt/media/image33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1FF-8A1C-432D-9BD0-793082CF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434-FAA2-4D7B-8EC5-B5EC982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63B-05E5-49DA-A541-54026678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842-24D1-4923-A222-6B64D49F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A27-890D-49E8-9878-3E01736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9F92-6435-4E54-A094-EFDE9A68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626D-B59F-4DDB-993B-7EF1BABB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D9E5-1E6B-41AF-AC15-16F8DFBA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B61-B3C1-4D0A-8814-162A541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4D8-F9C2-48C2-B4C2-36EE76E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B64-0ED9-44C7-B1EB-7122B6DD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107F-FC20-4CBF-BF23-E782CD2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685-DFCF-45BD-9E33-C0DE893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10C6-1EA1-4F0E-A07A-93908D1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0EF-675B-42C2-B185-37927C1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5D0-089B-4C98-B323-4AC2BC6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273E-3CAD-45A0-96C9-A016AF96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21CC-A2BB-4952-A4CB-A2D05719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DE87-CEFF-4121-B2FB-72F8DC63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91DF-7B1D-4402-8132-B3E4034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B6E4-686C-4C7B-9E5B-475439C2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20B-76E0-47B5-8047-9055DE1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1A21-7D82-484D-B669-5012B67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4401-9F32-42D1-B735-B435A87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52FF-1B16-44BE-9663-11168C8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C8E2-7E1B-4C20-B750-3C9B036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5149-7068-4C8A-81F0-0CC8041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B639-7ACB-41B5-B92D-EBA5635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6631-6B2D-4EE8-8839-D4062F5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B8F3-C76E-4DEE-AF07-DE7149A5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1B66-0190-4FB0-87DE-8F9F51E3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9A0D-CE7D-4AB8-BE61-23416EB7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479-0236-4F6A-9FA6-1E5DAC22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7BF1-A1C5-40C8-999E-E4AD5A0D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2E32-8D73-41A2-B6EF-C41351C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1832-9A4C-49F8-9A11-A9A36D24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4B80-12A1-4EE2-A3CC-9B75B4D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2889-9F28-41E7-8FF5-6521BAC0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6BEF-4540-4BA3-85D1-2AA5DF4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2A33-DA9D-42B7-B53D-41D9167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6E76-3EDD-4387-B63C-19316C4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C681-50CF-483D-8298-117CFD5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78678-58D3-434D-A9FB-FB1866D3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B90-8CFF-4521-83EE-FFCBE6F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4456-1777-4EF1-B0FB-1C089C37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6D97-4541-47F4-A90E-1437C12D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36F1-2EF3-48FB-A520-F7C0B3A8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85B9-67AC-4AC3-9F57-BCCD20F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B182-02A8-49CF-A07B-09F3482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4429-185A-48F9-AE57-1A80920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2606-CF33-491B-80CA-C05101A8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CACA-24C0-44DA-9104-C5256DE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24C7-710A-4757-8B8B-0C7198C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FBF8-17F5-4319-AD7F-E284E6B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645-FF11-4999-8ECE-02AB798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A630-3E84-4093-9386-B01D6CB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3C38-F0BB-4624-B08A-AAECAB1A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DA6D-3E76-4DBA-836A-7CA2898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E6805-FFB8-4DDE-8E2A-05F8EA4A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718D0-EB1C-4198-B874-361A1A9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EDD0-813F-496B-B011-25196C2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1A6D-8371-44D2-99A0-5E60B17A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6F18-8FA9-4A24-A177-54F5AB5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1810-1E77-48EA-A0C6-F2131A0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DBA8-40CE-41C0-8324-9103EAC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F84-B1F8-45D1-A091-AE16D34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C1C1-3120-4DB2-8D9B-BC41637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B5518-A798-495B-A5B5-1CC0A62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F6687-4120-4435-8B89-2B7E766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F4B6-3983-43E2-9B2C-776AA687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C534-4A34-42B6-8048-16827FAD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261-97E8-4BA7-B212-15CB2BC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50CF-D99B-4A9C-A81F-076D20384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121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122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5361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6A9-4F61-4B87-8FD0-2AEE94B58C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31C3-C4C7-4739-B576-0F151094A8A4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614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图片 6146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6147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图片 6148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349-24DE-4985-9FC4-E10C2EBF82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6385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6386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B3E6-321C-4956-8734-56DF87FD54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E70-1F7B-4032-8BFE-5BB8A0B5F9E6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矩形 3077" descr=""/>
          <p:cNvPicPr/>
          <p:nvPr/>
        </p:nvPicPr>
        <p:blipFill>
          <a:blip r:embed="rId1"/>
          <a:stretch/>
        </p:blipFill>
        <p:spPr>
          <a:xfrm>
            <a:off x="0" y="2340000"/>
            <a:ext cx="781200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4819"/>
          <p:cNvSpPr txBox="1"/>
          <p:nvPr/>
        </p:nvSpPr>
        <p:spPr>
          <a:xfrm>
            <a:off x="179280" y="1159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教学任务分析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5" name="文本框 34820"/>
          <p:cNvSpPr/>
          <p:nvPr/>
        </p:nvSpPr>
        <p:spPr>
          <a:xfrm>
            <a:off x="2428920" y="836640"/>
            <a:ext cx="6823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学目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识与技能：理解有理数的意义，掌握有理数的概念。  能将有理数进行正确分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程与方法：通过对学过的数进行分类获得有理数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情感态度价值观：感受数域扩展的必要性合理性，用发展的观点看待数学问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4821"/>
          <p:cNvSpPr/>
          <p:nvPr/>
        </p:nvSpPr>
        <p:spPr>
          <a:xfrm>
            <a:off x="2484360" y="4468680"/>
            <a:ext cx="65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学活动重点：对学过的数进行正确分类形成有理数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学活动难点：对有理数意义的理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2052"/>
          <p:cNvSpPr txBox="1"/>
          <p:nvPr/>
        </p:nvSpPr>
        <p:spPr>
          <a:xfrm>
            <a:off x="755640" y="8366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文本框 2053"/>
          <p:cNvSpPr/>
          <p:nvPr/>
        </p:nvSpPr>
        <p:spPr>
          <a:xfrm>
            <a:off x="755640" y="170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我们所在班级很容易分成两个集合，你是按什么分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2054" descr="1126105062"/>
          <p:cNvPicPr/>
          <p:nvPr/>
        </p:nvPicPr>
        <p:blipFill>
          <a:blip r:embed="rId1"/>
          <a:stretch/>
        </p:blipFill>
        <p:spPr>
          <a:xfrm>
            <a:off x="684360" y="3429000"/>
            <a:ext cx="1263600" cy="158436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2057" descr="1126105062"/>
          <p:cNvPicPr/>
          <p:nvPr/>
        </p:nvPicPr>
        <p:blipFill>
          <a:blip r:embed="rId2"/>
          <a:stretch/>
        </p:blipFill>
        <p:spPr>
          <a:xfrm>
            <a:off x="1763640" y="3429000"/>
            <a:ext cx="1263600" cy="15843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058" descr="1126105062"/>
          <p:cNvPicPr/>
          <p:nvPr/>
        </p:nvPicPr>
        <p:blipFill>
          <a:blip r:embed="rId3"/>
          <a:stretch/>
        </p:blipFill>
        <p:spPr>
          <a:xfrm>
            <a:off x="828720" y="4005360"/>
            <a:ext cx="1263600" cy="15843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2060" descr="1126105062"/>
          <p:cNvPicPr/>
          <p:nvPr/>
        </p:nvPicPr>
        <p:blipFill>
          <a:blip r:embed="rId4"/>
          <a:stretch/>
        </p:blipFill>
        <p:spPr>
          <a:xfrm>
            <a:off x="1187280" y="4508640"/>
            <a:ext cx="1263960" cy="158436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2069" descr="0159"/>
          <p:cNvPicPr/>
          <p:nvPr/>
        </p:nvPicPr>
        <p:blipFill>
          <a:blip r:embed="rId5"/>
          <a:stretch/>
        </p:blipFill>
        <p:spPr>
          <a:xfrm>
            <a:off x="6732720" y="3213000"/>
            <a:ext cx="950760" cy="12668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2070" descr="0161"/>
          <p:cNvPicPr/>
          <p:nvPr/>
        </p:nvPicPr>
        <p:blipFill>
          <a:blip r:embed="rId6"/>
          <a:stretch/>
        </p:blipFill>
        <p:spPr>
          <a:xfrm>
            <a:off x="6227640" y="33577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2071" descr="0159"/>
          <p:cNvPicPr/>
          <p:nvPr/>
        </p:nvPicPr>
        <p:blipFill>
          <a:blip r:embed="rId7"/>
          <a:stretch/>
        </p:blipFill>
        <p:spPr>
          <a:xfrm>
            <a:off x="5940360" y="3860640"/>
            <a:ext cx="951120" cy="12668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072" descr="0161"/>
          <p:cNvPicPr/>
          <p:nvPr/>
        </p:nvPicPr>
        <p:blipFill>
          <a:blip r:embed="rId8"/>
          <a:stretch/>
        </p:blipFill>
        <p:spPr>
          <a:xfrm>
            <a:off x="6516720" y="393372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2073" descr="0159"/>
          <p:cNvPicPr/>
          <p:nvPr/>
        </p:nvPicPr>
        <p:blipFill>
          <a:blip r:embed="rId9"/>
          <a:stretch/>
        </p:blipFill>
        <p:spPr>
          <a:xfrm>
            <a:off x="7093080" y="3789360"/>
            <a:ext cx="950760" cy="12668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074" descr="0161"/>
          <p:cNvPicPr/>
          <p:nvPr/>
        </p:nvPicPr>
        <p:blipFill>
          <a:blip r:embed="rId10"/>
          <a:stretch/>
        </p:blipFill>
        <p:spPr>
          <a:xfrm>
            <a:off x="7020000" y="443700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2075" descr="0159"/>
          <p:cNvPicPr/>
          <p:nvPr/>
        </p:nvPicPr>
        <p:blipFill>
          <a:blip r:embed="rId11"/>
          <a:stretch/>
        </p:blipFill>
        <p:spPr>
          <a:xfrm>
            <a:off x="6300720" y="4437000"/>
            <a:ext cx="951120" cy="126684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76" descr="0161"/>
          <p:cNvPicPr/>
          <p:nvPr/>
        </p:nvPicPr>
        <p:blipFill>
          <a:blip r:embed="rId12"/>
          <a:stretch/>
        </p:blipFill>
        <p:spPr>
          <a:xfrm>
            <a:off x="6659640" y="4869000"/>
            <a:ext cx="971640" cy="1295280"/>
          </a:xfrm>
          <a:prstGeom prst="rect">
            <a:avLst/>
          </a:prstGeom>
          <a:ln w="0">
            <a:noFill/>
          </a:ln>
        </p:spPr>
      </p:pic>
      <p:sp>
        <p:nvSpPr>
          <p:cNvPr id="311" name="矩形 2078"/>
          <p:cNvSpPr txBox="1"/>
          <p:nvPr/>
        </p:nvSpPr>
        <p:spPr>
          <a:xfrm>
            <a:off x="1042920" y="2637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男生集合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2" name="矩形 2079"/>
          <p:cNvSpPr txBox="1"/>
          <p:nvPr/>
        </p:nvSpPr>
        <p:spPr>
          <a:xfrm>
            <a:off x="6127920" y="2611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女生集合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3" name="文本框 2080"/>
          <p:cNvSpPr/>
          <p:nvPr/>
        </p:nvSpPr>
        <p:spPr>
          <a:xfrm>
            <a:off x="3276720" y="623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性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9219"/>
          <p:cNvSpPr txBox="1"/>
          <p:nvPr/>
        </p:nvSpPr>
        <p:spPr>
          <a:xfrm>
            <a:off x="250920" y="189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文本框 9220"/>
          <p:cNvSpPr/>
          <p:nvPr/>
        </p:nvSpPr>
        <p:spPr>
          <a:xfrm>
            <a:off x="1835280" y="260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所知道的数可以分成哪些种类，你是按着什么划分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9313"/>
          <p:cNvGrpSpPr/>
          <p:nvPr/>
        </p:nvGrpSpPr>
        <p:grpSpPr>
          <a:xfrm>
            <a:off x="3276720" y="692280"/>
            <a:ext cx="2160360" cy="1736640"/>
            <a:chOff x="3276720" y="692280"/>
            <a:chExt cx="2160360" cy="1736640"/>
          </a:xfrm>
        </p:grpSpPr>
        <p:sp>
          <p:nvSpPr>
            <p:cNvPr id="317" name="椭圆 9224"/>
            <p:cNvSpPr/>
            <p:nvPr/>
          </p:nvSpPr>
          <p:spPr>
            <a:xfrm>
              <a:off x="3276720" y="692280"/>
              <a:ext cx="2160360" cy="122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9227"/>
            <p:cNvSpPr/>
            <p:nvPr/>
          </p:nvSpPr>
          <p:spPr>
            <a:xfrm>
              <a:off x="3492360" y="2060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素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的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9314"/>
          <p:cNvGrpSpPr/>
          <p:nvPr/>
        </p:nvGrpSpPr>
        <p:grpSpPr>
          <a:xfrm>
            <a:off x="6227640" y="692280"/>
            <a:ext cx="2737080" cy="1736640"/>
            <a:chOff x="6227640" y="692280"/>
            <a:chExt cx="2737080" cy="1736640"/>
          </a:xfrm>
        </p:grpSpPr>
        <p:sp>
          <p:nvSpPr>
            <p:cNvPr id="320" name="文本框 9228"/>
            <p:cNvSpPr/>
            <p:nvPr/>
          </p:nvSpPr>
          <p:spPr>
            <a:xfrm>
              <a:off x="6227640" y="206064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所有负数组成的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组合 9263"/>
            <p:cNvGrpSpPr/>
            <p:nvPr/>
          </p:nvGrpSpPr>
          <p:grpSpPr>
            <a:xfrm>
              <a:off x="6516720" y="692280"/>
              <a:ext cx="2305080" cy="1225440"/>
              <a:chOff x="6516720" y="692280"/>
              <a:chExt cx="2305080" cy="1225440"/>
            </a:xfrm>
          </p:grpSpPr>
          <p:sp>
            <p:nvSpPr>
              <p:cNvPr id="322" name="椭圆 9231"/>
              <p:cNvSpPr/>
              <p:nvPr/>
            </p:nvSpPr>
            <p:spPr>
              <a:xfrm>
                <a:off x="6516720" y="692280"/>
                <a:ext cx="2305080" cy="122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-1   -2   -3  -3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3" name="对象 9257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2160" y="1303920"/>
                <a:ext cx="372960" cy="54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对象 9258" descr=""/>
              <p:cNvPicPr/>
              <p:nvPr/>
            </p:nvPicPr>
            <p:blipFill>
              <a:blip r:embed="rId2"/>
              <a:stretch/>
            </p:blipFill>
            <p:spPr>
              <a:xfrm>
                <a:off x="6904080" y="1303920"/>
                <a:ext cx="37332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文本框 9259"/>
              <p:cNvSpPr/>
              <p:nvPr/>
            </p:nvSpPr>
            <p:spPr>
              <a:xfrm>
                <a:off x="7958160" y="130536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组合 9312"/>
          <p:cNvGrpSpPr/>
          <p:nvPr/>
        </p:nvGrpSpPr>
        <p:grpSpPr>
          <a:xfrm>
            <a:off x="250920" y="692280"/>
            <a:ext cx="2952720" cy="1736640"/>
            <a:chOff x="250920" y="692280"/>
            <a:chExt cx="2952720" cy="1736640"/>
          </a:xfrm>
        </p:grpSpPr>
        <p:sp>
          <p:nvSpPr>
            <p:cNvPr id="327" name="文本框 9226"/>
            <p:cNvSpPr/>
            <p:nvPr/>
          </p:nvSpPr>
          <p:spPr>
            <a:xfrm>
              <a:off x="250920" y="206064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所有正数组成的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9264"/>
            <p:cNvGrpSpPr/>
            <p:nvPr/>
          </p:nvGrpSpPr>
          <p:grpSpPr>
            <a:xfrm>
              <a:off x="324000" y="692280"/>
              <a:ext cx="2160360" cy="1222200"/>
              <a:chOff x="324000" y="692280"/>
              <a:chExt cx="2160360" cy="1222200"/>
            </a:xfrm>
          </p:grpSpPr>
          <p:sp>
            <p:nvSpPr>
              <p:cNvPr id="329" name="椭圆 9222"/>
              <p:cNvSpPr/>
              <p:nvPr/>
            </p:nvSpPr>
            <p:spPr>
              <a:xfrm>
                <a:off x="324000" y="692280"/>
                <a:ext cx="2160360" cy="1222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+1  +2  +3  +3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0" name="对象 925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00" y="1195560"/>
                <a:ext cx="439920" cy="6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对象 925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720" y="1195560"/>
                <a:ext cx="439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文本框 9260"/>
              <p:cNvSpPr/>
              <p:nvPr/>
            </p:nvSpPr>
            <p:spPr>
              <a:xfrm>
                <a:off x="1692360" y="1195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组合 9315"/>
          <p:cNvGrpSpPr/>
          <p:nvPr/>
        </p:nvGrpSpPr>
        <p:grpSpPr>
          <a:xfrm>
            <a:off x="0" y="2563920"/>
            <a:ext cx="1727280" cy="1592280"/>
            <a:chOff x="0" y="2563920"/>
            <a:chExt cx="1727280" cy="1592280"/>
          </a:xfrm>
        </p:grpSpPr>
        <p:sp>
          <p:nvSpPr>
            <p:cNvPr id="334" name="椭圆 9236"/>
            <p:cNvSpPr/>
            <p:nvPr/>
          </p:nvSpPr>
          <p:spPr>
            <a:xfrm>
              <a:off x="0" y="2563920"/>
              <a:ext cx="1619280" cy="115236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宋体"/>
                </a:rPr>
                <a:t>+1 +2 +3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9279"/>
            <p:cNvSpPr/>
            <p:nvPr/>
          </p:nvSpPr>
          <p:spPr>
            <a:xfrm>
              <a:off x="0" y="378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正整数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316"/>
          <p:cNvGrpSpPr/>
          <p:nvPr/>
        </p:nvGrpSpPr>
        <p:grpSpPr>
          <a:xfrm>
            <a:off x="1692360" y="2577960"/>
            <a:ext cx="1800000" cy="1578240"/>
            <a:chOff x="1692360" y="2577960"/>
            <a:chExt cx="1800000" cy="1578240"/>
          </a:xfrm>
        </p:grpSpPr>
        <p:grpSp>
          <p:nvGrpSpPr>
            <p:cNvPr id="337" name="组合 9262"/>
            <p:cNvGrpSpPr/>
            <p:nvPr/>
          </p:nvGrpSpPr>
          <p:grpSpPr>
            <a:xfrm>
              <a:off x="1692360" y="2577960"/>
              <a:ext cx="1800000" cy="1150920"/>
              <a:chOff x="1692360" y="2577960"/>
              <a:chExt cx="1800000" cy="1150920"/>
            </a:xfrm>
          </p:grpSpPr>
          <p:sp>
            <p:nvSpPr>
              <p:cNvPr id="338" name="椭圆 9237"/>
              <p:cNvSpPr/>
              <p:nvPr/>
            </p:nvSpPr>
            <p:spPr>
              <a:xfrm>
                <a:off x="1692360" y="2577960"/>
                <a:ext cx="1800000" cy="1150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9" name="内容占位符 92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3640" y="2793960"/>
                <a:ext cx="39024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内容占位符 9248" descr=""/>
              <p:cNvPicPr/>
              <p:nvPr/>
            </p:nvPicPr>
            <p:blipFill>
              <a:blip r:embed="rId6"/>
              <a:stretch/>
            </p:blipFill>
            <p:spPr>
              <a:xfrm>
                <a:off x="1765080" y="2793960"/>
                <a:ext cx="3902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文本框 9254"/>
              <p:cNvSpPr/>
              <p:nvPr/>
            </p:nvSpPr>
            <p:spPr>
              <a:xfrm>
                <a:off x="2484000" y="29304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宋体"/>
                  </a:rPr>
                  <a:t>+3.5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文本框 9280"/>
            <p:cNvSpPr/>
            <p:nvPr/>
          </p:nvSpPr>
          <p:spPr>
            <a:xfrm>
              <a:off x="1763640" y="378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正分数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9317"/>
          <p:cNvGrpSpPr/>
          <p:nvPr/>
        </p:nvGrpSpPr>
        <p:grpSpPr>
          <a:xfrm>
            <a:off x="3635280" y="2635200"/>
            <a:ext cx="1727280" cy="1521000"/>
            <a:chOff x="3635280" y="2635200"/>
            <a:chExt cx="1727280" cy="1521000"/>
          </a:xfrm>
        </p:grpSpPr>
        <p:sp>
          <p:nvSpPr>
            <p:cNvPr id="344" name="椭圆 9241"/>
            <p:cNvSpPr/>
            <p:nvPr/>
          </p:nvSpPr>
          <p:spPr>
            <a:xfrm>
              <a:off x="3708360" y="2635200"/>
              <a:ext cx="144000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9281"/>
            <p:cNvSpPr/>
            <p:nvPr/>
          </p:nvSpPr>
          <p:spPr>
            <a:xfrm>
              <a:off x="3635280" y="378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元素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的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318"/>
          <p:cNvGrpSpPr/>
          <p:nvPr/>
        </p:nvGrpSpPr>
        <p:grpSpPr>
          <a:xfrm>
            <a:off x="5435640" y="2563920"/>
            <a:ext cx="1728720" cy="1592280"/>
            <a:chOff x="5435640" y="2563920"/>
            <a:chExt cx="1728720" cy="1592280"/>
          </a:xfrm>
        </p:grpSpPr>
        <p:sp>
          <p:nvSpPr>
            <p:cNvPr id="347" name="椭圆 9238"/>
            <p:cNvSpPr/>
            <p:nvPr/>
          </p:nvSpPr>
          <p:spPr>
            <a:xfrm>
              <a:off x="5435640" y="2563920"/>
              <a:ext cx="1728720" cy="115236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宋体"/>
                </a:rPr>
                <a:t>-1 -3 -5 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282"/>
            <p:cNvSpPr/>
            <p:nvPr/>
          </p:nvSpPr>
          <p:spPr>
            <a:xfrm>
              <a:off x="5435640" y="378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负整数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319"/>
          <p:cNvGrpSpPr/>
          <p:nvPr/>
        </p:nvGrpSpPr>
        <p:grpSpPr>
          <a:xfrm>
            <a:off x="7199280" y="2490840"/>
            <a:ext cx="1944720" cy="1593720"/>
            <a:chOff x="7199280" y="2490840"/>
            <a:chExt cx="1944720" cy="1593720"/>
          </a:xfrm>
        </p:grpSpPr>
        <p:grpSp>
          <p:nvGrpSpPr>
            <p:cNvPr id="350" name="组合 9261"/>
            <p:cNvGrpSpPr/>
            <p:nvPr/>
          </p:nvGrpSpPr>
          <p:grpSpPr>
            <a:xfrm>
              <a:off x="7199280" y="2490840"/>
              <a:ext cx="1944720" cy="1152360"/>
              <a:chOff x="7199280" y="2490840"/>
              <a:chExt cx="1944720" cy="1152360"/>
            </a:xfrm>
          </p:grpSpPr>
          <p:sp>
            <p:nvSpPr>
              <p:cNvPr id="351" name="椭圆 9239"/>
              <p:cNvSpPr/>
              <p:nvPr/>
            </p:nvSpPr>
            <p:spPr>
              <a:xfrm>
                <a:off x="7199280" y="2490840"/>
                <a:ext cx="1871640" cy="1152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2" name="内容占位符 9244" descr=""/>
              <p:cNvPicPr/>
              <p:nvPr/>
            </p:nvPicPr>
            <p:blipFill>
              <a:blip r:embed="rId7"/>
              <a:stretch/>
            </p:blipFill>
            <p:spPr>
              <a:xfrm>
                <a:off x="7313760" y="2808000"/>
                <a:ext cx="35388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文本框 9247"/>
              <p:cNvSpPr/>
              <p:nvPr/>
            </p:nvSpPr>
            <p:spPr>
              <a:xfrm>
                <a:off x="8170920" y="2922480"/>
                <a:ext cx="97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宋体"/>
                  </a:rPr>
                  <a:t>-3.5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内容占位符 9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7790040" y="2822400"/>
                <a:ext cx="3715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5" name="文本框 9283"/>
            <p:cNvSpPr/>
            <p:nvPr/>
          </p:nvSpPr>
          <p:spPr>
            <a:xfrm>
              <a:off x="7416720" y="371628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负分数集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9320"/>
          <p:cNvGrpSpPr/>
          <p:nvPr/>
        </p:nvGrpSpPr>
        <p:grpSpPr>
          <a:xfrm>
            <a:off x="57240" y="4219560"/>
            <a:ext cx="2786040" cy="1796760"/>
            <a:chOff x="57240" y="4219560"/>
            <a:chExt cx="2786040" cy="1796760"/>
          </a:xfrm>
        </p:grpSpPr>
        <p:sp>
          <p:nvSpPr>
            <p:cNvPr id="357" name="椭圆 9265"/>
            <p:cNvSpPr/>
            <p:nvPr/>
          </p:nvSpPr>
          <p:spPr>
            <a:xfrm>
              <a:off x="395280" y="4219560"/>
              <a:ext cx="2448000" cy="10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+1   +2   +3   0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-1  -3  -5  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285"/>
            <p:cNvSpPr/>
            <p:nvPr/>
          </p:nvSpPr>
          <p:spPr>
            <a:xfrm>
              <a:off x="57240" y="5373720"/>
              <a:ext cx="2555640" cy="6426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整数集合：正整数、零负整数统称为整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9321"/>
          <p:cNvGrpSpPr/>
          <p:nvPr/>
        </p:nvGrpSpPr>
        <p:grpSpPr>
          <a:xfrm>
            <a:off x="6012000" y="4148280"/>
            <a:ext cx="3132000" cy="1736640"/>
            <a:chOff x="6012000" y="4148280"/>
            <a:chExt cx="3132000" cy="1736640"/>
          </a:xfrm>
        </p:grpSpPr>
        <p:grpSp>
          <p:nvGrpSpPr>
            <p:cNvPr id="360" name="组合 9284"/>
            <p:cNvGrpSpPr/>
            <p:nvPr/>
          </p:nvGrpSpPr>
          <p:grpSpPr>
            <a:xfrm>
              <a:off x="6012000" y="4148280"/>
              <a:ext cx="2447640" cy="1268280"/>
              <a:chOff x="6012000" y="4148280"/>
              <a:chExt cx="2447640" cy="1268280"/>
            </a:xfrm>
          </p:grpSpPr>
          <p:sp>
            <p:nvSpPr>
              <p:cNvPr id="361" name="椭圆 9266"/>
              <p:cNvSpPr/>
              <p:nvPr/>
            </p:nvSpPr>
            <p:spPr>
              <a:xfrm>
                <a:off x="6012000" y="4148280"/>
                <a:ext cx="2447640" cy="126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组合 9272"/>
              <p:cNvGrpSpPr/>
              <p:nvPr/>
            </p:nvGrpSpPr>
            <p:grpSpPr>
              <a:xfrm>
                <a:off x="6516360" y="4221360"/>
                <a:ext cx="1726560" cy="576000"/>
                <a:chOff x="6516360" y="4221360"/>
                <a:chExt cx="1726560" cy="576000"/>
              </a:xfrm>
            </p:grpSpPr>
            <p:pic>
              <p:nvPicPr>
                <p:cNvPr id="363" name="内容占位符 926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74560" y="4221360"/>
                  <a:ext cx="39024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内容占位符 927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16360" y="4221360"/>
                  <a:ext cx="3902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文本框 9271"/>
                <p:cNvSpPr/>
                <p:nvPr/>
              </p:nvSpPr>
              <p:spPr>
                <a:xfrm>
                  <a:off x="7234920" y="4357440"/>
                  <a:ext cx="100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宋体"/>
                    </a:rPr>
                    <a:t>+3.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组合 9278"/>
              <p:cNvGrpSpPr/>
              <p:nvPr/>
            </p:nvGrpSpPr>
            <p:grpSpPr>
              <a:xfrm>
                <a:off x="6486120" y="4783320"/>
                <a:ext cx="1830240" cy="590040"/>
                <a:chOff x="6486120" y="4783320"/>
                <a:chExt cx="1830240" cy="590040"/>
              </a:xfrm>
            </p:grpSpPr>
            <p:pic>
              <p:nvPicPr>
                <p:cNvPr id="367" name="内容占位符 927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486120" y="4783320"/>
                  <a:ext cx="353880" cy="54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8" name="文本框 9276"/>
                <p:cNvSpPr/>
                <p:nvPr/>
              </p:nvSpPr>
              <p:spPr>
                <a:xfrm>
                  <a:off x="7343280" y="4897440"/>
                  <a:ext cx="97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宋体"/>
                    </a:rPr>
                    <a:t>-3.5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9" name="内容占位符 927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962400" y="4797360"/>
                  <a:ext cx="37116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0" name="文本框 9286"/>
            <p:cNvSpPr/>
            <p:nvPr/>
          </p:nvSpPr>
          <p:spPr>
            <a:xfrm>
              <a:off x="6480000" y="5516640"/>
              <a:ext cx="26640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数集合：正分数、负分数统称为分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9322"/>
          <p:cNvGrpSpPr/>
          <p:nvPr/>
        </p:nvGrpSpPr>
        <p:grpSpPr>
          <a:xfrm>
            <a:off x="2368440" y="4940280"/>
            <a:ext cx="4319640" cy="1862280"/>
            <a:chOff x="2368440" y="4940280"/>
            <a:chExt cx="4319640" cy="1862280"/>
          </a:xfrm>
        </p:grpSpPr>
        <p:grpSp>
          <p:nvGrpSpPr>
            <p:cNvPr id="372" name="组合 9298"/>
            <p:cNvGrpSpPr/>
            <p:nvPr/>
          </p:nvGrpSpPr>
          <p:grpSpPr>
            <a:xfrm>
              <a:off x="2771640" y="4940280"/>
              <a:ext cx="3527640" cy="1440000"/>
              <a:chOff x="2771640" y="4940280"/>
              <a:chExt cx="3527640" cy="1440000"/>
            </a:xfrm>
          </p:grpSpPr>
          <p:sp>
            <p:nvSpPr>
              <p:cNvPr id="373" name="椭圆 9287"/>
              <p:cNvSpPr/>
              <p:nvPr/>
            </p:nvSpPr>
            <p:spPr>
              <a:xfrm>
                <a:off x="2771640" y="4940280"/>
                <a:ext cx="3527640" cy="1440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-1  -2   -3  0  +1  +2  +3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组合 9290"/>
              <p:cNvGrpSpPr/>
              <p:nvPr/>
            </p:nvGrpSpPr>
            <p:grpSpPr>
              <a:xfrm>
                <a:off x="4502160" y="5589720"/>
                <a:ext cx="1537560" cy="576000"/>
                <a:chOff x="4502160" y="5589720"/>
                <a:chExt cx="1537560" cy="576000"/>
              </a:xfrm>
            </p:grpSpPr>
            <p:pic>
              <p:nvPicPr>
                <p:cNvPr id="375" name="内容占位符 929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821120" y="5589720"/>
                  <a:ext cx="347760" cy="57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内容占位符 9292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502160" y="5589720"/>
                  <a:ext cx="34776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文本框 9293"/>
                <p:cNvSpPr/>
                <p:nvPr/>
              </p:nvSpPr>
              <p:spPr>
                <a:xfrm>
                  <a:off x="5142240" y="5725800"/>
                  <a:ext cx="89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宋体"/>
                    </a:rPr>
                    <a:t>+3.5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组合 9294"/>
              <p:cNvGrpSpPr/>
              <p:nvPr/>
            </p:nvGrpSpPr>
            <p:grpSpPr>
              <a:xfrm>
                <a:off x="3156120" y="5589720"/>
                <a:ext cx="1629720" cy="590040"/>
                <a:chOff x="3156120" y="5589720"/>
                <a:chExt cx="1629720" cy="590040"/>
              </a:xfrm>
            </p:grpSpPr>
            <p:pic>
              <p:nvPicPr>
                <p:cNvPr id="379" name="内容占位符 929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156120" y="5589720"/>
                  <a:ext cx="315000" cy="54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文本框 9296"/>
                <p:cNvSpPr/>
                <p:nvPr/>
              </p:nvSpPr>
              <p:spPr>
                <a:xfrm>
                  <a:off x="3919320" y="5703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宋体"/>
                    </a:rPr>
                    <a:t>-3.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1" name="内容占位符 929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580200" y="5603760"/>
                  <a:ext cx="3304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2" name="文本框 9299"/>
            <p:cNvSpPr/>
            <p:nvPr/>
          </p:nvSpPr>
          <p:spPr>
            <a:xfrm>
              <a:off x="2368440" y="6434280"/>
              <a:ext cx="4319640" cy="368280"/>
            </a:xfrm>
            <a:prstGeom prst="rect">
              <a:avLst/>
            </a:prstGeom>
            <a:solidFill>
              <a:srgbClr val="99cc00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有理数集合：整数和分数统称为有理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直接连接符 9300"/>
          <p:cNvSpPr/>
          <p:nvPr/>
        </p:nvSpPr>
        <p:spPr>
          <a:xfrm flipH="1">
            <a:off x="814320" y="1960560"/>
            <a:ext cx="287280" cy="5763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9301"/>
          <p:cNvSpPr/>
          <p:nvPr/>
        </p:nvSpPr>
        <p:spPr>
          <a:xfrm>
            <a:off x="1690560" y="1916280"/>
            <a:ext cx="577800" cy="5760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302"/>
          <p:cNvSpPr/>
          <p:nvPr/>
        </p:nvSpPr>
        <p:spPr>
          <a:xfrm>
            <a:off x="4427640" y="1989000"/>
            <a:ext cx="0" cy="6480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9303"/>
          <p:cNvSpPr/>
          <p:nvPr/>
        </p:nvSpPr>
        <p:spPr>
          <a:xfrm flipH="1">
            <a:off x="6659640" y="1916280"/>
            <a:ext cx="287280" cy="5760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9304"/>
          <p:cNvSpPr/>
          <p:nvPr/>
        </p:nvSpPr>
        <p:spPr>
          <a:xfrm>
            <a:off x="8028000" y="1916280"/>
            <a:ext cx="36036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9305"/>
          <p:cNvSpPr/>
          <p:nvPr/>
        </p:nvSpPr>
        <p:spPr>
          <a:xfrm>
            <a:off x="3419640" y="3573360"/>
            <a:ext cx="2808000" cy="8636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9306"/>
          <p:cNvSpPr/>
          <p:nvPr/>
        </p:nvSpPr>
        <p:spPr>
          <a:xfrm>
            <a:off x="898560" y="3789360"/>
            <a:ext cx="144360" cy="4316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9307"/>
          <p:cNvSpPr/>
          <p:nvPr/>
        </p:nvSpPr>
        <p:spPr>
          <a:xfrm flipH="1">
            <a:off x="2700000" y="3716280"/>
            <a:ext cx="1584360" cy="6494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9308"/>
          <p:cNvSpPr/>
          <p:nvPr/>
        </p:nvSpPr>
        <p:spPr>
          <a:xfrm flipH="1">
            <a:off x="2916360" y="3573360"/>
            <a:ext cx="2735280" cy="10796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9309"/>
          <p:cNvSpPr/>
          <p:nvPr/>
        </p:nvSpPr>
        <p:spPr>
          <a:xfrm flipH="1">
            <a:off x="7812000" y="3716280"/>
            <a:ext cx="287280" cy="4334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9310"/>
          <p:cNvSpPr/>
          <p:nvPr/>
        </p:nvSpPr>
        <p:spPr>
          <a:xfrm flipH="1">
            <a:off x="5940360" y="4941720"/>
            <a:ext cx="432000" cy="50328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9311"/>
          <p:cNvSpPr/>
          <p:nvPr/>
        </p:nvSpPr>
        <p:spPr>
          <a:xfrm>
            <a:off x="2411280" y="4941720"/>
            <a:ext cx="720720" cy="5749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28683"/>
          <p:cNvSpPr/>
          <p:nvPr/>
        </p:nvSpPr>
        <p:spPr>
          <a:xfrm>
            <a:off x="1042920" y="981000"/>
            <a:ext cx="7488360" cy="1368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28676"/>
          <p:cNvGrpSpPr/>
          <p:nvPr/>
        </p:nvGrpSpPr>
        <p:grpSpPr>
          <a:xfrm>
            <a:off x="636480" y="404640"/>
            <a:ext cx="2497320" cy="1239840"/>
            <a:chOff x="636480" y="404640"/>
            <a:chExt cx="2497320" cy="1239840"/>
          </a:xfrm>
        </p:grpSpPr>
        <p:sp>
          <p:nvSpPr>
            <p:cNvPr id="397" name="矩形 28677"/>
            <p:cNvSpPr/>
            <p:nvPr/>
          </p:nvSpPr>
          <p:spPr>
            <a:xfrm>
              <a:off x="973080" y="476280"/>
              <a:ext cx="648000" cy="792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8678"/>
            <p:cNvSpPr/>
            <p:nvPr/>
          </p:nvSpPr>
          <p:spPr>
            <a:xfrm>
              <a:off x="1621080" y="907920"/>
              <a:ext cx="1511280" cy="432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新月形 28679"/>
            <p:cNvSpPr/>
            <p:nvPr/>
          </p:nvSpPr>
          <p:spPr>
            <a:xfrm rot="4798800">
              <a:off x="900000" y="691920"/>
              <a:ext cx="647640" cy="10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28680"/>
            <p:cNvSpPr/>
            <p:nvPr/>
          </p:nvSpPr>
          <p:spPr>
            <a:xfrm>
              <a:off x="900360" y="40464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Verdana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28681"/>
            <p:cNvSpPr/>
            <p:nvPr/>
          </p:nvSpPr>
          <p:spPr>
            <a:xfrm>
              <a:off x="1692360" y="47628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</a:rPr>
                <a:t>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28682"/>
            <p:cNvSpPr/>
            <p:nvPr/>
          </p:nvSpPr>
          <p:spPr>
            <a:xfrm>
              <a:off x="2197080" y="62064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</a:rPr>
                <a:t>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文本框 28684"/>
          <p:cNvSpPr/>
          <p:nvPr/>
        </p:nvSpPr>
        <p:spPr>
          <a:xfrm>
            <a:off x="1620720" y="1484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0.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3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150.2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为什么被列为分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内容占位符 28692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1131840" cy="85536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691"/>
          <p:cNvSpPr/>
          <p:nvPr/>
        </p:nvSpPr>
        <p:spPr>
          <a:xfrm>
            <a:off x="971640" y="28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都可以化为分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内容占位符 28695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1439640" cy="811080"/>
          </a:xfrm>
          <a:prstGeom prst="rect">
            <a:avLst/>
          </a:prstGeom>
          <a:ln w="0">
            <a:noFill/>
          </a:ln>
        </p:spPr>
      </p:pic>
      <p:pic>
        <p:nvPicPr>
          <p:cNvPr id="407" name="对象 28698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1152360" cy="66204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28699" descr=""/>
          <p:cNvPicPr/>
          <p:nvPr/>
        </p:nvPicPr>
        <p:blipFill>
          <a:blip r:embed="rId4"/>
          <a:stretch/>
        </p:blipFill>
        <p:spPr>
          <a:xfrm>
            <a:off x="4716360" y="4941720"/>
            <a:ext cx="17989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3798"/>
          <p:cNvSpPr/>
          <p:nvPr/>
        </p:nvSpPr>
        <p:spPr>
          <a:xfrm>
            <a:off x="1042920" y="981000"/>
            <a:ext cx="7488360" cy="2592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33817"/>
          <p:cNvGrpSpPr/>
          <p:nvPr/>
        </p:nvGrpSpPr>
        <p:grpSpPr>
          <a:xfrm>
            <a:off x="1332000" y="1557360"/>
            <a:ext cx="6985080" cy="1798560"/>
            <a:chOff x="1332000" y="1557360"/>
            <a:chExt cx="6985080" cy="1798560"/>
          </a:xfrm>
        </p:grpSpPr>
        <p:sp>
          <p:nvSpPr>
            <p:cNvPr id="411" name="文本框 33795"/>
            <p:cNvSpPr/>
            <p:nvPr/>
          </p:nvSpPr>
          <p:spPr>
            <a:xfrm>
              <a:off x="1332000" y="1557360"/>
              <a:ext cx="69850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Rational number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原意为可写成两个整数的比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数，例如，分数    是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与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的比；整数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可以看作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母为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的分数    ，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.5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可以看作哪两个整数的比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对象 33796" descr=""/>
            <p:cNvPicPr/>
            <p:nvPr/>
          </p:nvPicPr>
          <p:blipFill>
            <a:blip r:embed="rId1"/>
            <a:stretch/>
          </p:blipFill>
          <p:spPr>
            <a:xfrm>
              <a:off x="3618000" y="1916280"/>
              <a:ext cx="306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对象 33797" descr=""/>
            <p:cNvPicPr/>
            <p:nvPr/>
          </p:nvPicPr>
          <p:blipFill>
            <a:blip r:embed="rId2"/>
            <a:stretch/>
          </p:blipFill>
          <p:spPr>
            <a:xfrm>
              <a:off x="3112920" y="2492280"/>
              <a:ext cx="3067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组合 33799"/>
          <p:cNvGrpSpPr/>
          <p:nvPr/>
        </p:nvGrpSpPr>
        <p:grpSpPr>
          <a:xfrm>
            <a:off x="706320" y="333360"/>
            <a:ext cx="2497320" cy="1239840"/>
            <a:chOff x="706320" y="333360"/>
            <a:chExt cx="2497320" cy="1239840"/>
          </a:xfrm>
        </p:grpSpPr>
        <p:sp>
          <p:nvSpPr>
            <p:cNvPr id="415" name="矩形 33800"/>
            <p:cNvSpPr/>
            <p:nvPr/>
          </p:nvSpPr>
          <p:spPr>
            <a:xfrm>
              <a:off x="1042920" y="405000"/>
              <a:ext cx="648000" cy="792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33801"/>
            <p:cNvSpPr/>
            <p:nvPr/>
          </p:nvSpPr>
          <p:spPr>
            <a:xfrm>
              <a:off x="1690920" y="836640"/>
              <a:ext cx="1511280" cy="432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新月形 33802"/>
            <p:cNvSpPr/>
            <p:nvPr/>
          </p:nvSpPr>
          <p:spPr>
            <a:xfrm rot="4798800">
              <a:off x="969840" y="620640"/>
              <a:ext cx="647640" cy="107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33803"/>
            <p:cNvSpPr/>
            <p:nvPr/>
          </p:nvSpPr>
          <p:spPr>
            <a:xfrm>
              <a:off x="970200" y="33336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Verdana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3804"/>
            <p:cNvSpPr/>
            <p:nvPr/>
          </p:nvSpPr>
          <p:spPr>
            <a:xfrm>
              <a:off x="1762200" y="40500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</a:rPr>
                <a:t>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33805"/>
            <p:cNvSpPr/>
            <p:nvPr/>
          </p:nvSpPr>
          <p:spPr>
            <a:xfrm>
              <a:off x="2266920" y="54936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</a:rPr>
                <a:t>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文本框 33807"/>
          <p:cNvSpPr/>
          <p:nvPr/>
        </p:nvSpPr>
        <p:spPr>
          <a:xfrm>
            <a:off x="1763640" y="4797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写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比，如果要求两个整数互质，答案就是唯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椭圆 14360"/>
          <p:cNvSpPr/>
          <p:nvPr/>
        </p:nvSpPr>
        <p:spPr>
          <a:xfrm>
            <a:off x="826920" y="2565360"/>
            <a:ext cx="237672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4362"/>
          <p:cNvSpPr/>
          <p:nvPr/>
        </p:nvSpPr>
        <p:spPr>
          <a:xfrm>
            <a:off x="4859280" y="2565360"/>
            <a:ext cx="237672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4364"/>
          <p:cNvSpPr/>
          <p:nvPr/>
        </p:nvSpPr>
        <p:spPr>
          <a:xfrm>
            <a:off x="900000" y="4437000"/>
            <a:ext cx="237672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4366"/>
          <p:cNvSpPr/>
          <p:nvPr/>
        </p:nvSpPr>
        <p:spPr>
          <a:xfrm>
            <a:off x="4930920" y="4437000"/>
            <a:ext cx="2376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4340"/>
          <p:cNvSpPr/>
          <p:nvPr/>
        </p:nvSpPr>
        <p:spPr>
          <a:xfrm>
            <a:off x="2411280" y="907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下列各数填入它所属的集合圈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4341"/>
          <p:cNvSpPr/>
          <p:nvPr/>
        </p:nvSpPr>
        <p:spPr>
          <a:xfrm>
            <a:off x="466560" y="177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内容占位符 14342" descr=""/>
          <p:cNvPicPr/>
          <p:nvPr/>
        </p:nvPicPr>
        <p:blipFill>
          <a:blip r:embed="rId1"/>
          <a:stretch/>
        </p:blipFill>
        <p:spPr>
          <a:xfrm>
            <a:off x="1042920" y="1630440"/>
            <a:ext cx="417600" cy="647640"/>
          </a:xfrm>
          <a:prstGeom prst="rect">
            <a:avLst/>
          </a:prstGeom>
          <a:ln w="0">
            <a:noFill/>
          </a:ln>
        </p:spPr>
      </p:pic>
      <p:pic>
        <p:nvPicPr>
          <p:cNvPr id="429" name="内容占位符 14346" descr=""/>
          <p:cNvPicPr/>
          <p:nvPr/>
        </p:nvPicPr>
        <p:blipFill>
          <a:blip r:embed="rId2"/>
          <a:stretch/>
        </p:blipFill>
        <p:spPr>
          <a:xfrm>
            <a:off x="2122560" y="1557360"/>
            <a:ext cx="409680" cy="792000"/>
          </a:xfrm>
          <a:prstGeom prst="rect">
            <a:avLst/>
          </a:prstGeom>
          <a:ln w="0">
            <a:noFill/>
          </a:ln>
        </p:spPr>
      </p:pic>
      <p:pic>
        <p:nvPicPr>
          <p:cNvPr id="430" name="内容占位符 14349" descr=""/>
          <p:cNvPicPr/>
          <p:nvPr/>
        </p:nvPicPr>
        <p:blipFill>
          <a:blip r:embed="rId3"/>
          <a:stretch/>
        </p:blipFill>
        <p:spPr>
          <a:xfrm>
            <a:off x="2698920" y="1630440"/>
            <a:ext cx="520560" cy="6476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14344"/>
          <p:cNvSpPr/>
          <p:nvPr/>
        </p:nvSpPr>
        <p:spPr>
          <a:xfrm>
            <a:off x="1547640" y="17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4345"/>
          <p:cNvSpPr/>
          <p:nvPr/>
        </p:nvSpPr>
        <p:spPr>
          <a:xfrm>
            <a:off x="3419640" y="1773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4356"/>
          <p:cNvSpPr/>
          <p:nvPr/>
        </p:nvSpPr>
        <p:spPr>
          <a:xfrm>
            <a:off x="4138560" y="17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4357"/>
          <p:cNvSpPr/>
          <p:nvPr/>
        </p:nvSpPr>
        <p:spPr>
          <a:xfrm>
            <a:off x="5219640" y="177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4358"/>
          <p:cNvSpPr/>
          <p:nvPr/>
        </p:nvSpPr>
        <p:spPr>
          <a:xfrm>
            <a:off x="5938920" y="17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4359"/>
          <p:cNvSpPr/>
          <p:nvPr/>
        </p:nvSpPr>
        <p:spPr>
          <a:xfrm>
            <a:off x="6875640" y="17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4361"/>
          <p:cNvSpPr/>
          <p:nvPr/>
        </p:nvSpPr>
        <p:spPr>
          <a:xfrm>
            <a:off x="1332000" y="3862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整数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4363"/>
          <p:cNvSpPr/>
          <p:nvPr/>
        </p:nvSpPr>
        <p:spPr>
          <a:xfrm>
            <a:off x="5364000" y="38624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负整数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365"/>
          <p:cNvSpPr/>
          <p:nvPr/>
        </p:nvSpPr>
        <p:spPr>
          <a:xfrm>
            <a:off x="1405080" y="573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分数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4367"/>
          <p:cNvSpPr/>
          <p:nvPr/>
        </p:nvSpPr>
        <p:spPr>
          <a:xfrm>
            <a:off x="543564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负分数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4368"/>
          <p:cNvSpPr/>
          <p:nvPr/>
        </p:nvSpPr>
        <p:spPr>
          <a:xfrm>
            <a:off x="6877080" y="486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4369"/>
          <p:cNvSpPr/>
          <p:nvPr/>
        </p:nvSpPr>
        <p:spPr>
          <a:xfrm>
            <a:off x="6804000" y="2990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4370"/>
          <p:cNvSpPr/>
          <p:nvPr/>
        </p:nvSpPr>
        <p:spPr>
          <a:xfrm>
            <a:off x="2843280" y="486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4371"/>
          <p:cNvSpPr/>
          <p:nvPr/>
        </p:nvSpPr>
        <p:spPr>
          <a:xfrm>
            <a:off x="2771640" y="29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动作按钮: 自定义 14373">
            <a:hlinkClick r:id="" action="ppaction://hlinkshowjump?jump=nextslide"/>
          </p:cNvPr>
          <p:cNvSpPr/>
          <p:nvPr/>
        </p:nvSpPr>
        <p:spPr>
          <a:xfrm>
            <a:off x="6659640" y="623736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4374"/>
          <p:cNvSpPr txBox="1"/>
          <p:nvPr/>
        </p:nvSpPr>
        <p:spPr>
          <a:xfrm>
            <a:off x="404640" y="8366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36994E-006 L 0.06319 0.1704 E">
                                      <p:cBhvr>
                                        <p:cTn id="16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27746E-006 L 0.45763 0.44555 E">
                                      <p:cBhvr>
                                        <p:cTn id="165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6994E-006 L 0.40156 0.1704 E">
                                      <p:cBhvr>
                                        <p:cTn id="17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6358E-006 L -0.11684 0.44578 E">
                                      <p:cBhvr>
                                        <p:cTn id="175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27746E-006 L 0.33386 0.44555 E">
                                      <p:cBhvr>
                                        <p:cTn id="180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6994E-006 L -0.1967 0.45341 E">
                                      <p:cBhvr>
                                        <p:cTn id="18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6994E-006 L 0.22622 0.443 E">
                                      <p:cBhvr>
                                        <p:cTn id="190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6994E-006 L -0.51962 0.45341 E">
                                      <p:cBhvr>
                                        <p:cTn id="19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6994E-006 L -0.46458 0.1704 E">
                                      <p:cBhvr>
                                        <p:cTn id="20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6994E-006 L 0.05521 0.1704 E">
                                      <p:cBhvr>
                                        <p:cTn id="205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7651"/>
          <p:cNvSpPr/>
          <p:nvPr/>
        </p:nvSpPr>
        <p:spPr>
          <a:xfrm>
            <a:off x="611280" y="119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7652"/>
          <p:cNvSpPr/>
          <p:nvPr/>
        </p:nvSpPr>
        <p:spPr>
          <a:xfrm>
            <a:off x="900000" y="198900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主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理数的概念：整数和分数统称为有理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7653"/>
          <p:cNvSpPr/>
          <p:nvPr/>
        </p:nvSpPr>
        <p:spPr>
          <a:xfrm>
            <a:off x="1707480" y="432756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有理数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7655"/>
          <p:cNvSpPr/>
          <p:nvPr/>
        </p:nvSpPr>
        <p:spPr>
          <a:xfrm>
            <a:off x="3203640" y="4292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7656"/>
          <p:cNvSpPr/>
          <p:nvPr/>
        </p:nvSpPr>
        <p:spPr>
          <a:xfrm>
            <a:off x="4572000" y="378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整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27657"/>
          <p:cNvSpPr/>
          <p:nvPr/>
        </p:nvSpPr>
        <p:spPr>
          <a:xfrm>
            <a:off x="4500720" y="5264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7658"/>
          <p:cNvSpPr/>
          <p:nvPr/>
        </p:nvSpPr>
        <p:spPr>
          <a:xfrm>
            <a:off x="5580000" y="33559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整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7659"/>
          <p:cNvSpPr/>
          <p:nvPr/>
        </p:nvSpPr>
        <p:spPr>
          <a:xfrm>
            <a:off x="565308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7660"/>
          <p:cNvSpPr/>
          <p:nvPr/>
        </p:nvSpPr>
        <p:spPr>
          <a:xfrm>
            <a:off x="5580000" y="4076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负整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27661"/>
          <p:cNvSpPr/>
          <p:nvPr/>
        </p:nvSpPr>
        <p:spPr>
          <a:xfrm>
            <a:off x="5508720" y="494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27662"/>
          <p:cNvSpPr/>
          <p:nvPr/>
        </p:nvSpPr>
        <p:spPr>
          <a:xfrm>
            <a:off x="5508720" y="562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负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左大括号 27664"/>
          <p:cNvSpPr/>
          <p:nvPr/>
        </p:nvSpPr>
        <p:spPr>
          <a:xfrm>
            <a:off x="4284720" y="400536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左大括号 27665"/>
          <p:cNvSpPr/>
          <p:nvPr/>
        </p:nvSpPr>
        <p:spPr>
          <a:xfrm>
            <a:off x="5292720" y="357192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左大括号 27666"/>
          <p:cNvSpPr/>
          <p:nvPr/>
        </p:nvSpPr>
        <p:spPr>
          <a:xfrm>
            <a:off x="5219640" y="508464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7:02:49Z</dcterms:created>
  <dc:creator/>
  <dc:description/>
  <dc:language>en-US</dc:language>
  <cp:lastModifiedBy>夏未央1414652220</cp:lastModifiedBy>
  <dcterms:modified xsi:type="dcterms:W3CDTF">2018-03-09T06:11:18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