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87E-A14A-44D7-8CEA-26BD7C27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C7F-F6A6-4132-87E0-D9E9DE0B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38A-BC3F-4C8D-A1A5-9212665B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2EA-640C-4B9D-BE7C-B16454AB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A10-80F9-473E-97BA-343868A2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53D-69EA-4C88-B577-410A87F8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B04-88F8-44A8-A4A7-0D7F62AC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47E-438E-49EA-A945-75B5369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59A-64D1-46F5-AD60-6A163C07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EC2-AD0A-4966-A4A3-F7FAD9B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ADC-228C-468B-B489-D04B2973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A88-6ABB-4AC8-8043-71EED9D9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E57D-9303-41BC-865F-0616B3ABE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840" y="2634840"/>
            <a:ext cx="58816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实际问题与一元一次方程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4"/>
          <p:cNvSpPr/>
          <p:nvPr/>
        </p:nvSpPr>
        <p:spPr>
          <a:xfrm>
            <a:off x="465120" y="1522440"/>
            <a:ext cx="75438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设安排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先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依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方程，得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应先安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2935440" y="2127240"/>
          <a:ext cx="259236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2127240"/>
                    <a:ext cx="25923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4" descr="6619-110PZ93A384"/>
          <p:cNvPicPr/>
          <p:nvPr/>
        </p:nvPicPr>
        <p:blipFill>
          <a:blip r:embed="rId3"/>
          <a:stretch/>
        </p:blipFill>
        <p:spPr>
          <a:xfrm>
            <a:off x="5705640" y="1035000"/>
            <a:ext cx="3390840" cy="50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1058760" y="1085760"/>
            <a:ext cx="7802640" cy="23083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28640" y="1363680"/>
            <a:ext cx="81532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：一条地下管线由甲工程队单独铺设需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天，由乙工程队单独铺设需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天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如果由这两个工程队从两端同时施工，要多少天可以铺好这条管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870120" y="3592440"/>
            <a:ext cx="8062920" cy="2941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884160" y="3814560"/>
            <a:ext cx="8001000" cy="2408400"/>
            <a:chOff x="884160" y="3814560"/>
            <a:chExt cx="8001000" cy="2408400"/>
          </a:xfrm>
        </p:grpSpPr>
        <p:sp>
          <p:nvSpPr>
            <p:cNvPr id="108" name="矩形 14"/>
            <p:cNvSpPr/>
            <p:nvPr/>
          </p:nvSpPr>
          <p:spPr>
            <a:xfrm>
              <a:off x="884160" y="3814560"/>
              <a:ext cx="8001000" cy="24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：设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多少天可以铺好这条管线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依题意得：                         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方程，得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答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两个工程队从两端同时施工，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天可以铺好这条管线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7"/>
                <p:cNvSpPr txBox="1"/>
                <p:nvPr/>
              </p:nvSpPr>
              <p:spPr>
                <a:xfrm>
                  <a:off x="3673440" y="4016160"/>
                  <a:ext cx="1738440" cy="91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4"/>
          <p:cNvSpPr/>
          <p:nvPr/>
        </p:nvSpPr>
        <p:spPr>
          <a:xfrm>
            <a:off x="762120" y="1597320"/>
            <a:ext cx="78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纳：用一元一次方程解决实际问题的基本过程有几个步骤？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3016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638680" y="30290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2882880" y="2803680"/>
            <a:ext cx="2971800" cy="498240"/>
            <a:chOff x="2882880" y="2803680"/>
            <a:chExt cx="2971800" cy="498240"/>
          </a:xfrm>
        </p:grpSpPr>
        <p:sp>
          <p:nvSpPr>
            <p:cNvPr id="114" name="Line 6"/>
            <p:cNvSpPr/>
            <p:nvPr/>
          </p:nvSpPr>
          <p:spPr>
            <a:xfrm>
              <a:off x="2928960" y="33019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2882880" y="2803680"/>
              <a:ext cx="29718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设未知数，列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6022440" y="3641760"/>
            <a:ext cx="911880" cy="1282680"/>
            <a:chOff x="6022440" y="3641760"/>
            <a:chExt cx="911880" cy="1282680"/>
          </a:xfrm>
        </p:grpSpPr>
        <p:sp>
          <p:nvSpPr>
            <p:cNvPr id="117" name="Text Box 9"/>
            <p:cNvSpPr/>
            <p:nvPr/>
          </p:nvSpPr>
          <p:spPr>
            <a:xfrm>
              <a:off x="6022440" y="3705120"/>
              <a:ext cx="911880" cy="1219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6934320" y="3641760"/>
              <a:ext cx="0" cy="116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11"/>
          <p:cNvSpPr/>
          <p:nvPr/>
        </p:nvSpPr>
        <p:spPr>
          <a:xfrm>
            <a:off x="5638680" y="5095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元一次方程的解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066680" y="5095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际问题的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3"/>
          <p:cNvGrpSpPr/>
          <p:nvPr/>
        </p:nvGrpSpPr>
        <p:grpSpPr>
          <a:xfrm>
            <a:off x="2971800" y="5305320"/>
            <a:ext cx="2611440" cy="536040"/>
            <a:chOff x="2971800" y="5305320"/>
            <a:chExt cx="2611440" cy="536040"/>
          </a:xfrm>
        </p:grpSpPr>
        <p:sp>
          <p:nvSpPr>
            <p:cNvPr id="122" name="Line 14"/>
            <p:cNvSpPr/>
            <p:nvPr/>
          </p:nvSpPr>
          <p:spPr>
            <a:xfrm flipH="1">
              <a:off x="2971800" y="5305320"/>
              <a:ext cx="261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3809880" y="5381640"/>
              <a:ext cx="114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检  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6"/>
          <p:cNvSpPr/>
          <p:nvPr/>
        </p:nvSpPr>
        <p:spPr>
          <a:xfrm>
            <a:off x="1905120" y="3629160"/>
            <a:ext cx="0" cy="1164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7"/>
          <p:cNvSpPr txBox="1"/>
          <p:nvPr/>
        </p:nvSpPr>
        <p:spPr>
          <a:xfrm>
            <a:off x="1571760" y="2858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知识梳理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585720" y="2130480"/>
            <a:ext cx="7991640" cy="2606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28880" y="2457360"/>
            <a:ext cx="708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学习并不等于就是摹仿某些东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而是掌握技巧和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———  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高尔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矩形 5" descr=""/>
          <p:cNvPicPr/>
          <p:nvPr/>
        </p:nvPicPr>
        <p:blipFill>
          <a:blip r:embed="rId1"/>
          <a:stretch/>
        </p:blipFill>
        <p:spPr>
          <a:xfrm>
            <a:off x="3035160" y="639720"/>
            <a:ext cx="301176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4"/>
          <p:cNvSpPr/>
          <p:nvPr/>
        </p:nvSpPr>
        <p:spPr>
          <a:xfrm>
            <a:off x="609480" y="1446480"/>
            <a:ext cx="7848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：之前我们通过列方程解应用问题的过程中，大致包含哪些步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4"/>
          <p:cNvSpPr/>
          <p:nvPr/>
        </p:nvSpPr>
        <p:spPr>
          <a:xfrm>
            <a:off x="1066680" y="281844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审：审题，分析题目中的数量关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4"/>
          <p:cNvSpPr/>
          <p:nvPr/>
        </p:nvSpPr>
        <p:spPr>
          <a:xfrm>
            <a:off x="1066680" y="350424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：设适当的未知数，并表示未知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4"/>
          <p:cNvSpPr/>
          <p:nvPr/>
        </p:nvSpPr>
        <p:spPr>
          <a:xfrm>
            <a:off x="1066680" y="412308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列：根据题目中的数量关系列方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4"/>
          <p:cNvSpPr/>
          <p:nvPr/>
        </p:nvSpPr>
        <p:spPr>
          <a:xfrm>
            <a:off x="1066680" y="4808880"/>
            <a:ext cx="4038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：解这个方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1066680" y="5494680"/>
            <a:ext cx="4038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：检验并作答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1571760" y="2858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知识回顾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976320" y="95040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应用回顾的步骤解决以下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457200" y="1891080"/>
            <a:ext cx="8167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　某车间有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名工人，每人每天可以生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 20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螺钉或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 00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螺母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. 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螺钉需要配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螺母，为使每天生产的螺钉和螺母刚好配套，应安排生产螺钉和螺母的工人各多少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558800" y="297000"/>
            <a:ext cx="4114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创设情境，引入新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2" name="Picture 5" descr="13565782967781"/>
          <p:cNvPicPr/>
          <p:nvPr/>
        </p:nvPicPr>
        <p:blipFill>
          <a:blip r:embed="rId1"/>
          <a:stretch/>
        </p:blipFill>
        <p:spPr>
          <a:xfrm>
            <a:off x="1886040" y="3778200"/>
            <a:ext cx="4292640" cy="28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4,-113,-5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4"/>
          <p:cNvSpPr/>
          <p:nvPr/>
        </p:nvSpPr>
        <p:spPr>
          <a:xfrm>
            <a:off x="762120" y="129492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表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2027160"/>
          <a:ext cx="7620120" cy="216864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752840"/>
                <a:gridCol w="2514600"/>
              </a:tblGrid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品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产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人产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产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螺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螺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5"/>
          <p:cNvGrpSpPr/>
          <p:nvPr/>
        </p:nvGrpSpPr>
        <p:grpSpPr>
          <a:xfrm>
            <a:off x="4005360" y="2884320"/>
            <a:ext cx="3995640" cy="531720"/>
            <a:chOff x="4005360" y="2884320"/>
            <a:chExt cx="3995640" cy="531720"/>
          </a:xfrm>
        </p:grpSpPr>
        <p:sp>
          <p:nvSpPr>
            <p:cNvPr id="56" name="Text Box 26"/>
            <p:cNvSpPr/>
            <p:nvPr/>
          </p:nvSpPr>
          <p:spPr>
            <a:xfrm>
              <a:off x="4005360" y="2895480"/>
              <a:ext cx="53352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7"/>
            <p:cNvSpPr/>
            <p:nvPr/>
          </p:nvSpPr>
          <p:spPr>
            <a:xfrm>
              <a:off x="5737320" y="2884320"/>
              <a:ext cx="60948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8"/>
            <p:cNvSpPr/>
            <p:nvPr/>
          </p:nvSpPr>
          <p:spPr>
            <a:xfrm>
              <a:off x="6477120" y="2895480"/>
              <a:ext cx="15238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200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9"/>
          <p:cNvSpPr/>
          <p:nvPr/>
        </p:nvSpPr>
        <p:spPr>
          <a:xfrm>
            <a:off x="6078600" y="3495600"/>
            <a:ext cx="25905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0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0"/>
          <p:cNvGrpSpPr/>
          <p:nvPr/>
        </p:nvGrpSpPr>
        <p:grpSpPr>
          <a:xfrm>
            <a:off x="2057400" y="4991040"/>
            <a:ext cx="2590920" cy="534960"/>
            <a:chOff x="2057400" y="4991040"/>
            <a:chExt cx="2590920" cy="534960"/>
          </a:xfrm>
        </p:grpSpPr>
        <p:sp>
          <p:nvSpPr>
            <p:cNvPr id="61" name="AutoShape 31"/>
            <p:cNvSpPr/>
            <p:nvPr/>
          </p:nvSpPr>
          <p:spPr>
            <a:xfrm>
              <a:off x="2057400" y="4991040"/>
              <a:ext cx="2590920" cy="533520"/>
            </a:xfrm>
            <a:prstGeom prst="roundRect">
              <a:avLst>
                <a:gd name="adj" fmla="val 16667"/>
              </a:avLst>
            </a:prstGeom>
            <a:solidFill>
              <a:srgbClr val="81e7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2"/>
            <p:cNvSpPr/>
            <p:nvPr/>
          </p:nvSpPr>
          <p:spPr>
            <a:xfrm>
              <a:off x="2133720" y="5005440"/>
              <a:ext cx="23619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人数和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33"/>
          <p:cNvSpPr/>
          <p:nvPr/>
        </p:nvSpPr>
        <p:spPr>
          <a:xfrm>
            <a:off x="3048120" y="4267080"/>
            <a:ext cx="685800" cy="457200"/>
          </a:xfrm>
          <a:prstGeom prst="up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2928960" y="3483000"/>
            <a:ext cx="1371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5"/>
          <p:cNvGrpSpPr/>
          <p:nvPr/>
        </p:nvGrpSpPr>
        <p:grpSpPr>
          <a:xfrm>
            <a:off x="5638680" y="4991040"/>
            <a:ext cx="2590920" cy="990720"/>
            <a:chOff x="5638680" y="4991040"/>
            <a:chExt cx="2590920" cy="990720"/>
          </a:xfrm>
        </p:grpSpPr>
        <p:sp>
          <p:nvSpPr>
            <p:cNvPr id="66" name="AutoShape 36"/>
            <p:cNvSpPr/>
            <p:nvPr/>
          </p:nvSpPr>
          <p:spPr>
            <a:xfrm>
              <a:off x="5638680" y="4991040"/>
              <a:ext cx="2590920" cy="990720"/>
            </a:xfrm>
            <a:prstGeom prst="roundRect">
              <a:avLst>
                <a:gd name="adj" fmla="val 16667"/>
              </a:avLst>
            </a:prstGeom>
            <a:solidFill>
              <a:srgbClr val="81e7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7"/>
            <p:cNvSpPr/>
            <p:nvPr/>
          </p:nvSpPr>
          <p:spPr>
            <a:xfrm>
              <a:off x="5715000" y="5005440"/>
              <a:ext cx="236196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螺母总产量是螺钉的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38"/>
          <p:cNvSpPr/>
          <p:nvPr/>
        </p:nvSpPr>
        <p:spPr>
          <a:xfrm>
            <a:off x="6629400" y="4267080"/>
            <a:ext cx="685800" cy="457200"/>
          </a:xfrm>
          <a:prstGeom prst="up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9"/>
          <p:cNvSpPr txBox="1"/>
          <p:nvPr/>
        </p:nvSpPr>
        <p:spPr>
          <a:xfrm>
            <a:off x="1571760" y="2858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自主预习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4"/>
          <p:cNvSpPr/>
          <p:nvPr/>
        </p:nvSpPr>
        <p:spPr>
          <a:xfrm>
            <a:off x="689040" y="1678320"/>
            <a:ext cx="754380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设应安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工人生产螺钉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工人生产螺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依题意得：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0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×1 20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方程，得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应安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工人生产螺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工人生产螺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1571760" y="2858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自主探究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4"/>
          <p:cNvSpPr/>
          <p:nvPr/>
        </p:nvSpPr>
        <p:spPr>
          <a:xfrm>
            <a:off x="762120" y="1068480"/>
            <a:ext cx="7848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以上问题还有其他的解决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762120" y="3025080"/>
            <a:ext cx="754380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设应安排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工人生产螺母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工人生产螺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依题意得：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×12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00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1216080" y="974880"/>
            <a:ext cx="7926480" cy="2309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50760" y="1082520"/>
            <a:ext cx="815364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：一套仪器由一个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部件和三个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部件构成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 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钢材可以做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部件或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4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部件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现要用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6 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钢材制作这种仪器，应用多少钢材做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部件，多少钢材做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部件，恰好配成这种仪器多少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42880" y="3429000"/>
            <a:ext cx="8577360" cy="2941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41440" y="3433320"/>
            <a:ext cx="80010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钢材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钢材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依题意得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×4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方程，得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钢材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钢材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成这种仪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1571760" y="28584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随堂练习</a:t>
            </a:r>
            <a:endParaRPr b="1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4"/>
          <p:cNvSpPr/>
          <p:nvPr/>
        </p:nvSpPr>
        <p:spPr>
          <a:xfrm>
            <a:off x="689040" y="895320"/>
            <a:ext cx="7848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回顾的步骤解决以下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762120" y="298188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　整理一批图书，由一个人做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0 h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完成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现计划由一部分人先做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 h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，然后增加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人与他们一起做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8 h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，完成这项工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假设这些人的工作效率相同，具体应该先安排多少人工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18765-130H50T93794"/>
          <p:cNvPicPr/>
          <p:nvPr/>
        </p:nvPicPr>
        <p:blipFill>
          <a:blip r:embed="rId1"/>
          <a:stretch/>
        </p:blipFill>
        <p:spPr>
          <a:xfrm>
            <a:off x="4352760" y="4626000"/>
            <a:ext cx="3102120" cy="20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4"/>
          <p:cNvSpPr/>
          <p:nvPr/>
        </p:nvSpPr>
        <p:spPr>
          <a:xfrm>
            <a:off x="1932120" y="88056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表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00080" y="1881360"/>
          <a:ext cx="7467480" cy="302544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1143000"/>
                <a:gridCol w="1066680"/>
                <a:gridCol w="2209680"/>
              </a:tblGrid>
              <a:tr h="76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均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作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前一部分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后一部分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＋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Object 29"/>
              <p:cNvSpPr txBox="1"/>
              <p:nvPr/>
            </p:nvSpPr>
            <p:spPr>
              <a:xfrm>
                <a:off x="2941560" y="2674800"/>
                <a:ext cx="513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2921040" y="3621240"/>
                <a:ext cx="51264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" name="Group 31"/>
          <p:cNvGrpSpPr/>
          <p:nvPr/>
        </p:nvGrpSpPr>
        <p:grpSpPr>
          <a:xfrm>
            <a:off x="3716280" y="2697120"/>
            <a:ext cx="3832200" cy="882720"/>
            <a:chOff x="3716280" y="2697120"/>
            <a:chExt cx="3832200" cy="882720"/>
          </a:xfrm>
        </p:grpSpPr>
        <p:sp>
          <p:nvSpPr>
            <p:cNvPr id="87" name="Text Box 32"/>
            <p:cNvSpPr/>
            <p:nvPr/>
          </p:nvSpPr>
          <p:spPr>
            <a:xfrm>
              <a:off x="3716280" y="2906640"/>
              <a:ext cx="53352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3"/>
            <p:cNvSpPr/>
            <p:nvPr/>
          </p:nvSpPr>
          <p:spPr>
            <a:xfrm>
              <a:off x="5914800" y="2917800"/>
              <a:ext cx="6098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4"/>
            <p:cNvSpPr/>
            <p:nvPr/>
          </p:nvSpPr>
          <p:spPr>
            <a:xfrm>
              <a:off x="4879800" y="2914560"/>
              <a:ext cx="53352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Object 35"/>
                <p:cNvSpPr txBox="1"/>
                <p:nvPr/>
              </p:nvSpPr>
              <p:spPr>
                <a:xfrm>
                  <a:off x="7035840" y="2697120"/>
                  <a:ext cx="51264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Group 36"/>
          <p:cNvGrpSpPr/>
          <p:nvPr/>
        </p:nvGrpSpPr>
        <p:grpSpPr>
          <a:xfrm>
            <a:off x="3683160" y="3621240"/>
            <a:ext cx="4200480" cy="882360"/>
            <a:chOff x="3683160" y="3621240"/>
            <a:chExt cx="4200480" cy="882360"/>
          </a:xfrm>
        </p:grpSpPr>
        <p:sp>
          <p:nvSpPr>
            <p:cNvPr id="92" name="Text Box 37"/>
            <p:cNvSpPr/>
            <p:nvPr/>
          </p:nvSpPr>
          <p:spPr>
            <a:xfrm>
              <a:off x="3683160" y="3806640"/>
              <a:ext cx="533520" cy="518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8"/>
            <p:cNvSpPr/>
            <p:nvPr/>
          </p:nvSpPr>
          <p:spPr>
            <a:xfrm>
              <a:off x="4846680" y="3814560"/>
              <a:ext cx="533520" cy="518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Object 39"/>
                <p:cNvSpPr txBox="1"/>
                <p:nvPr/>
              </p:nvSpPr>
              <p:spPr>
                <a:xfrm>
                  <a:off x="6658200" y="3621240"/>
                  <a:ext cx="1225440" cy="88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5" name="Text Box 40"/>
            <p:cNvSpPr/>
            <p:nvPr/>
          </p:nvSpPr>
          <p:spPr>
            <a:xfrm>
              <a:off x="5904000" y="3787560"/>
              <a:ext cx="609840" cy="518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5867280" y="5342040"/>
            <a:ext cx="2590920" cy="990360"/>
            <a:chOff x="5867280" y="5342040"/>
            <a:chExt cx="2590920" cy="990360"/>
          </a:xfrm>
        </p:grpSpPr>
        <p:sp>
          <p:nvSpPr>
            <p:cNvPr id="97" name="AutoShape 42"/>
            <p:cNvSpPr/>
            <p:nvPr/>
          </p:nvSpPr>
          <p:spPr>
            <a:xfrm>
              <a:off x="5867280" y="5342040"/>
              <a:ext cx="2590920" cy="990360"/>
            </a:xfrm>
            <a:prstGeom prst="roundRect">
              <a:avLst>
                <a:gd name="adj" fmla="val 16667"/>
              </a:avLst>
            </a:prstGeom>
            <a:solidFill>
              <a:srgbClr val="81e7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3"/>
            <p:cNvSpPr/>
            <p:nvPr/>
          </p:nvSpPr>
          <p:spPr>
            <a:xfrm>
              <a:off x="5943600" y="5356080"/>
              <a:ext cx="236196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工作量之和等于总工作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44"/>
          <p:cNvSpPr/>
          <p:nvPr/>
        </p:nvSpPr>
        <p:spPr>
          <a:xfrm>
            <a:off x="6883560" y="4732200"/>
            <a:ext cx="685800" cy="457200"/>
          </a:xfrm>
          <a:prstGeom prst="up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03:22:35Z</dcterms:created>
  <dc:creator/>
  <dc:description/>
  <dc:language>en-US</dc:language>
  <cp:lastModifiedBy/>
  <dcterms:modified xsi:type="dcterms:W3CDTF">2016-11-17T00:34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